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BC4-AD0B-4B85-9C2A-2E4C4835EB5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őadások / gyakorlatok diáinak kidolgozása során jelöljön ki kulcsszavakat amelyeket az ellenőrző kérdésekhez hiperhivatkozásként kapcsoljon a kérdéshez. Művelet leírása BESZÚRÁS OBJEKTUM HIPERHIVATKOZÁS súgó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diákhoz itt kellene beszúrni a tanári magyarázato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források citációs  formája: Szerző (évszám): publikáció címe. megjelenés helye. Kiadó. Evf. Szam. Oldalsz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nlapok URL c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összefüggő előadás vagy gyakorlat esetében az egymásra épülést itt lehet megad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tt kell megadni ha a következő előadás vagy gyakorlat megértéséhez  milyen más tárgyak ismeretére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C4F48-5531-45CA-86D0-1E9AAD9D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ADBE7-17AD-4DD3-9125-B0809CB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1B573-F95E-4ADD-BDFF-31F279E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951D-0658-4BF3-8EE6-8B4B69B7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0151-0B2B-48E6-8BB2-1F4D538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017E-F964-40AE-BF2C-84081C2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A7012-4D4E-4D39-B975-26AB7C0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F109-A2BE-4208-AAF5-5178419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1335-0887-4644-A561-D405474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D21B7-070F-446C-9ECD-71BA892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76D5-0E3F-477A-91D1-0AD9CDE9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57EA-B024-4A7A-98D6-2BBEE646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76720" y="6381360"/>
            <a:ext cx="226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FOP 3.3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7c7c">
                  <a:alpha val="86274"/>
                </a:srgbClr>
              </a:gs>
              <a:gs pos="100000">
                <a:srgbClr val="009999">
                  <a:alpha val="2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448-3922-46FD-BE96-EAB399AF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986360"/>
            <a:ext cx="1776240" cy="18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61784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78560" y="5084640"/>
            <a:ext cx="15354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20160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067280" y="189000"/>
            <a:ext cx="73188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59280" y="549360"/>
            <a:ext cx="223200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132000" y="537372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3816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EFOP - 3.3.1.</a:t>
            </a:r>
            <a:endParaRPr b="1" lang="en-US" sz="1400" spc="1" strike="noStrike">
              <a:ln w="38160">
                <a:solidFill>
                  <a:srgbClr val="99cc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176364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176364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gradFill rotWithShape="0">
            <a:gsLst>
              <a:gs pos="0">
                <a:srgbClr val="009999">
                  <a:alpha val="68235"/>
                </a:srgbClr>
              </a:gs>
              <a:gs pos="100000">
                <a:srgbClr val="007979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ÁMVITEL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h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vitel célja, fogalma, funkció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ermelési folya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állalkozó vagyona, a vagyon kimu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fektetett eszközök fogal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ÁTTEKINT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514600" y="184320"/>
            <a:ext cx="6272280" cy="728640"/>
            <a:chOff x="2514600" y="184320"/>
            <a:chExt cx="6272280" cy="728640"/>
          </a:xfrm>
        </p:grpSpPr>
        <p:sp>
          <p:nvSpPr>
            <p:cNvPr id="102" name=""/>
            <p:cNvSpPr/>
            <p:nvPr/>
          </p:nvSpPr>
          <p:spPr>
            <a:xfrm>
              <a:off x="8050320" y="184320"/>
              <a:ext cx="736560" cy="241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19840" y="217440"/>
              <a:ext cx="909720" cy="316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444600"/>
              <a:ext cx="4356000" cy="468360"/>
            </a:xfrm>
            <a:prstGeom prst="flowChartAlternateProcess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SZÁMVIT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066680" y="5334120"/>
            <a:ext cx="7239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A vagyonváltozás (eredmén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kimutatása. Eszköze: az ere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Bookman Old Style"/>
              </a:rPr>
              <a:t>ménykimutat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04760" y="3886200"/>
            <a:ext cx="6386760" cy="1328400"/>
            <a:chOff x="1004760" y="3886200"/>
            <a:chExt cx="6386760" cy="1328400"/>
          </a:xfrm>
        </p:grpSpPr>
        <p:sp>
          <p:nvSpPr>
            <p:cNvPr id="107" name=""/>
            <p:cNvSpPr/>
            <p:nvPr/>
          </p:nvSpPr>
          <p:spPr>
            <a:xfrm flipV="1">
              <a:off x="2284560" y="4582800"/>
              <a:ext cx="1334880" cy="1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836720" y="4735080"/>
              <a:ext cx="1509840" cy="336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74960" y="4549680"/>
              <a:ext cx="1739880" cy="31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04760" y="3886200"/>
              <a:ext cx="3434040" cy="42372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CÉLJA, FUNKCIÓJ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462560"/>
              <a:ext cx="63248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kimutatása. Eszköze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leltár és a könyvviteli mérl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11240" y="1200240"/>
            <a:ext cx="7289640" cy="2533680"/>
            <a:chOff x="1011240" y="1200240"/>
            <a:chExt cx="7289640" cy="2533680"/>
          </a:xfrm>
        </p:grpSpPr>
        <p:sp>
          <p:nvSpPr>
            <p:cNvPr id="113" name=""/>
            <p:cNvSpPr/>
            <p:nvPr/>
          </p:nvSpPr>
          <p:spPr>
            <a:xfrm>
              <a:off x="1071720" y="1695600"/>
              <a:ext cx="7229160" cy="20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számvitel olyan elszámolási és objektív információs rendszer, amely a gazdasági műveleteket (eseményeket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2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egfigyel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2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méri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20000"/>
                </a:lnSpc>
                <a:spcBef>
                  <a:spcPts val="451"/>
                </a:spcBef>
                <a:buClr>
                  <a:srgbClr val="000000"/>
                </a:buClr>
                <a:buFont typeface="Bookman Old Style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rendszerezetten feljegyz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11240" y="1200240"/>
              <a:ext cx="2695680" cy="38232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Times New Roman"/>
                </a:rPr>
                <a:t>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5911920" y="2921040"/>
            <a:ext cx="3112200" cy="2089800"/>
            <a:chOff x="5911920" y="2921040"/>
            <a:chExt cx="3112200" cy="2089800"/>
          </a:xfrm>
        </p:grpSpPr>
        <p:grpSp>
          <p:nvGrpSpPr>
            <p:cNvPr id="116" name=""/>
            <p:cNvGrpSpPr/>
            <p:nvPr/>
          </p:nvGrpSpPr>
          <p:grpSpPr>
            <a:xfrm>
              <a:off x="7530840" y="2921040"/>
              <a:ext cx="1493280" cy="2089800"/>
              <a:chOff x="7530840" y="2921040"/>
              <a:chExt cx="1493280" cy="2089800"/>
            </a:xfrm>
          </p:grpSpPr>
          <p:sp>
            <p:nvSpPr>
              <p:cNvPr id="117" name=""/>
              <p:cNvSpPr/>
              <p:nvPr/>
            </p:nvSpPr>
            <p:spPr>
              <a:xfrm>
                <a:off x="7530840" y="2921040"/>
                <a:ext cx="1451520" cy="20898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956000" y="3147840"/>
                <a:ext cx="103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JÁ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29080" y="4167000"/>
                <a:ext cx="88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DEG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83360" y="3647520"/>
                <a:ext cx="1040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67520" y="2935800"/>
                <a:ext cx="0" cy="20584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11920" y="3483360"/>
              <a:ext cx="1334880" cy="108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PÉ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7960" y="3756960"/>
              <a:ext cx="27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46800" y="4026960"/>
              <a:ext cx="290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869240" y="154080"/>
            <a:ext cx="893880" cy="28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0240" y="343080"/>
            <a:ext cx="6913800" cy="571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 TERMELÉSI FOLYAMAT VÁZ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07960" y="4132080"/>
            <a:ext cx="3829320" cy="1887840"/>
            <a:chOff x="1407960" y="4132080"/>
            <a:chExt cx="3829320" cy="1887840"/>
          </a:xfrm>
        </p:grpSpPr>
        <p:sp>
          <p:nvSpPr>
            <p:cNvPr id="128" name=""/>
            <p:cNvSpPr/>
            <p:nvPr/>
          </p:nvSpPr>
          <p:spPr>
            <a:xfrm>
              <a:off x="1709280" y="5062680"/>
              <a:ext cx="10767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Hozam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7040" y="4933800"/>
              <a:ext cx="2370240" cy="108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KÉSZT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MÉK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(búza, tej, zak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cipő stb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407960" y="4131720"/>
              <a:ext cx="1460520" cy="156348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-360 h 1563480"/>
                <a:gd name="textAreaBottom" fmla="*/ 1563480 h 156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68480" y="1394280"/>
            <a:ext cx="4082760" cy="2190960"/>
            <a:chOff x="2868480" y="1394280"/>
            <a:chExt cx="4082760" cy="2190960"/>
          </a:xfrm>
        </p:grpSpPr>
        <p:sp>
          <p:nvSpPr>
            <p:cNvPr id="132" name=""/>
            <p:cNvSpPr/>
            <p:nvPr/>
          </p:nvSpPr>
          <p:spPr>
            <a:xfrm>
              <a:off x="2868480" y="1590840"/>
              <a:ext cx="239076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ERMEL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(épület, gé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anyag, állat stb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5387400">
              <a:off x="5867280" y="2670840"/>
              <a:ext cx="155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BERUHÁZ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0686000">
              <a:off x="5273280" y="1420920"/>
              <a:ext cx="1644480" cy="205560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360 h 2055600"/>
                <a:gd name="textAreaBottom" fmla="*/ 2056320 h 20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92400">
              <a:off x="5207040" y="189180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BESZERZÉ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11160" y="1725480"/>
            <a:ext cx="2325600" cy="2368440"/>
            <a:chOff x="911160" y="1725480"/>
            <a:chExt cx="2325600" cy="2368440"/>
          </a:xfrm>
        </p:grpSpPr>
        <p:sp>
          <p:nvSpPr>
            <p:cNvPr id="137" name=""/>
            <p:cNvSpPr/>
            <p:nvPr/>
          </p:nvSpPr>
          <p:spPr>
            <a:xfrm>
              <a:off x="1363680" y="1854360"/>
              <a:ext cx="167148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TERMELÉSI RÁFORDÍT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1160" y="3506760"/>
              <a:ext cx="2325600" cy="58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BEFEJEZETL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TERME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5288400">
              <a:off x="1101600" y="1716120"/>
              <a:ext cx="1727280" cy="18032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-360 h 1803240"/>
                <a:gd name="textAreaBottom" fmla="*/ 1803240 h 180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335000">
              <a:off x="965160" y="2604600"/>
              <a:ext cx="13856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(költségek</a:t>
              </a:r>
              <a:r>
                <a:rPr b="1" lang="en-US" sz="15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983120" y="4390560"/>
            <a:ext cx="2262600" cy="1305000"/>
            <a:chOff x="4983120" y="4390560"/>
            <a:chExt cx="2262600" cy="1305000"/>
          </a:xfrm>
        </p:grpSpPr>
        <p:sp>
          <p:nvSpPr>
            <p:cNvPr id="142" name=""/>
            <p:cNvSpPr/>
            <p:nvPr/>
          </p:nvSpPr>
          <p:spPr>
            <a:xfrm>
              <a:off x="4983120" y="5308920"/>
              <a:ext cx="2152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Értékesít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5622840" y="4073040"/>
              <a:ext cx="1305000" cy="1940040"/>
            </a:xfrm>
            <a:custGeom>
              <a:avLst/>
              <a:gdLst>
                <a:gd name="textAreaLeft" fmla="*/ -360 w 1305000"/>
                <a:gd name="textAreaRight" fmla="*/ 1305000 w 130500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45000" y="2590200"/>
            <a:ext cx="852480" cy="2362680"/>
            <a:chOff x="3645000" y="2590200"/>
            <a:chExt cx="852480" cy="2362680"/>
          </a:xfrm>
        </p:grpSpPr>
        <p:sp>
          <p:nvSpPr>
            <p:cNvPr id="145" name=""/>
            <p:cNvSpPr/>
            <p:nvPr/>
          </p:nvSpPr>
          <p:spPr>
            <a:xfrm>
              <a:off x="3645000" y="2819520"/>
              <a:ext cx="852480" cy="2114280"/>
            </a:xfrm>
            <a:prstGeom prst="upArrow">
              <a:avLst>
                <a:gd name="adj1" fmla="val 50000"/>
                <a:gd name="adj2" fmla="val 62004"/>
              </a:avLst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6000">
              <a:off x="2865960" y="3610080"/>
              <a:ext cx="2361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99"/>
                  </a:solidFill>
                  <a:latin typeface="Bookman Old Style"/>
                </a:rPr>
                <a:t>Belső felhasznál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403280" y="5229360"/>
            <a:ext cx="6362640" cy="1105560"/>
            <a:chOff x="1403280" y="5229360"/>
            <a:chExt cx="6362640" cy="1105560"/>
          </a:xfrm>
        </p:grpSpPr>
        <p:sp>
          <p:nvSpPr>
            <p:cNvPr id="148" name=""/>
            <p:cNvSpPr/>
            <p:nvPr/>
          </p:nvSpPr>
          <p:spPr>
            <a:xfrm>
              <a:off x="3460680" y="522936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Vagy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0960" y="586584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For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03280" y="5875200"/>
              <a:ext cx="1974960" cy="4597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Eszkö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38560" y="5872320"/>
              <a:ext cx="110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221920" y="5415120"/>
              <a:ext cx="125892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106360" y="5392800"/>
              <a:ext cx="1353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92520" y="5403960"/>
              <a:ext cx="14526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60240" y="154080"/>
            <a:ext cx="8254800" cy="683640"/>
            <a:chOff x="660240" y="154080"/>
            <a:chExt cx="8254800" cy="683640"/>
          </a:xfrm>
        </p:grpSpPr>
        <p:sp>
          <p:nvSpPr>
            <p:cNvPr id="156" name=""/>
            <p:cNvSpPr/>
            <p:nvPr/>
          </p:nvSpPr>
          <p:spPr>
            <a:xfrm>
              <a:off x="8004960" y="154080"/>
              <a:ext cx="910080" cy="256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0240" y="324000"/>
              <a:ext cx="7043760" cy="513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 VÁLLALKOZÓ VAGYO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3520" y="1400040"/>
            <a:ext cx="3504960" cy="1267200"/>
            <a:chOff x="533520" y="1400040"/>
            <a:chExt cx="3504960" cy="1267200"/>
          </a:xfrm>
        </p:grpSpPr>
        <p:sp>
          <p:nvSpPr>
            <p:cNvPr id="159" name=""/>
            <p:cNvSpPr/>
            <p:nvPr/>
          </p:nvSpPr>
          <p:spPr>
            <a:xfrm>
              <a:off x="633240" y="1400040"/>
              <a:ext cx="1729080" cy="3808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GALM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1476000"/>
              <a:ext cx="35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a vállalkozás tulajdonában, kezelésében lévő eszközök együttes érték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114800" y="1430280"/>
            <a:ext cx="4952880" cy="1465560"/>
            <a:chOff x="4114800" y="1430280"/>
            <a:chExt cx="4952880" cy="1465560"/>
          </a:xfrm>
        </p:grpSpPr>
        <p:sp>
          <p:nvSpPr>
            <p:cNvPr id="162" name=""/>
            <p:cNvSpPr/>
            <p:nvPr/>
          </p:nvSpPr>
          <p:spPr>
            <a:xfrm>
              <a:off x="4343400" y="1430280"/>
              <a:ext cx="4724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 CSOPORTOSÍTÁSÁNAK ISMÉRVE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állalkozási tevékenységb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betöltött szerepü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redetü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15238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90720" y="4417920"/>
            <a:ext cx="4190760" cy="1300680"/>
            <a:chOff x="990720" y="4417920"/>
            <a:chExt cx="4190760" cy="1300680"/>
          </a:xfrm>
        </p:grpSpPr>
        <p:sp>
          <p:nvSpPr>
            <p:cNvPr id="165" name=""/>
            <p:cNvSpPr/>
            <p:nvPr/>
          </p:nvSpPr>
          <p:spPr>
            <a:xfrm>
              <a:off x="1295280" y="4724280"/>
              <a:ext cx="1752840" cy="304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FORR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0720" y="4417920"/>
              <a:ext cx="419076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Eredetük szerint csoportosít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-nak nevezzü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3520" y="2986200"/>
            <a:ext cx="4572000" cy="1360800"/>
            <a:chOff x="533520" y="2986200"/>
            <a:chExt cx="4572000" cy="1360800"/>
          </a:xfrm>
        </p:grpSpPr>
        <p:sp>
          <p:nvSpPr>
            <p:cNvPr id="168" name=""/>
            <p:cNvSpPr/>
            <p:nvPr/>
          </p:nvSpPr>
          <p:spPr>
            <a:xfrm>
              <a:off x="1309680" y="3960720"/>
              <a:ext cx="1585800" cy="3063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ESZKÖZÖ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720" y="2986200"/>
              <a:ext cx="175248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A VAGYON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046320"/>
              <a:ext cx="4572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A tevékenységben betöltö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szerepük szerint csoportosítva                        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r>
                <a:rPr b="1" lang="hu-HU" sz="1800" spc="-1" strike="noStrike">
                  <a:solidFill>
                    <a:srgbClr val="000000"/>
                  </a:solidFill>
                  <a:latin typeface="Bookman Old Style"/>
                </a:rPr>
                <a:t>      -n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059360" y="1676520"/>
            <a:ext cx="76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59360" y="1371600"/>
            <a:ext cx="76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59360" y="5510160"/>
            <a:ext cx="76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5904000"/>
            <a:ext cx="76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59360" y="630396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512136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29040" y="4824360"/>
            <a:ext cx="3629160" cy="297000"/>
            <a:chOff x="4829040" y="4824360"/>
            <a:chExt cx="3629160" cy="297000"/>
          </a:xfrm>
        </p:grpSpPr>
        <p:sp>
          <p:nvSpPr>
            <p:cNvPr id="178" name=""/>
            <p:cNvSpPr/>
            <p:nvPr/>
          </p:nvSpPr>
          <p:spPr>
            <a:xfrm>
              <a:off x="5419800" y="4824360"/>
              <a:ext cx="3038400" cy="297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29040" y="4824360"/>
              <a:ext cx="590760" cy="297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059360" y="4824360"/>
            <a:ext cx="769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59360" y="4557600"/>
            <a:ext cx="76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59360" y="416880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59360" y="3895560"/>
            <a:ext cx="769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59360" y="3598920"/>
            <a:ext cx="769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59360" y="3287880"/>
            <a:ext cx="769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59360" y="2898720"/>
            <a:ext cx="769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59360" y="2509920"/>
            <a:ext cx="769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29040" y="2212920"/>
            <a:ext cx="3629160" cy="2344680"/>
            <a:chOff x="4829040" y="2212920"/>
            <a:chExt cx="3629160" cy="2344680"/>
          </a:xfrm>
        </p:grpSpPr>
        <p:sp>
          <p:nvSpPr>
            <p:cNvPr id="189" name=""/>
            <p:cNvSpPr/>
            <p:nvPr/>
          </p:nvSpPr>
          <p:spPr>
            <a:xfrm>
              <a:off x="4829040" y="4168800"/>
              <a:ext cx="590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V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9800" y="4168800"/>
              <a:ext cx="303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MÉRLEG SZERINTI EREDMÉ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829040" y="2212920"/>
              <a:ext cx="3629160" cy="1955880"/>
              <a:chOff x="4829040" y="2212920"/>
              <a:chExt cx="3629160" cy="1955880"/>
            </a:xfrm>
          </p:grpSpPr>
          <p:sp>
            <p:nvSpPr>
              <p:cNvPr id="192" name=""/>
              <p:cNvSpPr/>
              <p:nvPr/>
            </p:nvSpPr>
            <p:spPr>
              <a:xfrm>
                <a:off x="4829040" y="3895560"/>
                <a:ext cx="59076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V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29040" y="3598920"/>
                <a:ext cx="5907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V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29040" y="3287880"/>
                <a:ext cx="5907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V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29040" y="2898720"/>
                <a:ext cx="59076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I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29040" y="2509920"/>
                <a:ext cx="5907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29040" y="2212920"/>
                <a:ext cx="59076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I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895560"/>
                <a:ext cx="30384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ÉRTÉKELÉSI 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9800" y="3598920"/>
                <a:ext cx="303840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LEKÖTÖTT 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9800" y="3287880"/>
                <a:ext cx="30384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EREDMÉNY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9800" y="2898720"/>
                <a:ext cx="303840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TŐKETARTALÉ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19800" y="2509920"/>
                <a:ext cx="303840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JEGYZETT, DE MÉG BE NEM FIZETETT TŐKE (-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19800" y="2212920"/>
                <a:ext cx="303840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JEGYZETT TŐK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4059360" y="2212920"/>
            <a:ext cx="769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59360" y="1916280"/>
            <a:ext cx="769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6303960"/>
            <a:ext cx="3678480" cy="388800"/>
            <a:chOff x="380880" y="6303960"/>
            <a:chExt cx="3678480" cy="388800"/>
          </a:xfrm>
        </p:grpSpPr>
        <p:sp>
          <p:nvSpPr>
            <p:cNvPr id="207" name=""/>
            <p:cNvSpPr/>
            <p:nvPr/>
          </p:nvSpPr>
          <p:spPr>
            <a:xfrm>
              <a:off x="941400" y="6303960"/>
              <a:ext cx="311796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KT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6303960"/>
              <a:ext cx="56052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6692760"/>
              <a:ext cx="367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458200" y="1371600"/>
            <a:ext cx="0" cy="5321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371600"/>
            <a:ext cx="0" cy="5321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59360" y="1371600"/>
            <a:ext cx="0" cy="53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29040" y="1371600"/>
            <a:ext cx="0" cy="532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41400" y="1371600"/>
            <a:ext cx="0" cy="532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9800" y="1371600"/>
            <a:ext cx="0" cy="532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50992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89872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0880" y="2212920"/>
            <a:ext cx="3678480" cy="1074960"/>
            <a:chOff x="380880" y="2212920"/>
            <a:chExt cx="3678480" cy="1074960"/>
          </a:xfrm>
        </p:grpSpPr>
        <p:sp>
          <p:nvSpPr>
            <p:cNvPr id="219" name=""/>
            <p:cNvSpPr/>
            <p:nvPr/>
          </p:nvSpPr>
          <p:spPr>
            <a:xfrm>
              <a:off x="380880" y="2898720"/>
              <a:ext cx="560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80" y="250992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2212920"/>
              <a:ext cx="560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41400" y="2898720"/>
              <a:ext cx="31179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PÉNZÜGY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1400" y="250992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TÁRGYI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41400" y="2212920"/>
              <a:ext cx="3117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MMATERIÁLIS JAVA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328788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80880" y="389556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16880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55760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82436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121360"/>
            <a:ext cx="444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51016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904000"/>
            <a:ext cx="807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80880" y="3598920"/>
            <a:ext cx="3678480" cy="2705040"/>
            <a:chOff x="380880" y="3598920"/>
            <a:chExt cx="3678480" cy="2705040"/>
          </a:xfrm>
        </p:grpSpPr>
        <p:sp>
          <p:nvSpPr>
            <p:cNvPr id="234" name=""/>
            <p:cNvSpPr/>
            <p:nvPr/>
          </p:nvSpPr>
          <p:spPr>
            <a:xfrm>
              <a:off x="941400" y="5510160"/>
              <a:ext cx="311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880" y="5510160"/>
              <a:ext cx="560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41400" y="5904000"/>
              <a:ext cx="3117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880" y="5904000"/>
              <a:ext cx="560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41400" y="512136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880" y="512136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41400" y="4824360"/>
              <a:ext cx="31179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880" y="4824360"/>
              <a:ext cx="560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4557600"/>
              <a:ext cx="560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880" y="4168800"/>
              <a:ext cx="560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0880" y="3895560"/>
              <a:ext cx="560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3598920"/>
              <a:ext cx="5605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41400" y="4557600"/>
              <a:ext cx="3117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ÉNZ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41400" y="4168800"/>
              <a:ext cx="3117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ÉRTÉKPAPÍR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41400" y="3895560"/>
              <a:ext cx="3117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ÖVETELÉS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41400" y="3598920"/>
              <a:ext cx="31179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KÉSZLET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630396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059360" y="137160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59360" y="167652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59360" y="191628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59360" y="221292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829040" y="1371600"/>
            <a:ext cx="3629160" cy="841320"/>
            <a:chOff x="4829040" y="1371600"/>
            <a:chExt cx="3629160" cy="841320"/>
          </a:xfrm>
        </p:grpSpPr>
        <p:sp>
          <p:nvSpPr>
            <p:cNvPr id="256" name=""/>
            <p:cNvSpPr/>
            <p:nvPr/>
          </p:nvSpPr>
          <p:spPr>
            <a:xfrm>
              <a:off x="5419800" y="1676520"/>
              <a:ext cx="303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29040" y="1676520"/>
              <a:ext cx="590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9800" y="1371600"/>
              <a:ext cx="303840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FORRÁSOK (PASSZÍVÁK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29040" y="1371600"/>
              <a:ext cx="59076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29040" y="1916280"/>
              <a:ext cx="59076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D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19800" y="1916280"/>
              <a:ext cx="303840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SAJÁT TŐ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29040" y="1371600"/>
              <a:ext cx="362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29040" y="16765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29040" y="191628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29040" y="22129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059360" y="3287880"/>
            <a:ext cx="4398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59360" y="3598920"/>
            <a:ext cx="4398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829040" y="4557600"/>
            <a:ext cx="3629160" cy="266760"/>
            <a:chOff x="4829040" y="4557600"/>
            <a:chExt cx="3629160" cy="266760"/>
          </a:xfrm>
        </p:grpSpPr>
        <p:sp>
          <p:nvSpPr>
            <p:cNvPr id="269" name=""/>
            <p:cNvSpPr/>
            <p:nvPr/>
          </p:nvSpPr>
          <p:spPr>
            <a:xfrm>
              <a:off x="4829040" y="4557600"/>
              <a:ext cx="590760" cy="2667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9800" y="4557600"/>
              <a:ext cx="3038400" cy="2667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CÉLTARTALÉK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9040" y="455760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29040" y="48243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059360" y="630396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829040" y="5121360"/>
            <a:ext cx="3629160" cy="1182600"/>
            <a:chOff x="4829040" y="5121360"/>
            <a:chExt cx="3629160" cy="1182600"/>
          </a:xfrm>
        </p:grpSpPr>
        <p:sp>
          <p:nvSpPr>
            <p:cNvPr id="275" name=""/>
            <p:cNvSpPr/>
            <p:nvPr/>
          </p:nvSpPr>
          <p:spPr>
            <a:xfrm>
              <a:off x="5419800" y="5510160"/>
              <a:ext cx="3038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OSSZÚ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9040" y="5510160"/>
              <a:ext cx="59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9800" y="5904000"/>
              <a:ext cx="3038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RÖVID LEJÁRATÚ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9040" y="5904000"/>
              <a:ext cx="590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I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9800" y="5121360"/>
              <a:ext cx="303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HÁTRASOROLT KÖTELEZETTSÉG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29040" y="5121360"/>
              <a:ext cx="590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I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29040" y="51213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29040" y="630396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059360" y="6692760"/>
            <a:ext cx="76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829040" y="6303960"/>
            <a:ext cx="3629160" cy="388800"/>
            <a:chOff x="4829040" y="6303960"/>
            <a:chExt cx="3629160" cy="388800"/>
          </a:xfrm>
        </p:grpSpPr>
        <p:sp>
          <p:nvSpPr>
            <p:cNvPr id="285" name=""/>
            <p:cNvSpPr/>
            <p:nvPr/>
          </p:nvSpPr>
          <p:spPr>
            <a:xfrm>
              <a:off x="5419800" y="6303960"/>
              <a:ext cx="303840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PASSZÍV IDŐBELI ELHATÁROLÁS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29040" y="6303960"/>
              <a:ext cx="590760" cy="388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G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29040" y="6692760"/>
              <a:ext cx="362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98520" y="123840"/>
            <a:ext cx="8363880" cy="1095120"/>
            <a:chOff x="398520" y="123840"/>
            <a:chExt cx="8363880" cy="1095120"/>
          </a:xfrm>
        </p:grpSpPr>
        <p:sp>
          <p:nvSpPr>
            <p:cNvPr id="289" name=""/>
            <p:cNvSpPr/>
            <p:nvPr/>
          </p:nvSpPr>
          <p:spPr>
            <a:xfrm>
              <a:off x="398520" y="682560"/>
              <a:ext cx="3897000" cy="536400"/>
            </a:xfrm>
            <a:prstGeom prst="flowChartOffpageConnector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A VÁLLALKOZÁSI TEVÉKENYSÉGBE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BETÖLTÖTT SZEREPÜK SZER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421000" y="412560"/>
              <a:ext cx="18914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12440" y="412560"/>
              <a:ext cx="18000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08640" y="681480"/>
              <a:ext cx="3897000" cy="536400"/>
            </a:xfrm>
            <a:prstGeom prst="flowChartOffpageConnector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EREDETÜK SZER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801720" y="123840"/>
              <a:ext cx="7960680" cy="288720"/>
              <a:chOff x="801720" y="123840"/>
              <a:chExt cx="7960680" cy="288720"/>
            </a:xfrm>
          </p:grpSpPr>
          <p:sp>
            <p:nvSpPr>
              <p:cNvPr id="294" name=""/>
              <p:cNvSpPr/>
              <p:nvPr/>
            </p:nvSpPr>
            <p:spPr>
              <a:xfrm>
                <a:off x="7872480" y="123840"/>
                <a:ext cx="889920" cy="234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1720" y="156240"/>
                <a:ext cx="6855840" cy="25632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 VAGYON CSOPORTOSÍTÁ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380880" y="1371600"/>
            <a:ext cx="3678480" cy="841320"/>
            <a:chOff x="380880" y="1371600"/>
            <a:chExt cx="3678480" cy="841320"/>
          </a:xfrm>
        </p:grpSpPr>
        <p:sp>
          <p:nvSpPr>
            <p:cNvPr id="297" name=""/>
            <p:cNvSpPr/>
            <p:nvPr/>
          </p:nvSpPr>
          <p:spPr>
            <a:xfrm>
              <a:off x="941400" y="1676520"/>
              <a:ext cx="3117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0880" y="1676520"/>
              <a:ext cx="5605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41400" y="1371600"/>
              <a:ext cx="311796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ESZKÖZÖK (AKTÍVÁK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1371600"/>
              <a:ext cx="560520" cy="304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1916280"/>
              <a:ext cx="56052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A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41400" y="1916280"/>
              <a:ext cx="3117960" cy="296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Bookman Old Style"/>
                </a:rPr>
                <a:t>BEFEKTETETT ESZKÖZÖ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880" y="1371600"/>
              <a:ext cx="367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880" y="167652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880" y="191628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0880" y="2212920"/>
              <a:ext cx="367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368280" y="17017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038480" y="1739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380880" y="1371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05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29040" y="1371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80880" y="3276720"/>
            <a:ext cx="3678480" cy="330120"/>
            <a:chOff x="380880" y="3276720"/>
            <a:chExt cx="3678480" cy="330120"/>
          </a:xfrm>
        </p:grpSpPr>
        <p:grpSp>
          <p:nvGrpSpPr>
            <p:cNvPr id="313" name=""/>
            <p:cNvGrpSpPr/>
            <p:nvPr/>
          </p:nvGrpSpPr>
          <p:grpSpPr>
            <a:xfrm>
              <a:off x="380880" y="3287880"/>
              <a:ext cx="3678480" cy="311040"/>
              <a:chOff x="380880" y="3287880"/>
              <a:chExt cx="3678480" cy="311040"/>
            </a:xfrm>
          </p:grpSpPr>
          <p:sp>
            <p:nvSpPr>
              <p:cNvPr id="314" name=""/>
              <p:cNvSpPr/>
              <p:nvPr/>
            </p:nvSpPr>
            <p:spPr>
              <a:xfrm>
                <a:off x="380880" y="3287880"/>
                <a:ext cx="560520" cy="3110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B.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41400" y="3287880"/>
                <a:ext cx="3117960" cy="3110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Bookman Old Style"/>
                  </a:rPr>
                  <a:t>FORGÓESZKÖZÖ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880" y="3598920"/>
                <a:ext cx="367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80880" y="32767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59360" y="32767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829040" y="1905120"/>
            <a:ext cx="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29040" y="26542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29040" y="45576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 ELLENÖRZŐ KÉRDÉSE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ZSGÁRA FELKÉSZÍT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zámvitel fogal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gyon fogalma, csoportos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zközök, forrás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ŐADÁ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Felhasznált forrás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akirodal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zma András: Vázlatok a számvitel tanulásához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váth Katalin: Számvitel a gyakorl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vábbi ismeretszerzést szolgáló forr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ármilyen számviteli szakköny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47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55640" y="5516640"/>
            <a:ext cx="5708520" cy="916920"/>
          </a:xfrm>
          <a:prstGeom prst="rect">
            <a:avLst/>
          </a:prstGeom>
          <a:gradFill rotWithShape="0">
            <a:gsLst>
              <a:gs pos="0">
                <a:srgbClr val="006666">
                  <a:alpha val="23137"/>
                </a:srgbClr>
              </a:gs>
              <a:gs pos="100000">
                <a:srgbClr val="002f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Előadás anyagát készítetté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r. Bács Z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1565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SZÖNÖM A FIGYELMÜKE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ÖVETKEZŐ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ŐADÁS CÍME</a:t>
            </a:r>
            <a:br>
              <a:rPr sz="3600"/>
            </a:b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efektetett eszközö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280" y="3933720"/>
            <a:ext cx="6923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öbb előadást átfogó oktatási téma előadássorozatának címe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vetkező előadás megértéséhez ajánlott ismeretek kulcsszava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6:00:57Z</dcterms:created>
  <dc:creator>tamas</dc:creator>
  <dc:description/>
  <dc:language>en-US</dc:language>
  <cp:lastModifiedBy>Bács Zoltán</cp:lastModifiedBy>
  <dcterms:modified xsi:type="dcterms:W3CDTF">2008-08-31T07:33:26Z</dcterms:modified>
  <cp:revision>56</cp:revision>
  <dc:subject/>
  <dc:title>1. dia</dc:title>
</cp:coreProperties>
</file>