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8B39-36A7-4D8B-B75F-49F1FD5E8CD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98E3-FE17-4F1F-B19E-BE1538EF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BD595-758F-4600-B81D-233EF2F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18B74-12DE-44E3-8845-BE593102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53CF-B497-40E4-A7CB-41BF212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45677-06DB-4514-8EFC-509F72E8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27BA9-9314-4FEB-8788-A465D3A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87ACE-6DAB-4596-9148-78A42D6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7120B-A1C1-46DB-B58C-070CF06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C1451-6CB0-471F-BD3C-377F82B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C639-5E31-48CB-B28F-80C34A2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9A761-593D-436E-AEE0-FEF1A9EB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E5D88-50B3-414E-A3B6-6702446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F9DA-CC8A-473A-AB32-461463D0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611280" y="476280"/>
            <a:ext cx="7822800" cy="1066320"/>
            <a:chOff x="611280" y="476280"/>
            <a:chExt cx="7822800" cy="1066320"/>
          </a:xfrm>
        </p:grpSpPr>
        <p:sp>
          <p:nvSpPr>
            <p:cNvPr id="167" name=""/>
            <p:cNvSpPr/>
            <p:nvPr/>
          </p:nvSpPr>
          <p:spPr>
            <a:xfrm>
              <a:off x="7494480" y="476280"/>
              <a:ext cx="939600" cy="266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280" y="831600"/>
              <a:ext cx="7010280" cy="7110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ADOTT (KÖZVETÍTET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OLGÁLTA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398600" y="2457360"/>
            <a:ext cx="5765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vásárolt és változatlan formában értékesített szolgáltatások bekerülési értékének elszámolása az értékesítésk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143000" y="114480"/>
            <a:ext cx="7848720" cy="876240"/>
            <a:chOff x="1143000" y="114480"/>
            <a:chExt cx="7848720" cy="876240"/>
          </a:xfrm>
        </p:grpSpPr>
        <p:sp>
          <p:nvSpPr>
            <p:cNvPr id="171" name=""/>
            <p:cNvSpPr/>
            <p:nvPr/>
          </p:nvSpPr>
          <p:spPr>
            <a:xfrm>
              <a:off x="8051760" y="114480"/>
              <a:ext cx="93996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304920"/>
              <a:ext cx="668484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NYAGKÖLTSÉG ELSZÁMOLÁSÁN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HETŐSÉGE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12880" y="1143000"/>
            <a:ext cx="7445160" cy="457200"/>
            <a:chOff x="812880" y="1143000"/>
            <a:chExt cx="7445160" cy="457200"/>
          </a:xfrm>
        </p:grpSpPr>
        <p:sp>
          <p:nvSpPr>
            <p:cNvPr id="174" name=""/>
            <p:cNvSpPr/>
            <p:nvPr/>
          </p:nvSpPr>
          <p:spPr>
            <a:xfrm>
              <a:off x="812880" y="1143000"/>
              <a:ext cx="340200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.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81360" y="1143000"/>
              <a:ext cx="3676680" cy="4572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I.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58880" y="1714680"/>
            <a:ext cx="4044960" cy="969480"/>
            <a:chOff x="2558880" y="1714680"/>
            <a:chExt cx="4044960" cy="969480"/>
          </a:xfrm>
        </p:grpSpPr>
        <p:grpSp>
          <p:nvGrpSpPr>
            <p:cNvPr id="177" name=""/>
            <p:cNvGrpSpPr/>
            <p:nvPr/>
          </p:nvGrpSpPr>
          <p:grpSpPr>
            <a:xfrm>
              <a:off x="2558880" y="2114640"/>
              <a:ext cx="4044960" cy="569520"/>
              <a:chOff x="2558880" y="2114640"/>
              <a:chExt cx="4044960" cy="56952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0840" y="2114640"/>
                <a:ext cx="0" cy="284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880" y="2399400"/>
                <a:ext cx="40449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58880" y="2399400"/>
                <a:ext cx="0" cy="284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03840" y="2399400"/>
                <a:ext cx="0" cy="284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51040" y="1714680"/>
              <a:ext cx="340200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Bookman Old Style"/>
                </a:rPr>
                <a:t>V Á S Á R L Á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12880" y="2684520"/>
            <a:ext cx="3402000" cy="2227320"/>
            <a:chOff x="812880" y="2684520"/>
            <a:chExt cx="3402000" cy="2227320"/>
          </a:xfrm>
        </p:grpSpPr>
        <p:sp>
          <p:nvSpPr>
            <p:cNvPr id="184" name=""/>
            <p:cNvSpPr/>
            <p:nvPr/>
          </p:nvSpPr>
          <p:spPr>
            <a:xfrm>
              <a:off x="812880" y="2684520"/>
              <a:ext cx="3402000" cy="45720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SZLETREVÉ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2880" y="3484440"/>
              <a:ext cx="3402000" cy="455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ELHASZNÁL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0640" y="4282920"/>
              <a:ext cx="3217680" cy="628920"/>
            </a:xfrm>
            <a:prstGeom prst="flowChartDecision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L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8880" y="3141720"/>
              <a:ext cx="0" cy="34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8120" y="3956040"/>
              <a:ext cx="0" cy="341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581360" y="2684520"/>
            <a:ext cx="3953160" cy="4021200"/>
            <a:chOff x="4581360" y="2684520"/>
            <a:chExt cx="3953160" cy="4021200"/>
          </a:xfrm>
        </p:grpSpPr>
        <p:sp>
          <p:nvSpPr>
            <p:cNvPr id="190" name=""/>
            <p:cNvSpPr/>
            <p:nvPr/>
          </p:nvSpPr>
          <p:spPr>
            <a:xfrm>
              <a:off x="4581360" y="2684520"/>
              <a:ext cx="3676680" cy="457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ELHASZNÁL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0000" y="3484440"/>
              <a:ext cx="3217680" cy="627120"/>
            </a:xfrm>
            <a:prstGeom prst="flowChartDecision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L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62520" y="4444920"/>
              <a:ext cx="3400560" cy="514440"/>
            </a:xfrm>
            <a:prstGeom prst="hexagon">
              <a:avLst>
                <a:gd name="adj" fmla="val 165255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LTÁROZ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2520" y="5270400"/>
              <a:ext cx="3395520" cy="57960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SZLETVÁLTOZ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73520" y="6192720"/>
              <a:ext cx="3861000" cy="513000"/>
            </a:xfrm>
            <a:prstGeom prst="parallelogram">
              <a:avLst>
                <a:gd name="adj" fmla="val 188158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LTSÉG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ÓDOSÍ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03840" y="3141720"/>
              <a:ext cx="0" cy="34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6320" y="4078440"/>
              <a:ext cx="0" cy="34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56320" y="4957920"/>
              <a:ext cx="0" cy="34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6320" y="5873760"/>
              <a:ext cx="0" cy="342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1120" y="3160800"/>
              <a:ext cx="0" cy="30636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62160" y="3467160"/>
              <a:ext cx="112860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62520" y="3467160"/>
              <a:ext cx="0" cy="79380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2520" y="4260960"/>
              <a:ext cx="376200" cy="30636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2120" y="152280"/>
            <a:ext cx="8229600" cy="990720"/>
            <a:chOff x="762120" y="152280"/>
            <a:chExt cx="8229600" cy="990720"/>
          </a:xfrm>
        </p:grpSpPr>
        <p:sp>
          <p:nvSpPr>
            <p:cNvPr id="204" name=""/>
            <p:cNvSpPr/>
            <p:nvPr/>
          </p:nvSpPr>
          <p:spPr>
            <a:xfrm>
              <a:off x="8051760" y="152280"/>
              <a:ext cx="93996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457200"/>
              <a:ext cx="716256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KÖLTSÉG ELSZÁMOLÁS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. változ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723920" y="1828800"/>
            <a:ext cx="3810600" cy="1523520"/>
            <a:chOff x="4723920" y="1828800"/>
            <a:chExt cx="3810600" cy="1523520"/>
          </a:xfrm>
        </p:grpSpPr>
        <p:grpSp>
          <p:nvGrpSpPr>
            <p:cNvPr id="207" name=""/>
            <p:cNvGrpSpPr/>
            <p:nvPr/>
          </p:nvGrpSpPr>
          <p:grpSpPr>
            <a:xfrm>
              <a:off x="4723920" y="2421000"/>
              <a:ext cx="2667600" cy="761400"/>
              <a:chOff x="4723920" y="2421000"/>
              <a:chExt cx="2667600" cy="7614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723920" y="2421000"/>
                <a:ext cx="2581560" cy="761400"/>
                <a:chOff x="4723920" y="2421000"/>
                <a:chExt cx="2581560" cy="7614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922640" y="2421000"/>
                  <a:ext cx="218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22640" y="3182400"/>
                  <a:ext cx="218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7107120" y="2421000"/>
                  <a:ext cx="198360" cy="760680"/>
                  <a:chOff x="7107120" y="2421000"/>
                  <a:chExt cx="198360" cy="7606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7107120" y="2421000"/>
                    <a:ext cx="19836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V="1">
                    <a:off x="7107120" y="2801160"/>
                    <a:ext cx="19836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4723920" y="2421000"/>
                  <a:ext cx="198360" cy="760680"/>
                  <a:chOff x="4723920" y="2421000"/>
                  <a:chExt cx="198360" cy="7606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>
                    <a:off x="4723920" y="2421000"/>
                    <a:ext cx="19836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flipV="1">
                    <a:off x="4723920" y="2801160"/>
                    <a:ext cx="19836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" name=""/>
              <p:cNvSpPr/>
              <p:nvPr/>
            </p:nvSpPr>
            <p:spPr>
              <a:xfrm>
                <a:off x="4724280" y="2567160"/>
                <a:ext cx="26672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elhasznál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ekerülési érték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189840" y="1828800"/>
              <a:ext cx="2344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11. Anyag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6275520" y="2124000"/>
              <a:ext cx="2182320" cy="1228320"/>
              <a:chOff x="6275520" y="2124000"/>
              <a:chExt cx="2182320" cy="1228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366320" y="2124000"/>
                <a:ext cx="0" cy="122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75520" y="2124000"/>
                <a:ext cx="218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33520" y="1828800"/>
            <a:ext cx="5340240" cy="2742120"/>
            <a:chOff x="533520" y="1828800"/>
            <a:chExt cx="5340240" cy="2742120"/>
          </a:xfrm>
        </p:grpSpPr>
        <p:grpSp>
          <p:nvGrpSpPr>
            <p:cNvPr id="223" name=""/>
            <p:cNvGrpSpPr/>
            <p:nvPr/>
          </p:nvGrpSpPr>
          <p:grpSpPr>
            <a:xfrm>
              <a:off x="533520" y="2124000"/>
              <a:ext cx="2425320" cy="1211040"/>
              <a:chOff x="533520" y="2124000"/>
              <a:chExt cx="2425320" cy="1211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745640" y="2124000"/>
                <a:ext cx="0" cy="121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3520" y="2124000"/>
                <a:ext cx="242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33520" y="1828800"/>
              <a:ext cx="2344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54. Szállít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4080" y="1828800"/>
              <a:ext cx="2749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1-22. Anyag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282840" y="2124000"/>
              <a:ext cx="2587320" cy="2446920"/>
              <a:chOff x="3282840" y="2124000"/>
              <a:chExt cx="2587320" cy="24469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75960" y="2124000"/>
                <a:ext cx="0" cy="244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82840" y="2124000"/>
                <a:ext cx="2587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904760" y="2421000"/>
              <a:ext cx="2590920" cy="761400"/>
              <a:chOff x="1904760" y="2421000"/>
              <a:chExt cx="2590920" cy="7614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1904760" y="2421000"/>
                <a:ext cx="2507040" cy="761400"/>
                <a:chOff x="1904760" y="2421000"/>
                <a:chExt cx="2507040" cy="7614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097720" y="2421000"/>
                  <a:ext cx="212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097720" y="3182400"/>
                  <a:ext cx="212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"/>
                <p:cNvGrpSpPr/>
                <p:nvPr/>
              </p:nvGrpSpPr>
              <p:grpSpPr>
                <a:xfrm>
                  <a:off x="4219200" y="2421000"/>
                  <a:ext cx="192600" cy="760680"/>
                  <a:chOff x="4219200" y="2421000"/>
                  <a:chExt cx="192600" cy="7606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4219200" y="2421000"/>
                    <a:ext cx="192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4219200" y="2801160"/>
                    <a:ext cx="192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904760" y="2421000"/>
                  <a:ext cx="192600" cy="760680"/>
                  <a:chOff x="1904760" y="2421000"/>
                  <a:chExt cx="192600" cy="7606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>
                    <a:off x="1904760" y="2421000"/>
                    <a:ext cx="192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flipV="1">
                    <a:off x="1904760" y="2801160"/>
                    <a:ext cx="192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"/>
              <p:cNvSpPr/>
              <p:nvPr/>
            </p:nvSpPr>
            <p:spPr>
              <a:xfrm>
                <a:off x="1905120" y="2567160"/>
                <a:ext cx="259056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eszerzési ért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áfa nélkül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304920" y="3462480"/>
            <a:ext cx="4114800" cy="1414080"/>
            <a:chOff x="304920" y="3462480"/>
            <a:chExt cx="4114800" cy="1414080"/>
          </a:xfrm>
        </p:grpSpPr>
        <p:grpSp>
          <p:nvGrpSpPr>
            <p:cNvPr id="243" name=""/>
            <p:cNvGrpSpPr/>
            <p:nvPr/>
          </p:nvGrpSpPr>
          <p:grpSpPr>
            <a:xfrm>
              <a:off x="533520" y="3952800"/>
              <a:ext cx="2590200" cy="923760"/>
              <a:chOff x="533520" y="3952800"/>
              <a:chExt cx="2590200" cy="923760"/>
            </a:xfrm>
          </p:grpSpPr>
          <p:sp>
            <p:nvSpPr>
              <p:cNvPr id="244" name=""/>
              <p:cNvSpPr/>
              <p:nvPr/>
            </p:nvSpPr>
            <p:spPr>
              <a:xfrm>
                <a:off x="1828080" y="3952800"/>
                <a:ext cx="0" cy="9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3520" y="3952800"/>
                <a:ext cx="2590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04920" y="3462480"/>
              <a:ext cx="304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65. Vám- és pénzügy-őrség elszámolási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05120" y="4038480"/>
              <a:ext cx="2514600" cy="457200"/>
              <a:chOff x="1905120" y="4038480"/>
              <a:chExt cx="2514600" cy="4572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1905120" y="4038480"/>
                <a:ext cx="2433600" cy="457200"/>
                <a:chOff x="1905120" y="4038480"/>
                <a:chExt cx="2433600" cy="457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092320" y="403848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92320" y="449568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4151520" y="4038480"/>
                  <a:ext cx="187200" cy="456840"/>
                  <a:chOff x="4151520" y="4038480"/>
                  <a:chExt cx="187200" cy="4568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151520" y="4038480"/>
                    <a:ext cx="1872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4151520" y="4266720"/>
                    <a:ext cx="1872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905120" y="4038480"/>
                  <a:ext cx="187200" cy="456840"/>
                  <a:chOff x="1905120" y="4038480"/>
                  <a:chExt cx="187200" cy="4568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1905120" y="4038480"/>
                    <a:ext cx="1872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>
                    <a:off x="1905120" y="4266720"/>
                    <a:ext cx="1872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1905120" y="4127040"/>
                <a:ext cx="251460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ámte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304920" y="5545080"/>
            <a:ext cx="3581280" cy="532080"/>
            <a:chOff x="304920" y="5545080"/>
            <a:chExt cx="3581280" cy="532080"/>
          </a:xfrm>
        </p:grpSpPr>
        <p:sp>
          <p:nvSpPr>
            <p:cNvPr id="259" name=""/>
            <p:cNvSpPr/>
            <p:nvPr/>
          </p:nvSpPr>
          <p:spPr>
            <a:xfrm>
              <a:off x="304920" y="5545080"/>
              <a:ext cx="358128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000" spc="-1" strike="noStrike">
                  <a:solidFill>
                    <a:srgbClr val="333399"/>
                  </a:solidFill>
                  <a:latin typeface="Bookman Old Style"/>
                </a:rPr>
                <a:t>* </a:t>
              </a: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Ha az áfa nem igényelhető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vissza akkor áfa-v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880" y="5545080"/>
              <a:ext cx="1600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09880" y="3487680"/>
            <a:ext cx="4724640" cy="2151000"/>
            <a:chOff x="3809880" y="3487680"/>
            <a:chExt cx="4724640" cy="2151000"/>
          </a:xfrm>
        </p:grpSpPr>
        <p:grpSp>
          <p:nvGrpSpPr>
            <p:cNvPr id="262" name=""/>
            <p:cNvGrpSpPr/>
            <p:nvPr/>
          </p:nvGrpSpPr>
          <p:grpSpPr>
            <a:xfrm>
              <a:off x="6248520" y="3944880"/>
              <a:ext cx="2182320" cy="627120"/>
              <a:chOff x="6248520" y="3944880"/>
              <a:chExt cx="2182320" cy="627120"/>
            </a:xfrm>
          </p:grpSpPr>
          <p:sp>
            <p:nvSpPr>
              <p:cNvPr id="263" name=""/>
              <p:cNvSpPr/>
              <p:nvPr/>
            </p:nvSpPr>
            <p:spPr>
              <a:xfrm>
                <a:off x="7339320" y="3944880"/>
                <a:ext cx="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48520" y="3944880"/>
                <a:ext cx="218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189840" y="3487680"/>
              <a:ext cx="23446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19. Anyag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megtérülé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809880" y="4572000"/>
              <a:ext cx="4343040" cy="987840"/>
              <a:chOff x="3809880" y="4572000"/>
              <a:chExt cx="4343040" cy="9878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3809880" y="4572000"/>
                <a:ext cx="4343040" cy="748440"/>
                <a:chOff x="3809880" y="4572000"/>
                <a:chExt cx="4343040" cy="7484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3810240" y="4572000"/>
                  <a:ext cx="4202640" cy="748440"/>
                  <a:chOff x="3810240" y="4572000"/>
                  <a:chExt cx="4202640" cy="7484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133160" y="4572000"/>
                    <a:ext cx="3556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133160" y="5320440"/>
                    <a:ext cx="3556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7689960" y="4572000"/>
                    <a:ext cx="322920" cy="747720"/>
                    <a:chOff x="7689960" y="4572000"/>
                    <a:chExt cx="322920" cy="7477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89960" y="4572000"/>
                      <a:ext cx="322920" cy="37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7689960" y="4945680"/>
                      <a:ext cx="322920" cy="37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3810240" y="4572000"/>
                    <a:ext cx="322920" cy="747720"/>
                    <a:chOff x="3810240" y="4572000"/>
                    <a:chExt cx="322920" cy="7477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flipH="1">
                      <a:off x="3810240" y="4572000"/>
                      <a:ext cx="322920" cy="37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flipV="1">
                      <a:off x="3810240" y="4945680"/>
                      <a:ext cx="322920" cy="37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7" name=""/>
                <p:cNvSpPr/>
                <p:nvPr/>
              </p:nvSpPr>
              <p:spPr>
                <a:xfrm>
                  <a:off x="3809880" y="4716360"/>
                  <a:ext cx="4343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361400" y="4588920"/>
                <a:ext cx="344700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Hasznosítható hullad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Vámterher, jövedéki adó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visszatérített össze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572000" y="53341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53341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3" dur="1" fill="hold"/>
                                  <p:tgtEl>
                                    <p:spTgt spid="2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371600" y="76320"/>
            <a:ext cx="7696080" cy="990360"/>
            <a:chOff x="1371600" y="76320"/>
            <a:chExt cx="7696080" cy="990360"/>
          </a:xfrm>
        </p:grpSpPr>
        <p:sp>
          <p:nvSpPr>
            <p:cNvPr id="282" name=""/>
            <p:cNvSpPr/>
            <p:nvPr/>
          </p:nvSpPr>
          <p:spPr>
            <a:xfrm>
              <a:off x="8128080" y="76320"/>
              <a:ext cx="9396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1600" y="380880"/>
              <a:ext cx="647712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KÖLTSÉG ELSZÁMOLÁS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I. változ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36720" y="1600200"/>
            <a:ext cx="7292880" cy="2285280"/>
            <a:chOff x="936720" y="1600200"/>
            <a:chExt cx="7292880" cy="2285280"/>
          </a:xfrm>
        </p:grpSpPr>
        <p:grpSp>
          <p:nvGrpSpPr>
            <p:cNvPr id="285" name=""/>
            <p:cNvGrpSpPr/>
            <p:nvPr/>
          </p:nvGrpSpPr>
          <p:grpSpPr>
            <a:xfrm>
              <a:off x="936720" y="1914480"/>
              <a:ext cx="2555280" cy="676440"/>
              <a:chOff x="936720" y="1914480"/>
              <a:chExt cx="2555280" cy="676440"/>
            </a:xfrm>
          </p:grpSpPr>
          <p:sp>
            <p:nvSpPr>
              <p:cNvPr id="286" name=""/>
              <p:cNvSpPr/>
              <p:nvPr/>
            </p:nvSpPr>
            <p:spPr>
              <a:xfrm>
                <a:off x="2214000" y="1914480"/>
                <a:ext cx="0" cy="67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720" y="1914480"/>
                <a:ext cx="255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003320" y="1676520"/>
              <a:ext cx="2469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54. Szállít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59280" y="1600200"/>
              <a:ext cx="24703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11. Anyag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848200" y="1895400"/>
              <a:ext cx="2300040" cy="1990080"/>
              <a:chOff x="5848200" y="1895400"/>
              <a:chExt cx="2300040" cy="1990080"/>
            </a:xfrm>
          </p:grpSpPr>
          <p:sp>
            <p:nvSpPr>
              <p:cNvPr id="291" name=""/>
              <p:cNvSpPr/>
              <p:nvPr/>
            </p:nvSpPr>
            <p:spPr>
              <a:xfrm>
                <a:off x="6997680" y="1895400"/>
                <a:ext cx="0" cy="199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48200" y="1895400"/>
                <a:ext cx="230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508120" y="2057400"/>
              <a:ext cx="4578120" cy="609120"/>
              <a:chOff x="2508120" y="2057400"/>
              <a:chExt cx="4578120" cy="60912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508120" y="2057400"/>
                <a:ext cx="4515840" cy="609120"/>
                <a:chOff x="2508120" y="2057400"/>
                <a:chExt cx="4515840" cy="6091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2508480" y="2057400"/>
                  <a:ext cx="4369680" cy="609120"/>
                  <a:chOff x="2508480" y="2057400"/>
                  <a:chExt cx="4369680" cy="6091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844360" y="2057400"/>
                    <a:ext cx="3697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844360" y="2666520"/>
                    <a:ext cx="3697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6542280" y="2057400"/>
                    <a:ext cx="335880" cy="608040"/>
                    <a:chOff x="6542280" y="2057400"/>
                    <a:chExt cx="335880" cy="608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6542280" y="205740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V="1">
                      <a:off x="6542280" y="236124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508480" y="2057400"/>
                    <a:ext cx="335880" cy="608040"/>
                    <a:chOff x="2508480" y="2057400"/>
                    <a:chExt cx="335880" cy="6080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2508480" y="205740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flipV="1">
                      <a:off x="2508480" y="236124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04" name=""/>
                <p:cNvSpPr/>
                <p:nvPr/>
              </p:nvSpPr>
              <p:spPr>
                <a:xfrm>
                  <a:off x="2508120" y="2175120"/>
                  <a:ext cx="4515840" cy="31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782800" y="2125800"/>
                <a:ext cx="43034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beszerzett anyag elszámolása költségként a beszerzésk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1644480" y="3886200"/>
            <a:ext cx="6424200" cy="1523880"/>
            <a:chOff x="1644480" y="3886200"/>
            <a:chExt cx="6424200" cy="1523880"/>
          </a:xfrm>
        </p:grpSpPr>
        <p:grpSp>
          <p:nvGrpSpPr>
            <p:cNvPr id="307" name=""/>
            <p:cNvGrpSpPr/>
            <p:nvPr/>
          </p:nvGrpSpPr>
          <p:grpSpPr>
            <a:xfrm>
              <a:off x="1644480" y="3886200"/>
              <a:ext cx="6424200" cy="649800"/>
              <a:chOff x="1644480" y="3886200"/>
              <a:chExt cx="6424200" cy="6498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644480" y="3886200"/>
                <a:ext cx="6217200" cy="608760"/>
                <a:chOff x="1644480" y="3886200"/>
                <a:chExt cx="6217200" cy="6087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122920" y="3886200"/>
                  <a:ext cx="526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22920" y="4494960"/>
                  <a:ext cx="5260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7383600" y="3886200"/>
                  <a:ext cx="478080" cy="608040"/>
                  <a:chOff x="7383600" y="3886200"/>
                  <a:chExt cx="478080" cy="6080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7383600" y="3886200"/>
                    <a:ext cx="47808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V="1">
                    <a:off x="7383600" y="4190040"/>
                    <a:ext cx="47808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1644480" y="3886200"/>
                  <a:ext cx="478080" cy="608040"/>
                  <a:chOff x="1644480" y="3886200"/>
                  <a:chExt cx="478080" cy="6080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>
                    <a:off x="1644480" y="3886200"/>
                    <a:ext cx="47808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>
                    <a:off x="1644480" y="4190040"/>
                    <a:ext cx="47808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7" name=""/>
              <p:cNvSpPr/>
              <p:nvPr/>
            </p:nvSpPr>
            <p:spPr>
              <a:xfrm>
                <a:off x="1644480" y="4003560"/>
                <a:ext cx="6424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leltárkészlet nyilvántartásba vétele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lkönyvelése év végé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206800" y="4495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45480" y="44956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05080" y="4800600"/>
            <a:ext cx="6824520" cy="1523880"/>
            <a:chOff x="1405080" y="4800600"/>
            <a:chExt cx="6824520" cy="1523880"/>
          </a:xfrm>
        </p:grpSpPr>
        <p:grpSp>
          <p:nvGrpSpPr>
            <p:cNvPr id="321" name=""/>
            <p:cNvGrpSpPr/>
            <p:nvPr/>
          </p:nvGrpSpPr>
          <p:grpSpPr>
            <a:xfrm>
              <a:off x="5821200" y="5257800"/>
              <a:ext cx="2300040" cy="152280"/>
              <a:chOff x="5821200" y="5257800"/>
              <a:chExt cx="2300040" cy="152280"/>
            </a:xfrm>
          </p:grpSpPr>
          <p:sp>
            <p:nvSpPr>
              <p:cNvPr id="322" name=""/>
              <p:cNvSpPr/>
              <p:nvPr/>
            </p:nvSpPr>
            <p:spPr>
              <a:xfrm>
                <a:off x="6970680" y="525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21200" y="5257800"/>
                <a:ext cx="230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759280" y="4800600"/>
              <a:ext cx="2470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19. Anyag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megtérülé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405080" y="5410080"/>
              <a:ext cx="6582600" cy="761760"/>
              <a:chOff x="1405080" y="5410080"/>
              <a:chExt cx="6582600" cy="7617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405080" y="5410080"/>
                <a:ext cx="6370200" cy="761760"/>
                <a:chOff x="1405080" y="5410080"/>
                <a:chExt cx="6370200" cy="7617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895040" y="5410080"/>
                  <a:ext cx="539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895040" y="6171840"/>
                  <a:ext cx="539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7285680" y="5410080"/>
                  <a:ext cx="489600" cy="760680"/>
                  <a:chOff x="7285680" y="5410080"/>
                  <a:chExt cx="489600" cy="7606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7285680" y="5410080"/>
                    <a:ext cx="489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7285680" y="5790240"/>
                    <a:ext cx="489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1405080" y="5410080"/>
                  <a:ext cx="489600" cy="760680"/>
                  <a:chOff x="1405080" y="5410080"/>
                  <a:chExt cx="489600" cy="7606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>
                    <a:off x="1405080" y="5410080"/>
                    <a:ext cx="489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>
                    <a:off x="1405080" y="5790240"/>
                    <a:ext cx="489600" cy="38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>
                <a:off x="1405080" y="5556240"/>
                <a:ext cx="6582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762280" y="5410080"/>
              <a:ext cx="52261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sznosítható hullad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mteher, jövedéki ad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isszatérített össze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45480" y="61722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06800" y="61722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62120" y="2666880"/>
            <a:ext cx="6183000" cy="1218960"/>
            <a:chOff x="762120" y="2666880"/>
            <a:chExt cx="6183000" cy="1218960"/>
          </a:xfrm>
        </p:grpSpPr>
        <p:sp>
          <p:nvSpPr>
            <p:cNvPr id="340" name=""/>
            <p:cNvSpPr/>
            <p:nvPr/>
          </p:nvSpPr>
          <p:spPr>
            <a:xfrm>
              <a:off x="762120" y="2666880"/>
              <a:ext cx="2896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1-22. Anyag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843120" y="2979720"/>
              <a:ext cx="2728440" cy="906120"/>
              <a:chOff x="843120" y="2979720"/>
              <a:chExt cx="2728440" cy="906120"/>
            </a:xfrm>
          </p:grpSpPr>
          <p:sp>
            <p:nvSpPr>
              <p:cNvPr id="342" name=""/>
              <p:cNvSpPr/>
              <p:nvPr/>
            </p:nvSpPr>
            <p:spPr>
              <a:xfrm>
                <a:off x="2206800" y="2979720"/>
                <a:ext cx="0" cy="90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3120" y="2979720"/>
                <a:ext cx="27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368440" y="3048120"/>
              <a:ext cx="4576680" cy="649800"/>
              <a:chOff x="2368440" y="3048120"/>
              <a:chExt cx="4576680" cy="6498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2368800" y="3048120"/>
                <a:ext cx="4428720" cy="608760"/>
                <a:chOff x="2368800" y="3048120"/>
                <a:chExt cx="4428720" cy="608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709000" y="3048120"/>
                  <a:ext cx="374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09000" y="3656880"/>
                  <a:ext cx="374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6457320" y="3048120"/>
                  <a:ext cx="340200" cy="608040"/>
                  <a:chOff x="6457320" y="3048120"/>
                  <a:chExt cx="340200" cy="608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6457320" y="3048120"/>
                    <a:ext cx="34020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V="1">
                    <a:off x="6457320" y="3351960"/>
                    <a:ext cx="34020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2368800" y="3048120"/>
                  <a:ext cx="340200" cy="608040"/>
                  <a:chOff x="2368800" y="3048120"/>
                  <a:chExt cx="340200" cy="6080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>
                    <a:off x="2368800" y="3048120"/>
                    <a:ext cx="34020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2368800" y="3351960"/>
                    <a:ext cx="340200" cy="304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4" name=""/>
              <p:cNvSpPr/>
              <p:nvPr/>
            </p:nvSpPr>
            <p:spPr>
              <a:xfrm>
                <a:off x="2368440" y="3165480"/>
                <a:ext cx="45766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nyitókészlet könyvelé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elhasználásként az év elejé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914400" y="3352680"/>
              <a:ext cx="1066680" cy="304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609480" y="228600"/>
            <a:ext cx="8382240" cy="1143000"/>
            <a:chOff x="609480" y="228600"/>
            <a:chExt cx="8382240" cy="1143000"/>
          </a:xfrm>
        </p:grpSpPr>
        <p:sp>
          <p:nvSpPr>
            <p:cNvPr id="357" name=""/>
            <p:cNvSpPr/>
            <p:nvPr/>
          </p:nvSpPr>
          <p:spPr>
            <a:xfrm>
              <a:off x="8051760" y="228600"/>
              <a:ext cx="93996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480" y="685800"/>
              <a:ext cx="71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609480"/>
              <a:ext cx="7162920" cy="76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OLGÁLTATÁSOK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6120" y="2133720"/>
            <a:ext cx="8368920" cy="2414880"/>
            <a:chOff x="546120" y="2133720"/>
            <a:chExt cx="8368920" cy="2414880"/>
          </a:xfrm>
        </p:grpSpPr>
        <p:sp>
          <p:nvSpPr>
            <p:cNvPr id="361" name=""/>
            <p:cNvSpPr/>
            <p:nvPr/>
          </p:nvSpPr>
          <p:spPr>
            <a:xfrm>
              <a:off x="4723920" y="2133720"/>
              <a:ext cx="4191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2. Igénybe vett szolgáltat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3. Egyéb szolgáltat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11640" y="3101760"/>
              <a:ext cx="3400200" cy="1370520"/>
              <a:chOff x="611640" y="3101760"/>
              <a:chExt cx="3400200" cy="1370520"/>
            </a:xfrm>
          </p:grpSpPr>
          <p:sp>
            <p:nvSpPr>
              <p:cNvPr id="363" name=""/>
              <p:cNvSpPr/>
              <p:nvPr/>
            </p:nvSpPr>
            <p:spPr>
              <a:xfrm>
                <a:off x="2311920" y="3101760"/>
                <a:ext cx="0" cy="137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640" y="3101760"/>
                <a:ext cx="3400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46120" y="2133720"/>
              <a:ext cx="4019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38.      Pénz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454.    Szállít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46-47. Egyéb rövid lejárat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telezet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351520" y="3406680"/>
              <a:ext cx="4665240" cy="947880"/>
              <a:chOff x="2351520" y="3406680"/>
              <a:chExt cx="4665240" cy="94788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351520" y="3406680"/>
                <a:ext cx="4453920" cy="947880"/>
                <a:chOff x="2351520" y="3406680"/>
                <a:chExt cx="4453920" cy="94788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2351520" y="3406680"/>
                  <a:ext cx="4310280" cy="947880"/>
                  <a:chOff x="2351520" y="3406680"/>
                  <a:chExt cx="4310280" cy="947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683080" y="3406680"/>
                    <a:ext cx="36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683080" y="4354560"/>
                    <a:ext cx="36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6330600" y="3406680"/>
                    <a:ext cx="331200" cy="946440"/>
                    <a:chOff x="6330600" y="3406680"/>
                    <a:chExt cx="331200" cy="9464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6330600" y="3406680"/>
                      <a:ext cx="33120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V="1">
                      <a:off x="6330600" y="3879720"/>
                      <a:ext cx="33120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351520" y="3406680"/>
                    <a:ext cx="331200" cy="946440"/>
                    <a:chOff x="2351520" y="3406680"/>
                    <a:chExt cx="331200" cy="9464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>
                      <a:off x="2351520" y="3406680"/>
                      <a:ext cx="33120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flipV="1">
                      <a:off x="2351520" y="3879720"/>
                      <a:ext cx="33120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77" name=""/>
                <p:cNvSpPr/>
                <p:nvPr/>
              </p:nvSpPr>
              <p:spPr>
                <a:xfrm>
                  <a:off x="2351520" y="3589560"/>
                  <a:ext cx="4453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2772720" y="3497760"/>
                <a:ext cx="424404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génybe vett szolgáltat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yéb szolgáltat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803120" y="3101760"/>
              <a:ext cx="3953520" cy="1446840"/>
              <a:chOff x="4803120" y="3101760"/>
              <a:chExt cx="3953520" cy="1446840"/>
            </a:xfrm>
          </p:grpSpPr>
          <p:sp>
            <p:nvSpPr>
              <p:cNvPr id="380" name=""/>
              <p:cNvSpPr/>
              <p:nvPr/>
            </p:nvSpPr>
            <p:spPr>
              <a:xfrm>
                <a:off x="6780240" y="3101760"/>
                <a:ext cx="0" cy="144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03120" y="3101760"/>
                <a:ext cx="395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3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143000" y="152280"/>
            <a:ext cx="7848720" cy="990720"/>
            <a:chOff x="1143000" y="152280"/>
            <a:chExt cx="7848720" cy="990720"/>
          </a:xfrm>
        </p:grpSpPr>
        <p:sp>
          <p:nvSpPr>
            <p:cNvPr id="383" name=""/>
            <p:cNvSpPr/>
            <p:nvPr/>
          </p:nvSpPr>
          <p:spPr>
            <a:xfrm>
              <a:off x="8153280" y="152280"/>
              <a:ext cx="8384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43000" y="380880"/>
              <a:ext cx="6858000" cy="76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ADOTT ÁRUK BESZERZÉSI ÉRTÉKÉN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295280" y="4648320"/>
            <a:ext cx="6400080" cy="990360"/>
            <a:chOff x="1295280" y="4648320"/>
            <a:chExt cx="6400080" cy="990360"/>
          </a:xfrm>
        </p:grpSpPr>
        <p:grpSp>
          <p:nvGrpSpPr>
            <p:cNvPr id="386" name=""/>
            <p:cNvGrpSpPr/>
            <p:nvPr/>
          </p:nvGrpSpPr>
          <p:grpSpPr>
            <a:xfrm>
              <a:off x="1295280" y="4648320"/>
              <a:ext cx="6400080" cy="659520"/>
              <a:chOff x="1295280" y="4648320"/>
              <a:chExt cx="6400080" cy="659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295640" y="4648320"/>
                <a:ext cx="6193440" cy="654120"/>
                <a:chOff x="1295640" y="4648320"/>
                <a:chExt cx="6193440" cy="654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771920" y="4648320"/>
                  <a:ext cx="524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771920" y="5302440"/>
                  <a:ext cx="524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7012800" y="4648320"/>
                  <a:ext cx="476280" cy="653760"/>
                  <a:chOff x="7012800" y="4648320"/>
                  <a:chExt cx="476280" cy="653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7012800" y="4648320"/>
                    <a:ext cx="476280" cy="32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V="1">
                    <a:off x="7012800" y="4975200"/>
                    <a:ext cx="476280" cy="32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1295640" y="4648320"/>
                  <a:ext cx="476280" cy="653760"/>
                  <a:chOff x="1295640" y="4648320"/>
                  <a:chExt cx="476280" cy="6537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flipH="1">
                    <a:off x="1295640" y="4648320"/>
                    <a:ext cx="476280" cy="32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1295640" y="4975200"/>
                    <a:ext cx="476280" cy="32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6" name=""/>
              <p:cNvSpPr/>
              <p:nvPr/>
            </p:nvSpPr>
            <p:spPr>
              <a:xfrm>
                <a:off x="1295280" y="4775400"/>
                <a:ext cx="64000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Visszavett betétdíjas göngyölegek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ekerülési érték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905120" y="53341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05720" y="53341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33520" y="5791320"/>
            <a:ext cx="7619760" cy="642600"/>
            <a:chOff x="533520" y="5791320"/>
            <a:chExt cx="7619760" cy="642600"/>
          </a:xfrm>
        </p:grpSpPr>
        <p:sp>
          <p:nvSpPr>
            <p:cNvPr id="400" name=""/>
            <p:cNvSpPr/>
            <p:nvPr/>
          </p:nvSpPr>
          <p:spPr>
            <a:xfrm>
              <a:off x="533520" y="5791320"/>
              <a:ext cx="761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000" spc="-1" strike="noStrike">
                  <a:solidFill>
                    <a:srgbClr val="333399"/>
                  </a:solidFill>
                  <a:latin typeface="Bookman Old Style"/>
                </a:rPr>
                <a:t>* </a:t>
              </a: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  Összköltség eljárással készülő eredménykimutatás eseté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000" spc="-1" strike="noStrike">
                  <a:solidFill>
                    <a:srgbClr val="333399"/>
                  </a:solidFill>
                  <a:latin typeface="Bookman Old Style"/>
                </a:rPr>
                <a:t>**  </a:t>
              </a: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Forgalmi költség eljárással készülő eredménykimutatás eseté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480" y="5791320"/>
              <a:ext cx="1676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7200" y="1530360"/>
            <a:ext cx="8305920" cy="3099600"/>
            <a:chOff x="457200" y="1530360"/>
            <a:chExt cx="8305920" cy="3099600"/>
          </a:xfrm>
        </p:grpSpPr>
        <p:sp>
          <p:nvSpPr>
            <p:cNvPr id="403" name=""/>
            <p:cNvSpPr/>
            <p:nvPr/>
          </p:nvSpPr>
          <p:spPr>
            <a:xfrm>
              <a:off x="609480" y="1530360"/>
              <a:ext cx="711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00600" y="1913040"/>
              <a:ext cx="3962520" cy="2716920"/>
              <a:chOff x="4800600" y="1913040"/>
              <a:chExt cx="3962520" cy="2716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00600" y="1913040"/>
                <a:ext cx="3962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Bookman Old Style"/>
                  </a:rPr>
                  <a:t>814. Eladott áruk beszerz. értéke </a:t>
                </a:r>
                <a:r>
                  <a:rPr b="1" lang="hu-HU" sz="1600" spc="-1" strike="noStrike">
                    <a:solidFill>
                      <a:srgbClr val="333399"/>
                    </a:solidFill>
                    <a:latin typeface="Bookman Old Style"/>
                  </a:rPr>
                  <a:t>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Bookman Old Style"/>
                  </a:rPr>
                  <a:t>812.,832. Eladott áruk beszerzési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Bookman Old Style"/>
                  </a:rPr>
                  <a:t>                   </a:t>
                </a:r>
                <a:r>
                  <a:rPr b="1" lang="hu-HU" sz="1600" spc="-1" strike="noStrike">
                    <a:solidFill>
                      <a:srgbClr val="000000"/>
                    </a:solidFill>
                    <a:latin typeface="Bookman Old Style"/>
                  </a:rPr>
                  <a:t>értéke </a:t>
                </a:r>
                <a:r>
                  <a:rPr b="1" lang="hu-HU" sz="1600" spc="-1" strike="noStrike">
                    <a:solidFill>
                      <a:srgbClr val="333399"/>
                    </a:solidFill>
                    <a:latin typeface="Bookman Old Style"/>
                  </a:rPr>
                  <a:t>*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876920" y="2573280"/>
                <a:ext cx="3670920" cy="2056680"/>
                <a:chOff x="4876920" y="2573280"/>
                <a:chExt cx="3670920" cy="2056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711840" y="2573280"/>
                  <a:ext cx="0" cy="2056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76920" y="2573280"/>
                  <a:ext cx="367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2127240" y="2743200"/>
              <a:ext cx="4578480" cy="609120"/>
              <a:chOff x="2127240" y="2743200"/>
              <a:chExt cx="4578480" cy="6091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2127240" y="2743200"/>
                <a:ext cx="4516200" cy="609120"/>
                <a:chOff x="2127240" y="2743200"/>
                <a:chExt cx="4516200" cy="60912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127600" y="2743200"/>
                  <a:ext cx="4370040" cy="609120"/>
                  <a:chOff x="2127600" y="2743200"/>
                  <a:chExt cx="4370040" cy="6091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2463480" y="2743200"/>
                    <a:ext cx="36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463480" y="3352320"/>
                    <a:ext cx="36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6161760" y="2743200"/>
                    <a:ext cx="335880" cy="608040"/>
                    <a:chOff x="6161760" y="2743200"/>
                    <a:chExt cx="335880" cy="608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161760" y="274320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V="1">
                      <a:off x="6161760" y="304704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2127600" y="2743200"/>
                    <a:ext cx="335880" cy="608040"/>
                    <a:chOff x="2127600" y="2743200"/>
                    <a:chExt cx="335880" cy="60804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>
                      <a:off x="2127600" y="274320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flipV="1">
                      <a:off x="2127600" y="3047040"/>
                      <a:ext cx="335880" cy="304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20" name=""/>
                <p:cNvSpPr/>
                <p:nvPr/>
              </p:nvSpPr>
              <p:spPr>
                <a:xfrm>
                  <a:off x="2127240" y="2860920"/>
                  <a:ext cx="4516200" cy="31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2401920" y="2889000"/>
                <a:ext cx="43038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ladott áruk beszerzési érték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457200" y="2303640"/>
              <a:ext cx="2787480" cy="973080"/>
              <a:chOff x="457200" y="2303640"/>
              <a:chExt cx="2787480" cy="97308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644400" y="2600280"/>
                <a:ext cx="2555640" cy="676440"/>
                <a:chOff x="644400" y="2600280"/>
                <a:chExt cx="2555640" cy="6764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921680" y="2600280"/>
                  <a:ext cx="0" cy="676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4400" y="2600280"/>
                  <a:ext cx="2555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57200" y="2303640"/>
                <a:ext cx="2787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6. Kereskedelmi áru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371600" y="2666880"/>
                <a:ext cx="380880" cy="38124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381240"/>
                  <a:gd name="textAreaBottom" fmla="*/ 362880 h 381240"/>
                </a:gdLst>
                <a:ahLst/>
                <a:rect l="textAreaLeft" t="textAreaTop" r="textAreaRight" b="textAreaBottom"/>
                <a:pathLst>
                  <a:path w="21600" h="21620">
                    <a:moveTo>
                      <a:pt x="3600" y="0"/>
                    </a:moveTo>
                    <a:arcTo wR="3600" hR="3600" stAng="16200000" swAng="-5400000"/>
                    <a:lnTo>
                      <a:pt x="0" y="18020"/>
                    </a:lnTo>
                    <a:arcTo wR="3600" hR="3600" stAng="10800000" swAng="-5400000"/>
                    <a:lnTo>
                      <a:pt x="18000" y="2162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304920" y="3446640"/>
            <a:ext cx="6393960" cy="1201320"/>
            <a:chOff x="304920" y="3446640"/>
            <a:chExt cx="6393960" cy="1201320"/>
          </a:xfrm>
        </p:grpSpPr>
        <p:sp>
          <p:nvSpPr>
            <p:cNvPr id="429" name=""/>
            <p:cNvSpPr/>
            <p:nvPr/>
          </p:nvSpPr>
          <p:spPr>
            <a:xfrm>
              <a:off x="304920" y="3446640"/>
              <a:ext cx="3504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8. Betétdíjas göngyöleg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47560" y="3741840"/>
              <a:ext cx="2728800" cy="906120"/>
              <a:chOff x="547560" y="3741840"/>
              <a:chExt cx="2728800" cy="906120"/>
            </a:xfrm>
          </p:grpSpPr>
          <p:sp>
            <p:nvSpPr>
              <p:cNvPr id="431" name=""/>
              <p:cNvSpPr/>
              <p:nvPr/>
            </p:nvSpPr>
            <p:spPr>
              <a:xfrm>
                <a:off x="1911600" y="3741840"/>
                <a:ext cx="0" cy="90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7560" y="3741840"/>
                <a:ext cx="27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057400" y="3886200"/>
              <a:ext cx="4641480" cy="643680"/>
              <a:chOff x="2057400" y="3886200"/>
              <a:chExt cx="4641480" cy="64368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2057760" y="3886200"/>
                <a:ext cx="4490640" cy="643680"/>
                <a:chOff x="2057760" y="3886200"/>
                <a:chExt cx="4490640" cy="6436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403000" y="3886200"/>
                  <a:ext cx="3800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403000" y="4529880"/>
                  <a:ext cx="3800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6203160" y="3886200"/>
                  <a:ext cx="345240" cy="642600"/>
                  <a:chOff x="6203160" y="3886200"/>
                  <a:chExt cx="345240" cy="6426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6203160" y="3886200"/>
                    <a:ext cx="345240" cy="32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6203160" y="4207320"/>
                    <a:ext cx="345240" cy="32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2057760" y="3886200"/>
                  <a:ext cx="345240" cy="642600"/>
                  <a:chOff x="2057760" y="3886200"/>
                  <a:chExt cx="345240" cy="6426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>
                    <a:off x="2057760" y="3886200"/>
                    <a:ext cx="345240" cy="32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2057760" y="4207320"/>
                    <a:ext cx="345240" cy="32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>
                <a:off x="2057400" y="3975120"/>
                <a:ext cx="46414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Értékesített göngyölegek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ekerülési érték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447920" y="3809880"/>
              <a:ext cx="380880" cy="381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381240"/>
                <a:gd name="textAreaBottom" fmla="*/ 36288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3600" y="0"/>
                  </a:moveTo>
                  <a:arcTo wR="3600" hR="3600" stAng="16200000" swAng="-5400000"/>
                  <a:lnTo>
                    <a:pt x="0" y="18020"/>
                  </a:lnTo>
                  <a:arcTo wR="3600" hR="3600" stAng="10800000" swAng="-5400000"/>
                  <a:lnTo>
                    <a:pt x="18000" y="21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7" dur="1" fill="hold"/>
                                  <p:tgtEl>
                                    <p:spTgt spid="3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1219320" y="76320"/>
            <a:ext cx="7848360" cy="914400"/>
            <a:chOff x="1219320" y="76320"/>
            <a:chExt cx="7848360" cy="914400"/>
          </a:xfrm>
        </p:grpSpPr>
        <p:sp>
          <p:nvSpPr>
            <p:cNvPr id="446" name=""/>
            <p:cNvSpPr/>
            <p:nvPr/>
          </p:nvSpPr>
          <p:spPr>
            <a:xfrm>
              <a:off x="8229600" y="76320"/>
              <a:ext cx="83808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19320" y="304920"/>
              <a:ext cx="647676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ADOTT(KÖZVETÍTETT) SZOLGÁLTA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57200" y="1454040"/>
            <a:ext cx="8090640" cy="4522680"/>
            <a:chOff x="457200" y="1454040"/>
            <a:chExt cx="8090640" cy="4522680"/>
          </a:xfrm>
        </p:grpSpPr>
        <p:sp>
          <p:nvSpPr>
            <p:cNvPr id="449" name=""/>
            <p:cNvSpPr/>
            <p:nvPr/>
          </p:nvSpPr>
          <p:spPr>
            <a:xfrm>
              <a:off x="609480" y="1454040"/>
              <a:ext cx="711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533520" y="5334120"/>
              <a:ext cx="7619760" cy="642600"/>
              <a:chOff x="533520" y="5334120"/>
              <a:chExt cx="7619760" cy="642600"/>
            </a:xfrm>
          </p:grpSpPr>
          <p:sp>
            <p:nvSpPr>
              <p:cNvPr id="451" name=""/>
              <p:cNvSpPr/>
              <p:nvPr/>
            </p:nvSpPr>
            <p:spPr>
              <a:xfrm>
                <a:off x="533520" y="5334120"/>
                <a:ext cx="761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2000" spc="-1" strike="noStrike">
                    <a:solidFill>
                      <a:srgbClr val="333399"/>
                    </a:solidFill>
                    <a:latin typeface="Bookman Old Style"/>
                  </a:rPr>
                  <a:t>* </a:t>
                </a:r>
                <a:r>
                  <a:rPr b="1" i="1" lang="hu-HU" sz="1600" spc="-1" strike="noStrike">
                    <a:solidFill>
                      <a:srgbClr val="333399"/>
                    </a:solidFill>
                    <a:latin typeface="Bookman Old Style"/>
                  </a:rPr>
                  <a:t>  Összköltség eljárással készülő eredménykimutatás eseté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2000" spc="-1" strike="noStrike">
                    <a:solidFill>
                      <a:srgbClr val="333399"/>
                    </a:solidFill>
                    <a:latin typeface="Bookman Old Style"/>
                  </a:rPr>
                  <a:t>**  </a:t>
                </a:r>
                <a:r>
                  <a:rPr b="1" i="1" lang="hu-HU" sz="1600" spc="-1" strike="noStrike">
                    <a:solidFill>
                      <a:srgbClr val="333399"/>
                    </a:solidFill>
                    <a:latin typeface="Bookman Old Style"/>
                  </a:rPr>
                  <a:t>Forgalmi költség eljárással készülő eredménykimutatás eseté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9480" y="5334120"/>
                <a:ext cx="1676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57200" y="1913040"/>
              <a:ext cx="8090640" cy="2277360"/>
              <a:chOff x="457200" y="1913040"/>
              <a:chExt cx="8090640" cy="22773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3962520" y="1913040"/>
                <a:ext cx="4585320" cy="2277360"/>
                <a:chOff x="3962520" y="1913040"/>
                <a:chExt cx="4585320" cy="22773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962520" y="1913040"/>
                  <a:ext cx="457200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Bookman Old Style"/>
                    </a:rPr>
                    <a:t>815.  Eladott(közvetített) szolg. értéke </a:t>
                  </a:r>
                  <a:r>
                    <a:rPr b="1" lang="hu-HU" sz="1600" spc="-1" strike="noStrike">
                      <a:solidFill>
                        <a:srgbClr val="333399"/>
                      </a:solidFill>
                      <a:latin typeface="Bookman Old Style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Bookman Old Style"/>
                    </a:rPr>
                    <a:t>813., 833. Eladott  (közvetített) szolg.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Bookman Old Style"/>
                    </a:rPr>
                    <a:t>                            </a:t>
                  </a:r>
                  <a:r>
                    <a:rPr b="1" lang="hu-HU" sz="1600" spc="-1" strike="noStrike">
                      <a:solidFill>
                        <a:srgbClr val="000000"/>
                      </a:solidFill>
                      <a:latin typeface="Bookman Old Style"/>
                    </a:rPr>
                    <a:t>értéke</a:t>
                  </a:r>
                  <a:r>
                    <a:rPr b="1" lang="hu-HU" sz="1600" spc="-1" strike="noStrike">
                      <a:solidFill>
                        <a:srgbClr val="333399"/>
                      </a:solidFill>
                      <a:latin typeface="Bookman Old Style"/>
                    </a:rPr>
                    <a:t>*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4038480" y="2514600"/>
                  <a:ext cx="4509360" cy="1675800"/>
                  <a:chOff x="4038480" y="2514600"/>
                  <a:chExt cx="4509360" cy="16758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6292440" y="2514600"/>
                    <a:ext cx="0" cy="167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038480" y="2514600"/>
                    <a:ext cx="4509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" name=""/>
              <p:cNvGrpSpPr/>
              <p:nvPr/>
            </p:nvGrpSpPr>
            <p:grpSpPr>
              <a:xfrm>
                <a:off x="644400" y="2514600"/>
                <a:ext cx="2555640" cy="1675800"/>
                <a:chOff x="644400" y="2514600"/>
                <a:chExt cx="2555640" cy="16758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921680" y="2514600"/>
                  <a:ext cx="0" cy="167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44400" y="2514600"/>
                  <a:ext cx="2555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457200" y="2031840"/>
                <a:ext cx="278748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7. Közvetített szolgáltatás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2057400" y="3048120"/>
                <a:ext cx="4284360" cy="837720"/>
                <a:chOff x="2057400" y="3048120"/>
                <a:chExt cx="4284360" cy="83772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2057400" y="3048120"/>
                  <a:ext cx="4284360" cy="837720"/>
                  <a:chOff x="2057400" y="3048120"/>
                  <a:chExt cx="4284360" cy="837720"/>
                </a:xfrm>
              </p:grpSpPr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057760" y="3048120"/>
                    <a:ext cx="4145760" cy="837720"/>
                    <a:chOff x="2057760" y="3048120"/>
                    <a:chExt cx="4145760" cy="83772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2376360" y="3048120"/>
                      <a:ext cx="3508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2376360" y="3885840"/>
                      <a:ext cx="3508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68" name=""/>
                    <p:cNvGrpSpPr/>
                    <p:nvPr/>
                  </p:nvGrpSpPr>
                  <p:grpSpPr>
                    <a:xfrm>
                      <a:off x="5884920" y="3048120"/>
                      <a:ext cx="318600" cy="837000"/>
                      <a:chOff x="5884920" y="3048120"/>
                      <a:chExt cx="318600" cy="837000"/>
                    </a:xfrm>
                  </p:grpSpPr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5884920" y="3048120"/>
                        <a:ext cx="3186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 flipV="1">
                        <a:off x="5884920" y="3466440"/>
                        <a:ext cx="3186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2057760" y="3048120"/>
                      <a:ext cx="318600" cy="837000"/>
                      <a:chOff x="2057760" y="3048120"/>
                      <a:chExt cx="318600" cy="837000"/>
                    </a:xfrm>
                  </p:grpSpPr>
                  <p:sp>
                    <p:nvSpPr>
                      <p:cNvPr id="472" name=""/>
                      <p:cNvSpPr/>
                      <p:nvPr/>
                    </p:nvSpPr>
                    <p:spPr>
                      <a:xfrm flipH="1">
                        <a:off x="2057760" y="3048120"/>
                        <a:ext cx="3186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3" name=""/>
                      <p:cNvSpPr/>
                      <p:nvPr/>
                    </p:nvSpPr>
                    <p:spPr>
                      <a:xfrm flipH="1" flipV="1">
                        <a:off x="2057760" y="3466440"/>
                        <a:ext cx="3186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4" name=""/>
                  <p:cNvSpPr/>
                  <p:nvPr/>
                </p:nvSpPr>
                <p:spPr>
                  <a:xfrm>
                    <a:off x="2057400" y="3209760"/>
                    <a:ext cx="4284360" cy="31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2163600" y="3286080"/>
                  <a:ext cx="408492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A bekerülési érték elszámolá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értékesítésko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1371600" y="3056040"/>
                <a:ext cx="3808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1752480" y="152280"/>
            <a:ext cx="7239240" cy="2057400"/>
            <a:chOff x="1752480" y="152280"/>
            <a:chExt cx="7239240" cy="2057400"/>
          </a:xfrm>
        </p:grpSpPr>
        <p:sp>
          <p:nvSpPr>
            <p:cNvPr id="478" name=""/>
            <p:cNvSpPr/>
            <p:nvPr/>
          </p:nvSpPr>
          <p:spPr>
            <a:xfrm>
              <a:off x="8153280" y="152280"/>
              <a:ext cx="8384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52480" y="609480"/>
              <a:ext cx="6019920" cy="8384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EMÉLYI JELLEGŰ 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666880" y="1447920"/>
              <a:ext cx="4038840" cy="761760"/>
              <a:chOff x="2666880" y="1447920"/>
              <a:chExt cx="4038840" cy="761760"/>
            </a:xfrm>
          </p:grpSpPr>
          <p:sp>
            <p:nvSpPr>
              <p:cNvPr id="481" name=""/>
              <p:cNvSpPr/>
              <p:nvPr/>
            </p:nvSpPr>
            <p:spPr>
              <a:xfrm>
                <a:off x="4755600" y="14479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66880" y="1828800"/>
                <a:ext cx="403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66880" y="182880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5720" y="182880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380880" y="2209680"/>
            <a:ext cx="5486400" cy="3971520"/>
            <a:chOff x="380880" y="2209680"/>
            <a:chExt cx="5486400" cy="3971520"/>
          </a:xfrm>
        </p:grpSpPr>
        <p:sp>
          <p:nvSpPr>
            <p:cNvPr id="486" name=""/>
            <p:cNvSpPr/>
            <p:nvPr/>
          </p:nvSpPr>
          <p:spPr>
            <a:xfrm>
              <a:off x="1143000" y="2209680"/>
              <a:ext cx="3184560" cy="8384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EMÉLYI JELLEG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FIZETÉ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447920" y="3048120"/>
              <a:ext cx="2438280" cy="532800"/>
              <a:chOff x="1447920" y="3048120"/>
              <a:chExt cx="2438280" cy="532800"/>
            </a:xfrm>
          </p:grpSpPr>
          <p:sp>
            <p:nvSpPr>
              <p:cNvPr id="488" name=""/>
              <p:cNvSpPr/>
              <p:nvPr/>
            </p:nvSpPr>
            <p:spPr>
              <a:xfrm>
                <a:off x="2709000" y="30481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47920" y="331452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47920" y="33145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86200" y="33145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80880" y="3581280"/>
              <a:ext cx="4937400" cy="685800"/>
              <a:chOff x="380880" y="3581280"/>
              <a:chExt cx="4937400" cy="685800"/>
            </a:xfrm>
          </p:grpSpPr>
          <p:sp>
            <p:nvSpPr>
              <p:cNvPr id="493" name=""/>
              <p:cNvSpPr/>
              <p:nvPr/>
            </p:nvSpPr>
            <p:spPr>
              <a:xfrm>
                <a:off x="380880" y="3581280"/>
                <a:ext cx="23464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BÉRKÖLTSÉ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71800" y="3581280"/>
                <a:ext cx="23464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SZEMÉLYI JELLEG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GYÉB KIFIZETÉS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533520" y="4419720"/>
              <a:ext cx="1981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" y="4495680"/>
              <a:ext cx="228600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é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unkadíj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Prémiu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Jutalo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13. havi fizet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19520" y="4479840"/>
              <a:ext cx="3047760" cy="17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természetes személyek részé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em bérköltségké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em vállalkozási díj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ént kifizetett, elszámolt összeg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562720" y="2209680"/>
            <a:ext cx="3429000" cy="4278600"/>
            <a:chOff x="5562720" y="2209680"/>
            <a:chExt cx="3429000" cy="4278600"/>
          </a:xfrm>
        </p:grpSpPr>
        <p:sp>
          <p:nvSpPr>
            <p:cNvPr id="499" name=""/>
            <p:cNvSpPr/>
            <p:nvPr/>
          </p:nvSpPr>
          <p:spPr>
            <a:xfrm>
              <a:off x="5562720" y="2209680"/>
              <a:ext cx="3184560" cy="83844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ÉRJÁRULÉK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38680" y="3429000"/>
              <a:ext cx="3353040" cy="30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yugdíjbiztosítási é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észségbiztosítási járu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észségügyi hozzájárulá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unkaadói járu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zakképzési hozzájárulá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inden olyan adó módjár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fizetett összeg, amelye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személyi jellegű ráfordítások va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foglalkoztatottak száma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lapján állapítanak meg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914400" y="152280"/>
            <a:ext cx="8077320" cy="1219320"/>
            <a:chOff x="914400" y="152280"/>
            <a:chExt cx="8077320" cy="1219320"/>
          </a:xfrm>
        </p:grpSpPr>
        <p:sp>
          <p:nvSpPr>
            <p:cNvPr id="502" name=""/>
            <p:cNvSpPr/>
            <p:nvPr/>
          </p:nvSpPr>
          <p:spPr>
            <a:xfrm>
              <a:off x="8153280" y="152280"/>
              <a:ext cx="8384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14400" y="609480"/>
              <a:ext cx="7010280" cy="76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ÉRKÖLTSÉG ÉS A SZEMÉLYI JELLEG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KIFIZETÉSEK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87520" y="1981080"/>
            <a:ext cx="7731000" cy="2385360"/>
            <a:chOff x="587520" y="1981080"/>
            <a:chExt cx="7731000" cy="2385360"/>
          </a:xfrm>
        </p:grpSpPr>
        <p:sp>
          <p:nvSpPr>
            <p:cNvPr id="505" name=""/>
            <p:cNvSpPr/>
            <p:nvPr/>
          </p:nvSpPr>
          <p:spPr>
            <a:xfrm>
              <a:off x="5600880" y="2174760"/>
              <a:ext cx="2717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4. Bér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5754600" y="2467080"/>
              <a:ext cx="2558880" cy="764640"/>
              <a:chOff x="5754600" y="2467080"/>
              <a:chExt cx="2558880" cy="764640"/>
            </a:xfrm>
          </p:grpSpPr>
          <p:sp>
            <p:nvSpPr>
              <p:cNvPr id="507" name=""/>
              <p:cNvSpPr/>
              <p:nvPr/>
            </p:nvSpPr>
            <p:spPr>
              <a:xfrm>
                <a:off x="7033680" y="2467080"/>
                <a:ext cx="0" cy="76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54600" y="2467080"/>
                <a:ext cx="255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71400" y="2459160"/>
              <a:ext cx="2682720" cy="1907280"/>
              <a:chOff x="671400" y="2459160"/>
              <a:chExt cx="2682720" cy="1907280"/>
            </a:xfrm>
          </p:grpSpPr>
          <p:sp>
            <p:nvSpPr>
              <p:cNvPr id="510" name=""/>
              <p:cNvSpPr/>
              <p:nvPr/>
            </p:nvSpPr>
            <p:spPr>
              <a:xfrm>
                <a:off x="2012400" y="2459160"/>
                <a:ext cx="0" cy="19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1400" y="2459160"/>
                <a:ext cx="268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87520" y="1981080"/>
              <a:ext cx="2927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71. Jövedelem elszámolási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338560" y="2617920"/>
              <a:ext cx="4638240" cy="529560"/>
              <a:chOff x="2338560" y="2617920"/>
              <a:chExt cx="4638240" cy="52956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2338560" y="2617920"/>
                <a:ext cx="4575240" cy="529560"/>
                <a:chOff x="2338560" y="2617920"/>
                <a:chExt cx="4575240" cy="529560"/>
              </a:xfrm>
            </p:grpSpPr>
            <p:grpSp>
              <p:nvGrpSpPr>
                <p:cNvPr id="515" name=""/>
                <p:cNvGrpSpPr/>
                <p:nvPr/>
              </p:nvGrpSpPr>
              <p:grpSpPr>
                <a:xfrm>
                  <a:off x="2338920" y="2617920"/>
                  <a:ext cx="4427280" cy="529560"/>
                  <a:chOff x="2338920" y="2617920"/>
                  <a:chExt cx="4427280" cy="52956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2679120" y="2617920"/>
                    <a:ext cx="374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679120" y="3147480"/>
                    <a:ext cx="374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6426000" y="2617920"/>
                    <a:ext cx="340200" cy="528840"/>
                    <a:chOff x="6426000" y="2617920"/>
                    <a:chExt cx="340200" cy="52884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426000" y="2617920"/>
                      <a:ext cx="34020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6426000" y="2882160"/>
                      <a:ext cx="34020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338920" y="2617920"/>
                    <a:ext cx="340200" cy="528840"/>
                    <a:chOff x="2338920" y="2617920"/>
                    <a:chExt cx="340200" cy="5288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>
                      <a:off x="2338920" y="2617920"/>
                      <a:ext cx="34020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flipV="1">
                      <a:off x="2338920" y="2882160"/>
                      <a:ext cx="34020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4" name=""/>
                <p:cNvSpPr/>
                <p:nvPr/>
              </p:nvSpPr>
              <p:spPr>
                <a:xfrm>
                  <a:off x="2338560" y="2721240"/>
                  <a:ext cx="4575240" cy="31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2616840" y="2746080"/>
                <a:ext cx="43599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ér, munkadíj, prémium st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2182680" y="3300480"/>
            <a:ext cx="6291360" cy="2361240"/>
            <a:chOff x="2182680" y="3300480"/>
            <a:chExt cx="6291360" cy="2361240"/>
          </a:xfrm>
        </p:grpSpPr>
        <p:sp>
          <p:nvSpPr>
            <p:cNvPr id="527" name=""/>
            <p:cNvSpPr/>
            <p:nvPr/>
          </p:nvSpPr>
          <p:spPr>
            <a:xfrm>
              <a:off x="5522760" y="3300480"/>
              <a:ext cx="2951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5. Személyi jellegű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gyéb kifizetés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182680" y="3909960"/>
              <a:ext cx="4800240" cy="533160"/>
              <a:chOff x="2182680" y="3909960"/>
              <a:chExt cx="4800240" cy="53316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2183040" y="3909960"/>
                <a:ext cx="4643640" cy="533160"/>
                <a:chOff x="2183040" y="3909960"/>
                <a:chExt cx="4643640" cy="5331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2539800" y="3909960"/>
                  <a:ext cx="393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539800" y="4443120"/>
                  <a:ext cx="393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2" name=""/>
                <p:cNvGrpSpPr/>
                <p:nvPr/>
              </p:nvGrpSpPr>
              <p:grpSpPr>
                <a:xfrm>
                  <a:off x="6469920" y="3909960"/>
                  <a:ext cx="356760" cy="532800"/>
                  <a:chOff x="6469920" y="3909960"/>
                  <a:chExt cx="356760" cy="532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6469920" y="3909960"/>
                    <a:ext cx="35676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6469920" y="4176360"/>
                    <a:ext cx="35676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2183040" y="3909960"/>
                  <a:ext cx="356760" cy="532800"/>
                  <a:chOff x="2183040" y="3909960"/>
                  <a:chExt cx="356760" cy="5328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>
                    <a:off x="2183040" y="3909960"/>
                    <a:ext cx="35676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flipV="1">
                    <a:off x="2183040" y="4176360"/>
                    <a:ext cx="35676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"/>
              <p:cNvSpPr/>
              <p:nvPr/>
            </p:nvSpPr>
            <p:spPr>
              <a:xfrm>
                <a:off x="2182680" y="3983400"/>
                <a:ext cx="48002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alálmányi, szerzői díj st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608800" y="3757680"/>
              <a:ext cx="2864880" cy="1904040"/>
              <a:chOff x="5608800" y="3757680"/>
              <a:chExt cx="2864880" cy="1904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040880" y="3757680"/>
                <a:ext cx="0" cy="190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608800" y="3757680"/>
                <a:ext cx="2864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80880" y="4537080"/>
            <a:ext cx="6656040" cy="1125000"/>
            <a:chOff x="380880" y="4537080"/>
            <a:chExt cx="6656040" cy="1125000"/>
          </a:xfrm>
        </p:grpSpPr>
        <p:sp>
          <p:nvSpPr>
            <p:cNvPr id="543" name=""/>
            <p:cNvSpPr/>
            <p:nvPr/>
          </p:nvSpPr>
          <p:spPr>
            <a:xfrm>
              <a:off x="380880" y="4537080"/>
              <a:ext cx="3200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8. Pénzeszközö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569880" y="4799160"/>
              <a:ext cx="2863440" cy="862920"/>
              <a:chOff x="569880" y="4799160"/>
              <a:chExt cx="2863440" cy="862920"/>
            </a:xfrm>
          </p:grpSpPr>
          <p:sp>
            <p:nvSpPr>
              <p:cNvPr id="545" name=""/>
              <p:cNvSpPr/>
              <p:nvPr/>
            </p:nvSpPr>
            <p:spPr>
              <a:xfrm>
                <a:off x="2001240" y="479916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9880" y="4799160"/>
                <a:ext cx="286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104920" y="4991040"/>
              <a:ext cx="4932000" cy="518760"/>
              <a:chOff x="2104920" y="4991040"/>
              <a:chExt cx="4932000" cy="51876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2105280" y="4991040"/>
                <a:ext cx="4771800" cy="518760"/>
                <a:chOff x="2105280" y="4991040"/>
                <a:chExt cx="4771800" cy="5187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2472120" y="4991040"/>
                  <a:ext cx="40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72120" y="5509800"/>
                  <a:ext cx="40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6510240" y="4991040"/>
                  <a:ext cx="366840" cy="518400"/>
                  <a:chOff x="6510240" y="4991040"/>
                  <a:chExt cx="366840" cy="5184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6510240" y="4991040"/>
                    <a:ext cx="366840" cy="25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V="1">
                    <a:off x="6510240" y="5250240"/>
                    <a:ext cx="366840" cy="25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2105280" y="4991040"/>
                  <a:ext cx="366840" cy="518400"/>
                  <a:chOff x="2105280" y="4991040"/>
                  <a:chExt cx="366840" cy="5184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2105280" y="4991040"/>
                    <a:ext cx="366840" cy="25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2105280" y="5250240"/>
                    <a:ext cx="366840" cy="259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"/>
              <p:cNvSpPr/>
              <p:nvPr/>
            </p:nvSpPr>
            <p:spPr>
              <a:xfrm>
                <a:off x="2104920" y="5061240"/>
                <a:ext cx="49320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Étkezési, utazási stb. hozzájárul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5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1219320" y="152280"/>
            <a:ext cx="7772400" cy="990720"/>
            <a:chOff x="1219320" y="152280"/>
            <a:chExt cx="7772400" cy="990720"/>
          </a:xfrm>
        </p:grpSpPr>
        <p:sp>
          <p:nvSpPr>
            <p:cNvPr id="559" name=""/>
            <p:cNvSpPr/>
            <p:nvPr/>
          </p:nvSpPr>
          <p:spPr>
            <a:xfrm>
              <a:off x="8153280" y="152280"/>
              <a:ext cx="8384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19320" y="457200"/>
              <a:ext cx="647676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ÉRJÁRULÉKOK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57200" y="1600200"/>
            <a:ext cx="8029440" cy="4493880"/>
            <a:chOff x="457200" y="1600200"/>
            <a:chExt cx="8029440" cy="4493880"/>
          </a:xfrm>
        </p:grpSpPr>
        <p:sp>
          <p:nvSpPr>
            <p:cNvPr id="562" name=""/>
            <p:cNvSpPr/>
            <p:nvPr/>
          </p:nvSpPr>
          <p:spPr>
            <a:xfrm>
              <a:off x="5819760" y="1676520"/>
              <a:ext cx="2666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6. Bérjárulék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975280" y="2062080"/>
              <a:ext cx="2511000" cy="4032000"/>
              <a:chOff x="5975280" y="2062080"/>
              <a:chExt cx="2511000" cy="403200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0240" y="2062080"/>
                <a:ext cx="0" cy="40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975280" y="2062080"/>
                <a:ext cx="2511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838080" y="2082960"/>
              <a:ext cx="2895480" cy="750240"/>
              <a:chOff x="838080" y="2082960"/>
              <a:chExt cx="2895480" cy="750240"/>
            </a:xfrm>
          </p:grpSpPr>
          <p:sp>
            <p:nvSpPr>
              <p:cNvPr id="567" name=""/>
              <p:cNvSpPr/>
              <p:nvPr/>
            </p:nvSpPr>
            <p:spPr>
              <a:xfrm>
                <a:off x="2285280" y="2082960"/>
                <a:ext cx="0" cy="75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38080" y="2082960"/>
                <a:ext cx="289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457200" y="1600200"/>
              <a:ext cx="3699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73. Társadalombiztosítási kötelezet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2514600" y="2235240"/>
              <a:ext cx="4495320" cy="532800"/>
              <a:chOff x="2514600" y="2235240"/>
              <a:chExt cx="4495320" cy="53280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514600" y="2238120"/>
                <a:ext cx="4495320" cy="529920"/>
                <a:chOff x="2514600" y="2238120"/>
                <a:chExt cx="4495320" cy="52992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514960" y="2238120"/>
                  <a:ext cx="4349880" cy="529920"/>
                  <a:chOff x="2514960" y="2238120"/>
                  <a:chExt cx="4349880" cy="5299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849400" y="2238120"/>
                    <a:ext cx="368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849400" y="2768040"/>
                    <a:ext cx="368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6530400" y="2238120"/>
                    <a:ext cx="334440" cy="528840"/>
                    <a:chOff x="6530400" y="2238120"/>
                    <a:chExt cx="334440" cy="528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6530400" y="2238120"/>
                      <a:ext cx="33444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V="1">
                      <a:off x="6530400" y="2502360"/>
                      <a:ext cx="33444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2514960" y="2238120"/>
                    <a:ext cx="334440" cy="528840"/>
                    <a:chOff x="2514960" y="2238120"/>
                    <a:chExt cx="334440" cy="52884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flipH="1">
                      <a:off x="2514960" y="2238120"/>
                      <a:ext cx="33444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flipH="1" flipV="1">
                      <a:off x="2514960" y="2502360"/>
                      <a:ext cx="334440" cy="264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1" name=""/>
                <p:cNvSpPr/>
                <p:nvPr/>
              </p:nvSpPr>
              <p:spPr>
                <a:xfrm>
                  <a:off x="2514600" y="2341080"/>
                  <a:ext cx="449532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2579400" y="2235240"/>
                <a:ext cx="42778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Nyugdíjbiztosítási és egészségbiztosítási járu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762120" y="2921040"/>
            <a:ext cx="6324120" cy="1143000"/>
            <a:chOff x="762120" y="2921040"/>
            <a:chExt cx="6324120" cy="1143000"/>
          </a:xfrm>
        </p:grpSpPr>
        <p:sp>
          <p:nvSpPr>
            <p:cNvPr id="584" name=""/>
            <p:cNvSpPr/>
            <p:nvPr/>
          </p:nvSpPr>
          <p:spPr>
            <a:xfrm>
              <a:off x="762120" y="2921040"/>
              <a:ext cx="3139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63-10.  Egészségügyi hozzájárulá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855720" y="3429000"/>
              <a:ext cx="2809440" cy="635040"/>
              <a:chOff x="855720" y="3429000"/>
              <a:chExt cx="2809440" cy="635040"/>
            </a:xfrm>
          </p:grpSpPr>
          <p:sp>
            <p:nvSpPr>
              <p:cNvPr id="586" name=""/>
              <p:cNvSpPr/>
              <p:nvPr/>
            </p:nvSpPr>
            <p:spPr>
              <a:xfrm>
                <a:off x="2260080" y="3429000"/>
                <a:ext cx="0" cy="63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5720" y="342900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09840" y="3522600"/>
              <a:ext cx="4676400" cy="389160"/>
              <a:chOff x="2409840" y="3522600"/>
              <a:chExt cx="4676400" cy="38916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2409840" y="3522600"/>
                <a:ext cx="4524840" cy="389160"/>
                <a:chOff x="2409840" y="3522600"/>
                <a:chExt cx="4524840" cy="3891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757960" y="352260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757960" y="391176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" name=""/>
                <p:cNvGrpSpPr/>
                <p:nvPr/>
              </p:nvGrpSpPr>
              <p:grpSpPr>
                <a:xfrm>
                  <a:off x="6586920" y="3522600"/>
                  <a:ext cx="347760" cy="388800"/>
                  <a:chOff x="6586920" y="3522600"/>
                  <a:chExt cx="347760" cy="38880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6586920" y="35226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6586920" y="37170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409840" y="3522600"/>
                  <a:ext cx="347760" cy="388800"/>
                  <a:chOff x="2409840" y="3522600"/>
                  <a:chExt cx="347760" cy="38880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H="1">
                    <a:off x="2409840" y="35226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 flipV="1">
                    <a:off x="2409840" y="37170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8" name=""/>
              <p:cNvSpPr/>
              <p:nvPr/>
            </p:nvSpPr>
            <p:spPr>
              <a:xfrm>
                <a:off x="2409840" y="3576240"/>
                <a:ext cx="4676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észségügyi hozzájárul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380880" y="5122800"/>
            <a:ext cx="6733800" cy="972720"/>
            <a:chOff x="380880" y="5122800"/>
            <a:chExt cx="6733800" cy="972720"/>
          </a:xfrm>
        </p:grpSpPr>
        <p:grpSp>
          <p:nvGrpSpPr>
            <p:cNvPr id="600" name=""/>
            <p:cNvGrpSpPr/>
            <p:nvPr/>
          </p:nvGrpSpPr>
          <p:grpSpPr>
            <a:xfrm>
              <a:off x="533520" y="5384880"/>
              <a:ext cx="3428280" cy="710640"/>
              <a:chOff x="533520" y="5384880"/>
              <a:chExt cx="3428280" cy="710640"/>
            </a:xfrm>
          </p:grpSpPr>
          <p:sp>
            <p:nvSpPr>
              <p:cNvPr id="601" name=""/>
              <p:cNvSpPr/>
              <p:nvPr/>
            </p:nvSpPr>
            <p:spPr>
              <a:xfrm>
                <a:off x="2247120" y="5384880"/>
                <a:ext cx="0" cy="71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33520" y="5384880"/>
                <a:ext cx="342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380880" y="5122800"/>
              <a:ext cx="365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742. Szakképzési hozzájárulá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438280" y="5554800"/>
              <a:ext cx="4676400" cy="388800"/>
              <a:chOff x="2438280" y="5554800"/>
              <a:chExt cx="4676400" cy="388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2438280" y="5554800"/>
                <a:ext cx="4524840" cy="388800"/>
                <a:chOff x="2438280" y="5554800"/>
                <a:chExt cx="4524840" cy="3888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786400" y="555480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786400" y="594360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6615360" y="5554800"/>
                  <a:ext cx="347760" cy="388800"/>
                  <a:chOff x="6615360" y="5554800"/>
                  <a:chExt cx="347760" cy="3888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6615360" y="55548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>
                    <a:off x="6615360" y="57492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2438280" y="5554800"/>
                  <a:ext cx="347760" cy="388800"/>
                  <a:chOff x="2438280" y="5554800"/>
                  <a:chExt cx="347760" cy="3888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flipH="1">
                    <a:off x="2438280" y="55548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 flipV="1">
                    <a:off x="2438280" y="574920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4" name=""/>
              <p:cNvSpPr/>
              <p:nvPr/>
            </p:nvSpPr>
            <p:spPr>
              <a:xfrm>
                <a:off x="2438280" y="5608440"/>
                <a:ext cx="4676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akképzési hozzájárul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"/>
          <p:cNvGrpSpPr/>
          <p:nvPr/>
        </p:nvGrpSpPr>
        <p:grpSpPr>
          <a:xfrm>
            <a:off x="609480" y="4140360"/>
            <a:ext cx="6505200" cy="838080"/>
            <a:chOff x="609480" y="4140360"/>
            <a:chExt cx="6505200" cy="838080"/>
          </a:xfrm>
        </p:grpSpPr>
        <p:sp>
          <p:nvSpPr>
            <p:cNvPr id="616" name=""/>
            <p:cNvSpPr/>
            <p:nvPr/>
          </p:nvSpPr>
          <p:spPr>
            <a:xfrm>
              <a:off x="609480" y="4140360"/>
              <a:ext cx="3429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63-8. Munkaadói járulé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838080" y="4444920"/>
              <a:ext cx="2811240" cy="533520"/>
              <a:chOff x="838080" y="4444920"/>
              <a:chExt cx="2811240" cy="533520"/>
            </a:xfrm>
          </p:grpSpPr>
          <p:sp>
            <p:nvSpPr>
              <p:cNvPr id="618" name=""/>
              <p:cNvSpPr/>
              <p:nvPr/>
            </p:nvSpPr>
            <p:spPr>
              <a:xfrm>
                <a:off x="2243160" y="4444920"/>
                <a:ext cx="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38080" y="4444920"/>
                <a:ext cx="281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438280" y="4589640"/>
              <a:ext cx="4676400" cy="388800"/>
              <a:chOff x="2438280" y="4589640"/>
              <a:chExt cx="4676400" cy="38880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2438280" y="4589640"/>
                <a:ext cx="4524840" cy="388800"/>
                <a:chOff x="2438280" y="4589640"/>
                <a:chExt cx="4524840" cy="3888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786400" y="458964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786400" y="4978440"/>
                  <a:ext cx="38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6615360" y="4589640"/>
                  <a:ext cx="347760" cy="388800"/>
                  <a:chOff x="6615360" y="4589640"/>
                  <a:chExt cx="347760" cy="3888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6615360" y="458964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V="1">
                    <a:off x="6615360" y="478404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2438280" y="4589640"/>
                  <a:ext cx="347760" cy="388800"/>
                  <a:chOff x="2438280" y="4589640"/>
                  <a:chExt cx="347760" cy="388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>
                    <a:off x="2438280" y="458964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>
                    <a:off x="2438280" y="4784040"/>
                    <a:ext cx="347760" cy="19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"/>
              <p:cNvSpPr/>
              <p:nvPr/>
            </p:nvSpPr>
            <p:spPr>
              <a:xfrm>
                <a:off x="2438280" y="4643280"/>
                <a:ext cx="4676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unkaadói járu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5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2637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EDMÉNYKATEGÓRI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1371600" y="76320"/>
            <a:ext cx="7620120" cy="914400"/>
            <a:chOff x="1371600" y="76320"/>
            <a:chExt cx="7620120" cy="914400"/>
          </a:xfrm>
        </p:grpSpPr>
        <p:sp>
          <p:nvSpPr>
            <p:cNvPr id="632" name=""/>
            <p:cNvSpPr/>
            <p:nvPr/>
          </p:nvSpPr>
          <p:spPr>
            <a:xfrm>
              <a:off x="8153280" y="76320"/>
              <a:ext cx="83844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71600" y="228600"/>
              <a:ext cx="6477120" cy="76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CSÖKKENÉSI LEÍR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33520" y="1447920"/>
            <a:ext cx="8076960" cy="1389960"/>
            <a:chOff x="533520" y="1447920"/>
            <a:chExt cx="8076960" cy="1389960"/>
          </a:xfrm>
        </p:grpSpPr>
        <p:sp>
          <p:nvSpPr>
            <p:cNvPr id="635" name=""/>
            <p:cNvSpPr/>
            <p:nvPr/>
          </p:nvSpPr>
          <p:spPr>
            <a:xfrm>
              <a:off x="685800" y="152424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immateriális javak, tárgyi 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tervszerinti értékcsökkenési leír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használatbavételkor elszámolt egyösszegű leír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520" y="1447920"/>
              <a:ext cx="182880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57200" y="2895480"/>
            <a:ext cx="8153280" cy="3656880"/>
            <a:chOff x="457200" y="2895480"/>
            <a:chExt cx="8153280" cy="3656880"/>
          </a:xfrm>
        </p:grpSpPr>
        <p:sp>
          <p:nvSpPr>
            <p:cNvPr id="638" name=""/>
            <p:cNvSpPr/>
            <p:nvPr/>
          </p:nvSpPr>
          <p:spPr>
            <a:xfrm>
              <a:off x="533520" y="2895480"/>
              <a:ext cx="419076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ITELI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57200" y="3581280"/>
              <a:ext cx="8153280" cy="2971080"/>
              <a:chOff x="457200" y="3581280"/>
              <a:chExt cx="8153280" cy="29710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457200" y="4419720"/>
                <a:ext cx="3704760" cy="2132640"/>
                <a:chOff x="457200" y="4419720"/>
                <a:chExt cx="3704760" cy="213264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2309400" y="4444200"/>
                  <a:ext cx="0" cy="2108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57200" y="4419720"/>
                  <a:ext cx="3704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530280" y="3581280"/>
                <a:ext cx="389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119. Immateriális javak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        </a:t>
                </a: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terv szerinti értékcsökkenés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129.,139.,149.,159. Tárgyi eszközök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        </a:t>
                </a: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terv szerinti értékcsökkenés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2514600" y="4572000"/>
                <a:ext cx="4431960" cy="457200"/>
                <a:chOff x="2514600" y="4572000"/>
                <a:chExt cx="4431960" cy="45720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2514600" y="4572000"/>
                  <a:ext cx="4431960" cy="457200"/>
                  <a:chOff x="2514600" y="4572000"/>
                  <a:chExt cx="4431960" cy="457200"/>
                </a:xfrm>
              </p:grpSpPr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2514960" y="4572000"/>
                    <a:ext cx="4288320" cy="457200"/>
                    <a:chOff x="2514960" y="4572000"/>
                    <a:chExt cx="4288320" cy="45720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2844360" y="4572000"/>
                      <a:ext cx="3629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2844360" y="5029200"/>
                      <a:ext cx="3629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9" name=""/>
                    <p:cNvGrpSpPr/>
                    <p:nvPr/>
                  </p:nvGrpSpPr>
                  <p:grpSpPr>
                    <a:xfrm>
                      <a:off x="6473880" y="4572000"/>
                      <a:ext cx="329400" cy="456840"/>
                      <a:chOff x="6473880" y="4572000"/>
                      <a:chExt cx="329400" cy="456840"/>
                    </a:xfrm>
                  </p:grpSpPr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6473880" y="4572000"/>
                        <a:ext cx="329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 flipV="1">
                        <a:off x="6473880" y="4800240"/>
                        <a:ext cx="329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2" name=""/>
                    <p:cNvGrpSpPr/>
                    <p:nvPr/>
                  </p:nvGrpSpPr>
                  <p:grpSpPr>
                    <a:xfrm>
                      <a:off x="2514960" y="4572000"/>
                      <a:ext cx="329400" cy="456840"/>
                      <a:chOff x="2514960" y="4572000"/>
                      <a:chExt cx="329400" cy="456840"/>
                    </a:xfrm>
                  </p:grpSpPr>
                  <p:sp>
                    <p:nvSpPr>
                      <p:cNvPr id="653" name=""/>
                      <p:cNvSpPr/>
                      <p:nvPr/>
                    </p:nvSpPr>
                    <p:spPr>
                      <a:xfrm flipH="1">
                        <a:off x="2514960" y="4572000"/>
                        <a:ext cx="329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flipH="1" flipV="1">
                        <a:off x="2514960" y="4800240"/>
                        <a:ext cx="329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55" name=""/>
                  <p:cNvSpPr/>
                  <p:nvPr/>
                </p:nvSpPr>
                <p:spPr>
                  <a:xfrm>
                    <a:off x="2514600" y="4661280"/>
                    <a:ext cx="4431960" cy="28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" name=""/>
                <p:cNvSpPr/>
                <p:nvPr/>
              </p:nvSpPr>
              <p:spPr>
                <a:xfrm>
                  <a:off x="2603520" y="4686120"/>
                  <a:ext cx="4134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Terv szerinti értékcsökkenési leírá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618160" y="4419720"/>
                <a:ext cx="2839680" cy="685800"/>
                <a:chOff x="5618160" y="4419720"/>
                <a:chExt cx="2839680" cy="6858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038000" y="4427640"/>
                  <a:ext cx="0" cy="6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18160" y="4419720"/>
                  <a:ext cx="2839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767560" y="3962520"/>
                <a:ext cx="2842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571. Terv szerinti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értékcsökkenési leírá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2476440" y="5181480"/>
            <a:ext cx="6286680" cy="1371240"/>
            <a:chOff x="2476440" y="5181480"/>
            <a:chExt cx="6286680" cy="1371240"/>
          </a:xfrm>
        </p:grpSpPr>
        <p:grpSp>
          <p:nvGrpSpPr>
            <p:cNvPr id="662" name=""/>
            <p:cNvGrpSpPr/>
            <p:nvPr/>
          </p:nvGrpSpPr>
          <p:grpSpPr>
            <a:xfrm>
              <a:off x="2476440" y="5867280"/>
              <a:ext cx="4412520" cy="533160"/>
              <a:chOff x="2476440" y="5867280"/>
              <a:chExt cx="4412520" cy="53316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2476440" y="5867280"/>
                <a:ext cx="4412520" cy="533160"/>
                <a:chOff x="2476440" y="5867280"/>
                <a:chExt cx="4412520" cy="5331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815920" y="5867280"/>
                  <a:ext cx="373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815920" y="6400440"/>
                  <a:ext cx="373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"/>
                <p:cNvGrpSpPr/>
                <p:nvPr/>
              </p:nvGrpSpPr>
              <p:grpSpPr>
                <a:xfrm>
                  <a:off x="6549840" y="5867280"/>
                  <a:ext cx="339120" cy="532800"/>
                  <a:chOff x="6549840" y="5867280"/>
                  <a:chExt cx="339120" cy="53280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6549840" y="5867280"/>
                    <a:ext cx="339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V="1">
                    <a:off x="6549840" y="6133680"/>
                    <a:ext cx="339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476440" y="5867280"/>
                  <a:ext cx="339120" cy="532800"/>
                  <a:chOff x="2476440" y="5867280"/>
                  <a:chExt cx="339120" cy="53280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H="1">
                    <a:off x="2476440" y="5867280"/>
                    <a:ext cx="339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flipV="1">
                    <a:off x="2476440" y="6133680"/>
                    <a:ext cx="339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"/>
              <p:cNvSpPr/>
              <p:nvPr/>
            </p:nvSpPr>
            <p:spPr>
              <a:xfrm>
                <a:off x="2610000" y="5900040"/>
                <a:ext cx="4073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gy összegben elszámol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értékcsökkenési leírá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486400" y="5638680"/>
              <a:ext cx="3123720" cy="914040"/>
              <a:chOff x="5486400" y="5638680"/>
              <a:chExt cx="3123720" cy="914040"/>
            </a:xfrm>
          </p:grpSpPr>
          <p:sp>
            <p:nvSpPr>
              <p:cNvPr id="674" name=""/>
              <p:cNvSpPr/>
              <p:nvPr/>
            </p:nvSpPr>
            <p:spPr>
              <a:xfrm>
                <a:off x="7048080" y="5649120"/>
                <a:ext cx="0" cy="9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86400" y="5638680"/>
                <a:ext cx="3123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10080" y="5181480"/>
              <a:ext cx="335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000000"/>
                  </a:solidFill>
                  <a:latin typeface="Bookman Old Style"/>
                </a:rPr>
                <a:t>572. Használatba vételkor egy összegben elszámolt éc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6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1422360" y="152280"/>
            <a:ext cx="7493040" cy="990720"/>
            <a:chOff x="1422360" y="152280"/>
            <a:chExt cx="7493040" cy="990720"/>
          </a:xfrm>
        </p:grpSpPr>
        <p:sp>
          <p:nvSpPr>
            <p:cNvPr id="678" name=""/>
            <p:cNvSpPr/>
            <p:nvPr/>
          </p:nvSpPr>
          <p:spPr>
            <a:xfrm>
              <a:off x="8153280" y="152280"/>
              <a:ext cx="76212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22360" y="457200"/>
              <a:ext cx="619776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28600" y="1752480"/>
            <a:ext cx="7543800" cy="4140720"/>
            <a:chOff x="228600" y="1752480"/>
            <a:chExt cx="7543800" cy="4140720"/>
          </a:xfrm>
        </p:grpSpPr>
        <p:grpSp>
          <p:nvGrpSpPr>
            <p:cNvPr id="681" name=""/>
            <p:cNvGrpSpPr/>
            <p:nvPr/>
          </p:nvGrpSpPr>
          <p:grpSpPr>
            <a:xfrm>
              <a:off x="228600" y="1752480"/>
              <a:ext cx="2133720" cy="456840"/>
              <a:chOff x="228600" y="1752480"/>
              <a:chExt cx="2133720" cy="456840"/>
            </a:xfrm>
          </p:grpSpPr>
          <p:sp>
            <p:nvSpPr>
              <p:cNvPr id="682" name=""/>
              <p:cNvSpPr/>
              <p:nvPr/>
            </p:nvSpPr>
            <p:spPr>
              <a:xfrm>
                <a:off x="635040" y="1752480"/>
                <a:ext cx="17272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Bookman Old Style"/>
                  </a:rPr>
                  <a:t>FOGALM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28600" y="1774080"/>
                <a:ext cx="50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1117440" y="1778040"/>
              <a:ext cx="6654960" cy="41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z értékesítés nettó árbevételéhez nem kapcsolódó kifizetések, más veszteség jellegű tételek, amely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 rendszeres tevékenység sorá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merülnek fel é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nem minősülnek sem pénzügy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műveletek ráfordításainak, s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rendkívüli ráfordításnak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838080" y="76320"/>
            <a:ext cx="8153640" cy="723960"/>
            <a:chOff x="838080" y="76320"/>
            <a:chExt cx="8153640" cy="723960"/>
          </a:xfrm>
        </p:grpSpPr>
        <p:sp>
          <p:nvSpPr>
            <p:cNvPr id="686" name=""/>
            <p:cNvSpPr/>
            <p:nvPr/>
          </p:nvSpPr>
          <p:spPr>
            <a:xfrm>
              <a:off x="8229600" y="76320"/>
              <a:ext cx="762120" cy="3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8080" y="248040"/>
              <a:ext cx="7086600" cy="5522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RÁFORDÍTÁSOK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3520" y="838080"/>
            <a:ext cx="8076960" cy="5896080"/>
            <a:chOff x="533520" y="838080"/>
            <a:chExt cx="8076960" cy="5896080"/>
          </a:xfrm>
        </p:grpSpPr>
        <p:grpSp>
          <p:nvGrpSpPr>
            <p:cNvPr id="689" name=""/>
            <p:cNvGrpSpPr/>
            <p:nvPr/>
          </p:nvGrpSpPr>
          <p:grpSpPr>
            <a:xfrm>
              <a:off x="6146640" y="1066680"/>
              <a:ext cx="2463840" cy="5667480"/>
              <a:chOff x="6146640" y="1066680"/>
              <a:chExt cx="2463840" cy="5667480"/>
            </a:xfrm>
          </p:grpSpPr>
          <p:sp>
            <p:nvSpPr>
              <p:cNvPr id="690" name=""/>
              <p:cNvSpPr/>
              <p:nvPr/>
            </p:nvSpPr>
            <p:spPr>
              <a:xfrm>
                <a:off x="6146640" y="1066680"/>
                <a:ext cx="24638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86. Egyéb ráfordításo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6171840" y="1363320"/>
                <a:ext cx="2362320" cy="5370840"/>
                <a:chOff x="6171840" y="1363320"/>
                <a:chExt cx="2362320" cy="53708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171840" y="1363320"/>
                  <a:ext cx="2362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319160" y="1363320"/>
                  <a:ext cx="0" cy="537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"/>
            <p:cNvGrpSpPr/>
            <p:nvPr/>
          </p:nvGrpSpPr>
          <p:grpSpPr>
            <a:xfrm>
              <a:off x="533520" y="838080"/>
              <a:ext cx="6704640" cy="2134080"/>
              <a:chOff x="533520" y="838080"/>
              <a:chExt cx="6704640" cy="213408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533520" y="838080"/>
                <a:ext cx="2514600" cy="2057400"/>
                <a:chOff x="533520" y="838080"/>
                <a:chExt cx="2514600" cy="2057400"/>
              </a:xfrm>
            </p:grpSpPr>
            <p:grpSp>
              <p:nvGrpSpPr>
                <p:cNvPr id="696" name=""/>
                <p:cNvGrpSpPr/>
                <p:nvPr/>
              </p:nvGrpSpPr>
              <p:grpSpPr>
                <a:xfrm>
                  <a:off x="533520" y="1411200"/>
                  <a:ext cx="2311200" cy="1484280"/>
                  <a:chOff x="533520" y="1411200"/>
                  <a:chExt cx="2311200" cy="148428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533520" y="1411200"/>
                    <a:ext cx="231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656000" y="1411200"/>
                    <a:ext cx="0" cy="1484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660240" y="838080"/>
                  <a:ext cx="238788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38. Pénzeszközö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45-47. Rövid lejáratú kötelezettsége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829160" y="1536840"/>
                <a:ext cx="5409000" cy="1435320"/>
                <a:chOff x="1829160" y="1536840"/>
                <a:chExt cx="5409000" cy="143532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1829160" y="1536840"/>
                  <a:ext cx="5408640" cy="1382040"/>
                  <a:chOff x="1829160" y="1536840"/>
                  <a:chExt cx="5408640" cy="13820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2244960" y="1536840"/>
                    <a:ext cx="457704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244960" y="2918880"/>
                    <a:ext cx="457704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6822000" y="1536840"/>
                    <a:ext cx="415800" cy="1380960"/>
                    <a:chOff x="6822000" y="1536840"/>
                    <a:chExt cx="415800" cy="138096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6822000" y="1536840"/>
                      <a:ext cx="415800" cy="690480"/>
                    </a:xfrm>
                    <a:prstGeom prst="line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V="1">
                      <a:off x="6822000" y="2227320"/>
                      <a:ext cx="415800" cy="690480"/>
                    </a:xfrm>
                    <a:prstGeom prst="line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1829160" y="1536840"/>
                    <a:ext cx="415800" cy="1380960"/>
                    <a:chOff x="1829160" y="1536840"/>
                    <a:chExt cx="415800" cy="138096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>
                      <a:off x="1829160" y="1536840"/>
                      <a:ext cx="415800" cy="690480"/>
                    </a:xfrm>
                    <a:prstGeom prst="line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flipV="1">
                      <a:off x="1829160" y="2227320"/>
                      <a:ext cx="415800" cy="690480"/>
                    </a:xfrm>
                    <a:prstGeom prst="line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10" name=""/>
                <p:cNvSpPr/>
                <p:nvPr/>
              </p:nvSpPr>
              <p:spPr>
                <a:xfrm>
                  <a:off x="2237040" y="1536840"/>
                  <a:ext cx="5001120" cy="14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Káreseményekkel kapcsolatos elszámolt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fizetendő össze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Fizetendő bírság, késedelmi kamat stb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Adott támogatás, juttatá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Termékpálya-szabályozáshoz kapcsolódó befizeté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Adók, illetékek, hozzájáruláso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Külföldön fizetett adó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Utólag adott engedmén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Bookman Old Style"/>
                    </a:rPr>
                    <a:t>Fogyasztási, jövedéki adó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1" name=""/>
          <p:cNvGrpSpPr/>
          <p:nvPr/>
        </p:nvGrpSpPr>
        <p:grpSpPr>
          <a:xfrm>
            <a:off x="711360" y="2895480"/>
            <a:ext cx="6196320" cy="1068120"/>
            <a:chOff x="711360" y="2895480"/>
            <a:chExt cx="6196320" cy="1068120"/>
          </a:xfrm>
        </p:grpSpPr>
        <p:grpSp>
          <p:nvGrpSpPr>
            <p:cNvPr id="712" name=""/>
            <p:cNvGrpSpPr/>
            <p:nvPr/>
          </p:nvGrpSpPr>
          <p:grpSpPr>
            <a:xfrm>
              <a:off x="711360" y="2895480"/>
              <a:ext cx="1955520" cy="838440"/>
              <a:chOff x="711360" y="2895480"/>
              <a:chExt cx="1955520" cy="838440"/>
            </a:xfrm>
          </p:grpSpPr>
          <p:sp>
            <p:nvSpPr>
              <p:cNvPr id="713" name=""/>
              <p:cNvSpPr/>
              <p:nvPr/>
            </p:nvSpPr>
            <p:spPr>
              <a:xfrm>
                <a:off x="812880" y="2895480"/>
                <a:ext cx="1854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31. Követelése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711360" y="3200400"/>
                <a:ext cx="1955520" cy="533520"/>
                <a:chOff x="711360" y="3200400"/>
                <a:chExt cx="1955520" cy="533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711360" y="3200400"/>
                  <a:ext cx="1955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61040" y="3200400"/>
                  <a:ext cx="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2235600" y="3273480"/>
              <a:ext cx="4672080" cy="690120"/>
              <a:chOff x="2235600" y="3273480"/>
              <a:chExt cx="4672080" cy="690120"/>
            </a:xfrm>
          </p:grpSpPr>
          <p:grpSp>
            <p:nvGrpSpPr>
              <p:cNvPr id="718" name=""/>
              <p:cNvGrpSpPr/>
              <p:nvPr/>
            </p:nvGrpSpPr>
            <p:grpSpPr>
              <a:xfrm>
                <a:off x="2235600" y="3273480"/>
                <a:ext cx="4672080" cy="630000"/>
                <a:chOff x="2235600" y="3273480"/>
                <a:chExt cx="4672080" cy="6300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2594520" y="3273480"/>
                  <a:ext cx="39538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594520" y="3903480"/>
                  <a:ext cx="39538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"/>
                <p:cNvGrpSpPr/>
                <p:nvPr/>
              </p:nvGrpSpPr>
              <p:grpSpPr>
                <a:xfrm>
                  <a:off x="6548760" y="3273480"/>
                  <a:ext cx="358920" cy="629280"/>
                  <a:chOff x="6548760" y="3273480"/>
                  <a:chExt cx="358920" cy="6292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6548760" y="3273480"/>
                    <a:ext cx="358920" cy="3146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6548760" y="3588120"/>
                    <a:ext cx="358920" cy="3146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2235600" y="3273480"/>
                  <a:ext cx="358920" cy="629280"/>
                  <a:chOff x="2235600" y="3273480"/>
                  <a:chExt cx="358920" cy="62928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flipH="1">
                    <a:off x="2235600" y="3273480"/>
                    <a:ext cx="358920" cy="3146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flipV="1">
                    <a:off x="2235600" y="3588120"/>
                    <a:ext cx="358920" cy="3146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7" name=""/>
              <p:cNvSpPr/>
              <p:nvPr/>
            </p:nvSpPr>
            <p:spPr>
              <a:xfrm>
                <a:off x="2500200" y="3273480"/>
                <a:ext cx="431964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Leírt követelé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Az átruházott követelés könyv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szerinti érték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Értékveszté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685800" y="3733920"/>
            <a:ext cx="6221520" cy="761400"/>
            <a:chOff x="685800" y="3733920"/>
            <a:chExt cx="6221520" cy="761400"/>
          </a:xfrm>
        </p:grpSpPr>
        <p:grpSp>
          <p:nvGrpSpPr>
            <p:cNvPr id="729" name=""/>
            <p:cNvGrpSpPr/>
            <p:nvPr/>
          </p:nvGrpSpPr>
          <p:grpSpPr>
            <a:xfrm>
              <a:off x="685800" y="3733920"/>
              <a:ext cx="1930320" cy="742320"/>
              <a:chOff x="685800" y="3733920"/>
              <a:chExt cx="1930320" cy="742320"/>
            </a:xfrm>
          </p:grpSpPr>
          <p:sp>
            <p:nvSpPr>
              <p:cNvPr id="730" name=""/>
              <p:cNvSpPr/>
              <p:nvPr/>
            </p:nvSpPr>
            <p:spPr>
              <a:xfrm>
                <a:off x="685800" y="3733920"/>
                <a:ext cx="1905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42. Cél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762120" y="4038480"/>
                <a:ext cx="1854000" cy="437760"/>
                <a:chOff x="762120" y="4038480"/>
                <a:chExt cx="1854000" cy="437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62120" y="4038480"/>
                  <a:ext cx="1854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662480" y="4038480"/>
                  <a:ext cx="0" cy="43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2235600" y="4095360"/>
              <a:ext cx="4671720" cy="399960"/>
              <a:chOff x="2235600" y="4095360"/>
              <a:chExt cx="4671720" cy="39996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2235600" y="4095360"/>
                <a:ext cx="4671720" cy="399960"/>
                <a:chOff x="2235600" y="4095360"/>
                <a:chExt cx="4671720" cy="39996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594520" y="4095360"/>
                  <a:ext cx="39538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594520" y="4495320"/>
                  <a:ext cx="39538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"/>
                <p:cNvGrpSpPr/>
                <p:nvPr/>
              </p:nvGrpSpPr>
              <p:grpSpPr>
                <a:xfrm>
                  <a:off x="6548400" y="4095360"/>
                  <a:ext cx="358920" cy="399240"/>
                  <a:chOff x="6548400" y="4095360"/>
                  <a:chExt cx="358920" cy="3992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6548400" y="4095360"/>
                    <a:ext cx="358920" cy="1998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V="1">
                    <a:off x="6548400" y="4294800"/>
                    <a:ext cx="358920" cy="1998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2235600" y="4095360"/>
                  <a:ext cx="358920" cy="399240"/>
                  <a:chOff x="2235600" y="4095360"/>
                  <a:chExt cx="358920" cy="39924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flipH="1">
                    <a:off x="2235600" y="4095360"/>
                    <a:ext cx="358920" cy="1998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 flipV="1">
                    <a:off x="2235600" y="4294800"/>
                    <a:ext cx="358920" cy="1998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"/>
              <p:cNvSpPr/>
              <p:nvPr/>
            </p:nvSpPr>
            <p:spPr>
              <a:xfrm>
                <a:off x="2499120" y="4200120"/>
                <a:ext cx="43221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Céltartalék képzé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533520" y="4495680"/>
            <a:ext cx="6602400" cy="1294920"/>
            <a:chOff x="533520" y="4495680"/>
            <a:chExt cx="6602400" cy="1294920"/>
          </a:xfrm>
        </p:grpSpPr>
        <p:grpSp>
          <p:nvGrpSpPr>
            <p:cNvPr id="746" name=""/>
            <p:cNvGrpSpPr/>
            <p:nvPr/>
          </p:nvGrpSpPr>
          <p:grpSpPr>
            <a:xfrm>
              <a:off x="533520" y="4495680"/>
              <a:ext cx="2514600" cy="1218960"/>
              <a:chOff x="533520" y="4495680"/>
              <a:chExt cx="2514600" cy="1218960"/>
            </a:xfrm>
          </p:grpSpPr>
          <p:sp>
            <p:nvSpPr>
              <p:cNvPr id="747" name=""/>
              <p:cNvSpPr/>
              <p:nvPr/>
            </p:nvSpPr>
            <p:spPr>
              <a:xfrm>
                <a:off x="533520" y="4495680"/>
                <a:ext cx="251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11. Immateriális java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12-15. Tárgyi eszközö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533520" y="4952880"/>
                <a:ext cx="2361960" cy="761760"/>
                <a:chOff x="533520" y="4952880"/>
                <a:chExt cx="2361960" cy="7617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33520" y="4952880"/>
                  <a:ext cx="2361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680480" y="4952880"/>
                  <a:ext cx="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2057400" y="5028840"/>
              <a:ext cx="5078520" cy="761760"/>
              <a:chOff x="2057400" y="5028840"/>
              <a:chExt cx="5078520" cy="7617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2057400" y="5028840"/>
                <a:ext cx="5078520" cy="761760"/>
                <a:chOff x="2057400" y="5028840"/>
                <a:chExt cx="5078520" cy="7617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448000" y="5028840"/>
                  <a:ext cx="42976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448000" y="5790600"/>
                  <a:ext cx="42976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6745680" y="5028840"/>
                  <a:ext cx="390240" cy="760680"/>
                  <a:chOff x="6745680" y="5028840"/>
                  <a:chExt cx="390240" cy="7606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6745680" y="5028840"/>
                    <a:ext cx="390240" cy="3805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>
                    <a:off x="6745680" y="5409000"/>
                    <a:ext cx="390240" cy="3805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2057400" y="5028840"/>
                  <a:ext cx="390240" cy="760680"/>
                  <a:chOff x="2057400" y="5028840"/>
                  <a:chExt cx="390240" cy="7606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>
                    <a:off x="2057400" y="5028840"/>
                    <a:ext cx="390240" cy="3805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2057400" y="5409000"/>
                    <a:ext cx="390240" cy="3805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1" name=""/>
              <p:cNvSpPr/>
              <p:nvPr/>
            </p:nvSpPr>
            <p:spPr>
              <a:xfrm>
                <a:off x="2344680" y="5087160"/>
                <a:ext cx="469620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Értékesített eszközök könyv szerinti érték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Hiányzó, megsemmisült eszközök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könyv szerinti érték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Terven felüli értékcsökkenési leírá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762120" y="5638680"/>
            <a:ext cx="6399720" cy="1141200"/>
            <a:chOff x="762120" y="5638680"/>
            <a:chExt cx="6399720" cy="1141200"/>
          </a:xfrm>
        </p:grpSpPr>
        <p:grpSp>
          <p:nvGrpSpPr>
            <p:cNvPr id="763" name=""/>
            <p:cNvGrpSpPr/>
            <p:nvPr/>
          </p:nvGrpSpPr>
          <p:grpSpPr>
            <a:xfrm>
              <a:off x="762120" y="5638680"/>
              <a:ext cx="1879560" cy="971640"/>
              <a:chOff x="762120" y="5638680"/>
              <a:chExt cx="1879560" cy="971640"/>
            </a:xfrm>
          </p:grpSpPr>
          <p:sp>
            <p:nvSpPr>
              <p:cNvPr id="764" name=""/>
              <p:cNvSpPr/>
              <p:nvPr/>
            </p:nvSpPr>
            <p:spPr>
              <a:xfrm>
                <a:off x="762120" y="5638680"/>
                <a:ext cx="17524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2. Készlete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5" name=""/>
              <p:cNvGrpSpPr/>
              <p:nvPr/>
            </p:nvGrpSpPr>
            <p:grpSpPr>
              <a:xfrm>
                <a:off x="762120" y="5943600"/>
                <a:ext cx="1879560" cy="666720"/>
                <a:chOff x="762120" y="5943600"/>
                <a:chExt cx="1879560" cy="666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762120" y="5943600"/>
                  <a:ext cx="1879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74720" y="5943600"/>
                  <a:ext cx="0" cy="66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2057400" y="6032520"/>
              <a:ext cx="5104440" cy="747360"/>
              <a:chOff x="2057400" y="6032520"/>
              <a:chExt cx="5104440" cy="7473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2057400" y="6032520"/>
                <a:ext cx="5104440" cy="730800"/>
                <a:chOff x="2057400" y="6032520"/>
                <a:chExt cx="5104440" cy="7308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2450160" y="6032520"/>
                  <a:ext cx="43192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450160" y="6763320"/>
                  <a:ext cx="431928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"/>
                <p:cNvGrpSpPr/>
                <p:nvPr/>
              </p:nvGrpSpPr>
              <p:grpSpPr>
                <a:xfrm>
                  <a:off x="6769440" y="6032520"/>
                  <a:ext cx="392400" cy="730080"/>
                  <a:chOff x="6769440" y="6032520"/>
                  <a:chExt cx="392400" cy="7300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6769440" y="6032520"/>
                    <a:ext cx="392400" cy="365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V="1">
                    <a:off x="6769440" y="6397560"/>
                    <a:ext cx="392400" cy="365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2057400" y="6032520"/>
                  <a:ext cx="392400" cy="730080"/>
                  <a:chOff x="2057400" y="6032520"/>
                  <a:chExt cx="392400" cy="73008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flipH="1">
                    <a:off x="2057400" y="6032520"/>
                    <a:ext cx="392400" cy="365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2057400" y="6397560"/>
                    <a:ext cx="392400" cy="36504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8" name=""/>
              <p:cNvSpPr/>
              <p:nvPr/>
            </p:nvSpPr>
            <p:spPr>
              <a:xfrm>
                <a:off x="2346120" y="6089760"/>
                <a:ext cx="471996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Hiányzó, megsemmisült készletek, köny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szerinti érték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Értékveszté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Bookman Old Style"/>
                  </a:rPr>
                  <a:t>Veszteség jellegű leltárértékelési különböz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1625760" y="76320"/>
            <a:ext cx="7365960" cy="1371240"/>
            <a:chOff x="1625760" y="76320"/>
            <a:chExt cx="7365960" cy="1371240"/>
          </a:xfrm>
        </p:grpSpPr>
        <p:grpSp>
          <p:nvGrpSpPr>
            <p:cNvPr id="780" name=""/>
            <p:cNvGrpSpPr/>
            <p:nvPr/>
          </p:nvGrpSpPr>
          <p:grpSpPr>
            <a:xfrm>
              <a:off x="2514600" y="1020600"/>
              <a:ext cx="4495320" cy="426960"/>
              <a:chOff x="2514600" y="1020600"/>
              <a:chExt cx="4495320" cy="426960"/>
            </a:xfrm>
          </p:grpSpPr>
          <p:sp>
            <p:nvSpPr>
              <p:cNvPr id="781" name=""/>
              <p:cNvSpPr/>
              <p:nvPr/>
            </p:nvSpPr>
            <p:spPr>
              <a:xfrm>
                <a:off x="4839840" y="1020600"/>
                <a:ext cx="0" cy="21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514600" y="1234080"/>
                <a:ext cx="449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514600" y="1234080"/>
                <a:ext cx="0" cy="21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09920" y="1234080"/>
                <a:ext cx="0" cy="21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8128080" y="76320"/>
              <a:ext cx="863640" cy="33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25760" y="465120"/>
              <a:ext cx="6298920" cy="6112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NZÜGYI MŰVELETEK EREDMÉNY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029200" y="1447920"/>
            <a:ext cx="4038480" cy="5246640"/>
            <a:chOff x="5029200" y="1447920"/>
            <a:chExt cx="4038480" cy="5246640"/>
          </a:xfrm>
        </p:grpSpPr>
        <p:sp>
          <p:nvSpPr>
            <p:cNvPr id="788" name=""/>
            <p:cNvSpPr/>
            <p:nvPr/>
          </p:nvSpPr>
          <p:spPr>
            <a:xfrm>
              <a:off x="5105520" y="1987560"/>
              <a:ext cx="3962160" cy="47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BEFEKTETETT PÉNZÜGYI ESZ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KÖZÖK ÁRFOLYAMVESZT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n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ad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FIZETENDŐ KAMATOK ÉS K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MATJELLEGŰ 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n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ad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RÉSZESEDÉSEK, ÉRTÉK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PAPÍROK, BANKBETÉ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RTÉKVESZTÉ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PÉNZÜGYI MŰVELETEK EGYÉ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RÁFORDÍTÁS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29200" y="1447920"/>
              <a:ext cx="396252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RÁFORDÍTÁSO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28600" y="1447920"/>
            <a:ext cx="4648320" cy="5238360"/>
            <a:chOff x="228600" y="1447920"/>
            <a:chExt cx="4648320" cy="5238360"/>
          </a:xfrm>
        </p:grpSpPr>
        <p:sp>
          <p:nvSpPr>
            <p:cNvPr id="791" name=""/>
            <p:cNvSpPr/>
            <p:nvPr/>
          </p:nvSpPr>
          <p:spPr>
            <a:xfrm>
              <a:off x="228600" y="1968480"/>
              <a:ext cx="4495680" cy="47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KAPOTT (JÁRÓ) OSZTALÉK, RÉSZES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D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RÉSZESEDÉSEK ÉRTÉKESÍTÉSÉNE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ÁRFOLYAMNYER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BEFEKTETETT PÉNZÜGYI ESZKÖZÖ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KAMATAI, ÁRFOLYAMNYER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EGYÉB KAPOTT (JÁRÓ) KAMATO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ÉS KAMATJELLEGŰ BEV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PÉNZÜGYI MŰVELETEK EGYÉ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BEVÉTEL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876920" y="1905120"/>
              <a:ext cx="0" cy="457200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144792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BEVÉT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152280" y="171360"/>
            <a:ext cx="8788680" cy="4250880"/>
            <a:chOff x="152280" y="171360"/>
            <a:chExt cx="8788680" cy="4250880"/>
          </a:xfrm>
        </p:grpSpPr>
        <p:sp>
          <p:nvSpPr>
            <p:cNvPr id="795" name=""/>
            <p:cNvSpPr/>
            <p:nvPr/>
          </p:nvSpPr>
          <p:spPr>
            <a:xfrm>
              <a:off x="8153280" y="171360"/>
              <a:ext cx="78768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152280" y="1219320"/>
              <a:ext cx="4343400" cy="3202920"/>
              <a:chOff x="152280" y="1219320"/>
              <a:chExt cx="4343400" cy="3202920"/>
            </a:xfrm>
          </p:grpSpPr>
          <p:sp>
            <p:nvSpPr>
              <p:cNvPr id="797" name=""/>
              <p:cNvSpPr/>
              <p:nvPr/>
            </p:nvSpPr>
            <p:spPr>
              <a:xfrm>
                <a:off x="152280" y="1219320"/>
                <a:ext cx="4114800" cy="761760"/>
              </a:xfrm>
              <a:prstGeom prst="flowChartAlternateProcess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APOTT (JÁRÓ) OSZTALÉK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RÉSZESED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2346480"/>
                <a:ext cx="4343400" cy="20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tulajdoni részesedést jelentő befektetés után kapott, az adó-zott eredményből járó összeg.   (a kamatozó részvény után járó kamat is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4572000" y="1219320"/>
            <a:ext cx="4419720" cy="3504960"/>
            <a:chOff x="4572000" y="1219320"/>
            <a:chExt cx="4419720" cy="3504960"/>
          </a:xfrm>
        </p:grpSpPr>
        <p:grpSp>
          <p:nvGrpSpPr>
            <p:cNvPr id="800" name=""/>
            <p:cNvGrpSpPr/>
            <p:nvPr/>
          </p:nvGrpSpPr>
          <p:grpSpPr>
            <a:xfrm>
              <a:off x="4724280" y="1238400"/>
              <a:ext cx="4267440" cy="3180600"/>
              <a:chOff x="4724280" y="1238400"/>
              <a:chExt cx="4267440" cy="3180600"/>
            </a:xfrm>
          </p:grpSpPr>
          <p:sp>
            <p:nvSpPr>
              <p:cNvPr id="801" name=""/>
              <p:cNvSpPr/>
              <p:nvPr/>
            </p:nvSpPr>
            <p:spPr>
              <a:xfrm>
                <a:off x="4800600" y="2343240"/>
                <a:ext cx="4114800" cy="20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BEFEKTETETT pénzügyi eszközök között lévő TULAJ-DONI RÉSZESEDÉST jelentő befektetés értékesítésekor el-ért nyereség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724280" y="1238400"/>
                <a:ext cx="4267440" cy="74268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RÉSZESEDÉS ÉRTÉKESÍTÉSÉNEK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ÁRFOLYAMNYERESÉ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4572000" y="1219320"/>
              <a:ext cx="0" cy="350496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762120" y="76320"/>
            <a:ext cx="8229600" cy="1257120"/>
            <a:chOff x="762120" y="76320"/>
            <a:chExt cx="8229600" cy="1257120"/>
          </a:xfrm>
        </p:grpSpPr>
        <p:sp>
          <p:nvSpPr>
            <p:cNvPr id="805" name=""/>
            <p:cNvSpPr/>
            <p:nvPr/>
          </p:nvSpPr>
          <p:spPr>
            <a:xfrm>
              <a:off x="8153280" y="76320"/>
              <a:ext cx="83844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2120" y="609480"/>
              <a:ext cx="7543800" cy="7239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APOTT OSZTALÉK, RÉSZESEDÉS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80880" y="2133720"/>
            <a:ext cx="8153280" cy="4190400"/>
            <a:chOff x="380880" y="2133720"/>
            <a:chExt cx="8153280" cy="4190400"/>
          </a:xfrm>
        </p:grpSpPr>
        <p:sp>
          <p:nvSpPr>
            <p:cNvPr id="808" name=""/>
            <p:cNvSpPr/>
            <p:nvPr/>
          </p:nvSpPr>
          <p:spPr>
            <a:xfrm flipH="1">
              <a:off x="4494960" y="2379600"/>
              <a:ext cx="4038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8. Pénzeszközö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4952880" y="2666880"/>
              <a:ext cx="3200040" cy="1371600"/>
              <a:chOff x="4952880" y="2666880"/>
              <a:chExt cx="3200040" cy="1371600"/>
            </a:xfrm>
          </p:grpSpPr>
          <p:sp>
            <p:nvSpPr>
              <p:cNvPr id="810" name=""/>
              <p:cNvSpPr/>
              <p:nvPr/>
            </p:nvSpPr>
            <p:spPr>
              <a:xfrm>
                <a:off x="4952880" y="2666880"/>
                <a:ext cx="3200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97640" y="2666880"/>
                <a:ext cx="0" cy="137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380880" y="2590920"/>
              <a:ext cx="3352680" cy="3733200"/>
              <a:chOff x="380880" y="2590920"/>
              <a:chExt cx="3352680" cy="3733200"/>
            </a:xfrm>
          </p:grpSpPr>
          <p:sp>
            <p:nvSpPr>
              <p:cNvPr id="813" name=""/>
              <p:cNvSpPr/>
              <p:nvPr/>
            </p:nvSpPr>
            <p:spPr>
              <a:xfrm>
                <a:off x="380880" y="2590920"/>
                <a:ext cx="335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99080" y="2590920"/>
                <a:ext cx="0" cy="37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 flipH="1">
              <a:off x="685080" y="2133720"/>
              <a:ext cx="3809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971. Kapott (járó) osztalé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s részesed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209680" y="2971800"/>
              <a:ext cx="3979440" cy="1523880"/>
              <a:chOff x="2209680" y="2971800"/>
              <a:chExt cx="3979440" cy="1523880"/>
            </a:xfrm>
          </p:grpSpPr>
          <p:sp>
            <p:nvSpPr>
              <p:cNvPr id="817" name=""/>
              <p:cNvSpPr/>
              <p:nvPr/>
            </p:nvSpPr>
            <p:spPr>
              <a:xfrm>
                <a:off x="2835360" y="2971800"/>
                <a:ext cx="26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66960" y="3807000"/>
                <a:ext cx="183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5524560" y="2971800"/>
                <a:ext cx="664560" cy="834120"/>
                <a:chOff x="5524560" y="2971800"/>
                <a:chExt cx="664560" cy="8341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5524560" y="2971800"/>
                  <a:ext cx="66456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5524560" y="3388680"/>
                  <a:ext cx="66456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"/>
              <p:cNvSpPr/>
              <p:nvPr/>
            </p:nvSpPr>
            <p:spPr>
              <a:xfrm flipH="1">
                <a:off x="2941560" y="2971800"/>
                <a:ext cx="2975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Kapott osztalék, ha 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pénzügyi rendezés 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mérleg fordulónapjái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209680" y="2971800"/>
                <a:ext cx="625680" cy="14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280680" y="3540240"/>
                <a:ext cx="2004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cc0000"/>
                    </a:solidFill>
                    <a:latin typeface="Bookman Old Style"/>
                  </a:rPr>
                  <a:t>MEGTÖRTÉN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57600" y="380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"/>
          <p:cNvGrpSpPr/>
          <p:nvPr/>
        </p:nvGrpSpPr>
        <p:grpSpPr>
          <a:xfrm>
            <a:off x="2209680" y="4267080"/>
            <a:ext cx="6705360" cy="2057400"/>
            <a:chOff x="2209680" y="4267080"/>
            <a:chExt cx="6705360" cy="2057400"/>
          </a:xfrm>
        </p:grpSpPr>
        <p:sp>
          <p:nvSpPr>
            <p:cNvPr id="827" name=""/>
            <p:cNvSpPr/>
            <p:nvPr/>
          </p:nvSpPr>
          <p:spPr>
            <a:xfrm flipH="1">
              <a:off x="4647600" y="4267080"/>
              <a:ext cx="4267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68. Különféle egyéb követelés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800600" y="4572000"/>
              <a:ext cx="3504960" cy="1752480"/>
              <a:chOff x="4800600" y="4572000"/>
              <a:chExt cx="3504960" cy="1752480"/>
            </a:xfrm>
          </p:grpSpPr>
          <p:sp>
            <p:nvSpPr>
              <p:cNvPr id="829" name=""/>
              <p:cNvSpPr/>
              <p:nvPr/>
            </p:nvSpPr>
            <p:spPr>
              <a:xfrm>
                <a:off x="4800600" y="4572000"/>
                <a:ext cx="3504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492600" y="4572000"/>
                <a:ext cx="0" cy="175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209680" y="4419720"/>
              <a:ext cx="4038120" cy="1752480"/>
              <a:chOff x="2209680" y="4419720"/>
              <a:chExt cx="4038120" cy="1752480"/>
            </a:xfrm>
          </p:grpSpPr>
          <p:sp>
            <p:nvSpPr>
              <p:cNvPr id="832" name=""/>
              <p:cNvSpPr/>
              <p:nvPr/>
            </p:nvSpPr>
            <p:spPr>
              <a:xfrm>
                <a:off x="3666960" y="5337000"/>
                <a:ext cx="19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000240" y="6172200"/>
                <a:ext cx="264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09680" y="4470480"/>
                <a:ext cx="790560" cy="170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481120" y="5442120"/>
                <a:ext cx="3608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Járó osztalék, ha a pénzügyi rendezé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3300"/>
                    </a:solidFill>
                    <a:latin typeface="Bookman Old Style"/>
                  </a:rPr>
                  <a:t>NEM TÖRTÉNT ME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5583240" y="5337000"/>
                <a:ext cx="664560" cy="834120"/>
                <a:chOff x="5583240" y="5337000"/>
                <a:chExt cx="664560" cy="83412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5583240" y="5337000"/>
                  <a:ext cx="66456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5583240" y="5753880"/>
                  <a:ext cx="66456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3657600" y="4419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762120" y="190440"/>
            <a:ext cx="8229600" cy="1333440"/>
            <a:chOff x="762120" y="190440"/>
            <a:chExt cx="8229600" cy="1333440"/>
          </a:xfrm>
        </p:grpSpPr>
        <p:sp>
          <p:nvSpPr>
            <p:cNvPr id="841" name=""/>
            <p:cNvSpPr/>
            <p:nvPr/>
          </p:nvSpPr>
          <p:spPr>
            <a:xfrm>
              <a:off x="8153280" y="190440"/>
              <a:ext cx="83844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2120" y="609480"/>
              <a:ext cx="7619760" cy="9144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RÉSZESEDÉSEK ÉRTÉKESÍTÉSÉN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ÁRFOLYAMNYERESÉGE VAGY ÁRFOLYAMVESZTESÉ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800600" y="2349360"/>
            <a:ext cx="3716280" cy="1541160"/>
            <a:chOff x="4800600" y="2349360"/>
            <a:chExt cx="3716280" cy="1541160"/>
          </a:xfrm>
        </p:grpSpPr>
        <p:grpSp>
          <p:nvGrpSpPr>
            <p:cNvPr id="844" name=""/>
            <p:cNvGrpSpPr/>
            <p:nvPr/>
          </p:nvGrpSpPr>
          <p:grpSpPr>
            <a:xfrm>
              <a:off x="4800600" y="2911320"/>
              <a:ext cx="2514600" cy="699840"/>
              <a:chOff x="4800600" y="2911320"/>
              <a:chExt cx="2514600" cy="69984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800600" y="2911320"/>
                <a:ext cx="2433600" cy="699840"/>
                <a:chOff x="4800600" y="2911320"/>
                <a:chExt cx="2433600" cy="6998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987800" y="291132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987800" y="361116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047000" y="2911320"/>
                  <a:ext cx="187200" cy="698760"/>
                  <a:chOff x="7047000" y="2911320"/>
                  <a:chExt cx="187200" cy="69876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7047000" y="2911320"/>
                    <a:ext cx="1872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V="1">
                    <a:off x="7047000" y="3260520"/>
                    <a:ext cx="1872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4800600" y="2911320"/>
                  <a:ext cx="187200" cy="698760"/>
                  <a:chOff x="4800600" y="2911320"/>
                  <a:chExt cx="187200" cy="6987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flipH="1">
                    <a:off x="4800600" y="2911320"/>
                    <a:ext cx="1872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 flipV="1">
                    <a:off x="4800600" y="3260520"/>
                    <a:ext cx="1872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4" name=""/>
              <p:cNvSpPr/>
              <p:nvPr/>
            </p:nvSpPr>
            <p:spPr>
              <a:xfrm>
                <a:off x="4800600" y="3119760"/>
                <a:ext cx="2514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ladási ár (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6172200" y="2349360"/>
              <a:ext cx="23446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8. Pénzeszközö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6275520" y="2638440"/>
              <a:ext cx="2182320" cy="1252080"/>
              <a:chOff x="6275520" y="2638440"/>
              <a:chExt cx="2182320" cy="1252080"/>
            </a:xfrm>
          </p:grpSpPr>
          <p:sp>
            <p:nvSpPr>
              <p:cNvPr id="857" name=""/>
              <p:cNvSpPr/>
              <p:nvPr/>
            </p:nvSpPr>
            <p:spPr>
              <a:xfrm>
                <a:off x="7366320" y="2638440"/>
                <a:ext cx="0" cy="125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75520" y="2638440"/>
                <a:ext cx="218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609480" y="2209680"/>
            <a:ext cx="5334120" cy="3427560"/>
            <a:chOff x="609480" y="2209680"/>
            <a:chExt cx="5334120" cy="3427560"/>
          </a:xfrm>
        </p:grpSpPr>
        <p:grpSp>
          <p:nvGrpSpPr>
            <p:cNvPr id="860" name=""/>
            <p:cNvGrpSpPr/>
            <p:nvPr/>
          </p:nvGrpSpPr>
          <p:grpSpPr>
            <a:xfrm>
              <a:off x="685800" y="2638440"/>
              <a:ext cx="2425320" cy="1112400"/>
              <a:chOff x="685800" y="2638440"/>
              <a:chExt cx="2425320" cy="1112400"/>
            </a:xfrm>
          </p:grpSpPr>
          <p:sp>
            <p:nvSpPr>
              <p:cNvPr id="861" name=""/>
              <p:cNvSpPr/>
              <p:nvPr/>
            </p:nvSpPr>
            <p:spPr>
              <a:xfrm>
                <a:off x="1897920" y="2638440"/>
                <a:ext cx="0" cy="111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5800" y="2638440"/>
                <a:ext cx="242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685800" y="2209680"/>
              <a:ext cx="23446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7. Tartós részesedés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93920" y="2209680"/>
              <a:ext cx="27496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68. Értékpapír elszámolási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3276720" y="2638440"/>
              <a:ext cx="2587320" cy="2998800"/>
              <a:chOff x="3276720" y="2638440"/>
              <a:chExt cx="2587320" cy="2998800"/>
            </a:xfrm>
          </p:grpSpPr>
          <p:sp>
            <p:nvSpPr>
              <p:cNvPr id="866" name=""/>
              <p:cNvSpPr/>
              <p:nvPr/>
            </p:nvSpPr>
            <p:spPr>
              <a:xfrm>
                <a:off x="4569840" y="2638440"/>
                <a:ext cx="0" cy="299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76720" y="2638440"/>
                <a:ext cx="2587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80720" y="2911320"/>
              <a:ext cx="2591280" cy="699840"/>
              <a:chOff x="1980720" y="2911320"/>
              <a:chExt cx="2591280" cy="699840"/>
            </a:xfrm>
          </p:grpSpPr>
          <p:grpSp>
            <p:nvGrpSpPr>
              <p:cNvPr id="869" name=""/>
              <p:cNvGrpSpPr/>
              <p:nvPr/>
            </p:nvGrpSpPr>
            <p:grpSpPr>
              <a:xfrm>
                <a:off x="1980720" y="2911320"/>
                <a:ext cx="2507400" cy="699840"/>
                <a:chOff x="1980720" y="2911320"/>
                <a:chExt cx="2507400" cy="6998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2173680" y="2911320"/>
                  <a:ext cx="212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173680" y="3611160"/>
                  <a:ext cx="2121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4295520" y="2911320"/>
                  <a:ext cx="192600" cy="698760"/>
                  <a:chOff x="4295520" y="2911320"/>
                  <a:chExt cx="192600" cy="6987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4295520" y="29113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>
                    <a:off x="4295520" y="32605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1980720" y="2911320"/>
                  <a:ext cx="192600" cy="698760"/>
                  <a:chOff x="1980720" y="2911320"/>
                  <a:chExt cx="192600" cy="6987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flipH="1">
                    <a:off x="1980720" y="29113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 flipV="1">
                    <a:off x="1980720" y="32605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8" name=""/>
              <p:cNvSpPr/>
              <p:nvPr/>
            </p:nvSpPr>
            <p:spPr>
              <a:xfrm>
                <a:off x="1981080" y="3047040"/>
                <a:ext cx="259092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önyv szerinti érték (K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609480" y="2770200"/>
              <a:ext cx="1143000" cy="4190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647960" y="4076640"/>
            <a:ext cx="4343760" cy="1943280"/>
            <a:chOff x="4647960" y="4076640"/>
            <a:chExt cx="4343760" cy="1943280"/>
          </a:xfrm>
        </p:grpSpPr>
        <p:sp>
          <p:nvSpPr>
            <p:cNvPr id="881" name=""/>
            <p:cNvSpPr/>
            <p:nvPr/>
          </p:nvSpPr>
          <p:spPr>
            <a:xfrm>
              <a:off x="5943600" y="4076640"/>
              <a:ext cx="30481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Bookman Old Style"/>
                </a:rPr>
                <a:t>871. Befektetett pénzügyi eszközök árf.veszt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6019920" y="4519440"/>
              <a:ext cx="2742840" cy="1118880"/>
              <a:chOff x="6019920" y="4519440"/>
              <a:chExt cx="2742840" cy="1118880"/>
            </a:xfrm>
          </p:grpSpPr>
          <p:sp>
            <p:nvSpPr>
              <p:cNvPr id="883" name=""/>
              <p:cNvSpPr/>
              <p:nvPr/>
            </p:nvSpPr>
            <p:spPr>
              <a:xfrm>
                <a:off x="7390800" y="4519440"/>
                <a:ext cx="0" cy="11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19920" y="45194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4647960" y="4729320"/>
              <a:ext cx="2667240" cy="699480"/>
              <a:chOff x="4647960" y="4729320"/>
              <a:chExt cx="2667240" cy="6994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4647960" y="4729320"/>
                <a:ext cx="2667240" cy="699480"/>
                <a:chOff x="4647960" y="4729320"/>
                <a:chExt cx="2667240" cy="699480"/>
              </a:xfrm>
            </p:grpSpPr>
            <p:grpSp>
              <p:nvGrpSpPr>
                <p:cNvPr id="887" name=""/>
                <p:cNvGrpSpPr/>
                <p:nvPr/>
              </p:nvGrpSpPr>
              <p:grpSpPr>
                <a:xfrm>
                  <a:off x="4647960" y="4729320"/>
                  <a:ext cx="2581200" cy="699480"/>
                  <a:chOff x="4647960" y="4729320"/>
                  <a:chExt cx="2581200" cy="69948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4846680" y="4729320"/>
                    <a:ext cx="218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4846680" y="5428800"/>
                    <a:ext cx="218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7030800" y="4729320"/>
                    <a:ext cx="198360" cy="698760"/>
                    <a:chOff x="7030800" y="4729320"/>
                    <a:chExt cx="198360" cy="69876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7030800" y="4729320"/>
                      <a:ext cx="198360" cy="34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 flipV="1">
                      <a:off x="7030800" y="5078520"/>
                      <a:ext cx="198360" cy="34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4647960" y="4729320"/>
                    <a:ext cx="198360" cy="698760"/>
                    <a:chOff x="4647960" y="4729320"/>
                    <a:chExt cx="198360" cy="69876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 flipH="1">
                      <a:off x="4647960" y="4729320"/>
                      <a:ext cx="198360" cy="34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flipH="1" flipV="1">
                      <a:off x="4647960" y="5078520"/>
                      <a:ext cx="198360" cy="34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6" name=""/>
                <p:cNvSpPr/>
                <p:nvPr/>
              </p:nvSpPr>
              <p:spPr>
                <a:xfrm>
                  <a:off x="4648320" y="4864320"/>
                  <a:ext cx="2666880" cy="31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4719960" y="4863600"/>
                <a:ext cx="252288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Árfolyamveszteség, ha  E &lt;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 flipV="1">
              <a:off x="4648320" y="5410080"/>
              <a:ext cx="1447560" cy="609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04920" y="4076640"/>
            <a:ext cx="4876560" cy="2400480"/>
            <a:chOff x="304920" y="4076640"/>
            <a:chExt cx="4876560" cy="2400480"/>
          </a:xfrm>
        </p:grpSpPr>
        <p:grpSp>
          <p:nvGrpSpPr>
            <p:cNvPr id="900" name=""/>
            <p:cNvGrpSpPr/>
            <p:nvPr/>
          </p:nvGrpSpPr>
          <p:grpSpPr>
            <a:xfrm>
              <a:off x="380880" y="4518000"/>
              <a:ext cx="2971440" cy="1120320"/>
              <a:chOff x="380880" y="4518000"/>
              <a:chExt cx="2971440" cy="1120320"/>
            </a:xfrm>
          </p:grpSpPr>
          <p:sp>
            <p:nvSpPr>
              <p:cNvPr id="901" name=""/>
              <p:cNvSpPr/>
              <p:nvPr/>
            </p:nvSpPr>
            <p:spPr>
              <a:xfrm>
                <a:off x="1866240" y="4518000"/>
                <a:ext cx="0" cy="11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0880" y="4518000"/>
                <a:ext cx="29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304920" y="4076640"/>
              <a:ext cx="33526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Bookman Old Style"/>
                </a:rPr>
                <a:t>972. Részesedések értékesí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Bookman Old Style"/>
                </a:rPr>
                <a:t>tésének árfolyamnyer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1904760" y="4729320"/>
              <a:ext cx="2590920" cy="699480"/>
              <a:chOff x="1904760" y="4729320"/>
              <a:chExt cx="2590920" cy="69948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1904760" y="4729320"/>
                <a:ext cx="2507040" cy="699480"/>
                <a:chOff x="1904760" y="4729320"/>
                <a:chExt cx="2507040" cy="69948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097720" y="4729320"/>
                  <a:ext cx="212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097720" y="5428800"/>
                  <a:ext cx="212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4219200" y="4729320"/>
                  <a:ext cx="192600" cy="698760"/>
                  <a:chOff x="4219200" y="4729320"/>
                  <a:chExt cx="192600" cy="69876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4219200" y="47293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V="1">
                    <a:off x="4219200" y="50785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1904760" y="4729320"/>
                  <a:ext cx="192600" cy="698760"/>
                  <a:chOff x="1904760" y="4729320"/>
                  <a:chExt cx="192600" cy="69876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 flipH="1">
                    <a:off x="1904760" y="47293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>
                    <a:off x="1904760" y="5078520"/>
                    <a:ext cx="192600" cy="34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4" name=""/>
              <p:cNvSpPr/>
              <p:nvPr/>
            </p:nvSpPr>
            <p:spPr>
              <a:xfrm>
                <a:off x="1905120" y="4865040"/>
                <a:ext cx="259056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Árfolyamnyereség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ha  E &gt;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4038480" y="6019920"/>
              <a:ext cx="114300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3200400" y="5410080"/>
              <a:ext cx="1447920" cy="609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0" dur="1" fill="hold"/>
                                  <p:tgtEl>
                                    <p:spTgt spid="8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1371600" y="76320"/>
            <a:ext cx="7620120" cy="952560"/>
            <a:chOff x="1371600" y="76320"/>
            <a:chExt cx="7620120" cy="952560"/>
          </a:xfrm>
        </p:grpSpPr>
        <p:sp>
          <p:nvSpPr>
            <p:cNvPr id="918" name=""/>
            <p:cNvSpPr/>
            <p:nvPr/>
          </p:nvSpPr>
          <p:spPr>
            <a:xfrm>
              <a:off x="8077320" y="76320"/>
              <a:ext cx="914400" cy="30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71600" y="228600"/>
              <a:ext cx="6324480" cy="8002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FEKTETETT PÉNZÜGYI 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(KAMATOZÓ ÉRTÉKPAPÍR) KAM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52280" y="3505320"/>
            <a:ext cx="7143480" cy="2970720"/>
            <a:chOff x="152280" y="3505320"/>
            <a:chExt cx="7143480" cy="2970720"/>
          </a:xfrm>
        </p:grpSpPr>
        <p:grpSp>
          <p:nvGrpSpPr>
            <p:cNvPr id="921" name=""/>
            <p:cNvGrpSpPr/>
            <p:nvPr/>
          </p:nvGrpSpPr>
          <p:grpSpPr>
            <a:xfrm>
              <a:off x="2689200" y="4113360"/>
              <a:ext cx="4606560" cy="385200"/>
              <a:chOff x="2689200" y="4113360"/>
              <a:chExt cx="4606560" cy="38520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2689200" y="4113360"/>
                <a:ext cx="4457880" cy="368280"/>
                <a:chOff x="2689200" y="4113360"/>
                <a:chExt cx="4457880" cy="3682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3032280" y="4113360"/>
                  <a:ext cx="377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032280" y="4481640"/>
                  <a:ext cx="377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5" name=""/>
                <p:cNvGrpSpPr/>
                <p:nvPr/>
              </p:nvGrpSpPr>
              <p:grpSpPr>
                <a:xfrm>
                  <a:off x="6804360" y="4113360"/>
                  <a:ext cx="342720" cy="367560"/>
                  <a:chOff x="6804360" y="4113360"/>
                  <a:chExt cx="342720" cy="36756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6804360" y="4113360"/>
                    <a:ext cx="34272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V="1">
                    <a:off x="6804360" y="4296960"/>
                    <a:ext cx="34272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2689200" y="4113360"/>
                  <a:ext cx="342720" cy="367560"/>
                  <a:chOff x="2689200" y="4113360"/>
                  <a:chExt cx="342720" cy="367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 flipH="1">
                    <a:off x="2689200" y="4113360"/>
                    <a:ext cx="34272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 flipV="1">
                    <a:off x="2689200" y="4296960"/>
                    <a:ext cx="34272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1" name=""/>
              <p:cNvSpPr/>
              <p:nvPr/>
            </p:nvSpPr>
            <p:spPr>
              <a:xfrm>
                <a:off x="2689200" y="4185360"/>
                <a:ext cx="46065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apott ka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50880" y="3962520"/>
              <a:ext cx="3310920" cy="2513520"/>
              <a:chOff x="650880" y="3962520"/>
              <a:chExt cx="3310920" cy="2513520"/>
            </a:xfrm>
          </p:grpSpPr>
          <p:sp>
            <p:nvSpPr>
              <p:cNvPr id="933" name=""/>
              <p:cNvSpPr/>
              <p:nvPr/>
            </p:nvSpPr>
            <p:spPr>
              <a:xfrm>
                <a:off x="2305800" y="3962520"/>
                <a:ext cx="0" cy="251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50880" y="3962520"/>
                <a:ext cx="331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152280" y="3505320"/>
              <a:ext cx="426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9732. Kamatozó értékpapí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kapott (járó) kama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152280" y="1295280"/>
            <a:ext cx="8504280" cy="3124440"/>
            <a:chOff x="152280" y="1295280"/>
            <a:chExt cx="8504280" cy="3124440"/>
          </a:xfrm>
        </p:grpSpPr>
        <p:sp>
          <p:nvSpPr>
            <p:cNvPr id="937" name=""/>
            <p:cNvSpPr/>
            <p:nvPr/>
          </p:nvSpPr>
          <p:spPr>
            <a:xfrm>
              <a:off x="152280" y="1295280"/>
              <a:ext cx="425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9734. Kamatozó értékpapí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vételárában lévő kam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07120" y="1447920"/>
              <a:ext cx="24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8. Pénz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6330960" y="1733400"/>
              <a:ext cx="2279160" cy="157320"/>
              <a:chOff x="6330960" y="1733400"/>
              <a:chExt cx="2279160" cy="157320"/>
            </a:xfrm>
          </p:grpSpPr>
          <p:sp>
            <p:nvSpPr>
              <p:cNvPr id="940" name=""/>
              <p:cNvSpPr/>
              <p:nvPr/>
            </p:nvSpPr>
            <p:spPr>
              <a:xfrm>
                <a:off x="7470360" y="1733400"/>
                <a:ext cx="0" cy="1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330960" y="1733400"/>
                <a:ext cx="22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1584360" y="1890720"/>
              <a:ext cx="6873120" cy="442800"/>
              <a:chOff x="1584360" y="1890720"/>
              <a:chExt cx="6873120" cy="44280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1584360" y="1890720"/>
                <a:ext cx="6779880" cy="442800"/>
                <a:chOff x="1584360" y="1890720"/>
                <a:chExt cx="6779880" cy="442800"/>
              </a:xfrm>
            </p:grpSpPr>
            <p:grpSp>
              <p:nvGrpSpPr>
                <p:cNvPr id="944" name=""/>
                <p:cNvGrpSpPr/>
                <p:nvPr/>
              </p:nvGrpSpPr>
              <p:grpSpPr>
                <a:xfrm>
                  <a:off x="1584720" y="1890720"/>
                  <a:ext cx="6560640" cy="442800"/>
                  <a:chOff x="1584720" y="1890720"/>
                  <a:chExt cx="6560640" cy="4428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2089080" y="1890720"/>
                    <a:ext cx="55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089080" y="2333520"/>
                    <a:ext cx="55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7641000" y="1890720"/>
                    <a:ext cx="504360" cy="442440"/>
                    <a:chOff x="7641000" y="1890720"/>
                    <a:chExt cx="504360" cy="44244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7641000" y="1890720"/>
                      <a:ext cx="504360" cy="22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V="1">
                      <a:off x="7641000" y="2111760"/>
                      <a:ext cx="504360" cy="22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1584720" y="1890720"/>
                    <a:ext cx="504360" cy="442440"/>
                    <a:chOff x="1584720" y="1890720"/>
                    <a:chExt cx="504360" cy="44244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>
                      <a:off x="1584720" y="1890720"/>
                      <a:ext cx="504360" cy="22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flipV="1">
                      <a:off x="1584720" y="2111760"/>
                      <a:ext cx="504360" cy="22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3" name=""/>
                <p:cNvSpPr/>
                <p:nvPr/>
              </p:nvSpPr>
              <p:spPr>
                <a:xfrm>
                  <a:off x="1584360" y="1978200"/>
                  <a:ext cx="677988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1996560" y="1940400"/>
                <a:ext cx="64609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vételárban lévő kamat (csökkentő téte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2286000" y="23335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67480" y="236232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09480" y="1752480"/>
              <a:ext cx="3391920" cy="152640"/>
              <a:chOff x="609480" y="1752480"/>
              <a:chExt cx="3391920" cy="152640"/>
            </a:xfrm>
          </p:grpSpPr>
          <p:sp>
            <p:nvSpPr>
              <p:cNvPr id="958" name=""/>
              <p:cNvSpPr/>
              <p:nvPr/>
            </p:nvSpPr>
            <p:spPr>
              <a:xfrm>
                <a:off x="2305080" y="17524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9480" y="1752480"/>
                <a:ext cx="339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0" name=""/>
          <p:cNvGrpSpPr/>
          <p:nvPr/>
        </p:nvGrpSpPr>
        <p:grpSpPr>
          <a:xfrm>
            <a:off x="2635200" y="5410080"/>
            <a:ext cx="6203880" cy="1069560"/>
            <a:chOff x="2635200" y="5410080"/>
            <a:chExt cx="6203880" cy="1069560"/>
          </a:xfrm>
        </p:grpSpPr>
        <p:sp>
          <p:nvSpPr>
            <p:cNvPr id="961" name=""/>
            <p:cNvSpPr/>
            <p:nvPr/>
          </p:nvSpPr>
          <p:spPr>
            <a:xfrm>
              <a:off x="5987880" y="5410080"/>
              <a:ext cx="285120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913. Árbevétel, egyéb kamatbevétel, egyéb bevétel elhatárol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315120" y="5961240"/>
              <a:ext cx="2279160" cy="515880"/>
              <a:chOff x="6315120" y="5961240"/>
              <a:chExt cx="2279160" cy="515880"/>
            </a:xfrm>
          </p:grpSpPr>
          <p:sp>
            <p:nvSpPr>
              <p:cNvPr id="963" name=""/>
              <p:cNvSpPr/>
              <p:nvPr/>
            </p:nvSpPr>
            <p:spPr>
              <a:xfrm>
                <a:off x="7454520" y="5961240"/>
                <a:ext cx="0" cy="51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15120" y="5961240"/>
                <a:ext cx="22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2635200" y="6093000"/>
              <a:ext cx="4682880" cy="386640"/>
              <a:chOff x="2635200" y="6093000"/>
              <a:chExt cx="4682880" cy="38664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2635560" y="6093000"/>
                <a:ext cx="4531320" cy="370800"/>
                <a:chOff x="2635560" y="6093000"/>
                <a:chExt cx="4531320" cy="3708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2983680" y="6093000"/>
                  <a:ext cx="38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983680" y="6463800"/>
                  <a:ext cx="38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"/>
                <p:cNvGrpSpPr/>
                <p:nvPr/>
              </p:nvGrpSpPr>
              <p:grpSpPr>
                <a:xfrm>
                  <a:off x="6818760" y="6093000"/>
                  <a:ext cx="348120" cy="370440"/>
                  <a:chOff x="6818760" y="6093000"/>
                  <a:chExt cx="348120" cy="37044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6818760" y="6093000"/>
                    <a:ext cx="348120" cy="18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V="1">
                    <a:off x="6818760" y="6278040"/>
                    <a:ext cx="348120" cy="18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2635560" y="6093000"/>
                  <a:ext cx="348120" cy="370440"/>
                  <a:chOff x="2635560" y="6093000"/>
                  <a:chExt cx="348120" cy="37044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 flipH="1">
                    <a:off x="2635560" y="6093000"/>
                    <a:ext cx="348120" cy="18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 flipH="1" flipV="1">
                    <a:off x="2635560" y="6278040"/>
                    <a:ext cx="348120" cy="18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5" name=""/>
              <p:cNvSpPr/>
              <p:nvPr/>
            </p:nvSpPr>
            <p:spPr>
              <a:xfrm>
                <a:off x="2635200" y="6166440"/>
                <a:ext cx="46828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Járó ka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"/>
          <p:cNvGrpSpPr/>
          <p:nvPr/>
        </p:nvGrpSpPr>
        <p:grpSpPr>
          <a:xfrm>
            <a:off x="2763720" y="4495680"/>
            <a:ext cx="5999400" cy="917280"/>
            <a:chOff x="2763720" y="4495680"/>
            <a:chExt cx="5999400" cy="917280"/>
          </a:xfrm>
        </p:grpSpPr>
        <p:grpSp>
          <p:nvGrpSpPr>
            <p:cNvPr id="977" name=""/>
            <p:cNvGrpSpPr/>
            <p:nvPr/>
          </p:nvGrpSpPr>
          <p:grpSpPr>
            <a:xfrm>
              <a:off x="2763720" y="5027760"/>
              <a:ext cx="4457520" cy="385200"/>
              <a:chOff x="2763720" y="5027760"/>
              <a:chExt cx="4457520" cy="385200"/>
            </a:xfrm>
          </p:grpSpPr>
          <p:grpSp>
            <p:nvGrpSpPr>
              <p:cNvPr id="978" name=""/>
              <p:cNvGrpSpPr/>
              <p:nvPr/>
            </p:nvGrpSpPr>
            <p:grpSpPr>
              <a:xfrm>
                <a:off x="2764080" y="5027760"/>
                <a:ext cx="4313160" cy="368280"/>
                <a:chOff x="2764080" y="5027760"/>
                <a:chExt cx="4313160" cy="36828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095640" y="5027760"/>
                  <a:ext cx="36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95640" y="5396040"/>
                  <a:ext cx="36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1" name=""/>
                <p:cNvGrpSpPr/>
                <p:nvPr/>
              </p:nvGrpSpPr>
              <p:grpSpPr>
                <a:xfrm>
                  <a:off x="6745680" y="5027760"/>
                  <a:ext cx="331560" cy="367560"/>
                  <a:chOff x="6745680" y="5027760"/>
                  <a:chExt cx="331560" cy="3675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6745680" y="5027760"/>
                    <a:ext cx="33156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6745680" y="5211360"/>
                    <a:ext cx="33156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2764080" y="5027760"/>
                  <a:ext cx="331560" cy="367560"/>
                  <a:chOff x="2764080" y="5027760"/>
                  <a:chExt cx="331560" cy="36756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H="1">
                    <a:off x="2764080" y="5027760"/>
                    <a:ext cx="33156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 flipV="1">
                    <a:off x="2764080" y="5211360"/>
                    <a:ext cx="33156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7" name=""/>
              <p:cNvSpPr/>
              <p:nvPr/>
            </p:nvSpPr>
            <p:spPr>
              <a:xfrm>
                <a:off x="2763720" y="5099760"/>
                <a:ext cx="4457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edékes ka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6315120" y="4495680"/>
              <a:ext cx="244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68. Különféle egyéb követelés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6315120" y="4952880"/>
              <a:ext cx="2279160" cy="370080"/>
              <a:chOff x="6315120" y="4952880"/>
              <a:chExt cx="2279160" cy="370080"/>
            </a:xfrm>
          </p:grpSpPr>
          <p:sp>
            <p:nvSpPr>
              <p:cNvPr id="990" name=""/>
              <p:cNvSpPr/>
              <p:nvPr/>
            </p:nvSpPr>
            <p:spPr>
              <a:xfrm>
                <a:off x="7454520" y="4952880"/>
                <a:ext cx="0" cy="37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315120" y="4952880"/>
                <a:ext cx="22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"/>
          <p:cNvGrpSpPr/>
          <p:nvPr/>
        </p:nvGrpSpPr>
        <p:grpSpPr>
          <a:xfrm>
            <a:off x="152280" y="2514600"/>
            <a:ext cx="7068960" cy="916920"/>
            <a:chOff x="152280" y="2514600"/>
            <a:chExt cx="7068960" cy="916920"/>
          </a:xfrm>
        </p:grpSpPr>
        <p:sp>
          <p:nvSpPr>
            <p:cNvPr id="993" name=""/>
            <p:cNvSpPr/>
            <p:nvPr/>
          </p:nvSpPr>
          <p:spPr>
            <a:xfrm>
              <a:off x="152280" y="2514600"/>
              <a:ext cx="422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000000"/>
                  </a:solidFill>
                  <a:latin typeface="Bookman Old Style"/>
                </a:rPr>
                <a:t>9733. Kamatozó értékpapír értéke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000000"/>
                  </a:solidFill>
                  <a:latin typeface="Bookman Old Style"/>
                </a:rPr>
                <a:t>sítéskor az eladási árban lévő kam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61880" y="2971800"/>
              <a:ext cx="3652200" cy="380880"/>
              <a:chOff x="461880" y="2971800"/>
              <a:chExt cx="3652200" cy="380880"/>
            </a:xfrm>
          </p:grpSpPr>
          <p:sp>
            <p:nvSpPr>
              <p:cNvPr id="995" name=""/>
              <p:cNvSpPr/>
              <p:nvPr/>
            </p:nvSpPr>
            <p:spPr>
              <a:xfrm>
                <a:off x="2287440" y="297180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1880" y="2971800"/>
                <a:ext cx="36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2689200" y="3046320"/>
              <a:ext cx="4532040" cy="385200"/>
              <a:chOff x="2689200" y="3046320"/>
              <a:chExt cx="4532040" cy="385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2689200" y="3046320"/>
                <a:ext cx="4385880" cy="368640"/>
                <a:chOff x="2689200" y="3046320"/>
                <a:chExt cx="4385880" cy="3686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026520" y="3046320"/>
                  <a:ext cx="37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026520" y="3414960"/>
                  <a:ext cx="37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"/>
                <p:cNvGrpSpPr/>
                <p:nvPr/>
              </p:nvGrpSpPr>
              <p:grpSpPr>
                <a:xfrm>
                  <a:off x="6738120" y="3046320"/>
                  <a:ext cx="336960" cy="368640"/>
                  <a:chOff x="6738120" y="3046320"/>
                  <a:chExt cx="336960" cy="36864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6738120" y="3046320"/>
                    <a:ext cx="33696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V="1">
                    <a:off x="6738120" y="3230640"/>
                    <a:ext cx="33696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2689200" y="3046320"/>
                  <a:ext cx="336960" cy="368640"/>
                  <a:chOff x="2689200" y="3046320"/>
                  <a:chExt cx="336960" cy="3686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>
                    <a:off x="2689200" y="3046320"/>
                    <a:ext cx="33696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 flipV="1">
                    <a:off x="2689200" y="3230640"/>
                    <a:ext cx="336960" cy="184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7" name=""/>
              <p:cNvSpPr/>
              <p:nvPr/>
            </p:nvSpPr>
            <p:spPr>
              <a:xfrm>
                <a:off x="2689200" y="3118320"/>
                <a:ext cx="45320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ladási árban lévő ka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9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838080" y="76320"/>
            <a:ext cx="8229600" cy="1143000"/>
            <a:chOff x="838080" y="76320"/>
            <a:chExt cx="8229600" cy="1143000"/>
          </a:xfrm>
        </p:grpSpPr>
        <p:sp>
          <p:nvSpPr>
            <p:cNvPr id="1009" name=""/>
            <p:cNvSpPr/>
            <p:nvPr/>
          </p:nvSpPr>
          <p:spPr>
            <a:xfrm>
              <a:off x="8305920" y="76320"/>
              <a:ext cx="761760" cy="30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38080" y="380880"/>
              <a:ext cx="7543800" cy="8384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FEKTETETT PÉNZÜGYI ESZKÖZÖ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KAMATOZÓ ÉRTÉKPAPÍ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ESÍTÉSEKOR ELSZÁMOLANDÓ EREDMÉ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876920" y="1994040"/>
            <a:ext cx="3716280" cy="1540800"/>
            <a:chOff x="4876920" y="1994040"/>
            <a:chExt cx="3716280" cy="1540800"/>
          </a:xfrm>
        </p:grpSpPr>
        <p:grpSp>
          <p:nvGrpSpPr>
            <p:cNvPr id="1012" name=""/>
            <p:cNvGrpSpPr/>
            <p:nvPr/>
          </p:nvGrpSpPr>
          <p:grpSpPr>
            <a:xfrm>
              <a:off x="4876920" y="2387520"/>
              <a:ext cx="2514600" cy="533160"/>
              <a:chOff x="4876920" y="2387520"/>
              <a:chExt cx="2514600" cy="53316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4876920" y="2387520"/>
                <a:ext cx="2433600" cy="533160"/>
                <a:chOff x="4876920" y="2387520"/>
                <a:chExt cx="2433600" cy="5331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5064120" y="238752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064120" y="2920680"/>
                  <a:ext cx="205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7123320" y="2387520"/>
                  <a:ext cx="187200" cy="532800"/>
                  <a:chOff x="7123320" y="2387520"/>
                  <a:chExt cx="187200" cy="5328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7123320" y="2387520"/>
                    <a:ext cx="18720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V="1">
                    <a:off x="7123320" y="2653920"/>
                    <a:ext cx="18720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876920" y="2387520"/>
                  <a:ext cx="187200" cy="532800"/>
                  <a:chOff x="4876920" y="2387520"/>
                  <a:chExt cx="187200" cy="53280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flipH="1">
                    <a:off x="4876920" y="2387520"/>
                    <a:ext cx="18720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 flipV="1">
                    <a:off x="4876920" y="2653920"/>
                    <a:ext cx="18720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2" name=""/>
              <p:cNvSpPr/>
              <p:nvPr/>
            </p:nvSpPr>
            <p:spPr>
              <a:xfrm>
                <a:off x="4876920" y="2546280"/>
                <a:ext cx="25146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Eladási ár (E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6248520" y="199404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8. Pénz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6351480" y="2282760"/>
              <a:ext cx="2182680" cy="1252080"/>
              <a:chOff x="6351480" y="2282760"/>
              <a:chExt cx="2182680" cy="1252080"/>
            </a:xfrm>
          </p:grpSpPr>
          <p:sp>
            <p:nvSpPr>
              <p:cNvPr id="1025" name=""/>
              <p:cNvSpPr/>
              <p:nvPr/>
            </p:nvSpPr>
            <p:spPr>
              <a:xfrm>
                <a:off x="7442640" y="2282760"/>
                <a:ext cx="0" cy="125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351480" y="2282760"/>
                <a:ext cx="218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"/>
          <p:cNvGrpSpPr/>
          <p:nvPr/>
        </p:nvGrpSpPr>
        <p:grpSpPr>
          <a:xfrm>
            <a:off x="398520" y="1828800"/>
            <a:ext cx="5621400" cy="3884400"/>
            <a:chOff x="398520" y="1828800"/>
            <a:chExt cx="5621400" cy="3884400"/>
          </a:xfrm>
        </p:grpSpPr>
        <p:grpSp>
          <p:nvGrpSpPr>
            <p:cNvPr id="1028" name=""/>
            <p:cNvGrpSpPr/>
            <p:nvPr/>
          </p:nvGrpSpPr>
          <p:grpSpPr>
            <a:xfrm>
              <a:off x="457200" y="2311560"/>
              <a:ext cx="2742840" cy="685800"/>
              <a:chOff x="457200" y="2311560"/>
              <a:chExt cx="2742840" cy="685800"/>
            </a:xfrm>
          </p:grpSpPr>
          <p:sp>
            <p:nvSpPr>
              <p:cNvPr id="1029" name=""/>
              <p:cNvSpPr/>
              <p:nvPr/>
            </p:nvSpPr>
            <p:spPr>
              <a:xfrm>
                <a:off x="1828080" y="231156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7200" y="231156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98520" y="1828800"/>
              <a:ext cx="3030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8. Tartós hitelviszonyt megtestesítő értékpapír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70240" y="1854360"/>
              <a:ext cx="274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68. Értékpapír elszámolási száml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3352680" y="2282760"/>
              <a:ext cx="2587320" cy="3430440"/>
              <a:chOff x="3352680" y="2282760"/>
              <a:chExt cx="2587320" cy="3430440"/>
            </a:xfrm>
          </p:grpSpPr>
          <p:sp>
            <p:nvSpPr>
              <p:cNvPr id="1034" name=""/>
              <p:cNvSpPr/>
              <p:nvPr/>
            </p:nvSpPr>
            <p:spPr>
              <a:xfrm>
                <a:off x="4645800" y="2282760"/>
                <a:ext cx="0" cy="343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52680" y="2282760"/>
                <a:ext cx="2587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1904760" y="2389320"/>
              <a:ext cx="2743200" cy="533160"/>
              <a:chOff x="1904760" y="2389320"/>
              <a:chExt cx="2743200" cy="53316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1904760" y="2389320"/>
                <a:ext cx="2655000" cy="533160"/>
                <a:chOff x="1904760" y="2389320"/>
                <a:chExt cx="2655000" cy="53316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2109240" y="2389320"/>
                  <a:ext cx="224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109240" y="2922480"/>
                  <a:ext cx="224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0" name=""/>
                <p:cNvGrpSpPr/>
                <p:nvPr/>
              </p:nvGrpSpPr>
              <p:grpSpPr>
                <a:xfrm>
                  <a:off x="4355640" y="2389320"/>
                  <a:ext cx="204120" cy="532800"/>
                  <a:chOff x="4355640" y="2389320"/>
                  <a:chExt cx="204120" cy="53280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4355640" y="2389320"/>
                    <a:ext cx="204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V="1">
                    <a:off x="4355640" y="2655720"/>
                    <a:ext cx="204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"/>
                <p:cNvGrpSpPr/>
                <p:nvPr/>
              </p:nvGrpSpPr>
              <p:grpSpPr>
                <a:xfrm>
                  <a:off x="1904760" y="2389320"/>
                  <a:ext cx="204120" cy="532800"/>
                  <a:chOff x="1904760" y="2389320"/>
                  <a:chExt cx="204120" cy="5328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 flipH="1">
                    <a:off x="1904760" y="2389320"/>
                    <a:ext cx="204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 flipV="1">
                    <a:off x="1904760" y="2655720"/>
                    <a:ext cx="204120" cy="26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6" name=""/>
              <p:cNvSpPr/>
              <p:nvPr/>
            </p:nvSpPr>
            <p:spPr>
              <a:xfrm>
                <a:off x="1905120" y="2492280"/>
                <a:ext cx="2742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Könyv szerinti érték (K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3520" y="2425680"/>
              <a:ext cx="1143000" cy="4190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800240" y="4444920"/>
            <a:ext cx="4267440" cy="1726920"/>
            <a:chOff x="4800240" y="4444920"/>
            <a:chExt cx="4267440" cy="1726920"/>
          </a:xfrm>
        </p:grpSpPr>
        <p:sp>
          <p:nvSpPr>
            <p:cNvPr id="1049" name=""/>
            <p:cNvSpPr/>
            <p:nvPr/>
          </p:nvSpPr>
          <p:spPr>
            <a:xfrm flipV="1">
              <a:off x="4800600" y="5562360"/>
              <a:ext cx="1371600" cy="609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6095880" y="4849920"/>
              <a:ext cx="2742840" cy="941040"/>
              <a:chOff x="6095880" y="4849920"/>
              <a:chExt cx="2742840" cy="941040"/>
            </a:xfrm>
          </p:grpSpPr>
          <p:sp>
            <p:nvSpPr>
              <p:cNvPr id="1051" name=""/>
              <p:cNvSpPr/>
              <p:nvPr/>
            </p:nvSpPr>
            <p:spPr>
              <a:xfrm>
                <a:off x="7466760" y="4849920"/>
                <a:ext cx="0" cy="9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095880" y="484992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4800240" y="4978440"/>
              <a:ext cx="2667240" cy="613080"/>
              <a:chOff x="4800240" y="4978440"/>
              <a:chExt cx="2667240" cy="61308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4800240" y="4978440"/>
                <a:ext cx="2667240" cy="552240"/>
                <a:chOff x="4800240" y="4978440"/>
                <a:chExt cx="2667240" cy="552240"/>
              </a:xfrm>
            </p:grpSpPr>
            <p:grpSp>
              <p:nvGrpSpPr>
                <p:cNvPr id="1055" name=""/>
                <p:cNvGrpSpPr/>
                <p:nvPr/>
              </p:nvGrpSpPr>
              <p:grpSpPr>
                <a:xfrm>
                  <a:off x="4800240" y="4978440"/>
                  <a:ext cx="2581200" cy="552240"/>
                  <a:chOff x="4800240" y="4978440"/>
                  <a:chExt cx="2581200" cy="55224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4998960" y="4978440"/>
                    <a:ext cx="218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998960" y="5530680"/>
                    <a:ext cx="218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7183080" y="4978440"/>
                    <a:ext cx="198360" cy="551520"/>
                    <a:chOff x="7183080" y="4978440"/>
                    <a:chExt cx="198360" cy="55152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7183080" y="4978440"/>
                      <a:ext cx="198360" cy="27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7183080" y="5254200"/>
                      <a:ext cx="198360" cy="27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4800240" y="4978440"/>
                    <a:ext cx="198360" cy="551520"/>
                    <a:chOff x="4800240" y="4978440"/>
                    <a:chExt cx="198360" cy="55152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>
                      <a:off x="4800240" y="4978440"/>
                      <a:ext cx="198360" cy="27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 flipV="1">
                      <a:off x="4800240" y="5254200"/>
                      <a:ext cx="198360" cy="27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4" name=""/>
                <p:cNvSpPr/>
                <p:nvPr/>
              </p:nvSpPr>
              <p:spPr>
                <a:xfrm>
                  <a:off x="4800600" y="5084280"/>
                  <a:ext cx="266688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4872240" y="5082840"/>
                <a:ext cx="25228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Árfolyamveszteség, ha  (E-k) &lt; 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6019920" y="444492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000000"/>
                  </a:solidFill>
                  <a:latin typeface="Bookman Old Style"/>
                </a:rPr>
                <a:t>871. Befektetett pénzügyi eszközök árf.vesztesé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380880" y="2997360"/>
            <a:ext cx="4267080" cy="1311480"/>
            <a:chOff x="380880" y="2997360"/>
            <a:chExt cx="4267080" cy="1311480"/>
          </a:xfrm>
        </p:grpSpPr>
        <p:grpSp>
          <p:nvGrpSpPr>
            <p:cNvPr id="1068" name=""/>
            <p:cNvGrpSpPr/>
            <p:nvPr/>
          </p:nvGrpSpPr>
          <p:grpSpPr>
            <a:xfrm>
              <a:off x="380880" y="3606840"/>
              <a:ext cx="2971440" cy="533520"/>
              <a:chOff x="380880" y="3606840"/>
              <a:chExt cx="2971440" cy="533520"/>
            </a:xfrm>
          </p:grpSpPr>
          <p:sp>
            <p:nvSpPr>
              <p:cNvPr id="1069" name=""/>
              <p:cNvSpPr/>
              <p:nvPr/>
            </p:nvSpPr>
            <p:spPr>
              <a:xfrm>
                <a:off x="1866240" y="3606840"/>
                <a:ext cx="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80880" y="3606840"/>
                <a:ext cx="297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380880" y="2997360"/>
              <a:ext cx="3353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9733. Kamatozó értékpapír értékesítésekor az eladási árban lévő kam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1904760" y="3683160"/>
              <a:ext cx="2743200" cy="625680"/>
              <a:chOff x="1904760" y="3683160"/>
              <a:chExt cx="2743200" cy="62568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1904760" y="3683160"/>
                <a:ext cx="2655000" cy="599760"/>
                <a:chOff x="1904760" y="3683160"/>
                <a:chExt cx="2655000" cy="5997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2109240" y="3683160"/>
                  <a:ext cx="224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109240" y="4282920"/>
                  <a:ext cx="224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6" name=""/>
                <p:cNvGrpSpPr/>
                <p:nvPr/>
              </p:nvGrpSpPr>
              <p:grpSpPr>
                <a:xfrm>
                  <a:off x="4355640" y="3683160"/>
                  <a:ext cx="204120" cy="599040"/>
                  <a:chOff x="4355640" y="3683160"/>
                  <a:chExt cx="204120" cy="59904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>
                    <a:off x="4355640" y="3683160"/>
                    <a:ext cx="204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V="1">
                    <a:off x="4355640" y="3982680"/>
                    <a:ext cx="204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1904760" y="3683160"/>
                  <a:ext cx="204120" cy="599040"/>
                  <a:chOff x="1904760" y="3683160"/>
                  <a:chExt cx="204120" cy="59904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flipH="1">
                    <a:off x="1904760" y="3683160"/>
                    <a:ext cx="204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 flipV="1">
                    <a:off x="1904760" y="3982680"/>
                    <a:ext cx="204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2" name=""/>
              <p:cNvSpPr/>
              <p:nvPr/>
            </p:nvSpPr>
            <p:spPr>
              <a:xfrm>
                <a:off x="1905120" y="3800160"/>
                <a:ext cx="2742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eladási árban lévő kamat (k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"/>
          <p:cNvGrpSpPr/>
          <p:nvPr/>
        </p:nvGrpSpPr>
        <p:grpSpPr>
          <a:xfrm>
            <a:off x="380880" y="4416480"/>
            <a:ext cx="4876920" cy="2449440"/>
            <a:chOff x="380880" y="4416480"/>
            <a:chExt cx="4876920" cy="2449440"/>
          </a:xfrm>
        </p:grpSpPr>
        <p:sp>
          <p:nvSpPr>
            <p:cNvPr id="1084" name=""/>
            <p:cNvSpPr/>
            <p:nvPr/>
          </p:nvSpPr>
          <p:spPr>
            <a:xfrm>
              <a:off x="762120" y="6578640"/>
              <a:ext cx="3581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380880" y="4416480"/>
              <a:ext cx="4876920" cy="2184480"/>
              <a:chOff x="380880" y="4416480"/>
              <a:chExt cx="4876920" cy="2184480"/>
            </a:xfrm>
          </p:grpSpPr>
          <p:sp>
            <p:nvSpPr>
              <p:cNvPr id="1086" name=""/>
              <p:cNvSpPr/>
              <p:nvPr/>
            </p:nvSpPr>
            <p:spPr>
              <a:xfrm>
                <a:off x="4114800" y="6143760"/>
                <a:ext cx="11430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VA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3276720" y="5559120"/>
                <a:ext cx="1295280" cy="5842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7200" y="4416480"/>
                <a:ext cx="3048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9738. Eladott (beváltott)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Bookman Old Style"/>
                  </a:rPr>
                  <a:t>értékpapír árf.nyereség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1980720" y="5007240"/>
                <a:ext cx="2581560" cy="551880"/>
                <a:chOff x="1980720" y="5007240"/>
                <a:chExt cx="2581560" cy="5518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179440" y="5007240"/>
                  <a:ext cx="218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179440" y="5559120"/>
                  <a:ext cx="218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2" name=""/>
                <p:cNvGrpSpPr/>
                <p:nvPr/>
              </p:nvGrpSpPr>
              <p:grpSpPr>
                <a:xfrm>
                  <a:off x="4363920" y="5007240"/>
                  <a:ext cx="198360" cy="551520"/>
                  <a:chOff x="4363920" y="5007240"/>
                  <a:chExt cx="198360" cy="55152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4363920" y="5007240"/>
                    <a:ext cx="198360" cy="27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V="1">
                    <a:off x="4363920" y="5283000"/>
                    <a:ext cx="198360" cy="27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1980720" y="5007240"/>
                  <a:ext cx="198360" cy="551520"/>
                  <a:chOff x="1980720" y="5007240"/>
                  <a:chExt cx="198360" cy="55152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 flipH="1">
                    <a:off x="1980720" y="5007240"/>
                    <a:ext cx="198360" cy="27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 flipV="1">
                    <a:off x="1980720" y="5283000"/>
                    <a:ext cx="198360" cy="27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8" name=""/>
              <p:cNvSpPr/>
              <p:nvPr/>
            </p:nvSpPr>
            <p:spPr>
              <a:xfrm>
                <a:off x="1981080" y="5115240"/>
                <a:ext cx="26672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Árfolyamnyereség,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ha  (E-k) &gt; 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380880" y="4873680"/>
                <a:ext cx="2971440" cy="888840"/>
                <a:chOff x="380880" y="4873680"/>
                <a:chExt cx="2971440" cy="8888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1866240" y="4873680"/>
                  <a:ext cx="0" cy="888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80880" y="4873680"/>
                  <a:ext cx="297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10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914400" y="76320"/>
            <a:ext cx="8153280" cy="2743200"/>
            <a:chOff x="914400" y="76320"/>
            <a:chExt cx="8153280" cy="2743200"/>
          </a:xfrm>
        </p:grpSpPr>
        <p:sp>
          <p:nvSpPr>
            <p:cNvPr id="1103" name=""/>
            <p:cNvSpPr/>
            <p:nvPr/>
          </p:nvSpPr>
          <p:spPr>
            <a:xfrm>
              <a:off x="8305920" y="76320"/>
              <a:ext cx="76176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3880" y="533520"/>
              <a:ext cx="6019920" cy="9144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Bookman Old Style"/>
                </a:rPr>
                <a:t>RENDKÍVÜLI EREDMÉ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438280" y="1447920"/>
              <a:ext cx="4038840" cy="532800"/>
              <a:chOff x="2438280" y="1447920"/>
              <a:chExt cx="4038840" cy="5328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527000" y="14479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438280" y="1714320"/>
                <a:ext cx="403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438280" y="17143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77120" y="1714320"/>
                <a:ext cx="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914400" y="1981080"/>
              <a:ext cx="3184560" cy="8384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Bookman Old Style"/>
                </a:rPr>
                <a:t>BEVÉTEL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68720" y="1981080"/>
              <a:ext cx="3184560" cy="838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Bookman Old Style"/>
                </a:rPr>
                <a:t>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914400" y="2819520"/>
            <a:ext cx="7315200" cy="3200400"/>
            <a:chOff x="914400" y="2819520"/>
            <a:chExt cx="7315200" cy="3200400"/>
          </a:xfrm>
        </p:grpSpPr>
        <p:sp>
          <p:nvSpPr>
            <p:cNvPr id="1113" name=""/>
            <p:cNvSpPr/>
            <p:nvPr/>
          </p:nvSpPr>
          <p:spPr>
            <a:xfrm>
              <a:off x="914400" y="3657600"/>
              <a:ext cx="7315200" cy="2362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GAL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ás tevékenységétől független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rendes üzletmeneten kívül esn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okásos vállalkozási tevékenységgel ne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állnak közvetlen kapcsolat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4572000" y="2819520"/>
              <a:ext cx="2057400" cy="838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2362320" y="2819520"/>
              <a:ext cx="2209680" cy="838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7" dur="1" fill="hold"/>
                                  <p:tgtEl>
                                    <p:spTgt spid="1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838080" y="171360"/>
            <a:ext cx="8153640" cy="990720"/>
            <a:chOff x="838080" y="171360"/>
            <a:chExt cx="8153640" cy="990720"/>
          </a:xfrm>
        </p:grpSpPr>
        <p:sp>
          <p:nvSpPr>
            <p:cNvPr id="101" name=""/>
            <p:cNvSpPr/>
            <p:nvPr/>
          </p:nvSpPr>
          <p:spPr>
            <a:xfrm>
              <a:off x="8128080" y="171360"/>
              <a:ext cx="86364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533520"/>
              <a:ext cx="7315200" cy="6285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LTSÉG, ÖNKÖLTSÉG, RÁFORDÍTÁS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7840" y="2108160"/>
            <a:ext cx="4851360" cy="3385800"/>
            <a:chOff x="177840" y="2108160"/>
            <a:chExt cx="4851360" cy="3385800"/>
          </a:xfrm>
        </p:grpSpPr>
        <p:sp>
          <p:nvSpPr>
            <p:cNvPr id="104" name=""/>
            <p:cNvSpPr/>
            <p:nvPr/>
          </p:nvSpPr>
          <p:spPr>
            <a:xfrm>
              <a:off x="228600" y="2108160"/>
              <a:ext cx="48006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dott feladat érdekében felhasznált erőforrás (élőmunka, eszköz) pénzbe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ifejezett érték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rmék vagy szolgáltatás egységére vetített erőforrás-felhasználás forintban kifejezett értéke.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7840" y="4013280"/>
              <a:ext cx="1955880" cy="3427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ÖNKÖL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2165400"/>
              <a:ext cx="1828800" cy="3427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L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4280" y="2076480"/>
            <a:ext cx="4419720" cy="3409920"/>
            <a:chOff x="4724280" y="2076480"/>
            <a:chExt cx="4419720" cy="3409920"/>
          </a:xfrm>
        </p:grpSpPr>
        <p:grpSp>
          <p:nvGrpSpPr>
            <p:cNvPr id="108" name=""/>
            <p:cNvGrpSpPr/>
            <p:nvPr/>
          </p:nvGrpSpPr>
          <p:grpSpPr>
            <a:xfrm>
              <a:off x="4952880" y="2076480"/>
              <a:ext cx="4191120" cy="2654280"/>
              <a:chOff x="4952880" y="2076480"/>
              <a:chExt cx="4191120" cy="265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952880" y="2133720"/>
                <a:ext cx="25146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RÁFORDÍTÁSO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52880" y="2076480"/>
                <a:ext cx="419112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  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termék előállításához, a szolgáltatás teljesítéséhez közvetlenü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nem kapcsolódó eszközfel-használások, kifizetések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melyek a rendszeres tevé-kenység során merülnek fel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724280" y="2133720"/>
              <a:ext cx="0" cy="33526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yonváltozási típusok és hatásuk a mérle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A gazdasági művelete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762120" y="76320"/>
            <a:ext cx="8229600" cy="1066320"/>
            <a:chOff x="762120" y="76320"/>
            <a:chExt cx="8229600" cy="1066320"/>
          </a:xfrm>
        </p:grpSpPr>
        <p:sp>
          <p:nvSpPr>
            <p:cNvPr id="113" name=""/>
            <p:cNvSpPr/>
            <p:nvPr/>
          </p:nvSpPr>
          <p:spPr>
            <a:xfrm>
              <a:off x="8128080" y="76320"/>
              <a:ext cx="86364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490320"/>
              <a:ext cx="7594560" cy="6523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LTSÉGEK, RÁFORDÍTÁSOK 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0880" y="1295280"/>
            <a:ext cx="3810240" cy="3528720"/>
            <a:chOff x="380880" y="1295280"/>
            <a:chExt cx="3810240" cy="3528720"/>
          </a:xfrm>
        </p:grpSpPr>
        <p:sp>
          <p:nvSpPr>
            <p:cNvPr id="116" name=""/>
            <p:cNvSpPr/>
            <p:nvPr/>
          </p:nvSpPr>
          <p:spPr>
            <a:xfrm>
              <a:off x="380880" y="1295280"/>
              <a:ext cx="3353040" cy="4572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NEMEK SZE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1827000"/>
              <a:ext cx="3733920" cy="29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JELLEG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EMÉLYI JELLEGŰ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CSÖKKENÉS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ÍR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191120" y="1295280"/>
            <a:ext cx="5105160" cy="5442840"/>
            <a:chOff x="4191120" y="1295280"/>
            <a:chExt cx="5105160" cy="5442840"/>
          </a:xfrm>
        </p:grpSpPr>
        <p:grpSp>
          <p:nvGrpSpPr>
            <p:cNvPr id="119" name=""/>
            <p:cNvGrpSpPr/>
            <p:nvPr/>
          </p:nvGrpSpPr>
          <p:grpSpPr>
            <a:xfrm>
              <a:off x="4419720" y="1295280"/>
              <a:ext cx="4876560" cy="5442840"/>
              <a:chOff x="4419720" y="1295280"/>
              <a:chExt cx="4876560" cy="5442840"/>
            </a:xfrm>
          </p:grpSpPr>
          <p:sp>
            <p:nvSpPr>
              <p:cNvPr id="120" name=""/>
              <p:cNvSpPr/>
              <p:nvPr/>
            </p:nvSpPr>
            <p:spPr>
              <a:xfrm>
                <a:off x="4495680" y="1828440"/>
                <a:ext cx="4800600" cy="49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ZVETLEN KÖLTSÉG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evékenységek költség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ZVETETT (ÁLTALÁNOS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Javító-karbantartó üzeme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zolgáltatást végző üzeme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Gépköltség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Üzemi irányítás általáno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zponti irányítás általáno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Értékesítési, forgalmazási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o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Elkülönített egyéb általáno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ltség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19720" y="1295280"/>
                <a:ext cx="4190760" cy="438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LSZÁMOLHATÓSÁGUK SZERI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191120" y="137160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900000" y="476280"/>
            <a:ext cx="7975800" cy="850680"/>
            <a:chOff x="900000" y="476280"/>
            <a:chExt cx="7975800" cy="850680"/>
          </a:xfrm>
        </p:grpSpPr>
        <p:sp>
          <p:nvSpPr>
            <p:cNvPr id="124" name=""/>
            <p:cNvSpPr/>
            <p:nvPr/>
          </p:nvSpPr>
          <p:spPr>
            <a:xfrm>
              <a:off x="8113680" y="476280"/>
              <a:ext cx="762120" cy="218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767880"/>
              <a:ext cx="7315200" cy="5590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JELLEGŰ RÁFORD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816200" y="1663560"/>
            <a:ext cx="6273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NYAGKÖLTSÉG (A BESZERZETT NÖ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VENDÉK, HÍZÓ- ÉS EGYÉB ÁLLATO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ÉRTÉKE 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IGÉNYBE VETT SZOLGÁLTATÁSO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ÉRTÉ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GYÉB SZOLGÁLTATÁSOK ÉRTÉ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LADOTT ÁRUK BESZERZÉSI ÉRTÉ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E (ELÁB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LADOTT (KÖZVETÍTETT) SZOLGÁL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TATÁSOK ÉRTÉ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19320" y="171360"/>
            <a:ext cx="7721640" cy="1730520"/>
            <a:chOff x="1219320" y="171360"/>
            <a:chExt cx="7721640" cy="1730520"/>
          </a:xfrm>
        </p:grpSpPr>
        <p:sp>
          <p:nvSpPr>
            <p:cNvPr id="128" name=""/>
            <p:cNvSpPr/>
            <p:nvPr/>
          </p:nvSpPr>
          <p:spPr>
            <a:xfrm>
              <a:off x="8077320" y="171360"/>
              <a:ext cx="863640" cy="36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533520"/>
              <a:ext cx="6908760" cy="7048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KÖL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322360" y="1219320"/>
              <a:ext cx="4600440" cy="682560"/>
              <a:chOff x="2322360" y="1219320"/>
              <a:chExt cx="4600440" cy="682560"/>
            </a:xfrm>
          </p:grpSpPr>
          <p:sp>
            <p:nvSpPr>
              <p:cNvPr id="131" name=""/>
              <p:cNvSpPr/>
              <p:nvPr/>
            </p:nvSpPr>
            <p:spPr>
              <a:xfrm>
                <a:off x="4701960" y="1219320"/>
                <a:ext cx="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22360" y="1560600"/>
                <a:ext cx="460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22360" y="1560600"/>
                <a:ext cx="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22800" y="1560600"/>
                <a:ext cx="0" cy="34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254560" y="1901880"/>
            <a:ext cx="3660840" cy="3324960"/>
            <a:chOff x="5254560" y="1901880"/>
            <a:chExt cx="3660840" cy="3324960"/>
          </a:xfrm>
        </p:grpSpPr>
        <p:sp>
          <p:nvSpPr>
            <p:cNvPr id="136" name=""/>
            <p:cNvSpPr/>
            <p:nvPr/>
          </p:nvSpPr>
          <p:spPr>
            <a:xfrm>
              <a:off x="5562720" y="2955960"/>
              <a:ext cx="3352680" cy="22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ulladé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kerülési értékben figyelembe vett  vámteher, jövedéki  adó visszatérítet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össz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4560" y="1901880"/>
              <a:ext cx="3279960" cy="9176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ÖKKENTŐ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ÉTEL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800" y="1901880"/>
            <a:ext cx="3479760" cy="4460760"/>
            <a:chOff x="685800" y="1901880"/>
            <a:chExt cx="3479760" cy="4460760"/>
          </a:xfrm>
        </p:grpSpPr>
        <p:sp>
          <p:nvSpPr>
            <p:cNvPr id="139" name=""/>
            <p:cNvSpPr/>
            <p:nvPr/>
          </p:nvSpPr>
          <p:spPr>
            <a:xfrm>
              <a:off x="685800" y="1901880"/>
              <a:ext cx="3279600" cy="91764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2914560"/>
              <a:ext cx="3174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sárolt és fel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asznált anyago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(értékvesztéss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ökkentett, az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vesztés visszaírt összegével növelt) bekerülési 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sárolt növendék-, hízó- és egyéb  állatok 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62120" y="152280"/>
            <a:ext cx="8178840" cy="1238400"/>
            <a:chOff x="762120" y="152280"/>
            <a:chExt cx="8178840" cy="1238400"/>
          </a:xfrm>
        </p:grpSpPr>
        <p:sp>
          <p:nvSpPr>
            <p:cNvPr id="142" name=""/>
            <p:cNvSpPr/>
            <p:nvPr/>
          </p:nvSpPr>
          <p:spPr>
            <a:xfrm>
              <a:off x="8153280" y="152280"/>
              <a:ext cx="78768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609480"/>
              <a:ext cx="7340400" cy="781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IGÉNYBE VETT SZOLGÁLTATÁSOK TARTAL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52280" y="2000160"/>
            <a:ext cx="46483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Szállítás-rakodás, raktároz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öltség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Bérleti díj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arbantartási költség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Hirdetés, reklám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ropaganda költség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Oktatás és továbbképzé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öltség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76920" y="2008080"/>
            <a:ext cx="4267080" cy="3173400"/>
            <a:chOff x="4876920" y="2008080"/>
            <a:chExt cx="4267080" cy="3173400"/>
          </a:xfrm>
        </p:grpSpPr>
        <p:sp>
          <p:nvSpPr>
            <p:cNvPr id="146" name=""/>
            <p:cNvSpPr/>
            <p:nvPr/>
          </p:nvSpPr>
          <p:spPr>
            <a:xfrm>
              <a:off x="4952880" y="2008080"/>
              <a:ext cx="4191120" cy="29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Utazási és kiküldetés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költségek (napidíj nélkül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Könyvviteli szolgáltatá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költsége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Bérmunka költsége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Egyéb igénybe vet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szolgáltatások költsége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6920" y="2133720"/>
              <a:ext cx="0" cy="304776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95280" y="404640"/>
            <a:ext cx="7975080" cy="1123920"/>
            <a:chOff x="395280" y="404640"/>
            <a:chExt cx="7975080" cy="1123920"/>
          </a:xfrm>
        </p:grpSpPr>
        <p:sp>
          <p:nvSpPr>
            <p:cNvPr id="149" name=""/>
            <p:cNvSpPr/>
            <p:nvPr/>
          </p:nvSpPr>
          <p:spPr>
            <a:xfrm>
              <a:off x="7532280" y="404640"/>
              <a:ext cx="83808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" y="842760"/>
              <a:ext cx="731484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SZOLGÁLTATÁSOK 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019240" y="2155680"/>
            <a:ext cx="589284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Hatósági igazgatási, szolgáltatá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díjak, illeték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énzügyi, befektetési szolgáltatá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díj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Biztosítási díj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öltségként elszámolandó adók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járulékok, termékdí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ülönféle egyéb költség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90720" y="152280"/>
            <a:ext cx="8001000" cy="1806480"/>
            <a:chOff x="990720" y="152280"/>
            <a:chExt cx="8001000" cy="1806480"/>
          </a:xfrm>
        </p:grpSpPr>
        <p:sp>
          <p:nvSpPr>
            <p:cNvPr id="153" name=""/>
            <p:cNvSpPr/>
            <p:nvPr/>
          </p:nvSpPr>
          <p:spPr>
            <a:xfrm>
              <a:off x="8051760" y="152280"/>
              <a:ext cx="93996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4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609480"/>
              <a:ext cx="6908760" cy="7048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ADOTT ÁRUK BESZERZÉSI 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(ELÁBÉ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498760" y="1314360"/>
              <a:ext cx="4311720" cy="644400"/>
              <a:chOff x="2498760" y="1314360"/>
              <a:chExt cx="4311720" cy="64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4728600" y="1314360"/>
                <a:ext cx="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8760" y="1636560"/>
                <a:ext cx="431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98760" y="1636560"/>
                <a:ext cx="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10480" y="1636560"/>
                <a:ext cx="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4900680" y="1959120"/>
            <a:ext cx="3786120" cy="1959840"/>
            <a:chOff x="4900680" y="1959120"/>
            <a:chExt cx="3786120" cy="1959840"/>
          </a:xfrm>
        </p:grpSpPr>
        <p:sp>
          <p:nvSpPr>
            <p:cNvPr id="161" name=""/>
            <p:cNvSpPr/>
            <p:nvPr/>
          </p:nvSpPr>
          <p:spPr>
            <a:xfrm>
              <a:off x="5207040" y="2819520"/>
              <a:ext cx="347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Visszavett betét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díjas göngyölegek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bekerülési érté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0680" y="1959120"/>
              <a:ext cx="3608280" cy="7840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CSÖKKENTŐ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TÉT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1959120"/>
            <a:ext cx="3886200" cy="4582800"/>
            <a:chOff x="990720" y="1959120"/>
            <a:chExt cx="3886200" cy="4582800"/>
          </a:xfrm>
        </p:grpSpPr>
        <p:sp>
          <p:nvSpPr>
            <p:cNvPr id="164" name=""/>
            <p:cNvSpPr/>
            <p:nvPr/>
          </p:nvSpPr>
          <p:spPr>
            <a:xfrm>
              <a:off x="990720" y="1959120"/>
              <a:ext cx="3608280" cy="78408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TARTAL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7440" y="2895480"/>
              <a:ext cx="3759480" cy="36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Változatlan formá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ban eladott anyagok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áruk (értékvesztéssel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csökkentett, az ér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tékvesztés visszaír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összegével növel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bekerülési érté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Értékesített betét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díjas göngyölegek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bekerülési érték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6:57Z</dcterms:modified>
  <cp:revision>59</cp:revision>
  <dc:subject/>
  <dc:title>1. dia</dc:title>
</cp:coreProperties>
</file>