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76D-3E37-4824-A44F-9C03229B78B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EA040-A3B6-4F30-9E4D-2DB29C0F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22A9-6E34-450E-BB38-FD78D10D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C7B2-C751-4206-A61D-1D44A661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2163D-163D-4519-B316-3F105AFF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E409B-6136-41FF-B2A1-D608F587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7226-CDC0-4915-867D-2709DB4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C954-2CD9-41E9-9571-A207042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C9CB2-423D-4FCD-8DA7-E89589F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06EFC-E49B-4D8F-A89A-4F0A4F7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17E8-7B16-4D31-BB87-E562ADFF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4D6E-9F86-4E33-94F7-22DBF696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3F954-0392-494D-9ADE-41B21F4A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8167-F7F5-4FA5-A21E-8BFFFEDD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63600" y="1864800"/>
            <a:ext cx="68580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 MÉRLEGTÉTELEK ÉRTÉKELÉSE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960" y="422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3036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85800"/>
            <a:ext cx="711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219320" y="114480"/>
            <a:ext cx="7721640" cy="761760"/>
            <a:chOff x="1219320" y="114480"/>
            <a:chExt cx="7721640" cy="761760"/>
          </a:xfrm>
        </p:grpSpPr>
        <p:sp>
          <p:nvSpPr>
            <p:cNvPr id="220" name=""/>
            <p:cNvSpPr/>
            <p:nvPr/>
          </p:nvSpPr>
          <p:spPr>
            <a:xfrm>
              <a:off x="8229600" y="114480"/>
              <a:ext cx="711360" cy="31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19320" y="304920"/>
              <a:ext cx="6705360" cy="5713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SZERZÉSI ÉRTÉK ÖSSZETEVŐ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1333440"/>
            <a:ext cx="3276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vételá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felá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árengedmény (-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szállítási és rakodá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lapozá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szerelé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üzembehelyezé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közvetítői dí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038480" y="1295280"/>
            <a:ext cx="4953240" cy="4876560"/>
            <a:chOff x="4038480" y="1295280"/>
            <a:chExt cx="4953240" cy="4876560"/>
          </a:xfrm>
        </p:grpSpPr>
        <p:sp>
          <p:nvSpPr>
            <p:cNvPr id="224" name=""/>
            <p:cNvSpPr/>
            <p:nvPr/>
          </p:nvSpPr>
          <p:spPr>
            <a:xfrm>
              <a:off x="4191120" y="1295280"/>
              <a:ext cx="480060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beszerzéshez kapcsolódó adó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(fogyasztási adó, jövedéki adó)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vámköltségek (vám, vámpótlék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vámkezelési díj)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fizetendő illeték, (pl. vagyon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szerzés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előzetesen felszámított, de 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nem vonható általános forgalm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dó, (NEM RÉSZE az áfa törvé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szerint ellenérték arányáb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megosztott előzetesen felszámí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tott áfa le nem vonható hányad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hatósági igazgatási, szolgáltatás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díj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038480" y="1371240"/>
              <a:ext cx="0" cy="48006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960" y="888840"/>
            <a:ext cx="434340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környezetvédelmi termékdíj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szakértői díj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 vásárolt vételi opció díj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z eszköz BESZERZÉSÉHEZ, ELŐÁLLÍTÁSÁHOZ közvetl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nül kapcsolódó igénybe vet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hitel, kölcsö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buClr>
                <a:srgbClr val="ffffff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bankgarancia dí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buClr>
                <a:srgbClr val="ffffff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kezelési költs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buClr>
                <a:srgbClr val="ffffff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folyósítási jutalék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buClr>
                <a:srgbClr val="ffffff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rendelkezésre tartási jutalék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buClr>
                <a:srgbClr val="ffffff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szerződés közjegyzői hitelesítésének dí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buClr>
                <a:srgbClr val="ffffff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z üzembehelyezésig felmerült kamat,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84240"/>
            <a:ext cx="914400" cy="4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lyt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495680" y="914400"/>
            <a:ext cx="4648320" cy="4800600"/>
            <a:chOff x="4495680" y="914400"/>
            <a:chExt cx="4648320" cy="4800600"/>
          </a:xfrm>
        </p:grpSpPr>
        <p:sp>
          <p:nvSpPr>
            <p:cNvPr id="229" name=""/>
            <p:cNvSpPr/>
            <p:nvPr/>
          </p:nvSpPr>
          <p:spPr>
            <a:xfrm>
              <a:off x="4572000" y="914400"/>
              <a:ext cx="45720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üzembehelyezésig felmerü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iztosítási díj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beruházáshoz, a vagyoni érté-kű joghoz kapcsolódó devizahi-telnek az üzembehelyezésig ter-jedő időszakra elszámolt árfo-lyamveszteség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beruházás tervezés, előkészí-tés, lebonyolítás, új technológia elsajátítás díj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tárgyi eszközök biztonságos üzemeltetéséhez, rendeltetés-szerű használatához szükséges tartozékok, tartalékalkatrészek beszerzési árban érvényesített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990720"/>
              <a:ext cx="0" cy="4724280"/>
            </a:xfrm>
            <a:prstGeom prst="line">
              <a:avLst/>
            </a:prstGeom>
            <a:ln cap="rnd" w="1260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76320" y="838080"/>
            <a:ext cx="4597200" cy="5867280"/>
            <a:chOff x="76320" y="838080"/>
            <a:chExt cx="4597200" cy="5867280"/>
          </a:xfrm>
        </p:grpSpPr>
        <p:sp>
          <p:nvSpPr>
            <p:cNvPr id="232" name=""/>
            <p:cNvSpPr/>
            <p:nvPr/>
          </p:nvSpPr>
          <p:spPr>
            <a:xfrm>
              <a:off x="76320" y="1218960"/>
              <a:ext cx="45972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PÍTÉSI TELEK ÉRTÉKÉT NÖVEL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–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idejű beszerzés esetén – a tel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en lévő BONTÁSRA KERÜLŐ ÉPÜ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LET, építmény BESZERZÉSI, BON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ÁSI KÖLTSÉGE az üres telek piac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rtékének megfelelő összegig. AZ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ZT MEGHALADÓ KÖLTSÉGE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MEGVALÓSULÓ BERUHÁZÁS be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erülési értékeként kell figyelemb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venni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 adott BERUHÁZÁS MIATT LE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BONTOTT ÉS újraépített épület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pítmény BONTÁSI KÖLTSÉGEI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Z ADOTT  beruházás BEKERÜLÉS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RTÉKÉBE BE KELL SZÁMÍTANI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Z ÚJRAÉPÍTÉS KÖLTSÉGE AZ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ÚJRAÉPÍTETT ESZKÖZ BEKERÜ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LÉSI ÉRTÉK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Ingatlan beszerzés esetén az INGAT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LAN ÉRTÉKÉBE – szerződés alapjá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–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BESZÁMÍT, a KORÁBBAN BÉRLET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JOG MEGVÁSÁRLÁSA CÍMÉN fize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ett, BÉRLETI JOGKÉNT KIMUTA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OTT, MÉG LE NEM ÍRT ÖSSZEG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7480" y="838080"/>
              <a:ext cx="4114440" cy="304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NÖVE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27280" y="76320"/>
            <a:ext cx="7264440" cy="533160"/>
            <a:chOff x="1727280" y="76320"/>
            <a:chExt cx="7264440" cy="533160"/>
          </a:xfrm>
        </p:grpSpPr>
        <p:sp>
          <p:nvSpPr>
            <p:cNvPr id="235" name=""/>
            <p:cNvSpPr/>
            <p:nvPr/>
          </p:nvSpPr>
          <p:spPr>
            <a:xfrm>
              <a:off x="1727280" y="171360"/>
              <a:ext cx="5790960" cy="438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SZERZÉSI ÉRTÉ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05920" y="76320"/>
              <a:ext cx="685800" cy="30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495680" y="838080"/>
            <a:ext cx="4648320" cy="5867640"/>
            <a:chOff x="4495680" y="838080"/>
            <a:chExt cx="4648320" cy="5867640"/>
          </a:xfrm>
        </p:grpSpPr>
        <p:sp>
          <p:nvSpPr>
            <p:cNvPr id="238" name=""/>
            <p:cNvSpPr/>
            <p:nvPr/>
          </p:nvSpPr>
          <p:spPr>
            <a:xfrm>
              <a:off x="4648320" y="838080"/>
              <a:ext cx="4114800" cy="304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CSÖKK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5680" y="1327320"/>
              <a:ext cx="4648320" cy="41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BERUHÁZÁS BEKERÜLÉSI ÉRTÉ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ÉT CSÖKKENTI A PRÓBAÜZEMEL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ETÉS SORÁN ELŐÁLLÍTOTT, rak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árra vett, értékesített, teljesítet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szolgáltatá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lőállítási költsége, ennek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hiányáb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piaci értéke va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várható eladási ár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BEKERÜLÉSI ÉRTÉKBEN ELSZÁ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MOLT KAMAT ÖSSZEGÉT CSÖK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ENT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BERUHÁZÁSRA ADOTT ELŐLE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BERUHÁZÁSRA ELKÜLÖNÍTET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PÉNZESZKÖZ UTÁN, annak elszá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molásáig, felhasználásáig KAPOT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AMAT ÖSSZEG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914400"/>
              <a:ext cx="0" cy="57913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397160" y="114480"/>
            <a:ext cx="7594560" cy="730080"/>
            <a:chOff x="1397160" y="114480"/>
            <a:chExt cx="7594560" cy="730080"/>
          </a:xfrm>
        </p:grpSpPr>
        <p:sp>
          <p:nvSpPr>
            <p:cNvPr id="242" name=""/>
            <p:cNvSpPr/>
            <p:nvPr/>
          </p:nvSpPr>
          <p:spPr>
            <a:xfrm>
              <a:off x="8432640" y="114480"/>
              <a:ext cx="559080" cy="28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97160" y="304920"/>
              <a:ext cx="6298920" cy="5396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ET NÖVELŐ BEKERÜLÉS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KÉNT KELL ELSZÁMOL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0" y="1219320"/>
            <a:ext cx="5029200" cy="1876680"/>
            <a:chOff x="4572000" y="1219320"/>
            <a:chExt cx="5029200" cy="1876680"/>
          </a:xfrm>
        </p:grpSpPr>
        <p:sp>
          <p:nvSpPr>
            <p:cNvPr id="245" name=""/>
            <p:cNvSpPr/>
            <p:nvPr/>
          </p:nvSpPr>
          <p:spPr>
            <a:xfrm>
              <a:off x="4876560" y="1219320"/>
              <a:ext cx="4724640" cy="18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SZKÖZÖK HASZNÁLATI ÉR-TÉKÉT NÖVELŐ MUNKAFOLYA-MATOK, illetve megmunkálás ellenértékét jelentő BÉRMUNK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DÍJ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1447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0" y="1447920"/>
            <a:ext cx="4724280" cy="4494600"/>
            <a:chOff x="0" y="1447920"/>
            <a:chExt cx="4724280" cy="4494600"/>
          </a:xfrm>
        </p:grpSpPr>
        <p:sp>
          <p:nvSpPr>
            <p:cNvPr id="248" name=""/>
            <p:cNvSpPr/>
            <p:nvPr/>
          </p:nvSpPr>
          <p:spPr>
            <a:xfrm>
              <a:off x="0" y="1447920"/>
              <a:ext cx="411480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EGLÉVŐ TÁRGYI ESZKÖ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ŐVÍTÉSÉVE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ENDELTETÉSÉNEK MEGVÁLTOZTATÁSÁVA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TALAKÍTÁSÁVA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LETTARTAMÁNAK NÖVELÉSÉVEL összefüggő munka, tovább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1523880"/>
              <a:ext cx="0" cy="35053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57200" y="4038480"/>
              <a:ext cx="4267080" cy="1904040"/>
              <a:chOff x="457200" y="4038480"/>
              <a:chExt cx="4267080" cy="19040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3520" y="4038480"/>
                <a:ext cx="4190760" cy="19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Z ELHASZNÁLÓDOTT TÁRGY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ESZKÖZ EREDETI ÁLLAGA (ka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pacitása, pontossága) HELYRE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ÁLLÍTÁSÁT szolgáló felújítási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munka ellenértékét, közvetl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költségé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7200" y="4052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397160" y="141120"/>
            <a:ext cx="7594560" cy="696960"/>
            <a:chOff x="1397160" y="141120"/>
            <a:chExt cx="7594560" cy="696960"/>
          </a:xfrm>
        </p:grpSpPr>
        <p:sp>
          <p:nvSpPr>
            <p:cNvPr id="254" name=""/>
            <p:cNvSpPr/>
            <p:nvPr/>
          </p:nvSpPr>
          <p:spPr>
            <a:xfrm>
              <a:off x="8381880" y="141120"/>
              <a:ext cx="60984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7160" y="222120"/>
              <a:ext cx="6298920" cy="6159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KERÜLÉSI ÉRTÉK RÉSZÉT KÉPEZŐ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ÉTELEK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4190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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Z EGYES TÉTELE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FELMERÜLÉSK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GAZDASÁGI ESEMÉNY MEGTÖRTÉNTEK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LEGKÉSŐBB AZ ÜZEMBE-HELYEZÉSKOR K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SZÁMÍTÁSBA VENNI a számlá-zott, kivetett összeg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343400" y="1143000"/>
            <a:ext cx="4800600" cy="4888800"/>
            <a:chOff x="4343400" y="1143000"/>
            <a:chExt cx="4800600" cy="4888800"/>
          </a:xfrm>
        </p:grpSpPr>
        <p:sp>
          <p:nvSpPr>
            <p:cNvPr id="258" name=""/>
            <p:cNvSpPr/>
            <p:nvPr/>
          </p:nvSpPr>
          <p:spPr>
            <a:xfrm>
              <a:off x="4419720" y="1143000"/>
              <a:ext cx="4724280" cy="48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HA A SZÁMLA, A MEGFELEL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IZONYLAT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ÜZEMBEHELYEZÉSI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RAKTÁRBA TÖRTÉNŐ B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ÁLLÍTÁSIG NEM ÉRKEZETT MEG, akkor az ADOTT ESZKÖZ ÉRTÉKÉT a RENDELKEZÉSRE ÁLLÓ DOKUMENTUMO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erződ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piaci információ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jogszabályi előírás ALAPJÁ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ELL MEGHATÁRO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ÍGY MEGHATÁROZOTT ért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és a tényleges SZÁMLÁZOTT ÖS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EG KÖZÖTTI KÜLÖNBÖZET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BESZERZÉSI ÉRTÉKET AKK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ELL módosítani, HA A KÜLÖNB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ÉG összege az adott eszköz é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ékét JELENTŐSEN MÓDOSÍTJ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3400" y="1295280"/>
              <a:ext cx="0" cy="472464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676520" y="1523880"/>
            <a:ext cx="6578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Valutakészl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Devizakészl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Külföldi pénzértékre szól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110000"/>
              </a:lnSpc>
              <a:buClr>
                <a:srgbClr val="ffffff"/>
              </a:buClr>
              <a:buFont typeface="Bookman Old Style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man Old Style"/>
              </a:rPr>
              <a:t>követelése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110000"/>
              </a:lnSpc>
              <a:buClr>
                <a:srgbClr val="ffffff"/>
              </a:buClr>
              <a:buFont typeface="Bookman Old Style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man Old Style"/>
              </a:rPr>
              <a:t>befektetett pénzügyi eszközök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110000"/>
              </a:lnSpc>
              <a:buClr>
                <a:srgbClr val="ffffff"/>
              </a:buClr>
              <a:buFont typeface="Bookman Old Style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man Old Style"/>
              </a:rPr>
              <a:t>értékpapírok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110000"/>
              </a:lnSpc>
              <a:buClr>
                <a:srgbClr val="ffffff"/>
              </a:buClr>
              <a:buFont typeface="Bookman Old Style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man Old Style"/>
              </a:rPr>
              <a:t>kötelezettsége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EGYÜTT:  külföldi pénzértékre szóló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eszköz illetve kötelezettség.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43000" y="152280"/>
            <a:ext cx="7848720" cy="762120"/>
            <a:chOff x="1143000" y="152280"/>
            <a:chExt cx="7848720" cy="762120"/>
          </a:xfrm>
        </p:grpSpPr>
        <p:sp>
          <p:nvSpPr>
            <p:cNvPr id="262" name=""/>
            <p:cNvSpPr/>
            <p:nvPr/>
          </p:nvSpPr>
          <p:spPr>
            <a:xfrm>
              <a:off x="8255160" y="152280"/>
              <a:ext cx="73656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3000" y="304920"/>
              <a:ext cx="670572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ALUTA- ÉS DEVIZATÉTELEK CSOPORTJA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2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685800" y="141120"/>
            <a:ext cx="8305920" cy="677880"/>
            <a:chOff x="685800" y="141120"/>
            <a:chExt cx="8305920" cy="677880"/>
          </a:xfrm>
        </p:grpSpPr>
        <p:sp>
          <p:nvSpPr>
            <p:cNvPr id="265" name=""/>
            <p:cNvSpPr/>
            <p:nvPr/>
          </p:nvSpPr>
          <p:spPr>
            <a:xfrm>
              <a:off x="8280360" y="141120"/>
              <a:ext cx="71136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228600"/>
              <a:ext cx="7391520" cy="5904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ALUTA- ÉS DEVIZATÉTELEK ÉRTÉKELÉ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KTIVÁLÁSKOR, PASSZIVÁLÁSK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800600" y="1752480"/>
            <a:ext cx="43434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Bookman Old Style"/>
              </a:rPr>
              <a:t>AZ MNB ÁLTAL NEM JEGY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Bookman Old Style"/>
              </a:rPr>
              <a:t>ÉS NEM KONVERTIBILIS VALU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Bookman Old Style"/>
              </a:rPr>
              <a:t>TA ESETÉ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valuta SZABADPIACI á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lya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962520"/>
            <a:ext cx="487692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INDOKOLT ESET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VÁLASZTOTT HITELINTÉZET á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tal meghirdetett DEVIZAVÉ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árfolyam, 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VÁLASZTOTT HITELINTÉZET  á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tal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meghirdetett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DEVIZAELA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DÁSI árfoly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3968640"/>
            <a:ext cx="441972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FORINTÉRT VÁSÁROLT VAL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TÁT, DEVIZÁ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TÉNYLEGESEN FIZET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FORINT ALAPJÁN  kel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nyilvántartásba vételi árf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lyamot meghatároz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1219320"/>
            <a:ext cx="5562720" cy="2743200"/>
            <a:chOff x="0" y="1219320"/>
            <a:chExt cx="5562720" cy="2743200"/>
          </a:xfrm>
        </p:grpSpPr>
        <p:sp>
          <p:nvSpPr>
            <p:cNvPr id="271" name=""/>
            <p:cNvSpPr/>
            <p:nvPr/>
          </p:nvSpPr>
          <p:spPr>
            <a:xfrm>
              <a:off x="0" y="1295280"/>
              <a:ext cx="457200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333399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ÁLTALÁBA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75"/>
                </a:spcBef>
                <a:spcAft>
                  <a:spcPts val="675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ÁLASZTOTT HITELINTÉZET által meghirdetett devizavé-teli és devizaeladási árfolyam ÁTLAGA, va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75"/>
                </a:spcBef>
                <a:spcAft>
                  <a:spcPts val="675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MNB által közzétett hivatalos DEVIZAÁRFOLYAM.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280" y="1219320"/>
              <a:ext cx="541044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LEHETSÉGES ÁTSZÁMÍTÁSI ÁRFOLYAM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800600" y="1828800"/>
            <a:ext cx="76320" cy="41911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752480" y="114480"/>
            <a:ext cx="7239240" cy="836280"/>
            <a:chOff x="1752480" y="114480"/>
            <a:chExt cx="7239240" cy="836280"/>
          </a:xfrm>
        </p:grpSpPr>
        <p:sp>
          <p:nvSpPr>
            <p:cNvPr id="275" name=""/>
            <p:cNvSpPr/>
            <p:nvPr/>
          </p:nvSpPr>
          <p:spPr>
            <a:xfrm>
              <a:off x="8305920" y="114480"/>
              <a:ext cx="685800" cy="31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2480" y="304920"/>
              <a:ext cx="6400800" cy="6458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ALUTA ÉS DEVIZA TÉTEL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V VÉGI ÁTÉRTÉKELÉ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965160" y="6232680"/>
            <a:ext cx="6502320" cy="550440"/>
            <a:chOff x="965160" y="6232680"/>
            <a:chExt cx="6502320" cy="550440"/>
          </a:xfrm>
        </p:grpSpPr>
        <p:sp>
          <p:nvSpPr>
            <p:cNvPr id="278" name=""/>
            <p:cNvSpPr/>
            <p:nvPr/>
          </p:nvSpPr>
          <p:spPr>
            <a:xfrm>
              <a:off x="965160" y="6232680"/>
              <a:ext cx="65023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99"/>
                  </a:solidFill>
                  <a:latin typeface="Bookman Old Style"/>
                </a:rPr>
                <a:t>* Valamennyi külföldi pénzértékre szóló eszköz, kötelezettsé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en-US" sz="1500" spc="-1" strike="noStrike">
                  <a:solidFill>
                    <a:srgbClr val="333399"/>
                  </a:solidFill>
                  <a:latin typeface="Bookman Old Style"/>
                </a:rPr>
                <a:t>átértékelési különböze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6248160"/>
              <a:ext cx="2133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52280" y="1219320"/>
            <a:ext cx="8610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ÁTÉRTÉKELÉSI KÜLÖNBÖZET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könyv szerinti forintérték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mérlegfordulónapi árfolyamon számított forintérté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3520" y="1981080"/>
            <a:ext cx="7619760" cy="990720"/>
            <a:chOff x="533520" y="1981080"/>
            <a:chExt cx="7619760" cy="990720"/>
          </a:xfrm>
        </p:grpSpPr>
        <p:sp>
          <p:nvSpPr>
            <p:cNvPr id="282" name=""/>
            <p:cNvSpPr/>
            <p:nvPr/>
          </p:nvSpPr>
          <p:spPr>
            <a:xfrm flipV="1">
              <a:off x="2514600" y="2438280"/>
              <a:ext cx="182880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2438280"/>
              <a:ext cx="2209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1981080"/>
              <a:ext cx="761976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VONT ÁTÉRTÉKELÉSI KÜLÖNBÖZET </a:t>
              </a: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62120" y="2971800"/>
            <a:ext cx="3352680" cy="1143000"/>
            <a:chOff x="762120" y="2971800"/>
            <a:chExt cx="3352680" cy="1143000"/>
          </a:xfrm>
        </p:grpSpPr>
        <p:sp>
          <p:nvSpPr>
            <p:cNvPr id="286" name=""/>
            <p:cNvSpPr/>
            <p:nvPr/>
          </p:nvSpPr>
          <p:spPr>
            <a:xfrm>
              <a:off x="762120" y="2971800"/>
              <a:ext cx="304812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M JELENTŐ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14400" y="3527640"/>
              <a:ext cx="3200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m kell átértékeln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m kell könyvel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352680" y="2994120"/>
            <a:ext cx="4572000" cy="2111040"/>
            <a:chOff x="3352680" y="2994120"/>
            <a:chExt cx="4572000" cy="2111040"/>
          </a:xfrm>
        </p:grpSpPr>
        <p:sp>
          <p:nvSpPr>
            <p:cNvPr id="289" name=""/>
            <p:cNvSpPr/>
            <p:nvPr/>
          </p:nvSpPr>
          <p:spPr>
            <a:xfrm>
              <a:off x="3429000" y="4038480"/>
              <a:ext cx="2438280" cy="457200"/>
            </a:xfrm>
            <a:prstGeom prst="flowChartAlternateProcess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ESZTE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352680" y="2994120"/>
              <a:ext cx="4572000" cy="2111040"/>
              <a:chOff x="3352680" y="2994120"/>
              <a:chExt cx="4572000" cy="2111040"/>
            </a:xfrm>
          </p:grpSpPr>
          <p:sp>
            <p:nvSpPr>
              <p:cNvPr id="291" name=""/>
              <p:cNvSpPr/>
              <p:nvPr/>
            </p:nvSpPr>
            <p:spPr>
              <a:xfrm>
                <a:off x="4749840" y="2994120"/>
                <a:ext cx="30481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JELENTŐ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19720" y="3450960"/>
                <a:ext cx="1752480" cy="58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72200" y="3451320"/>
                <a:ext cx="1752480" cy="58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52680" y="4518000"/>
                <a:ext cx="2590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Pénzügyi műveletek ráfordítá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6400800" y="4038480"/>
            <a:ext cx="2438280" cy="4572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YERE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4551480"/>
            <a:ext cx="2590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énzügyi műveletek bevé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965160" y="1066320"/>
            <a:ext cx="777240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rögzíteni kell az alkalmazandó ÁTSZÁMÍTÁSI ÁRFOLYAM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meg kell határozni a JELENTŐSNEK MINŐSÍTETT ÖSSZEVONT ÁTÉRTÉKELÉSI KÜLÖNBÖZET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abszolút  összegben, vagy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mérlegfordulónapi – átértékelés előtti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külföldi pénzértékre szóló valuta, deviz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készlet,befektetetés, értékpapír követel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és kötelezettség együttes összegének szá-zalékáb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19320" y="152280"/>
            <a:ext cx="7772400" cy="781200"/>
            <a:chOff x="1219320" y="152280"/>
            <a:chExt cx="7772400" cy="781200"/>
          </a:xfrm>
        </p:grpSpPr>
        <p:sp>
          <p:nvSpPr>
            <p:cNvPr id="299" name=""/>
            <p:cNvSpPr/>
            <p:nvPr/>
          </p:nvSpPr>
          <p:spPr>
            <a:xfrm>
              <a:off x="8305920" y="152280"/>
              <a:ext cx="6858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9320" y="380880"/>
              <a:ext cx="6298920" cy="5526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POLITIKÁ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2" dur="1" fill="hold"/>
                                  <p:tgtEl>
                                    <p:spTgt spid="2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07960" y="76320"/>
            <a:ext cx="8483760" cy="914040"/>
            <a:chOff x="507960" y="76320"/>
            <a:chExt cx="8483760" cy="914040"/>
          </a:xfrm>
        </p:grpSpPr>
        <p:sp>
          <p:nvSpPr>
            <p:cNvPr id="302" name=""/>
            <p:cNvSpPr/>
            <p:nvPr/>
          </p:nvSpPr>
          <p:spPr>
            <a:xfrm>
              <a:off x="8255160" y="76320"/>
              <a:ext cx="736560" cy="29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960" y="32544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568440"/>
              <a:ext cx="711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217080"/>
              <a:ext cx="7239240" cy="7732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L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ÖSSZEVONT ÁTÉRTÉKELÉSI KÜLÖNBÖZ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SZÁMÍTÁSÁ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228600" y="1219320"/>
          <a:ext cx="4572000" cy="2009520"/>
        </p:xfrm>
        <a:graphic>
          <a:graphicData uri="http://schemas.openxmlformats.org/drawingml/2006/table">
            <a:tbl>
              <a:tblPr/>
              <a:tblGrid>
                <a:gridCol w="1633680"/>
                <a:gridCol w="1468440"/>
                <a:gridCol w="14698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nyv szerint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v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ál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8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llító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vizah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4876920" y="1168560"/>
            <a:ext cx="419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99"/>
                </a:solidFill>
                <a:latin typeface="Bookman Old Style"/>
              </a:rPr>
              <a:t>A vállalkozás az értékelést MNB árfo-lyamon vég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99"/>
                </a:solidFill>
                <a:latin typeface="Bookman Old Style"/>
              </a:rPr>
              <a:t>Az üzleti év mérlegfordulónapján ér-vényes MNB árfolyam 140 HUF/D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99"/>
                </a:solidFill>
                <a:latin typeface="Bookman Old Style"/>
              </a:rPr>
              <a:t>Az átértékelési különbözet – a vállal-kozásnál – akkor számít jelentősnek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99"/>
                </a:solidFill>
                <a:latin typeface="Bookman Old Style"/>
              </a:rPr>
              <a:t>ha több mint 400 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52280" y="3394080"/>
            <a:ext cx="8534520" cy="3387600"/>
            <a:chOff x="152280" y="3394080"/>
            <a:chExt cx="8534520" cy="3387600"/>
          </a:xfrm>
        </p:grpSpPr>
        <p:sp>
          <p:nvSpPr>
            <p:cNvPr id="309" name=""/>
            <p:cNvSpPr/>
            <p:nvPr/>
          </p:nvSpPr>
          <p:spPr>
            <a:xfrm>
              <a:off x="2286000" y="33940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TÉRTÉKELÉSI KÜLÖNBÖZ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94640" y="4046400"/>
              <a:ext cx="992160" cy="59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333399"/>
                  </a:solidFill>
                  <a:latin typeface="Bookman Old Style"/>
                </a:rPr>
                <a:t>Veszte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333399"/>
                  </a:solidFill>
                  <a:latin typeface="Bookman Old Style"/>
                </a:rPr>
                <a:t>ség  eF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10400" y="4046400"/>
              <a:ext cx="984240" cy="59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333399"/>
                  </a:solidFill>
                  <a:latin typeface="Bookman Old Style"/>
                </a:rPr>
                <a:t>Nyere-ség  eF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0320" y="4046400"/>
              <a:ext cx="1000080" cy="59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333399"/>
                  </a:solidFill>
                  <a:latin typeface="Bookman Old Style"/>
                </a:rPr>
                <a:t>eF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95680" y="4046400"/>
              <a:ext cx="1214640" cy="59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HUF/DE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27560" y="4046400"/>
              <a:ext cx="1068120" cy="592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DE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94640" y="6478560"/>
              <a:ext cx="992160" cy="303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10400" y="6478560"/>
              <a:ext cx="984240" cy="303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4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6478560"/>
              <a:ext cx="2214720" cy="303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Bookman Old Style"/>
                </a:rPr>
                <a:t>Árfolyamnyere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7560" y="6478560"/>
              <a:ext cx="1068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39800" y="6478560"/>
              <a:ext cx="178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2280" y="6478560"/>
              <a:ext cx="1487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94640" y="6175440"/>
              <a:ext cx="992160" cy="303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10400" y="6175440"/>
              <a:ext cx="984240" cy="303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- 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6175440"/>
              <a:ext cx="1068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6175440"/>
              <a:ext cx="178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280" y="6175440"/>
              <a:ext cx="1487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94640" y="5851440"/>
              <a:ext cx="992160" cy="324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10400" y="5851440"/>
              <a:ext cx="984240" cy="324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.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95680" y="5851440"/>
              <a:ext cx="2214720" cy="627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Bookman Old Style"/>
                </a:rPr>
                <a:t>Összes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7560" y="5851440"/>
              <a:ext cx="10681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9800" y="5851440"/>
              <a:ext cx="17877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80" y="5851440"/>
              <a:ext cx="14875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4640" y="5548320"/>
              <a:ext cx="992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10400" y="5548320"/>
              <a:ext cx="984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10320" y="5548320"/>
              <a:ext cx="100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.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95680" y="5548320"/>
              <a:ext cx="1214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7560" y="5548320"/>
              <a:ext cx="1068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548320"/>
              <a:ext cx="178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.4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280" y="5548320"/>
              <a:ext cx="1487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Devizahit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94640" y="5245200"/>
              <a:ext cx="992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10400" y="5245200"/>
              <a:ext cx="984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0320" y="5245200"/>
              <a:ext cx="100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5680" y="5245200"/>
              <a:ext cx="1214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27560" y="5245200"/>
              <a:ext cx="1068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5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39800" y="5245200"/>
              <a:ext cx="178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6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2280" y="5245200"/>
              <a:ext cx="1487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Szállító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94640" y="4942080"/>
              <a:ext cx="992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10400" y="4942080"/>
              <a:ext cx="984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10320" y="4942080"/>
              <a:ext cx="100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2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4942080"/>
              <a:ext cx="1214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27560" y="4942080"/>
              <a:ext cx="10681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2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39800" y="4942080"/>
              <a:ext cx="178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2.8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2280" y="4942080"/>
              <a:ext cx="1487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Vált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94640" y="4638600"/>
              <a:ext cx="9921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0400" y="4638600"/>
              <a:ext cx="9842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0320" y="4638600"/>
              <a:ext cx="10000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4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95680" y="4638600"/>
              <a:ext cx="1214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27560" y="4638600"/>
              <a:ext cx="10681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0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39800" y="4638600"/>
              <a:ext cx="178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13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280" y="4638600"/>
              <a:ext cx="14875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Vevő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0400" y="3760920"/>
              <a:ext cx="1976400" cy="28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6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Árfoly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27560" y="3760920"/>
              <a:ext cx="3282840" cy="28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6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Fordulónapi érté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39800" y="3760920"/>
              <a:ext cx="1787760" cy="877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Könyv szeri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érték  e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2280" y="3760920"/>
              <a:ext cx="1487520" cy="877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Megnevez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2280" y="3760920"/>
              <a:ext cx="8534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2280" y="4942080"/>
              <a:ext cx="853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245200"/>
              <a:ext cx="853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2280" y="5548320"/>
              <a:ext cx="853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6781680"/>
              <a:ext cx="1487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39800" y="3760920"/>
              <a:ext cx="0" cy="20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27560" y="3760920"/>
              <a:ext cx="0" cy="20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10400" y="3760920"/>
              <a:ext cx="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5680" y="4046400"/>
              <a:ext cx="0" cy="18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0320" y="4046400"/>
              <a:ext cx="0" cy="18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94640" y="4046400"/>
              <a:ext cx="0" cy="27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280" y="4638600"/>
              <a:ext cx="853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10400" y="617544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95680" y="6478560"/>
              <a:ext cx="419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5851440"/>
              <a:ext cx="0" cy="32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95680" y="6781680"/>
              <a:ext cx="419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6175440"/>
              <a:ext cx="0" cy="303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6478560"/>
              <a:ext cx="0" cy="303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39800" y="6781680"/>
              <a:ext cx="1787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7560" y="6781680"/>
              <a:ext cx="1068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7560" y="404640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280" y="3760920"/>
              <a:ext cx="0" cy="2090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86800" y="5851440"/>
              <a:ext cx="0" cy="9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2280" y="5851440"/>
              <a:ext cx="8534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5680" y="5851440"/>
              <a:ext cx="0" cy="9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86800" y="3760920"/>
              <a:ext cx="0" cy="2090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619760" y="6046920"/>
              <a:ext cx="68580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3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200400" y="152388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1523880"/>
            <a:ext cx="0" cy="331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280" y="4495680"/>
            <a:ext cx="4267440" cy="1280880"/>
            <a:chOff x="152280" y="4495680"/>
            <a:chExt cx="4267440" cy="1280880"/>
          </a:xfrm>
        </p:grpSpPr>
        <p:grpSp>
          <p:nvGrpSpPr>
            <p:cNvPr id="394" name=""/>
            <p:cNvGrpSpPr/>
            <p:nvPr/>
          </p:nvGrpSpPr>
          <p:grpSpPr>
            <a:xfrm>
              <a:off x="152280" y="4495680"/>
              <a:ext cx="4038840" cy="1280880"/>
              <a:chOff x="152280" y="4495680"/>
              <a:chExt cx="4038840" cy="1280880"/>
            </a:xfrm>
          </p:grpSpPr>
          <p:sp>
            <p:nvSpPr>
              <p:cNvPr id="395" name=""/>
              <p:cNvSpPr/>
              <p:nvPr/>
            </p:nvSpPr>
            <p:spPr>
              <a:xfrm>
                <a:off x="152280" y="4495680"/>
                <a:ext cx="3886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976. Pénzügyi műveletek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gyéb bevéte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304920" y="4952880"/>
                <a:ext cx="3289320" cy="685800"/>
                <a:chOff x="304920" y="4952880"/>
                <a:chExt cx="3289320" cy="6858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04920" y="4952880"/>
                  <a:ext cx="3289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1828800" y="4952880"/>
                  <a:ext cx="6480" cy="68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874880" y="495288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05120" y="5214960"/>
                <a:ext cx="2286000" cy="561600"/>
                <a:chOff x="1905120" y="5214960"/>
                <a:chExt cx="2286000" cy="56160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1905120" y="5214960"/>
                  <a:ext cx="2286000" cy="561600"/>
                  <a:chOff x="1905120" y="5214960"/>
                  <a:chExt cx="2286000" cy="5616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2081520" y="5214960"/>
                    <a:ext cx="19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81520" y="5776560"/>
                    <a:ext cx="19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15080" y="5214960"/>
                    <a:ext cx="176040" cy="560520"/>
                    <a:chOff x="4015080" y="5214960"/>
                    <a:chExt cx="176040" cy="56052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015080" y="5214960"/>
                      <a:ext cx="176040" cy="280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V="1">
                      <a:off x="4015080" y="5495040"/>
                      <a:ext cx="176040" cy="280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1905120" y="5214960"/>
                    <a:ext cx="176400" cy="560520"/>
                    <a:chOff x="1905120" y="5214960"/>
                    <a:chExt cx="176400" cy="560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1905120" y="5214960"/>
                      <a:ext cx="176400" cy="280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flipV="1">
                      <a:off x="1905120" y="5495040"/>
                      <a:ext cx="176400" cy="280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0" name=""/>
                <p:cNvSpPr/>
                <p:nvPr/>
              </p:nvSpPr>
              <p:spPr>
                <a:xfrm>
                  <a:off x="1981080" y="5257800"/>
                  <a:ext cx="2133720" cy="4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Összevo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árfolyamnyeresé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1201680" y="4952880"/>
                <a:ext cx="7477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3733920" y="4952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498680" y="84240"/>
            <a:ext cx="7493040" cy="792000"/>
            <a:chOff x="1498680" y="84240"/>
            <a:chExt cx="7493040" cy="792000"/>
          </a:xfrm>
        </p:grpSpPr>
        <p:sp>
          <p:nvSpPr>
            <p:cNvPr id="414" name=""/>
            <p:cNvSpPr/>
            <p:nvPr/>
          </p:nvSpPr>
          <p:spPr>
            <a:xfrm>
              <a:off x="1498680" y="304920"/>
              <a:ext cx="6121440" cy="5713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ÁRFOLYAMNYERESÉG ELSZÁM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84240"/>
              <a:ext cx="914400" cy="44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lyt.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648320" y="3244680"/>
            <a:ext cx="2895480" cy="869760"/>
            <a:chOff x="4648320" y="3244680"/>
            <a:chExt cx="2895480" cy="869760"/>
          </a:xfrm>
        </p:grpSpPr>
        <p:grpSp>
          <p:nvGrpSpPr>
            <p:cNvPr id="417" name=""/>
            <p:cNvGrpSpPr/>
            <p:nvPr/>
          </p:nvGrpSpPr>
          <p:grpSpPr>
            <a:xfrm>
              <a:off x="4648320" y="3657600"/>
              <a:ext cx="2286000" cy="456840"/>
              <a:chOff x="4648320" y="3657600"/>
              <a:chExt cx="2286000" cy="456840"/>
            </a:xfrm>
          </p:grpSpPr>
          <p:sp>
            <p:nvSpPr>
              <p:cNvPr id="418" name=""/>
              <p:cNvSpPr/>
              <p:nvPr/>
            </p:nvSpPr>
            <p:spPr>
              <a:xfrm>
                <a:off x="4824720" y="3657600"/>
                <a:ext cx="19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24720" y="4114440"/>
                <a:ext cx="19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6758280" y="3657600"/>
                <a:ext cx="176040" cy="456480"/>
                <a:chOff x="6758280" y="3657600"/>
                <a:chExt cx="176040" cy="4564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758280" y="3657600"/>
                  <a:ext cx="1760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6758280" y="3885840"/>
                  <a:ext cx="1760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4648320" y="3657600"/>
                <a:ext cx="176400" cy="456480"/>
                <a:chOff x="4648320" y="3657600"/>
                <a:chExt cx="176400" cy="456480"/>
              </a:xfrm>
            </p:grpSpPr>
            <p:sp>
              <p:nvSpPr>
                <p:cNvPr id="424" name=""/>
                <p:cNvSpPr/>
                <p:nvPr/>
              </p:nvSpPr>
              <p:spPr>
                <a:xfrm flipH="1">
                  <a:off x="4648320" y="3657600"/>
                  <a:ext cx="1764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>
                  <a:off x="4648320" y="3885840"/>
                  <a:ext cx="1764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4800600" y="37018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Árfolyamnyere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8320" y="32446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3244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343400" y="1682640"/>
            <a:ext cx="3276720" cy="793440"/>
            <a:chOff x="4343400" y="1682640"/>
            <a:chExt cx="3276720" cy="793440"/>
          </a:xfrm>
        </p:grpSpPr>
        <p:sp>
          <p:nvSpPr>
            <p:cNvPr id="430" name=""/>
            <p:cNvSpPr/>
            <p:nvPr/>
          </p:nvSpPr>
          <p:spPr>
            <a:xfrm>
              <a:off x="4343400" y="16826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572000" y="2019240"/>
              <a:ext cx="2286000" cy="456840"/>
              <a:chOff x="4572000" y="2019240"/>
              <a:chExt cx="2286000" cy="456840"/>
            </a:xfrm>
          </p:grpSpPr>
          <p:sp>
            <p:nvSpPr>
              <p:cNvPr id="432" name=""/>
              <p:cNvSpPr/>
              <p:nvPr/>
            </p:nvSpPr>
            <p:spPr>
              <a:xfrm>
                <a:off x="4748400" y="2019240"/>
                <a:ext cx="19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48400" y="2476080"/>
                <a:ext cx="19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6681960" y="2019240"/>
                <a:ext cx="176040" cy="456480"/>
                <a:chOff x="6681960" y="2019240"/>
                <a:chExt cx="176040" cy="4564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681960" y="2019240"/>
                  <a:ext cx="1760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681960" y="2247480"/>
                  <a:ext cx="1760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572000" y="2019240"/>
                <a:ext cx="176400" cy="456480"/>
                <a:chOff x="4572000" y="2019240"/>
                <a:chExt cx="176400" cy="456480"/>
              </a:xfrm>
            </p:grpSpPr>
            <p:sp>
              <p:nvSpPr>
                <p:cNvPr id="438" name=""/>
                <p:cNvSpPr/>
                <p:nvPr/>
              </p:nvSpPr>
              <p:spPr>
                <a:xfrm flipH="1">
                  <a:off x="4572000" y="2019240"/>
                  <a:ext cx="1764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4572000" y="2247480"/>
                  <a:ext cx="1764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4724280" y="209556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Árfolyamnyere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81680" y="202572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23880" y="3244680"/>
            <a:ext cx="3048120" cy="869760"/>
            <a:chOff x="1523880" y="3244680"/>
            <a:chExt cx="3048120" cy="869760"/>
          </a:xfrm>
        </p:grpSpPr>
        <p:grpSp>
          <p:nvGrpSpPr>
            <p:cNvPr id="443" name=""/>
            <p:cNvGrpSpPr/>
            <p:nvPr/>
          </p:nvGrpSpPr>
          <p:grpSpPr>
            <a:xfrm>
              <a:off x="1523880" y="3657600"/>
              <a:ext cx="2286000" cy="456840"/>
              <a:chOff x="1523880" y="3657600"/>
              <a:chExt cx="2286000" cy="456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700280" y="3657600"/>
                <a:ext cx="19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00280" y="4114440"/>
                <a:ext cx="19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3633840" y="3657600"/>
                <a:ext cx="176040" cy="456480"/>
                <a:chOff x="3633840" y="3657600"/>
                <a:chExt cx="176040" cy="456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633840" y="3657600"/>
                  <a:ext cx="1760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3633840" y="3885840"/>
                  <a:ext cx="17604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523880" y="3657600"/>
                <a:ext cx="176400" cy="456480"/>
                <a:chOff x="1523880" y="3657600"/>
                <a:chExt cx="176400" cy="456480"/>
              </a:xfrm>
            </p:grpSpPr>
            <p:sp>
              <p:nvSpPr>
                <p:cNvPr id="450" name=""/>
                <p:cNvSpPr/>
                <p:nvPr/>
              </p:nvSpPr>
              <p:spPr>
                <a:xfrm flipH="1">
                  <a:off x="1523880" y="3657600"/>
                  <a:ext cx="1764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1523880" y="3885840"/>
                  <a:ext cx="1764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1600200" y="37018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Árfolyamveszte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00200" y="32767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33920" y="3244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473120" y="1219320"/>
            <a:ext cx="4826160" cy="4267080"/>
            <a:chOff x="1473120" y="1219320"/>
            <a:chExt cx="4826160" cy="4267080"/>
          </a:xfrm>
        </p:grpSpPr>
        <p:sp>
          <p:nvSpPr>
            <p:cNvPr id="456" name=""/>
            <p:cNvSpPr/>
            <p:nvPr/>
          </p:nvSpPr>
          <p:spPr>
            <a:xfrm>
              <a:off x="3911760" y="1682640"/>
              <a:ext cx="58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43200" y="1219320"/>
              <a:ext cx="3556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683. Átértékelési különböz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lszámolási szám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95480" y="1676520"/>
              <a:ext cx="320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43400" y="1676520"/>
              <a:ext cx="0" cy="380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676520" y="1905120"/>
              <a:ext cx="2437920" cy="423360"/>
              <a:chOff x="1676520" y="1905120"/>
              <a:chExt cx="2437920" cy="4233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1676520" y="1905120"/>
                <a:ext cx="2437920" cy="423360"/>
                <a:chOff x="1676520" y="1905120"/>
                <a:chExt cx="2437920" cy="4233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864440" y="1905120"/>
                  <a:ext cx="206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864440" y="2328480"/>
                  <a:ext cx="206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3926880" y="1905120"/>
                  <a:ext cx="187560" cy="423360"/>
                  <a:chOff x="3926880" y="1905120"/>
                  <a:chExt cx="187560" cy="4233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3926880" y="1905120"/>
                    <a:ext cx="18756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V="1">
                    <a:off x="3926880" y="2116800"/>
                    <a:ext cx="18756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1676520" y="1905120"/>
                  <a:ext cx="187920" cy="423360"/>
                  <a:chOff x="1676520" y="1905120"/>
                  <a:chExt cx="187920" cy="4233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>
                    <a:off x="1676520" y="1905120"/>
                    <a:ext cx="18792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flipV="1">
                    <a:off x="1676520" y="2116800"/>
                    <a:ext cx="18792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0" name=""/>
              <p:cNvSpPr/>
              <p:nvPr/>
            </p:nvSpPr>
            <p:spPr>
              <a:xfrm>
                <a:off x="1828800" y="1942920"/>
                <a:ext cx="227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Árfolyamvesztesé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473120" y="167652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20600" y="1371600"/>
            <a:ext cx="8871120" cy="2895480"/>
            <a:chOff x="120600" y="1371600"/>
            <a:chExt cx="8871120" cy="2895480"/>
          </a:xfrm>
        </p:grpSpPr>
        <p:sp>
          <p:nvSpPr>
            <p:cNvPr id="473" name=""/>
            <p:cNvSpPr/>
            <p:nvPr/>
          </p:nvSpPr>
          <p:spPr>
            <a:xfrm>
              <a:off x="6959520" y="1371600"/>
              <a:ext cx="203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1. Vevő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3080" y="1708200"/>
              <a:ext cx="990720" cy="337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3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1676520"/>
              <a:ext cx="19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0120" y="16765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281952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52. Devizah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527880" y="3124080"/>
              <a:ext cx="2387520" cy="1143000"/>
              <a:chOff x="6527880" y="3124080"/>
              <a:chExt cx="2387520" cy="114300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6527880" y="3124080"/>
                <a:ext cx="2387520" cy="1143000"/>
                <a:chOff x="6527880" y="3124080"/>
                <a:chExt cx="2387520" cy="11430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527880" y="3124080"/>
                  <a:ext cx="2387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38120" y="3124080"/>
                  <a:ext cx="0" cy="114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7772400" y="3200400"/>
                <a:ext cx="838080" cy="33732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4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20600" y="1371600"/>
              <a:ext cx="2698560" cy="2362320"/>
              <a:chOff x="120600" y="1371600"/>
              <a:chExt cx="2698560" cy="23623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228600" y="2590920"/>
                <a:ext cx="2387520" cy="1143000"/>
                <a:chOff x="228600" y="2590920"/>
                <a:chExt cx="2387520" cy="114300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228600" y="2895480"/>
                  <a:ext cx="2387520" cy="838440"/>
                  <a:chOff x="228600" y="2895480"/>
                  <a:chExt cx="2387520" cy="83844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228600" y="2895480"/>
                    <a:ext cx="2387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1339920" y="2895480"/>
                    <a:ext cx="0" cy="83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>
                  <a:off x="228600" y="2590920"/>
                  <a:ext cx="22860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 algn="ctr">
                    <a:lnSpc>
                      <a:spcPct val="9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454. Szállító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447920" y="3016080"/>
                  <a:ext cx="761760" cy="3373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6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20600" y="1371600"/>
                <a:ext cx="2698560" cy="1067040"/>
                <a:chOff x="120600" y="1371600"/>
                <a:chExt cx="2698560" cy="106704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228600" y="1676520"/>
                  <a:ext cx="2361960" cy="762120"/>
                  <a:chOff x="228600" y="1676520"/>
                  <a:chExt cx="2361960" cy="76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228600" y="1676520"/>
                    <a:ext cx="2361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1327680" y="1676520"/>
                    <a:ext cx="0" cy="762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4" name=""/>
                <p:cNvSpPr/>
                <p:nvPr/>
              </p:nvSpPr>
              <p:spPr>
                <a:xfrm>
                  <a:off x="120600" y="1371600"/>
                  <a:ext cx="26985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 algn="ctr">
                    <a:lnSpc>
                      <a:spcPct val="9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34. Váltókövetelése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7200" y="1797120"/>
                  <a:ext cx="761760" cy="3373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28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7" dur="1" fill="hold"/>
                                  <p:tgtEl>
                                    <p:spTgt spid="3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Fontosabb gazdasági események elszámolás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47920" y="84240"/>
            <a:ext cx="7619760" cy="619200"/>
            <a:chOff x="1447920" y="84240"/>
            <a:chExt cx="7619760" cy="619200"/>
          </a:xfrm>
        </p:grpSpPr>
        <p:sp>
          <p:nvSpPr>
            <p:cNvPr id="104" name=""/>
            <p:cNvSpPr/>
            <p:nvPr/>
          </p:nvSpPr>
          <p:spPr>
            <a:xfrm>
              <a:off x="8432640" y="84240"/>
              <a:ext cx="63504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228600"/>
              <a:ext cx="6298920" cy="4748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JELLEMZŐ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-228600" y="1066680"/>
            <a:ext cx="4724280" cy="4114800"/>
            <a:chOff x="-228600" y="1066680"/>
            <a:chExt cx="4724280" cy="4114800"/>
          </a:xfrm>
        </p:grpSpPr>
        <p:sp>
          <p:nvSpPr>
            <p:cNvPr id="107" name=""/>
            <p:cNvSpPr/>
            <p:nvPr/>
          </p:nvSpPr>
          <p:spPr>
            <a:xfrm>
              <a:off x="-228600" y="1276200"/>
              <a:ext cx="4724280" cy="39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ÁÍR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ITELESÍT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APCSOLAT A KÖNYVVITE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YILVÁNTARTÁSOKK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APCSOLAT A LELTÁR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ETÉTBE HELYEZ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LLOMÁNYI ADAT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DULÓN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ÉRLEGKÉSZÍTÉS IDE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280" y="1066680"/>
              <a:ext cx="34290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SZÁMVITELI OKMÁ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429000"/>
              <a:ext cx="426744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ADOTT IDŐPONTRA VONATKOZ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0" y="1071720"/>
            <a:ext cx="4648320" cy="5403240"/>
            <a:chOff x="4572000" y="1071720"/>
            <a:chExt cx="4648320" cy="5403240"/>
          </a:xfrm>
        </p:grpSpPr>
        <p:sp>
          <p:nvSpPr>
            <p:cNvPr id="111" name=""/>
            <p:cNvSpPr/>
            <p:nvPr/>
          </p:nvSpPr>
          <p:spPr>
            <a:xfrm>
              <a:off x="4800600" y="3586320"/>
              <a:ext cx="39625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SZKÖZÖKET ÉS FORRÁSOK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TARTALM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1071720"/>
              <a:ext cx="342900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PÉNZÉRTÉKBEN ÖSSZESÍ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1224000"/>
              <a:ext cx="4419720" cy="52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LFÖLDÖN ezer Ft-BAN; ha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mérlegfőösszeg meghaladja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ázmilliárd Ft-ot, akkor milli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t-b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ÁMSZABAD TERÜLETEN A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MNB ÁLTAL JEGYZETT DEV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ÁB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KTIVÁLÁS KRITÉRIUM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ÉRTÉKELÉS ELV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O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ÉRTÉKROVAT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CSOPORTOSÍT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SZKÖZÖK ÉS FORR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800600"/>
              <a:ext cx="39625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LŐÍRT STRUKTÚRA É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CSOPORTOSÍ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143000"/>
              <a:ext cx="0" cy="5257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320840" y="114480"/>
            <a:ext cx="7670880" cy="723600"/>
            <a:chOff x="1320840" y="114480"/>
            <a:chExt cx="7670880" cy="723600"/>
          </a:xfrm>
        </p:grpSpPr>
        <p:sp>
          <p:nvSpPr>
            <p:cNvPr id="117" name=""/>
            <p:cNvSpPr/>
            <p:nvPr/>
          </p:nvSpPr>
          <p:spPr>
            <a:xfrm>
              <a:off x="8356680" y="114480"/>
              <a:ext cx="63504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20840" y="304920"/>
              <a:ext cx="6299280" cy="533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TÉTELEK ÉRTÉKELÉSÉN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90920" y="1790640"/>
            <a:ext cx="2082600" cy="2247840"/>
            <a:chOff x="2590920" y="1790640"/>
            <a:chExt cx="2082600" cy="2247840"/>
          </a:xfrm>
        </p:grpSpPr>
        <p:sp>
          <p:nvSpPr>
            <p:cNvPr id="120" name=""/>
            <p:cNvSpPr/>
            <p:nvPr/>
          </p:nvSpPr>
          <p:spPr>
            <a:xfrm>
              <a:off x="2590920" y="2889360"/>
              <a:ext cx="208260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TATIK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DINAMIK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ORGANIKUS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1790640"/>
              <a:ext cx="1752480" cy="723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MÉ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72000" y="1790640"/>
            <a:ext cx="2286000" cy="2247840"/>
            <a:chOff x="4572000" y="1790640"/>
            <a:chExt cx="2286000" cy="2247840"/>
          </a:xfrm>
        </p:grpSpPr>
        <p:sp>
          <p:nvSpPr>
            <p:cNvPr id="123" name=""/>
            <p:cNvSpPr/>
            <p:nvPr/>
          </p:nvSpPr>
          <p:spPr>
            <a:xfrm>
              <a:off x="4572000" y="2819520"/>
              <a:ext cx="22860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IDŐÉRT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REALIZÁCIÓ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DUÁLIS (IDŐ-ÉRTÉK ÉS REALIZÁCIÓS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1790640"/>
              <a:ext cx="1752480" cy="723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ELÉ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58000" y="1790640"/>
            <a:ext cx="2082960" cy="2247840"/>
            <a:chOff x="6858000" y="1790640"/>
            <a:chExt cx="2082960" cy="2247840"/>
          </a:xfrm>
        </p:grpSpPr>
        <p:sp>
          <p:nvSpPr>
            <p:cNvPr id="126" name=""/>
            <p:cNvSpPr/>
            <p:nvPr/>
          </p:nvSpPr>
          <p:spPr>
            <a:xfrm>
              <a:off x="6858000" y="2819520"/>
              <a:ext cx="20829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AP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BEKERÜLÉS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BEKERÜLÉSI ÉS UTÁNPÓT-LÁSI Á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0" y="1790640"/>
              <a:ext cx="1752480" cy="723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ELÉS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3520" y="4114800"/>
            <a:ext cx="8610480" cy="2590920"/>
            <a:chOff x="533520" y="4114800"/>
            <a:chExt cx="8610480" cy="2590920"/>
          </a:xfrm>
        </p:grpSpPr>
        <p:sp>
          <p:nvSpPr>
            <p:cNvPr id="129" name=""/>
            <p:cNvSpPr/>
            <p:nvPr/>
          </p:nvSpPr>
          <p:spPr>
            <a:xfrm>
              <a:off x="3048120" y="4114800"/>
              <a:ext cx="3352680" cy="533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GYAKORL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(A számviteli törvény szer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520" y="4870440"/>
              <a:ext cx="259056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EGBÍZHATÓ VALÓS KÉP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LSŐDLEGES AZ EREDMÉNY (ÉRVÉNYESÜL A VÁLLALKOZÁS FOLYTATÁSÁNAK ELVE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4876920"/>
              <a:ext cx="2082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DINAMIK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8320" y="4876920"/>
              <a:ext cx="228600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REALIZÁCIÓ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4870440"/>
              <a:ext cx="243828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BEKERÜLÉSI ÉRTÉK (ÉRVÉNYESÜL AZ ÓVATOSSÁG ELVE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9480" y="1066680"/>
            <a:ext cx="5334120" cy="3200400"/>
            <a:chOff x="609480" y="1066680"/>
            <a:chExt cx="5334120" cy="3200400"/>
          </a:xfrm>
        </p:grpSpPr>
        <p:sp>
          <p:nvSpPr>
            <p:cNvPr id="135" name=""/>
            <p:cNvSpPr/>
            <p:nvPr/>
          </p:nvSpPr>
          <p:spPr>
            <a:xfrm>
              <a:off x="3124080" y="1066680"/>
              <a:ext cx="2819520" cy="506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MÉL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1790640"/>
              <a:ext cx="1752480" cy="723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É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2895480"/>
              <a:ext cx="2082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VAGY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REDMÉ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VAGYON ÉS EREDMÉNY KIMUTATÁ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219320" y="76320"/>
            <a:ext cx="7772400" cy="838080"/>
            <a:chOff x="1219320" y="76320"/>
            <a:chExt cx="7772400" cy="838080"/>
          </a:xfrm>
        </p:grpSpPr>
        <p:sp>
          <p:nvSpPr>
            <p:cNvPr id="139" name=""/>
            <p:cNvSpPr/>
            <p:nvPr/>
          </p:nvSpPr>
          <p:spPr>
            <a:xfrm>
              <a:off x="8305920" y="76320"/>
              <a:ext cx="685800" cy="30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369720"/>
              <a:ext cx="6781680" cy="5446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ÉRLEGTÉTELEK ÉRTÉKELÉSÉNEK ÁTTEKINTÉ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981080" y="2717640"/>
            <a:ext cx="1905120" cy="24750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475000"/>
              <a:gd name="textAreaBottom" fmla="*/ 2382120 h 2475000"/>
            </a:gdLst>
            <a:ahLst/>
            <a:rect l="textAreaLeft" t="textAreaTop" r="textAreaRight" b="textAreaBottom"/>
            <a:pathLst>
              <a:path w="21600" h="28060">
                <a:moveTo>
                  <a:pt x="3600" y="0"/>
                </a:moveTo>
                <a:arcTo wR="3600" hR="3600" stAng="16200000" swAng="-5400000"/>
                <a:lnTo>
                  <a:pt x="0" y="24460"/>
                </a:lnTo>
                <a:arcTo wR="3600" hR="3600" stAng="10800000" swAng="-5400000"/>
                <a:lnTo>
                  <a:pt x="18000" y="280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VÁSÁRO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ÉSZL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ÉRTÉKP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PÍ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BEFEKT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TETT PÉN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ÜGYI ESZKÖ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ZÖ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717640"/>
            <a:ext cx="1905120" cy="24750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475000"/>
              <a:gd name="textAreaBottom" fmla="*/ 2382120 h 2475000"/>
            </a:gdLst>
            <a:ahLst/>
            <a:rect l="textAreaLeft" t="textAreaTop" r="textAreaRight" b="textAreaBottom"/>
            <a:pathLst>
              <a:path w="21600" h="28060">
                <a:moveTo>
                  <a:pt x="3600" y="0"/>
                </a:moveTo>
                <a:arcTo wR="3600" hR="3600" stAng="16200000" swAng="-5400000"/>
                <a:lnTo>
                  <a:pt x="0" y="24460"/>
                </a:lnTo>
                <a:arcTo wR="3600" hR="3600" stAng="10800000" swAng="-5400000"/>
                <a:lnTo>
                  <a:pt x="18000" y="280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SAJÁT ELŐ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ÁLLÍTÁS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ESZKÖZÖ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AKTIVÁ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ÉRTÉ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SAJÁT T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MELÉS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ÉSZL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717640"/>
            <a:ext cx="2133360" cy="24750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75000"/>
              <a:gd name="textAreaBottom" fmla="*/ 2370960 h 2475000"/>
            </a:gdLst>
            <a:ahLst/>
            <a:rect l="textAreaLeft" t="textAreaTop" r="textAreaRight" b="textAreaBottom"/>
            <a:pathLst>
              <a:path w="21600" h="25058">
                <a:moveTo>
                  <a:pt x="3600" y="0"/>
                </a:moveTo>
                <a:arcTo wR="3600" hR="3600" stAng="16200000" swAng="-5400000"/>
                <a:lnTo>
                  <a:pt x="0" y="21458"/>
                </a:lnTo>
                <a:arcTo wR="3600" hR="3600" stAng="10800000" swAng="-5400000"/>
                <a:lnTo>
                  <a:pt x="18000" y="25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ÖVETELÉS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PÉNZESZKÖZÖ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SAJÁT TŐ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CÉLTARTALÉ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ÖTELEZET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SÉG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AKTÍV 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PASSZÍV IDŐ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BELI ELHATÁ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ROLÁS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717640"/>
            <a:ext cx="1905120" cy="3911760"/>
            <a:chOff x="228600" y="2717640"/>
            <a:chExt cx="1905120" cy="3911760"/>
          </a:xfrm>
        </p:grpSpPr>
        <p:sp>
          <p:nvSpPr>
            <p:cNvPr id="145" name=""/>
            <p:cNvSpPr/>
            <p:nvPr/>
          </p:nvSpPr>
          <p:spPr>
            <a:xfrm>
              <a:off x="304920" y="5029200"/>
              <a:ext cx="1523880" cy="533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ETT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RT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316692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4670280"/>
              <a:ext cx="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2717640"/>
              <a:ext cx="1447920" cy="55908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BRUTT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ÉRTÉ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920" y="3543480"/>
              <a:ext cx="1600200" cy="1180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LSZÁMO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ÉRTÉK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CSÖKKENÉ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VISSZAÍRÁ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5791320"/>
              <a:ext cx="190512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MMATERIÁL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BEFEKTETE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TÁRGYI ESZK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5562720"/>
              <a:ext cx="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3200400"/>
              <a:ext cx="9144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Bookman Old Style"/>
                </a:rPr>
                <a:t>(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30000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46483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=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200040" y="2819520"/>
            <a:ext cx="4343760" cy="3809880"/>
            <a:chOff x="3200040" y="2819520"/>
            <a:chExt cx="4343760" cy="3809880"/>
          </a:xfrm>
        </p:grpSpPr>
        <p:sp>
          <p:nvSpPr>
            <p:cNvPr id="155" name=""/>
            <p:cNvSpPr/>
            <p:nvPr/>
          </p:nvSpPr>
          <p:spPr>
            <a:xfrm>
              <a:off x="5486400" y="5791320"/>
              <a:ext cx="205740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DEVIZA (VALUT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ÁRFOLY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KÜLÖNBÖZET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ELSZÁMOLÁ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352680" y="4114440"/>
              <a:ext cx="2743200" cy="16765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200040" y="3580920"/>
              <a:ext cx="2971800" cy="2210040"/>
            </a:xfrm>
            <a:prstGeom prst="line">
              <a:avLst/>
            </a:prstGeom>
            <a:ln cap="rnd" w="28440">
              <a:solidFill>
                <a:srgbClr val="cc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172200" y="2819520"/>
              <a:ext cx="457200" cy="2971800"/>
              <a:chOff x="6172200" y="2819520"/>
              <a:chExt cx="457200" cy="2971800"/>
            </a:xfrm>
          </p:grpSpPr>
          <p:sp>
            <p:nvSpPr>
              <p:cNvPr id="159" name=""/>
              <p:cNvSpPr/>
              <p:nvPr/>
            </p:nvSpPr>
            <p:spPr>
              <a:xfrm>
                <a:off x="6172200" y="2819520"/>
                <a:ext cx="0" cy="297180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72200" y="2819520"/>
                <a:ext cx="4572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72200" y="3048120"/>
                <a:ext cx="3045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72200" y="3962520"/>
                <a:ext cx="3045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72200" y="4419720"/>
                <a:ext cx="3045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914400" y="1122480"/>
            <a:ext cx="7922520" cy="1620360"/>
            <a:chOff x="914400" y="1122480"/>
            <a:chExt cx="7922520" cy="1620360"/>
          </a:xfrm>
        </p:grpSpPr>
        <p:grpSp>
          <p:nvGrpSpPr>
            <p:cNvPr id="165" name=""/>
            <p:cNvGrpSpPr/>
            <p:nvPr/>
          </p:nvGrpSpPr>
          <p:grpSpPr>
            <a:xfrm>
              <a:off x="1369800" y="1122480"/>
              <a:ext cx="7467120" cy="1600200"/>
              <a:chOff x="1369800" y="1122480"/>
              <a:chExt cx="7467120" cy="1600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012760" y="1122480"/>
                <a:ext cx="5780160" cy="4176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EKERÜLÉSI ÉRT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1369800" y="1887480"/>
                <a:ext cx="7467120" cy="520920"/>
                <a:chOff x="1369800" y="1887480"/>
                <a:chExt cx="7467120" cy="5209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369800" y="1887480"/>
                  <a:ext cx="2328480" cy="520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BESZERZÉS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ÉRTÉ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39480" y="1887480"/>
                  <a:ext cx="2408760" cy="520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ELŐÁLLÍTÁS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KÖLTSÉ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08800" y="1887480"/>
                  <a:ext cx="2328120" cy="520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KÖNYVSZERINT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ÉRTÉ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414520" y="1540080"/>
                <a:ext cx="0" cy="34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43320" y="1540080"/>
                <a:ext cx="0" cy="34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72160" y="1540080"/>
                <a:ext cx="0" cy="34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72160" y="2373480"/>
                <a:ext cx="0" cy="34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43320" y="2373480"/>
                <a:ext cx="0" cy="34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914400" y="2408400"/>
              <a:ext cx="3733200" cy="334440"/>
              <a:chOff x="914400" y="2408400"/>
              <a:chExt cx="3733200" cy="334440"/>
            </a:xfrm>
          </p:grpSpPr>
          <p:sp>
            <p:nvSpPr>
              <p:cNvPr id="177" name=""/>
              <p:cNvSpPr/>
              <p:nvPr/>
            </p:nvSpPr>
            <p:spPr>
              <a:xfrm>
                <a:off x="2846160" y="2408400"/>
                <a:ext cx="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14400" y="2514600"/>
                <a:ext cx="373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4400" y="251460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18080" y="251820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46160" y="252072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2819520" y="2819520"/>
            <a:ext cx="6095880" cy="3809880"/>
            <a:chOff x="2819520" y="2819520"/>
            <a:chExt cx="6095880" cy="3809880"/>
          </a:xfrm>
        </p:grpSpPr>
        <p:grpSp>
          <p:nvGrpSpPr>
            <p:cNvPr id="183" name=""/>
            <p:cNvGrpSpPr/>
            <p:nvPr/>
          </p:nvGrpSpPr>
          <p:grpSpPr>
            <a:xfrm>
              <a:off x="2819520" y="4800600"/>
              <a:ext cx="2438280" cy="1828800"/>
              <a:chOff x="2819520" y="4800600"/>
              <a:chExt cx="2438280" cy="1828800"/>
            </a:xfrm>
          </p:grpSpPr>
          <p:sp>
            <p:nvSpPr>
              <p:cNvPr id="184" name=""/>
              <p:cNvSpPr/>
              <p:nvPr/>
            </p:nvSpPr>
            <p:spPr>
              <a:xfrm>
                <a:off x="2895480" y="5791320"/>
                <a:ext cx="2057400" cy="838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ÉRTÉKVESZTÉSE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ÉS VISSZAÍRÁSO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ELSZÁMOLÁSA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2819520" y="5181480"/>
                <a:ext cx="914400" cy="6098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809880" y="4800600"/>
                <a:ext cx="1447920" cy="9907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V="1">
              <a:off x="8915400" y="2819520"/>
              <a:ext cx="0" cy="274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001000" y="4343400"/>
              <a:ext cx="9144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458200" y="281952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86200" y="5562360"/>
              <a:ext cx="144792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5562720"/>
              <a:ext cx="3581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4038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z eszközök bekerülési érté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Z ESZKÖZÖ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MEGSZERZÉ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LÉTESÍTÉ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ÜZEMBEHELYEZÉSE érd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ké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üzembehelyezésig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 raktárba történő beszállítás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FELMERÜLT, AZ ESZKÖZÖK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HÖZ EGYEDILEG HOZZÁKAP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CSOLHATÓ TÉTELEK EGYÜT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TES ÖSSZEGE.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07960" y="84240"/>
            <a:ext cx="8483760" cy="795240"/>
            <a:chOff x="507960" y="84240"/>
            <a:chExt cx="8483760" cy="795240"/>
          </a:xfrm>
        </p:grpSpPr>
        <p:sp>
          <p:nvSpPr>
            <p:cNvPr id="194" name=""/>
            <p:cNvSpPr/>
            <p:nvPr/>
          </p:nvSpPr>
          <p:spPr>
            <a:xfrm>
              <a:off x="8356680" y="84240"/>
              <a:ext cx="63504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3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7960" y="42228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2880" y="304920"/>
              <a:ext cx="7188120" cy="474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KERÜLÉSI (beszerzési és előállítási) ÉRTÉ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267080" y="1050840"/>
            <a:ext cx="4800600" cy="5482800"/>
            <a:chOff x="4267080" y="1050840"/>
            <a:chExt cx="4800600" cy="5482800"/>
          </a:xfrm>
        </p:grpSpPr>
        <p:sp>
          <p:nvSpPr>
            <p:cNvPr id="198" name=""/>
            <p:cNvSpPr/>
            <p:nvPr/>
          </p:nvSpPr>
          <p:spPr>
            <a:xfrm>
              <a:off x="4343400" y="1050840"/>
              <a:ext cx="4191120" cy="34272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BESZERZÉSI ÉRT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7080" y="1508040"/>
              <a:ext cx="4800600" cy="50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ÜLÖNBÖZŐ MÓDOSÍTÓ TÉT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LEKKEL NÖVELT ÉS CSÖKKENTET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i="1" lang="hu-HU" sz="1800" spc="-1" strike="noStrike">
                  <a:solidFill>
                    <a:srgbClr val="cc0000"/>
                  </a:solidFill>
                  <a:latin typeface="Bookman Old Style"/>
                </a:rPr>
                <a:t>VÉTELÁ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SZERZÉSI ÉRTÉKNEK minősü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NEM PÉNZBENI VAGYONI HO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ÁJÁRULÁSKÉNT átvett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LÉTESÍTŐ OKIRATBAN MEGHAT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ROZOTT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ÜZLETI VAGY CÉGÉRTÉK bekerülé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i értéke a KISZÁMÍTOTT KÜLÖNBÖ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ETI ÖSSZ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Gazdasági társaságban lévő TULAJ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DONI RÉSZESEDÉST JELENTŐ B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EKTETÉS bekerülési értéke – üzl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i vagy cégérték kimutatása esetén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POZITÍV ÜZLETI VAGY CÉGÉRTÉK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EL CSÖKKENTETT, A NEGATÍV Ü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LETI VAGY CÉGÉRTÉKKEL NÖVE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ÉTELÁ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1203120"/>
              <a:ext cx="0" cy="5257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320" y="8377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GAZDASÁGI TÁRSASÁGBAN LÉ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tulajdoni részesedést jelentő b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fektetés bekerülési értéke a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LAPÍTÁSKOR BEFIZETETT PÉ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ÉS ÁTADOTT ESZKÖZ ELISM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ÉRTÉ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Gazdasági társaság ÁTALAKULÁ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esetén a megszűnt társaságban lé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vő részesedés helyett az új társa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ságban kapott részesedés bekerü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lési értéke A MEGSZŰNT RÉSZ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SEDÉSRE JUTÓ VAGYONMÉRL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SZERINTI SAJÁT TŐKE ÖSSZE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 KÖVETELÉS FEJÉBEN ÁTVET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ESZKÖZ beszerzési értéke A MEG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ÁLLAPODÁS, csereszerződés, va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gyonfelosztási javaslat SZERI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ÉRTÉ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84240"/>
            <a:ext cx="914400" cy="4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lyt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648320" y="838080"/>
            <a:ext cx="4572000" cy="4876920"/>
            <a:chOff x="4648320" y="838080"/>
            <a:chExt cx="4572000" cy="4876920"/>
          </a:xfrm>
        </p:grpSpPr>
        <p:sp>
          <p:nvSpPr>
            <p:cNvPr id="204" name=""/>
            <p:cNvSpPr/>
            <p:nvPr/>
          </p:nvSpPr>
          <p:spPr>
            <a:xfrm>
              <a:off x="4648320" y="838080"/>
              <a:ext cx="4572000" cy="47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CSERE ÚTJÁN beszerzett eszkö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szerzési értéke a CSERÉ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DOTT ESZKÖZ ELADÁSI Á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TÉRÍTÉS NÉLKÜL átvett eszkö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szerzési értéke AZ ÁTADÓNÁ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IMUTATOTT ÉRTÉK, DE LEG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ELJEBB A PIACI ÉRTÉ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JÁNDÉKKÉNT, HAGYATÉKKÉ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apott eszköz, a TÖBBLETKÉ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ELLELT eszköz beszerzési érté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PIACI ÉRTÉ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•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PÉNZÜGYI LÍZING keretében át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dott,  részletfizetéssel értékesí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ett, KÉSŐBB VISSZAVETT –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evő által használt – ESZKÖZ b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erülési értékének A PIACI ÉRTÉ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ET, legfeljebb az eredeti eladá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árat kell figyelembe ven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914400"/>
              <a:ext cx="0" cy="48006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077320" y="84240"/>
            <a:ext cx="914400" cy="4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lyt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724280" y="955800"/>
            <a:ext cx="4419720" cy="4835520"/>
            <a:chOff x="4724280" y="955800"/>
            <a:chExt cx="4419720" cy="4835520"/>
          </a:xfrm>
        </p:grpSpPr>
        <p:sp>
          <p:nvSpPr>
            <p:cNvPr id="208" name=""/>
            <p:cNvSpPr/>
            <p:nvPr/>
          </p:nvSpPr>
          <p:spPr>
            <a:xfrm>
              <a:off x="4724280" y="955800"/>
              <a:ext cx="4419720" cy="42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LVÉGZETT, a nyújtott,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eljesített SZOLGÁLTATÁ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LŐÁLLÍTÁSI ÉRTÉKÉT azo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ltségek képzik, amel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OLGÁLTATÁS VÉGZÉS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yújtása, teljesítése sorá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ÖZVETLENÜL FELMERÜL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OLGÁLTATÁS VÉGZÉSÉ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EL, nyújtásával, teljesítésé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el SZOROS KAPCSOLATB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OLTA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OLGÁLTATÁSRA MEG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ELELŐ MUTATÓK, JELLEM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ŐK SEGÍTSÉGÉVEL ELSZ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MOLHATÓ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24280" y="1066680"/>
              <a:ext cx="0" cy="472464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495360"/>
            <a:ext cx="4876920" cy="5448240"/>
            <a:chOff x="0" y="495360"/>
            <a:chExt cx="4876920" cy="5448240"/>
          </a:xfrm>
        </p:grpSpPr>
        <p:sp>
          <p:nvSpPr>
            <p:cNvPr id="211" name=""/>
            <p:cNvSpPr/>
            <p:nvPr/>
          </p:nvSpPr>
          <p:spPr>
            <a:xfrm>
              <a:off x="0" y="971640"/>
              <a:ext cx="4876920" cy="49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SZKÖZ ELŐÁLLÍTÁSI ÉRTÉ-KÉT KÉPEZIK AZOK A KÖLTSÉ-GEK, AMEL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SZKÖZ (TERMÉK) ELŐÁLLÍ-TÁSA, üzembehelyezése, bővíté-se, rendeltetésének megváltoz-tatása, átalakítása, eredeti álla-gának helyreállítása SORÁN KÖZVETLENÜL FELMERÜLT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LŐÁLLÍTÁSSAL bizonyítha-tóan SZOROS KAPCSOLATBAN VOLTA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SZKÖZRE (termékre) meg-felelő MUTATÓK, JELLEMZŐK SEGÍTSÉGÉVEL ELSZÁMOLHA-TÓ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EGYÜTTESEN: KÖZVETL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      </a:t>
              </a: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ÖN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920" y="495360"/>
              <a:ext cx="3657600" cy="342720"/>
            </a:xfrm>
            <a:prstGeom prst="flowChartAlternate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ŐÁLLÍTÁSI ÉRT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5960" y="888840"/>
            <a:ext cx="43434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ffffff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A SAJÁT kiskereskedelmi egy-ségbe kiszállított, illetve FEL-HASZNÁLT SAJÁT ELŐÁLLÍTÁ-SÚ TERMÉK forgalmi értéke után fizeten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d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járul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termékdíj összege is a TERMÉ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BEKERÜLÉSI (BESZERZÉSI) ÉRTÉKÉNEK (ELŐÁLLÍTÁSI KÖLTSÉGÉNEK) RÉSZÉT KÉ-PEZI.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84240"/>
            <a:ext cx="914400" cy="44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lyt.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95680" y="914400"/>
            <a:ext cx="4648320" cy="4800600"/>
            <a:chOff x="4495680" y="914400"/>
            <a:chExt cx="4648320" cy="4800600"/>
          </a:xfrm>
        </p:grpSpPr>
        <p:sp>
          <p:nvSpPr>
            <p:cNvPr id="216" name=""/>
            <p:cNvSpPr/>
            <p:nvPr/>
          </p:nvSpPr>
          <p:spPr>
            <a:xfrm>
              <a:off x="4800600" y="3200400"/>
              <a:ext cx="0" cy="9144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914400"/>
              <a:ext cx="4572000" cy="47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LŐÁLLÍTÁSI KÖLTSÉG KÖ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ÖTT KELL ELSZÁMOL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IDEGEN VÁLLALKOZÓ ÁL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AL MEGVALÓSÍTOTT BERU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HÁZÁSHO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BERUHÁZÓ ÁLTAL BIZTOSÍ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OTT (az idegen vállalkozó f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lé nem számlázot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VÁSÁROLT ANYAG BESZERZÉSI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ÉRTÉKÉT, A SAJÁT ELŐÁLLÍT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SÚ TERMÉK, nyújtott szolgált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tás közvetlen ÖNKÖLTSÉGÉ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vásárolt anyag, a saját elő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állítású termék tényleges B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ÉPÍTÉSEKO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OLGÁLTATÁSNYÚJTÁS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GYIDEJŰL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990720"/>
              <a:ext cx="0" cy="4724280"/>
            </a:xfrm>
            <a:prstGeom prst="line">
              <a:avLst/>
            </a:prstGeom>
            <a:ln cap="rnd" w="1260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4:41Z</dcterms:modified>
  <cp:revision>58</cp:revision>
  <dc:subject/>
  <dc:title>1. dia</dc:title>
</cp:coreProperties>
</file>