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458D-FF6C-4F48-BCCE-03AA513B079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78068-F703-4570-8609-FCA26B40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4F274-F61A-4A2F-83D1-9A0BD343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B8225-130E-4FE1-ACCC-019A4B66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5596C-4979-4CE5-B7CB-31C2ADE1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3C872-1EE5-47C0-B64B-8BC7D41B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E8632-6854-4785-8A9B-F7FFB108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CE869-DFD7-4256-981B-ED8DD6F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CEC0C-10F9-4652-96BE-43854B62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25397-4BFF-48D7-8B47-EE3B587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16158-C955-4956-A170-ED21F331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D660A-412A-4F9E-AB80-BEE9075F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8D452-5A68-494E-A5BF-0A90BFF6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FE3B-731A-4D1D-84DA-273C823E3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9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20680" y="152280"/>
            <a:ext cx="8771040" cy="743040"/>
            <a:chOff x="220680" y="152280"/>
            <a:chExt cx="8771040" cy="743040"/>
          </a:xfrm>
        </p:grpSpPr>
        <p:sp>
          <p:nvSpPr>
            <p:cNvPr id="300" name=""/>
            <p:cNvSpPr/>
            <p:nvPr/>
          </p:nvSpPr>
          <p:spPr>
            <a:xfrm>
              <a:off x="7961400" y="152280"/>
              <a:ext cx="1030320" cy="303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0680" y="380880"/>
              <a:ext cx="7704000" cy="514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IZONYLATOKRA VONATKOZÓ SZIGORÚ SZÁMADÁ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TELEZET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-76320" y="1368360"/>
            <a:ext cx="4876920" cy="2507400"/>
            <a:chOff x="-76320" y="1368360"/>
            <a:chExt cx="4876920" cy="2507400"/>
          </a:xfrm>
        </p:grpSpPr>
        <p:sp>
          <p:nvSpPr>
            <p:cNvPr id="303" name=""/>
            <p:cNvSpPr/>
            <p:nvPr/>
          </p:nvSpPr>
          <p:spPr>
            <a:xfrm>
              <a:off x="-76320" y="1382760"/>
              <a:ext cx="3808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4560" y="1368360"/>
              <a:ext cx="449604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igorú számadási kötelezettség alá tartoznak azok a BIZONYLATOK (NYOMTATVÁNYOK), amely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ILLETÉKTELEN FELHASZN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ÓKNAK MEGKÖNNYÍTIK A  CSA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ÁST, ILYENEK A PÉNZKEZEL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ZÁS STB. BIZONYLATA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80060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4035600"/>
            <a:ext cx="4572000" cy="1300680"/>
            <a:chOff x="0" y="4035600"/>
            <a:chExt cx="4572000" cy="1300680"/>
          </a:xfrm>
        </p:grpSpPr>
        <p:sp>
          <p:nvSpPr>
            <p:cNvPr id="307" name=""/>
            <p:cNvSpPr/>
            <p:nvPr/>
          </p:nvSpPr>
          <p:spPr>
            <a:xfrm>
              <a:off x="0" y="4050000"/>
              <a:ext cx="35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0880" y="4035600"/>
              <a:ext cx="419112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melyekért a nyomtatván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rtékénél nagyobb összeget k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izetni (pl. ajándékutalvány, étkezési jegy, belépő jegy)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724280" y="1384200"/>
            <a:ext cx="4343040" cy="2809080"/>
            <a:chOff x="4724280" y="1384200"/>
            <a:chExt cx="4343040" cy="2809080"/>
          </a:xfrm>
        </p:grpSpPr>
        <p:sp>
          <p:nvSpPr>
            <p:cNvPr id="310" name=""/>
            <p:cNvSpPr/>
            <p:nvPr/>
          </p:nvSpPr>
          <p:spPr>
            <a:xfrm>
              <a:off x="4724280" y="1398600"/>
              <a:ext cx="339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63400" y="1384200"/>
              <a:ext cx="4003920" cy="28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IGORÚ SZÁMADÁS ALÁ VONT BIZONYLATOKRÓL, nyomtatványokról a kezelésükkel megbízott, vagy a ki-bocsátásukra jogosult személynek OLYAN NYILVÁNTARTÁST KELL VEZETNI, AMELY BIZTO-SÍTJA AZOK ELSZÁMOLTA-TÁSÁ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724280" y="4336920"/>
            <a:ext cx="4267080" cy="1300680"/>
            <a:chOff x="4724280" y="4336920"/>
            <a:chExt cx="4267080" cy="1300680"/>
          </a:xfrm>
        </p:grpSpPr>
        <p:sp>
          <p:nvSpPr>
            <p:cNvPr id="313" name=""/>
            <p:cNvSpPr/>
            <p:nvPr/>
          </p:nvSpPr>
          <p:spPr>
            <a:xfrm>
              <a:off x="4724280" y="4351320"/>
              <a:ext cx="33300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57280" y="4336920"/>
              <a:ext cx="393408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igorú számadási kötelezettség a bizonylatot, a nyomtatványt kibocsátót terhel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316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8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IZONYLAT KIÁLLÍTÁSÁNAK KÖVETELMÉNYEI 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0" y="911160"/>
            <a:ext cx="4876920" cy="916920"/>
            <a:chOff x="0" y="911160"/>
            <a:chExt cx="4876920" cy="916920"/>
          </a:xfrm>
        </p:grpSpPr>
        <p:sp>
          <p:nvSpPr>
            <p:cNvPr id="319" name=""/>
            <p:cNvSpPr/>
            <p:nvPr/>
          </p:nvSpPr>
          <p:spPr>
            <a:xfrm>
              <a:off x="0" y="9255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0880" y="911160"/>
              <a:ext cx="449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IZONYLAT SZERKESZTÉSEKOR a VILÁGOSSÁG ELVÉT szem előtt kell tarta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724280" y="8380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1811160"/>
            <a:ext cx="4648320" cy="1191240"/>
            <a:chOff x="0" y="1811160"/>
            <a:chExt cx="4648320" cy="1191240"/>
          </a:xfrm>
        </p:grpSpPr>
        <p:sp>
          <p:nvSpPr>
            <p:cNvPr id="323" name=""/>
            <p:cNvSpPr/>
            <p:nvPr/>
          </p:nvSpPr>
          <p:spPr>
            <a:xfrm>
              <a:off x="0" y="18252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0880" y="1811160"/>
              <a:ext cx="426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BIZONYLAT ADATAINAK alakilag és tartalmilag HITELESNEK, MEGBÍZHA-TÓNAK ÉS HELYTÁLLÓNAK KELL LENN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0" y="3276720"/>
            <a:ext cx="4572000" cy="1739880"/>
            <a:chOff x="0" y="3276720"/>
            <a:chExt cx="4572000" cy="1739880"/>
          </a:xfrm>
        </p:grpSpPr>
        <p:sp>
          <p:nvSpPr>
            <p:cNvPr id="326" name=""/>
            <p:cNvSpPr/>
            <p:nvPr/>
          </p:nvSpPr>
          <p:spPr>
            <a:xfrm>
              <a:off x="0" y="32911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880" y="3276720"/>
              <a:ext cx="4191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BIZONYLATOT a GAZDASÁGI ESEMÉNY MEGTÖR-TÉNTÉNEK, illetve a gazdasági INTÉZKEDÉS MEGTÉTELÉNEK, vagy végrehajtásának IDŐPONT-JÁBAN MAGYAR nyelven KELL KIÁLLÍTA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724280" y="914400"/>
            <a:ext cx="4343040" cy="3385800"/>
            <a:chOff x="4724280" y="914400"/>
            <a:chExt cx="4343040" cy="3385800"/>
          </a:xfrm>
        </p:grpSpPr>
        <p:sp>
          <p:nvSpPr>
            <p:cNvPr id="329" name=""/>
            <p:cNvSpPr/>
            <p:nvPr/>
          </p:nvSpPr>
          <p:spPr>
            <a:xfrm>
              <a:off x="4724280" y="9284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3400" y="914400"/>
              <a:ext cx="40039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ÜLFÖLDI SZÁLLÍTÓ, szolgál-tató SZÁMLÁJÁN – AZOKAT AZ ADATOKAT, megjelöléseket KELL – a feldolgozás előtt – MA-GYARUL IS FELTÜNTETNI, AMELYEK A BIZONYLAT HI-TELESSÉGÉHEZ, A MEGBÍZ-HATÓ, A VALÓSÁGNAK MEGFE-LELŐ ADATRÖGZÍTÉSHEZ, könyveléshez, UTÓLAGOS ELLENŐRZÉSHEZ FELTÉTLEN SZÜKSÉGESE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724280" y="4387680"/>
            <a:ext cx="4267080" cy="642600"/>
            <a:chOff x="4724280" y="4387680"/>
            <a:chExt cx="4267080" cy="642600"/>
          </a:xfrm>
        </p:grpSpPr>
        <p:sp>
          <p:nvSpPr>
            <p:cNvPr id="332" name=""/>
            <p:cNvSpPr/>
            <p:nvPr/>
          </p:nvSpPr>
          <p:spPr>
            <a:xfrm>
              <a:off x="4724280" y="4402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57280" y="4387680"/>
              <a:ext cx="39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adatokat időtálló módon kell rögzíte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5334120"/>
            <a:ext cx="4647960" cy="1465560"/>
            <a:chOff x="0" y="5334120"/>
            <a:chExt cx="4647960" cy="1465560"/>
          </a:xfrm>
        </p:grpSpPr>
        <p:sp>
          <p:nvSpPr>
            <p:cNvPr id="335" name=""/>
            <p:cNvSpPr/>
            <p:nvPr/>
          </p:nvSpPr>
          <p:spPr>
            <a:xfrm>
              <a:off x="0" y="5348520"/>
              <a:ext cx="36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2880" y="5334120"/>
              <a:ext cx="4285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ÜLFÖLDI MEGRENDELŐNEK küldött és magyar nyelven kiállított számlán az adatok a megrendelő nyelvén is fel-tüntethető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724280" y="5180040"/>
            <a:ext cx="4267080" cy="916920"/>
            <a:chOff x="4724280" y="5180040"/>
            <a:chExt cx="4267080" cy="916920"/>
          </a:xfrm>
        </p:grpSpPr>
        <p:sp>
          <p:nvSpPr>
            <p:cNvPr id="338" name=""/>
            <p:cNvSpPr/>
            <p:nvPr/>
          </p:nvSpPr>
          <p:spPr>
            <a:xfrm>
              <a:off x="4724280" y="519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57280" y="5180040"/>
              <a:ext cx="393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bizonylatokat a szükséges példányban (minimum két pél-dányban) kell elkészíte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34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8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IZONYLAT KIÁLLÍTÁSÁNAK KÖVETELMÉNYEI I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0" y="1066680"/>
            <a:ext cx="4495320" cy="2837160"/>
            <a:chOff x="0" y="1066680"/>
            <a:chExt cx="4495320" cy="2837160"/>
          </a:xfrm>
        </p:grpSpPr>
        <p:sp>
          <p:nvSpPr>
            <p:cNvPr id="344" name=""/>
            <p:cNvSpPr/>
            <p:nvPr/>
          </p:nvSpPr>
          <p:spPr>
            <a:xfrm>
              <a:off x="0" y="1081080"/>
              <a:ext cx="35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1000" y="1066680"/>
              <a:ext cx="41443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, az egyszerűsített számla, a számlát helyettesítő okmány alaki és tartalmi HITE-LESSÉGÉT, MEGBÍZHATÓSÁGÁT – ha jogszabály eltérően nem rendelkezik – a GAZDÁLKODÓ KÉPVISELETÉRE JOGOSULT SZEMÉLY a gazdálkodó adatainak feltüntetésével és ALÁÍRÁ-SÁVAL KÖTELES IGAZOL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724280" y="1219320"/>
            <a:ext cx="0" cy="495288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0" y="3962520"/>
            <a:ext cx="4648320" cy="2837160"/>
            <a:chOff x="0" y="3962520"/>
            <a:chExt cx="4648320" cy="2837160"/>
          </a:xfrm>
        </p:grpSpPr>
        <p:sp>
          <p:nvSpPr>
            <p:cNvPr id="348" name=""/>
            <p:cNvSpPr/>
            <p:nvPr/>
          </p:nvSpPr>
          <p:spPr>
            <a:xfrm>
              <a:off x="0" y="39765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0880" y="3962520"/>
              <a:ext cx="4267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 a könyvviteli nyilvántartás, mint számviteli bizonylat technikai, optikai eljárás eredménye, biztosítani kel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adatok vizuális megjeleníté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rdekében azoknak – szüksé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setén – a késedelem nélkü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írásá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gyértelmű azonosítás érdekében a kódjegyzék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24280" y="1066680"/>
            <a:ext cx="4343040" cy="3385800"/>
            <a:chOff x="4724280" y="1066680"/>
            <a:chExt cx="4343040" cy="3385800"/>
          </a:xfrm>
        </p:grpSpPr>
        <p:sp>
          <p:nvSpPr>
            <p:cNvPr id="351" name=""/>
            <p:cNvSpPr/>
            <p:nvPr/>
          </p:nvSpPr>
          <p:spPr>
            <a:xfrm>
              <a:off x="4724280" y="10810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3400" y="1066680"/>
              <a:ext cx="40039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ÉVES BEJEGYZÉS esetén az UTÓLAGOS MÓDOSÍTÁST – minden példányon – ÚGY KELL VÉGREHAJTANI, hogy AZ EREDETI ADATOK IS OLVAS-HATÓK LEGYENEK. A téves adatot ferde vékony vonallal át kell húzni és a JÓ ADATOKAT FÖLÉ KELL ÍRNI. Feltüntetve a JAVÍTÁS IDŐPONTJÁT. A JAVÍTÁST VÉGZŐ ALÁÍRÁSÁ-VAL igazolja az indokolt javítás tényé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724280" y="4800600"/>
            <a:ext cx="4267080" cy="1739880"/>
            <a:chOff x="4724280" y="4800600"/>
            <a:chExt cx="4267080" cy="1739880"/>
          </a:xfrm>
        </p:grpSpPr>
        <p:sp>
          <p:nvSpPr>
            <p:cNvPr id="354" name=""/>
            <p:cNvSpPr/>
            <p:nvPr/>
          </p:nvSpPr>
          <p:spPr>
            <a:xfrm>
              <a:off x="4724280" y="4815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57280" y="4800600"/>
              <a:ext cx="393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nztári és bankbizonylatokat nem szabad javítani. Hibás kiállítás esetén át kell húzni, ráírni, hogy rontott (és a tömbben marad), új bizonylatot kell kiállíta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457200" y="154080"/>
            <a:ext cx="8458200" cy="1191960"/>
            <a:chOff x="457200" y="154080"/>
            <a:chExt cx="8458200" cy="1191960"/>
          </a:xfrm>
        </p:grpSpPr>
        <p:sp>
          <p:nvSpPr>
            <p:cNvPr id="357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8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7200" y="838080"/>
              <a:ext cx="83059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   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ookman Old Style"/>
                </a:rPr>
                <a:t>SZÁMLA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Száma:………………………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57200" y="838080"/>
            <a:ext cx="830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1346040"/>
            <a:ext cx="830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838080"/>
            <a:ext cx="0" cy="5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763120" y="838080"/>
            <a:ext cx="0" cy="507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1295280"/>
            <a:ext cx="43434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 vevő neve, cím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1295280"/>
            <a:ext cx="43434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 számlakibocsátó neve, cím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dóigazgatási azonosító szám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28600" y="2209680"/>
          <a:ext cx="8686800" cy="381240"/>
        </p:xfrm>
        <a:graphic>
          <a:graphicData uri="http://schemas.openxmlformats.org/drawingml/2006/table">
            <a:tbl>
              <a:tblPr/>
              <a:tblGrid>
                <a:gridCol w="2151000"/>
                <a:gridCol w="2192400"/>
                <a:gridCol w="2171880"/>
                <a:gridCol w="21715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fizetés módj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teljesítés időpontj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számla kel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fizetés határidej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228600" y="2590920"/>
          <a:ext cx="8686800" cy="1643040"/>
        </p:xfrm>
        <a:graphic>
          <a:graphicData uri="http://schemas.openxmlformats.org/drawingml/2006/table">
            <a:tbl>
              <a:tblPr/>
              <a:tblGrid>
                <a:gridCol w="2362320"/>
                <a:gridCol w="914400"/>
                <a:gridCol w="914400"/>
                <a:gridCol w="914400"/>
                <a:gridCol w="914400"/>
                <a:gridCol w="609480"/>
                <a:gridCol w="990720"/>
                <a:gridCol w="1066680"/>
              </a:tblGrid>
              <a:tr h="3693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termék vagy szolgálta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gnevezése, besorolási száma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jellemző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nnyiség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sé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nnyisé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ségá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áfa nélkü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áfa nélkü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f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ulc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thárított áfa össze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áfával együt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28600" y="4232160"/>
          <a:ext cx="8686800" cy="1863720"/>
        </p:xfrm>
        <a:graphic>
          <a:graphicData uri="http://schemas.openxmlformats.org/drawingml/2006/table">
            <a:tbl>
              <a:tblPr/>
              <a:tblGrid>
                <a:gridCol w="2362320"/>
                <a:gridCol w="1371600"/>
                <a:gridCol w="1371600"/>
                <a:gridCol w="1523880"/>
                <a:gridCol w="990720"/>
                <a:gridCol w="106668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érték részletezés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fa-kulcs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s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érték áfa nélkü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z áfa összeg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érték áfáv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228600" y="6095880"/>
          <a:ext cx="8686800" cy="3808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tvevő aláírás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kibocsátó aláírás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152280" y="64771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Bookman Old Style"/>
              </a:rPr>
              <a:t>3 pédányos számla 1. példány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37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IZONYLATOK FELDOLGOZÁSÁNAK ELŐÍRÁSA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-76320" y="1292400"/>
            <a:ext cx="4952880" cy="1739880"/>
            <a:chOff x="-76320" y="1292400"/>
            <a:chExt cx="4952880" cy="1739880"/>
          </a:xfrm>
        </p:grpSpPr>
        <p:sp>
          <p:nvSpPr>
            <p:cNvPr id="374" name=""/>
            <p:cNvSpPr/>
            <p:nvPr/>
          </p:nvSpPr>
          <p:spPr>
            <a:xfrm>
              <a:off x="-76320" y="1306800"/>
              <a:ext cx="38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320" y="1292400"/>
              <a:ext cx="4566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TÖRVÉNY ELŐÍRJA, H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PÉNZESZKÖZÖKET ÉRINTŐ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GAZDASÁGI ESEMÉNYEK BIZONY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ATAINAK ADATAIT KÉSEDEL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ÉLKÜ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724280" y="1219320"/>
            <a:ext cx="0" cy="495288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124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ÉSZPÉNZFORGALOM ESET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PÉNZMOZGÁSSAL EGYID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JŰLE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724280" y="1276200"/>
            <a:ext cx="4343040" cy="2837160"/>
            <a:chOff x="4724280" y="1276200"/>
            <a:chExt cx="4343040" cy="2837160"/>
          </a:xfrm>
        </p:grpSpPr>
        <p:sp>
          <p:nvSpPr>
            <p:cNvPr id="379" name=""/>
            <p:cNvSpPr/>
            <p:nvPr/>
          </p:nvSpPr>
          <p:spPr>
            <a:xfrm>
              <a:off x="4724280" y="129060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3400" y="1276200"/>
              <a:ext cx="4003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GYÉB GAZDASÁGI ESEMÉNYEK BIZONYLATAINAK ADATAIT  a gazdasági művelet megtörténte után, LEGKÉSŐBB NEGYEDÉVENKÉNT – a számviteli politikában meghatározott időpontig, – DE LEGKÉSŐBB A TÁRGYNEGYEDÉVET KÖVETŐ HÓ VÉGÉIG  kell a könyvekben rögzíte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114800"/>
            <a:ext cx="4266720" cy="2562840"/>
            <a:chOff x="4648320" y="4114800"/>
            <a:chExt cx="4266720" cy="2562840"/>
          </a:xfrm>
        </p:grpSpPr>
        <p:sp>
          <p:nvSpPr>
            <p:cNvPr id="382" name=""/>
            <p:cNvSpPr/>
            <p:nvPr/>
          </p:nvSpPr>
          <p:spPr>
            <a:xfrm>
              <a:off x="4648320" y="4129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81320" y="4114800"/>
              <a:ext cx="3933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FŐKÖNYVI KÖNYVELÉS, AZ ANALITIKUS NYILVÁNTARTÁ-SOK ÉS A BIZONYLATOK ADATAI KÖZÖTTI EGYEZTE-TÉS ÉS ELLENŐRZÉS LEHETŐ-SÉGÉT – függetlenül a technikai megoldásoktól – LOGIKAI-LAG ZÁRT RENDSZERREL BIZTOSÍTANI KEL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33520" y="41148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ANSZKÁMLA FORGALOMN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HITELINTÉZETI ÉRTESÍ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EGÉRKEZÉSEK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520" y="5103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EGYÉB PÉNZESZKÖZÖ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érintő tételeket legkésőbb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ÁRGYHÓT KÖVETŐ HÓ 15-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könyvekben rögzíteni k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387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IZONYLAT ÚT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0" y="1449360"/>
            <a:ext cx="4647960" cy="2104560"/>
            <a:chOff x="0" y="1449360"/>
            <a:chExt cx="4647960" cy="2104560"/>
          </a:xfrm>
        </p:grpSpPr>
        <p:sp>
          <p:nvSpPr>
            <p:cNvPr id="390" name=""/>
            <p:cNvSpPr/>
            <p:nvPr/>
          </p:nvSpPr>
          <p:spPr>
            <a:xfrm>
              <a:off x="0" y="1463760"/>
              <a:ext cx="3628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2880" y="1449360"/>
              <a:ext cx="4285080" cy="21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A BIZONYLAT A KIÁLLÍTÁS-TÓL különböző feldolgozási fázisok után jut el az IRATTÁRIG. Ezt az utat nevezik a bizonylat útjának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648320" y="1498680"/>
            <a:ext cx="4647600" cy="3857760"/>
            <a:chOff x="4648320" y="1498680"/>
            <a:chExt cx="4647600" cy="3857760"/>
          </a:xfrm>
        </p:grpSpPr>
        <p:sp>
          <p:nvSpPr>
            <p:cNvPr id="394" name=""/>
            <p:cNvSpPr/>
            <p:nvPr/>
          </p:nvSpPr>
          <p:spPr>
            <a:xfrm>
              <a:off x="4648320" y="1512720"/>
              <a:ext cx="36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28840" y="1498680"/>
              <a:ext cx="4267080" cy="38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33"/>
                  </a:solidFill>
                  <a:latin typeface="Bookman Old Style"/>
                </a:rPr>
                <a:t>A BIZONYLAT ÚTJÁNAK leggyakoribb ÁLLOMÁSAI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IÁLLÍTÁ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UTALVÁNYOZÁ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ÁTADÁS-ÁTVÉTEL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LENŐRZÉ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LAKIJELÖLÉS (KON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ÍROZÁS)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ELÉ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MEGŐRZÉS (IRATTÁROZÁS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397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IZONYLATOK MEGŐRZÉ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0" y="1066680"/>
            <a:ext cx="4876920" cy="3546360"/>
            <a:chOff x="0" y="1066680"/>
            <a:chExt cx="4876920" cy="3546360"/>
          </a:xfrm>
        </p:grpSpPr>
        <p:sp>
          <p:nvSpPr>
            <p:cNvPr id="400" name=""/>
            <p:cNvSpPr/>
            <p:nvPr/>
          </p:nvSpPr>
          <p:spPr>
            <a:xfrm>
              <a:off x="0" y="108108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880" y="1066680"/>
              <a:ext cx="4496040" cy="35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ÁLKODÓ AZ ÜZLETI ÉVRŐ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ÉSZÍTE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SZÁMOLÓT (mérleg, eredmény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mutatás, kiegészítő melléklet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azt alátámasztó LELTÁR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RTÉKELÉS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ŐKÖNYVI KIVONATO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APLÓFŐKÖNYVET, valam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ÁS a számviteli törvényn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egfelelő NYILVÁNTARTÁS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gyszerűsített beszámoló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átámasztó LELTÁRT és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ÉSZLETEZŐ NYILVÁNTARTÁS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LVASHATÓ FORMÁBAN, valam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4724280" y="1143000"/>
            <a:ext cx="0" cy="5715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724280" y="4419720"/>
            <a:ext cx="4419360" cy="833760"/>
            <a:chOff x="4724280" y="4419720"/>
            <a:chExt cx="4419360" cy="833760"/>
          </a:xfrm>
        </p:grpSpPr>
        <p:sp>
          <p:nvSpPr>
            <p:cNvPr id="404" name=""/>
            <p:cNvSpPr/>
            <p:nvPr/>
          </p:nvSpPr>
          <p:spPr>
            <a:xfrm>
              <a:off x="4724280" y="4433760"/>
              <a:ext cx="343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86080" y="4419720"/>
              <a:ext cx="405756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IGORÚ SZÁMADÁSÚ BI-ZONYLATOK RONTOTT PÉLDÁ-NYAIT IS MEG KELL ŐRIZ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52280" y="4994280"/>
            <a:ext cx="4572000" cy="1326960"/>
            <a:chOff x="152280" y="4994280"/>
            <a:chExt cx="4572000" cy="1326960"/>
          </a:xfrm>
        </p:grpSpPr>
        <p:sp>
          <p:nvSpPr>
            <p:cNvPr id="407" name=""/>
            <p:cNvSpPr/>
            <p:nvPr/>
          </p:nvSpPr>
          <p:spPr>
            <a:xfrm>
              <a:off x="152280" y="5008320"/>
              <a:ext cx="355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3160" y="4994280"/>
              <a:ext cx="419112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ADATOK FELDOLGOZÁSÁNÁL ALKALMAZOTT, MŰKÖDŐKÉPES ÁLLAPOTBAN TÁROLT SZÁMÍTÓ-GÉPES PROGRAMOT legalább 10 ÉVIG KÖTELES MEGŐRIZ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724280" y="1066680"/>
            <a:ext cx="4343040" cy="2313360"/>
            <a:chOff x="4724280" y="1066680"/>
            <a:chExt cx="4343040" cy="2313360"/>
          </a:xfrm>
        </p:grpSpPr>
        <p:sp>
          <p:nvSpPr>
            <p:cNvPr id="410" name=""/>
            <p:cNvSpPr/>
            <p:nvPr/>
          </p:nvSpPr>
          <p:spPr>
            <a:xfrm>
              <a:off x="4724280" y="1081080"/>
              <a:ext cx="339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3400" y="1066680"/>
              <a:ext cx="4003920" cy="23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ÖNYVVITELI ELSZÁMOLÁST közvetlenül és közvetve ALÁ-TÁMASZTÓ BIZONYLATOKAT (ideértve a főkönyvi számlákat, az analitikus nyilvántartásokat is) legalább 8 ÉVIG KELL OLVASHATÓ FORMÁBAN, visszakereshető módon MEGŐRIZ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724280" y="5257800"/>
            <a:ext cx="4267080" cy="1326960"/>
            <a:chOff x="4724280" y="5257800"/>
            <a:chExt cx="4267080" cy="1326960"/>
          </a:xfrm>
        </p:grpSpPr>
        <p:sp>
          <p:nvSpPr>
            <p:cNvPr id="413" name=""/>
            <p:cNvSpPr/>
            <p:nvPr/>
          </p:nvSpPr>
          <p:spPr>
            <a:xfrm>
              <a:off x="4724280" y="5272200"/>
              <a:ext cx="333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57280" y="5257800"/>
              <a:ext cx="39340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ERVEZETI VÁLTOZÁS (ide- értve a jogutód nélküli meg-szűnést is) VÉGREHAJTÁ-SAKOR INTÉZKEDNI KELL A BIZONYLATOK MEGŐRZÉSÉ-RŐ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724280" y="3352680"/>
            <a:ext cx="4267080" cy="1080360"/>
            <a:chOff x="4724280" y="3352680"/>
            <a:chExt cx="4267080" cy="1080360"/>
          </a:xfrm>
        </p:grpSpPr>
        <p:sp>
          <p:nvSpPr>
            <p:cNvPr id="416" name=""/>
            <p:cNvSpPr/>
            <p:nvPr/>
          </p:nvSpPr>
          <p:spPr>
            <a:xfrm>
              <a:off x="4724280" y="3367080"/>
              <a:ext cx="333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57280" y="3352680"/>
              <a:ext cx="393408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LYÓSZÁMLÁKNÁL AZ ELÉ-VÜLÉSI IDŐ A FOLYÓSZÁMLA MEGSZŰNÉSÉNEK IDŐPONT-JÁVAL KEZDŐD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419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IZONYLATI REND SZABÁLYOZ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0" y="1139760"/>
            <a:ext cx="4876920" cy="1326960"/>
            <a:chOff x="0" y="1139760"/>
            <a:chExt cx="4876920" cy="1326960"/>
          </a:xfrm>
        </p:grpSpPr>
        <p:sp>
          <p:nvSpPr>
            <p:cNvPr id="422" name=""/>
            <p:cNvSpPr/>
            <p:nvPr/>
          </p:nvSpPr>
          <p:spPr>
            <a:xfrm>
              <a:off x="0" y="115416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0880" y="1139760"/>
              <a:ext cx="449604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törvény előírása szerint a kettős könyvvitelt vezető gazdálkodó számlarendet köteles készíteni, amelynek tartalmaznia kell A BIZONYLATI REND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724280" y="1066680"/>
            <a:ext cx="0" cy="57913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0" y="2593800"/>
            <a:ext cx="4648320" cy="833760"/>
            <a:chOff x="0" y="2593800"/>
            <a:chExt cx="4648320" cy="833760"/>
          </a:xfrm>
        </p:grpSpPr>
        <p:sp>
          <p:nvSpPr>
            <p:cNvPr id="426" name=""/>
            <p:cNvSpPr/>
            <p:nvPr/>
          </p:nvSpPr>
          <p:spPr>
            <a:xfrm>
              <a:off x="0" y="2607840"/>
              <a:ext cx="361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0880" y="2593800"/>
              <a:ext cx="42674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IZONYLATI RENDBEN A KÖVETKEZŐKET KELL MEGHA-TÁROZNI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80880" y="3603600"/>
            <a:ext cx="42674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VÁLLALKOZÓNÁL A GAZD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ÁGI MŰVELETEK RÖGZÍTÉSÉ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E ELŐÍRT BIZONYL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éljá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iállításának helyé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kiállítás időpontját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ódjá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kiállítandó példányszámo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kiállítást végző munk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ör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724280" y="1143000"/>
            <a:ext cx="4343040" cy="833760"/>
            <a:chOff x="4724280" y="1143000"/>
            <a:chExt cx="4343040" cy="833760"/>
          </a:xfrm>
        </p:grpSpPr>
        <p:sp>
          <p:nvSpPr>
            <p:cNvPr id="430" name=""/>
            <p:cNvSpPr/>
            <p:nvPr/>
          </p:nvSpPr>
          <p:spPr>
            <a:xfrm>
              <a:off x="4724280" y="1157400"/>
              <a:ext cx="339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63400" y="1143000"/>
              <a:ext cx="40039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ÁS VÁLLALKOZÓTÓL, SZERVTŐL ÉRKEZŐ BIZONYLA-TOK KEZELÉSÉNEK RENDJÉ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724280" y="1981080"/>
            <a:ext cx="4343040" cy="587160"/>
            <a:chOff x="4724280" y="1981080"/>
            <a:chExt cx="4343040" cy="587160"/>
          </a:xfrm>
        </p:grpSpPr>
        <p:sp>
          <p:nvSpPr>
            <p:cNvPr id="433" name=""/>
            <p:cNvSpPr/>
            <p:nvPr/>
          </p:nvSpPr>
          <p:spPr>
            <a:xfrm>
              <a:off x="4724280" y="1995480"/>
              <a:ext cx="339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63400" y="1981080"/>
              <a:ext cx="4003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IZONYLATOK ÚTJÁT, A FELDOLGOZÁS MÓDJÁ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800600" y="3505320"/>
            <a:ext cx="4343040" cy="1080360"/>
            <a:chOff x="4800600" y="3505320"/>
            <a:chExt cx="4343040" cy="1080360"/>
          </a:xfrm>
        </p:grpSpPr>
        <p:sp>
          <p:nvSpPr>
            <p:cNvPr id="436" name=""/>
            <p:cNvSpPr/>
            <p:nvPr/>
          </p:nvSpPr>
          <p:spPr>
            <a:xfrm>
              <a:off x="4800600" y="3519360"/>
              <a:ext cx="339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39720" y="3505320"/>
              <a:ext cx="400392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IGORÚ SZÁMADÁSI KÖ-TELEZETTSÉG ALÁ TARTOZÓ NYOMTATVÁNYOK FELSORO-LÁSÁ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800600" y="4648320"/>
            <a:ext cx="4343040" cy="833760"/>
            <a:chOff x="4800600" y="4648320"/>
            <a:chExt cx="4343040" cy="833760"/>
          </a:xfrm>
        </p:grpSpPr>
        <p:sp>
          <p:nvSpPr>
            <p:cNvPr id="439" name=""/>
            <p:cNvSpPr/>
            <p:nvPr/>
          </p:nvSpPr>
          <p:spPr>
            <a:xfrm>
              <a:off x="4800600" y="4662360"/>
              <a:ext cx="339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39720" y="4648320"/>
              <a:ext cx="40039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IZONYLATOK MEGŐRZÉ-SÉNEK MÓDJÁT, HELYÉT ÉS IDŐTARTAMÁ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724280" y="5486400"/>
            <a:ext cx="4343040" cy="1326960"/>
            <a:chOff x="4724280" y="5486400"/>
            <a:chExt cx="4343040" cy="1326960"/>
          </a:xfrm>
        </p:grpSpPr>
        <p:sp>
          <p:nvSpPr>
            <p:cNvPr id="442" name=""/>
            <p:cNvSpPr/>
            <p:nvPr/>
          </p:nvSpPr>
          <p:spPr>
            <a:xfrm>
              <a:off x="4724280" y="5500440"/>
              <a:ext cx="339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63400" y="5486400"/>
              <a:ext cx="400392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vállalkozónál használt bi-zonylatokból, nyomtatványokból BIZONYLATI GYŰJTE-MÉNYT (ALBUMOT) CÉLSZERŰ ÖSSZEÁLLÍTA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724280" y="2590920"/>
            <a:ext cx="4343040" cy="833760"/>
            <a:chOff x="4724280" y="2590920"/>
            <a:chExt cx="4343040" cy="833760"/>
          </a:xfrm>
        </p:grpSpPr>
        <p:sp>
          <p:nvSpPr>
            <p:cNvPr id="445" name=""/>
            <p:cNvSpPr/>
            <p:nvPr/>
          </p:nvSpPr>
          <p:spPr>
            <a:xfrm>
              <a:off x="4724280" y="2604960"/>
              <a:ext cx="339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63400" y="2590920"/>
              <a:ext cx="40039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IZONYLATOK SZÁMOZÁSI, (kódolási), MEGJELÖLÉSI RENDSZERÉ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448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YILVÁNTART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419720" y="1295280"/>
            <a:ext cx="0" cy="5257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33520" y="1241280"/>
            <a:ext cx="3886200" cy="2619720"/>
            <a:chOff x="533520" y="1241280"/>
            <a:chExt cx="3886200" cy="2619720"/>
          </a:xfrm>
        </p:grpSpPr>
        <p:sp>
          <p:nvSpPr>
            <p:cNvPr id="452" name=""/>
            <p:cNvSpPr/>
            <p:nvPr/>
          </p:nvSpPr>
          <p:spPr>
            <a:xfrm>
              <a:off x="533520" y="1317600"/>
              <a:ext cx="3886200" cy="25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A bizonylatok alapján általában mennyiségi mértékegységben vezetett elsődleges összesítés, kimutatás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520" y="1241280"/>
              <a:ext cx="175248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09480" y="3984480"/>
            <a:ext cx="3886200" cy="2619720"/>
            <a:chOff x="609480" y="3984480"/>
            <a:chExt cx="3886200" cy="2619720"/>
          </a:xfrm>
        </p:grpSpPr>
        <p:sp>
          <p:nvSpPr>
            <p:cNvPr id="455" name=""/>
            <p:cNvSpPr/>
            <p:nvPr/>
          </p:nvSpPr>
          <p:spPr>
            <a:xfrm>
              <a:off x="609480" y="4060800"/>
              <a:ext cx="3886200" cy="25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Az eszközök kezelésének, tárolásának, az állatok tartásának, a munkák végzésének hely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9480" y="3984480"/>
              <a:ext cx="373392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VEZETÉSÉNEK HELYSZÍ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495680" y="1219320"/>
            <a:ext cx="4572000" cy="4049640"/>
            <a:chOff x="4495680" y="1219320"/>
            <a:chExt cx="4572000" cy="4049640"/>
          </a:xfrm>
        </p:grpSpPr>
        <p:sp>
          <p:nvSpPr>
            <p:cNvPr id="458" name=""/>
            <p:cNvSpPr/>
            <p:nvPr/>
          </p:nvSpPr>
          <p:spPr>
            <a:xfrm>
              <a:off x="4800600" y="1298520"/>
              <a:ext cx="3886200" cy="39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raktárkönyv, raktá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nyilvántartó lap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állatnyilvántartási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könyv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tejkönyv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munkalap-összesítő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műhelynapló, st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95680" y="1219320"/>
              <a:ext cx="45720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A GYAKRABBAN VEZETET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NTOSABB NYILVÁNTAR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46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ALITIKUS (RÉSZLETEZŐ) KÖNYVELÉ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YILVÁNTART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0" y="1219320"/>
            <a:ext cx="4724280" cy="1340280"/>
            <a:chOff x="0" y="1219320"/>
            <a:chExt cx="4724280" cy="1340280"/>
          </a:xfrm>
        </p:grpSpPr>
        <p:grpSp>
          <p:nvGrpSpPr>
            <p:cNvPr id="465" name=""/>
            <p:cNvGrpSpPr/>
            <p:nvPr/>
          </p:nvGrpSpPr>
          <p:grpSpPr>
            <a:xfrm>
              <a:off x="0" y="1233360"/>
              <a:ext cx="4724280" cy="1326240"/>
              <a:chOff x="0" y="1233360"/>
              <a:chExt cx="4724280" cy="132624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1233360"/>
                <a:ext cx="36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720" y="1368360"/>
                <a:ext cx="4354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Bizonylatok alapján MENNYISÉG-BEN ÉS ÉRTÉKBEN vezetett részletező nyilvántartás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457200" y="1219320"/>
              <a:ext cx="1752480" cy="3585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724280" y="1143000"/>
            <a:ext cx="4343040" cy="1374120"/>
            <a:chOff x="4724280" y="1143000"/>
            <a:chExt cx="4343040" cy="1374120"/>
          </a:xfrm>
        </p:grpSpPr>
        <p:grpSp>
          <p:nvGrpSpPr>
            <p:cNvPr id="470" name=""/>
            <p:cNvGrpSpPr/>
            <p:nvPr/>
          </p:nvGrpSpPr>
          <p:grpSpPr>
            <a:xfrm>
              <a:off x="4724280" y="1600200"/>
              <a:ext cx="4343040" cy="916920"/>
              <a:chOff x="4724280" y="1600200"/>
              <a:chExt cx="4343040" cy="916920"/>
            </a:xfrm>
          </p:grpSpPr>
          <p:sp>
            <p:nvSpPr>
              <p:cNvPr id="471" name=""/>
              <p:cNvSpPr/>
              <p:nvPr/>
            </p:nvSpPr>
            <p:spPr>
              <a:xfrm>
                <a:off x="4724280" y="161460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63400" y="1600200"/>
                <a:ext cx="4003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 tárgyi eszközök és az immateriális javak analitikus könyvelés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4876920" y="1143000"/>
              <a:ext cx="3886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AZ ANALITIKUS KÖNYVEL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TERÜLET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724280" y="2590920"/>
            <a:ext cx="4419360" cy="916920"/>
            <a:chOff x="4724280" y="2590920"/>
            <a:chExt cx="4419360" cy="916920"/>
          </a:xfrm>
        </p:grpSpPr>
        <p:sp>
          <p:nvSpPr>
            <p:cNvPr id="475" name=""/>
            <p:cNvSpPr/>
            <p:nvPr/>
          </p:nvSpPr>
          <p:spPr>
            <a:xfrm>
              <a:off x="4724280" y="2604960"/>
              <a:ext cx="34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70960" y="2590920"/>
              <a:ext cx="407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észletek analitikus nyilván-tartása (Nem kötelező a nyilván-tartás vezetése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24280" y="4722840"/>
            <a:ext cx="4343040" cy="916920"/>
            <a:chOff x="4724280" y="4722840"/>
            <a:chExt cx="4343040" cy="916920"/>
          </a:xfrm>
        </p:grpSpPr>
        <p:sp>
          <p:nvSpPr>
            <p:cNvPr id="478" name=""/>
            <p:cNvSpPr/>
            <p:nvPr/>
          </p:nvSpPr>
          <p:spPr>
            <a:xfrm>
              <a:off x="4724280" y="47368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63400" y="4722840"/>
              <a:ext cx="40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evők, szállítók analitikus könyvelése ( a folyószámlák vezetése) st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724280" y="3809880"/>
            <a:ext cx="4343040" cy="642600"/>
            <a:chOff x="4724280" y="3809880"/>
            <a:chExt cx="4343040" cy="642600"/>
          </a:xfrm>
        </p:grpSpPr>
        <p:sp>
          <p:nvSpPr>
            <p:cNvPr id="481" name=""/>
            <p:cNvSpPr/>
            <p:nvPr/>
          </p:nvSpPr>
          <p:spPr>
            <a:xfrm>
              <a:off x="4724280" y="38242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3400" y="3809880"/>
              <a:ext cx="400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unkabér analitikus könyve-lés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04920" y="2590920"/>
            <a:ext cx="4343040" cy="1191240"/>
            <a:chOff x="304920" y="2590920"/>
            <a:chExt cx="4343040" cy="1191240"/>
          </a:xfrm>
        </p:grpSpPr>
        <p:sp>
          <p:nvSpPr>
            <p:cNvPr id="484" name=""/>
            <p:cNvSpPr/>
            <p:nvPr/>
          </p:nvSpPr>
          <p:spPr>
            <a:xfrm>
              <a:off x="304920" y="26053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4040" y="2590920"/>
              <a:ext cx="400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analitikus nyilvántartások (analitikus számlák) egy-egy csoportja egy megfelelő főkönyvi számlához kapcsolód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04920" y="3886200"/>
            <a:ext cx="4343040" cy="2837160"/>
            <a:chOff x="304920" y="3886200"/>
            <a:chExt cx="4343040" cy="2837160"/>
          </a:xfrm>
        </p:grpSpPr>
        <p:sp>
          <p:nvSpPr>
            <p:cNvPr id="487" name=""/>
            <p:cNvSpPr/>
            <p:nvPr/>
          </p:nvSpPr>
          <p:spPr>
            <a:xfrm>
              <a:off x="304920" y="390060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040" y="3886200"/>
              <a:ext cx="4003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PÉLDÁU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unkabérről dolgozónként vezetett analitikus számlák adatairól havonként készített összesítő kimutatás (feladás) alapján könyvelik el a JÖVEDELEM ELSZÁMOLÁSI fő-könyvi számlán a vállalkozás havi munkabér fizetési kötelezettségé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39720" y="2743200"/>
            <a:ext cx="7894800" cy="114300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9. SZÁMVITELI MUNKA SZAKASZ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490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IDŐSOROS KÖNYVEL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1143000"/>
            <a:ext cx="0" cy="495288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0" y="1066680"/>
            <a:ext cx="4724280" cy="1266120"/>
            <a:chOff x="0" y="1066680"/>
            <a:chExt cx="4724280" cy="1266120"/>
          </a:xfrm>
        </p:grpSpPr>
        <p:sp>
          <p:nvSpPr>
            <p:cNvPr id="494" name=""/>
            <p:cNvSpPr/>
            <p:nvPr/>
          </p:nvSpPr>
          <p:spPr>
            <a:xfrm>
              <a:off x="0" y="108072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9720" y="1415880"/>
              <a:ext cx="4354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gazdasági műveletek megtör-téntük sorrendjében történő feljegyzés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200" y="1066680"/>
              <a:ext cx="1752480" cy="3585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6320" y="2895480"/>
            <a:ext cx="4343400" cy="1770480"/>
            <a:chOff x="76320" y="2895480"/>
            <a:chExt cx="4343400" cy="1770480"/>
          </a:xfrm>
        </p:grpSpPr>
        <p:sp>
          <p:nvSpPr>
            <p:cNvPr id="498" name=""/>
            <p:cNvSpPr/>
            <p:nvPr/>
          </p:nvSpPr>
          <p:spPr>
            <a:xfrm>
              <a:off x="76320" y="2909880"/>
              <a:ext cx="33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5800" y="2895480"/>
              <a:ext cx="40039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990033"/>
                  </a:solidFill>
                  <a:latin typeface="Bookman Old Style"/>
                </a:rPr>
                <a:t>SZEREPE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, hogy biztosítj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nyvelés folyamatosságá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eljességé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llenőrizhetőségét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számszerű egyeztetés leh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őségé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6320" y="2438280"/>
            <a:ext cx="4647960" cy="687240"/>
            <a:chOff x="76320" y="2438280"/>
            <a:chExt cx="4647960" cy="687240"/>
          </a:xfrm>
        </p:grpSpPr>
        <p:sp>
          <p:nvSpPr>
            <p:cNvPr id="501" name=""/>
            <p:cNvSpPr/>
            <p:nvPr/>
          </p:nvSpPr>
          <p:spPr>
            <a:xfrm>
              <a:off x="369720" y="2438280"/>
              <a:ext cx="435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FORMÁJA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3720" y="2438280"/>
              <a:ext cx="2361960" cy="304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nyvviteli napl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320" y="2482920"/>
              <a:ext cx="33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6320" y="4660920"/>
            <a:ext cx="4343400" cy="1770480"/>
            <a:chOff x="76320" y="4660920"/>
            <a:chExt cx="4343400" cy="1770480"/>
          </a:xfrm>
        </p:grpSpPr>
        <p:sp>
          <p:nvSpPr>
            <p:cNvPr id="505" name=""/>
            <p:cNvSpPr/>
            <p:nvPr/>
          </p:nvSpPr>
          <p:spPr>
            <a:xfrm>
              <a:off x="76320" y="4675320"/>
              <a:ext cx="33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5800" y="4660920"/>
              <a:ext cx="40039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A NAPLÓ TARTALMAZZ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hivatkozási számot (bizony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at száma, számla száma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izonylat kelté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űvelet megnevezésé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T és K összeg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724280" y="1066680"/>
            <a:ext cx="4419360" cy="1252440"/>
            <a:chOff x="4724280" y="1066680"/>
            <a:chExt cx="4419360" cy="1252440"/>
          </a:xfrm>
        </p:grpSpPr>
        <p:sp>
          <p:nvSpPr>
            <p:cNvPr id="508" name=""/>
            <p:cNvSpPr/>
            <p:nvPr/>
          </p:nvSpPr>
          <p:spPr>
            <a:xfrm>
              <a:off x="4724280" y="1081080"/>
              <a:ext cx="34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69520" y="1066680"/>
              <a:ext cx="407412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A GYAKORLATBAN ALKAL-MAZZÁK AZ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 naplós és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öbb naplós eljárá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724280" y="2438280"/>
            <a:ext cx="4419360" cy="3845520"/>
            <a:chOff x="4724280" y="2438280"/>
            <a:chExt cx="4419360" cy="3845520"/>
          </a:xfrm>
        </p:grpSpPr>
        <p:sp>
          <p:nvSpPr>
            <p:cNvPr id="511" name=""/>
            <p:cNvSpPr/>
            <p:nvPr/>
          </p:nvSpPr>
          <p:spPr>
            <a:xfrm>
              <a:off x="4724280" y="2452680"/>
              <a:ext cx="34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69520" y="2438280"/>
              <a:ext cx="4074120" cy="38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990033"/>
                  </a:solidFill>
                  <a:latin typeface="Bookman Old Style"/>
                </a:rPr>
                <a:t>A TÖBB NAPLÓS ELJÁRÁS ESETÉN VEZETETT NAPLÓK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Nyitónapló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Pénztár napló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lszámolási betétszám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naplój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eérkezett számlák naplój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imenő számlák naplój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egyes napló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Zárónapló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514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6-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LASOROS KÖNYVEL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4724280" y="1143000"/>
            <a:ext cx="0" cy="32767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0" y="1066680"/>
            <a:ext cx="4724280" cy="991800"/>
            <a:chOff x="0" y="1066680"/>
            <a:chExt cx="4724280" cy="991800"/>
          </a:xfrm>
        </p:grpSpPr>
        <p:sp>
          <p:nvSpPr>
            <p:cNvPr id="518" name=""/>
            <p:cNvSpPr/>
            <p:nvPr/>
          </p:nvSpPr>
          <p:spPr>
            <a:xfrm>
              <a:off x="0" y="108072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9720" y="1415880"/>
              <a:ext cx="435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asági műveletek főkönyvi számlákon történő feljegyzés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7200" y="1066680"/>
              <a:ext cx="1752480" cy="3585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6320" y="2743200"/>
            <a:ext cx="4343400" cy="1770480"/>
            <a:chOff x="76320" y="2743200"/>
            <a:chExt cx="4343400" cy="1770480"/>
          </a:xfrm>
        </p:grpSpPr>
        <p:sp>
          <p:nvSpPr>
            <p:cNvPr id="522" name=""/>
            <p:cNvSpPr/>
            <p:nvPr/>
          </p:nvSpPr>
          <p:spPr>
            <a:xfrm>
              <a:off x="76320" y="2757600"/>
              <a:ext cx="33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5800" y="2743200"/>
              <a:ext cx="40039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990033"/>
                  </a:solidFill>
                  <a:latin typeface="Bookman Old Style"/>
                </a:rPr>
                <a:t>SZEREPE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, hogy a gazdasági művelete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artalmuk szerint csopo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osítj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nyvelési tételek össz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üggéseit áttekinthetővé tesz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76320" y="2209680"/>
            <a:ext cx="4647960" cy="687240"/>
            <a:chOff x="76320" y="2209680"/>
            <a:chExt cx="4647960" cy="687240"/>
          </a:xfrm>
        </p:grpSpPr>
        <p:sp>
          <p:nvSpPr>
            <p:cNvPr id="525" name=""/>
            <p:cNvSpPr/>
            <p:nvPr/>
          </p:nvSpPr>
          <p:spPr>
            <a:xfrm>
              <a:off x="369720" y="2209680"/>
              <a:ext cx="435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FORMÁJA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33720" y="2209680"/>
              <a:ext cx="2361960" cy="304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nyvviteli szám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320" y="2254320"/>
              <a:ext cx="33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724280" y="1066680"/>
            <a:ext cx="4419360" cy="2510640"/>
            <a:chOff x="4724280" y="1066680"/>
            <a:chExt cx="4419360" cy="2510640"/>
          </a:xfrm>
        </p:grpSpPr>
        <p:sp>
          <p:nvSpPr>
            <p:cNvPr id="529" name=""/>
            <p:cNvSpPr/>
            <p:nvPr/>
          </p:nvSpPr>
          <p:spPr>
            <a:xfrm>
              <a:off x="4724280" y="1081080"/>
              <a:ext cx="34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69520" y="1066680"/>
              <a:ext cx="4074120" cy="25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A  KÖNYVELÉSI TÉTEL RÉSZEI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önyvelés kelt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izonylat szám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asági művel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egnevezés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önyvelendő össz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T vagy K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llenszámla szám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80880" y="4784760"/>
            <a:ext cx="8458200" cy="1477800"/>
            <a:chOff x="380880" y="4784760"/>
            <a:chExt cx="8458200" cy="1477800"/>
          </a:xfrm>
        </p:grpSpPr>
        <p:sp>
          <p:nvSpPr>
            <p:cNvPr id="532" name=""/>
            <p:cNvSpPr/>
            <p:nvPr/>
          </p:nvSpPr>
          <p:spPr>
            <a:xfrm>
              <a:off x="1863720" y="4784760"/>
              <a:ext cx="67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A KÉTOSZLOPOS SZÁMLA FORMÁ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61280" y="5643720"/>
              <a:ext cx="61884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0120" y="5952960"/>
              <a:ext cx="17589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67480" y="5952960"/>
              <a:ext cx="14126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2600" y="5952960"/>
              <a:ext cx="2144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8200" y="5952960"/>
              <a:ext cx="20844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0880" y="5952960"/>
              <a:ext cx="1057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67480" y="5643720"/>
              <a:ext cx="79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80120" y="5334120"/>
              <a:ext cx="17589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Számlaszá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(ellenszáml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67480" y="5334120"/>
              <a:ext cx="14126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Össz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22600" y="5334120"/>
              <a:ext cx="214488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Szöv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(művel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38200" y="5334120"/>
              <a:ext cx="20844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Bizony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szá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334120"/>
              <a:ext cx="10573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Ke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0880" y="5334120"/>
              <a:ext cx="8458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0880" y="595296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0880" y="6262560"/>
              <a:ext cx="1057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5334120"/>
              <a:ext cx="0" cy="928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8200" y="5334120"/>
              <a:ext cx="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22600" y="5334120"/>
              <a:ext cx="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67480" y="5334120"/>
              <a:ext cx="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80120" y="5334120"/>
              <a:ext cx="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839080" y="5334120"/>
              <a:ext cx="0" cy="928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61280" y="564372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67480" y="5643720"/>
              <a:ext cx="141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38200" y="6262560"/>
              <a:ext cx="2084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22600" y="6262560"/>
              <a:ext cx="2144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67480" y="6262560"/>
              <a:ext cx="141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0120" y="6262560"/>
              <a:ext cx="1758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56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ZÁRL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6320" y="1066680"/>
            <a:ext cx="4647960" cy="6098400"/>
            <a:chOff x="76320" y="1066680"/>
            <a:chExt cx="4647960" cy="6098400"/>
          </a:xfrm>
        </p:grpSpPr>
        <p:sp>
          <p:nvSpPr>
            <p:cNvPr id="564" name=""/>
            <p:cNvSpPr/>
            <p:nvPr/>
          </p:nvSpPr>
          <p:spPr>
            <a:xfrm>
              <a:off x="457200" y="1218960"/>
              <a:ext cx="4267080" cy="59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Egy-egy naptári időszak (hónap, negyedév, év) végén 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folyamatos könyvelé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eljessé és ellenőrizhetőbbé tétele érdekéb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végzet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kiegészítő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helyesbítő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egyeztető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összesítő könyvelés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munka, és év végén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számlák technikai lezárás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7200" y="1066680"/>
              <a:ext cx="1924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320" y="1143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648320" y="1066680"/>
            <a:ext cx="4495680" cy="5410080"/>
            <a:chOff x="4648320" y="1066680"/>
            <a:chExt cx="4495680" cy="5410080"/>
          </a:xfrm>
        </p:grpSpPr>
        <p:sp>
          <p:nvSpPr>
            <p:cNvPr id="568" name=""/>
            <p:cNvSpPr/>
            <p:nvPr/>
          </p:nvSpPr>
          <p:spPr>
            <a:xfrm>
              <a:off x="4724280" y="1218960"/>
              <a:ext cx="0" cy="52578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52880" y="1619280"/>
              <a:ext cx="419112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A könyvviteli számlák tartalmi teljességének biztosítása, olyan FŐ-KÖNYVI KIVONAT el-készítése, melynek adataira támaszkodva az éves BESZÁMOLÓ: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mérleg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eredménykimutatás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kiegészítő mellékl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400" spc="-1" strike="noStrike">
                  <a:solidFill>
                    <a:srgbClr val="000000"/>
                  </a:solidFill>
                  <a:latin typeface="Bookman Old Style"/>
                </a:rPr>
                <a:t>összeállíthat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029200" y="1066680"/>
              <a:ext cx="3886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Bookman Old Style"/>
                </a:rPr>
                <a:t>AZ ÉVES ZÁRLAT CÉL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48320" y="1143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573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ALITIKUS SZÁMLAKIVONAT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6320" y="1066680"/>
            <a:ext cx="4647960" cy="1434600"/>
            <a:chOff x="76320" y="1066680"/>
            <a:chExt cx="4647960" cy="1434600"/>
          </a:xfrm>
        </p:grpSpPr>
        <p:sp>
          <p:nvSpPr>
            <p:cNvPr id="576" name=""/>
            <p:cNvSpPr/>
            <p:nvPr/>
          </p:nvSpPr>
          <p:spPr>
            <a:xfrm>
              <a:off x="457200" y="1187640"/>
              <a:ext cx="426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-egy főkönyvi számlához kapcsolódó analitikus számlák értékadatait összesíti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7200" y="1066680"/>
              <a:ext cx="1924200" cy="3636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320" y="1127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1066680"/>
            <a:ext cx="4267080" cy="5410440"/>
            <a:chOff x="4648320" y="1066680"/>
            <a:chExt cx="4267080" cy="5410440"/>
          </a:xfrm>
        </p:grpSpPr>
        <p:sp>
          <p:nvSpPr>
            <p:cNvPr id="580" name=""/>
            <p:cNvSpPr/>
            <p:nvPr/>
          </p:nvSpPr>
          <p:spPr>
            <a:xfrm>
              <a:off x="4724280" y="1219320"/>
              <a:ext cx="0" cy="52578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29200" y="1660680"/>
              <a:ext cx="3886200" cy="37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Z ANALITIKUS SZÁMLA-KIVONAT TARTOZIK ÉS KÖVETEL FŐÖSSZEGE,  va-lamint a tartozik, illetve követel EGYENLEGE MEG KELL, hogy EGYEZZEN a MEGFELELŐ FŐKÖNYVI SZÁMLA TARTOZIK ÉS KÖVETEL FŐÖSSZEGÉVEL, valamint a tartozik, illetve követel EGYENLEGÉVE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29200" y="1066680"/>
              <a:ext cx="3886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AZ ANALITIKUS SZÁMLA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KIVONAT EGYEZŐSÉ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48320" y="11430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6320" y="2590920"/>
            <a:ext cx="4647960" cy="4039920"/>
            <a:chOff x="76320" y="2590920"/>
            <a:chExt cx="4647960" cy="4039920"/>
          </a:xfrm>
        </p:grpSpPr>
        <p:sp>
          <p:nvSpPr>
            <p:cNvPr id="585" name=""/>
            <p:cNvSpPr/>
            <p:nvPr/>
          </p:nvSpPr>
          <p:spPr>
            <a:xfrm>
              <a:off x="457200" y="2725560"/>
              <a:ext cx="4267080" cy="39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ANALITIKUS ANYAG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LÁK KIVONATA AZ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YAGOK FŐKÖNYVI SZÁM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LA főösszegét és egyenlegé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almazza anyagféleségen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én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EVŐK FOLYÓSZÁML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IVONATA a VEVŐK FŐ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I SZÁMLA főösszegé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s egyenlegét tartalmaz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onkrét vevőnkén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57200" y="2590920"/>
              <a:ext cx="1924200" cy="4042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PÉLDÁU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320" y="2656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589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9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ŐKÖNYVI KIVON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6320" y="1311120"/>
            <a:ext cx="4647960" cy="1128600"/>
            <a:chOff x="76320" y="1311120"/>
            <a:chExt cx="4647960" cy="1128600"/>
          </a:xfrm>
        </p:grpSpPr>
        <p:sp>
          <p:nvSpPr>
            <p:cNvPr id="592" name=""/>
            <p:cNvSpPr/>
            <p:nvPr/>
          </p:nvSpPr>
          <p:spPr>
            <a:xfrm>
              <a:off x="457200" y="1431000"/>
              <a:ext cx="426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őkönyvi számlákból készített összesítő, ellenőrző kimutatá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7200" y="1311120"/>
              <a:ext cx="1924200" cy="36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320" y="1371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729320" y="1219320"/>
            <a:ext cx="0" cy="5257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48320" y="1263600"/>
            <a:ext cx="4398840" cy="1937520"/>
            <a:chOff x="4648320" y="1263600"/>
            <a:chExt cx="4398840" cy="1937520"/>
          </a:xfrm>
        </p:grpSpPr>
        <p:sp>
          <p:nvSpPr>
            <p:cNvPr id="597" name=""/>
            <p:cNvSpPr/>
            <p:nvPr/>
          </p:nvSpPr>
          <p:spPr>
            <a:xfrm>
              <a:off x="4724280" y="1857600"/>
              <a:ext cx="432288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ozik főösszeg = Köve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őössze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ozik egyenleg = Köve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enle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49720" y="1263600"/>
              <a:ext cx="3713400" cy="533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A FŐKÖNYVI KIVONA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EGYEZŐSÉGE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48320" y="1339920"/>
              <a:ext cx="4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6320" y="2971800"/>
            <a:ext cx="4647960" cy="2838240"/>
            <a:chOff x="76320" y="2971800"/>
            <a:chExt cx="4647960" cy="2838240"/>
          </a:xfrm>
        </p:grpSpPr>
        <p:sp>
          <p:nvSpPr>
            <p:cNvPr id="601" name=""/>
            <p:cNvSpPr/>
            <p:nvPr/>
          </p:nvSpPr>
          <p:spPr>
            <a:xfrm>
              <a:off x="457200" y="2971800"/>
              <a:ext cx="42670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 oly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mely tartalmazza valamenny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őkönyvi szám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evét és számá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ozik és követe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őösszegé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ozik, illetve követe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enlegé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520" y="3352680"/>
              <a:ext cx="3581280" cy="304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ÉT HASÁBOS KIMUTATÁ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320" y="2971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648320" y="3352680"/>
            <a:ext cx="4398840" cy="1785240"/>
            <a:chOff x="4648320" y="3352680"/>
            <a:chExt cx="4398840" cy="1785240"/>
          </a:xfrm>
        </p:grpSpPr>
        <p:sp>
          <p:nvSpPr>
            <p:cNvPr id="605" name=""/>
            <p:cNvSpPr/>
            <p:nvPr/>
          </p:nvSpPr>
          <p:spPr>
            <a:xfrm>
              <a:off x="4724280" y="3946680"/>
              <a:ext cx="432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ettős könyvvitel hármas szabálya alapján végzett könyvviteli elszámolás. (Lásd az 5-9.1 vázlatot)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49720" y="3352680"/>
              <a:ext cx="3713400" cy="533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AZ EGYEZŐSÉG ALAP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48320" y="3429000"/>
              <a:ext cx="4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609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9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ŐKÖNYVI KIVONAT SÉMÁ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1" name=""/>
          <p:cNvGraphicFramePr/>
          <p:nvPr/>
        </p:nvGraphicFramePr>
        <p:xfrm>
          <a:off x="228600" y="1878120"/>
          <a:ext cx="8686800" cy="433548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2057400"/>
                <a:gridCol w="1295280"/>
                <a:gridCol w="1219320"/>
                <a:gridCol w="1295280"/>
                <a:gridCol w="12193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r-szá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SZÁM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Ő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ENL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gnevezé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GATLAN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T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JEGYZETT TŐ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LLÍTÓ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SE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"/>
          <p:cNvSpPr/>
          <p:nvPr/>
        </p:nvSpPr>
        <p:spPr>
          <a:xfrm>
            <a:off x="1295280" y="1447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FŐKÖNYVI KIVONAT 2001. DECEMBER 31.         </a:t>
            </a:r>
            <a:r>
              <a:rPr b="1" lang="hu-HU" sz="1600" spc="-1" strike="noStrike">
                <a:solidFill>
                  <a:srgbClr val="000000"/>
                </a:solidFill>
                <a:latin typeface="Bookman Old Style"/>
              </a:rPr>
              <a:t>Me.: e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614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20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RGALMI KIMUTAT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0" y="1311120"/>
            <a:ext cx="4647960" cy="1554480"/>
            <a:chOff x="0" y="1311120"/>
            <a:chExt cx="4647960" cy="1554480"/>
          </a:xfrm>
        </p:grpSpPr>
        <p:sp>
          <p:nvSpPr>
            <p:cNvPr id="617" name=""/>
            <p:cNvSpPr/>
            <p:nvPr/>
          </p:nvSpPr>
          <p:spPr>
            <a:xfrm>
              <a:off x="380880" y="1431000"/>
              <a:ext cx="4267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A főkönyvi számlákból készített összesítő, ellenőrző kimutatá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880" y="1311120"/>
              <a:ext cx="1924200" cy="36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137160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648320" y="1219320"/>
            <a:ext cx="0" cy="5257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572000" y="1790640"/>
            <a:ext cx="4495680" cy="1029600"/>
            <a:chOff x="4572000" y="1790640"/>
            <a:chExt cx="4495680" cy="1029600"/>
          </a:xfrm>
        </p:grpSpPr>
        <p:sp>
          <p:nvSpPr>
            <p:cNvPr id="622" name=""/>
            <p:cNvSpPr/>
            <p:nvPr/>
          </p:nvSpPr>
          <p:spPr>
            <a:xfrm>
              <a:off x="4897440" y="1822320"/>
              <a:ext cx="4170240" cy="9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A forgalmi kimutatás az adott időszak FORGALMÁT IS BEMUTATJA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72000" y="1790640"/>
              <a:ext cx="4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6320" y="2971800"/>
            <a:ext cx="4647960" cy="3110400"/>
            <a:chOff x="76320" y="2971800"/>
            <a:chExt cx="4647960" cy="3110400"/>
          </a:xfrm>
        </p:grpSpPr>
        <p:sp>
          <p:nvSpPr>
            <p:cNvPr id="625" name=""/>
            <p:cNvSpPr/>
            <p:nvPr/>
          </p:nvSpPr>
          <p:spPr>
            <a:xfrm>
              <a:off x="457200" y="2971800"/>
              <a:ext cx="426708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Egy olya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amely tartalmazza valamennyi főkönyvi száml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nevét és számát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nyitó egyenlegét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tartozik és követel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forgalmát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záró egyenlegét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" y="3352680"/>
              <a:ext cx="4114800" cy="304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Bookman Old Style"/>
                </a:rPr>
                <a:t>HÁROM HASÁBOS KIMUTATÁ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320" y="297180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572000" y="2940120"/>
            <a:ext cx="4495680" cy="1632240"/>
            <a:chOff x="4572000" y="2940120"/>
            <a:chExt cx="4495680" cy="1632240"/>
          </a:xfrm>
        </p:grpSpPr>
        <p:sp>
          <p:nvSpPr>
            <p:cNvPr id="629" name=""/>
            <p:cNvSpPr/>
            <p:nvPr/>
          </p:nvSpPr>
          <p:spPr>
            <a:xfrm>
              <a:off x="4897440" y="2971800"/>
              <a:ext cx="417024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0000"/>
                  </a:solidFill>
                  <a:latin typeface="Bookman Old Style"/>
                </a:rPr>
                <a:t>A zárókimutatás egyezősége és az egyezőség alapja a főkönyvi kivonatnál leírtakkal elveiben megegyezik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72000" y="2940120"/>
              <a:ext cx="4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632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2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ORGALMI KIMUTATÁS SÉMÁ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4" name=""/>
          <p:cNvGraphicFramePr/>
          <p:nvPr/>
        </p:nvGraphicFramePr>
        <p:xfrm>
          <a:off x="152280" y="1878120"/>
          <a:ext cx="8839440" cy="4551120"/>
        </p:xfrm>
        <a:graphic>
          <a:graphicData uri="http://schemas.openxmlformats.org/drawingml/2006/table">
            <a:tbl>
              <a:tblPr/>
              <a:tblGrid>
                <a:gridCol w="609840"/>
                <a:gridCol w="685800"/>
                <a:gridCol w="1295280"/>
                <a:gridCol w="1143000"/>
                <a:gridCol w="990720"/>
                <a:gridCol w="1066680"/>
                <a:gridCol w="990720"/>
                <a:gridCol w="1066680"/>
                <a:gridCol w="990720"/>
              </a:tblGrid>
              <a:tr h="39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or-szá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SZÁM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YITÓ EGYEN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ZÁRÓ EGYEN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gnevezé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OZ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GATLA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TÁ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JEGYZETT TŐ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LLÍTÓ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S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"/>
          <p:cNvSpPr/>
          <p:nvPr/>
        </p:nvSpPr>
        <p:spPr>
          <a:xfrm>
            <a:off x="914400" y="1447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FORGALMI KIMUTATÁS 2001. DECEMBER 31.         </a:t>
            </a:r>
            <a:r>
              <a:rPr b="1" lang="hu-HU" sz="1600" spc="-1" strike="noStrike">
                <a:solidFill>
                  <a:srgbClr val="000000"/>
                </a:solidFill>
                <a:latin typeface="Bookman Old Style"/>
              </a:rPr>
              <a:t>Me.: e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637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2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ZÁRÓKIMUTAT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0" y="1143000"/>
            <a:ext cx="4647960" cy="1037880"/>
            <a:chOff x="0" y="1143000"/>
            <a:chExt cx="4647960" cy="1037880"/>
          </a:xfrm>
        </p:grpSpPr>
        <p:sp>
          <p:nvSpPr>
            <p:cNvPr id="640" name=""/>
            <p:cNvSpPr/>
            <p:nvPr/>
          </p:nvSpPr>
          <p:spPr>
            <a:xfrm>
              <a:off x="380880" y="1263960"/>
              <a:ext cx="4267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őkönyvi számlákból készített összesítő, ellenőrző kimutatá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0880" y="1143000"/>
              <a:ext cx="1924200" cy="3636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120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419720" y="1143000"/>
            <a:ext cx="4647600" cy="2045880"/>
            <a:chOff x="4419720" y="1143000"/>
            <a:chExt cx="4647600" cy="2045880"/>
          </a:xfrm>
        </p:grpSpPr>
        <p:sp>
          <p:nvSpPr>
            <p:cNvPr id="645" name=""/>
            <p:cNvSpPr/>
            <p:nvPr/>
          </p:nvSpPr>
          <p:spPr>
            <a:xfrm>
              <a:off x="4755960" y="1174680"/>
              <a:ext cx="43113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A ZÁRÓKIMUTATÁS EGYEZŐ-SÉGEI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ozik főösszeg = Köve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őössze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ozik egyenleg = Köve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enle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19720" y="1143000"/>
              <a:ext cx="414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320" y="2438280"/>
            <a:ext cx="4724280" cy="2838240"/>
            <a:chOff x="76320" y="2438280"/>
            <a:chExt cx="4724280" cy="2838240"/>
          </a:xfrm>
        </p:grpSpPr>
        <p:sp>
          <p:nvSpPr>
            <p:cNvPr id="648" name=""/>
            <p:cNvSpPr/>
            <p:nvPr/>
          </p:nvSpPr>
          <p:spPr>
            <a:xfrm>
              <a:off x="380880" y="2438280"/>
              <a:ext cx="44197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 oly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mely tartalmazza valamennyi főkönyvi szám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evét és számá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ozik és követel fő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összegé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ozik és követe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enlegét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880" y="2819520"/>
              <a:ext cx="4038840" cy="304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ÉGY HASÁBOS KIMUTATÁ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320" y="2438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419720" y="3152880"/>
            <a:ext cx="4723560" cy="1495080"/>
            <a:chOff x="4419720" y="3152880"/>
            <a:chExt cx="4723560" cy="1495080"/>
          </a:xfrm>
        </p:grpSpPr>
        <p:sp>
          <p:nvSpPr>
            <p:cNvPr id="652" name=""/>
            <p:cNvSpPr/>
            <p:nvPr/>
          </p:nvSpPr>
          <p:spPr>
            <a:xfrm>
              <a:off x="4761360" y="3182400"/>
              <a:ext cx="4381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Eszközök – Források egyenle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gének különbsége = Költség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(ráfordítások) – Bevétele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egyenlegének különbség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ELLENTÉTES ELŐJELLE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19720" y="3152880"/>
              <a:ext cx="42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762120" y="518148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a mérleg (eszköz és forr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számlák egyenleg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az eredmény (költség, rá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fordítás és bevétel) szá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lák egyenlegé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656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21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ZÁRÓKIMUTATÁS SÉMÁ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8" name=""/>
          <p:cNvGraphicFramePr/>
          <p:nvPr/>
        </p:nvGraphicFramePr>
        <p:xfrm>
          <a:off x="228600" y="1878120"/>
          <a:ext cx="8686800" cy="3589200"/>
        </p:xfrm>
        <a:graphic>
          <a:graphicData uri="http://schemas.openxmlformats.org/drawingml/2006/table">
            <a:tbl>
              <a:tblPr/>
              <a:tblGrid>
                <a:gridCol w="762120"/>
                <a:gridCol w="1600200"/>
                <a:gridCol w="685800"/>
                <a:gridCol w="685800"/>
                <a:gridCol w="685800"/>
                <a:gridCol w="838080"/>
                <a:gridCol w="762120"/>
                <a:gridCol w="761760"/>
                <a:gridCol w="914400"/>
                <a:gridCol w="990720"/>
              </a:tblGrid>
              <a:tr h="48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Ő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EN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R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e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lt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(ráford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vé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érle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mlá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,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redmény számlá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ÖSSZE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INDÖSSZE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9" name=""/>
          <p:cNvSpPr/>
          <p:nvPr/>
        </p:nvSpPr>
        <p:spPr>
          <a:xfrm>
            <a:off x="1523880" y="1447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ZÁRÓKIMUTATÁS 2001. DECEMBER 31.         </a:t>
            </a:r>
            <a:r>
              <a:rPr b="1" lang="hu-HU" sz="1600" spc="-1" strike="noStrike">
                <a:solidFill>
                  <a:srgbClr val="000000"/>
                </a:solidFill>
                <a:latin typeface="Bookman Old Style"/>
              </a:rPr>
              <a:t>Me.: e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0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MUNKA SZAKASZA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0" y="1066680"/>
            <a:ext cx="4571640" cy="1739880"/>
            <a:chOff x="0" y="1066680"/>
            <a:chExt cx="4571640" cy="1739880"/>
          </a:xfrm>
        </p:grpSpPr>
        <p:sp>
          <p:nvSpPr>
            <p:cNvPr id="104" name=""/>
            <p:cNvSpPr/>
            <p:nvPr/>
          </p:nvSpPr>
          <p:spPr>
            <a:xfrm>
              <a:off x="0" y="1081080"/>
              <a:ext cx="3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6760" y="1066680"/>
              <a:ext cx="4214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, olyan elszámolási és információs rendszer, amely a GAZDASÁGI ESEMÉNYE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EGFIGYEL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I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ENDSZEREZETTEN feljegyz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2895480"/>
            <a:ext cx="4648320" cy="1191240"/>
            <a:chOff x="0" y="2895480"/>
            <a:chExt cx="4648320" cy="1191240"/>
          </a:xfrm>
        </p:grpSpPr>
        <p:sp>
          <p:nvSpPr>
            <p:cNvPr id="108" name=""/>
            <p:cNvSpPr/>
            <p:nvPr/>
          </p:nvSpPr>
          <p:spPr>
            <a:xfrm>
              <a:off x="0" y="29095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2895480"/>
              <a:ext cx="426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 CÉLJ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agyon és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agyonváltoz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mutatá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4191120"/>
            <a:ext cx="4647960" cy="916920"/>
            <a:chOff x="0" y="4191120"/>
            <a:chExt cx="4647960" cy="916920"/>
          </a:xfrm>
        </p:grpSpPr>
        <p:sp>
          <p:nvSpPr>
            <p:cNvPr id="111" name=""/>
            <p:cNvSpPr/>
            <p:nvPr/>
          </p:nvSpPr>
          <p:spPr>
            <a:xfrm>
              <a:off x="0" y="4205160"/>
              <a:ext cx="3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7000" y="4191120"/>
              <a:ext cx="426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alapításkor, illetve az üzleti év első napján a vagyont a nyitó mérleg és a leltár tartalmazz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24280" y="1066680"/>
            <a:ext cx="4343040" cy="642600"/>
            <a:chOff x="4724280" y="1066680"/>
            <a:chExt cx="4343040" cy="642600"/>
          </a:xfrm>
        </p:grpSpPr>
        <p:sp>
          <p:nvSpPr>
            <p:cNvPr id="114" name=""/>
            <p:cNvSpPr/>
            <p:nvPr/>
          </p:nvSpPr>
          <p:spPr>
            <a:xfrm>
              <a:off x="4724280" y="10810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63400" y="1066680"/>
              <a:ext cx="400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 változását a gazdasági események idézik elő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24280" y="1828800"/>
            <a:ext cx="4267080" cy="2562840"/>
            <a:chOff x="4724280" y="1828800"/>
            <a:chExt cx="4267080" cy="2562840"/>
          </a:xfrm>
        </p:grpSpPr>
        <p:sp>
          <p:nvSpPr>
            <p:cNvPr id="117" name=""/>
            <p:cNvSpPr/>
            <p:nvPr/>
          </p:nvSpPr>
          <p:spPr>
            <a:xfrm>
              <a:off x="4724280" y="1843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7280" y="1828800"/>
              <a:ext cx="3934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 változását a számvitel a könyvviteli számlákon jegyzi fel. Ezért a számviteli munka első szakasz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ák megnyitás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 alapján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asági események elsőd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eges feljegyzése a bizonylatok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0" y="5181480"/>
            <a:ext cx="4647960" cy="916920"/>
            <a:chOff x="0" y="5181480"/>
            <a:chExt cx="4647960" cy="916920"/>
          </a:xfrm>
        </p:grpSpPr>
        <p:sp>
          <p:nvSpPr>
            <p:cNvPr id="120" name=""/>
            <p:cNvSpPr/>
            <p:nvPr/>
          </p:nvSpPr>
          <p:spPr>
            <a:xfrm>
              <a:off x="0" y="519588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880" y="5181480"/>
              <a:ext cx="428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munka során a nyitó mérlegben kimutatott vagyon változását jegyzik fe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724280" y="4495680"/>
            <a:ext cx="4343040" cy="1465560"/>
            <a:chOff x="4724280" y="4495680"/>
            <a:chExt cx="4343040" cy="1465560"/>
          </a:xfrm>
        </p:grpSpPr>
        <p:sp>
          <p:nvSpPr>
            <p:cNvPr id="123" name=""/>
            <p:cNvSpPr/>
            <p:nvPr/>
          </p:nvSpPr>
          <p:spPr>
            <a:xfrm>
              <a:off x="4724280" y="45100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3400" y="4495680"/>
              <a:ext cx="4003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munka szakaszai a nyitómérlegtől és a gazdasági eseményektől az üzleti év végén készítendő mérlegig, illetve beszámolóig veze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26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1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MUNKA SZAKASZAINAK SEMATIK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ÁBRÁZ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90720" y="1143000"/>
            <a:ext cx="4343400" cy="5181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43000" y="5867280"/>
            <a:ext cx="7543800" cy="459360"/>
            <a:chOff x="1143000" y="5867280"/>
            <a:chExt cx="7543800" cy="459360"/>
          </a:xfrm>
        </p:grpSpPr>
        <p:sp>
          <p:nvSpPr>
            <p:cNvPr id="130" name=""/>
            <p:cNvSpPr/>
            <p:nvPr/>
          </p:nvSpPr>
          <p:spPr>
            <a:xfrm flipH="1">
              <a:off x="5639040" y="5867280"/>
              <a:ext cx="3047760" cy="457200"/>
            </a:xfrm>
            <a:custGeom>
              <a:avLst/>
              <a:gdLst>
                <a:gd name="textAreaLeft" fmla="*/ 360 w 3047760"/>
                <a:gd name="textAreaRight" fmla="*/ 3048480 w 30477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Induló vagy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143000" y="5867280"/>
              <a:ext cx="4038840" cy="459360"/>
              <a:chOff x="1143000" y="5867280"/>
              <a:chExt cx="4038840" cy="459360"/>
            </a:xfrm>
          </p:grpSpPr>
          <p:sp>
            <p:nvSpPr>
              <p:cNvPr id="132" name=""/>
              <p:cNvSpPr/>
              <p:nvPr/>
            </p:nvSpPr>
            <p:spPr>
              <a:xfrm>
                <a:off x="1143000" y="5927760"/>
                <a:ext cx="3962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Mérleg, leltá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19320" y="5867280"/>
                <a:ext cx="3962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1066680" y="5334120"/>
            <a:ext cx="7619760" cy="551160"/>
            <a:chOff x="1066680" y="5334120"/>
            <a:chExt cx="7619760" cy="551160"/>
          </a:xfrm>
        </p:grpSpPr>
        <p:sp>
          <p:nvSpPr>
            <p:cNvPr id="135" name=""/>
            <p:cNvSpPr/>
            <p:nvPr/>
          </p:nvSpPr>
          <p:spPr>
            <a:xfrm flipH="1">
              <a:off x="5638680" y="5334120"/>
              <a:ext cx="3047760" cy="457200"/>
            </a:xfrm>
            <a:custGeom>
              <a:avLst/>
              <a:gdLst>
                <a:gd name="textAreaLeft" fmla="*/ 360 w 3047760"/>
                <a:gd name="textAreaRight" fmla="*/ 3048480 w 30477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Gazdasági esemény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066680" y="5410080"/>
              <a:ext cx="3962160" cy="475200"/>
              <a:chOff x="1066680" y="5410080"/>
              <a:chExt cx="3962160" cy="475200"/>
            </a:xfrm>
          </p:grpSpPr>
          <p:sp>
            <p:nvSpPr>
              <p:cNvPr id="137" name=""/>
              <p:cNvSpPr/>
              <p:nvPr/>
            </p:nvSpPr>
            <p:spPr>
              <a:xfrm>
                <a:off x="1066680" y="5486400"/>
                <a:ext cx="396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Bizonylato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71240" y="5410080"/>
                <a:ext cx="358164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419720" y="1598760"/>
            <a:ext cx="4572000" cy="916920"/>
            <a:chOff x="4419720" y="1598760"/>
            <a:chExt cx="4572000" cy="916920"/>
          </a:xfrm>
        </p:grpSpPr>
        <p:sp>
          <p:nvSpPr>
            <p:cNvPr id="140" name=""/>
            <p:cNvSpPr/>
            <p:nvPr/>
          </p:nvSpPr>
          <p:spPr>
            <a:xfrm>
              <a:off x="4988160" y="1598760"/>
              <a:ext cx="400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Bookman Old Style"/>
                </a:rPr>
                <a:t>Szigorú egymásra épül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telező kapcso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Nem mindig kötelező kapcso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2347920"/>
              <a:ext cx="60948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20430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19720" y="1814400"/>
              <a:ext cx="60948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33160" y="1981080"/>
            <a:ext cx="4648320" cy="4038840"/>
            <a:chOff x="533160" y="1981080"/>
            <a:chExt cx="4648320" cy="4038840"/>
          </a:xfrm>
        </p:grpSpPr>
        <p:grpSp>
          <p:nvGrpSpPr>
            <p:cNvPr id="145" name=""/>
            <p:cNvGrpSpPr/>
            <p:nvPr/>
          </p:nvGrpSpPr>
          <p:grpSpPr>
            <a:xfrm>
              <a:off x="1143000" y="1981080"/>
              <a:ext cx="4038480" cy="3476520"/>
              <a:chOff x="1143000" y="1981080"/>
              <a:chExt cx="4038480" cy="3476520"/>
            </a:xfrm>
          </p:grpSpPr>
          <p:sp>
            <p:nvSpPr>
              <p:cNvPr id="146" name=""/>
              <p:cNvSpPr/>
              <p:nvPr/>
            </p:nvSpPr>
            <p:spPr>
              <a:xfrm>
                <a:off x="2133720" y="1981080"/>
                <a:ext cx="2133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Beszá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mol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(Mérleg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Eredmény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kimutatás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219320" y="4876920"/>
                <a:ext cx="3962160" cy="580680"/>
                <a:chOff x="1219320" y="4876920"/>
                <a:chExt cx="3962160" cy="5806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19320" y="4937400"/>
                  <a:ext cx="3962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990033"/>
                      </a:solidFill>
                      <a:latin typeface="Bookman Old Style"/>
                    </a:rPr>
                    <a:t>Nyilvántartások természetes egységbe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99840" y="4876920"/>
                  <a:ext cx="3124080" cy="0"/>
                </a:xfrm>
                <a:prstGeom prst="line">
                  <a:avLst/>
                </a:prstGeom>
                <a:ln w="3816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143000" y="4267080"/>
                <a:ext cx="3962520" cy="657720"/>
                <a:chOff x="1143000" y="4267080"/>
                <a:chExt cx="3962520" cy="657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143000" y="4343400"/>
                  <a:ext cx="3962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8000"/>
                      </a:solidFill>
                      <a:latin typeface="Bookman Old Style"/>
                    </a:rPr>
                    <a:t>Analitikus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8000"/>
                      </a:solidFill>
                      <a:latin typeface="Bookman Old Style"/>
                    </a:rPr>
                    <a:t>nyilvántartáso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28800" y="4267080"/>
                  <a:ext cx="266724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600200" y="3625920"/>
                <a:ext cx="3124080" cy="641520"/>
                <a:chOff x="1600200" y="3625920"/>
                <a:chExt cx="3124080" cy="6415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600200" y="3686040"/>
                  <a:ext cx="3124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cc6600"/>
                      </a:solidFill>
                      <a:latin typeface="Bookman Old Style"/>
                    </a:rPr>
                    <a:t>Szintetikus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cc6600"/>
                      </a:solidFill>
                      <a:latin typeface="Bookman Old Style"/>
                    </a:rPr>
                    <a:t>nyilvántartáso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133360" y="3625920"/>
                  <a:ext cx="2057040" cy="0"/>
                </a:xfrm>
                <a:prstGeom prst="line">
                  <a:avLst/>
                </a:prstGeom>
                <a:ln w="381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533160" y="3809520"/>
              <a:ext cx="1524240" cy="2210400"/>
              <a:chOff x="533160" y="3809520"/>
              <a:chExt cx="1524240" cy="221040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533160" y="60199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33520" y="3809520"/>
                <a:ext cx="0" cy="221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3520" y="380988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990360" y="4114440"/>
              <a:ext cx="914760" cy="1524240"/>
              <a:chOff x="990360" y="4114440"/>
              <a:chExt cx="914760" cy="152424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990360" y="56386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990720" y="4114440"/>
                <a:ext cx="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90720" y="4114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142640" y="4572000"/>
              <a:ext cx="609840" cy="990720"/>
              <a:chOff x="1142640" y="4572000"/>
              <a:chExt cx="609840" cy="99072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1142640" y="5562720"/>
                <a:ext cx="22860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143000" y="4572000"/>
                <a:ext cx="0" cy="990720"/>
              </a:xfrm>
              <a:prstGeom prst="line">
                <a:avLst/>
              </a:prstGeom>
              <a:ln w="5724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43000" y="4572000"/>
                <a:ext cx="60948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43000" y="5105520"/>
                <a:ext cx="38088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flipV="1">
              <a:off x="1523880" y="3276360"/>
              <a:ext cx="914400" cy="23619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7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VITELI BIZONYLAT 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876920" y="1295280"/>
            <a:ext cx="0" cy="5257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1066680"/>
            <a:ext cx="4876920" cy="1191240"/>
            <a:chOff x="0" y="1066680"/>
            <a:chExt cx="4876920" cy="1191240"/>
          </a:xfrm>
        </p:grpSpPr>
        <p:grpSp>
          <p:nvGrpSpPr>
            <p:cNvPr id="175" name=""/>
            <p:cNvGrpSpPr/>
            <p:nvPr/>
          </p:nvGrpSpPr>
          <p:grpSpPr>
            <a:xfrm>
              <a:off x="0" y="1066680"/>
              <a:ext cx="4876920" cy="1191240"/>
              <a:chOff x="0" y="1066680"/>
              <a:chExt cx="4876920" cy="119124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1081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0880" y="1066680"/>
                <a:ext cx="4496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Számviteli bizonylatnak minősül a gazdasági esemény elsődleges, hitelt érdemlő feljegyzés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7200" y="1069920"/>
              <a:ext cx="14479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ÖMÖ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0" y="3886200"/>
            <a:ext cx="4572000" cy="1371600"/>
            <a:chOff x="0" y="3886200"/>
            <a:chExt cx="4572000" cy="1371600"/>
          </a:xfrm>
        </p:grpSpPr>
        <p:grpSp>
          <p:nvGrpSpPr>
            <p:cNvPr id="180" name=""/>
            <p:cNvGrpSpPr/>
            <p:nvPr/>
          </p:nvGrpSpPr>
          <p:grpSpPr>
            <a:xfrm>
              <a:off x="0" y="3886200"/>
              <a:ext cx="4572000" cy="1191240"/>
              <a:chOff x="0" y="3886200"/>
              <a:chExt cx="4572000" cy="119124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3900240"/>
                <a:ext cx="3556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0880" y="388620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GAZDÁLKODÓVAL üzleti vagy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gyéb KAPCSOLATBAN ÁLLÓ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ermészetes személy vagy m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gazdálkodó által készítet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09480" y="5029200"/>
              <a:ext cx="11430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kmá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52280" y="4952880"/>
            <a:ext cx="4724280" cy="2014200"/>
            <a:chOff x="152280" y="4952880"/>
            <a:chExt cx="4724280" cy="2014200"/>
          </a:xfrm>
        </p:grpSpPr>
        <p:sp>
          <p:nvSpPr>
            <p:cNvPr id="185" name=""/>
            <p:cNvSpPr/>
            <p:nvPr/>
          </p:nvSpPr>
          <p:spPr>
            <a:xfrm>
              <a:off x="152280" y="4967280"/>
              <a:ext cx="367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5760" y="4952880"/>
              <a:ext cx="43308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számla, számlát helyettesítő okmány, szerződés, meg-állapodás, kimutatás, hitelintézeti bizonylat, bankkivonat, jogszabályi rendelkezés, egyéb ilyennek minősíthető irat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0" y="2362320"/>
            <a:ext cx="5029200" cy="1541520"/>
            <a:chOff x="0" y="2362320"/>
            <a:chExt cx="5029200" cy="1541520"/>
          </a:xfrm>
        </p:grpSpPr>
        <p:grpSp>
          <p:nvGrpSpPr>
            <p:cNvPr id="188" name=""/>
            <p:cNvGrpSpPr/>
            <p:nvPr/>
          </p:nvGrpSpPr>
          <p:grpSpPr>
            <a:xfrm>
              <a:off x="0" y="2438280"/>
              <a:ext cx="5029200" cy="1465560"/>
              <a:chOff x="0" y="2438280"/>
              <a:chExt cx="5029200" cy="146556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2452680"/>
                <a:ext cx="37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3840" y="2438280"/>
                <a:ext cx="4635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SZÁMVITELI BIZONYLAT MINDEN OLYAN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GAZDÁLKODÓ ÁLTAL KÉSZÍ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ETT, illetve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7200" y="2362320"/>
              <a:ext cx="41911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TÖRVÉNY MEGF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2743200"/>
              <a:ext cx="274320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GALMAZÁSA SZER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572000" y="1066680"/>
            <a:ext cx="4572000" cy="642600"/>
            <a:chOff x="4572000" y="1066680"/>
            <a:chExt cx="4572000" cy="642600"/>
          </a:xfrm>
        </p:grpSpPr>
        <p:sp>
          <p:nvSpPr>
            <p:cNvPr id="194" name=""/>
            <p:cNvSpPr/>
            <p:nvPr/>
          </p:nvSpPr>
          <p:spPr>
            <a:xfrm>
              <a:off x="4572000" y="1081080"/>
              <a:ext cx="35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52880" y="106668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 függetlenül annak nyomdai vagy egyéb előállítási módjától -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952880" y="175248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MELY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GAZDASÁGI ESEMÉ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ZÁMVITELI NYILVÁNTA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ÁSA CÉLJÁRA KÉSZÍT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EK,  és am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ENDELKEZIK A SZÁMV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ELI TÖRVÉNYBEN MEG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HATÁROZOTT ÁLTALÁ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LAKI ÉS TARTALMI KE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ÉKEKK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98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IZONYLATI ELV 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952880" y="1143000"/>
            <a:ext cx="0" cy="5257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72000" y="2725560"/>
            <a:ext cx="4572000" cy="1465560"/>
            <a:chOff x="4572000" y="2725560"/>
            <a:chExt cx="4572000" cy="1465560"/>
          </a:xfrm>
        </p:grpSpPr>
        <p:sp>
          <p:nvSpPr>
            <p:cNvPr id="202" name=""/>
            <p:cNvSpPr/>
            <p:nvPr/>
          </p:nvSpPr>
          <p:spPr>
            <a:xfrm>
              <a:off x="4572000" y="2739960"/>
              <a:ext cx="35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52880" y="2725560"/>
              <a:ext cx="4191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(KÖNYVVITEL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YILVÁNTARTÁSOKBA CSA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ABÁLYSZERŰEN KIÁLLÍTO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IZONYLAT ALAPJÁN SZAB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DATOKAT BEJEGYEZ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-76320" y="1177920"/>
            <a:ext cx="4876920" cy="1382400"/>
            <a:chOff x="-76320" y="1177920"/>
            <a:chExt cx="4876920" cy="1382400"/>
          </a:xfrm>
        </p:grpSpPr>
        <p:grpSp>
          <p:nvGrpSpPr>
            <p:cNvPr id="205" name=""/>
            <p:cNvGrpSpPr/>
            <p:nvPr/>
          </p:nvGrpSpPr>
          <p:grpSpPr>
            <a:xfrm>
              <a:off x="-76320" y="1177920"/>
              <a:ext cx="4876920" cy="1382400"/>
              <a:chOff x="-76320" y="1177920"/>
              <a:chExt cx="4876920" cy="1382400"/>
            </a:xfrm>
          </p:grpSpPr>
          <p:sp>
            <p:nvSpPr>
              <p:cNvPr id="206" name=""/>
              <p:cNvSpPr/>
              <p:nvPr/>
            </p:nvSpPr>
            <p:spPr>
              <a:xfrm>
                <a:off x="-76320" y="1192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4560" y="1177920"/>
                <a:ext cx="4496040" cy="13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BIZONYLATI ELV LÉNYEGE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MINDEN GAZDASÁGI ESEMÉNY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RŐL BIZONYLATOT KELL KIÁL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LÍTANI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80880" y="1181160"/>
              <a:ext cx="14479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ÖMÖ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72000" y="1143000"/>
            <a:ext cx="4723920" cy="1465560"/>
            <a:chOff x="4572000" y="1143000"/>
            <a:chExt cx="4723920" cy="1465560"/>
          </a:xfrm>
        </p:grpSpPr>
        <p:sp>
          <p:nvSpPr>
            <p:cNvPr id="210" name=""/>
            <p:cNvSpPr/>
            <p:nvPr/>
          </p:nvSpPr>
          <p:spPr>
            <a:xfrm>
              <a:off x="4572000" y="1157040"/>
              <a:ext cx="367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65480" y="1143000"/>
              <a:ext cx="4330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asági műveletek (események) folyamatát tükröző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S BIZONYLAT ADATAI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ÖNYVVITELI NYILVÁNTA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ÁSOKBAN RÖGZÍTENI KEL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-76320" y="2552760"/>
            <a:ext cx="4800240" cy="833760"/>
            <a:chOff x="-76320" y="2552760"/>
            <a:chExt cx="4800240" cy="833760"/>
          </a:xfrm>
        </p:grpSpPr>
        <p:sp>
          <p:nvSpPr>
            <p:cNvPr id="213" name=""/>
            <p:cNvSpPr/>
            <p:nvPr/>
          </p:nvSpPr>
          <p:spPr>
            <a:xfrm>
              <a:off x="-76320" y="2566800"/>
              <a:ext cx="3733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3280" y="2552760"/>
              <a:ext cx="44006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INDEN BIZONYLATON SZEREP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Ő GAZDASÁGI ESEMÉNYT 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ELL KÖNYVELN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-76320" y="3390840"/>
            <a:ext cx="4800240" cy="833760"/>
            <a:chOff x="-76320" y="3390840"/>
            <a:chExt cx="4800240" cy="833760"/>
          </a:xfrm>
        </p:grpSpPr>
        <p:sp>
          <p:nvSpPr>
            <p:cNvPr id="216" name=""/>
            <p:cNvSpPr/>
            <p:nvPr/>
          </p:nvSpPr>
          <p:spPr>
            <a:xfrm>
              <a:off x="-76320" y="3405240"/>
              <a:ext cx="37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3280" y="3390840"/>
              <a:ext cx="44006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NYVELNI CSAK SZABÁLYSZ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ŰEN KIÁLLÍTOTT BIZONYL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APJÁN SZAB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76320" y="4343400"/>
            <a:ext cx="5029200" cy="2335680"/>
            <a:chOff x="-76320" y="4343400"/>
            <a:chExt cx="5029200" cy="2335680"/>
          </a:xfrm>
        </p:grpSpPr>
        <p:grpSp>
          <p:nvGrpSpPr>
            <p:cNvPr id="219" name=""/>
            <p:cNvGrpSpPr/>
            <p:nvPr/>
          </p:nvGrpSpPr>
          <p:grpSpPr>
            <a:xfrm>
              <a:off x="-76320" y="4343400"/>
              <a:ext cx="5028840" cy="642600"/>
              <a:chOff x="-76320" y="4343400"/>
              <a:chExt cx="5028840" cy="642600"/>
            </a:xfrm>
          </p:grpSpPr>
          <p:sp>
            <p:nvSpPr>
              <p:cNvPr id="220" name=""/>
              <p:cNvSpPr/>
              <p:nvPr/>
            </p:nvSpPr>
            <p:spPr>
              <a:xfrm>
                <a:off x="-76320" y="4357440"/>
                <a:ext cx="39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5520" y="4343400"/>
                <a:ext cx="4617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-76320" y="5105520"/>
              <a:ext cx="4946400" cy="1573560"/>
              <a:chOff x="-76320" y="5105520"/>
              <a:chExt cx="4946400" cy="1573560"/>
            </a:xfrm>
          </p:grpSpPr>
          <p:sp>
            <p:nvSpPr>
              <p:cNvPr id="223" name=""/>
              <p:cNvSpPr/>
              <p:nvPr/>
            </p:nvSpPr>
            <p:spPr>
              <a:xfrm>
                <a:off x="-76320" y="5119560"/>
                <a:ext cx="3844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35520" y="5105520"/>
                <a:ext cx="4534560" cy="15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MINDEN GAZDASÁGI műveletről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SEMÉNYRŐL, amely az   eszközök, illetve az eszközök forrásainak állományát, vagy összetételét megváltoztatják BIZONYLA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OT KELL KIÁLLÍTANI (készíteni).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04920" y="4343400"/>
              <a:ext cx="4647960" cy="287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TÖRVÉNY MEGFOGAL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920" y="4707000"/>
              <a:ext cx="4267080" cy="322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AZÁSA SZERINT RÉSZLETES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228600" y="154080"/>
            <a:ext cx="8686800" cy="912600"/>
            <a:chOff x="228600" y="154080"/>
            <a:chExt cx="8686800" cy="912600"/>
          </a:xfrm>
        </p:grpSpPr>
        <p:sp>
          <p:nvSpPr>
            <p:cNvPr id="228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8600" y="552600"/>
              <a:ext cx="434340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ABÁLYSZERŰ BIZONYLA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VETELMÉNY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0" y="1521000"/>
            <a:ext cx="4876920" cy="2014200"/>
            <a:chOff x="0" y="1521000"/>
            <a:chExt cx="4876920" cy="2014200"/>
          </a:xfrm>
        </p:grpSpPr>
        <p:sp>
          <p:nvSpPr>
            <p:cNvPr id="231" name=""/>
            <p:cNvSpPr/>
            <p:nvPr/>
          </p:nvSpPr>
          <p:spPr>
            <a:xfrm>
              <a:off x="0" y="15350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1521000"/>
              <a:ext cx="4496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ABÁLYSZERŰ AZ A BIZONYLAT, AMELY az adott gazdasági eseményre vonatkozóan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NYVVITELBEN RÖGZÍTEND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S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ÁS JOGSZABÁLYBAN ELŐÍ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DATOKA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6320" y="4127400"/>
            <a:ext cx="4647600" cy="1191240"/>
            <a:chOff x="76320" y="4127400"/>
            <a:chExt cx="4647600" cy="1191240"/>
          </a:xfrm>
        </p:grpSpPr>
        <p:sp>
          <p:nvSpPr>
            <p:cNvPr id="234" name=""/>
            <p:cNvSpPr/>
            <p:nvPr/>
          </p:nvSpPr>
          <p:spPr>
            <a:xfrm>
              <a:off x="76320" y="4141440"/>
              <a:ext cx="361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6840" y="4127400"/>
              <a:ext cx="426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EGFELEL a BIZONYLAT általá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AKI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ARTALMI követelményeinek i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0" y="3581280"/>
            <a:ext cx="4723920" cy="916920"/>
            <a:chOff x="0" y="3581280"/>
            <a:chExt cx="4723920" cy="916920"/>
          </a:xfrm>
        </p:grpSpPr>
        <p:sp>
          <p:nvSpPr>
            <p:cNvPr id="237" name=""/>
            <p:cNvSpPr/>
            <p:nvPr/>
          </p:nvSpPr>
          <p:spPr>
            <a:xfrm>
              <a:off x="0" y="3595680"/>
              <a:ext cx="367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3480" y="3581280"/>
              <a:ext cx="433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ALÓSÁGNAK MEGFELELŐE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IÁNYTALANUL TARTALMAZZ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6320" y="5607000"/>
            <a:ext cx="4647600" cy="642600"/>
            <a:chOff x="76320" y="5607000"/>
            <a:chExt cx="4647600" cy="642600"/>
          </a:xfrm>
        </p:grpSpPr>
        <p:sp>
          <p:nvSpPr>
            <p:cNvPr id="240" name=""/>
            <p:cNvSpPr/>
            <p:nvPr/>
          </p:nvSpPr>
          <p:spPr>
            <a:xfrm>
              <a:off x="76320" y="5621040"/>
              <a:ext cx="361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6840" y="5607000"/>
              <a:ext cx="42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s amelyet – hiba esetén – ELŐÍRÁSSZERŰEN JAVÍTOTT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724280" y="533520"/>
            <a:ext cx="4343400" cy="5867280"/>
            <a:chOff x="4724280" y="533520"/>
            <a:chExt cx="4343400" cy="5867280"/>
          </a:xfrm>
        </p:grpSpPr>
        <p:sp>
          <p:nvSpPr>
            <p:cNvPr id="243" name=""/>
            <p:cNvSpPr/>
            <p:nvPr/>
          </p:nvSpPr>
          <p:spPr>
            <a:xfrm>
              <a:off x="4724280" y="1600200"/>
              <a:ext cx="0" cy="48006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6920" y="1490760"/>
              <a:ext cx="419076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utalványozási elv azt jelenti, hogy a gazdasági események egy részét (pl. az eszközök átadását, a pénz kifizetését, munkavégzést) csak előzetesen írásban rögzített engedély alapján szabad végrehajta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6920" y="533520"/>
              <a:ext cx="3962160" cy="514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UTALVÁNYOZÁSI EL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457200" y="76320"/>
            <a:ext cx="8534520" cy="684000"/>
            <a:chOff x="457200" y="76320"/>
            <a:chExt cx="8534520" cy="684000"/>
          </a:xfrm>
        </p:grpSpPr>
        <p:sp>
          <p:nvSpPr>
            <p:cNvPr id="247" name=""/>
            <p:cNvSpPr/>
            <p:nvPr/>
          </p:nvSpPr>
          <p:spPr>
            <a:xfrm>
              <a:off x="7961400" y="7632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200" y="24624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IZONYLAT ÁLTALÁNOS ALAKI ÉS TARTALMI KELLÉK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0" y="960480"/>
            <a:ext cx="4647960" cy="754920"/>
            <a:chOff x="0" y="960480"/>
            <a:chExt cx="4647960" cy="754920"/>
          </a:xfrm>
        </p:grpSpPr>
        <p:sp>
          <p:nvSpPr>
            <p:cNvPr id="250" name=""/>
            <p:cNvSpPr/>
            <p:nvPr/>
          </p:nvSpPr>
          <p:spPr>
            <a:xfrm>
              <a:off x="0" y="974880"/>
              <a:ext cx="3628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2880" y="960480"/>
              <a:ext cx="42850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bizonylat MEGNEVEZÉSE és SORSZÁMA, vagy egyéb más azonosítója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648320" y="838080"/>
            <a:ext cx="0" cy="60199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1684440"/>
            <a:ext cx="4648320" cy="754920"/>
            <a:chOff x="0" y="1684440"/>
            <a:chExt cx="4648320" cy="754920"/>
          </a:xfrm>
        </p:grpSpPr>
        <p:sp>
          <p:nvSpPr>
            <p:cNvPr id="254" name=""/>
            <p:cNvSpPr/>
            <p:nvPr/>
          </p:nvSpPr>
          <p:spPr>
            <a:xfrm>
              <a:off x="0" y="1698480"/>
              <a:ext cx="361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1684440"/>
              <a:ext cx="426744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bizonylatot KIÁLLÍTÓ GAZDÁL-KODÓ  (ezen belül szervezeti egység) MEGNEVEZÉS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0" y="2438280"/>
            <a:ext cx="4572000" cy="2517480"/>
            <a:chOff x="0" y="2438280"/>
            <a:chExt cx="4572000" cy="2517480"/>
          </a:xfrm>
        </p:grpSpPr>
        <p:sp>
          <p:nvSpPr>
            <p:cNvPr id="257" name=""/>
            <p:cNvSpPr/>
            <p:nvPr/>
          </p:nvSpPr>
          <p:spPr>
            <a:xfrm>
              <a:off x="0" y="2452680"/>
              <a:ext cx="3556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880" y="2438280"/>
              <a:ext cx="419112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gazdasági műveletet ELRENDE-LŐ SZEMÉLY, vagy szervezet MEGJELÖLÉSE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Z UTALVÁNYOZÓ,  és 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RENDELKEZÉS VÉGREHAJTÁSÁ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IGAZOLÓ személy, valamint a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LLENŐR ALÁÍRÁSA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készletmozgások bizonylatain és a pénzkezelési bizonylatokon az ÁTVEVŐ,  az ellennyugtákon a BEFIZETŐ ALÁÍRÁSA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48320" y="922320"/>
            <a:ext cx="4343040" cy="534600"/>
            <a:chOff x="4648320" y="922320"/>
            <a:chExt cx="4343040" cy="534600"/>
          </a:xfrm>
        </p:grpSpPr>
        <p:sp>
          <p:nvSpPr>
            <p:cNvPr id="260" name=""/>
            <p:cNvSpPr/>
            <p:nvPr/>
          </p:nvSpPr>
          <p:spPr>
            <a:xfrm>
              <a:off x="4648320" y="936720"/>
              <a:ext cx="33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87440" y="922320"/>
              <a:ext cx="400392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okozta VÁLTOZÁSOK MENNYI-SÉGI, MINŐSÉGI ÉS ÉRTÉKBENI ADATAI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724280" y="3156120"/>
            <a:ext cx="4267080" cy="1415880"/>
            <a:chOff x="4724280" y="3156120"/>
            <a:chExt cx="4267080" cy="1415880"/>
          </a:xfrm>
        </p:grpSpPr>
        <p:sp>
          <p:nvSpPr>
            <p:cNvPr id="263" name=""/>
            <p:cNvSpPr/>
            <p:nvPr/>
          </p:nvSpPr>
          <p:spPr>
            <a:xfrm>
              <a:off x="4724280" y="3170160"/>
              <a:ext cx="333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7280" y="3156120"/>
              <a:ext cx="3934080" cy="14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ÖSSZESÍTŐ BIZONYLATOKON rögzíteni kell az ÖSSZESÍTÉS ALAPJÁUL SZOLGÁLÓ BIZONY-LATOK körét, valamint az időszakot, amire az összesítés vonatkozik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48320" y="1708200"/>
            <a:ext cx="4419000" cy="1415880"/>
            <a:chOff x="4648320" y="1708200"/>
            <a:chExt cx="4419000" cy="1415880"/>
          </a:xfrm>
        </p:grpSpPr>
        <p:sp>
          <p:nvSpPr>
            <p:cNvPr id="266" name=""/>
            <p:cNvSpPr/>
            <p:nvPr/>
          </p:nvSpPr>
          <p:spPr>
            <a:xfrm>
              <a:off x="4648320" y="1722240"/>
              <a:ext cx="3466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95000" y="1708200"/>
              <a:ext cx="4072320" cy="14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KÜLSŐ BIZONYLAT esetében a bizonylatnak TARTALMAZNI KELL többek között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KIÁLLÍTÓ GAZDÁLKODÓ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EVÉT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- CÍMÉT stb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0" y="4968720"/>
            <a:ext cx="4572000" cy="975240"/>
            <a:chOff x="0" y="4968720"/>
            <a:chExt cx="4572000" cy="975240"/>
          </a:xfrm>
        </p:grpSpPr>
        <p:sp>
          <p:nvSpPr>
            <p:cNvPr id="269" name=""/>
            <p:cNvSpPr/>
            <p:nvPr/>
          </p:nvSpPr>
          <p:spPr>
            <a:xfrm>
              <a:off x="0" y="4983120"/>
              <a:ext cx="3556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880" y="4968720"/>
              <a:ext cx="419112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bizonylat KIÁLLÍTÁSÁNAK IDŐPONTJA. Kivételesen annak az időszaknak a megjelölése, amelyre a bizonylat adatai vonatkoznak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724280" y="4579920"/>
            <a:ext cx="4267080" cy="754920"/>
            <a:chOff x="4724280" y="4579920"/>
            <a:chExt cx="4267080" cy="754920"/>
          </a:xfrm>
        </p:grpSpPr>
        <p:sp>
          <p:nvSpPr>
            <p:cNvPr id="272" name=""/>
            <p:cNvSpPr/>
            <p:nvPr/>
          </p:nvSpPr>
          <p:spPr>
            <a:xfrm>
              <a:off x="4724280" y="4594320"/>
              <a:ext cx="333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57280" y="4579920"/>
              <a:ext cx="39340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KÖNYVELÉS MÓDJÁRA, AZ ÉRINTETT KÖNYVVITELI SZÁM-LÁKRA VALÓ HIVATKOZÁS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724280" y="5410080"/>
            <a:ext cx="4267080" cy="754920"/>
            <a:chOff x="4724280" y="5410080"/>
            <a:chExt cx="4267080" cy="754920"/>
          </a:xfrm>
        </p:grpSpPr>
        <p:sp>
          <p:nvSpPr>
            <p:cNvPr id="275" name=""/>
            <p:cNvSpPr/>
            <p:nvPr/>
          </p:nvSpPr>
          <p:spPr>
            <a:xfrm>
              <a:off x="4724280" y="5424480"/>
              <a:ext cx="333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57280" y="5410080"/>
              <a:ext cx="39340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könyvviteli NYILVÁNTARTÁ-SOKBAN TÖRTÉNT RÖGZÍTÉS IDŐPONTJA, IGAZOLÁSA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724280" y="6248520"/>
            <a:ext cx="4267080" cy="534600"/>
            <a:chOff x="4724280" y="6248520"/>
            <a:chExt cx="4267080" cy="534600"/>
          </a:xfrm>
        </p:grpSpPr>
        <p:sp>
          <p:nvSpPr>
            <p:cNvPr id="278" name=""/>
            <p:cNvSpPr/>
            <p:nvPr/>
          </p:nvSpPr>
          <p:spPr>
            <a:xfrm>
              <a:off x="4724280" y="6262560"/>
              <a:ext cx="333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57280" y="6248520"/>
              <a:ext cx="393408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TOVÁBBÁ minden olyan adat, amelyet JOGSZABÁLY ELŐÍR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0" y="5975280"/>
            <a:ext cx="4343040" cy="754920"/>
            <a:chOff x="0" y="5975280"/>
            <a:chExt cx="4343040" cy="754920"/>
          </a:xfrm>
        </p:grpSpPr>
        <p:sp>
          <p:nvSpPr>
            <p:cNvPr id="281" name=""/>
            <p:cNvSpPr/>
            <p:nvPr/>
          </p:nvSpPr>
          <p:spPr>
            <a:xfrm>
              <a:off x="0" y="5989680"/>
              <a:ext cx="3391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9120" y="5975280"/>
              <a:ext cx="400392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gazdasági művelet TARTAL-MÁNAK LEÍRÁSA, vagy meg-jelölése, a gazdasági művele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284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9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IZONYLATOK 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76320" y="1295280"/>
            <a:ext cx="5028840" cy="4317480"/>
            <a:chOff x="-76320" y="1295280"/>
            <a:chExt cx="5028840" cy="4317480"/>
          </a:xfrm>
        </p:grpSpPr>
        <p:sp>
          <p:nvSpPr>
            <p:cNvPr id="287" name=""/>
            <p:cNvSpPr/>
            <p:nvPr/>
          </p:nvSpPr>
          <p:spPr>
            <a:xfrm>
              <a:off x="-76320" y="1309680"/>
              <a:ext cx="3927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6440" y="1295280"/>
              <a:ext cx="4636080" cy="43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EVÉKENYSÉGI KÖRÖK SZERIN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efektetett eszközök bizonylata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észletek bizonylata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állattartás bizonylata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unka- és munkabér-elszámol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izonylata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pénzügyi elszámolások bizonylata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termeléssel kapcsolatos bizony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lato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értékesítéssel kapcsola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izonylato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leltározás bizonylata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ügyviteli, pénzforgalmi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nyvelési bizonylato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80060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105520" y="1295280"/>
            <a:ext cx="4419000" cy="1300680"/>
            <a:chOff x="5105520" y="1295280"/>
            <a:chExt cx="4419000" cy="1300680"/>
          </a:xfrm>
        </p:grpSpPr>
        <p:sp>
          <p:nvSpPr>
            <p:cNvPr id="291" name=""/>
            <p:cNvSpPr/>
            <p:nvPr/>
          </p:nvSpPr>
          <p:spPr>
            <a:xfrm>
              <a:off x="5105520" y="1310760"/>
              <a:ext cx="3466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52200" y="1295280"/>
              <a:ext cx="407232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ELETKEZÉSI HELYÜ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ERIN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lső bizonylato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ülső bizonylato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105520" y="4343400"/>
            <a:ext cx="4343040" cy="999000"/>
            <a:chOff x="5105520" y="4343400"/>
            <a:chExt cx="4343040" cy="999000"/>
          </a:xfrm>
        </p:grpSpPr>
        <p:sp>
          <p:nvSpPr>
            <p:cNvPr id="294" name=""/>
            <p:cNvSpPr/>
            <p:nvPr/>
          </p:nvSpPr>
          <p:spPr>
            <a:xfrm>
              <a:off x="5105520" y="4357800"/>
              <a:ext cx="339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44640" y="4343400"/>
              <a:ext cx="400392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ARTALMUK SZERIN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szerű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tett bizonylato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105520" y="2792520"/>
            <a:ext cx="4343040" cy="1300680"/>
            <a:chOff x="5105520" y="2792520"/>
            <a:chExt cx="4343040" cy="1300680"/>
          </a:xfrm>
        </p:grpSpPr>
        <p:sp>
          <p:nvSpPr>
            <p:cNvPr id="297" name=""/>
            <p:cNvSpPr/>
            <p:nvPr/>
          </p:nvSpPr>
          <p:spPr>
            <a:xfrm>
              <a:off x="5105520" y="2806920"/>
              <a:ext cx="339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44640" y="2792520"/>
              <a:ext cx="400392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JELLEGÜK SZERIN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sődleges vagy ala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ásodlago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sítő bizonylato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40:49Z</dcterms:modified>
  <cp:revision>58</cp:revision>
  <dc:subject/>
  <dc:title>1. dia</dc:title>
</cp:coreProperties>
</file>