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2B6F-F950-40A8-8401-C6A71F02B10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 források citációs  formája: Szerző (évszám): publikáció címe. megjelenés helye. Kiadó. Evf. Szam. Oldal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nlapok URL c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bb összefüggő előadás vagy gyakorlat esetében az egymásra épülést itt lehet megad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tt kell megadni ha a következő előadás vagy gyakorlat megértéséhez  milyen más tárgyak ismeretére van szüksé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FB0B2-BF20-4940-AD81-5518F803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1A8DC-90DE-4F22-AF0C-4AD29E06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144E4-3764-43C2-9A01-66FBD372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289AE-516E-444A-ADF0-EF59432A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8FA26-A045-4D24-A129-B544AEC6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32550-A963-4000-A737-AA4D2B7B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F0C93-7234-4E0E-9EE1-6E3B75B6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DEF9B-9452-4E6D-AC51-A409AD8E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ED280-190B-4451-98FC-54B3E24B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22D70-8A8B-41BD-8AE6-F988AF43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D362A-4AB8-4CA0-A6D4-D18B91C2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5E526-10C2-40A2-8EF1-AB9CB89B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76720" y="6381360"/>
            <a:ext cx="226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FOP 3.3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7c">
                  <a:alpha val="86274"/>
                </a:srgbClr>
              </a:gs>
              <a:gs pos="100000">
                <a:srgbClr val="009999">
                  <a:alpha val="2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D6A5-12B6-4416-99D2-C60415114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986360"/>
            <a:ext cx="1776240" cy="18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61784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78560" y="5084640"/>
            <a:ext cx="15354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20160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067280" y="189000"/>
            <a:ext cx="73188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549360"/>
            <a:ext cx="22320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132000" y="537372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38160">
                  <a:solidFill>
                    <a:srgbClr val="99ccff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EFOP - 3.3.1.</a:t>
            </a:r>
            <a:endParaRPr b="1" lang="en-US" sz="1400" spc="1" strike="noStrike">
              <a:ln w="38160">
                <a:solidFill>
                  <a:srgbClr val="99ccff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1763640" cy="17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176364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ZÁMVITEL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2.h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7320" y="1409760"/>
            <a:ext cx="4241520" cy="40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LAKÁSSZÖVETKEZ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ÁRSASHÁ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ÁRSADALMI SZERVEZE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ÖZTESTÜL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GYHÁZI JOGI SZEMÉ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LAPÍTVÁNY, KÖZALAPÍTVÁN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ÜGYVÉDI IRODA, SZABADAL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ÜGYVÉDI IRO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ÖZHASZNÚ TÁRSASÁ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ŰSORSZOLGÁLTATÁSI ALA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UNKAVÁLLALÓI RÉSZTULAJ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ONOSI PROGRAM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LÉTREJÖTT SZERVEZ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658880" y="125280"/>
            <a:ext cx="7309080" cy="849600"/>
            <a:chOff x="1658880" y="125280"/>
            <a:chExt cx="7309080" cy="849600"/>
          </a:xfrm>
        </p:grpSpPr>
        <p:sp>
          <p:nvSpPr>
            <p:cNvPr id="166" name=""/>
            <p:cNvSpPr/>
            <p:nvPr/>
          </p:nvSpPr>
          <p:spPr>
            <a:xfrm>
              <a:off x="8183520" y="125280"/>
              <a:ext cx="784440" cy="260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58880" y="331920"/>
              <a:ext cx="5840640" cy="6429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GYÉB SZERVEZET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500720" y="1379520"/>
            <a:ext cx="4814640" cy="4092120"/>
            <a:chOff x="4500720" y="1379520"/>
            <a:chExt cx="4814640" cy="4092120"/>
          </a:xfrm>
        </p:grpSpPr>
        <p:sp>
          <p:nvSpPr>
            <p:cNvPr id="169" name=""/>
            <p:cNvSpPr/>
            <p:nvPr/>
          </p:nvSpPr>
          <p:spPr>
            <a:xfrm>
              <a:off x="4540320" y="1379520"/>
              <a:ext cx="4775040" cy="37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125"/>
                </a:spcBef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ÍZKÖZMŰ TÁRSULA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FEKTETÉSI ALAPOK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GYÉB ALAPO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ŐZSDE, ELSZÁMOLÓHÁZ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AGÁNNYUGDÍJPÉNZTÁR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ÖNKÉNTES NYUGDÍJPÉNZTÁR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ÖNKÉNTES KÖLCSÖNÖ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GÉSZSÉG- ÉS ÖNSEGÉLYEZ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ÉNZTÁR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ZRAKTÁR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ÜLÖN JOGSZABÁLYBAN MEG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ATÁROZOTT EGYÉB SZERVEZE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500720" y="1482480"/>
              <a:ext cx="14040" cy="398916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352520" y="1959120"/>
            <a:ext cx="71010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A JOGELŐD NÉLKÜL ALAPÍTOTT VÁLLALKOZÓ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ALAPÍTÁSÁNAK IDŐPONTJÁTÓL CÉGJEGYZÉKBE VALÓ BEJEGYZÉSÉNEK (vagy a bejegyzés elutasítá-sának) IDŐPONTJÁIG TERJEDŐ IDŐSZAKRÓL (az  előtársasági időszakról) </a:t>
            </a:r>
            <a:r>
              <a:rPr b="1" lang="hu-HU" sz="2000" spc="-1" strike="noStrike">
                <a:solidFill>
                  <a:srgbClr val="000099"/>
                </a:solidFill>
                <a:latin typeface="Bookman Old Style"/>
              </a:rPr>
              <a:t>KÖNYVVEZETÉSSEL ALÁ-TÁMASZTOTT BESZÁMOLÓT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KÖTELES KÉSZÍTENI.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530360" y="176040"/>
            <a:ext cx="7427880" cy="1000440"/>
            <a:chOff x="1530360" y="176040"/>
            <a:chExt cx="7427880" cy="1000440"/>
          </a:xfrm>
        </p:grpSpPr>
        <p:sp>
          <p:nvSpPr>
            <p:cNvPr id="173" name=""/>
            <p:cNvSpPr/>
            <p:nvPr/>
          </p:nvSpPr>
          <p:spPr>
            <a:xfrm>
              <a:off x="8188200" y="176040"/>
              <a:ext cx="770040" cy="33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30360" y="476280"/>
              <a:ext cx="6543720" cy="7002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ELŐTÁRSASÁGI IDŐSZA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971640" y="168120"/>
            <a:ext cx="7981920" cy="992520"/>
            <a:chOff x="971640" y="168120"/>
            <a:chExt cx="7981920" cy="992520"/>
          </a:xfrm>
        </p:grpSpPr>
        <p:sp>
          <p:nvSpPr>
            <p:cNvPr id="176" name=""/>
            <p:cNvSpPr/>
            <p:nvPr/>
          </p:nvSpPr>
          <p:spPr>
            <a:xfrm>
              <a:off x="8155080" y="168120"/>
              <a:ext cx="798480" cy="27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71640" y="563400"/>
              <a:ext cx="7213680" cy="5972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ÁMVITELI TÖRVÉNY MEGHATÁROZ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14480" y="1790640"/>
            <a:ext cx="4275000" cy="4211640"/>
            <a:chOff x="114480" y="1790640"/>
            <a:chExt cx="4275000" cy="4211640"/>
          </a:xfrm>
        </p:grpSpPr>
        <p:sp>
          <p:nvSpPr>
            <p:cNvPr id="179" name=""/>
            <p:cNvSpPr/>
            <p:nvPr/>
          </p:nvSpPr>
          <p:spPr>
            <a:xfrm>
              <a:off x="114480" y="1790640"/>
              <a:ext cx="4275000" cy="38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HATÁLYA ALÁ TARTOZÓ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É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TELE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ZETTSÉGÉT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EZEK TELJESÍTÉ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ORÁN ÉRVÉNYESÍTENDŐ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ELVEKRE ÉPÜL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319320" y="2397240"/>
              <a:ext cx="2476440" cy="3605040"/>
              <a:chOff x="319320" y="2397240"/>
              <a:chExt cx="2476440" cy="3605040"/>
            </a:xfrm>
          </p:grpSpPr>
          <p:sp>
            <p:nvSpPr>
              <p:cNvPr id="181" name=""/>
              <p:cNvSpPr/>
              <p:nvPr/>
            </p:nvSpPr>
            <p:spPr>
              <a:xfrm>
                <a:off x="333360" y="4781520"/>
                <a:ext cx="1567080" cy="37476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ELVEKET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8920" y="2884320"/>
                <a:ext cx="2436840" cy="41616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NYVVEZETÉS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3320" y="2397240"/>
                <a:ext cx="2103480" cy="37152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BESZÁMOLÁS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9320" y="5645160"/>
                <a:ext cx="2205000" cy="35712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SZABÁLYOKAT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4367160" y="1773360"/>
            <a:ext cx="477684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Bookman Old Style"/>
              </a:rPr>
              <a:t>továbbá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HOZATAL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vonatkozó követelménye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03680" y="2349360"/>
            <a:ext cx="2632320" cy="392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YILVÁNOSSÁ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847960"/>
            <a:ext cx="2664000" cy="3794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KÖZZÉTÉTEL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6680" y="3343320"/>
            <a:ext cx="3667320" cy="3920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KÖNYVVIZSGÁL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11720" y="1949400"/>
            <a:ext cx="0" cy="285912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163600" y="1672920"/>
            <a:ext cx="622008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 GAZDÁLKODÓ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ŰKÖDÉSÉRŐ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AGYONI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ÉNZÜGYI 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JÖVEDELMI HELYZETÉRŐ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674720" y="160200"/>
            <a:ext cx="7311960" cy="812880"/>
            <a:chOff x="1674720" y="160200"/>
            <a:chExt cx="7311960" cy="812880"/>
          </a:xfrm>
        </p:grpSpPr>
        <p:sp>
          <p:nvSpPr>
            <p:cNvPr id="192" name=""/>
            <p:cNvSpPr/>
            <p:nvPr/>
          </p:nvSpPr>
          <p:spPr>
            <a:xfrm>
              <a:off x="8275680" y="160200"/>
              <a:ext cx="711000" cy="30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-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4720" y="434880"/>
              <a:ext cx="6224760" cy="5382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BESZÁMOLÁSI KÖTELEZETT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12920" y="3697200"/>
            <a:ext cx="65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Z ÜZLETI ÉV KÖNYVEINEK LEZÁRÁSÁT KÖVETŐEN, KÖNYVVEZETÉSSEL ALÁTÁ-MASZTOTT BESZÁMOLÓT KÖTELES – M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GYAR NYELVEN – KÉSZÍTE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274760" y="160200"/>
            <a:ext cx="7669080" cy="836640"/>
            <a:chOff x="1274760" y="160200"/>
            <a:chExt cx="7669080" cy="836640"/>
          </a:xfrm>
        </p:grpSpPr>
        <p:sp>
          <p:nvSpPr>
            <p:cNvPr id="196" name=""/>
            <p:cNvSpPr/>
            <p:nvPr/>
          </p:nvSpPr>
          <p:spPr>
            <a:xfrm>
              <a:off x="8147160" y="160200"/>
              <a:ext cx="796680" cy="29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-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74760" y="387360"/>
              <a:ext cx="6594480" cy="6094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NYVVEZETÉSI KÖTELEZETT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185840" y="3610080"/>
            <a:ext cx="7345440" cy="2343960"/>
            <a:chOff x="1185840" y="3610080"/>
            <a:chExt cx="7345440" cy="2343960"/>
          </a:xfrm>
        </p:grpSpPr>
        <p:sp>
          <p:nvSpPr>
            <p:cNvPr id="199" name=""/>
            <p:cNvSpPr/>
            <p:nvPr/>
          </p:nvSpPr>
          <p:spPr>
            <a:xfrm>
              <a:off x="1276200" y="3610080"/>
              <a:ext cx="4297680" cy="522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93720" y="3818160"/>
              <a:ext cx="5077080" cy="8604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ETTŐS KÖNYVVITEL VA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EGYSZERES KÖNYVVI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85840" y="4762800"/>
              <a:ext cx="7345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ABÁLYAI SZER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OLYAMATOS NYILVÁNTARTÁST VEZET É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T AZ ÜZLETI ÉV VÉGÉVEL LEZÁRJA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193400" y="1276200"/>
            <a:ext cx="725652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 KÖNYVVEZETÉS AZ A TEVÉKENYSÉ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MELYNEK KERETÉBEN A GAZDÁLKODÓ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AGYONI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ÉNZÜGYI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JÖVEDELMI HELYZETÉRE HAT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GAZDASÁGI ESEMÉNYEKRŐ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056200" y="2728800"/>
            <a:ext cx="3808440" cy="26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 ÉVES ÁRBEVÉ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VOLUM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MÉRLEG FŐÖSSZ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FOGLALKOZTATOT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SZÁ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KÖNYVVEZETÉS MÓD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855720" y="2711520"/>
            <a:ext cx="3714840" cy="2946240"/>
            <a:chOff x="855720" y="2711520"/>
            <a:chExt cx="3714840" cy="2946240"/>
          </a:xfrm>
        </p:grpSpPr>
        <p:sp>
          <p:nvSpPr>
            <p:cNvPr id="205" name=""/>
            <p:cNvSpPr/>
            <p:nvPr/>
          </p:nvSpPr>
          <p:spPr>
            <a:xfrm>
              <a:off x="893880" y="2711520"/>
              <a:ext cx="36766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1. ÉVES BESZÁMOL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2. EGYSZERŰSÍTET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ÉVES BESZÁMOL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3. EGYSZERŰSÍTET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SZÁMOL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5720" y="4857840"/>
              <a:ext cx="3701880" cy="7999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4. „ÖSSZEVONT(KONSZOLI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DÁLT) ÉVES BESZÁMOLÓ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828720" y="189000"/>
            <a:ext cx="8115120" cy="2338200"/>
            <a:chOff x="828720" y="189000"/>
            <a:chExt cx="8115120" cy="2338200"/>
          </a:xfrm>
        </p:grpSpPr>
        <p:sp>
          <p:nvSpPr>
            <p:cNvPr id="208" name=""/>
            <p:cNvSpPr/>
            <p:nvPr/>
          </p:nvSpPr>
          <p:spPr>
            <a:xfrm>
              <a:off x="8291520" y="189000"/>
              <a:ext cx="652320" cy="247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4720" y="476280"/>
              <a:ext cx="6051600" cy="6825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ESZÁMOLÓ FORMÁ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8720" y="1752480"/>
              <a:ext cx="3591000" cy="7747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Bookman Old Style"/>
                </a:rPr>
                <a:t>LEHETŐSÉG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13200" y="1749600"/>
              <a:ext cx="3659400" cy="772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Bookman Old Style"/>
                </a:rPr>
                <a:t>A FORMÁT MEGHATÁROZ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Bookman Old Style"/>
                </a:rPr>
                <a:t>TÉNYEZŐ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481120" y="1176480"/>
              <a:ext cx="2076480" cy="550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30680" y="1176480"/>
              <a:ext cx="1944720" cy="5648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873000" y="146160"/>
            <a:ext cx="8080560" cy="890640"/>
            <a:chOff x="873000" y="146160"/>
            <a:chExt cx="8080560" cy="890640"/>
          </a:xfrm>
        </p:grpSpPr>
        <p:sp>
          <p:nvSpPr>
            <p:cNvPr id="215" name=""/>
            <p:cNvSpPr/>
            <p:nvPr/>
          </p:nvSpPr>
          <p:spPr>
            <a:xfrm>
              <a:off x="8271000" y="146160"/>
              <a:ext cx="68256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73000" y="385920"/>
              <a:ext cx="7324920" cy="6508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BESZÁMOLÁSI ÉS KÖNYVVEZETÉSI KÖTELEZETT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255920" y="5816520"/>
            <a:ext cx="45133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TÖBBSÉGI RÉSZESEDÉSE V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11360" y="5816520"/>
            <a:ext cx="1744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ETTŐ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ÖNYVVI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9600" y="5816520"/>
            <a:ext cx="1931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ÖSSZEV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(KONSZOLIDÁLT) ÉVES BESZÁMOL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55920" y="5178600"/>
            <a:ext cx="45133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en-US" sz="1500" spc="-1" strike="noStrike">
                <a:solidFill>
                  <a:srgbClr val="333399"/>
                </a:solidFill>
                <a:latin typeface="Bookman Old Style"/>
              </a:rPr>
              <a:t>NETTÓ ÁRBEVÉTEL</a:t>
            </a: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 KÉT EGYMÁST KÖVETŐ ÉVBEN </a:t>
            </a:r>
            <a:r>
              <a:rPr b="1" lang="en-US" sz="1500" spc="-1" strike="noStrike">
                <a:solidFill>
                  <a:srgbClr val="333399"/>
                </a:solidFill>
                <a:latin typeface="Bookman Old Style"/>
              </a:rPr>
              <a:t>NEM HALADJA MEG AZ 50 MILLIÓ Ft-O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11360" y="5178600"/>
            <a:ext cx="174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EGYSZ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ÖNYVVI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9600" y="5178600"/>
            <a:ext cx="19317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EGYSZERŰSÍ-TETT BESZÁMOL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55920" y="3602160"/>
            <a:ext cx="451332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ÉT EGYMÁST KÖVETŐ ÉVBEN A KÖVETKE-ZŐ HÁROM MUTATÓBÓL LEGALÁBB KETT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MÉRLEGFŐÖSSZEG           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&lt;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150  M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ÉVES NETTÓ ÁRBEVÉTEL 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&lt;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300  M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ÁTLAGOSAN FOGLALKO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TATOTTAK SZÁMA            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&lt;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  50  F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9600" y="3602160"/>
            <a:ext cx="193176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EGYSZERŰ-SÍTET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É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BESZÁMOL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55920" y="2050920"/>
            <a:ext cx="45133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ÉT EGYMÁST KÖVETŐ ÉVBEN A KÖVETKE-ZŐ HÁROM MUTATÓBÓL LEGALÁBB KETT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MÉRLEGFŐÖSSZEG         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  &gt;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150  M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ÉVES NETTÓ ÁRBEVÉTEL 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&gt;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300  M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ÁTLAGOSAN FOGLALKO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TATOTTAK SZÁMA            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&gt;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  50  F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11360" y="2050920"/>
            <a:ext cx="1744560" cy="31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ETTŐ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ÖNYVVI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ETTŐ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ÖNYVVI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2050920"/>
            <a:ext cx="19317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ÉV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BESZÁMOL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55920" y="1450800"/>
            <a:ext cx="4513320" cy="60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A BESZÁMOLÓ FORMÁJ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MEGHATÁROZÓ TÉNYEZŐ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11360" y="1450800"/>
            <a:ext cx="1744560" cy="60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ÖNYVVEZE-TÉSI KÖT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LEZET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600" y="1450800"/>
            <a:ext cx="1931760" cy="60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BESZÁMOLÁ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ÖTELEZETTSÉG FORM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600" y="1450800"/>
            <a:ext cx="8189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9600" y="2050920"/>
            <a:ext cx="818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" y="3602160"/>
            <a:ext cx="19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600" y="5178600"/>
            <a:ext cx="818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" y="5816520"/>
            <a:ext cx="818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9600" y="6416640"/>
            <a:ext cx="8189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" y="1450800"/>
            <a:ext cx="0" cy="4965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1360" y="1450800"/>
            <a:ext cx="0" cy="496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55920" y="1450800"/>
            <a:ext cx="0" cy="496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769240" y="1450800"/>
            <a:ext cx="0" cy="4965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55920" y="3602160"/>
            <a:ext cx="451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54120" y="3595680"/>
            <a:ext cx="201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507960" y="1002960"/>
            <a:ext cx="7772400" cy="39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7960" y="4222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53036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685800"/>
            <a:ext cx="711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2880" y="2424240"/>
            <a:ext cx="711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12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SZÁMVITELI ALAPELV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A SZÁMVITELI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523880" y="84240"/>
            <a:ext cx="7518600" cy="847800"/>
            <a:chOff x="1523880" y="84240"/>
            <a:chExt cx="7518600" cy="847800"/>
          </a:xfrm>
        </p:grpSpPr>
        <p:sp>
          <p:nvSpPr>
            <p:cNvPr id="249" name=""/>
            <p:cNvSpPr/>
            <p:nvPr/>
          </p:nvSpPr>
          <p:spPr>
            <a:xfrm>
              <a:off x="8128080" y="84240"/>
              <a:ext cx="914400" cy="31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23880" y="304920"/>
              <a:ext cx="6299280" cy="6271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ÁMVITELI ALAPELV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00600" y="1174680"/>
            <a:ext cx="4648320" cy="4619160"/>
            <a:chOff x="4800600" y="1174680"/>
            <a:chExt cx="4648320" cy="4619160"/>
          </a:xfrm>
        </p:grpSpPr>
        <p:sp>
          <p:nvSpPr>
            <p:cNvPr id="252" name=""/>
            <p:cNvSpPr/>
            <p:nvPr/>
          </p:nvSpPr>
          <p:spPr>
            <a:xfrm>
              <a:off x="4876920" y="4222800"/>
              <a:ext cx="3962160" cy="4572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EM NEVESÍTETT ALAPELVEK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00600" y="1174680"/>
              <a:ext cx="4648320" cy="46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arabicPeriod" startAt="10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GYEDI ÉRTÉKELÉS ELV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arabicPeriod" startAt="10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DŐBELI ELHATÁROLÁ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V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12.   TARTALOM ELSŐDLEGES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ÉGE A FORMÁVAL SZEM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N ELV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13.   LÉNYEGESSÉG ELV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arabicPeriod" startAt="1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LTSÉG-HASZON ÖSSZ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ETÉSÉNEK EL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ASZNOSÍTHATÓSÁG ELV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EMLEGESSÉG ELV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DŐSZERŰSÉG ELV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V="1">
            <a:off x="4648320" y="1219320"/>
            <a:ext cx="0" cy="457200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4920" y="1066680"/>
            <a:ext cx="4419360" cy="3657600"/>
            <a:chOff x="304920" y="1066680"/>
            <a:chExt cx="4419360" cy="3657600"/>
          </a:xfrm>
        </p:grpSpPr>
        <p:sp>
          <p:nvSpPr>
            <p:cNvPr id="256" name=""/>
            <p:cNvSpPr/>
            <p:nvPr/>
          </p:nvSpPr>
          <p:spPr>
            <a:xfrm>
              <a:off x="380880" y="1549440"/>
              <a:ext cx="4343400" cy="31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ÁLLALKOZÁS FOLYTA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ÁSÁNAK ELV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ELJESSÉG ELV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ALÓDISÁG ELV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ILÁGOSSÁG ELV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VETKEZETESSÉG ELV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OLYTONOSSÁG ELV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ÖSSZEMÉRÉS ELV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ÓVATOSSÁG ELV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RUTTÓ ELSZÁMOLÁ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VE,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4920" y="1066680"/>
              <a:ext cx="3962160" cy="4572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EVESÍTETT ALAPELVEK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523880" y="114480"/>
            <a:ext cx="7518600" cy="730080"/>
            <a:chOff x="1523880" y="114480"/>
            <a:chExt cx="7518600" cy="730080"/>
          </a:xfrm>
        </p:grpSpPr>
        <p:sp>
          <p:nvSpPr>
            <p:cNvPr id="259" name=""/>
            <p:cNvSpPr/>
            <p:nvPr/>
          </p:nvSpPr>
          <p:spPr>
            <a:xfrm>
              <a:off x="8128080" y="114480"/>
              <a:ext cx="914400" cy="31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23880" y="228600"/>
              <a:ext cx="6299280" cy="6159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ÁMVITELI ALAPELV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CSOPORTOSÍT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04920" y="1600200"/>
            <a:ext cx="86104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A VÁLLALKOZÁS FOLYTATÁSÁNAK EL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04920" y="2057400"/>
            <a:ext cx="8610480" cy="4495680"/>
            <a:chOff x="304920" y="2057400"/>
            <a:chExt cx="8610480" cy="4495680"/>
          </a:xfrm>
        </p:grpSpPr>
        <p:grpSp>
          <p:nvGrpSpPr>
            <p:cNvPr id="263" name=""/>
            <p:cNvGrpSpPr/>
            <p:nvPr/>
          </p:nvGrpSpPr>
          <p:grpSpPr>
            <a:xfrm>
              <a:off x="304920" y="2057400"/>
              <a:ext cx="8610480" cy="844560"/>
              <a:chOff x="304920" y="2057400"/>
              <a:chExt cx="8610480" cy="844560"/>
            </a:xfrm>
          </p:grpSpPr>
          <p:sp>
            <p:nvSpPr>
              <p:cNvPr id="264" name=""/>
              <p:cNvSpPr/>
              <p:nvPr/>
            </p:nvSpPr>
            <p:spPr>
              <a:xfrm>
                <a:off x="304920" y="2522520"/>
                <a:ext cx="8610480" cy="379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Bookman Old Style"/>
                  </a:rPr>
                  <a:t>ALAPELV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4920" y="2057400"/>
                <a:ext cx="2286000" cy="465120"/>
              </a:xfrm>
              <a:prstGeom prst="rect">
                <a:avLst/>
              </a:prstGeom>
              <a:solidFill>
                <a:srgbClr val="cce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Tartalm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924520" y="2057400"/>
                <a:ext cx="2990880" cy="465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Forma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90920" y="2057400"/>
                <a:ext cx="3333600" cy="465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Tartalomra ható kiegészít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2057400"/>
                <a:ext cx="8610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04920" y="2522520"/>
                <a:ext cx="861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4920" y="2901960"/>
                <a:ext cx="861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90920" y="2057400"/>
                <a:ext cx="0" cy="46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24520" y="2057400"/>
                <a:ext cx="0" cy="46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304920" y="2901960"/>
              <a:ext cx="2286000" cy="24382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TELJESSÉG EL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VALÓDISÁG EL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ÓVATOSSÁG EL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ÖSSZEMÉRÉS EL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24520" y="2862360"/>
              <a:ext cx="0" cy="22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90920" y="2901960"/>
              <a:ext cx="3333600" cy="243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EGYEDI ÉRTÉKELÉS EL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BRUTTÓ ELSZÁMOLÁS EL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IDŐBELI ELHATÁROLÁS EL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LÉNYEGESSÉG EL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KÖLTSÉG-HASZON ÖSSZ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VETÉS EL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TARTALOM ELSŐDLEGESSÉ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A FORMÁVAL SZEMBEN EL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24520" y="2901960"/>
              <a:ext cx="2990880" cy="243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VILÁGOSSÁG EL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FOLYTONOSSÁG EL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Bookman Old Style"/>
                </a:rPr>
                <a:t>KÖVETKEZETESSÉG EL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04920" y="5576760"/>
              <a:ext cx="8610480" cy="976320"/>
              <a:chOff x="304920" y="5576760"/>
              <a:chExt cx="8610480" cy="976320"/>
            </a:xfrm>
          </p:grpSpPr>
          <p:sp>
            <p:nvSpPr>
              <p:cNvPr id="278" name=""/>
              <p:cNvSpPr/>
              <p:nvPr/>
            </p:nvSpPr>
            <p:spPr>
              <a:xfrm>
                <a:off x="330120" y="5943240"/>
                <a:ext cx="287028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buClr>
                    <a:srgbClr val="ffffff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Bookman Old Style"/>
                  </a:rPr>
                  <a:t> </a:t>
                </a:r>
                <a:r>
                  <a:rPr b="1" lang="en-US" sz="1300" spc="-1" strike="noStrike">
                    <a:solidFill>
                      <a:srgbClr val="ffffff"/>
                    </a:solidFill>
                    <a:latin typeface="Bookman Old Style"/>
                  </a:rPr>
                  <a:t>SEMLEGESSÉG ELV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26"/>
                  </a:spcBef>
                  <a:buClr>
                    <a:srgbClr val="ffffff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Bookman Old Style"/>
                  </a:rPr>
                  <a:t> </a:t>
                </a:r>
                <a:r>
                  <a:rPr b="1" lang="en-US" sz="1300" spc="-1" strike="noStrike">
                    <a:solidFill>
                      <a:srgbClr val="ffffff"/>
                    </a:solidFill>
                    <a:latin typeface="Bookman Old Style"/>
                  </a:rPr>
                  <a:t>HASZNOSÍTHATÓSÁG ELV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174840" y="5956200"/>
                <a:ext cx="27496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Bookman Old Style"/>
                  </a:rPr>
                  <a:t>       • </a:t>
                </a:r>
                <a:r>
                  <a:rPr b="1" lang="en-US" sz="1300" spc="-1" strike="noStrike">
                    <a:solidFill>
                      <a:srgbClr val="ffffff"/>
                    </a:solidFill>
                    <a:latin typeface="Bookman Old Style"/>
                  </a:rPr>
                  <a:t>IDŐSZERŰSÉG ELV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4920" y="5576760"/>
                <a:ext cx="8610480" cy="379440"/>
              </a:xfrm>
              <a:prstGeom prst="rect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Bookman Old Style"/>
                  </a:rPr>
                  <a:t>NEM NEVESÍTETT ALAPELV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04920" y="5576760"/>
                <a:ext cx="861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04920" y="5956200"/>
                <a:ext cx="861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04920" y="6553080"/>
                <a:ext cx="8610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586728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915400" y="586728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304920" y="1144440"/>
            <a:ext cx="8610480" cy="37944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Bookman Old Style"/>
              </a:rPr>
              <a:t>NEVESÍTETT ALAPELV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3680" y="380880"/>
            <a:ext cx="8186760" cy="58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400480"/>
            <a:ext cx="5900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A SZÁMVITELI RENDSZ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A SZÁMVITELI TÖRV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1422360" y="84240"/>
            <a:ext cx="7518600" cy="1058760"/>
            <a:chOff x="1422360" y="84240"/>
            <a:chExt cx="7518600" cy="1058760"/>
          </a:xfrm>
        </p:grpSpPr>
        <p:sp>
          <p:nvSpPr>
            <p:cNvPr id="288" name=""/>
            <p:cNvSpPr/>
            <p:nvPr/>
          </p:nvSpPr>
          <p:spPr>
            <a:xfrm>
              <a:off x="8026560" y="84240"/>
              <a:ext cx="914400" cy="31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22360" y="457200"/>
              <a:ext cx="6578640" cy="6858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VÁLLALKOZÁS FOLYTATÁSÁNAK ELV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422360" y="1294920"/>
            <a:ext cx="7112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 GAZDÁLKODÓ A BELÁTHATÓ JÖVŐBEN IS FENN TUDJA TARTANI MŰKÖDÉSÉT, FOLY-TATNI TUDJA TEVÉKENYSÉGÉ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NEM VÁRHATÓ A MŰKÖDÉS BESZÜNTETÉSE, VA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JELENTŐS CSÖKKENÉ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422360" y="160200"/>
            <a:ext cx="7594560" cy="849600"/>
            <a:chOff x="1422360" y="160200"/>
            <a:chExt cx="7594560" cy="849600"/>
          </a:xfrm>
        </p:grpSpPr>
        <p:sp>
          <p:nvSpPr>
            <p:cNvPr id="292" name=""/>
            <p:cNvSpPr/>
            <p:nvPr/>
          </p:nvSpPr>
          <p:spPr>
            <a:xfrm>
              <a:off x="8229600" y="160200"/>
              <a:ext cx="787320" cy="297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22360" y="380880"/>
              <a:ext cx="6299280" cy="6289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TELJESSÉG ELV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572000" y="1523880"/>
            <a:ext cx="434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IDEÉRTVE A KETTŐS KÖNYV-VITELT VEZETŐKNÉL AZOKAT  A GAZDASÁGI ESEMÉNYEKET, AMELY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Z ADOTT ÜZLETI ÉVRE V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ATKOZNA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 LEZÁRT ÜZLETI ÉV GAZD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SÁGI ESEMÉNYEIBŐL ERE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EK, A FORDULÓNAP UTÁ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DE A MÉRLEG ELKÉSZÍ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ELŐTT ISMERTTÉ VÁLT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57200" y="1523880"/>
            <a:ext cx="4038480" cy="4114800"/>
            <a:chOff x="457200" y="1523880"/>
            <a:chExt cx="4038480" cy="4114800"/>
          </a:xfrm>
        </p:grpSpPr>
        <p:grpSp>
          <p:nvGrpSpPr>
            <p:cNvPr id="296" name=""/>
            <p:cNvGrpSpPr/>
            <p:nvPr/>
          </p:nvGrpSpPr>
          <p:grpSpPr>
            <a:xfrm>
              <a:off x="533520" y="1600200"/>
              <a:ext cx="3962160" cy="4038480"/>
              <a:chOff x="533520" y="1600200"/>
              <a:chExt cx="3962160" cy="403848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533520" y="1924200"/>
                <a:ext cx="3200400" cy="2342520"/>
                <a:chOff x="533520" y="1924200"/>
                <a:chExt cx="3200400" cy="23425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33520" y="1924200"/>
                  <a:ext cx="3048120" cy="2854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Bookman Old Style"/>
                    </a:rPr>
                    <a:t>MINDEN GAZDASÁG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33520" y="2361960"/>
                  <a:ext cx="1727280" cy="3045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Bookman Old Style"/>
                    </a:rPr>
                    <a:t>ESEMÉNYT,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"/>
                <p:cNvGrpSpPr/>
                <p:nvPr/>
              </p:nvGrpSpPr>
              <p:grpSpPr>
                <a:xfrm>
                  <a:off x="1346400" y="2819160"/>
                  <a:ext cx="2387520" cy="685080"/>
                  <a:chOff x="1346400" y="2819160"/>
                  <a:chExt cx="2387520" cy="68508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1346400" y="2819160"/>
                    <a:ext cx="2387520" cy="285480"/>
                  </a:xfrm>
                  <a:prstGeom prst="rect">
                    <a:avLst/>
                  </a:prstGeom>
                  <a:solidFill>
                    <a:srgbClr val="66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ESZKÖZÖKRE,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1346400" y="3218760"/>
                    <a:ext cx="2387520" cy="285480"/>
                  </a:xfrm>
                  <a:prstGeom prst="rect">
                    <a:avLst/>
                  </a:prstGeom>
                  <a:solidFill>
                    <a:srgbClr val="66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FORRÁSOKR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>
                  <a:off x="838440" y="3962160"/>
                  <a:ext cx="2286000" cy="3045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Bookman Old Style"/>
                    </a:rPr>
                    <a:t>EREDMÉNYÉR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 flipV="1">
                <a:off x="4495680" y="1600200"/>
                <a:ext cx="0" cy="4038480"/>
              </a:xfrm>
              <a:prstGeom prst="line">
                <a:avLst/>
              </a:prstGeom>
              <a:ln w="1908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57200" y="1523880"/>
              <a:ext cx="4038480" cy="39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NYVELNI KEL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MELYN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 É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LEZÁRT IDŐSZA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GYA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OROLT HATÁSÁT A BESZÁMOLÓBAN KI KELL MUTATNI.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676520" y="1250640"/>
            <a:ext cx="670536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 KÖNYVVITELBEN RÖGZÍTETT ÉS A BE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SZÁMOLÓBAN SZEREPLŐ TÉTELEKNEK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Bookman Old Style"/>
              </a:rPr>
              <a:t>VALÓSÁGBAN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IS MEGTALÁLHATÓKNAK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BIZONYÍTHATÓKNAK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KÍVÜLÁLLÓK ÁLTAL IS MEGÁLLAPÍTHATÓKNAK KELL LENNIÜK.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473120" y="84240"/>
            <a:ext cx="7467840" cy="830160"/>
            <a:chOff x="1473120" y="84240"/>
            <a:chExt cx="7467840" cy="830160"/>
          </a:xfrm>
        </p:grpSpPr>
        <p:sp>
          <p:nvSpPr>
            <p:cNvPr id="308" name=""/>
            <p:cNvSpPr/>
            <p:nvPr/>
          </p:nvSpPr>
          <p:spPr>
            <a:xfrm>
              <a:off x="8153280" y="84240"/>
              <a:ext cx="787680" cy="31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73120" y="343080"/>
              <a:ext cx="6299280" cy="5713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VALÓDISÁG ELV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752480" y="4390920"/>
            <a:ext cx="6019920" cy="1557000"/>
            <a:chOff x="1752480" y="4390920"/>
            <a:chExt cx="6019920" cy="1557000"/>
          </a:xfrm>
        </p:grpSpPr>
        <p:sp>
          <p:nvSpPr>
            <p:cNvPr id="311" name=""/>
            <p:cNvSpPr/>
            <p:nvPr/>
          </p:nvSpPr>
          <p:spPr>
            <a:xfrm>
              <a:off x="2057400" y="4438800"/>
              <a:ext cx="2870280" cy="361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ÉRTÉKELÉSÜKNE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52480" y="4390920"/>
              <a:ext cx="6019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MEG KELL FELEL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NIÜK A SZÁMVITELI TÖRVÉNYBEN ELŐ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ÍRT ÉRTÉKELÉSI  ELVEKNEK, ELJÁRÁ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OKNAK.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1422360" y="114480"/>
            <a:ext cx="7569360" cy="914400"/>
            <a:chOff x="1422360" y="114480"/>
            <a:chExt cx="7569360" cy="914400"/>
          </a:xfrm>
        </p:grpSpPr>
        <p:sp>
          <p:nvSpPr>
            <p:cNvPr id="314" name=""/>
            <p:cNvSpPr/>
            <p:nvPr/>
          </p:nvSpPr>
          <p:spPr>
            <a:xfrm>
              <a:off x="8280360" y="114480"/>
              <a:ext cx="711360" cy="31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22360" y="457200"/>
              <a:ext cx="6299280" cy="5716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ÓVATOSSÁG ELV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4952880" y="2668680"/>
            <a:ext cx="403884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 ÉRTÉKCSÖKKENÉSEKET, AZ ÉRTÉKVESZTÉSEKET ÉS   A CÉLTARTALÉKOKAT EL KELL SZÁMOLNI FÜGGETLENÜL ATTÓL, HOGY AZ ÜZLETI ÉV EREDMÉNYE NYERESÉG VAGY VESZTESÉ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828800" y="1447920"/>
            <a:ext cx="5943600" cy="999000"/>
            <a:chOff x="1828800" y="1447920"/>
            <a:chExt cx="5943600" cy="999000"/>
          </a:xfrm>
        </p:grpSpPr>
        <p:sp>
          <p:nvSpPr>
            <p:cNvPr id="318" name=""/>
            <p:cNvSpPr/>
            <p:nvPr/>
          </p:nvSpPr>
          <p:spPr>
            <a:xfrm>
              <a:off x="1854360" y="2133720"/>
              <a:ext cx="325116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ÉNZÜGYI REALIZÁLÁ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28800" y="1447920"/>
              <a:ext cx="594360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NEM LEHET EREDMÉNYT KIMUTATNI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HA AZ ÁRBEVÉTEL, A BEVÉ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       </a:t>
              </a: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BIZONYTALA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04920" y="2666880"/>
            <a:ext cx="4647960" cy="3962520"/>
            <a:chOff x="304920" y="2666880"/>
            <a:chExt cx="4647960" cy="3962520"/>
          </a:xfrm>
        </p:grpSpPr>
        <p:sp>
          <p:nvSpPr>
            <p:cNvPr id="321" name=""/>
            <p:cNvSpPr/>
            <p:nvPr/>
          </p:nvSpPr>
          <p:spPr>
            <a:xfrm>
              <a:off x="304920" y="2666880"/>
              <a:ext cx="4647960" cy="39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TÁRGYÉVI EREDMÉNY MEG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ATÁROZÁSA SORÁ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ELSZÁMO-LÁSÁVAL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KÉPZÉSÉ-VEL KELL FIGYELEMBE VENNI  AZ ELŐRE LÁTHATÓ KOCKÁZA-TOT, A FELTÉTELEZHETŐ VESZ-TESÉGET AKKOR IS, HA  AZ A MÉRLEGKÉSZÍTÉS IDŐSZAKÁ-BAN VÁLT ISMERTTÉ.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066680" y="3352680"/>
              <a:ext cx="2152800" cy="990720"/>
              <a:chOff x="1066680" y="3352680"/>
              <a:chExt cx="2152800" cy="990720"/>
            </a:xfrm>
          </p:grpSpPr>
          <p:sp>
            <p:nvSpPr>
              <p:cNvPr id="323" name=""/>
              <p:cNvSpPr/>
              <p:nvPr/>
            </p:nvSpPr>
            <p:spPr>
              <a:xfrm>
                <a:off x="1143000" y="3352680"/>
                <a:ext cx="2076480" cy="3128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ÉRTÉKVESZTÉ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66680" y="4038480"/>
                <a:ext cx="19814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CÉLTARTALÉ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V="1">
              <a:off x="4876920" y="2743200"/>
              <a:ext cx="0" cy="3581280"/>
            </a:xfrm>
            <a:prstGeom prst="line">
              <a:avLst/>
            </a:prstGeom>
            <a:ln w="1908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1422360" y="84240"/>
            <a:ext cx="7518600" cy="906480"/>
            <a:chOff x="1422360" y="84240"/>
            <a:chExt cx="7518600" cy="906480"/>
          </a:xfrm>
        </p:grpSpPr>
        <p:sp>
          <p:nvSpPr>
            <p:cNvPr id="327" name=""/>
            <p:cNvSpPr/>
            <p:nvPr/>
          </p:nvSpPr>
          <p:spPr>
            <a:xfrm>
              <a:off x="8229600" y="84240"/>
              <a:ext cx="711360" cy="296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22360" y="380880"/>
              <a:ext cx="6299280" cy="6098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ÖSSZEMÉRÉS ELV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422000" y="1218960"/>
            <a:ext cx="6350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Z ADOTT IDŐSZAK EREDMÉNYÉNEK MEG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HATÁROZÁSAK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 TEVÉKENYSÉGEK ADOTT IDŐSZA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ELJESÍTÉSÉNEK ELISMERT BEVÉT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EIT ÉS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EVÉTELEKNEK MEGFELELŐ KÖLTSÉ-GEIT (RÁFORDÍTÁSAIT) KELL SZÁMÍ-TÁSBA VENNI, FÜGGETLENÜL A PÉNZ-ÜGYI TELJESÍTÉSTŐ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449568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 BEVÉTELEKNEK ÉS A KÖLTSÉGEKN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HHOZ AZ IDŐSZAKHOZ KELL KAPCS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LÓDNIUK, AMIKOR AZOK GAZDASÁGI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FELMERÜLTEK.     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523520" y="1345680"/>
            <a:ext cx="67057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 KÖNYVVEZETÉS ÉS A BESZÁMOLÓ ELKÉSZÍ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TÉSE SORÁN 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SZKÖZÖKET ÉS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KÖTELEZETTSÉGEKET EGYEDILEG K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- RÖGZÍTENI 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- ÉRTÉKEL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422360" y="84240"/>
            <a:ext cx="7518600" cy="944640"/>
            <a:chOff x="1422360" y="84240"/>
            <a:chExt cx="7518600" cy="944640"/>
          </a:xfrm>
        </p:grpSpPr>
        <p:sp>
          <p:nvSpPr>
            <p:cNvPr id="333" name=""/>
            <p:cNvSpPr/>
            <p:nvPr/>
          </p:nvSpPr>
          <p:spPr>
            <a:xfrm>
              <a:off x="8153280" y="84240"/>
              <a:ext cx="787680" cy="31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2360" y="457200"/>
              <a:ext cx="6299280" cy="5716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EGYEDI ÉRTÉKELÉS ELV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600200" y="37339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 BESZÁMOLÓ ELKÉSZÍTÉSE SORÁN EZ AZ ELV A SZÁMVITELI TÖRVÉNYBEN MEGHATÁ-ROZOTT ESETEKBEN SAJÁTOSAN ÉRVÉNYE-SÜLH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031480" y="1447560"/>
            <a:ext cx="5892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Z OLYAN GAZDASÁGI ESEMÉNYE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KIHATÁSÁT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MELYEK KÉT VAGY TÖBB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ÜZLETI ÉVET (ELSZÁMOLÁS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IDŐSZAKOT) IS ÉRINTENEK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Z ADOTT IDŐSZAK BEVÉTELE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ÉS KÖLTSÉGEI KÖZÖTT OLY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RÁNYBAN KELL ELSZÁMOLNI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HOGYAN AZ ALAPUL SZOLGÁLÓ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IDŐSZAK MEGOSZLIK AZ ELSZÁ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MOLÁSI IDŐSZAKOK KÖZÖT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422360" y="84240"/>
            <a:ext cx="7569360" cy="906480"/>
            <a:chOff x="1422360" y="84240"/>
            <a:chExt cx="7569360" cy="906480"/>
          </a:xfrm>
        </p:grpSpPr>
        <p:sp>
          <p:nvSpPr>
            <p:cNvPr id="338" name=""/>
            <p:cNvSpPr/>
            <p:nvPr/>
          </p:nvSpPr>
          <p:spPr>
            <a:xfrm>
              <a:off x="8128080" y="84240"/>
              <a:ext cx="863640" cy="37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22360" y="399960"/>
              <a:ext cx="6299280" cy="5907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IDŐBELI ELHATÁROLÁS ELV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1726920" y="1631520"/>
            <a:ext cx="680724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 BESZÁMOLÓBAN, A KÖNYVVEZETÉ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SORÁN A GAZDASÁGI ESEMÉNYEKET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ÜGYLETEKET A TÉNYLEGES GAZDASÁ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GI TARTALMUKNAK MEGFELELŐEN – 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SZÁMVITELI TÖRVÉNY ALAPELVEIHEZ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ELŐÍRÁSAIHOZ IGAZODÓAN – KELL B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MUTATNI, ELSZÁMOLN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625760" y="84240"/>
            <a:ext cx="7315200" cy="1076400"/>
            <a:chOff x="1625760" y="84240"/>
            <a:chExt cx="7315200" cy="1076400"/>
          </a:xfrm>
        </p:grpSpPr>
        <p:sp>
          <p:nvSpPr>
            <p:cNvPr id="342" name=""/>
            <p:cNvSpPr/>
            <p:nvPr/>
          </p:nvSpPr>
          <p:spPr>
            <a:xfrm>
              <a:off x="8026560" y="84240"/>
              <a:ext cx="914400" cy="31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25760" y="457200"/>
              <a:ext cx="6298920" cy="7034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TARTALOM ELSŐDLEGESSÉ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FORMÁVAL SZEMBEN ELV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5" dur="1" fill="hold"/>
                                  <p:tgtEl>
                                    <p:spTgt spid="3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1447560" y="1631880"/>
            <a:ext cx="601956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 BESZÁMOLÓ SZEMPONTJÁBÓL LÉ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NYEGESNEK MINŐSÜL MINDEN OLY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INFORMÁCIÓ, AMELYN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ELHAGYÁSA VA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TÉVES BEMUTATÁS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BEFOLYÁSOLJA A BESZÁMOLÓ ADA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TAIT FELHASZNÁLÓK DÖNTÉSEI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422360" y="84240"/>
            <a:ext cx="7518600" cy="944640"/>
            <a:chOff x="1422360" y="84240"/>
            <a:chExt cx="7518600" cy="944640"/>
          </a:xfrm>
        </p:grpSpPr>
        <p:sp>
          <p:nvSpPr>
            <p:cNvPr id="346" name=""/>
            <p:cNvSpPr/>
            <p:nvPr/>
          </p:nvSpPr>
          <p:spPr>
            <a:xfrm>
              <a:off x="8153280" y="84240"/>
              <a:ext cx="787680" cy="37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22360" y="380880"/>
              <a:ext cx="6299280" cy="6480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LÉNYEGESSÉG ELV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0" dur="1" fill="hold"/>
                                  <p:tgtEl>
                                    <p:spTgt spid="3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447560" y="1460160"/>
            <a:ext cx="701028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 BESZÁMOLÓBAN NYILVÁNOSSÁG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HOZOTT INFORMÁCIÓ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HASZNOSÍTHATÓSÁGA (HASZNOS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SÁGA) ÁLLJON ARÁNYBAN A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INFORMÁCIÓ ELŐÁLLÍTÁSÁNAK KÖLTSÉGEIVE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422360" y="84240"/>
            <a:ext cx="7518600" cy="1058760"/>
            <a:chOff x="1422360" y="84240"/>
            <a:chExt cx="7518600" cy="1058760"/>
          </a:xfrm>
        </p:grpSpPr>
        <p:sp>
          <p:nvSpPr>
            <p:cNvPr id="350" name=""/>
            <p:cNvSpPr/>
            <p:nvPr/>
          </p:nvSpPr>
          <p:spPr>
            <a:xfrm>
              <a:off x="8153280" y="84240"/>
              <a:ext cx="787680" cy="37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22360" y="380880"/>
              <a:ext cx="6299280" cy="7621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LTSÉG-HASZ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ÖSSZEVETÉSÉNEK EL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181160" y="95400"/>
            <a:ext cx="7762680" cy="674640"/>
            <a:chOff x="1181160" y="95400"/>
            <a:chExt cx="7762680" cy="674640"/>
          </a:xfrm>
        </p:grpSpPr>
        <p:sp>
          <p:nvSpPr>
            <p:cNvPr id="102" name=""/>
            <p:cNvSpPr/>
            <p:nvPr/>
          </p:nvSpPr>
          <p:spPr>
            <a:xfrm>
              <a:off x="8247240" y="95400"/>
              <a:ext cx="696600" cy="31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81160" y="210960"/>
              <a:ext cx="6848280" cy="5590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ÁMVITELI RENDSZER CÉLJA ÉS FELA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06600" y="5826240"/>
            <a:ext cx="8016840" cy="920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1" lang="en-US" sz="1700" spc="-1" strike="noStrike">
                <a:solidFill>
                  <a:srgbClr val="ff3300"/>
                </a:solidFill>
                <a:latin typeface="Bookman Old Style"/>
              </a:rPr>
              <a:t>AZ ÉRDEKÜTKÖZÉSEK FELOLDÁS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AZ ÉRDEKHORDOZÓI ÉRDEKÜTKÖZÉSEKET FIGYELEMBE VEVŐ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ÉS FELOLDÓ SZABÁLYOZÁS SZAKMAI SZERVEZETEKRE ÉPÍT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2680" y="2386080"/>
            <a:ext cx="4155840" cy="3330000"/>
            <a:chOff x="382680" y="2386080"/>
            <a:chExt cx="4155840" cy="3330000"/>
          </a:xfrm>
        </p:grpSpPr>
        <p:sp>
          <p:nvSpPr>
            <p:cNvPr id="106" name=""/>
            <p:cNvSpPr/>
            <p:nvPr/>
          </p:nvSpPr>
          <p:spPr>
            <a:xfrm>
              <a:off x="452160" y="3030120"/>
              <a:ext cx="4024080" cy="268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TULAJDONOSOK (TÉNYLEGES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ÉS POTENCIÁLIS BEFEKTETŐK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HITELEZŐ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MENEDZSER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PARTNER VÁLLALKOZÁ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SOK (VEVŐK, SZÁLLÍTÓK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KINCSTÁ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MUNKAVÁLLALÓ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EGYÉB (KORMÁNY, SZAKSZER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VEZET STB.)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2680" y="2386080"/>
              <a:ext cx="4155840" cy="61056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GAZDASÁG SZEREPLŐ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ÉRDEKHORDOZÓK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773600" y="2376360"/>
            <a:ext cx="4052880" cy="3368880"/>
            <a:chOff x="4773600" y="2376360"/>
            <a:chExt cx="4052880" cy="3368880"/>
          </a:xfrm>
        </p:grpSpPr>
        <p:sp>
          <p:nvSpPr>
            <p:cNvPr id="109" name=""/>
            <p:cNvSpPr/>
            <p:nvPr/>
          </p:nvSpPr>
          <p:spPr>
            <a:xfrm>
              <a:off x="4778280" y="3085200"/>
              <a:ext cx="4015080" cy="266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Z ÉRDEKHORDOZÓK DÖNTÉSE-IT MEGALAPOZÓ INFORMÁCIÓ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REALIZÁLT (FELOSZTHATÓ)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NYERESÉ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SAJÁT TŐKE ALAKULÁ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ÉS HATÉKONYSÁG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TŐKE SZERKEZET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PÉNZÜGYI HELYZE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STB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73600" y="2376360"/>
              <a:ext cx="4052880" cy="6696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ÉRDEKHORDOZÓ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FORMÁCIÓ IGÉNY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125360" y="911160"/>
            <a:ext cx="6939000" cy="4870440"/>
            <a:chOff x="1125360" y="911160"/>
            <a:chExt cx="6939000" cy="4870440"/>
          </a:xfrm>
        </p:grpSpPr>
        <p:sp>
          <p:nvSpPr>
            <p:cNvPr id="112" name=""/>
            <p:cNvSpPr/>
            <p:nvPr/>
          </p:nvSpPr>
          <p:spPr>
            <a:xfrm>
              <a:off x="1125360" y="911160"/>
              <a:ext cx="6939000" cy="105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GAZDASÁG SZEREPLŐINEK (KÜLSŐ ÉS BELSŐ) INFORMÁCIÓKKAL VALÓ ELLÁTÁSA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MÚLT AUTOMATIKUS ELLENŐRZÉS MELLETTI DOKUMENTÁLÁSA A JELEN ÉS A JÖVŐ CÉLJAIR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369520" y="1986120"/>
              <a:ext cx="4653000" cy="3795480"/>
              <a:chOff x="2369520" y="1986120"/>
              <a:chExt cx="4653000" cy="37954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2369520" y="1986120"/>
                <a:ext cx="4653000" cy="335880"/>
                <a:chOff x="2369520" y="1986120"/>
                <a:chExt cx="4653000" cy="335880"/>
              </a:xfrm>
            </p:grpSpPr>
            <p:sp>
              <p:nvSpPr>
                <p:cNvPr id="115" name=""/>
                <p:cNvSpPr/>
                <p:nvPr/>
              </p:nvSpPr>
              <p:spPr>
                <a:xfrm flipH="1">
                  <a:off x="2369520" y="1986120"/>
                  <a:ext cx="2338920" cy="3232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708800" y="1997640"/>
                  <a:ext cx="2313720" cy="32436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4643280" y="1989000"/>
                <a:ext cx="0" cy="37926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422360" y="152280"/>
            <a:ext cx="7518600" cy="952560"/>
            <a:chOff x="1422360" y="152280"/>
            <a:chExt cx="7518600" cy="952560"/>
          </a:xfrm>
        </p:grpSpPr>
        <p:sp>
          <p:nvSpPr>
            <p:cNvPr id="353" name=""/>
            <p:cNvSpPr/>
            <p:nvPr/>
          </p:nvSpPr>
          <p:spPr>
            <a:xfrm>
              <a:off x="8026560" y="152280"/>
              <a:ext cx="914400" cy="31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22360" y="457200"/>
              <a:ext cx="6299280" cy="6476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RUTTÓ ELSZÁMOLÁS ELV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066680" y="2895480"/>
            <a:ext cx="7696440" cy="1219320"/>
            <a:chOff x="1066680" y="2895480"/>
            <a:chExt cx="7696440" cy="1219320"/>
          </a:xfrm>
        </p:grpSpPr>
        <p:sp>
          <p:nvSpPr>
            <p:cNvPr id="356" name=""/>
            <p:cNvSpPr/>
            <p:nvPr/>
          </p:nvSpPr>
          <p:spPr>
            <a:xfrm>
              <a:off x="1066680" y="2895480"/>
              <a:ext cx="7696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  ÉS A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EGYMÁSSAL SZEMBEN NEM SZÁMOLHATÓK EL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1828800" y="2971800"/>
              <a:ext cx="6477120" cy="361800"/>
              <a:chOff x="1828800" y="2971800"/>
              <a:chExt cx="6477120" cy="36180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2971800"/>
                <a:ext cx="2362320" cy="3430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Bookman Old Style"/>
                  </a:rPr>
                  <a:t>KÖVETELÉSEK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30720" y="2971800"/>
                <a:ext cx="3175200" cy="36180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Bookman Old Style"/>
                  </a:rPr>
                  <a:t>KÖTELEZETTSÉGEK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990720" y="1676520"/>
            <a:ext cx="7010280" cy="965160"/>
            <a:chOff x="990720" y="1676520"/>
            <a:chExt cx="7010280" cy="965160"/>
          </a:xfrm>
        </p:grpSpPr>
        <p:grpSp>
          <p:nvGrpSpPr>
            <p:cNvPr id="361" name=""/>
            <p:cNvGrpSpPr/>
            <p:nvPr/>
          </p:nvGrpSpPr>
          <p:grpSpPr>
            <a:xfrm>
              <a:off x="1828800" y="1809720"/>
              <a:ext cx="4851360" cy="324000"/>
              <a:chOff x="1828800" y="1809720"/>
              <a:chExt cx="4851360" cy="324000"/>
            </a:xfrm>
          </p:grpSpPr>
          <p:sp>
            <p:nvSpPr>
              <p:cNvPr id="362" name=""/>
              <p:cNvSpPr/>
              <p:nvPr/>
            </p:nvSpPr>
            <p:spPr>
              <a:xfrm>
                <a:off x="1828800" y="1809720"/>
                <a:ext cx="1905120" cy="32400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Bookman Old Style"/>
                  </a:rPr>
                  <a:t>BEVÉTELEK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24280" y="1809720"/>
                <a:ext cx="1955880" cy="32400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Bookman Old Style"/>
                  </a:rPr>
                  <a:t>KÖLTSÉGEK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990720" y="1676520"/>
              <a:ext cx="70102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A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ÉS A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(RÁFORDÍTÁSOK), ILLETV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650960" y="1447560"/>
            <a:ext cx="6578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 KÖNYVVEZETÉST ÉS A BESZÁMOLÓ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ÁTTEKINTHETŐ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ÉRTHETŐ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A SZÁMVITELI TÖRVÉNYN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MEGFELELŐEN RENDEZET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FORMÁBAN KELL ELKÉSZÍNI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422360" y="141120"/>
            <a:ext cx="7518600" cy="887760"/>
            <a:chOff x="1422360" y="141120"/>
            <a:chExt cx="7518600" cy="887760"/>
          </a:xfrm>
        </p:grpSpPr>
        <p:sp>
          <p:nvSpPr>
            <p:cNvPr id="367" name=""/>
            <p:cNvSpPr/>
            <p:nvPr/>
          </p:nvSpPr>
          <p:spPr>
            <a:xfrm>
              <a:off x="8077320" y="141120"/>
              <a:ext cx="863640" cy="3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22360" y="380880"/>
              <a:ext cx="6299280" cy="6480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VILÁGOSSÁG ELV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5" dur="1" fill="hold"/>
                                  <p:tgtEl>
                                    <p:spTgt spid="3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779040" y="2269800"/>
            <a:ext cx="77454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Z EGYMÁST KÖVETŐ ÉVEKB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AZ ESZKÖZÖK ÉS FORRÁSOK ÉRTÉKE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LÉSE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AZ EREDMÉNY SZÁMBAVÉTELE CSAK A SZÁMVITELI TÖRVÉNYBEN MEGHATÁRO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ZOTT SZABÁLYOK SZERINT VÁLTOZHA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422360" y="84240"/>
            <a:ext cx="7518600" cy="944640"/>
            <a:chOff x="1422360" y="84240"/>
            <a:chExt cx="7518600" cy="944640"/>
          </a:xfrm>
        </p:grpSpPr>
        <p:sp>
          <p:nvSpPr>
            <p:cNvPr id="371" name=""/>
            <p:cNvSpPr/>
            <p:nvPr/>
          </p:nvSpPr>
          <p:spPr>
            <a:xfrm>
              <a:off x="8153280" y="84240"/>
              <a:ext cx="787680" cy="37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2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22360" y="380880"/>
              <a:ext cx="6299280" cy="6480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FOLYTONOSSÁG ELV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1066680" y="1295280"/>
            <a:ext cx="73915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Z ÜZLETI ÉV NYITÓ ADATAINAK MEG KEL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EGYEZNIÜK AZ ELŐZŐ ÜZLETI ÉV MEGFEL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LŐ ZÁRÓ ADATAIV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6" dur="1" fill="hold"/>
                                  <p:tgtEl>
                                    <p:spTgt spid="3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523520" y="1479600"/>
            <a:ext cx="632484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 BESZÁMOLÓ TARTALMA ÉS FORMÁJA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Z AZT ALÁTÁMASZTÓ KÖNYVVEZETÉ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TEKINTETÉBEN A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ÁLLANDÓSÁGOT ÉS A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ÖSSZEHASONLÍTHATÓSÁGO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BIZTOSÍTANI KEL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422360" y="141120"/>
            <a:ext cx="7518600" cy="887760"/>
            <a:chOff x="1422360" y="141120"/>
            <a:chExt cx="7518600" cy="887760"/>
          </a:xfrm>
        </p:grpSpPr>
        <p:sp>
          <p:nvSpPr>
            <p:cNvPr id="376" name=""/>
            <p:cNvSpPr/>
            <p:nvPr/>
          </p:nvSpPr>
          <p:spPr>
            <a:xfrm>
              <a:off x="8153280" y="141120"/>
              <a:ext cx="787680" cy="3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22360" y="380880"/>
              <a:ext cx="6299280" cy="6480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VETKEZETESSÉG ELV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066320" y="1555560"/>
            <a:ext cx="7162920" cy="27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 SEMLEGESSÉG ELVE AKKOR ÉRVÉNYESÜL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HA A BESZÁMOLÓ ÖSSZEÁLLÍTÁSÁNÁL S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ELŐÍTÉLET, S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ELFOGULTSÁG NEM BEFOLYÁSOLJA AZ INFORMÁCIÓK TARTALMÁ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422360" y="198360"/>
            <a:ext cx="7518600" cy="868320"/>
            <a:chOff x="1422360" y="198360"/>
            <a:chExt cx="7518600" cy="868320"/>
          </a:xfrm>
        </p:grpSpPr>
        <p:sp>
          <p:nvSpPr>
            <p:cNvPr id="380" name=""/>
            <p:cNvSpPr/>
            <p:nvPr/>
          </p:nvSpPr>
          <p:spPr>
            <a:xfrm>
              <a:off x="8153280" y="198360"/>
              <a:ext cx="787680" cy="37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22360" y="419040"/>
              <a:ext cx="6299280" cy="6476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EMLEGESSÉG ELV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143000" y="1784520"/>
            <a:ext cx="73152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Z IDŐSZERŰSÉG ELVE AKKOR ÉRVÉNY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SÜL, HA AZ INFORMÁCIÓ MÉG A DÖNTÉ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ELŐTT ELJUT A FELHASZNÁLÓHOZ. EZZ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BIZTOSÍTJA A HASZNOSÍTHATÓSÁG ELVÉ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NEK AZ ÉRVÉNYESÜLÉSÉ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422360" y="198360"/>
            <a:ext cx="7518600" cy="868320"/>
            <a:chOff x="1422360" y="198360"/>
            <a:chExt cx="7518600" cy="868320"/>
          </a:xfrm>
        </p:grpSpPr>
        <p:sp>
          <p:nvSpPr>
            <p:cNvPr id="384" name=""/>
            <p:cNvSpPr/>
            <p:nvPr/>
          </p:nvSpPr>
          <p:spPr>
            <a:xfrm>
              <a:off x="8077320" y="198360"/>
              <a:ext cx="863640" cy="37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22360" y="419040"/>
              <a:ext cx="6299280" cy="6476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IDŐSZERŰSÉG ELV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523520" y="1574280"/>
            <a:ext cx="6629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A HASZNOSÍTHATÓSÁG ELVE AKK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ÉRVÉNYESÜL, 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A BESZÁMOLÓ OLYAN ADATOK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TARTALMAZ, AMELYE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Bookman Old Style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JÓL HASZNOSÍTHATÓK 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ffffff"/>
              </a:buClr>
              <a:buFont typeface="Bookman Old Style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AZ INFORMÁCIÓK IDŐB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ÁLLNAK RENDELKEZÉS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422360" y="217440"/>
            <a:ext cx="7518600" cy="925560"/>
            <a:chOff x="1422360" y="217440"/>
            <a:chExt cx="7518600" cy="925560"/>
          </a:xfrm>
        </p:grpSpPr>
        <p:sp>
          <p:nvSpPr>
            <p:cNvPr id="388" name=""/>
            <p:cNvSpPr/>
            <p:nvPr/>
          </p:nvSpPr>
          <p:spPr>
            <a:xfrm>
              <a:off x="8153280" y="217440"/>
              <a:ext cx="787680" cy="3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3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22360" y="457200"/>
              <a:ext cx="6299280" cy="6858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HASZNOSÍTHATÓSÁG ELV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4" dur="1" fill="hold"/>
                                  <p:tgtEl>
                                    <p:spTgt spid="3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75960" y="1345680"/>
            <a:ext cx="43434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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A SZÁMVITELI TÖRVÉNYBEN  RÖGZÍT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5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ALAPELVE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5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ÉRTÉKELÉSI ELŐÍRÁSOK ALAPJÁN KI KELL ALAKÍ-TANI ÉS ÍRÁSBA KELL FOG-LALNI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5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GAZDÁLKODÓ ADOTTSÁGA-INA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5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KÖRÜLMÉNYEINEK LEGIN-KÁBB MEGFELELŐ, A TÖR-VÉNY VÉGREHAJTÁSÁ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5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MÓDSZEREI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5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ESZKÖZEIT MEGHATÁROZÓ SZÁMVITELI POLITIKÁT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422360" y="152280"/>
            <a:ext cx="7518600" cy="790560"/>
            <a:chOff x="1422360" y="152280"/>
            <a:chExt cx="7518600" cy="790560"/>
          </a:xfrm>
        </p:grpSpPr>
        <p:sp>
          <p:nvSpPr>
            <p:cNvPr id="392" name=""/>
            <p:cNvSpPr/>
            <p:nvPr/>
          </p:nvSpPr>
          <p:spPr>
            <a:xfrm>
              <a:off x="8229600" y="152280"/>
              <a:ext cx="711360" cy="31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22360" y="296640"/>
              <a:ext cx="6299280" cy="6462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ÁMVITELI POLITIK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495680" y="1295280"/>
            <a:ext cx="44197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000000"/>
              </a:buClr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 ÚJONNAN ALAKULÓ GAZDÁL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ODÓ a SZÁMVITELI POLITIKÁ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megalakulás időpontjától számított 90 NAPON BELÜL KÖTELES elkészíte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ÖRVÉNYMÓDOSÍTÁS eseté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változásokat, annak hatálybalépését követően 90 NAPON belül  kell a számviteli politikán keresztül vezet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számviteli politika elkészítéséért, módosításáért a gazdálkodó képviseletére jogosult személy felelő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1447920"/>
            <a:ext cx="0" cy="464796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80880" y="1231920"/>
            <a:ext cx="457200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A számviteli politikában írásb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rögzíteni kell – többek között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azokat a GAZDÁLKODÓRA JEL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LEMZ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SZABÁLYOK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ELŐÍRÁSOK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MÓDSZEREKET, amelyekkel meghatározza, hogy mit tek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a SZÁMVITELI ELSZÁMOLÁS, ÉRTÉKELÉS SZEMPONTJÁBÓ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LÉNYEGESNE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JELENTŐSNE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NEM LÉNYEGESNE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NEM JELENTŐSNE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84240"/>
            <a:ext cx="7772400" cy="868320"/>
            <a:chOff x="1219320" y="84240"/>
            <a:chExt cx="7772400" cy="868320"/>
          </a:xfrm>
        </p:grpSpPr>
        <p:sp>
          <p:nvSpPr>
            <p:cNvPr id="398" name=""/>
            <p:cNvSpPr/>
            <p:nvPr/>
          </p:nvSpPr>
          <p:spPr>
            <a:xfrm>
              <a:off x="8280360" y="84240"/>
              <a:ext cx="711360" cy="31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304920"/>
              <a:ext cx="6807240" cy="6476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ÁMVITELI POLITIKA TART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800600" y="1219320"/>
            <a:ext cx="4191120" cy="3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ovábbá meghatározza az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hogy a törvényben biztosít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VÁLASZTÁS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INŐSÍTÉSI LEHETŐSÉG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ÖZÜL MELYEKET, MILY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ELTÉTELEK ESETÉN ALKAL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ZZ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 ALKALMAZOTT GYAKO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LATOT MILYEN OKOK MI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ELL MEGVÁLTOZTAT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48320" y="1371600"/>
            <a:ext cx="0" cy="464832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295280" y="1657440"/>
            <a:ext cx="739152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 LELTÁRKÉSZÍTÉSI ÉS LELTÁROZÁSI SZABÁLYZATOT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Z ÉRTÉKELÉSI SZABÁLYZATOT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Z ÖNKÖLTSÉGSZÁMÍTÁSI SZABÁLYZATOT,</a:t>
            </a:r>
            <a:r>
              <a:rPr b="1" lang="en-US" sz="2200" spc="-1" strike="noStrike">
                <a:solidFill>
                  <a:srgbClr val="333399"/>
                </a:solidFill>
                <a:latin typeface="Bookman Old Style"/>
              </a:rPr>
              <a:t>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A PÉNZKEZELÉSI SZABÁLYZAT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066680" y="141120"/>
            <a:ext cx="7925040" cy="1078200"/>
            <a:chOff x="1066680" y="141120"/>
            <a:chExt cx="7925040" cy="1078200"/>
          </a:xfrm>
        </p:grpSpPr>
        <p:sp>
          <p:nvSpPr>
            <p:cNvPr id="404" name=""/>
            <p:cNvSpPr/>
            <p:nvPr/>
          </p:nvSpPr>
          <p:spPr>
            <a:xfrm>
              <a:off x="8001000" y="141120"/>
              <a:ext cx="990720" cy="54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oly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66680" y="380880"/>
              <a:ext cx="6654960" cy="8384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ÁMVITELI POLITIK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ERETÉBEN EL KELL KÉSZÍTEN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219320" y="4191120"/>
            <a:ext cx="7543800" cy="763200"/>
            <a:chOff x="1219320" y="4191120"/>
            <a:chExt cx="7543800" cy="763200"/>
          </a:xfrm>
        </p:grpSpPr>
        <p:sp>
          <p:nvSpPr>
            <p:cNvPr id="407" name=""/>
            <p:cNvSpPr/>
            <p:nvPr/>
          </p:nvSpPr>
          <p:spPr>
            <a:xfrm>
              <a:off x="1371600" y="4191120"/>
              <a:ext cx="24386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19320" y="4257720"/>
              <a:ext cx="754380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Bookman Old Style"/>
                </a:rPr>
                <a:t>* Elkészítése csak a számviteli törvényben leírt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333399"/>
                  </a:solidFill>
                  <a:latin typeface="Bookman Old Style"/>
                </a:rPr>
                <a:t>  </a:t>
              </a:r>
              <a:r>
                <a:rPr b="1" i="1" lang="en-US" sz="2200" spc="-1" strike="noStrike">
                  <a:solidFill>
                    <a:srgbClr val="333399"/>
                  </a:solidFill>
                  <a:latin typeface="Bookman Old Style"/>
                </a:rPr>
                <a:t>esetben kötelező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1280" y="1405080"/>
            <a:ext cx="44514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 SZABÁLYOZÁS CÉLJ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érdekhordozói érdek érvényesíté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z érdekhordozói érdekütközése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feloldásáv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 SZABÁLYOZÁS FILOZÓFIÁJ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- a valóság közelítése a valós – igaz, tárgyilagos, szabályos – őszinte, igaz – pontos – teljes képkialakítás útjá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3.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 SZABÁLYOZÁS ALAPJ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szakmai szervezetek által kidol-gozott és társadalmilag is elfoga-dott alapelv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Bookman Old Styl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 SZABÁLYOZÁS MÓDJA, FORMÁJA ÉS JELLEG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törvények (nem számviteli tör-vény) és szakmai szervezetek által kialakított standardok út-já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77800" y="85680"/>
            <a:ext cx="8523360" cy="974880"/>
            <a:chOff x="577800" y="85680"/>
            <a:chExt cx="8523360" cy="974880"/>
          </a:xfrm>
        </p:grpSpPr>
        <p:sp>
          <p:nvSpPr>
            <p:cNvPr id="120" name=""/>
            <p:cNvSpPr/>
            <p:nvPr/>
          </p:nvSpPr>
          <p:spPr>
            <a:xfrm>
              <a:off x="8273880" y="85680"/>
              <a:ext cx="827280" cy="330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685800"/>
              <a:ext cx="7112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7800" y="461880"/>
              <a:ext cx="7734240" cy="5986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VITEL SZABÁLYOZÁSÁNAK TARTALMA ÉS FORMÁ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556160" y="1233360"/>
            <a:ext cx="4645080" cy="5096520"/>
            <a:chOff x="4556160" y="1233360"/>
            <a:chExt cx="4645080" cy="5096520"/>
          </a:xfrm>
        </p:grpSpPr>
        <p:sp>
          <p:nvSpPr>
            <p:cNvPr id="124" name=""/>
            <p:cNvSpPr/>
            <p:nvPr/>
          </p:nvSpPr>
          <p:spPr>
            <a:xfrm>
              <a:off x="4556160" y="1233360"/>
              <a:ext cx="4645080" cy="50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14400" indent="-457200" algn="just">
                <a:lnSpc>
                  <a:spcPct val="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5.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A SZABÁLYOZÁS TERJEDEL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ÉS MÉLYSÉ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az éves beszámolóra irányul é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annak részeit szabályozza tar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talmi és formai szempontbó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371600" indent="-457200" algn="just">
                <a:lnSpc>
                  <a:spcPct val="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6.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A SZABÁLYOZÁS ELŐKÉSZÍTÉSE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erős, állandó szakmai szervezetek, vagy erre a célra létrehozott bizottságok útján, érdekhordozói kontrollal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arabicPeriod" startAt="7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A SZABÁLYOZÁS VÉGREHAJTÁSÁ-NAK KÖVETELMÉNYEI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választási lehetőségek, az üzleti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szemlélet érvényesítés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8.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A SZABÁLYOZÁS BETARTÁSÁNAK ELLENŐRZÉSE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értéktőzsdén, könyvszakértőkö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és részben adóellenőrzésen ke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 algn="just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resztül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57600" y="1424160"/>
              <a:ext cx="14400" cy="4730400"/>
            </a:xfrm>
            <a:prstGeom prst="line">
              <a:avLst/>
            </a:prstGeom>
            <a:ln w="1908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396252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20000"/>
              </a:lnSpc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ÁLTALÁNOS JELLEMZ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A beszámolási kö-telezettség mó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A könyvvezetés mó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A kettős könyvviteli rendszer jellem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A vezetői információs rends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A mérleg felépí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Az eredménykimutatás felépí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20000"/>
              </a:lnSpc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A folyamatba épített 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422360" y="84240"/>
            <a:ext cx="7518600" cy="944640"/>
            <a:chOff x="1422360" y="84240"/>
            <a:chExt cx="7518600" cy="944640"/>
          </a:xfrm>
        </p:grpSpPr>
        <p:sp>
          <p:nvSpPr>
            <p:cNvPr id="411" name=""/>
            <p:cNvSpPr/>
            <p:nvPr/>
          </p:nvSpPr>
          <p:spPr>
            <a:xfrm>
              <a:off x="8077320" y="84240"/>
              <a:ext cx="863640" cy="37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22360" y="304920"/>
              <a:ext cx="6299280" cy="7239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ÁMVITELI POLITIKA VÁZL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52280" y="1295280"/>
            <a:ext cx="4496040" cy="53352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I. A GAZDÁLKODÁSRA JELLEMZŐ SZA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BÁLYOK, ELŐÍRÁSOK ÉS MÓDSZER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00600" y="1905120"/>
            <a:ext cx="419112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 ESZKÖZÖK MINŐSÍ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 ÉRTÉKELÉS, AZ ÉRTÉK-VESZTÉS, S ANNAK VISSZA-ÍR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 AMORTIZÁCIÓS POLI-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 IDŐBELI ELHATÁROLÁ-SOK KÖ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CÉLTARTALÉK KÉPZÉS SZABÁLY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KIEGÉSZÍTŐ MELLÉKLET TART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 ÜZLETI JELENTÉS TAR-TAL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2057400"/>
            <a:ext cx="0" cy="449568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76320" y="2184120"/>
            <a:ext cx="449568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40000"/>
              </a:lnSpc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LELTÁRKÉSZÍTÉSI ÉS LELTÁROZÁSI SZABÁLYZ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140000"/>
              </a:lnSpc>
              <a:buClr>
                <a:srgbClr val="ffffff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AZ ESZKÖZÖK ÉS FORRÁSOK ÉRTÉKELÉSI SZABÁLYZ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140000"/>
              </a:lnSpc>
              <a:buClr>
                <a:srgbClr val="ffffff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PÉNZKEZELÉSI SZABÁLYZ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140000"/>
              </a:lnSpc>
              <a:buClr>
                <a:srgbClr val="ffffff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AZ ÖNKÖLTSÉGSZÁMÍTÁS RENDJÉNEK SZABÁLYOZ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4920" y="1219320"/>
            <a:ext cx="40384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II. A SZABÁLYZAT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ÖSSZEÁLLÍ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724280" y="1219320"/>
            <a:ext cx="419112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III.  NEM KÖTELEZŐEN ELŐÍ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SZABÁLYZ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141120"/>
            <a:ext cx="990720" cy="54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12-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foly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76920" y="2128680"/>
            <a:ext cx="44193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BIZONYLATI SZABÁLY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IRATTÁROZÁSI SZABÁLY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BERUHÁZÁSI SZABÁLY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SELEJTEZÉSI SZABÁLYZAT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572000" y="1294920"/>
            <a:ext cx="0" cy="403884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Felhasznált forrása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akirodal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zma András: Vázlatok a számvitel tanulásához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váth Katalin: Számvitel a gyakor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éb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vábbi ismeretszerzést szolgáló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ármilyen számviteli szakköny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755640" y="5516640"/>
            <a:ext cx="5708520" cy="1191240"/>
          </a:xfrm>
          <a:prstGeom prst="rect">
            <a:avLst/>
          </a:prstGeom>
          <a:gradFill rotWithShape="0">
            <a:gsLst>
              <a:gs pos="0">
                <a:srgbClr val="006666">
                  <a:alpha val="23137"/>
                </a:srgbClr>
              </a:gs>
              <a:gs pos="100000">
                <a:srgbClr val="002f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Előadás anyagát készítet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r. Bács Z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156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ÖSZÖNÖM A FIGYELMÜKE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ÖVETKEZŐ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ŐADÁS CÍME</a:t>
            </a:r>
            <a:br>
              <a:rPr sz="3600"/>
            </a:b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Értékelés a számvitelbe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952560" y="60480"/>
            <a:ext cx="8115120" cy="695160"/>
            <a:chOff x="952560" y="60480"/>
            <a:chExt cx="8115120" cy="695160"/>
          </a:xfrm>
        </p:grpSpPr>
        <p:sp>
          <p:nvSpPr>
            <p:cNvPr id="127" name=""/>
            <p:cNvSpPr/>
            <p:nvPr/>
          </p:nvSpPr>
          <p:spPr>
            <a:xfrm>
              <a:off x="8210520" y="60480"/>
              <a:ext cx="857160" cy="29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52560" y="263520"/>
              <a:ext cx="7078680" cy="4921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2000. ÉVI C. TÖRVÉNY A SZÁMVITELRŐ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1280" y="982800"/>
            <a:ext cx="4535640" cy="5008680"/>
            <a:chOff x="71280" y="982800"/>
            <a:chExt cx="4535640" cy="5008680"/>
          </a:xfrm>
        </p:grpSpPr>
        <p:sp>
          <p:nvSpPr>
            <p:cNvPr id="130" name=""/>
            <p:cNvSpPr/>
            <p:nvPr/>
          </p:nvSpPr>
          <p:spPr>
            <a:xfrm>
              <a:off x="71280" y="1465200"/>
              <a:ext cx="4535640" cy="45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lnSpc>
                  <a:spcPct val="95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ÁLTALÁNOS RENDELKEZÉS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5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BESZÁMOLÁS ÉS KÖNYV-VEZETÉ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5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Z ÉVES BESZÁMOLÓ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5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EGYSZERŰSÍTETT ÉVES BESZÁMOLÓ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5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EGYSZERŰSÍTETT BESZÁMOLÓ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5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ÖSSZEVONT (KONSZOLIDÁLT) ÉVES BESZÁMOLÓ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5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SAJÁTOS BESZÁMOLÁSI KÖTELEZETTSÉG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5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SZÁMVITELI SZOLGÁLTATÁ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5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NYILVÁNOSSÁGRA HOZATAL ÉS KÖZZÉTÉT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5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KÖNYVVIZSGÁL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5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KÖNYVVEZETÉS, BIZONYLA-TOLÁ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5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JOGKÖVETKEZMÉNY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5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Z ORSZÁGOS SZÁMVITELI BIZOTTSÁ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5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ZÁRÓ RENDELKEZÉS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5400" y="982800"/>
              <a:ext cx="2903400" cy="4190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ERKEZ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441680" y="992160"/>
            <a:ext cx="4702320" cy="5611680"/>
            <a:chOff x="4441680" y="992160"/>
            <a:chExt cx="4702320" cy="5611680"/>
          </a:xfrm>
        </p:grpSpPr>
        <p:grpSp>
          <p:nvGrpSpPr>
            <p:cNvPr id="133" name=""/>
            <p:cNvGrpSpPr/>
            <p:nvPr/>
          </p:nvGrpSpPr>
          <p:grpSpPr>
            <a:xfrm>
              <a:off x="4525920" y="992160"/>
              <a:ext cx="4618080" cy="4270320"/>
              <a:chOff x="4525920" y="992160"/>
              <a:chExt cx="4618080" cy="4270320"/>
            </a:xfrm>
          </p:grpSpPr>
          <p:sp>
            <p:nvSpPr>
              <p:cNvPr id="134" name=""/>
              <p:cNvSpPr/>
              <p:nvPr/>
            </p:nvSpPr>
            <p:spPr>
              <a:xfrm>
                <a:off x="4594320" y="992160"/>
                <a:ext cx="2905200" cy="43488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MELLÉKLETE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25920" y="1474920"/>
                <a:ext cx="4618080" cy="37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95000"/>
                  </a:lnSpc>
                  <a:buClr>
                    <a:srgbClr val="000000"/>
                  </a:buClr>
                  <a:buFont typeface="Bookman Old Style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A MÉRLEG ELŐÍRT TAGOLÁS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5000"/>
                  </a:lnSpc>
                  <a:buClr>
                    <a:srgbClr val="000000"/>
                  </a:buClr>
                  <a:buFont typeface="Bookman Old Style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AZ EREDMÉNYKIMUTATÁS ELŐ-ÍRT TAGOLÁSA (ÖSSZKÖLTSÉG ELJÁRÁSSAL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5000"/>
                  </a:lnSpc>
                  <a:buClr>
                    <a:srgbClr val="000000"/>
                  </a:buClr>
                  <a:buFont typeface="Bookman Old Style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AZ EREDMÉNYKIMUTATÁS ELŐ-ÍRT TAGOLÁSA (FORGALMI KÖLTSÉG ELJÁRÁSSAL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5000"/>
                  </a:lnSpc>
                  <a:buClr>
                    <a:srgbClr val="000000"/>
                  </a:buClr>
                  <a:buFont typeface="Bookman Old Style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AZ EGYSZERŰSÍTETT MÉRLEG ELŐÍRT TAGOLÁS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5000"/>
                  </a:lnSpc>
                  <a:buClr>
                    <a:srgbClr val="000000"/>
                  </a:buClr>
                  <a:buFont typeface="Bookman Old Style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AZ EREDMÉNYLEVEZETÉS ELŐ-ÍRT TAGOLÁS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5000"/>
                  </a:lnSpc>
                  <a:buClr>
                    <a:srgbClr val="000000"/>
                  </a:buClr>
                  <a:buFont typeface="Bookman Old Style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AZ ÖSSZEVONT (KONSZOLIDÁLT) MÉRLEG ÉS EREDMÉNYKIMUTA-TÁS SAJÁTOS SORAI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5000"/>
                  </a:lnSpc>
                  <a:buClr>
                    <a:srgbClr val="000000"/>
                  </a:buClr>
                  <a:buFont typeface="Bookman Old Style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CASH FLOW-KIMUTATÁS.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4441680" y="1131840"/>
              <a:ext cx="0" cy="547200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14560" y="1601640"/>
            <a:ext cx="7115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OLYAN SZÁMVITELI SZABÁLYOKAT RÖGZÍT, ame-lyek összhangban állnak az Európai Közösségnek e jogterületre vonatkozó irányelveivel, figyelemmel vannak a nemzetközi számviteli elvek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AMELYEK ALAPJÁN MEGBÍZHATÓ ÉS VALÓS ÖSSZ-KÉPET BIZTOSÍTÓ TÁJÉKOZTATÁS NYÚJTHATÓ A HATÁLYA ALÁ TARTOZ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JÖVEDELEMTERMELŐ KÉPESSÉGÉRŐ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VAGYONÁNAK ALAKULÁSÁRÓ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PÉNZÜGYI HELYZETÉRŐ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28880" y="128520"/>
            <a:ext cx="7910280" cy="942840"/>
            <a:chOff x="1028880" y="128520"/>
            <a:chExt cx="7910280" cy="942840"/>
          </a:xfrm>
        </p:grpSpPr>
        <p:sp>
          <p:nvSpPr>
            <p:cNvPr id="139" name=""/>
            <p:cNvSpPr/>
            <p:nvPr/>
          </p:nvSpPr>
          <p:spPr>
            <a:xfrm>
              <a:off x="8170920" y="128520"/>
              <a:ext cx="76824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28880" y="545760"/>
              <a:ext cx="7213320" cy="5256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2000. ÉVI C. TÖRVÉNY A SZÁMVITELRŐ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507960" y="157320"/>
            <a:ext cx="8412120" cy="6083280"/>
            <a:chOff x="507960" y="157320"/>
            <a:chExt cx="8412120" cy="6083280"/>
          </a:xfrm>
        </p:grpSpPr>
        <p:grpSp>
          <p:nvGrpSpPr>
            <p:cNvPr id="142" name=""/>
            <p:cNvGrpSpPr/>
            <p:nvPr/>
          </p:nvGrpSpPr>
          <p:grpSpPr>
            <a:xfrm>
              <a:off x="507960" y="157320"/>
              <a:ext cx="8412120" cy="1017360"/>
              <a:chOff x="507960" y="157320"/>
              <a:chExt cx="8412120" cy="1017360"/>
            </a:xfrm>
          </p:grpSpPr>
          <p:sp>
            <p:nvSpPr>
              <p:cNvPr id="143" name=""/>
              <p:cNvSpPr/>
              <p:nvPr/>
            </p:nvSpPr>
            <p:spPr>
              <a:xfrm>
                <a:off x="8151840" y="157320"/>
                <a:ext cx="768240" cy="31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12-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07960" y="422280"/>
                <a:ext cx="7924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480" y="685800"/>
                <a:ext cx="7112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23960" y="554040"/>
                <a:ext cx="7432560" cy="620640"/>
              </a:xfrm>
              <a:prstGeom prst="flowChartAlternateProcess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 SZÁMVITELI TÖRVÉNY HATÁLYA ALÁ TARTOZI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95440" y="5159520"/>
              <a:ext cx="6618240" cy="1081080"/>
              <a:chOff x="1495440" y="5159520"/>
              <a:chExt cx="6618240" cy="1081080"/>
            </a:xfrm>
          </p:grpSpPr>
          <p:sp>
            <p:nvSpPr>
              <p:cNvPr id="148" name=""/>
              <p:cNvSpPr/>
              <p:nvPr/>
            </p:nvSpPr>
            <p:spPr>
              <a:xfrm>
                <a:off x="1576440" y="5209920"/>
                <a:ext cx="20700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95440" y="5159520"/>
                <a:ext cx="661824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333399"/>
                    </a:solidFill>
                    <a:latin typeface="Bookman Old Style"/>
                  </a:rPr>
                  <a:t>* A törvény hatálya kiterjed a külföldi székhely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333399"/>
                    </a:solidFill>
                    <a:latin typeface="Bookman Old Style"/>
                  </a:rPr>
                  <a:t>  </a:t>
                </a:r>
                <a:r>
                  <a:rPr b="1" i="1" lang="en-US" sz="1800" spc="-1" strike="noStrike">
                    <a:solidFill>
                      <a:srgbClr val="333399"/>
                    </a:solidFill>
                    <a:latin typeface="Bookman Old Style"/>
                  </a:rPr>
                  <a:t>vállalkozás magyarországi FIÓKTELEPÉRE IS, DE NEM TERJED KI AZ EGYÉNI VÁLLALKOZÓRA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771480" y="1449360"/>
            <a:ext cx="6986520" cy="3454920"/>
            <a:chOff x="771480" y="1449360"/>
            <a:chExt cx="6986520" cy="3454920"/>
          </a:xfrm>
        </p:grpSpPr>
        <p:sp>
          <p:nvSpPr>
            <p:cNvPr id="151" name=""/>
            <p:cNvSpPr/>
            <p:nvPr/>
          </p:nvSpPr>
          <p:spPr>
            <a:xfrm>
              <a:off x="1476360" y="1884240"/>
              <a:ext cx="6281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VÁLLALKOZÓ (ideértve az egyesülést is)</a:t>
              </a: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*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ÁLLAMHÁZTARTÁS SZERVEZETEI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 EGYÉB SZERVEZET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MAGYAR NEMZETI BANK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OVÁBBÁ az általuk, illetve természe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emélyek által alapítot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gészségügyi, szociális é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oktatási intézménye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1480" y="1449360"/>
              <a:ext cx="2554200" cy="4809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GAZDÁLKODÓ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609480" y="157320"/>
            <a:ext cx="8325000" cy="5871240"/>
            <a:chOff x="609480" y="157320"/>
            <a:chExt cx="8325000" cy="5871240"/>
          </a:xfrm>
        </p:grpSpPr>
        <p:sp>
          <p:nvSpPr>
            <p:cNvPr id="154" name=""/>
            <p:cNvSpPr/>
            <p:nvPr/>
          </p:nvSpPr>
          <p:spPr>
            <a:xfrm>
              <a:off x="609480" y="685800"/>
              <a:ext cx="7112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51920" y="157320"/>
              <a:ext cx="682560" cy="303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7120" y="573120"/>
              <a:ext cx="5937480" cy="6080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VÁLLALKOZÓ 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Bookman Old Style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95360" y="5594400"/>
              <a:ext cx="2070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6920" y="5568840"/>
              <a:ext cx="57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*  </a:t>
              </a:r>
              <a:r>
                <a:rPr b="1" i="1" lang="en-US" sz="2000" spc="-1" strike="noStrike">
                  <a:solidFill>
                    <a:srgbClr val="333399"/>
                  </a:solidFill>
                  <a:latin typeface="Bookman Old Style"/>
                </a:rPr>
                <a:t>A számviteli törvény alkalmazásáb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309680" y="1701720"/>
            <a:ext cx="697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MINDEN OLYAN GAZDÁLKODÓ, AM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A SAJÁT NEVÉBEN ÉS KOCKÁZATÁ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NYERESÉG- ÉS VAGYONSZERZÉS CÉLJÁBÓ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ÜZLETSZERŰ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ELLENÉRTÉK FEJÉB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TERMELŐ VAGY SZOLGÁLTATÓ TEVÉKENYSÉ-GET VÉGEZ, de nem az államháztartás szerve-zete vagy egyéb szervez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19200" y="2084400"/>
            <a:ext cx="62960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ZOK A SZERVEZETEK, AMELYEKET AZ ÁLLAMHÁZTARTÁSI TÖRVÉNY ALAPJÁN AZ ÁLLAMHÁZTARTÁS MŰKÖDÉSI REND-JÉRŐL SZÓLÓ JOGSZABÁLY ILYENNEK MINŐSÍ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030320" y="157320"/>
            <a:ext cx="7904160" cy="1082520"/>
            <a:chOff x="1030320" y="157320"/>
            <a:chExt cx="7904160" cy="1082520"/>
          </a:xfrm>
        </p:grpSpPr>
        <p:sp>
          <p:nvSpPr>
            <p:cNvPr id="162" name=""/>
            <p:cNvSpPr/>
            <p:nvPr/>
          </p:nvSpPr>
          <p:spPr>
            <a:xfrm>
              <a:off x="8121600" y="157320"/>
              <a:ext cx="812880" cy="347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2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30320" y="619200"/>
              <a:ext cx="7175520" cy="6206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ÁLLAMHÁZTARTÁS SZERVEZETE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6:00:57Z</dcterms:created>
  <dc:creator>tamas</dc:creator>
  <dc:description/>
  <dc:language>en-US</dc:language>
  <cp:lastModifiedBy>Bács Zoltán</cp:lastModifiedBy>
  <dcterms:modified xsi:type="dcterms:W3CDTF">2008-08-31T07:43:52Z</dcterms:modified>
  <cp:revision>58</cp:revision>
  <dc:subject/>
  <dc:title>1. dia</dc:title>
</cp:coreProperties>
</file>