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E832-EB94-4E98-889D-4B42E36C19C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 források citációs  formája: Szerző (évszám): publikáció címe. megjelenés helye. Kiadó. Evf. Szam. Oldalsz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onlapok URL cí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öbb összefüggő előadás vagy gyakorlat esetében az egymásra épülést itt lehet megadn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tt kell megadni ha a következő előadás vagy gyakorlat megértéséhez  milyen más tárgyak ismeretére van szüksé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lőadások / gyakorlatok diáinak kidolgozása során jelöljön ki kulcsszavakat amelyeket az ellenőrző kérdésekhez hiperhivatkozásként kapcsoljon a kérdéshez. Művelet leírása BESZÚRÁS OBJEKTUM HIPERHIVATKOZÁS súgób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diákhoz itt kellene beszúrni a tanári magyarázatok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83818-9FB3-43D0-9381-18A0DC19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8E935-DAE7-4D92-A365-D3BB0AE5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6B4BC-86F3-49AB-A7C1-5EB9D047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2B61A-DCD6-4E75-A4E2-DE726976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09791-77FB-4A55-A167-DD41E8BD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5EB22-508D-4CAE-ABF3-B9434CA5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978C4-1594-4F01-87EB-30C50A81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767FF-5B74-4274-AC97-7C211F1E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65E54-8DAA-47DB-BCEE-DEA9A641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5F140-F9CA-42DB-BAC3-C99AD852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86F74-FA1D-48DF-AFA9-7DAD8D72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B8C7B-0AB7-4E2C-BCBD-A318DCE3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76720" y="6381360"/>
            <a:ext cx="226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FOP 3.3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7c7c">
                  <a:alpha val="86274"/>
                </a:srgbClr>
              </a:gs>
              <a:gs pos="100000">
                <a:srgbClr val="009999">
                  <a:alpha val="2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C15B-E33E-4F91-9080-7AC1EFFE8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986360"/>
            <a:ext cx="1776240" cy="18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308720" y="0"/>
            <a:ext cx="1617840" cy="1700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378560" y="5084640"/>
            <a:ext cx="1535400" cy="156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20160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067280" y="189000"/>
            <a:ext cx="731880" cy="1844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859280" y="549360"/>
            <a:ext cx="223200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132000" y="5373720"/>
            <a:ext cx="30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38160">
                  <a:solidFill>
                    <a:srgbClr val="99ccff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HEFOP - 3.3.1.</a:t>
            </a:r>
            <a:endParaRPr b="1" lang="en-US" sz="1400" spc="1" strike="noStrike">
              <a:ln w="38160">
                <a:solidFill>
                  <a:srgbClr val="99ccff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0"/>
          <a:ext cx="1763640" cy="17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176364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ZÁMVITEL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.h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Felhasznált forrása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akirodal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zma András: Vázlatok a számvitel tanulásához 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váth Katalin: Számvitel a gyakorlat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éb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vábbi ismeretszerzést szolgáló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ármilyen számviteli szakköny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755640" y="5516640"/>
            <a:ext cx="5708520" cy="916920"/>
          </a:xfrm>
          <a:prstGeom prst="rect">
            <a:avLst/>
          </a:prstGeom>
          <a:gradFill rotWithShape="0">
            <a:gsLst>
              <a:gs pos="0">
                <a:srgbClr val="006666">
                  <a:alpha val="23137"/>
                </a:srgbClr>
              </a:gs>
              <a:gs pos="100000">
                <a:srgbClr val="002f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ff"/>
                </a:solidFill>
                <a:latin typeface="Arial"/>
              </a:rPr>
              <a:t>Előadás anyagát készítetté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r. Bács Zol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1565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KÖSZÖNÖM A FIGYELMÜKE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KÖVETKEZŐ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LŐADÁS CÍME</a:t>
            </a:r>
            <a:br>
              <a:rPr sz="3600"/>
            </a:b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Forgóeszközök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55280" y="3933720"/>
            <a:ext cx="69231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öbb előadást átfogó oktatási téma előadássorozatának címe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övetkező előadás megértéséhez ajánlott ismeretek kulcsszava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zámvitel célja, fogalma, funkció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ermelési folya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vállalkozó vagyona, a vagyon kimuta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befektetett eszközök fogal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LŐADÁS ÁTTEKINTÉ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403280" y="5229360"/>
            <a:ext cx="6362640" cy="1105560"/>
            <a:chOff x="1403280" y="5229360"/>
            <a:chExt cx="6362640" cy="1105560"/>
          </a:xfrm>
        </p:grpSpPr>
        <p:sp>
          <p:nvSpPr>
            <p:cNvPr id="102" name=""/>
            <p:cNvSpPr/>
            <p:nvPr/>
          </p:nvSpPr>
          <p:spPr>
            <a:xfrm>
              <a:off x="3460680" y="5229360"/>
              <a:ext cx="1974960" cy="4597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Vagy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0960" y="5865840"/>
              <a:ext cx="1974960" cy="4597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Forrá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3280" y="5875200"/>
              <a:ext cx="1974960" cy="4597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Eszkö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38560" y="5872320"/>
              <a:ext cx="110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221920" y="5415120"/>
              <a:ext cx="1258920" cy="422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106360" y="5392800"/>
              <a:ext cx="135396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92520" y="5403960"/>
              <a:ext cx="14526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60240" y="154080"/>
            <a:ext cx="8254800" cy="683640"/>
            <a:chOff x="660240" y="154080"/>
            <a:chExt cx="8254800" cy="683640"/>
          </a:xfrm>
        </p:grpSpPr>
        <p:sp>
          <p:nvSpPr>
            <p:cNvPr id="110" name=""/>
            <p:cNvSpPr/>
            <p:nvPr/>
          </p:nvSpPr>
          <p:spPr>
            <a:xfrm>
              <a:off x="8004960" y="154080"/>
              <a:ext cx="910080" cy="256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0240" y="324000"/>
              <a:ext cx="7043760" cy="513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VÁLLALKOZÓ VAGYO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33520" y="1400040"/>
            <a:ext cx="3504960" cy="1267200"/>
            <a:chOff x="533520" y="1400040"/>
            <a:chExt cx="3504960" cy="1267200"/>
          </a:xfrm>
        </p:grpSpPr>
        <p:sp>
          <p:nvSpPr>
            <p:cNvPr id="113" name=""/>
            <p:cNvSpPr/>
            <p:nvPr/>
          </p:nvSpPr>
          <p:spPr>
            <a:xfrm>
              <a:off x="633240" y="1400040"/>
              <a:ext cx="1729080" cy="3808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FOGALM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520" y="1476000"/>
              <a:ext cx="350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vagyon a vállalkozás tulajdonában, kezelésében lévő eszközök együttes érték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114800" y="1430280"/>
            <a:ext cx="4952880" cy="1465560"/>
            <a:chOff x="4114800" y="1430280"/>
            <a:chExt cx="4952880" cy="1465560"/>
          </a:xfrm>
        </p:grpSpPr>
        <p:sp>
          <p:nvSpPr>
            <p:cNvPr id="116" name=""/>
            <p:cNvSpPr/>
            <p:nvPr/>
          </p:nvSpPr>
          <p:spPr>
            <a:xfrm>
              <a:off x="4343400" y="1430280"/>
              <a:ext cx="4724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VAGYON CSOPORTOSÍTÁSÁNAK ISMÉRVEI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vállalkozási tevékenységbe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etöltött szerepü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redetü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14800" y="152388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990720" y="4417920"/>
            <a:ext cx="4190760" cy="1300680"/>
            <a:chOff x="990720" y="4417920"/>
            <a:chExt cx="4190760" cy="1300680"/>
          </a:xfrm>
        </p:grpSpPr>
        <p:sp>
          <p:nvSpPr>
            <p:cNvPr id="119" name=""/>
            <p:cNvSpPr/>
            <p:nvPr/>
          </p:nvSpPr>
          <p:spPr>
            <a:xfrm>
              <a:off x="1295280" y="4724280"/>
              <a:ext cx="1752840" cy="304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FORRÁ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90720" y="4417920"/>
              <a:ext cx="4190760" cy="13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Eredetük szerint csoportosít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-nak nevezzü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33520" y="2986200"/>
            <a:ext cx="4572000" cy="1360800"/>
            <a:chOff x="533520" y="2986200"/>
            <a:chExt cx="4572000" cy="1360800"/>
          </a:xfrm>
        </p:grpSpPr>
        <p:sp>
          <p:nvSpPr>
            <p:cNvPr id="122" name=""/>
            <p:cNvSpPr/>
            <p:nvPr/>
          </p:nvSpPr>
          <p:spPr>
            <a:xfrm>
              <a:off x="1309680" y="3960720"/>
              <a:ext cx="1585800" cy="30636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SZKÖZÖ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90720" y="2986200"/>
              <a:ext cx="1752480" cy="3682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VAGYONT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3520" y="3046320"/>
              <a:ext cx="4572000" cy="13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tevékenységben betöltöt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szerepük szerint csoportosítva                     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   -n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059360" y="1676520"/>
            <a:ext cx="769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59360" y="1371600"/>
            <a:ext cx="76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9360" y="5510160"/>
            <a:ext cx="769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59360" y="5904000"/>
            <a:ext cx="769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59360" y="6303960"/>
            <a:ext cx="7696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59360" y="5121360"/>
            <a:ext cx="7696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829040" y="4824360"/>
            <a:ext cx="3629160" cy="297000"/>
            <a:chOff x="4829040" y="4824360"/>
            <a:chExt cx="3629160" cy="297000"/>
          </a:xfrm>
        </p:grpSpPr>
        <p:sp>
          <p:nvSpPr>
            <p:cNvPr id="132" name=""/>
            <p:cNvSpPr/>
            <p:nvPr/>
          </p:nvSpPr>
          <p:spPr>
            <a:xfrm>
              <a:off x="5419800" y="4824360"/>
              <a:ext cx="3038400" cy="297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KÖTELEZETTSÉG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29040" y="4824360"/>
              <a:ext cx="590760" cy="297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059360" y="4824360"/>
            <a:ext cx="769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59360" y="4557600"/>
            <a:ext cx="769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59360" y="4168800"/>
            <a:ext cx="7696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59360" y="3895560"/>
            <a:ext cx="7696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59360" y="3598920"/>
            <a:ext cx="7696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59360" y="3287880"/>
            <a:ext cx="769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59360" y="2898720"/>
            <a:ext cx="769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59360" y="2509920"/>
            <a:ext cx="7696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829040" y="2212920"/>
            <a:ext cx="3629160" cy="2344680"/>
            <a:chOff x="4829040" y="2212920"/>
            <a:chExt cx="3629160" cy="2344680"/>
          </a:xfrm>
        </p:grpSpPr>
        <p:sp>
          <p:nvSpPr>
            <p:cNvPr id="143" name=""/>
            <p:cNvSpPr/>
            <p:nvPr/>
          </p:nvSpPr>
          <p:spPr>
            <a:xfrm>
              <a:off x="4829040" y="4168800"/>
              <a:ext cx="5907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V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19800" y="4168800"/>
              <a:ext cx="30384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MÉRLEG SZERINTI EREDMÉN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4829040" y="2212920"/>
              <a:ext cx="3629160" cy="1955880"/>
              <a:chOff x="4829040" y="2212920"/>
              <a:chExt cx="3629160" cy="1955880"/>
            </a:xfrm>
          </p:grpSpPr>
          <p:sp>
            <p:nvSpPr>
              <p:cNvPr id="146" name=""/>
              <p:cNvSpPr/>
              <p:nvPr/>
            </p:nvSpPr>
            <p:spPr>
              <a:xfrm>
                <a:off x="4829040" y="3895560"/>
                <a:ext cx="59076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VI.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29040" y="3598920"/>
                <a:ext cx="59076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V.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829040" y="3287880"/>
                <a:ext cx="59076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IV.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829040" y="2898720"/>
                <a:ext cx="590760" cy="38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III.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829040" y="2509920"/>
                <a:ext cx="590760" cy="38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II.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29040" y="2212920"/>
                <a:ext cx="590760" cy="2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I.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419800" y="3895560"/>
                <a:ext cx="303840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ÉRTÉKELÉSI TARTALÉ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419800" y="3598920"/>
                <a:ext cx="303840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LEKÖTÖTT TARTALÉ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19800" y="3287880"/>
                <a:ext cx="303840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EREDMÉNYTARTALÉ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19800" y="2898720"/>
                <a:ext cx="3038400" cy="38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TŐKETARTALÉ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419800" y="2509920"/>
                <a:ext cx="3038400" cy="38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JEGYZETT, DE MÉG BE NEM FIZETETT TŐKE (-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19800" y="2212920"/>
                <a:ext cx="3038400" cy="2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JEGYZETT TŐK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4059360" y="2212920"/>
            <a:ext cx="769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59360" y="1916280"/>
            <a:ext cx="7696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0880" y="6303960"/>
            <a:ext cx="3678480" cy="388800"/>
            <a:chOff x="380880" y="6303960"/>
            <a:chExt cx="3678480" cy="388800"/>
          </a:xfrm>
        </p:grpSpPr>
        <p:sp>
          <p:nvSpPr>
            <p:cNvPr id="161" name=""/>
            <p:cNvSpPr/>
            <p:nvPr/>
          </p:nvSpPr>
          <p:spPr>
            <a:xfrm>
              <a:off x="941400" y="6303960"/>
              <a:ext cx="3117960" cy="3888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AKTÍV IDŐBELI ELHATÁROLÁS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0880" y="6303960"/>
              <a:ext cx="560520" cy="3888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C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0880" y="6692760"/>
              <a:ext cx="3678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8458200" y="1371600"/>
            <a:ext cx="0" cy="5321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371600"/>
            <a:ext cx="0" cy="5321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59360" y="1371600"/>
            <a:ext cx="0" cy="532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29040" y="1371600"/>
            <a:ext cx="0" cy="532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41400" y="1371600"/>
            <a:ext cx="0" cy="532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19800" y="1371600"/>
            <a:ext cx="0" cy="532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2509920"/>
            <a:ext cx="807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2898720"/>
            <a:ext cx="807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80880" y="2212920"/>
            <a:ext cx="3678480" cy="1074960"/>
            <a:chOff x="380880" y="2212920"/>
            <a:chExt cx="3678480" cy="1074960"/>
          </a:xfrm>
        </p:grpSpPr>
        <p:sp>
          <p:nvSpPr>
            <p:cNvPr id="173" name=""/>
            <p:cNvSpPr/>
            <p:nvPr/>
          </p:nvSpPr>
          <p:spPr>
            <a:xfrm>
              <a:off x="380880" y="2898720"/>
              <a:ext cx="56052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880" y="2509920"/>
              <a:ext cx="5605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880" y="2212920"/>
              <a:ext cx="5605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1400" y="2898720"/>
              <a:ext cx="311796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EFEKTETETT PÉNZÜGY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41400" y="2509920"/>
              <a:ext cx="3117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TÁRGYI 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41400" y="2212920"/>
              <a:ext cx="31179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MMATERIÁLIS JAVA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880" y="3287880"/>
              <a:ext cx="367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80880" y="3895560"/>
            <a:ext cx="807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168800"/>
            <a:ext cx="807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557600"/>
            <a:ext cx="444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4824360"/>
            <a:ext cx="444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5121360"/>
            <a:ext cx="444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510160"/>
            <a:ext cx="807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5904000"/>
            <a:ext cx="807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880" y="3598920"/>
            <a:ext cx="3678480" cy="2705040"/>
            <a:chOff x="380880" y="3598920"/>
            <a:chExt cx="3678480" cy="2705040"/>
          </a:xfrm>
        </p:grpSpPr>
        <p:sp>
          <p:nvSpPr>
            <p:cNvPr id="188" name=""/>
            <p:cNvSpPr/>
            <p:nvPr/>
          </p:nvSpPr>
          <p:spPr>
            <a:xfrm>
              <a:off x="941400" y="5510160"/>
              <a:ext cx="3117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880" y="5510160"/>
              <a:ext cx="560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41400" y="5904000"/>
              <a:ext cx="31179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0880" y="5904000"/>
              <a:ext cx="5605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41400" y="5121360"/>
              <a:ext cx="3117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880" y="5121360"/>
              <a:ext cx="5605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41400" y="4824360"/>
              <a:ext cx="31179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880" y="4824360"/>
              <a:ext cx="5605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0880" y="4557600"/>
              <a:ext cx="560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V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0880" y="4168800"/>
              <a:ext cx="5605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0880" y="3895560"/>
              <a:ext cx="5605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0880" y="3598920"/>
              <a:ext cx="5605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41400" y="4557600"/>
              <a:ext cx="3117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PÉNZ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41400" y="4168800"/>
              <a:ext cx="3117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ÉRTÉKPAPÍR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41400" y="3895560"/>
              <a:ext cx="31179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KÖVETELÉS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41400" y="3598920"/>
              <a:ext cx="31179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KÉSZLET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6303960"/>
              <a:ext cx="367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059360" y="1371600"/>
            <a:ext cx="76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59360" y="1676520"/>
            <a:ext cx="76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59360" y="1916280"/>
            <a:ext cx="76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59360" y="2212920"/>
            <a:ext cx="76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829040" y="1371600"/>
            <a:ext cx="3629160" cy="841320"/>
            <a:chOff x="4829040" y="1371600"/>
            <a:chExt cx="3629160" cy="841320"/>
          </a:xfrm>
        </p:grpSpPr>
        <p:sp>
          <p:nvSpPr>
            <p:cNvPr id="210" name=""/>
            <p:cNvSpPr/>
            <p:nvPr/>
          </p:nvSpPr>
          <p:spPr>
            <a:xfrm>
              <a:off x="5419800" y="1676520"/>
              <a:ext cx="303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29040" y="1676520"/>
              <a:ext cx="590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19800" y="1371600"/>
              <a:ext cx="3038400" cy="3049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ORRÁSOK (PASSZÍVÁK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29040" y="1371600"/>
              <a:ext cx="590760" cy="3049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29040" y="1916280"/>
              <a:ext cx="590760" cy="296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D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19800" y="1916280"/>
              <a:ext cx="3038400" cy="296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SAJÁT TŐK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29040" y="1371600"/>
              <a:ext cx="3629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29040" y="167652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29040" y="191628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29040" y="221292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059360" y="3287880"/>
            <a:ext cx="4398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59360" y="3598920"/>
            <a:ext cx="4398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829040" y="4557600"/>
            <a:ext cx="3629160" cy="266760"/>
            <a:chOff x="4829040" y="4557600"/>
            <a:chExt cx="3629160" cy="266760"/>
          </a:xfrm>
        </p:grpSpPr>
        <p:sp>
          <p:nvSpPr>
            <p:cNvPr id="223" name=""/>
            <p:cNvSpPr/>
            <p:nvPr/>
          </p:nvSpPr>
          <p:spPr>
            <a:xfrm>
              <a:off x="4829040" y="4557600"/>
              <a:ext cx="590760" cy="26676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19800" y="4557600"/>
              <a:ext cx="3038400" cy="26676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CÉLTARTALÉK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29040" y="455760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29040" y="482436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059360" y="6303960"/>
            <a:ext cx="76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829040" y="5121360"/>
            <a:ext cx="3629160" cy="1182600"/>
            <a:chOff x="4829040" y="5121360"/>
            <a:chExt cx="3629160" cy="1182600"/>
          </a:xfrm>
        </p:grpSpPr>
        <p:sp>
          <p:nvSpPr>
            <p:cNvPr id="229" name=""/>
            <p:cNvSpPr/>
            <p:nvPr/>
          </p:nvSpPr>
          <p:spPr>
            <a:xfrm>
              <a:off x="5419800" y="5510160"/>
              <a:ext cx="3038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HOSSZÚ LEJÁRATÚ KÖTELEZETTSÉG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29040" y="5510160"/>
              <a:ext cx="59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19800" y="5904000"/>
              <a:ext cx="3038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RÖVID LEJÁRATÚ KÖTELEZETTSÉG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29040" y="5904000"/>
              <a:ext cx="590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19800" y="5121360"/>
              <a:ext cx="30384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HÁTRASOROLT KÖTELEZETTSÉG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29040" y="5121360"/>
              <a:ext cx="5907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29040" y="512136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29040" y="630396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059360" y="6692760"/>
            <a:ext cx="76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829040" y="6303960"/>
            <a:ext cx="3629160" cy="388800"/>
            <a:chOff x="4829040" y="6303960"/>
            <a:chExt cx="3629160" cy="388800"/>
          </a:xfrm>
        </p:grpSpPr>
        <p:sp>
          <p:nvSpPr>
            <p:cNvPr id="239" name=""/>
            <p:cNvSpPr/>
            <p:nvPr/>
          </p:nvSpPr>
          <p:spPr>
            <a:xfrm>
              <a:off x="5419800" y="6303960"/>
              <a:ext cx="3038400" cy="3888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PASSZÍV IDŐBELI ELHATÁROLÁS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29040" y="6303960"/>
              <a:ext cx="590760" cy="3888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G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29040" y="6692760"/>
              <a:ext cx="3629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98520" y="123840"/>
            <a:ext cx="8363880" cy="1095120"/>
            <a:chOff x="398520" y="123840"/>
            <a:chExt cx="8363880" cy="1095120"/>
          </a:xfrm>
        </p:grpSpPr>
        <p:sp>
          <p:nvSpPr>
            <p:cNvPr id="243" name=""/>
            <p:cNvSpPr/>
            <p:nvPr/>
          </p:nvSpPr>
          <p:spPr>
            <a:xfrm>
              <a:off x="398520" y="682560"/>
              <a:ext cx="3897000" cy="536400"/>
            </a:xfrm>
            <a:prstGeom prst="flowChartOffpageConnector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Times New Roman"/>
                </a:rPr>
                <a:t>A VÁLLALKOZÁSI TEVÉKENYSÉGBE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Times New Roman"/>
                </a:rPr>
                <a:t>BETÖLTÖTT SZEREPÜK SZER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421000" y="412560"/>
              <a:ext cx="189144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12440" y="412560"/>
              <a:ext cx="180000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08640" y="681480"/>
              <a:ext cx="3897000" cy="536400"/>
            </a:xfrm>
            <a:prstGeom prst="flowChartOffpageConnector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Times New Roman"/>
                </a:rPr>
                <a:t>EREDETÜK SZER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801720" y="123840"/>
              <a:ext cx="7960680" cy="288720"/>
              <a:chOff x="801720" y="123840"/>
              <a:chExt cx="7960680" cy="288720"/>
            </a:xfrm>
          </p:grpSpPr>
          <p:sp>
            <p:nvSpPr>
              <p:cNvPr id="248" name=""/>
              <p:cNvSpPr/>
              <p:nvPr/>
            </p:nvSpPr>
            <p:spPr>
              <a:xfrm>
                <a:off x="7872480" y="123840"/>
                <a:ext cx="889920" cy="2347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1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01720" y="156240"/>
                <a:ext cx="6855840" cy="256320"/>
              </a:xfrm>
              <a:prstGeom prst="roundRect">
                <a:avLst>
                  <a:gd name="adj" fmla="val 1666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 VAGYON CSOPORTOSÍTÁ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380880" y="1371600"/>
            <a:ext cx="3678480" cy="841320"/>
            <a:chOff x="380880" y="1371600"/>
            <a:chExt cx="3678480" cy="841320"/>
          </a:xfrm>
        </p:grpSpPr>
        <p:sp>
          <p:nvSpPr>
            <p:cNvPr id="251" name=""/>
            <p:cNvSpPr/>
            <p:nvPr/>
          </p:nvSpPr>
          <p:spPr>
            <a:xfrm>
              <a:off x="941400" y="1676520"/>
              <a:ext cx="31179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0880" y="1676520"/>
              <a:ext cx="5605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41400" y="1371600"/>
              <a:ext cx="3117960" cy="3049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SZKÖZÖK (AKTÍVÁK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0880" y="1371600"/>
              <a:ext cx="560520" cy="3049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0880" y="1916280"/>
              <a:ext cx="560520" cy="296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A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41400" y="1916280"/>
              <a:ext cx="3117960" cy="296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EFEKTETETT 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0880" y="1371600"/>
              <a:ext cx="3678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0880" y="1676520"/>
              <a:ext cx="367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880" y="1916280"/>
              <a:ext cx="367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0880" y="2212920"/>
              <a:ext cx="367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368280" y="170172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4038480" y="173988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80880" y="13716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90512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29040" y="13716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80880" y="3276720"/>
            <a:ext cx="3678480" cy="330120"/>
            <a:chOff x="380880" y="3276720"/>
            <a:chExt cx="3678480" cy="330120"/>
          </a:xfrm>
        </p:grpSpPr>
        <p:grpSp>
          <p:nvGrpSpPr>
            <p:cNvPr id="267" name=""/>
            <p:cNvGrpSpPr/>
            <p:nvPr/>
          </p:nvGrpSpPr>
          <p:grpSpPr>
            <a:xfrm>
              <a:off x="380880" y="3287880"/>
              <a:ext cx="3678480" cy="311040"/>
              <a:chOff x="380880" y="3287880"/>
              <a:chExt cx="3678480" cy="311040"/>
            </a:xfrm>
          </p:grpSpPr>
          <p:sp>
            <p:nvSpPr>
              <p:cNvPr id="268" name=""/>
              <p:cNvSpPr/>
              <p:nvPr/>
            </p:nvSpPr>
            <p:spPr>
              <a:xfrm>
                <a:off x="380880" y="3287880"/>
                <a:ext cx="560520" cy="3110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B.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941400" y="3287880"/>
                <a:ext cx="3117960" cy="3110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FORGÓESZKÖZÖ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80880" y="3598920"/>
                <a:ext cx="3678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380880" y="327672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59360" y="327672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829040" y="1905120"/>
            <a:ext cx="0" cy="30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29040" y="26542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29040" y="455760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838080" y="76320"/>
            <a:ext cx="8153640" cy="761760"/>
            <a:chOff x="838080" y="76320"/>
            <a:chExt cx="8153640" cy="761760"/>
          </a:xfrm>
        </p:grpSpPr>
        <p:sp>
          <p:nvSpPr>
            <p:cNvPr id="277" name=""/>
            <p:cNvSpPr/>
            <p:nvPr/>
          </p:nvSpPr>
          <p:spPr>
            <a:xfrm>
              <a:off x="8248680" y="76320"/>
              <a:ext cx="743040" cy="299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8080" y="228600"/>
              <a:ext cx="7213680" cy="6094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BEFEKTETETT ESZKÖZÖ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04920" y="1295280"/>
            <a:ext cx="3733560" cy="3386520"/>
            <a:chOff x="304920" y="1295280"/>
            <a:chExt cx="3733560" cy="3386520"/>
          </a:xfrm>
        </p:grpSpPr>
        <p:sp>
          <p:nvSpPr>
            <p:cNvPr id="280" name=""/>
            <p:cNvSpPr/>
            <p:nvPr/>
          </p:nvSpPr>
          <p:spPr>
            <a:xfrm>
              <a:off x="457200" y="1906560"/>
              <a:ext cx="350532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Befektetett eszközként OLYAN ESZKÖZT szabad kimutatni, amelynek az   a rendeltetése, hogy A TEVÉKENYSÉGET, A MŰKÖDÉST TARTÓSAN, LEGALÁBB EGY ÉVEN  TÚL SZOLGÁLJ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4920" y="1295280"/>
              <a:ext cx="373356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FOG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419720" y="1295280"/>
            <a:ext cx="4572000" cy="3276720"/>
            <a:chOff x="4419720" y="1295280"/>
            <a:chExt cx="4572000" cy="3276720"/>
          </a:xfrm>
        </p:grpSpPr>
        <p:grpSp>
          <p:nvGrpSpPr>
            <p:cNvPr id="283" name=""/>
            <p:cNvGrpSpPr/>
            <p:nvPr/>
          </p:nvGrpSpPr>
          <p:grpSpPr>
            <a:xfrm>
              <a:off x="4419720" y="1295280"/>
              <a:ext cx="4572000" cy="2120400"/>
              <a:chOff x="4419720" y="1295280"/>
              <a:chExt cx="4572000" cy="2120400"/>
            </a:xfrm>
          </p:grpSpPr>
          <p:sp>
            <p:nvSpPr>
              <p:cNvPr id="284" name=""/>
              <p:cNvSpPr/>
              <p:nvPr/>
            </p:nvSpPr>
            <p:spPr>
              <a:xfrm>
                <a:off x="4876920" y="1295280"/>
                <a:ext cx="3809880" cy="381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Bookman Old Style"/>
                  </a:rPr>
                  <a:t>CSOPORTOSÍTÁ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419720" y="1981080"/>
                <a:ext cx="457200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 algn="just">
                  <a:lnSpc>
                    <a:spcPct val="11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IMMATERIÁLIS JAVA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1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TÁRGYI ESZKÖZÖ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1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BEFEKTETETT PÉNZÜGYI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ESZKÖZÖ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4495680" y="1295280"/>
              <a:ext cx="0" cy="327672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990720" y="157320"/>
            <a:ext cx="8001000" cy="757080"/>
            <a:chOff x="990720" y="157320"/>
            <a:chExt cx="8001000" cy="757080"/>
          </a:xfrm>
        </p:grpSpPr>
        <p:sp>
          <p:nvSpPr>
            <p:cNvPr id="288" name=""/>
            <p:cNvSpPr/>
            <p:nvPr/>
          </p:nvSpPr>
          <p:spPr>
            <a:xfrm>
              <a:off x="8248680" y="157320"/>
              <a:ext cx="743040" cy="299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-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90720" y="380880"/>
              <a:ext cx="7213320" cy="53352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Z IMMATERIÁLIS JAVA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6320" y="1295280"/>
            <a:ext cx="4495680" cy="3371760"/>
            <a:chOff x="76320" y="1295280"/>
            <a:chExt cx="4495680" cy="3371760"/>
          </a:xfrm>
        </p:grpSpPr>
        <p:sp>
          <p:nvSpPr>
            <p:cNvPr id="291" name=""/>
            <p:cNvSpPr/>
            <p:nvPr/>
          </p:nvSpPr>
          <p:spPr>
            <a:xfrm>
              <a:off x="76320" y="1523880"/>
              <a:ext cx="449568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Immateriális jószágként azokat a nem anyagi eszközöket kell kimutatni, amelyek tartósan, legalább egy éven túl szolgálják a vállalkozási tevékenysége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Bookman Old Style"/>
                </a:rPr>
                <a:t>Az immateriális javak között ki-mutatható az alapítás, átszerve-zés és a kísérleti fejlesztés akti-vált értéke i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2280" y="1295280"/>
              <a:ext cx="41148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FOG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648320" y="1295280"/>
            <a:ext cx="4572000" cy="4591440"/>
            <a:chOff x="4648320" y="1295280"/>
            <a:chExt cx="4572000" cy="4591440"/>
          </a:xfrm>
        </p:grpSpPr>
        <p:grpSp>
          <p:nvGrpSpPr>
            <p:cNvPr id="294" name=""/>
            <p:cNvGrpSpPr/>
            <p:nvPr/>
          </p:nvGrpSpPr>
          <p:grpSpPr>
            <a:xfrm>
              <a:off x="4876920" y="1295280"/>
              <a:ext cx="4343400" cy="4591440"/>
              <a:chOff x="4876920" y="1295280"/>
              <a:chExt cx="4343400" cy="4591440"/>
            </a:xfrm>
          </p:grpSpPr>
          <p:sp>
            <p:nvSpPr>
              <p:cNvPr id="295" name=""/>
              <p:cNvSpPr/>
              <p:nvPr/>
            </p:nvSpPr>
            <p:spPr>
              <a:xfrm>
                <a:off x="4876920" y="1295280"/>
                <a:ext cx="4038480" cy="381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Bookman Old Style"/>
                  </a:rPr>
                  <a:t>CSOPORTOSÍTÁ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76920" y="1828800"/>
                <a:ext cx="4343400" cy="405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LAPÍTÁS, ÁTSZERVEZÉ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KTIVÁLT  ÉRTÉK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KÍSÉRLETI FEJLESZTÉ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KTIVÁLT ÉRTÉK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VAGYONI ÉRTÉKŰ JOGOK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melyek nem kapcsolódna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ingatlanho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SZELLEMI TERMÉKE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ÜZLETI VAGY CÉGÉRTÉ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IMMATERIÁLIS JAVAKRA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DOTT ELŐLE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Bookman Old Style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IMMATERIÁLIS JAVAK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ÉRTÉKHELYESBÍTÉ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4648320" y="1371600"/>
              <a:ext cx="0" cy="449568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914400" y="76320"/>
            <a:ext cx="8077320" cy="838080"/>
            <a:chOff x="914400" y="76320"/>
            <a:chExt cx="8077320" cy="838080"/>
          </a:xfrm>
        </p:grpSpPr>
        <p:sp>
          <p:nvSpPr>
            <p:cNvPr id="299" name=""/>
            <p:cNvSpPr/>
            <p:nvPr/>
          </p:nvSpPr>
          <p:spPr>
            <a:xfrm>
              <a:off x="8248680" y="76320"/>
              <a:ext cx="743040" cy="299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-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14400" y="304920"/>
              <a:ext cx="7213680" cy="60948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ÁRGYI ESZKÖZÖ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52280" y="1295280"/>
            <a:ext cx="4191120" cy="2746080"/>
            <a:chOff x="152280" y="1295280"/>
            <a:chExt cx="4191120" cy="2746080"/>
          </a:xfrm>
        </p:grpSpPr>
        <p:sp>
          <p:nvSpPr>
            <p:cNvPr id="302" name=""/>
            <p:cNvSpPr/>
            <p:nvPr/>
          </p:nvSpPr>
          <p:spPr>
            <a:xfrm>
              <a:off x="152280" y="1812960"/>
              <a:ext cx="419112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Olyan tárgyiasult (dologi) esz-közök, amelyek a vállalkozási tevékenységet közvetlenül vagy közvetetten, tartósan szolgálják, függetlenül attól, hogy üzembe helyezésre kerültek-e vagy se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2280" y="1295280"/>
              <a:ext cx="41148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FOGAL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419720" y="1295280"/>
            <a:ext cx="4647960" cy="3962520"/>
            <a:chOff x="4419720" y="1295280"/>
            <a:chExt cx="4647960" cy="3962520"/>
          </a:xfrm>
        </p:grpSpPr>
        <p:sp>
          <p:nvSpPr>
            <p:cNvPr id="305" name=""/>
            <p:cNvSpPr/>
            <p:nvPr/>
          </p:nvSpPr>
          <p:spPr>
            <a:xfrm>
              <a:off x="4572000" y="1801800"/>
              <a:ext cx="449568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Ingatlanok és a kapcsolódó vagyoni értékű jogo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Műszaki berendezések, gépek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járműv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Egyéb berendezések, felszerelések, járműv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enyészállato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Beruházások, felújításo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Beruházásra adott előleg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Tárgyi eszközök értékhelyesbíté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48320" y="1295280"/>
              <a:ext cx="426708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Bookman Old Style"/>
                </a:rPr>
                <a:t>CSOPORTOSÍTÁ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19720" y="1371600"/>
              <a:ext cx="0" cy="388620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0880" y="1768320"/>
            <a:ext cx="3962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ZOK AZ ESZKÖZÖK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részesedé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értékpapí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dott kölcsön -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melyeket a vállalkozó AZZAL A CÉLLAL FEKTETETT BE MÁS VÁLLALKOZÓNÁL, hogy ott TARTÓS JÖVEDELEM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osztalékra, részesedésre, 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kamatra tegyen szer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befolyásolás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irányítás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llenőrzési lehetőséget ér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419720" y="1752480"/>
            <a:ext cx="4572000" cy="4267440"/>
            <a:chOff x="4419720" y="1752480"/>
            <a:chExt cx="4572000" cy="4267440"/>
          </a:xfrm>
        </p:grpSpPr>
        <p:sp>
          <p:nvSpPr>
            <p:cNvPr id="310" name=""/>
            <p:cNvSpPr/>
            <p:nvPr/>
          </p:nvSpPr>
          <p:spPr>
            <a:xfrm>
              <a:off x="4419720" y="1752480"/>
              <a:ext cx="4572000" cy="22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forgatási célból, átmeneti, nem tartós befektetésként vásáro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hitelviszonyt megtestesítő értékpapíro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tulajdoni részesedést jelentő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efektetése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00600" y="1905120"/>
              <a:ext cx="0" cy="4114800"/>
            </a:xfrm>
            <a:prstGeom prst="line">
              <a:avLst/>
            </a:prstGeom>
            <a:ln w="1260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28600" y="76320"/>
            <a:ext cx="8839080" cy="1523880"/>
            <a:chOff x="228600" y="76320"/>
            <a:chExt cx="8839080" cy="1523880"/>
          </a:xfrm>
        </p:grpSpPr>
        <p:sp>
          <p:nvSpPr>
            <p:cNvPr id="313" name=""/>
            <p:cNvSpPr/>
            <p:nvPr/>
          </p:nvSpPr>
          <p:spPr>
            <a:xfrm>
              <a:off x="8381880" y="76320"/>
              <a:ext cx="685800" cy="299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-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8600" y="533520"/>
              <a:ext cx="4572000" cy="53316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EFEKTETETT PÉNZÜGYI ESZKÖZÖ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86200" y="1219320"/>
              <a:ext cx="1828800" cy="3808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FOGAL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29200" y="533520"/>
              <a:ext cx="3809880" cy="53316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ÉRTÉKPAPÍR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 ELLENÖRZŐ KÉRDÉSE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IZSGÁRA FELKÉSZÍTŐ KÉRDÉS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szközök, forráso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befektetett eszközök tulajdonságai, csoportj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immateriális jav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árgyi eszközö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befektetett pénzügyi eszközö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6:00:57Z</dcterms:created>
  <dc:creator>tamas</dc:creator>
  <dc:description/>
  <dc:language>en-US</dc:language>
  <cp:lastModifiedBy>Bács Zoltán</cp:lastModifiedBy>
  <dcterms:modified xsi:type="dcterms:W3CDTF">2008-08-31T07:34:17Z</dcterms:modified>
  <cp:revision>56</cp:revision>
  <dc:subject/>
  <dc:title>1. dia</dc:title>
</cp:coreProperties>
</file>