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BFA3-0CB4-47E2-8938-5FFAC8F7012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F1412-8B50-4846-88D3-5A603C7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0DA4-A3C8-436F-8EC0-2C4403F6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076B-A93A-4E50-BFC1-F566558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C765-E963-4675-ABA2-3FCCEE19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1689-2B16-4F28-B9FB-D18735E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E271-6EF3-4EB3-A444-02CFFEE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526E-CC25-40BD-A65F-1071FEA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98C1-35B6-46AC-A83C-CA21E103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2E3C9-30A7-4C32-B72E-5D899C5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C46D-3321-42BD-ABF6-DB972112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BB05-1438-4A36-9A92-A8F7C164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79AD7-1CA3-4AFD-9A53-1CAF076C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A26-12A6-4B90-BA16-560A2B28C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1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219320" y="96840"/>
            <a:ext cx="7823160" cy="646200"/>
            <a:chOff x="1219320" y="96840"/>
            <a:chExt cx="7823160" cy="646200"/>
          </a:xfrm>
        </p:grpSpPr>
        <p:sp>
          <p:nvSpPr>
            <p:cNvPr id="181" name=""/>
            <p:cNvSpPr/>
            <p:nvPr/>
          </p:nvSpPr>
          <p:spPr>
            <a:xfrm>
              <a:off x="8305920" y="96840"/>
              <a:ext cx="736560" cy="28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152280"/>
              <a:ext cx="6603840" cy="590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SZERKEZ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5680" y="1219320"/>
            <a:ext cx="4572000" cy="5087880"/>
            <a:chOff x="4495680" y="1219320"/>
            <a:chExt cx="4572000" cy="5087880"/>
          </a:xfrm>
        </p:grpSpPr>
        <p:sp>
          <p:nvSpPr>
            <p:cNvPr id="184" name=""/>
            <p:cNvSpPr/>
            <p:nvPr/>
          </p:nvSpPr>
          <p:spPr>
            <a:xfrm>
              <a:off x="4648320" y="1774800"/>
              <a:ext cx="4419360" cy="45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D.  SAJÁT TŐ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.   Jegyzett tő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I.  Jegyzett, de még be nem fizetett tőke (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II. Tőketartal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V.  Eredménytartal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.   Lekötött tartal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I.  Értékelési tartal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II. Mérleg szerinti eredmé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.  CÉLTARTALÉK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.  KÖTELEZET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.   Hátrasorolt kötelezet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I.  Hosszú lejáratú kötelezet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II. Rövid lejáratú kötelezet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.  PASSZÍV IDŐBELI ELHA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OL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Forráso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1295280"/>
              <a:ext cx="0" cy="46483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8320" y="1219320"/>
              <a:ext cx="40384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RRÁSOK (PASSZÍVÁK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280" y="1219320"/>
            <a:ext cx="4496040" cy="4038120"/>
            <a:chOff x="152280" y="1219320"/>
            <a:chExt cx="4496040" cy="4038120"/>
          </a:xfrm>
        </p:grpSpPr>
        <p:sp>
          <p:nvSpPr>
            <p:cNvPr id="188" name=""/>
            <p:cNvSpPr/>
            <p:nvPr/>
          </p:nvSpPr>
          <p:spPr>
            <a:xfrm>
              <a:off x="152280" y="1704960"/>
              <a:ext cx="4496040" cy="35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. BEFEKTETETT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.   Immateriális jav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I.  Tárgyi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II. Befektetett pénzügyi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. FORGÓ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.   Készlet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I.  Követelé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II. Értékpapír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V. Pénz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C. AKTÍV IDŐBELI ELHA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ROL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Eszközö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1219320"/>
              <a:ext cx="4038840" cy="456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ESZKÖZÖK (AKTÍVÁK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320" y="1295280"/>
            <a:ext cx="441936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könyvek üzleti év végi zárásához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beszámoló elkészítéséhez, a mé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leg tételeinek alátámasztásáho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olyan LELTÁRT KELL ÖSSZEÁLLÍ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ANI, és a számviteli törvény elő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írása szerint megőrizni, AME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ÉTELESEN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ELLENŐRIZHETŐ MÓD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ARTALMAZZ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(az árukészleteit az üzleti évben csak értékben nyilvántartó vállalkozó ki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vételével) a vállalkozásnak a mér-legfordulónapján meglévő ESZKÖ-ZEIT ÉS FORRÁSAI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mennyiségben 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értékbe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22320" y="133200"/>
            <a:ext cx="8069400" cy="690840"/>
            <a:chOff x="922320" y="133200"/>
            <a:chExt cx="8069400" cy="690840"/>
          </a:xfrm>
        </p:grpSpPr>
        <p:sp>
          <p:nvSpPr>
            <p:cNvPr id="192" name=""/>
            <p:cNvSpPr/>
            <p:nvPr/>
          </p:nvSpPr>
          <p:spPr>
            <a:xfrm>
              <a:off x="8273880" y="133200"/>
              <a:ext cx="717840" cy="32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22320" y="228600"/>
              <a:ext cx="7078680" cy="5954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TÉTELEK ALÁTÁMASZTÁSA LELTÁR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95680" y="1251000"/>
            <a:ext cx="464832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Ha a vállalkozó MENNYISÉGI NYIL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VÁNTARTÁST NEM VEZET, akk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KÖTELEZŐ A LELTÁROZÁS, az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eszközök MENNYISÉGI FELVÉ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ELÉVEL, 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CSAK ÉRTÉKBEN KIMUTATOT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eszközöknél és kötelezettségek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nél, valamint az idegen hely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árolt (LETÉTBEHELYEZET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tb.) értékpapíroknál, egyéb 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(pénzeszközök közé nem tartozó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eszközöknél, dematerializált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értékpapíroknál egyeztetéss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z ÁRUKÉSZLETEIT az üzleti évb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csak értékben nyilvántartó vállalkoz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mérlegfordulónap előtti, vagy az az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követő negyedévben is ellenőrizhet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ételes leltározással a értékbeni nyil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vántartás adatai helyességé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különbséggel a lezárt üzleti év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eredményét kell módosítan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1371600"/>
            <a:ext cx="0" cy="51055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1295280"/>
            <a:ext cx="4267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I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Értékesítés nettó árbevéte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Bookman Old Style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ktivált saját teljesítmény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érték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II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gyéb bevétel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bből: Visszaírt értékveszt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V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nyagjellegű ráfordít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V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zemélyi jellegű ráfordít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VI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Értékcsökkenési leírá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VII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gyéb ráfordít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bből: értékveszt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30400" y="114480"/>
            <a:ext cx="7861320" cy="895320"/>
            <a:chOff x="1130400" y="114480"/>
            <a:chExt cx="7861320" cy="895320"/>
          </a:xfrm>
        </p:grpSpPr>
        <p:sp>
          <p:nvSpPr>
            <p:cNvPr id="198" name=""/>
            <p:cNvSpPr/>
            <p:nvPr/>
          </p:nvSpPr>
          <p:spPr>
            <a:xfrm>
              <a:off x="8248680" y="114480"/>
              <a:ext cx="74304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0400" y="152280"/>
              <a:ext cx="6794280" cy="857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KIMUTATÁS SZERKEZ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ÖSSZKÖLTSÉG ELJÁRÁSS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27080" y="4038480"/>
            <a:ext cx="4064040" cy="495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Bookman Old Style"/>
              </a:rPr>
              <a:t>A.  ÜZEMI (ÜZLETI) TEVÉKENYSÉ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i="1" lang="en-US" sz="1600" spc="-1" strike="noStrike">
                <a:solidFill>
                  <a:srgbClr val="ff0000"/>
                </a:solidFill>
                <a:latin typeface="Bookman Old Style"/>
              </a:rPr>
              <a:t>EREDMÉNYE (I±II+III-IV-V-VI-V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1295280"/>
            <a:ext cx="4533480" cy="5562720"/>
            <a:chOff x="4495680" y="1295280"/>
            <a:chExt cx="4533480" cy="5562720"/>
          </a:xfrm>
        </p:grpSpPr>
        <p:sp>
          <p:nvSpPr>
            <p:cNvPr id="202" name=""/>
            <p:cNvSpPr/>
            <p:nvPr/>
          </p:nvSpPr>
          <p:spPr>
            <a:xfrm>
              <a:off x="4495680" y="1295280"/>
              <a:ext cx="43434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VIII. Pénzügyi műveletek bevétele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romanUcPeriod" startAt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Pénzügyi műveletek ráfordítása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5680" y="2952720"/>
              <a:ext cx="443880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X. RENDKÍVÜLI BEVÉTEL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XI.RENDKÍVÜLI RÁFORDÍTÁS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XII. ADÓFIZETÉSI KÖTELEZETTSÉ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1. Eredménytartalék igényb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  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vétele osztalékra, részesedés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2. Jóváhagyott osztalék, része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  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sed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95680" y="2666880"/>
              <a:ext cx="4191120" cy="45720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C. SZOKÁSOS VÁLLALKOZÁS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  (±A±B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495680" y="3733920"/>
              <a:ext cx="4533480" cy="1447200"/>
              <a:chOff x="4495680" y="3733920"/>
              <a:chExt cx="4533480" cy="1447200"/>
            </a:xfrm>
          </p:grpSpPr>
          <p:sp>
            <p:nvSpPr>
              <p:cNvPr id="206" name=""/>
              <p:cNvSpPr/>
              <p:nvPr/>
            </p:nvSpPr>
            <p:spPr>
              <a:xfrm>
                <a:off x="4515840" y="3733920"/>
                <a:ext cx="4513320" cy="32508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D. RENDKÍVÜLI EREDMÉNY  (X-XI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168800"/>
                <a:ext cx="4513320" cy="326520"/>
              </a:xfrm>
              <a:prstGeom prst="roundRect">
                <a:avLst>
                  <a:gd name="adj" fmla="val 1666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E. ADÓZÁS ELŐTTI EREDMÉNY  (±C±D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95680" y="4854600"/>
                <a:ext cx="4513320" cy="32652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F. ADÓZOTT EREDMÉNY  (±E-XII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6248520"/>
              <a:ext cx="44956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0000"/>
                  </a:solidFill>
                  <a:latin typeface="Bookman Old Style"/>
                </a:rPr>
                <a:t>G. MÉRLEG SZERINTI EREDMÉNY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0000"/>
                  </a:solidFill>
                  <a:latin typeface="Bookman Old Style"/>
                </a:rPr>
                <a:t>    </a:t>
              </a:r>
              <a:r>
                <a:rPr b="1" i="1" lang="en-US" sz="1700" spc="-1" strike="noStrike">
                  <a:solidFill>
                    <a:srgbClr val="ff0000"/>
                  </a:solidFill>
                  <a:latin typeface="Bookman Old Style"/>
                </a:rPr>
                <a:t>(±F+22-23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2133720"/>
              <a:ext cx="4191120" cy="457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B. PÉNZÜGYI MŰVELETE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E  (VIII-IX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4343400" y="1371240"/>
            <a:ext cx="0" cy="53341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133360" y="1294920"/>
            <a:ext cx="571500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ÁLTALÁNO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-28620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SPECIFIKU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2.1. Mérleghez kapcsolód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kiegészít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2.2. Eredménykimutatásho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kapcsolódó kiegészít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-28620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TÁJÉKOZTATÓ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-286200">
              <a:lnSpc>
                <a:spcPct val="140000"/>
              </a:lnSpc>
              <a:buClr>
                <a:srgbClr val="ffffff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CASH FLOW-KIMUT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6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hu-H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19320" y="135000"/>
            <a:ext cx="7772400" cy="931680"/>
            <a:chOff x="1219320" y="135000"/>
            <a:chExt cx="7772400" cy="931680"/>
          </a:xfrm>
        </p:grpSpPr>
        <p:sp>
          <p:nvSpPr>
            <p:cNvPr id="214" name=""/>
            <p:cNvSpPr/>
            <p:nvPr/>
          </p:nvSpPr>
          <p:spPr>
            <a:xfrm>
              <a:off x="8255160" y="135000"/>
              <a:ext cx="736560" cy="322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9320" y="344520"/>
              <a:ext cx="6705360" cy="722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IEGÉSZÍTŐ MELLÉKLET SZERKEZ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21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066680" y="122400"/>
            <a:ext cx="7917120" cy="725400"/>
            <a:chOff x="1066680" y="122400"/>
            <a:chExt cx="7917120" cy="725400"/>
          </a:xfrm>
        </p:grpSpPr>
        <p:sp>
          <p:nvSpPr>
            <p:cNvPr id="217" name=""/>
            <p:cNvSpPr/>
            <p:nvPr/>
          </p:nvSpPr>
          <p:spPr>
            <a:xfrm>
              <a:off x="8136000" y="122400"/>
              <a:ext cx="847800" cy="37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6680" y="247680"/>
              <a:ext cx="6797880" cy="6001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YILVÁNOSSÁGRA HOZATAL ÉS KÖZZÉTÉ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722840" y="4049640"/>
            <a:ext cx="4259160" cy="1238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IGAZSÁGÜGYI MINISZTÉRIUM CÉG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NYILVÁNTARTÁSI ÉS CÉGINFORMÁ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CIÓS SZOLGÁLATÁN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72080" y="1209600"/>
            <a:ext cx="4414680" cy="2811960"/>
            <a:chOff x="4672080" y="1209600"/>
            <a:chExt cx="4414680" cy="2811960"/>
          </a:xfrm>
        </p:grpSpPr>
        <p:sp>
          <p:nvSpPr>
            <p:cNvPr id="221" name=""/>
            <p:cNvSpPr/>
            <p:nvPr/>
          </p:nvSpPr>
          <p:spPr>
            <a:xfrm>
              <a:off x="4910040" y="1209600"/>
              <a:ext cx="3849840" cy="5223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ZZÉTÉ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72080" y="1815840"/>
              <a:ext cx="4414680" cy="22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INDEN KETTŐS KÖNYVVITELT VEZETŐ VÁLLALKOZÁS KÖTE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ESZÁMOLÓT KÖZZÉTENNI. E kötelezettségének azzal tesz eleget, ha a beszámolót – a letétbe helyezéssel egyidejűleg – megküldi 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1840" y="1251000"/>
            <a:ext cx="4230720" cy="4638600"/>
            <a:chOff x="231840" y="1251000"/>
            <a:chExt cx="4230720" cy="4638600"/>
          </a:xfrm>
        </p:grpSpPr>
        <p:sp>
          <p:nvSpPr>
            <p:cNvPr id="224" name=""/>
            <p:cNvSpPr/>
            <p:nvPr/>
          </p:nvSpPr>
          <p:spPr>
            <a:xfrm>
              <a:off x="231840" y="1870200"/>
              <a:ext cx="4230720" cy="40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CÉGJEGYZÉKBE BEJEGYZE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LALKOZÓ KÖTELES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jóváhagyot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vizsgálói záradékot is tartalmaz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SZÁMOLÓT, VALAMINT 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DÓZOTT EREDMÉNY FELHAS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ÁLÁSÁRA VONATKOZÓ HA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OZATOT AZ ADOTT ÜZLE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V MÉRLEGFORDULÓNAPJÁTÓ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ÍTOTT 150 NAPON BELÜL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ETÉT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ELYE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7840" y="1251000"/>
              <a:ext cx="3849480" cy="523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TÉTBE HELYEZ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3120" y="5343480"/>
              <a:ext cx="2468520" cy="3189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ÉGBÍRÓSÁGNÁ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14760" y="1333440"/>
            <a:ext cx="0" cy="451476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7360" y="1424160"/>
            <a:ext cx="45370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állalkozástól független könyv-vizsgáló feladata A MÉRLEG, ERED-MÉNYKIMUTATÁS, KIEGÉSZÍTŐ MELLÉ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lódiságán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abályszerűségé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számviteli törvé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társasági szerző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alapszabály) BETARTÁSÁN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LLENŐRZÉ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éves beszámoló véleményezé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mérleg hitelesítése HIT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ESÍTŐ ZÁRADÉKKAL VAL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LLÁT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17680" y="125280"/>
            <a:ext cx="7497720" cy="738360"/>
            <a:chOff x="1417680" y="125280"/>
            <a:chExt cx="7497720" cy="738360"/>
          </a:xfrm>
        </p:grpSpPr>
        <p:sp>
          <p:nvSpPr>
            <p:cNvPr id="230" name=""/>
            <p:cNvSpPr/>
            <p:nvPr/>
          </p:nvSpPr>
          <p:spPr>
            <a:xfrm>
              <a:off x="8204040" y="125280"/>
              <a:ext cx="71136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17680" y="231840"/>
              <a:ext cx="6170400" cy="631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IZSGÁL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97560" y="1419120"/>
            <a:ext cx="4572000" cy="4299120"/>
            <a:chOff x="4597560" y="1419120"/>
            <a:chExt cx="4572000" cy="4299120"/>
          </a:xfrm>
        </p:grpSpPr>
        <p:sp>
          <p:nvSpPr>
            <p:cNvPr id="233" name=""/>
            <p:cNvSpPr/>
            <p:nvPr/>
          </p:nvSpPr>
          <p:spPr>
            <a:xfrm>
              <a:off x="4788000" y="1419120"/>
              <a:ext cx="4381560" cy="37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könyvvizsgáló azt állapítja meg, hogy a beszámoló NEM F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EL MEG A SZÁMVITELI TÖR-VÉNY ÉS EGYÉB JOGSZABÁLYOK ELŐÍRÁSAINAK, VALAMINT A V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ÓDISÁGNAK, akkor a hitelesítő záradék helye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UTASÍTÓ, va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RLÁTOZO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ZÁRADÉKOT ad,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rlátozás, vagy a megtagadás okainak feltüntetésév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7560" y="1495440"/>
              <a:ext cx="0" cy="422280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60240" y="154080"/>
            <a:ext cx="8255160" cy="684000"/>
            <a:chOff x="660240" y="154080"/>
            <a:chExt cx="8255160" cy="684000"/>
          </a:xfrm>
        </p:grpSpPr>
        <p:sp>
          <p:nvSpPr>
            <p:cNvPr id="236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0240" y="324000"/>
              <a:ext cx="70437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VITELI SZOLGÁLTA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800600" y="1371600"/>
            <a:ext cx="4114800" cy="3753000"/>
            <a:chOff x="4800600" y="1371600"/>
            <a:chExt cx="4114800" cy="3753000"/>
          </a:xfrm>
        </p:grpSpPr>
        <p:sp>
          <p:nvSpPr>
            <p:cNvPr id="240" name=""/>
            <p:cNvSpPr/>
            <p:nvPr/>
          </p:nvSpPr>
          <p:spPr>
            <a:xfrm>
              <a:off x="4800600" y="1386000"/>
              <a:ext cx="3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2800" y="1371600"/>
              <a:ext cx="37926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törvény elő-írásainak megfelelően, a VÁLLALKOZÓ VAGYONI, PÉNZÜGYI HELYZETÉRŐL, MŰKÖDÉSÉNEK EREDMÉ-NYÉRŐL megbízható és valós összképet adó BESZÁ-MOLÓ KÉSZÍTŐINEK, illetve FELÜLVIZSGÁLÓINAK az ILYEN TEVÉKENYSÉG-RE JOGOSÍTÓ ENGEDÉLY-LYEL KELL RENDELKEZ-NIÜ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0" y="1368360"/>
            <a:ext cx="4876920" cy="4422240"/>
            <a:chOff x="0" y="1368360"/>
            <a:chExt cx="4876920" cy="4422240"/>
          </a:xfrm>
        </p:grpSpPr>
        <p:grpSp>
          <p:nvGrpSpPr>
            <p:cNvPr id="243" name=""/>
            <p:cNvGrpSpPr/>
            <p:nvPr/>
          </p:nvGrpSpPr>
          <p:grpSpPr>
            <a:xfrm>
              <a:off x="0" y="1368360"/>
              <a:ext cx="4876920" cy="4422240"/>
              <a:chOff x="0" y="1368360"/>
              <a:chExt cx="4876920" cy="44222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38276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" y="1368360"/>
                <a:ext cx="4496040" cy="442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Számviteli szolgáltatás a Szt.-ben, továbbá a kapcsolódó kormányrendeletekben előí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könyvvezetési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beszámolókészítés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kötelezettség teljesítése érdekében elvégzendő feladatok összessége, együtt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valamint 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80880" y="1371600"/>
              <a:ext cx="152424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480" y="4648320"/>
              <a:ext cx="3810240" cy="304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iteli szolgáltatá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80" y="5410080"/>
              <a:ext cx="388620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izsgálói tevékenysé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60240" y="154080"/>
            <a:ext cx="8255160" cy="684000"/>
            <a:chOff x="660240" y="154080"/>
            <a:chExt cx="8255160" cy="684000"/>
          </a:xfrm>
        </p:grpSpPr>
        <p:sp>
          <p:nvSpPr>
            <p:cNvPr id="250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240" y="324000"/>
              <a:ext cx="70437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OLGÁLTATÁSOK KÖRÉB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Ó TEVÉKENYSÉG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0" y="914400"/>
            <a:ext cx="4723920" cy="1820160"/>
            <a:chOff x="0" y="914400"/>
            <a:chExt cx="4723920" cy="1820160"/>
          </a:xfrm>
        </p:grpSpPr>
        <p:sp>
          <p:nvSpPr>
            <p:cNvPr id="253" name=""/>
            <p:cNvSpPr/>
            <p:nvPr/>
          </p:nvSpPr>
          <p:spPr>
            <a:xfrm>
              <a:off x="0" y="928800"/>
              <a:ext cx="37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0440" y="914400"/>
              <a:ext cx="4353480" cy="18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POLITIKA, a KÖNYVVITELI ELSZÁMOLÁS, a  BESZÁMOLÓKÉSZÍTÉS RENDSZERÉNEK, MÓDSZERÉNEK KIALAKÍTÁSÁVAL (ideértve a belső információs rendszer kialakítását is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24280" y="914400"/>
            <a:ext cx="0" cy="5715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2743200"/>
            <a:ext cx="4647960" cy="1573560"/>
            <a:chOff x="0" y="2743200"/>
            <a:chExt cx="4647960" cy="1573560"/>
          </a:xfrm>
        </p:grpSpPr>
        <p:sp>
          <p:nvSpPr>
            <p:cNvPr id="257" name=""/>
            <p:cNvSpPr/>
            <p:nvPr/>
          </p:nvSpPr>
          <p:spPr>
            <a:xfrm>
              <a:off x="0" y="2757600"/>
              <a:ext cx="362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2880" y="2743200"/>
              <a:ext cx="4285080" cy="15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ÁMLAREND, a könyvvezetéshez, a beszámolókészítéshez SZÜKSÉGES SZABÁLYZATOK EL-KÉSZÍTÉSÉVEL, rendszeres kar-bantartásával KAPCSOLATOS FELADATOK ELLÁT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8320" y="914400"/>
            <a:ext cx="4572000" cy="4399920"/>
            <a:chOff x="4648320" y="914400"/>
            <a:chExt cx="4572000" cy="4399920"/>
          </a:xfrm>
        </p:grpSpPr>
        <p:sp>
          <p:nvSpPr>
            <p:cNvPr id="260" name=""/>
            <p:cNvSpPr/>
            <p:nvPr/>
          </p:nvSpPr>
          <p:spPr>
            <a:xfrm>
              <a:off x="4648320" y="928800"/>
              <a:ext cx="3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914400"/>
              <a:ext cx="426744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AZ ELSZÁMOLÁSOK, A BE-SZÁMOLÓBAN SZEREPLŐ ADAT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JOGSZERŰSÉGÉN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ABÁLYSZERŰSÉGÉN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BÍZHATÓSÁGÁNA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IZONYLATOKKAL VALÓ AL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ÁMASZTOTTSÁGÁNAK,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VITELI ALAPELVEK KÖ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ETELMÉNYEI MEGTARTÁS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AK BIZTOSÍTÁSÁVAL, A VALÓSÁGNAK MEGFELELŐ BELSŐ ÉS KÜLSŐ INFORMÁCI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ŐÁLLÍTÁS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OLGÁLTAT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5410080"/>
            <a:ext cx="4876920" cy="1573560"/>
            <a:chOff x="0" y="5410080"/>
            <a:chExt cx="4876920" cy="1573560"/>
          </a:xfrm>
        </p:grpSpPr>
        <p:sp>
          <p:nvSpPr>
            <p:cNvPr id="263" name=""/>
            <p:cNvSpPr/>
            <p:nvPr/>
          </p:nvSpPr>
          <p:spPr>
            <a:xfrm>
              <a:off x="0" y="54244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880" y="5410080"/>
              <a:ext cx="4496040" cy="15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ESZÁMOLÓBAN, a könyvviteli nyilvántartásokban SZEREPLŐ ADATOK ELEMZÉSE, a GAZDASÁGI DÖNTÉSEKET MEGALAPOZÓ KÖVETKEZTETÉSEK LEVON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0" y="4343400"/>
            <a:ext cx="4876920" cy="1080360"/>
            <a:chOff x="0" y="4343400"/>
            <a:chExt cx="4876920" cy="1080360"/>
          </a:xfrm>
        </p:grpSpPr>
        <p:sp>
          <p:nvSpPr>
            <p:cNvPr id="266" name=""/>
            <p:cNvSpPr/>
            <p:nvPr/>
          </p:nvSpPr>
          <p:spPr>
            <a:xfrm>
              <a:off x="0" y="435744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80" y="4343400"/>
              <a:ext cx="44960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FŐKÖNYVI NYILVÁNTARTÁSOK VEZETÉSE, az összesítő feladatok készítése, a BESZÁMOLÓ ÖSSZE-ÁLLÍT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7200" y="154080"/>
            <a:ext cx="8458200" cy="684000"/>
            <a:chOff x="457200" y="154080"/>
            <a:chExt cx="8458200" cy="684000"/>
          </a:xfrm>
        </p:grpSpPr>
        <p:sp>
          <p:nvSpPr>
            <p:cNvPr id="269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324000"/>
              <a:ext cx="724680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OLGÁLTATÁSOK MEGOLDÁSÁN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HETŐSÉGE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9720" y="1219320"/>
            <a:ext cx="4647600" cy="2440080"/>
            <a:chOff x="4419720" y="1219320"/>
            <a:chExt cx="4647600" cy="2440080"/>
          </a:xfrm>
        </p:grpSpPr>
        <p:sp>
          <p:nvSpPr>
            <p:cNvPr id="272" name=""/>
            <p:cNvSpPr/>
            <p:nvPr/>
          </p:nvSpPr>
          <p:spPr>
            <a:xfrm>
              <a:off x="4419720" y="1233720"/>
              <a:ext cx="362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2600" y="1219320"/>
              <a:ext cx="428472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VÁLLALKOZÓ a könyvviteli szolgáltatások megoldásával OLYAN TÁRSASÁGOT is MEGBÍZHAT, amelynek a fela-dat elvégzésével megbízott tagja, alkalmazottja rendelke-zik a szükséges képesítésse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0" y="1246320"/>
            <a:ext cx="4495680" cy="5383080"/>
            <a:chOff x="0" y="1246320"/>
            <a:chExt cx="4495680" cy="5383080"/>
          </a:xfrm>
        </p:grpSpPr>
        <p:grpSp>
          <p:nvGrpSpPr>
            <p:cNvPr id="275" name=""/>
            <p:cNvGrpSpPr/>
            <p:nvPr/>
          </p:nvGrpSpPr>
          <p:grpSpPr>
            <a:xfrm>
              <a:off x="0" y="1246320"/>
              <a:ext cx="4495320" cy="4909680"/>
              <a:chOff x="0" y="1246320"/>
              <a:chExt cx="4495320" cy="490968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1262520"/>
                <a:ext cx="35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2440" y="1246320"/>
                <a:ext cx="4142880" cy="49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VÁLLAKOZÓNÁL A KÖNYV-VITELI SZOLGÁLTATÁSOK KÖRÉBE TARTOZÓ FELADA-TO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RÁNYÍTÁSÁT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EZETÉSÉT, a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ÉVES BESZÁMOLÓ EL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ÉSZÍTÉSÉ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a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RENDELKEZŐ természetes személy köteles végezn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kalmazottként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agként, va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egyéni vállalkozókén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495680" y="1295280"/>
              <a:ext cx="0" cy="53341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" y="365760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kleveles könyvvizsgáló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4191120"/>
              <a:ext cx="342900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képes könyvel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pesítés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2276640"/>
            <a:ext cx="8231040" cy="236196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80000"/>
              </a:lnSpc>
              <a:buClr>
                <a:srgbClr val="ffffff"/>
              </a:buClr>
              <a:buFont typeface="Bookman Old Style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BESZÁMOLÁSI ÉS KÖNYVVEZETÉSI KÖTELEZETTSÉG,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ZÁMVITELI SZOLGÁLTATÁ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számviteli törvény,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számviteli alapelv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320" y="154080"/>
            <a:ext cx="8839080" cy="836640"/>
            <a:chOff x="76320" y="154080"/>
            <a:chExt cx="8839080" cy="836640"/>
          </a:xfrm>
        </p:grpSpPr>
        <p:sp>
          <p:nvSpPr>
            <p:cNvPr id="10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320" y="604800"/>
              <a:ext cx="4419360" cy="3859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SZÁMOLÁSI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1143000"/>
            <a:ext cx="4419720" cy="4952880"/>
            <a:chOff x="228600" y="1143000"/>
            <a:chExt cx="4419720" cy="4952880"/>
          </a:xfrm>
        </p:grpSpPr>
        <p:sp>
          <p:nvSpPr>
            <p:cNvPr id="104" name=""/>
            <p:cNvSpPr/>
            <p:nvPr/>
          </p:nvSpPr>
          <p:spPr>
            <a:xfrm>
              <a:off x="4648320" y="1143000"/>
              <a:ext cx="0" cy="49528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219320"/>
              <a:ext cx="4237200" cy="20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ÁLKODÓ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ŰKÖDÉSÉRŐL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AGYONI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NZÜGYI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JÖVEDELMI HELYZETÉRŐL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350532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ÜZLETI ÉV KÖNYVEINEK LEZÁRÁSÁT KÖVETŐEN, KÖNYVVEZETÉSSEL ALÁTÁ-MASZTOTT BESZÁMOLÓT KÖ-TELES – MAGYAR NYELVEN – KÉSZÍTEN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16360" y="609480"/>
            <a:ext cx="4427640" cy="2012040"/>
            <a:chOff x="4716360" y="609480"/>
            <a:chExt cx="4427640" cy="2012040"/>
          </a:xfrm>
        </p:grpSpPr>
        <p:sp>
          <p:nvSpPr>
            <p:cNvPr id="108" name=""/>
            <p:cNvSpPr/>
            <p:nvPr/>
          </p:nvSpPr>
          <p:spPr>
            <a:xfrm>
              <a:off x="4716360" y="609480"/>
              <a:ext cx="4199040" cy="381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SZÁMOLÓ 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1295280"/>
              <a:ext cx="4343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KIMUTA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IEGÉSZÍTŐ MELLÉK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00600" y="2971800"/>
            <a:ext cx="4114800" cy="2136240"/>
            <a:chOff x="4800600" y="2971800"/>
            <a:chExt cx="4114800" cy="2136240"/>
          </a:xfrm>
        </p:grpSpPr>
        <p:sp>
          <p:nvSpPr>
            <p:cNvPr id="111" name=""/>
            <p:cNvSpPr/>
            <p:nvPr/>
          </p:nvSpPr>
          <p:spPr>
            <a:xfrm>
              <a:off x="4869000" y="2971800"/>
              <a:ext cx="2217600" cy="380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ELELŐS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0600" y="3489480"/>
              <a:ext cx="4114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et, az eredmény-kimutatást és a kiegészítő mellékletet A VÁLLALKOZÁS KÉPVISELETÉRE JOGOSULT SZEMÉLY KÖTELES ALÁÍRN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04920" y="160200"/>
            <a:ext cx="8638920" cy="982800"/>
            <a:chOff x="304920" y="160200"/>
            <a:chExt cx="8638920" cy="982800"/>
          </a:xfrm>
        </p:grpSpPr>
        <p:sp>
          <p:nvSpPr>
            <p:cNvPr id="114" name=""/>
            <p:cNvSpPr/>
            <p:nvPr/>
          </p:nvSpPr>
          <p:spPr>
            <a:xfrm>
              <a:off x="8147160" y="160200"/>
              <a:ext cx="796680" cy="29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609480"/>
              <a:ext cx="403848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EZETÉS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6320" y="3975120"/>
            <a:ext cx="5116320" cy="2580480"/>
            <a:chOff x="76320" y="3975120"/>
            <a:chExt cx="5116320" cy="2580480"/>
          </a:xfrm>
        </p:grpSpPr>
        <p:sp>
          <p:nvSpPr>
            <p:cNvPr id="117" name=""/>
            <p:cNvSpPr/>
            <p:nvPr/>
          </p:nvSpPr>
          <p:spPr>
            <a:xfrm>
              <a:off x="216000" y="3975120"/>
              <a:ext cx="2992320" cy="522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2640" y="4183200"/>
              <a:ext cx="4364280" cy="601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ETTŐS KÖNYVVITEL VA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ZERES KÖNYVVI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20" y="4937040"/>
              <a:ext cx="5116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ABÁLYAI SZER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LYAMATOS NYILVÁNTAR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ÁST VEZET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T AZ ÜZLETI ÉV VÉGÉV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ZÁRJ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0200" y="1276200"/>
            <a:ext cx="47926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KÖNYVVEZETÉS AZ A TEVÉ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ENYSÉG, AMELYNEK KERETÉ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BEN A GAZDÁLKODÓ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VAGYO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ÉNZÜGY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JÖVEDELMI HELYZETÉRE HAT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GAZDASÁGI ESEMÉNYEKRŐ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52880" y="609480"/>
            <a:ext cx="4191120" cy="5867640"/>
            <a:chOff x="4952880" y="609480"/>
            <a:chExt cx="4191120" cy="5867640"/>
          </a:xfrm>
        </p:grpSpPr>
        <p:sp>
          <p:nvSpPr>
            <p:cNvPr id="122" name=""/>
            <p:cNvSpPr/>
            <p:nvPr/>
          </p:nvSpPr>
          <p:spPr>
            <a:xfrm>
              <a:off x="5181480" y="609480"/>
              <a:ext cx="3741840" cy="533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ELELŐS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1295280"/>
              <a:ext cx="41148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számlarend összeállításáért, annak folyamatos kar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bantartásáér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könyvvezetés helyességéért a   GAZDÁLKODÓ KÉP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VISELETÉRE JOGOSUL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SZEMÉLY A FELELŐ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52880" y="121932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873000" y="146160"/>
            <a:ext cx="8080560" cy="890640"/>
            <a:chOff x="873000" y="146160"/>
            <a:chExt cx="8080560" cy="890640"/>
          </a:xfrm>
        </p:grpSpPr>
        <p:sp>
          <p:nvSpPr>
            <p:cNvPr id="126" name=""/>
            <p:cNvSpPr/>
            <p:nvPr/>
          </p:nvSpPr>
          <p:spPr>
            <a:xfrm>
              <a:off x="8271000" y="146160"/>
              <a:ext cx="6825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73000" y="385920"/>
              <a:ext cx="7324920" cy="6508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SZÁMOLÁSI ÉS KÖNYVVEZETÉSI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255920" y="5816520"/>
            <a:ext cx="45133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TÖBBSÉGI RÉSZESEDÉSE V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1360" y="5816520"/>
            <a:ext cx="1744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" y="5816520"/>
            <a:ext cx="1931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ÖSSZEV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(KONSZOLIDÁLT) ÉVES 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920" y="5178600"/>
            <a:ext cx="4513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en-US" sz="1500" spc="-1" strike="noStrike">
                <a:solidFill>
                  <a:srgbClr val="333399"/>
                </a:solidFill>
                <a:latin typeface="Bookman Old Style"/>
              </a:rPr>
              <a:t>NETTÓ ÁRBEVÉTEL</a:t>
            </a: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 KÉT EGYMÁST KÖVETŐ ÉVBEN </a:t>
            </a:r>
            <a:r>
              <a:rPr b="1" lang="en-US" sz="1500" spc="-1" strike="noStrike">
                <a:solidFill>
                  <a:srgbClr val="333399"/>
                </a:solidFill>
                <a:latin typeface="Bookman Old Style"/>
              </a:rPr>
              <a:t>NEM HALADJA MEG AZ 50 MILLIÓ Ft-O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1360" y="5178600"/>
            <a:ext cx="174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" y="5178600"/>
            <a:ext cx="1931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ŰSÍ-TETT 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5920" y="3602160"/>
            <a:ext cx="451332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ÉT EGYMÁST KÖVETŐ ÉVBEN A KÖVETKE-ZŐ HÁROM MUTATÓBÓL LEGALÁBB KETT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MÉRLEGFŐÖSSZEG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5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ÉVES NETTÓ ÁRBEVÉTEL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10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ÁTLAGOSAN FOGLALKO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TATOTTAK SZÁMA 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l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 50 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" y="3602160"/>
            <a:ext cx="1931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EGYSZERŰ-SÍTE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É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920" y="2050920"/>
            <a:ext cx="45133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ÉT EGYMÁST KÖVETŐ ÉVBEN A KÖVETKE-ZŐ HÁROM MUTATÓBÓL LEGALÁBB KETT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MÉRLEGFŐÖSSZEG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  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5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ÉVES NETTÓ ÁRBEVÉTEL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1000  M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ÁTLAGOSAN FOGLALKO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TATOTTAK SZÁMA            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&gt;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   50 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1360" y="2050920"/>
            <a:ext cx="17445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ETTŐ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" y="2050920"/>
            <a:ext cx="19317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É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55920" y="1450800"/>
            <a:ext cx="451332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A BESZÁMOLÓ FORMÁJ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MEGHATÁROZÓ TÉNYEZŐ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1360" y="1450800"/>
            <a:ext cx="174456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NYVVEZE-TÉSI KÖT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LEZET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" y="1450800"/>
            <a:ext cx="1931760" cy="60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BESZÁMOLÁ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KÖTELEZETTSÉG FORM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" y="1450800"/>
            <a:ext cx="8189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" y="205092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" y="360216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" y="517860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" y="5816520"/>
            <a:ext cx="818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" y="6416640"/>
            <a:ext cx="8189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" y="1450800"/>
            <a:ext cx="0" cy="496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1360" y="1450800"/>
            <a:ext cx="0" cy="496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55920" y="1450800"/>
            <a:ext cx="0" cy="496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9240" y="1450800"/>
            <a:ext cx="0" cy="4965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55920" y="3602160"/>
            <a:ext cx="451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54120" y="359568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143000"/>
            <a:ext cx="50292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SZÁMLAREND TARTALMA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Minden alkalmazásra kijelöl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zámla számlajelét és megnevezésé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a tartalmát, ha az a megne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vezésből nem egyértelm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a értéke növekedésének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csökkenésének jogcíme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át érintő gazdasági esemé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nyeket, azok más számlákkal való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kapcsolatá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főkönyvi számla és az analitiku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nyilvántartás kapcsolatá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arendben foglaltakat alátá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masztó bizonylati rend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Z ANALITIKUS nyilvántartások és 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főkönyvi számlák értékadataina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ZÁMSZERŰ EGYEZTETÉSI LEHETŐ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ÉGÉT BIZTOSÍTANI KELL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27280" y="96840"/>
            <a:ext cx="7315200" cy="665280"/>
            <a:chOff x="1727280" y="96840"/>
            <a:chExt cx="7315200" cy="665280"/>
          </a:xfrm>
        </p:grpSpPr>
        <p:sp>
          <p:nvSpPr>
            <p:cNvPr id="156" name=""/>
            <p:cNvSpPr/>
            <p:nvPr/>
          </p:nvSpPr>
          <p:spPr>
            <a:xfrm>
              <a:off x="8229600" y="96840"/>
              <a:ext cx="812880" cy="28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27280" y="171360"/>
              <a:ext cx="5676840" cy="590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R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952880" y="1174680"/>
            <a:ext cx="426744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Z ÚJONNAN ALAKULÓ – kettő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könyvvitelt vezető – gazdálkod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ARENDET a megalaku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lás időpontjától számított 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NAPON belül köteles elkészíten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TÖRVÉNYMÓDOSÍTÁS esetén 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változásokat, annak hatályba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lépését követően 90 NAPON be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lül kell keresztülvezetn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A SZÁMLAREND ÖSSZEÁLLÍTÁ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SÁÉRT, annak folyamatos ka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bantartásáért, a naprakész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könyvvezetés helyességéért 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GAZDÁLKODÓ KÉPVISELETÉ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RE JOGOSULT SZEMÉLY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FELELŐ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1295280"/>
            <a:ext cx="0" cy="46483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371600" y="128520"/>
            <a:ext cx="7657920" cy="785520"/>
            <a:chOff x="1371600" y="128520"/>
            <a:chExt cx="7657920" cy="785520"/>
          </a:xfrm>
        </p:grpSpPr>
        <p:sp>
          <p:nvSpPr>
            <p:cNvPr id="161" name=""/>
            <p:cNvSpPr/>
            <p:nvPr/>
          </p:nvSpPr>
          <p:spPr>
            <a:xfrm>
              <a:off x="8267760" y="128520"/>
              <a:ext cx="761760" cy="37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80800"/>
              <a:ext cx="6743520" cy="6332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ÉVES BESZÁMOL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6320" y="1841400"/>
            <a:ext cx="4419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ettős könyvvitelt vezet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állalkozó AZ ÜZLETI ÉVRŐ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üzleti év utolsó napjáv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int MÉRLEGFORDULÓNAP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AL ÉVES BESZÁMOLÓ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gy – ha a számviteli törv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ehetővé teszi – egyszerűsít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éves beszámolót KÖTE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ÉSZÍTEN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824120"/>
            <a:ext cx="472428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 3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éves beszámolónak a vállalk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gyo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énzügyi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jövedelmi HELYZETÉRŐ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ok VÁLTOZÁSÁRÓL me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ízható, valós képet 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utat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1905120"/>
            <a:ext cx="0" cy="259056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09760"/>
            <a:ext cx="380988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Tartalmaznia 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minden eszköz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saját tők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céltartalékot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minden kötelezettsé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(figyelembe véve az idő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beli elhatárolások tét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leit 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28880" y="114480"/>
            <a:ext cx="7962840" cy="799920"/>
            <a:chOff x="1028880" y="114480"/>
            <a:chExt cx="7962840" cy="799920"/>
          </a:xfrm>
        </p:grpSpPr>
        <p:sp>
          <p:nvSpPr>
            <p:cNvPr id="168" name=""/>
            <p:cNvSpPr/>
            <p:nvPr/>
          </p:nvSpPr>
          <p:spPr>
            <a:xfrm>
              <a:off x="8381880" y="114480"/>
              <a:ext cx="609840" cy="26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8880" y="304920"/>
              <a:ext cx="721332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ÉVES BESZÁMOLÓ 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514600" y="4257720"/>
            <a:ext cx="51814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LAMINT azokat az adatokat, szöve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oklásokat, amelyek a vállalkozó való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gyo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énzügyi helyzeté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űködése eredményén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emutatásához szükséges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03280"/>
            <a:ext cx="441936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OVÁBB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időszak bevételeit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áfordítás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adózott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mérleg szerinti eredmény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1523880"/>
            <a:ext cx="0" cy="24386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98680" y="1447920"/>
            <a:ext cx="5892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MÉRLE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28880" y="114480"/>
            <a:ext cx="7962840" cy="876240"/>
            <a:chOff x="1028880" y="114480"/>
            <a:chExt cx="7962840" cy="876240"/>
          </a:xfrm>
        </p:grpSpPr>
        <p:sp>
          <p:nvSpPr>
            <p:cNvPr id="175" name=""/>
            <p:cNvSpPr/>
            <p:nvPr/>
          </p:nvSpPr>
          <p:spPr>
            <a:xfrm>
              <a:off x="8280360" y="114480"/>
              <a:ext cx="711360" cy="26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1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28880" y="380880"/>
              <a:ext cx="6972120" cy="609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ÉVES BESZÁMOLÓ RÉSZE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23880" y="3048120"/>
            <a:ext cx="6172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z éves beszámolónak nem része,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zzal egyidejűleg ÜZLETI JELENTÉ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is kell készíte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905120"/>
            <a:ext cx="6096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EREDMÉNYKIMUTAT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362320"/>
            <a:ext cx="6096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IEGÉSZÍTŐ MELLÉK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2:56Z</dcterms:modified>
  <cp:revision>60</cp:revision>
  <dc:subject/>
  <dc:title>1. dia</dc:title>
</cp:coreProperties>
</file>