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FCF5-4AD4-4505-A4ED-F3A5C441C0D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 források citációs  formája: Szerző (évszám): publikáció címe. megjelenés helye. Kiadó. Evf. Szam. Oldalszá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onlapok URL cí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öbb összefüggő előadás vagy gyakorlat esetében az egymásra épülést itt lehet megadn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tt kell megadni ha a következő előadás vagy gyakorlat megértéséhez  milyen más tárgyak ismeretére van szüksé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FE67A-82E5-48D1-8424-62E114DB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060F1-D6FC-44E8-BF75-480F5242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F7663-CD09-463E-8CBD-EBACF8DC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E242A-41D7-41FC-9EC7-8538FF9D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D1F5A-7553-4697-A05E-26B808DB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41AEE-90C4-4DEA-975C-3261443A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C0165-4F5F-4321-AFDC-40C3CDC2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DCB3A-AA57-4C27-BF94-86E010AE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696CA-9338-4D9C-B7A7-58357B41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DBD95-7757-4F70-8E1A-F847CD47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75E22-AF54-41E5-BA87-56E7EF3C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78B9C-06AF-4E02-BDE6-81EBC2D4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76720" y="6381360"/>
            <a:ext cx="2266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FOP 3.3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7c7c">
                  <a:alpha val="86274"/>
                </a:srgbClr>
              </a:gs>
              <a:gs pos="100000">
                <a:srgbClr val="009999">
                  <a:alpha val="2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3D54-3412-4B5E-ADBB-B755201EC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986360"/>
            <a:ext cx="1776240" cy="18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308720" y="0"/>
            <a:ext cx="1617840" cy="1700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378560" y="5084640"/>
            <a:ext cx="1535400" cy="156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20160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067280" y="189000"/>
            <a:ext cx="731880" cy="1844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859280" y="549360"/>
            <a:ext cx="223200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132000" y="5373720"/>
            <a:ext cx="30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38160">
                  <a:solidFill>
                    <a:srgbClr val="99ccff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HEFOP - 3.3.1.</a:t>
            </a:r>
            <a:endParaRPr b="1" lang="en-US" sz="1400" spc="1" strike="noStrike">
              <a:ln w="38160">
                <a:solidFill>
                  <a:srgbClr val="99ccff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0"/>
          <a:ext cx="1763640" cy="17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176364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ZÁMVITEL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8.h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269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8.2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SZÁMLAOSZTÁLYOK (CSOPORTOK) É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MÉRLEG KAPCSOL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28600" y="990720"/>
            <a:ext cx="8763120" cy="5277240"/>
            <a:chOff x="228600" y="990720"/>
            <a:chExt cx="8763120" cy="5277240"/>
          </a:xfrm>
        </p:grpSpPr>
        <p:sp>
          <p:nvSpPr>
            <p:cNvPr id="272" name=""/>
            <p:cNvSpPr/>
            <p:nvPr/>
          </p:nvSpPr>
          <p:spPr>
            <a:xfrm flipV="1" rot="5400000">
              <a:off x="723960" y="495000"/>
              <a:ext cx="685440" cy="167652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-360 h 1676520"/>
                <a:gd name="textAreaBottom" fmla="*/ 167652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Bookman Old Style"/>
                </a:rPr>
                <a:t>Számlaosztály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Bookman Old Style"/>
                </a:rPr>
                <a:t>számlacso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Bookman Old Style"/>
                </a:rPr>
                <a:t>szá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1600200" y="1828800"/>
              <a:ext cx="6170760" cy="4439160"/>
              <a:chOff x="1600200" y="1828800"/>
              <a:chExt cx="6170760" cy="4439160"/>
            </a:xfrm>
          </p:grpSpPr>
          <p:sp>
            <p:nvSpPr>
              <p:cNvPr id="274" name=""/>
              <p:cNvSpPr/>
              <p:nvPr/>
            </p:nvSpPr>
            <p:spPr>
              <a:xfrm>
                <a:off x="4684680" y="1828800"/>
                <a:ext cx="0" cy="4439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600200" y="1828800"/>
                <a:ext cx="6170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1371600" y="1523880"/>
              <a:ext cx="68580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ktívák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     MÉRLEG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Passzívá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 rot="5400000">
              <a:off x="7810560" y="495000"/>
              <a:ext cx="685440" cy="167652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-360 h 1676520"/>
                <a:gd name="textAreaBottom" fmla="*/ 167652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Bookman Old Style"/>
                </a:rPr>
                <a:t>Számlaosztály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Bookman Old Style"/>
                </a:rPr>
                <a:t>számlacso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Bookman Old Style"/>
                </a:rPr>
                <a:t>szá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33520" y="2057400"/>
            <a:ext cx="4876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1.        </a:t>
            </a:r>
            <a:r>
              <a:rPr b="1" lang="en-US" sz="17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A.  BEFEKTETET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ESZKÖZÖ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2666880"/>
            <a:ext cx="4876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2-3.     </a:t>
            </a:r>
            <a:r>
              <a:rPr b="1" lang="en-US" sz="17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B.  FORGÓESZKÖZÖ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3048120"/>
            <a:ext cx="4876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2.        </a:t>
            </a:r>
            <a:r>
              <a:rPr b="1" lang="en-US" sz="17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  I.    KÉSZLET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3429000"/>
            <a:ext cx="4876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31-36. </a:t>
            </a:r>
            <a:r>
              <a:rPr b="1" lang="en-US" sz="17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  II.   KÖVETELÉS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3809880"/>
            <a:ext cx="4876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37.      </a:t>
            </a:r>
            <a:r>
              <a:rPr b="1" lang="en-US" sz="17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  III.  ÉRTÉKPAPÍRO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4875120"/>
            <a:ext cx="4876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39 .     </a:t>
            </a:r>
            <a:r>
              <a:rPr b="1" lang="en-US" sz="17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C.  AKTÍV IDŐBELI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ELHATÁROLÁSO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343400"/>
            <a:ext cx="4876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38.      </a:t>
            </a:r>
            <a:r>
              <a:rPr b="1" lang="en-US" sz="17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  IV.  PÉNZESZKÖZÖ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2057400"/>
            <a:ext cx="4038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D. SAJÁT TŐKE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Wingdings 3"/>
                <a:ea typeface="Wingdings 3"/>
              </a:rPr>
              <a:t>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41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2978280"/>
            <a:ext cx="4038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E. CÉLTARTALÉKOK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Wingdings 3"/>
                <a:ea typeface="Wingdings 3"/>
              </a:rPr>
              <a:t>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42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00600" y="3740040"/>
            <a:ext cx="4038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F. KÖTELEZETTSÉGEK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Wingdings 3"/>
                <a:ea typeface="Wingdings 3"/>
              </a:rPr>
              <a:t>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43-47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4876920"/>
            <a:ext cx="41148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G. PASSZÍV IDŐBELI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Wingdings 3"/>
                <a:ea typeface="Wingdings 3"/>
              </a:rPr>
              <a:t>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48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ELHATÁROLÁSO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220680" y="154080"/>
            <a:ext cx="8847000" cy="684000"/>
            <a:chOff x="220680" y="154080"/>
            <a:chExt cx="8847000" cy="684000"/>
          </a:xfrm>
        </p:grpSpPr>
        <p:sp>
          <p:nvSpPr>
            <p:cNvPr id="290" name=""/>
            <p:cNvSpPr/>
            <p:nvPr/>
          </p:nvSpPr>
          <p:spPr>
            <a:xfrm>
              <a:off x="8136000" y="154080"/>
              <a:ext cx="93168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8.2.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680" y="324000"/>
              <a:ext cx="785664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LAOSZTÁLYOK (CSOPORTOK) ÉS AZ ÖSSZKÖLTSÉ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LJÁRÁSSAL KÉSZÜLŐ EREDMÉNYKIMUTATÁS KAPCSOLATA 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28600" y="990000"/>
            <a:ext cx="6705720" cy="685800"/>
            <a:chOff x="228600" y="990000"/>
            <a:chExt cx="6705720" cy="685800"/>
          </a:xfrm>
        </p:grpSpPr>
        <p:sp>
          <p:nvSpPr>
            <p:cNvPr id="293" name=""/>
            <p:cNvSpPr/>
            <p:nvPr/>
          </p:nvSpPr>
          <p:spPr>
            <a:xfrm flipV="1" rot="5400000">
              <a:off x="914400" y="303840"/>
              <a:ext cx="685800" cy="20574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2057400"/>
                <a:gd name="textAreaBottom" fmla="*/ 205740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Számlaosztál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számlacso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szá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 rot="5400000">
              <a:off x="4533840" y="-724680"/>
              <a:ext cx="685800" cy="41148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360 h 4114800"/>
                <a:gd name="textAreaBottom" fmla="*/ 4115520 h 41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Az eredmény összetevő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5" name=""/>
          <p:cNvGraphicFramePr/>
          <p:nvPr/>
        </p:nvGraphicFramePr>
        <p:xfrm>
          <a:off x="304920" y="1797120"/>
          <a:ext cx="8458200" cy="4375080"/>
        </p:xfrm>
        <a:graphic>
          <a:graphicData uri="http://schemas.openxmlformats.org/drawingml/2006/table">
            <a:tbl>
              <a:tblPr/>
              <a:tblGrid>
                <a:gridCol w="1295280"/>
                <a:gridCol w="533520"/>
                <a:gridCol w="685800"/>
                <a:gridCol w="5943600"/>
              </a:tblGrid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1-9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RTÉKESÍTÉS NETTÓ ÁRBEVÉTE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KTIVÁLT SAJÁT TELJESÍTMÉNYEK ÉRTÉ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I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GYÉB BEVÉTEL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NYAGJELLEGŰ RÁFORDÍTÁS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EMÉLYI JELLEGŰ RÁFORDÍTÁS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RTÉKCSÖKKENÉSI LEÍR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I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GYÉB RÁFORDÍTÁS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ÜZEMI (ÜZLETI) TEVÉKENYSÉG EREDMÉN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220680" y="154080"/>
            <a:ext cx="8847000" cy="684000"/>
            <a:chOff x="220680" y="154080"/>
            <a:chExt cx="8847000" cy="684000"/>
          </a:xfrm>
        </p:grpSpPr>
        <p:sp>
          <p:nvSpPr>
            <p:cNvPr id="297" name=""/>
            <p:cNvSpPr/>
            <p:nvPr/>
          </p:nvSpPr>
          <p:spPr>
            <a:xfrm>
              <a:off x="8136000" y="154080"/>
              <a:ext cx="93168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8.2.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0680" y="324000"/>
              <a:ext cx="785664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LAOSZTÁLYOK (CSOPORTOK) ÉS AZ ÖSSZKÖLTSÉ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LJÁRÁSSAL KÉSZÜLŐ EREDMÉNYKIMUTATÁS KAPCSOLATA 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9" name=""/>
          <p:cNvGraphicFramePr/>
          <p:nvPr/>
        </p:nvGraphicFramePr>
        <p:xfrm>
          <a:off x="304920" y="1752480"/>
          <a:ext cx="8458200" cy="4961160"/>
        </p:xfrm>
        <a:graphic>
          <a:graphicData uri="http://schemas.openxmlformats.org/drawingml/2006/table">
            <a:tbl>
              <a:tblPr/>
              <a:tblGrid>
                <a:gridCol w="1295280"/>
                <a:gridCol w="533520"/>
                <a:gridCol w="761760"/>
                <a:gridCol w="5867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II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ÉNZÜGYI MŰVELETEK BEVÉTELE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X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ÉNZÜGYI MŰVELETEK RÁFORDÍTÁS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B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ÉNZÜGYI MŰVELETEK EREDMÉN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OKÁSOS VÁLLALKOZÁSI EREDMÉ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X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ENDKÍVÜLI BEVÉTEL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X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ENDKÍVÜLI RÁFORDÍTÁS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ENDKÍVÜLI EREDMÉ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DÓZÁS ELŐTTI EREDMÉ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XI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DÓFIZETÉSI KÖTELEZETTSÉ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DÓZOTT EREDMÉ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1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REDMÉNYTARTALÉK IGÉNYBEVÉTELE OSZTALÉKRA, RÉSZESEDÉS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JÓVÁHAGYOTT OSZTALÉK, RÉSZESED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1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Bookman Old Style"/>
                        </a:rPr>
                        <a:t>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Bookman Old Style"/>
                        </a:rPr>
                        <a:t>MÉRLEG SZERINTI EREDMÉ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pSp>
        <p:nvGrpSpPr>
          <p:cNvPr id="300" name=""/>
          <p:cNvGrpSpPr/>
          <p:nvPr/>
        </p:nvGrpSpPr>
        <p:grpSpPr>
          <a:xfrm>
            <a:off x="228600" y="990000"/>
            <a:ext cx="6705720" cy="685800"/>
            <a:chOff x="228600" y="990000"/>
            <a:chExt cx="6705720" cy="685800"/>
          </a:xfrm>
        </p:grpSpPr>
        <p:sp>
          <p:nvSpPr>
            <p:cNvPr id="301" name=""/>
            <p:cNvSpPr/>
            <p:nvPr/>
          </p:nvSpPr>
          <p:spPr>
            <a:xfrm flipV="1" rot="5400000">
              <a:off x="914400" y="303840"/>
              <a:ext cx="685800" cy="20574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2057400"/>
                <a:gd name="textAreaBottom" fmla="*/ 205740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Számlaosztál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számlacso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szá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 rot="5400000">
              <a:off x="4533840" y="-724680"/>
              <a:ext cx="685800" cy="41148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360 h 4114800"/>
                <a:gd name="textAreaBottom" fmla="*/ 4115520 h 41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Az eredmény összetevő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144360" y="76320"/>
            <a:ext cx="8847360" cy="684000"/>
            <a:chOff x="144360" y="76320"/>
            <a:chExt cx="8847360" cy="684000"/>
          </a:xfrm>
        </p:grpSpPr>
        <p:sp>
          <p:nvSpPr>
            <p:cNvPr id="304" name=""/>
            <p:cNvSpPr/>
            <p:nvPr/>
          </p:nvSpPr>
          <p:spPr>
            <a:xfrm>
              <a:off x="7907400" y="76320"/>
              <a:ext cx="1084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8.2.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4360" y="246240"/>
              <a:ext cx="770436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LAOSZTÁLYOK (CSOPORTOK) ÉS A FORGALMI KÖLTSÉ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LJÁRÁSSAL KÉSZÜLŐ EREDMÉNYKIMUTATÁS KAPCSOL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6" name=""/>
          <p:cNvGraphicFramePr/>
          <p:nvPr/>
        </p:nvGraphicFramePr>
        <p:xfrm>
          <a:off x="304920" y="1644480"/>
          <a:ext cx="8458200" cy="4454640"/>
        </p:xfrm>
        <a:graphic>
          <a:graphicData uri="http://schemas.openxmlformats.org/drawingml/2006/table">
            <a:tbl>
              <a:tblPr/>
              <a:tblGrid>
                <a:gridCol w="1295280"/>
                <a:gridCol w="533520"/>
                <a:gridCol w="685800"/>
                <a:gridCol w="5943600"/>
              </a:tblGrid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1-9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RTÉKESÍTÉS NETTÓ ÁRBEVÉTE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1-84.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RTÉKESÍTÉS KÖZVETLEN KÖLTSÉ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I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RTÉKESÍTÉS BRUTTÓ EREDMÉN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RTÉKESÍTÉS KÖZVETETT KÖLTSÉGE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GYÉB BEVÉTEL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GYÉB RÁFORDÍTÁS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ÜZEMI (ÜZLETI) TEVÉKENYSÉG EREDMÉN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ff"/>
                    </a:solidFill>
                  </a:tcPr>
                </a:tc>
              </a:tr>
              <a:tr h="764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 következő sorok értelemszerűen megegyeznek a 5-13.7 vázlaton szereplő tételekke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307" name=""/>
          <p:cNvGrpSpPr/>
          <p:nvPr/>
        </p:nvGrpSpPr>
        <p:grpSpPr>
          <a:xfrm>
            <a:off x="228600" y="6064200"/>
            <a:ext cx="8534520" cy="642600"/>
            <a:chOff x="228600" y="6064200"/>
            <a:chExt cx="8534520" cy="642600"/>
          </a:xfrm>
        </p:grpSpPr>
        <p:sp>
          <p:nvSpPr>
            <p:cNvPr id="308" name=""/>
            <p:cNvSpPr/>
            <p:nvPr/>
          </p:nvSpPr>
          <p:spPr>
            <a:xfrm>
              <a:off x="228600" y="6064200"/>
              <a:ext cx="853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800" spc="-1" strike="noStrike">
                  <a:solidFill>
                    <a:srgbClr val="333399"/>
                  </a:solidFill>
                  <a:latin typeface="Bookman Old Style"/>
                </a:rPr>
                <a:t>*  A 81-84-es számlák neve és tartalma eltérő forgalmi költsé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800" spc="-1" strike="noStrike">
                  <a:solidFill>
                    <a:srgbClr val="333399"/>
                  </a:solidFill>
                  <a:latin typeface="Bookman Old Style"/>
                </a:rPr>
                <a:t>   </a:t>
              </a:r>
              <a:r>
                <a:rPr b="1" i="1" lang="hu-HU" sz="1800" spc="-1" strike="noStrike">
                  <a:solidFill>
                    <a:srgbClr val="333399"/>
                  </a:solidFill>
                  <a:latin typeface="Bookman Old Style"/>
                </a:rPr>
                <a:t>eljárással készülő eredménykimutatás eseté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4920" y="6064200"/>
              <a:ext cx="1600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28600" y="990000"/>
            <a:ext cx="6705720" cy="685800"/>
            <a:chOff x="228600" y="990000"/>
            <a:chExt cx="6705720" cy="685800"/>
          </a:xfrm>
        </p:grpSpPr>
        <p:sp>
          <p:nvSpPr>
            <p:cNvPr id="311" name=""/>
            <p:cNvSpPr/>
            <p:nvPr/>
          </p:nvSpPr>
          <p:spPr>
            <a:xfrm flipV="1" rot="5400000">
              <a:off x="914400" y="303840"/>
              <a:ext cx="685800" cy="20574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2057400"/>
                <a:gd name="textAreaBottom" fmla="*/ 205740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Számlaosztál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számlacso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szá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 rot="5400000">
              <a:off x="4533840" y="-724680"/>
              <a:ext cx="685800" cy="41148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360 h 4114800"/>
                <a:gd name="textAreaBottom" fmla="*/ 4115520 h 41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Az eredmény összetevő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457200" y="152280"/>
            <a:ext cx="8534520" cy="762120"/>
            <a:chOff x="457200" y="152280"/>
            <a:chExt cx="8534520" cy="762120"/>
          </a:xfrm>
        </p:grpSpPr>
        <p:sp>
          <p:nvSpPr>
            <p:cNvPr id="314" name=""/>
            <p:cNvSpPr/>
            <p:nvPr/>
          </p:nvSpPr>
          <p:spPr>
            <a:xfrm>
              <a:off x="8001000" y="152280"/>
              <a:ext cx="990720" cy="38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8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7200" y="380880"/>
              <a:ext cx="7391520" cy="53352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NÉGY SZÁMLASOROS (KÉT-KÉT ELLENTÉ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SZÁMLASOROS) SZÁMLAELMÉLET SÉMÁ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80880" y="914040"/>
            <a:ext cx="8229600" cy="1143000"/>
            <a:chOff x="380880" y="914040"/>
            <a:chExt cx="8229600" cy="1143000"/>
          </a:xfrm>
        </p:grpSpPr>
        <p:sp>
          <p:nvSpPr>
            <p:cNvPr id="317" name=""/>
            <p:cNvSpPr/>
            <p:nvPr/>
          </p:nvSpPr>
          <p:spPr>
            <a:xfrm>
              <a:off x="380880" y="1549440"/>
              <a:ext cx="3657600" cy="50760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ÉRLEG 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76920" y="1549440"/>
              <a:ext cx="3733560" cy="50760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REDMÉNY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2209680" y="914040"/>
              <a:ext cx="4572000" cy="571680"/>
              <a:chOff x="2209680" y="914040"/>
              <a:chExt cx="4572000" cy="57168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2209680" y="914040"/>
                <a:ext cx="2133720" cy="57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343400" y="914400"/>
                <a:ext cx="2438280" cy="57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76320" y="2057400"/>
            <a:ext cx="8762760" cy="1330200"/>
            <a:chOff x="76320" y="2057400"/>
            <a:chExt cx="8762760" cy="1330200"/>
          </a:xfrm>
        </p:grpSpPr>
        <p:sp>
          <p:nvSpPr>
            <p:cNvPr id="323" name=""/>
            <p:cNvSpPr/>
            <p:nvPr/>
          </p:nvSpPr>
          <p:spPr>
            <a:xfrm>
              <a:off x="76320" y="2514600"/>
              <a:ext cx="1985760" cy="87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Eszköz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számlák (E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Egyenleg  T 4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00720" y="2514600"/>
              <a:ext cx="2052360" cy="87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Költség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(ráfordítás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számlák (K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Egyenleg  T  65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86720" y="2514600"/>
              <a:ext cx="2052360" cy="87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Bevétel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számlák (B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Egyenleg  K 7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685800" y="2057400"/>
              <a:ext cx="3047760" cy="425520"/>
              <a:chOff x="685800" y="2057400"/>
              <a:chExt cx="3047760" cy="425520"/>
            </a:xfrm>
          </p:grpSpPr>
          <p:sp>
            <p:nvSpPr>
              <p:cNvPr id="327" name=""/>
              <p:cNvSpPr/>
              <p:nvPr/>
            </p:nvSpPr>
            <p:spPr>
              <a:xfrm flipV="1">
                <a:off x="685800" y="2057400"/>
                <a:ext cx="1422360" cy="42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108160" y="2057400"/>
                <a:ext cx="1625400" cy="42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410080" y="2057400"/>
              <a:ext cx="3047760" cy="380880"/>
              <a:chOff x="5410080" y="2057400"/>
              <a:chExt cx="3047760" cy="380880"/>
            </a:xfrm>
          </p:grpSpPr>
          <p:sp>
            <p:nvSpPr>
              <p:cNvPr id="330" name=""/>
              <p:cNvSpPr/>
              <p:nvPr/>
            </p:nvSpPr>
            <p:spPr>
              <a:xfrm flipV="1">
                <a:off x="5410080" y="2057400"/>
                <a:ext cx="142236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832440" y="2057400"/>
                <a:ext cx="162540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2362320" y="2514600"/>
              <a:ext cx="1985760" cy="87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Forrás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számlák (F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Egyenleg  K 35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33520" y="3428640"/>
            <a:ext cx="8153280" cy="1066680"/>
            <a:chOff x="533520" y="3428640"/>
            <a:chExt cx="8153280" cy="1066680"/>
          </a:xfrm>
        </p:grpSpPr>
        <p:sp>
          <p:nvSpPr>
            <p:cNvPr id="334" name=""/>
            <p:cNvSpPr/>
            <p:nvPr/>
          </p:nvSpPr>
          <p:spPr>
            <a:xfrm>
              <a:off x="533520" y="3855600"/>
              <a:ext cx="3657600" cy="63972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ÉRLEG 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ÖSSZEVONT EGYENLE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  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29200" y="3855600"/>
              <a:ext cx="3657600" cy="63972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REDMÉNY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ÖSSZEVONT EGYENLE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  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5800" y="3429000"/>
              <a:ext cx="1422360" cy="42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108160" y="3428640"/>
              <a:ext cx="1625760" cy="42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81480" y="3429000"/>
              <a:ext cx="1422360" cy="42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603840" y="3428640"/>
              <a:ext cx="1625760" cy="42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52280" y="4572000"/>
            <a:ext cx="4114440" cy="1878120"/>
            <a:chOff x="152280" y="4572000"/>
            <a:chExt cx="4114440" cy="1878120"/>
          </a:xfrm>
        </p:grpSpPr>
        <p:grpSp>
          <p:nvGrpSpPr>
            <p:cNvPr id="341" name=""/>
            <p:cNvGrpSpPr/>
            <p:nvPr/>
          </p:nvGrpSpPr>
          <p:grpSpPr>
            <a:xfrm>
              <a:off x="307440" y="4926240"/>
              <a:ext cx="3881520" cy="1523880"/>
              <a:chOff x="307440" y="4926240"/>
              <a:chExt cx="3881520" cy="1523880"/>
            </a:xfrm>
          </p:grpSpPr>
          <p:sp>
            <p:nvSpPr>
              <p:cNvPr id="342" name=""/>
              <p:cNvSpPr/>
              <p:nvPr/>
            </p:nvSpPr>
            <p:spPr>
              <a:xfrm>
                <a:off x="307440" y="4926240"/>
                <a:ext cx="3881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176200" y="4926240"/>
                <a:ext cx="0" cy="1523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152280" y="4572000"/>
              <a:ext cx="4114440" cy="180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érl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Eszközök   400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  Források   35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Nyereség     5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99"/>
                  </a:solidFill>
                  <a:latin typeface="Bookman Old Style"/>
                </a:rPr>
                <a:t>Főösszeg    400     Főösszeg   4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2280" y="5764320"/>
              <a:ext cx="411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2280" y="6373800"/>
              <a:ext cx="411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343400" y="4572000"/>
            <a:ext cx="4572000" cy="1878120"/>
            <a:chOff x="4343400" y="4572000"/>
            <a:chExt cx="4572000" cy="1878120"/>
          </a:xfrm>
        </p:grpSpPr>
        <p:grpSp>
          <p:nvGrpSpPr>
            <p:cNvPr id="348" name=""/>
            <p:cNvGrpSpPr/>
            <p:nvPr/>
          </p:nvGrpSpPr>
          <p:grpSpPr>
            <a:xfrm>
              <a:off x="4419720" y="4925880"/>
              <a:ext cx="4495680" cy="1524240"/>
              <a:chOff x="4419720" y="4925880"/>
              <a:chExt cx="4495680" cy="152424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4419720" y="4925880"/>
                <a:ext cx="4495680" cy="1524240"/>
                <a:chOff x="4419720" y="4925880"/>
                <a:chExt cx="4495680" cy="152424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4419720" y="4925880"/>
                  <a:ext cx="4495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705720" y="4925880"/>
                  <a:ext cx="0" cy="1524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4419720" y="5764320"/>
                <a:ext cx="425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19720" y="6373800"/>
                <a:ext cx="425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4343400" y="4572000"/>
              <a:ext cx="4572000" cy="180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Eredménykimutat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Költségek (ráf.) 650   Bevételek   7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Nyereség           </a:t>
              </a:r>
              <a:r>
                <a:rPr b="1" lang="hu-HU" sz="14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50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333399"/>
                  </a:solidFill>
                  <a:latin typeface="Bookman Old Style"/>
                </a:rPr>
                <a:t>Összesen          700    Összesen   7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228600" y="64008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Képlete: E – F = B – K vagy E + K = F +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Felhasznált forrása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akirodal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zma András: Vázlatok a számvitel tanulásához 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váth Katalin: Számvitel a gyakorlat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éb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vábbi ismeretszerzést szolgáló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ármilyen számviteli szakköny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755640" y="5516640"/>
            <a:ext cx="5708520" cy="1191240"/>
          </a:xfrm>
          <a:prstGeom prst="rect">
            <a:avLst/>
          </a:prstGeom>
          <a:gradFill rotWithShape="0">
            <a:gsLst>
              <a:gs pos="0">
                <a:srgbClr val="006666">
                  <a:alpha val="23137"/>
                </a:srgbClr>
              </a:gs>
              <a:gs pos="100000">
                <a:srgbClr val="002f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ff"/>
                </a:solidFill>
                <a:latin typeface="Arial"/>
              </a:rPr>
              <a:t>Előadás anyagát készítet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r. Bács Zol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1565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ÖSZÖNÖM A FIGYELMÜKE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ÖVETKEZŐ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 CÍM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93300"/>
                </a:solidFill>
                <a:latin typeface="Arial Black"/>
              </a:rPr>
              <a:t>A számviteli munka szakasza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39720" y="2743200"/>
            <a:ext cx="7894800" cy="114300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8. A négy számlasoros számlaelmé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72960" y="76320"/>
            <a:ext cx="8618760" cy="838080"/>
            <a:chOff x="372960" y="76320"/>
            <a:chExt cx="8618760" cy="838080"/>
          </a:xfrm>
        </p:grpSpPr>
        <p:sp>
          <p:nvSpPr>
            <p:cNvPr id="101" name=""/>
            <p:cNvSpPr/>
            <p:nvPr/>
          </p:nvSpPr>
          <p:spPr>
            <a:xfrm>
              <a:off x="7961400" y="7632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8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2960" y="457200"/>
              <a:ext cx="7932960" cy="4572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EREDMÉNYSZÁMLÁK LEVEZETÉSE A MÉRLEGSZÁMLÁKBÓL 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80880" y="1066680"/>
            <a:ext cx="8000280" cy="1388160"/>
            <a:chOff x="380880" y="1066680"/>
            <a:chExt cx="8000280" cy="1388160"/>
          </a:xfrm>
        </p:grpSpPr>
        <p:sp>
          <p:nvSpPr>
            <p:cNvPr id="104" name=""/>
            <p:cNvSpPr/>
            <p:nvPr/>
          </p:nvSpPr>
          <p:spPr>
            <a:xfrm>
              <a:off x="380880" y="1081080"/>
              <a:ext cx="62460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05480" y="1066680"/>
              <a:ext cx="7375680" cy="13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termelés érdekében felhasznált élő és holt munka értéke a befejezetlen termelés értékét növel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zért a BEFEJEZETLEN TERMELÉS SZÁMLA TARTO-ZIK OLDALÁN, mint eszközt növelő tétel a TERMELÉ-SI KÖLTSÉG szerepe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80880" y="2573280"/>
            <a:ext cx="7848000" cy="1388160"/>
            <a:chOff x="380880" y="2573280"/>
            <a:chExt cx="7848000" cy="1388160"/>
          </a:xfrm>
        </p:grpSpPr>
        <p:sp>
          <p:nvSpPr>
            <p:cNvPr id="107" name=""/>
            <p:cNvSpPr/>
            <p:nvPr/>
          </p:nvSpPr>
          <p:spPr>
            <a:xfrm>
              <a:off x="380880" y="2587320"/>
              <a:ext cx="61056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23840" y="2573280"/>
              <a:ext cx="7205040" cy="13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termelési folyamat végén elkészült késztermék a termelés hozama és ez csökkenti a befejezetlen termelés értékét, így a BEFEJEZETLEN TERMELÉS SZÁMLA KÖVETEL OLDALÁN, mint csökkentő tétel a raktárra vett HOZAM van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04920" y="4114800"/>
            <a:ext cx="8610120" cy="2666880"/>
            <a:chOff x="304920" y="4114800"/>
            <a:chExt cx="8610120" cy="2666880"/>
          </a:xfrm>
        </p:grpSpPr>
        <p:grpSp>
          <p:nvGrpSpPr>
            <p:cNvPr id="110" name=""/>
            <p:cNvGrpSpPr/>
            <p:nvPr/>
          </p:nvGrpSpPr>
          <p:grpSpPr>
            <a:xfrm>
              <a:off x="380880" y="4114800"/>
              <a:ext cx="8152920" cy="611640"/>
              <a:chOff x="380880" y="4114800"/>
              <a:chExt cx="8152920" cy="611640"/>
            </a:xfrm>
          </p:grpSpPr>
          <p:sp>
            <p:nvSpPr>
              <p:cNvPr id="111" name=""/>
              <p:cNvSpPr/>
              <p:nvPr/>
            </p:nvSpPr>
            <p:spPr>
              <a:xfrm>
                <a:off x="380880" y="4128840"/>
                <a:ext cx="63396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59840" y="4114800"/>
                <a:ext cx="747396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 BEFEJEZETLEN TERMELÉS számla felbontásával kapjuk a TERMELÉSI KÖLTSÉG és a HOZAM számlát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243160" y="5170320"/>
              <a:ext cx="4613760" cy="621000"/>
              <a:chOff x="2243160" y="5170320"/>
              <a:chExt cx="4613760" cy="621000"/>
            </a:xfrm>
          </p:grpSpPr>
          <p:sp>
            <p:nvSpPr>
              <p:cNvPr id="114" name=""/>
              <p:cNvSpPr/>
              <p:nvPr/>
            </p:nvSpPr>
            <p:spPr>
              <a:xfrm>
                <a:off x="4549320" y="5170320"/>
                <a:ext cx="0" cy="621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43160" y="5170320"/>
                <a:ext cx="4613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2209680" y="4822920"/>
              <a:ext cx="48006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     Befejezetlen termelés számla     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724280" y="5965920"/>
              <a:ext cx="4190760" cy="815760"/>
              <a:chOff x="4724280" y="5965920"/>
              <a:chExt cx="4190760" cy="8157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4952880" y="6313320"/>
                <a:ext cx="3682080" cy="468360"/>
                <a:chOff x="4952880" y="6313320"/>
                <a:chExt cx="3682080" cy="4683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793560" y="6313320"/>
                  <a:ext cx="0" cy="46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952880" y="6313320"/>
                  <a:ext cx="3682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4724280" y="5965920"/>
                <a:ext cx="41907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          Hozam számla        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04920" y="5965920"/>
              <a:ext cx="4190760" cy="815760"/>
              <a:chOff x="304920" y="5965920"/>
              <a:chExt cx="4190760" cy="81576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533520" y="6313320"/>
                <a:ext cx="3682080" cy="468360"/>
                <a:chOff x="533520" y="6313320"/>
                <a:chExt cx="3682080" cy="4683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2374200" y="6313320"/>
                  <a:ext cx="0" cy="46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33520" y="6313320"/>
                  <a:ext cx="3682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304920" y="5965920"/>
                <a:ext cx="41907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   Termelési költség számla 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1828800" y="63388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62920" y="63388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5257800"/>
              <a:ext cx="1828800" cy="457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Termelési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költsé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8320" y="5257800"/>
              <a:ext cx="2057400" cy="457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 termelt termé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értéke - Hoza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676160" y="5715000"/>
              <a:ext cx="1600200" cy="30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1480" y="5715000"/>
              <a:ext cx="1524240" cy="30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220680" y="154080"/>
            <a:ext cx="8771040" cy="741240"/>
            <a:chOff x="220680" y="154080"/>
            <a:chExt cx="8771040" cy="741240"/>
          </a:xfrm>
        </p:grpSpPr>
        <p:sp>
          <p:nvSpPr>
            <p:cNvPr id="134" name=""/>
            <p:cNvSpPr/>
            <p:nvPr/>
          </p:nvSpPr>
          <p:spPr>
            <a:xfrm>
              <a:off x="796140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8-1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0680" y="380880"/>
              <a:ext cx="7704000" cy="514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REDMÉNYSZÁMLÁK LEVEZETÉSE A MÉRLEGSZÁMLÁKBÓL I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0" y="1066680"/>
            <a:ext cx="8762760" cy="1618560"/>
            <a:chOff x="0" y="1066680"/>
            <a:chExt cx="8762760" cy="1618560"/>
          </a:xfrm>
        </p:grpSpPr>
        <p:sp>
          <p:nvSpPr>
            <p:cNvPr id="137" name=""/>
            <p:cNvSpPr/>
            <p:nvPr/>
          </p:nvSpPr>
          <p:spPr>
            <a:xfrm>
              <a:off x="0" y="1081080"/>
              <a:ext cx="6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4360" y="1066680"/>
              <a:ext cx="80784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Az eredmény – elméletileg – levezethető egyetlen forrás számlán is, amit EREDMÉNY számlának neveznek. A számla KÖVETEL oldalára kerül feljegyzésre az eredményt növelő tétel (BEVÉTEL). A TARTOZIK oldalára az eredményt csök-kentő tétel (KÖLTSÉG, RÁFORDÍTÁS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04920" y="2895480"/>
            <a:ext cx="8610120" cy="3254400"/>
            <a:chOff x="304920" y="2895480"/>
            <a:chExt cx="8610120" cy="3254400"/>
          </a:xfrm>
        </p:grpSpPr>
        <p:sp>
          <p:nvSpPr>
            <p:cNvPr id="140" name=""/>
            <p:cNvSpPr/>
            <p:nvPr/>
          </p:nvSpPr>
          <p:spPr>
            <a:xfrm>
              <a:off x="730080" y="2895480"/>
              <a:ext cx="803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ilyen módon vezetett EREDMÉNY számla felbontásával lehet eljutni a RÁFORDÍTÁS és a BEVÉTEL számlákhoz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304920" y="5334120"/>
              <a:ext cx="4190760" cy="815760"/>
              <a:chOff x="304920" y="5334120"/>
              <a:chExt cx="4190760" cy="81576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304920" y="5334120"/>
                <a:ext cx="4190760" cy="815760"/>
                <a:chOff x="304920" y="5334120"/>
                <a:chExt cx="4190760" cy="81576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533520" y="5681520"/>
                  <a:ext cx="3682080" cy="468360"/>
                  <a:chOff x="533520" y="5681520"/>
                  <a:chExt cx="3682080" cy="46836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2374200" y="5681520"/>
                    <a:ext cx="0" cy="46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33520" y="5681520"/>
                    <a:ext cx="3682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304920" y="5334120"/>
                  <a:ext cx="419076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man Old Style"/>
                    </a:rPr>
                    <a:t>T      Ráfordítások számla    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1828800" y="570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724280" y="5334120"/>
              <a:ext cx="4190760" cy="815760"/>
              <a:chOff x="4724280" y="5334120"/>
              <a:chExt cx="4190760" cy="81576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4724280" y="5334120"/>
                <a:ext cx="4190760" cy="815760"/>
                <a:chOff x="4724280" y="5334120"/>
                <a:chExt cx="4190760" cy="81576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4952880" y="5681520"/>
                  <a:ext cx="3682080" cy="468360"/>
                  <a:chOff x="4952880" y="5681520"/>
                  <a:chExt cx="3682080" cy="46836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6793560" y="5681520"/>
                    <a:ext cx="0" cy="46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4952880" y="5681520"/>
                    <a:ext cx="3682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"/>
                <p:cNvSpPr/>
                <p:nvPr/>
              </p:nvSpPr>
              <p:spPr>
                <a:xfrm>
                  <a:off x="4724280" y="5334120"/>
                  <a:ext cx="419076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man Old Style"/>
                    </a:rPr>
                    <a:t>T        Bevételek számla      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7162920" y="570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209680" y="3809880"/>
              <a:ext cx="4800600" cy="1196640"/>
              <a:chOff x="2209680" y="3809880"/>
              <a:chExt cx="4800600" cy="119664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2243160" y="4157640"/>
                <a:ext cx="4613760" cy="848880"/>
                <a:chOff x="2243160" y="4157640"/>
                <a:chExt cx="4613760" cy="8488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549320" y="4157640"/>
                  <a:ext cx="0" cy="848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243160" y="4157640"/>
                  <a:ext cx="4613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2209680" y="3809880"/>
                <a:ext cx="480060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              Eredmény számla           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590920" y="4245120"/>
                <a:ext cx="1828800" cy="4572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Ráfordításo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48320" y="4245120"/>
                <a:ext cx="2057400" cy="4572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Bevétele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flipH="1">
              <a:off x="1980720" y="4702320"/>
              <a:ext cx="1600200" cy="6094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4702320"/>
              <a:ext cx="1295280" cy="6094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457200" y="152280"/>
            <a:ext cx="8534520" cy="762120"/>
            <a:chOff x="457200" y="152280"/>
            <a:chExt cx="8534520" cy="762120"/>
          </a:xfrm>
        </p:grpSpPr>
        <p:sp>
          <p:nvSpPr>
            <p:cNvPr id="165" name=""/>
            <p:cNvSpPr/>
            <p:nvPr/>
          </p:nvSpPr>
          <p:spPr>
            <a:xfrm>
              <a:off x="8001000" y="152280"/>
              <a:ext cx="990720" cy="38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8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" y="380880"/>
              <a:ext cx="7391520" cy="53352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EGYSÉGES SZÁMLAKER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04920" y="2819520"/>
            <a:ext cx="4038480" cy="1523880"/>
            <a:chOff x="304920" y="2819520"/>
            <a:chExt cx="4038480" cy="1523880"/>
          </a:xfrm>
        </p:grpSpPr>
        <p:sp>
          <p:nvSpPr>
            <p:cNvPr id="168" name=""/>
            <p:cNvSpPr/>
            <p:nvPr/>
          </p:nvSpPr>
          <p:spPr>
            <a:xfrm>
              <a:off x="304920" y="3581280"/>
              <a:ext cx="1752480" cy="7621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SZKÖ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90920" y="3581280"/>
              <a:ext cx="1752480" cy="762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FORR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142640" y="2819520"/>
              <a:ext cx="2210040" cy="761760"/>
              <a:chOff x="1142640" y="2819520"/>
              <a:chExt cx="2210040" cy="761760"/>
            </a:xfrm>
          </p:grpSpPr>
          <p:sp>
            <p:nvSpPr>
              <p:cNvPr id="171" name=""/>
              <p:cNvSpPr/>
              <p:nvPr/>
            </p:nvSpPr>
            <p:spPr>
              <a:xfrm flipH="1">
                <a:off x="1142640" y="2819520"/>
                <a:ext cx="114300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6000" y="2819520"/>
                <a:ext cx="106668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4952880" y="2819520"/>
            <a:ext cx="4038840" cy="1523880"/>
            <a:chOff x="4952880" y="2819520"/>
            <a:chExt cx="4038840" cy="1523880"/>
          </a:xfrm>
        </p:grpSpPr>
        <p:sp>
          <p:nvSpPr>
            <p:cNvPr id="174" name=""/>
            <p:cNvSpPr/>
            <p:nvPr/>
          </p:nvSpPr>
          <p:spPr>
            <a:xfrm>
              <a:off x="4952880" y="3581280"/>
              <a:ext cx="1752840" cy="7621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LTSÉG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RÁFORDÍT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38880" y="3581280"/>
              <a:ext cx="1752840" cy="762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ÁRBEVÉTEL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EVÉ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5866920" y="2819520"/>
              <a:ext cx="2210040" cy="761760"/>
              <a:chOff x="5866920" y="2819520"/>
              <a:chExt cx="2210040" cy="761760"/>
            </a:xfrm>
          </p:grpSpPr>
          <p:sp>
            <p:nvSpPr>
              <p:cNvPr id="177" name=""/>
              <p:cNvSpPr/>
              <p:nvPr/>
            </p:nvSpPr>
            <p:spPr>
              <a:xfrm flipH="1">
                <a:off x="5866920" y="2819520"/>
                <a:ext cx="114300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010280" y="2819520"/>
                <a:ext cx="106668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457200" y="1066680"/>
            <a:ext cx="8229600" cy="1752840"/>
            <a:chOff x="457200" y="1066680"/>
            <a:chExt cx="8229600" cy="1752840"/>
          </a:xfrm>
        </p:grpSpPr>
        <p:sp>
          <p:nvSpPr>
            <p:cNvPr id="180" name=""/>
            <p:cNvSpPr/>
            <p:nvPr/>
          </p:nvSpPr>
          <p:spPr>
            <a:xfrm>
              <a:off x="457200" y="2209680"/>
              <a:ext cx="3657600" cy="60984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ÉRLEG 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209680"/>
              <a:ext cx="3733920" cy="60984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REDMÉNY (TŐKE VÁLTOZÁ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14600" y="1066680"/>
              <a:ext cx="3657600" cy="53352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TARTALMILA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438280" y="1600200"/>
              <a:ext cx="3733200" cy="533520"/>
              <a:chOff x="2438280" y="1600200"/>
              <a:chExt cx="3733200" cy="533520"/>
            </a:xfrm>
          </p:grpSpPr>
          <p:sp>
            <p:nvSpPr>
              <p:cNvPr id="184" name=""/>
              <p:cNvSpPr/>
              <p:nvPr/>
            </p:nvSpPr>
            <p:spPr>
              <a:xfrm flipH="1">
                <a:off x="2438280" y="1600200"/>
                <a:ext cx="193104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369320" y="1600200"/>
                <a:ext cx="180216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837720" y="4343040"/>
            <a:ext cx="5182200" cy="685800"/>
            <a:chOff x="837720" y="4343040"/>
            <a:chExt cx="5182200" cy="685800"/>
          </a:xfrm>
        </p:grpSpPr>
        <p:sp>
          <p:nvSpPr>
            <p:cNvPr id="187" name=""/>
            <p:cNvSpPr/>
            <p:nvPr/>
          </p:nvSpPr>
          <p:spPr>
            <a:xfrm flipH="1" flipV="1">
              <a:off x="837720" y="4419360"/>
              <a:ext cx="1419480" cy="6094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257560" y="4343040"/>
              <a:ext cx="3762360" cy="6858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581280" y="4419360"/>
            <a:ext cx="4724640" cy="609480"/>
            <a:chOff x="3581280" y="4419360"/>
            <a:chExt cx="4724640" cy="609480"/>
          </a:xfrm>
        </p:grpSpPr>
        <p:sp>
          <p:nvSpPr>
            <p:cNvPr id="190" name=""/>
            <p:cNvSpPr/>
            <p:nvPr/>
          </p:nvSpPr>
          <p:spPr>
            <a:xfrm flipH="1" flipV="1">
              <a:off x="3581280" y="4419360"/>
              <a:ext cx="3400560" cy="60948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981840" y="4419360"/>
              <a:ext cx="1324080" cy="60948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371600" y="5029200"/>
            <a:ext cx="6477120" cy="1447920"/>
            <a:chOff x="1371600" y="5029200"/>
            <a:chExt cx="6477120" cy="1447920"/>
          </a:xfrm>
        </p:grpSpPr>
        <p:sp>
          <p:nvSpPr>
            <p:cNvPr id="193" name=""/>
            <p:cNvSpPr/>
            <p:nvPr/>
          </p:nvSpPr>
          <p:spPr>
            <a:xfrm>
              <a:off x="1371600" y="5029200"/>
              <a:ext cx="175248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KTÍ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6019920"/>
              <a:ext cx="175248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LAKIL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029200"/>
              <a:ext cx="1752840" cy="457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ASSZÍ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2057040" y="5562720"/>
              <a:ext cx="4952160" cy="457200"/>
              <a:chOff x="2057040" y="5562720"/>
              <a:chExt cx="4952160" cy="457200"/>
            </a:xfrm>
          </p:grpSpPr>
          <p:sp>
            <p:nvSpPr>
              <p:cNvPr id="197" name=""/>
              <p:cNvSpPr/>
              <p:nvPr/>
            </p:nvSpPr>
            <p:spPr>
              <a:xfrm flipH="1" flipV="1">
                <a:off x="2057040" y="5562720"/>
                <a:ext cx="25614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4618800" y="5562720"/>
                <a:ext cx="23904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200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8.2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EGYSÉGES SZÁMLAKER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0" y="1165320"/>
            <a:ext cx="4876920" cy="587160"/>
            <a:chOff x="0" y="1165320"/>
            <a:chExt cx="4876920" cy="587160"/>
          </a:xfrm>
        </p:grpSpPr>
        <p:sp>
          <p:nvSpPr>
            <p:cNvPr id="203" name=""/>
            <p:cNvSpPr/>
            <p:nvPr/>
          </p:nvSpPr>
          <p:spPr>
            <a:xfrm>
              <a:off x="0" y="1179360"/>
              <a:ext cx="380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1165320"/>
              <a:ext cx="44960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egységes számlakeretet a szám-viteli törvényben fogalmazták meg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72428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648320" y="1143000"/>
            <a:ext cx="4723920" cy="2806560"/>
            <a:chOff x="4648320" y="1143000"/>
            <a:chExt cx="4723920" cy="2806560"/>
          </a:xfrm>
        </p:grpSpPr>
        <p:sp>
          <p:nvSpPr>
            <p:cNvPr id="207" name=""/>
            <p:cNvSpPr/>
            <p:nvPr/>
          </p:nvSpPr>
          <p:spPr>
            <a:xfrm>
              <a:off x="4648320" y="1157400"/>
              <a:ext cx="3704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18760" y="1143000"/>
              <a:ext cx="4353480" cy="28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z egységes számlakeret FOGALM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könyvviteli számlák csopo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tosítása tartalmuk és jellegü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szerint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gazdasági műveletek össz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függéseinek kijelölés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könyvelés szabályainak ki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jelölés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könyvviteli számlák egysé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számozásának és elnevezésé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nek  biztosítása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724280" y="4341960"/>
            <a:ext cx="4419360" cy="2203920"/>
            <a:chOff x="4724280" y="4341960"/>
            <a:chExt cx="4419360" cy="2203920"/>
          </a:xfrm>
        </p:grpSpPr>
        <p:sp>
          <p:nvSpPr>
            <p:cNvPr id="210" name=""/>
            <p:cNvSpPr/>
            <p:nvPr/>
          </p:nvSpPr>
          <p:spPr>
            <a:xfrm>
              <a:off x="4724280" y="4356000"/>
              <a:ext cx="346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70960" y="4341960"/>
              <a:ext cx="4072680" cy="22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viteli törvény tíz számla-osztályt határozott me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1-4.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ÉRLEGSZÁMLÁ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5., 8-9.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REDMÉNYSZÁMLÁ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6-7.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ABADON HASZNÁL-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ATÓ SZÁMLÁ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0.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NYILVÁNTARTÁS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Á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0" y="1927080"/>
            <a:ext cx="4648320" cy="3833280"/>
            <a:chOff x="0" y="1927080"/>
            <a:chExt cx="4648320" cy="3833280"/>
          </a:xfrm>
        </p:grpSpPr>
        <p:grpSp>
          <p:nvGrpSpPr>
            <p:cNvPr id="213" name=""/>
            <p:cNvGrpSpPr/>
            <p:nvPr/>
          </p:nvGrpSpPr>
          <p:grpSpPr>
            <a:xfrm>
              <a:off x="0" y="1927080"/>
              <a:ext cx="4648320" cy="1326960"/>
              <a:chOff x="0" y="1927080"/>
              <a:chExt cx="4648320" cy="132696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1941120"/>
                <a:ext cx="3618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0880" y="1927080"/>
                <a:ext cx="4267440" cy="13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z egységes számlaker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CÉLJA, hogy a gazdálkod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eszközeinek é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forrásainak, 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gazdasági műveletek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990720" y="3200400"/>
              <a:ext cx="3657600" cy="25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eredményre gyakorolt hatá-sainak egységes rendszerbe foglalásával SEGÍTSÉGET ADJON a gazdálkodó SZÁM-VITELÉNEK MEGSZERVE-ZÉSÉHEZ, BIZTOSÍTSA a számviteli törvény szerinti BESZÁMOLÓ ELKÉSZÍTÉ-SÉHEZ SZÜKSÉGES ALAP-INFORMÁCIÓKA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04920" y="914400"/>
          <a:ext cx="8534160" cy="2347920"/>
        </p:xfrm>
        <a:graphic>
          <a:graphicData uri="http://schemas.openxmlformats.org/drawingml/2006/table">
            <a:tbl>
              <a:tblPr/>
              <a:tblGrid>
                <a:gridCol w="685800"/>
                <a:gridCol w="2819160"/>
                <a:gridCol w="1447920"/>
                <a:gridCol w="1828800"/>
                <a:gridCol w="1752480"/>
              </a:tblGrid>
              <a:tr h="313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 SZÁMLAOSZT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DATOK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BIZTOSÍ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-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JELLE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RTAL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Befektetett eszközö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ktí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szkö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 mérleghe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észlet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vetelések, pénzügy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szközök, aktív időbeli elhatárolás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Forrás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asszí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Forrá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04920" y="3255840"/>
          <a:ext cx="8534160" cy="477720"/>
        </p:xfrm>
        <a:graphic>
          <a:graphicData uri="http://schemas.openxmlformats.org/drawingml/2006/table">
            <a:tbl>
              <a:tblPr/>
              <a:tblGrid>
                <a:gridCol w="685800"/>
                <a:gridCol w="2819160"/>
                <a:gridCol w="1447920"/>
                <a:gridCol w="1828800"/>
                <a:gridCol w="175248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ltségnem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ktí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ltsé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z eredmény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imutatásho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304920" y="3733920"/>
          <a:ext cx="8534160" cy="950760"/>
        </p:xfrm>
        <a:graphic>
          <a:graphicData uri="http://schemas.openxmlformats.org/drawingml/2006/table">
            <a:tbl>
              <a:tblPr/>
              <a:tblGrid>
                <a:gridCol w="685800"/>
                <a:gridCol w="2819160"/>
                <a:gridCol w="1447920"/>
                <a:gridCol w="1828800"/>
                <a:gridCol w="1752480"/>
              </a:tblGrid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abadon használhat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rtalomtól függő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ezetői döntéstől függő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 vezető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nformációho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abadon használhat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04920" y="4710240"/>
          <a:ext cx="8534160" cy="1157040"/>
        </p:xfrm>
        <a:graphic>
          <a:graphicData uri="http://schemas.openxmlformats.org/drawingml/2006/table">
            <a:tbl>
              <a:tblPr/>
              <a:tblGrid>
                <a:gridCol w="685800"/>
                <a:gridCol w="2819160"/>
                <a:gridCol w="1447920"/>
                <a:gridCol w="1828800"/>
                <a:gridCol w="1752480"/>
              </a:tblGrid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rtékesítés elszámolt önköltsége és ráfordítás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ktí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ltsé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z eredmény- kimutatásho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rtékesítés árbevétele és bevétel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asszí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Árbevétel, bevét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304920" y="5867280"/>
          <a:ext cx="8534160" cy="843120"/>
        </p:xfrm>
        <a:graphic>
          <a:graphicData uri="http://schemas.openxmlformats.org/drawingml/2006/table">
            <a:tbl>
              <a:tblPr/>
              <a:tblGrid>
                <a:gridCol w="685800"/>
                <a:gridCol w="2819160"/>
                <a:gridCol w="1447920"/>
                <a:gridCol w="1828800"/>
                <a:gridCol w="1752480"/>
              </a:tblGrid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yilvántartási számlá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szköz, Forrás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ltség, Bevét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 vezetői információhoz, mérlegbeszá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olóho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380880" y="76320"/>
            <a:ext cx="8534520" cy="684000"/>
            <a:chOff x="380880" y="76320"/>
            <a:chExt cx="8534520" cy="684000"/>
          </a:xfrm>
        </p:grpSpPr>
        <p:sp>
          <p:nvSpPr>
            <p:cNvPr id="223" name=""/>
            <p:cNvSpPr/>
            <p:nvPr/>
          </p:nvSpPr>
          <p:spPr>
            <a:xfrm>
              <a:off x="7885080" y="7632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8.2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0880" y="24624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EGYSÉGES SZÁMLAKERET FELÉPÍTÉ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226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8.2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SZÁMLAR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-76320" y="1368360"/>
            <a:ext cx="4876920" cy="2288520"/>
            <a:chOff x="-76320" y="1368360"/>
            <a:chExt cx="4876920" cy="2288520"/>
          </a:xfrm>
        </p:grpSpPr>
        <p:sp>
          <p:nvSpPr>
            <p:cNvPr id="229" name=""/>
            <p:cNvSpPr/>
            <p:nvPr/>
          </p:nvSpPr>
          <p:spPr>
            <a:xfrm>
              <a:off x="-76320" y="1382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4560" y="1368360"/>
              <a:ext cx="4496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kettős könyvvitelt vezető gazdál-kodó az egységes számlakeret elő-írásainak figyelembevételével OLYAN SZÁMLARENDET KÖTELES KÉSZÍTENI, amely szerint könyvel-ve a számviteli törvényben előírt beszámoló készítését maradékta-lanul biztosítj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480060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724280" y="5029200"/>
            <a:ext cx="4267080" cy="1191240"/>
            <a:chOff x="4724280" y="5029200"/>
            <a:chExt cx="4267080" cy="1191240"/>
          </a:xfrm>
        </p:grpSpPr>
        <p:sp>
          <p:nvSpPr>
            <p:cNvPr id="233" name=""/>
            <p:cNvSpPr/>
            <p:nvPr/>
          </p:nvSpPr>
          <p:spPr>
            <a:xfrm>
              <a:off x="4724280" y="5043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57280" y="5029200"/>
              <a:ext cx="3934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vállalkozó a megalakulástól számított 90 NAPON BELÜL köteles a számlarendet elkészíte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724280" y="2786040"/>
            <a:ext cx="4267080" cy="2014200"/>
            <a:chOff x="4724280" y="2786040"/>
            <a:chExt cx="4267080" cy="2014200"/>
          </a:xfrm>
        </p:grpSpPr>
        <p:sp>
          <p:nvSpPr>
            <p:cNvPr id="236" name=""/>
            <p:cNvSpPr/>
            <p:nvPr/>
          </p:nvSpPr>
          <p:spPr>
            <a:xfrm>
              <a:off x="4724280" y="2800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57280" y="2786040"/>
              <a:ext cx="39340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LAREND ÖSSZEÁLLÍ-TÁSÁÉRT, annak folyamatos KARBANTARTÁSÁÉRT, a NAP-RAKÉSZ KÖNYVVEZETÉS HE-LYESSÉGÉÉRT A GAZDÁLKO-DÓ KÉPVISELETÉRE JOGO-SULT SZEMÉLY A FELELŐ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0" y="1371600"/>
            <a:ext cx="8991360" cy="5262840"/>
            <a:chOff x="0" y="1371600"/>
            <a:chExt cx="8991360" cy="5262840"/>
          </a:xfrm>
        </p:grpSpPr>
        <p:grpSp>
          <p:nvGrpSpPr>
            <p:cNvPr id="239" name=""/>
            <p:cNvGrpSpPr/>
            <p:nvPr/>
          </p:nvGrpSpPr>
          <p:grpSpPr>
            <a:xfrm>
              <a:off x="0" y="3797280"/>
              <a:ext cx="4724280" cy="2837160"/>
              <a:chOff x="0" y="3797280"/>
              <a:chExt cx="4724280" cy="2837160"/>
            </a:xfrm>
          </p:grpSpPr>
          <p:sp>
            <p:nvSpPr>
              <p:cNvPr id="240" name=""/>
              <p:cNvSpPr/>
              <p:nvPr/>
            </p:nvSpPr>
            <p:spPr>
              <a:xfrm>
                <a:off x="0" y="3811680"/>
                <a:ext cx="36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93480" y="3797280"/>
                <a:ext cx="4330800" cy="28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A SZÁMLAREND TARTALMAZZA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Minden alkalmazásra kijelöl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számla számjelét és meg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nevezését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a számla tartalmát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a számlát érintő gazdaság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eseményeket, azo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más számlával való kapcso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 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latát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648320" y="1371600"/>
              <a:ext cx="4343040" cy="1191240"/>
              <a:chOff x="4648320" y="1371600"/>
              <a:chExt cx="4343040" cy="1191240"/>
            </a:xfrm>
          </p:grpSpPr>
          <p:sp>
            <p:nvSpPr>
              <p:cNvPr id="243" name=""/>
              <p:cNvSpPr/>
              <p:nvPr/>
            </p:nvSpPr>
            <p:spPr>
              <a:xfrm>
                <a:off x="4648320" y="1386000"/>
                <a:ext cx="3391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87440" y="1371600"/>
                <a:ext cx="4003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 algn="just"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 főkönyvi számla és a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nalitikus nyilvántartáso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kapcsolatát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 bizonylati rende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246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8.2.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KÖNYVVITELI SZÁMLÁK SZÁMOZ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0" y="1368360"/>
            <a:ext cx="4876920" cy="1547640"/>
            <a:chOff x="0" y="1368360"/>
            <a:chExt cx="4876920" cy="1547640"/>
          </a:xfrm>
        </p:grpSpPr>
        <p:sp>
          <p:nvSpPr>
            <p:cNvPr id="249" name=""/>
            <p:cNvSpPr/>
            <p:nvPr/>
          </p:nvSpPr>
          <p:spPr>
            <a:xfrm>
              <a:off x="0" y="1382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0880" y="1368360"/>
              <a:ext cx="4496040" cy="15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KÖNYVVITELI SZÁMLÁK SZÁ-MOZÁSA A TÍZES SZÁMREND-SZERBEN TÖRTÉNI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ELSŐ számjegy jelöli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AOSZTÁLY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49568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0" y="3092400"/>
            <a:ext cx="4648320" cy="642600"/>
            <a:chOff x="0" y="3092400"/>
            <a:chExt cx="4648320" cy="642600"/>
          </a:xfrm>
        </p:grpSpPr>
        <p:sp>
          <p:nvSpPr>
            <p:cNvPr id="253" name=""/>
            <p:cNvSpPr/>
            <p:nvPr/>
          </p:nvSpPr>
          <p:spPr>
            <a:xfrm>
              <a:off x="0" y="3106440"/>
              <a:ext cx="36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0880" y="3092400"/>
              <a:ext cx="426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MÁSODIK számjegy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ACSOPORTOT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0" y="3962520"/>
            <a:ext cx="4572000" cy="642600"/>
            <a:chOff x="0" y="3962520"/>
            <a:chExt cx="4572000" cy="642600"/>
          </a:xfrm>
        </p:grpSpPr>
        <p:sp>
          <p:nvSpPr>
            <p:cNvPr id="256" name=""/>
            <p:cNvSpPr/>
            <p:nvPr/>
          </p:nvSpPr>
          <p:spPr>
            <a:xfrm>
              <a:off x="0" y="3976560"/>
              <a:ext cx="3556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0880" y="396252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HARMADIK számjegy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ÁT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495680" y="1339920"/>
            <a:ext cx="4343400" cy="783000"/>
            <a:chOff x="4495680" y="1339920"/>
            <a:chExt cx="4343400" cy="783000"/>
          </a:xfrm>
        </p:grpSpPr>
        <p:sp>
          <p:nvSpPr>
            <p:cNvPr id="259" name=""/>
            <p:cNvSpPr/>
            <p:nvPr/>
          </p:nvSpPr>
          <p:spPr>
            <a:xfrm>
              <a:off x="4495680" y="1353960"/>
              <a:ext cx="33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35520" y="1339920"/>
              <a:ext cx="4003560" cy="7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ÉLDÁUL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99"/>
                  </a:solidFill>
                  <a:latin typeface="Bookman Old Style"/>
                </a:rPr>
                <a:t>1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. Számlaosztály: BEFEKTETETT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  ESZKÖZÖK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0" y="4800600"/>
            <a:ext cx="4572000" cy="642600"/>
            <a:chOff x="0" y="4800600"/>
            <a:chExt cx="4572000" cy="642600"/>
          </a:xfrm>
        </p:grpSpPr>
        <p:sp>
          <p:nvSpPr>
            <p:cNvPr id="262" name=""/>
            <p:cNvSpPr/>
            <p:nvPr/>
          </p:nvSpPr>
          <p:spPr>
            <a:xfrm>
              <a:off x="0" y="4815000"/>
              <a:ext cx="35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0880" y="480060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NEGYEDIK számjegy 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LSZÁMLÁ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724280" y="2438280"/>
            <a:ext cx="43084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ookman Old Style"/>
              </a:rPr>
              <a:t>1</a:t>
            </a:r>
            <a:r>
              <a:rPr b="1" lang="en-US" sz="1700" spc="-1" strike="noStrike">
                <a:solidFill>
                  <a:srgbClr val="333399"/>
                </a:solidFill>
                <a:latin typeface="Bookman Old Style"/>
              </a:rPr>
              <a:t>1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. Számlacsoport: IMMATERIÁL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JAVA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24280" y="3352680"/>
            <a:ext cx="44960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ookman Old Style"/>
              </a:rPr>
              <a:t>1</a:t>
            </a:r>
            <a:r>
              <a:rPr b="1" lang="en-US" sz="1700" spc="-1" strike="noStrike">
                <a:solidFill>
                  <a:srgbClr val="333399"/>
                </a:solidFill>
                <a:latin typeface="Bookman Old Style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. Számlacsoport: INGATLANOK É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A KAPCSOLÓDÓ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VAGYONI ÉRTÉK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JOGO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240" y="4511520"/>
            <a:ext cx="44607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ookman Old Style"/>
              </a:rPr>
              <a:t>12</a:t>
            </a:r>
            <a:r>
              <a:rPr b="1" lang="en-US" sz="1700" spc="-1" strike="noStrike">
                <a:solidFill>
                  <a:srgbClr val="333399"/>
                </a:solidFill>
                <a:latin typeface="Bookman Old Style"/>
              </a:rPr>
              <a:t>3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. Számla: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ÉPÜLETEK, ÉPÜ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LETRÉSZEK, TU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LAJDONI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HÁNYADO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24280" y="5638680"/>
            <a:ext cx="4308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Bookman Old Style"/>
              </a:rPr>
              <a:t>123</a:t>
            </a:r>
            <a:r>
              <a:rPr b="1" lang="hu-HU" sz="1700" spc="-1" strike="noStrike">
                <a:solidFill>
                  <a:srgbClr val="333399"/>
                </a:solidFill>
                <a:latin typeface="Bookman Old Style"/>
              </a:rPr>
              <a:t>1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. Alszámla: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  RAKTÁRA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6:00:57Z</dcterms:created>
  <dc:creator>tamas</dc:creator>
  <dc:description/>
  <dc:language>en-US</dc:language>
  <cp:lastModifiedBy>Bács Zoltán</cp:lastModifiedBy>
  <dcterms:modified xsi:type="dcterms:W3CDTF">2008-08-31T07:40:08Z</dcterms:modified>
  <cp:revision>59</cp:revision>
  <dc:subject/>
  <dc:title>1. dia</dc:title>
</cp:coreProperties>
</file>