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9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9F0AD-11DF-4839-97D2-FF0053EC8AB1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 források citációs  formája: Szerző (évszám): publikáció címe. megjelenés helye. Kiadó. Evf. Szam. Oldalszá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Honlapok URL cí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Több összefüggő előadás vagy gyakorlat esetében az egymásra épülést itt lehet megadn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Itt kell megadni ha a következő előadás vagy gyakorlat megértéséhez  milyen más tárgyak ismeretére van szüksé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7740EF-A33C-45D5-A23A-5C8116222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561A69-58E3-42E0-AF7D-B6CE3FB9F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410572-782C-4E76-B15A-7AFD605F8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ACBC54-0F59-439E-B2F0-FA556E12B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03E09B-C66E-4494-88B1-CABAEED36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B7F8E5-DB90-4DB3-8A8F-67A27252C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5D12C4-8E43-47DA-B978-8D7EFDD2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2FE654-64C4-4E46-BB57-C6D1CB44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B68BA3-1F42-42C7-BB47-8EA0AD8A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335F38-E179-46E2-97B8-B27F121E8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21379F-5CEF-40C0-9CAE-774E4F676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1AEA54-B0AE-4BE0-950E-C9288C1ED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jpeg"/><Relationship Id="rId10" Type="http://schemas.openxmlformats.org/officeDocument/2006/relationships/image" Target="../media/image8.jpeg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76720" y="6381360"/>
            <a:ext cx="2266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FOP 3.3.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7c7c">
                  <a:alpha val="86274"/>
                </a:srgbClr>
              </a:gs>
              <a:gs pos="100000">
                <a:srgbClr val="009999">
                  <a:alpha val="2117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CC87C-ACFC-4844-A46A-6F93F187E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4986360"/>
            <a:ext cx="1776240" cy="1871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308720" y="0"/>
            <a:ext cx="1617840" cy="1700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7378560" y="5084640"/>
            <a:ext cx="1535400" cy="1565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1979640" y="549360"/>
            <a:ext cx="2016000" cy="996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4067280" y="189000"/>
            <a:ext cx="731880" cy="1844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4859280" y="549360"/>
            <a:ext cx="2232000" cy="838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3132000" y="5373720"/>
            <a:ext cx="3024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38160">
                  <a:solidFill>
                    <a:srgbClr val="99ccff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HEFOP - 3.3.1.</a:t>
            </a:r>
            <a:endParaRPr b="1" lang="en-US" sz="1400" spc="1" strike="noStrike">
              <a:ln w="38160">
                <a:solidFill>
                  <a:srgbClr val="99ccff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gradFill rotWithShape="0">
            <a:gsLst>
              <a:gs pos="0">
                <a:srgbClr val="009999">
                  <a:alpha val="68235"/>
                </a:srgbClr>
              </a:gs>
              <a:gs pos="100000">
                <a:srgbClr val="007979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0" y="0"/>
          <a:ext cx="1763640" cy="1763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0"/>
                    <a:ext cx="1763640" cy="17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gradFill rotWithShape="0">
            <a:gsLst>
              <a:gs pos="0">
                <a:srgbClr val="009999">
                  <a:alpha val="68235"/>
                </a:srgbClr>
              </a:gs>
              <a:gs pos="100000">
                <a:srgbClr val="007979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ZÁMVITEL</a:t>
            </a:r>
            <a:br>
              <a:rPr sz="40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7.hé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"/>
          <p:cNvGrpSpPr/>
          <p:nvPr/>
        </p:nvGrpSpPr>
        <p:grpSpPr>
          <a:xfrm>
            <a:off x="380880" y="154080"/>
            <a:ext cx="8534520" cy="684000"/>
            <a:chOff x="380880" y="154080"/>
            <a:chExt cx="8534520" cy="684000"/>
          </a:xfrm>
        </p:grpSpPr>
        <p:sp>
          <p:nvSpPr>
            <p:cNvPr id="229" name=""/>
            <p:cNvSpPr/>
            <p:nvPr/>
          </p:nvSpPr>
          <p:spPr>
            <a:xfrm>
              <a:off x="7885080" y="154080"/>
              <a:ext cx="1030320" cy="303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7-7.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80880" y="324000"/>
              <a:ext cx="7323120" cy="5140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MÉRLEG ÉS A KÖNYVVITELI SZÁMLÁK KAPCSOL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0" y="1476360"/>
            <a:ext cx="4800240" cy="1191240"/>
            <a:chOff x="0" y="1476360"/>
            <a:chExt cx="4800240" cy="1191240"/>
          </a:xfrm>
        </p:grpSpPr>
        <p:sp>
          <p:nvSpPr>
            <p:cNvPr id="232" name=""/>
            <p:cNvSpPr/>
            <p:nvPr/>
          </p:nvSpPr>
          <p:spPr>
            <a:xfrm>
              <a:off x="0" y="1490760"/>
              <a:ext cx="37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4760" y="1476360"/>
              <a:ext cx="442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A könyvviteli számlákon – többek között – a vagyon (eszközök és források) állományát és annak vál-tozását rögzítik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4800600" y="1295280"/>
            <a:ext cx="0" cy="4953240"/>
          </a:xfrm>
          <a:prstGeom prst="line">
            <a:avLst/>
          </a:prstGeom>
          <a:ln w="1260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0" y="3505320"/>
            <a:ext cx="4648320" cy="1465560"/>
            <a:chOff x="0" y="3505320"/>
            <a:chExt cx="4648320" cy="1465560"/>
          </a:xfrm>
        </p:grpSpPr>
        <p:sp>
          <p:nvSpPr>
            <p:cNvPr id="236" name=""/>
            <p:cNvSpPr/>
            <p:nvPr/>
          </p:nvSpPr>
          <p:spPr>
            <a:xfrm>
              <a:off x="0" y="351936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0880" y="3505320"/>
              <a:ext cx="4267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vállalkozó vagyona (az eszközök és források) az alapításkor és minden üzleti év első és utolsó napján a könyvviteli mérlegben kerül kimutatásr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4724280" y="1460520"/>
            <a:ext cx="4343040" cy="1739880"/>
            <a:chOff x="4724280" y="1460520"/>
            <a:chExt cx="4343040" cy="1739880"/>
          </a:xfrm>
        </p:grpSpPr>
        <p:sp>
          <p:nvSpPr>
            <p:cNvPr id="239" name=""/>
            <p:cNvSpPr/>
            <p:nvPr/>
          </p:nvSpPr>
          <p:spPr>
            <a:xfrm>
              <a:off x="4724280" y="147492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063400" y="1460520"/>
              <a:ext cx="40039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A vagyon rögzítésére, a változások folyamatos feljegy-zésére szolgáló számlákat a mérlegből vezetik le, a mérleg egy-egy sora alkot egy-egy könyvviteli számlá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4724280" y="3505320"/>
            <a:ext cx="4267080" cy="1739880"/>
            <a:chOff x="4724280" y="3505320"/>
            <a:chExt cx="4267080" cy="1739880"/>
          </a:xfrm>
        </p:grpSpPr>
        <p:sp>
          <p:nvSpPr>
            <p:cNvPr id="242" name=""/>
            <p:cNvSpPr/>
            <p:nvPr/>
          </p:nvSpPr>
          <p:spPr>
            <a:xfrm>
              <a:off x="4724280" y="35197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057280" y="3505320"/>
              <a:ext cx="3934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mérlegből levezetett számlák nyitó egyenlege a mérlegben kimutatott eszközök és források értéke. Év közben az azt növelő és csökkentő tételek kerülnek feljegyzésr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"/>
          <p:cNvGrpSpPr/>
          <p:nvPr/>
        </p:nvGrpSpPr>
        <p:grpSpPr>
          <a:xfrm>
            <a:off x="380880" y="154080"/>
            <a:ext cx="8534520" cy="684000"/>
            <a:chOff x="380880" y="154080"/>
            <a:chExt cx="8534520" cy="684000"/>
          </a:xfrm>
        </p:grpSpPr>
        <p:sp>
          <p:nvSpPr>
            <p:cNvPr id="245" name=""/>
            <p:cNvSpPr/>
            <p:nvPr/>
          </p:nvSpPr>
          <p:spPr>
            <a:xfrm>
              <a:off x="7885080" y="154080"/>
              <a:ext cx="1030320" cy="303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7-7.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80880" y="324000"/>
              <a:ext cx="7323120" cy="5140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MÉRLEG ÉS A KÖNYVVITELI SZÁMLÁK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KAPCSOLATÁNAK SÉMÁJ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1219320" y="1390680"/>
            <a:ext cx="7238880" cy="1867680"/>
            <a:chOff x="1219320" y="1390680"/>
            <a:chExt cx="7238880" cy="1867680"/>
          </a:xfrm>
        </p:grpSpPr>
        <p:sp>
          <p:nvSpPr>
            <p:cNvPr id="248" name=""/>
            <p:cNvSpPr/>
            <p:nvPr/>
          </p:nvSpPr>
          <p:spPr>
            <a:xfrm>
              <a:off x="1295280" y="1766880"/>
              <a:ext cx="365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Befektetett eszközök  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752480" y="2057400"/>
              <a:ext cx="3934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295280" y="237636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Forgóeszközök            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724280" y="1766880"/>
              <a:ext cx="320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Saját tőke             7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00600" y="2376360"/>
              <a:ext cx="320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Kötelezettségek   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1316160" y="1714680"/>
              <a:ext cx="6510240" cy="1543680"/>
              <a:chOff x="1316160" y="1714680"/>
              <a:chExt cx="6510240" cy="1543680"/>
            </a:xfrm>
          </p:grpSpPr>
          <p:sp>
            <p:nvSpPr>
              <p:cNvPr id="254" name=""/>
              <p:cNvSpPr/>
              <p:nvPr/>
            </p:nvSpPr>
            <p:spPr>
              <a:xfrm>
                <a:off x="4570560" y="1714680"/>
                <a:ext cx="0" cy="1543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316160" y="1714680"/>
                <a:ext cx="6510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>
              <a:off x="1219320" y="1390680"/>
              <a:ext cx="72388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KTÍVÁK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          MÉRLEG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     PASSZÍVÁ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4800600" y="1981080"/>
            <a:ext cx="3962520" cy="4648320"/>
            <a:chOff x="4800600" y="1981080"/>
            <a:chExt cx="3962520" cy="4648320"/>
          </a:xfrm>
        </p:grpSpPr>
        <p:grpSp>
          <p:nvGrpSpPr>
            <p:cNvPr id="258" name=""/>
            <p:cNvGrpSpPr/>
            <p:nvPr/>
          </p:nvGrpSpPr>
          <p:grpSpPr>
            <a:xfrm>
              <a:off x="4800600" y="4038480"/>
              <a:ext cx="3428640" cy="973080"/>
              <a:chOff x="4800600" y="4038480"/>
              <a:chExt cx="3428640" cy="973080"/>
            </a:xfrm>
          </p:grpSpPr>
          <p:grpSp>
            <p:nvGrpSpPr>
              <p:cNvPr id="259" name=""/>
              <p:cNvGrpSpPr/>
              <p:nvPr/>
            </p:nvGrpSpPr>
            <p:grpSpPr>
              <a:xfrm>
                <a:off x="4922280" y="4325760"/>
                <a:ext cx="3184560" cy="685800"/>
                <a:chOff x="4922280" y="4325760"/>
                <a:chExt cx="3184560" cy="68580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6514200" y="4325760"/>
                  <a:ext cx="0" cy="685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922280" y="4325760"/>
                  <a:ext cx="31845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2" name=""/>
              <p:cNvSpPr/>
              <p:nvPr/>
            </p:nvSpPr>
            <p:spPr>
              <a:xfrm>
                <a:off x="4800600" y="4038480"/>
                <a:ext cx="342864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T     Saját tőke számla       K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4800600" y="5656320"/>
              <a:ext cx="3428640" cy="973080"/>
              <a:chOff x="4800600" y="5656320"/>
              <a:chExt cx="3428640" cy="97308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4922280" y="5943600"/>
                <a:ext cx="3184560" cy="685800"/>
                <a:chOff x="4922280" y="5943600"/>
                <a:chExt cx="3184560" cy="68580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6514200" y="5943600"/>
                  <a:ext cx="0" cy="685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4922280" y="5943600"/>
                  <a:ext cx="31845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7" name=""/>
              <p:cNvSpPr/>
              <p:nvPr/>
            </p:nvSpPr>
            <p:spPr>
              <a:xfrm>
                <a:off x="4800600" y="5656320"/>
                <a:ext cx="342864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T   Kötelezettségek számla   K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"/>
            <p:cNvSpPr/>
            <p:nvPr/>
          </p:nvSpPr>
          <p:spPr>
            <a:xfrm>
              <a:off x="6858000" y="441972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858000" y="601992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029200" y="3200400"/>
              <a:ext cx="2971800" cy="3808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Forrás számlá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7467120" y="1981080"/>
              <a:ext cx="1296000" cy="4267440"/>
              <a:chOff x="7467120" y="1981080"/>
              <a:chExt cx="1296000" cy="4267440"/>
            </a:xfrm>
          </p:grpSpPr>
          <p:sp>
            <p:nvSpPr>
              <p:cNvPr id="272" name=""/>
              <p:cNvSpPr/>
              <p:nvPr/>
            </p:nvSpPr>
            <p:spPr>
              <a:xfrm>
                <a:off x="8763120" y="1981080"/>
                <a:ext cx="0" cy="4267440"/>
              </a:xfrm>
              <a:prstGeom prst="line">
                <a:avLst/>
              </a:prstGeom>
              <a:ln w="3816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>
                <a:off x="7467120" y="6248520"/>
                <a:ext cx="1295640" cy="0"/>
              </a:xfrm>
              <a:prstGeom prst="line">
                <a:avLst/>
              </a:prstGeom>
              <a:ln w="38160">
                <a:solidFill>
                  <a:srgbClr val="9900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7467120" y="4648320"/>
                <a:ext cx="1295640" cy="0"/>
              </a:xfrm>
              <a:prstGeom prst="line">
                <a:avLst/>
              </a:prstGeom>
              <a:ln w="38160">
                <a:solidFill>
                  <a:srgbClr val="9900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7619760" y="1981080"/>
                <a:ext cx="1143000" cy="0"/>
              </a:xfrm>
              <a:prstGeom prst="line">
                <a:avLst/>
              </a:prstGeom>
              <a:ln w="3816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>
                <a:off x="7619760" y="2514600"/>
                <a:ext cx="1143000" cy="0"/>
              </a:xfrm>
              <a:prstGeom prst="line">
                <a:avLst/>
              </a:prstGeom>
              <a:ln w="3816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7" name=""/>
          <p:cNvGrpSpPr/>
          <p:nvPr/>
        </p:nvGrpSpPr>
        <p:grpSpPr>
          <a:xfrm>
            <a:off x="762120" y="1981080"/>
            <a:ext cx="3733200" cy="4648320"/>
            <a:chOff x="762120" y="1981080"/>
            <a:chExt cx="3733200" cy="4648320"/>
          </a:xfrm>
        </p:grpSpPr>
        <p:grpSp>
          <p:nvGrpSpPr>
            <p:cNvPr id="278" name=""/>
            <p:cNvGrpSpPr/>
            <p:nvPr/>
          </p:nvGrpSpPr>
          <p:grpSpPr>
            <a:xfrm>
              <a:off x="1066680" y="4056120"/>
              <a:ext cx="3428640" cy="973080"/>
              <a:chOff x="1066680" y="4056120"/>
              <a:chExt cx="3428640" cy="973080"/>
            </a:xfrm>
          </p:grpSpPr>
          <p:grpSp>
            <p:nvGrpSpPr>
              <p:cNvPr id="279" name=""/>
              <p:cNvGrpSpPr/>
              <p:nvPr/>
            </p:nvGrpSpPr>
            <p:grpSpPr>
              <a:xfrm>
                <a:off x="1188360" y="4343400"/>
                <a:ext cx="3184560" cy="685800"/>
                <a:chOff x="1188360" y="4343400"/>
                <a:chExt cx="3184560" cy="68580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2780280" y="4343400"/>
                  <a:ext cx="0" cy="685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1188360" y="4343400"/>
                  <a:ext cx="31845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1066680" y="4056120"/>
                <a:ext cx="342864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T Befektetett eszköz számla K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1066680" y="5656320"/>
              <a:ext cx="3428640" cy="973080"/>
              <a:chOff x="1066680" y="5656320"/>
              <a:chExt cx="3428640" cy="973080"/>
            </a:xfrm>
          </p:grpSpPr>
          <p:grpSp>
            <p:nvGrpSpPr>
              <p:cNvPr id="284" name=""/>
              <p:cNvGrpSpPr/>
              <p:nvPr/>
            </p:nvGrpSpPr>
            <p:grpSpPr>
              <a:xfrm>
                <a:off x="1188360" y="5943600"/>
                <a:ext cx="3184560" cy="685800"/>
                <a:chOff x="1188360" y="5943600"/>
                <a:chExt cx="3184560" cy="68580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2780280" y="5943600"/>
                  <a:ext cx="0" cy="685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1188360" y="5943600"/>
                  <a:ext cx="31845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7" name=""/>
              <p:cNvSpPr/>
              <p:nvPr/>
            </p:nvSpPr>
            <p:spPr>
              <a:xfrm>
                <a:off x="1066680" y="5656320"/>
                <a:ext cx="342864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T     Forgóeszköz számla    K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2209680" y="441972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209680" y="603396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295280" y="3200400"/>
              <a:ext cx="2971800" cy="3808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Eszköz számlá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762120" y="1981080"/>
              <a:ext cx="1295280" cy="4267440"/>
              <a:chOff x="762120" y="1981080"/>
              <a:chExt cx="1295280" cy="4267440"/>
            </a:xfrm>
          </p:grpSpPr>
          <p:sp>
            <p:nvSpPr>
              <p:cNvPr id="292" name=""/>
              <p:cNvSpPr/>
              <p:nvPr/>
            </p:nvSpPr>
            <p:spPr>
              <a:xfrm>
                <a:off x="762120" y="1981080"/>
                <a:ext cx="0" cy="4267440"/>
              </a:xfrm>
              <a:prstGeom prst="line">
                <a:avLst/>
              </a:prstGeom>
              <a:ln w="3816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62120" y="6248520"/>
                <a:ext cx="1295280" cy="0"/>
              </a:xfrm>
              <a:prstGeom prst="line">
                <a:avLst/>
              </a:prstGeom>
              <a:ln w="38160">
                <a:solidFill>
                  <a:srgbClr val="9900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62120" y="4648320"/>
                <a:ext cx="1295280" cy="0"/>
              </a:xfrm>
              <a:prstGeom prst="line">
                <a:avLst/>
              </a:prstGeom>
              <a:ln w="38160">
                <a:solidFill>
                  <a:srgbClr val="9900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62120" y="1981080"/>
                <a:ext cx="533160" cy="0"/>
              </a:xfrm>
              <a:prstGeom prst="line">
                <a:avLst/>
              </a:prstGeom>
              <a:ln w="3816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2120" y="2590920"/>
                <a:ext cx="533160" cy="0"/>
              </a:xfrm>
              <a:prstGeom prst="line">
                <a:avLst/>
              </a:prstGeom>
              <a:ln w="3816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4648320" y="1295280"/>
            <a:ext cx="0" cy="4953240"/>
          </a:xfrm>
          <a:prstGeom prst="line">
            <a:avLst/>
          </a:prstGeom>
          <a:ln w="1260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0" y="2286000"/>
            <a:ext cx="4648320" cy="916920"/>
            <a:chOff x="0" y="2286000"/>
            <a:chExt cx="4648320" cy="916920"/>
          </a:xfrm>
        </p:grpSpPr>
        <p:sp>
          <p:nvSpPr>
            <p:cNvPr id="299" name=""/>
            <p:cNvSpPr/>
            <p:nvPr/>
          </p:nvSpPr>
          <p:spPr>
            <a:xfrm>
              <a:off x="0" y="230004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80880" y="2286000"/>
              <a:ext cx="4267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A mérleg tételeit tartalmazó számlákat MÉRLEG SZÁMLÁK-nak  nevezik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0" y="3429000"/>
            <a:ext cx="4572000" cy="916920"/>
            <a:chOff x="0" y="3429000"/>
            <a:chExt cx="4572000" cy="916920"/>
          </a:xfrm>
        </p:grpSpPr>
        <p:sp>
          <p:nvSpPr>
            <p:cNvPr id="302" name=""/>
            <p:cNvSpPr/>
            <p:nvPr/>
          </p:nvSpPr>
          <p:spPr>
            <a:xfrm>
              <a:off x="0" y="3443040"/>
              <a:ext cx="3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80880" y="3429000"/>
              <a:ext cx="4191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A MÉRLEG SZÁMLÁK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- ha az eszközöket tartalmazzá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ESZKÖZ SZÁMLÁK-nak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380880" y="154080"/>
            <a:ext cx="8534520" cy="1827000"/>
            <a:chOff x="380880" y="154080"/>
            <a:chExt cx="8534520" cy="1827000"/>
          </a:xfrm>
        </p:grpSpPr>
        <p:grpSp>
          <p:nvGrpSpPr>
            <p:cNvPr id="305" name=""/>
            <p:cNvGrpSpPr/>
            <p:nvPr/>
          </p:nvGrpSpPr>
          <p:grpSpPr>
            <a:xfrm>
              <a:off x="380880" y="154080"/>
              <a:ext cx="8534520" cy="684000"/>
              <a:chOff x="380880" y="154080"/>
              <a:chExt cx="8534520" cy="684000"/>
            </a:xfrm>
          </p:grpSpPr>
          <p:sp>
            <p:nvSpPr>
              <p:cNvPr id="306" name=""/>
              <p:cNvSpPr/>
              <p:nvPr/>
            </p:nvSpPr>
            <p:spPr>
              <a:xfrm>
                <a:off x="7885080" y="154080"/>
                <a:ext cx="1030320" cy="30312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7-8.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80880" y="324000"/>
                <a:ext cx="7323120" cy="514080"/>
              </a:xfrm>
              <a:prstGeom prst="roundRect">
                <a:avLst>
                  <a:gd name="adj" fmla="val 16667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A KÖNYVVITELI SZÁMLÁK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1066680" y="1447920"/>
              <a:ext cx="3124440" cy="533160"/>
            </a:xfrm>
            <a:prstGeom prst="roundRect">
              <a:avLst>
                <a:gd name="adj" fmla="val 16667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Csoportosítá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tartalmuk szeri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2590560" y="838080"/>
              <a:ext cx="2057400" cy="60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0" y="4540320"/>
            <a:ext cx="4572000" cy="916920"/>
            <a:chOff x="0" y="4540320"/>
            <a:chExt cx="4572000" cy="916920"/>
          </a:xfrm>
        </p:grpSpPr>
        <p:sp>
          <p:nvSpPr>
            <p:cNvPr id="311" name=""/>
            <p:cNvSpPr/>
            <p:nvPr/>
          </p:nvSpPr>
          <p:spPr>
            <a:xfrm>
              <a:off x="0" y="4554360"/>
              <a:ext cx="3556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80880" y="4540320"/>
              <a:ext cx="4191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- ha a forrásokat tartalmazzá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FORRÁS SZÁMLÁKNAK-na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nevezik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4648320" y="838080"/>
            <a:ext cx="4419360" cy="2913480"/>
            <a:chOff x="4648320" y="838080"/>
            <a:chExt cx="4419360" cy="2913480"/>
          </a:xfrm>
        </p:grpSpPr>
        <p:sp>
          <p:nvSpPr>
            <p:cNvPr id="314" name=""/>
            <p:cNvSpPr/>
            <p:nvPr/>
          </p:nvSpPr>
          <p:spPr>
            <a:xfrm>
              <a:off x="5181480" y="1447920"/>
              <a:ext cx="3124440" cy="533160"/>
            </a:xfrm>
            <a:prstGeom prst="roundRect">
              <a:avLst>
                <a:gd name="adj" fmla="val 16667"/>
              </a:avLst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Jelle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648320" y="838080"/>
              <a:ext cx="2209680" cy="60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4648320" y="2286000"/>
              <a:ext cx="4419360" cy="1465560"/>
              <a:chOff x="4648320" y="2286000"/>
              <a:chExt cx="4419360" cy="1465560"/>
            </a:xfrm>
          </p:grpSpPr>
          <p:grpSp>
            <p:nvGrpSpPr>
              <p:cNvPr id="317" name=""/>
              <p:cNvGrpSpPr/>
              <p:nvPr/>
            </p:nvGrpSpPr>
            <p:grpSpPr>
              <a:xfrm>
                <a:off x="4648320" y="2286000"/>
                <a:ext cx="4266720" cy="1465560"/>
                <a:chOff x="4648320" y="2286000"/>
                <a:chExt cx="4266720" cy="146556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4648320" y="2300400"/>
                  <a:ext cx="333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Wingdings 3"/>
                      <a:ea typeface="Wingdings 3"/>
                    </a:rPr>
                    <a:t>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4981320" y="2286000"/>
                  <a:ext cx="393372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Bookman Old Style"/>
                    </a:rPr>
                    <a:t>Az ESZKÖZ SZÁMLÁK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Bookman Old Style"/>
                    </a:rPr>
                    <a:t>oldalára írják a nyitó egyenleget és a növekedést, ezeket a számláka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Bookman Old Style"/>
                    </a:rPr>
                    <a:t>számláknak nevezik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7772400" y="2286000"/>
                <a:ext cx="1295280" cy="30492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TARTOZI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467480" y="3124080"/>
                <a:ext cx="1295640" cy="30492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AKTÍV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2" name=""/>
          <p:cNvGrpSpPr/>
          <p:nvPr/>
        </p:nvGrpSpPr>
        <p:grpSpPr>
          <a:xfrm>
            <a:off x="4648320" y="4173480"/>
            <a:ext cx="4267080" cy="1465560"/>
            <a:chOff x="4648320" y="4173480"/>
            <a:chExt cx="4267080" cy="1465560"/>
          </a:xfrm>
        </p:grpSpPr>
        <p:grpSp>
          <p:nvGrpSpPr>
            <p:cNvPr id="323" name=""/>
            <p:cNvGrpSpPr/>
            <p:nvPr/>
          </p:nvGrpSpPr>
          <p:grpSpPr>
            <a:xfrm>
              <a:off x="4648320" y="4173480"/>
              <a:ext cx="4266720" cy="1465560"/>
              <a:chOff x="4648320" y="4173480"/>
              <a:chExt cx="4266720" cy="1465560"/>
            </a:xfrm>
          </p:grpSpPr>
          <p:sp>
            <p:nvSpPr>
              <p:cNvPr id="324" name=""/>
              <p:cNvSpPr/>
              <p:nvPr/>
            </p:nvSpPr>
            <p:spPr>
              <a:xfrm>
                <a:off x="4648320" y="418788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981320" y="4173480"/>
                <a:ext cx="393372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A FORRÁS SZÁMLÁ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oldalára írják a nyitó egyenleget és a növekedést, ezeket a számláka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számláknak nevezik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6" name=""/>
            <p:cNvSpPr/>
            <p:nvPr/>
          </p:nvSpPr>
          <p:spPr>
            <a:xfrm>
              <a:off x="7620120" y="4173480"/>
              <a:ext cx="1295280" cy="3049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KÖVET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467480" y="5011560"/>
              <a:ext cx="1295640" cy="3049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PASSZÍ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"/>
          <p:cNvGrpSpPr/>
          <p:nvPr/>
        </p:nvGrpSpPr>
        <p:grpSpPr>
          <a:xfrm>
            <a:off x="380880" y="154080"/>
            <a:ext cx="8610840" cy="684000"/>
            <a:chOff x="380880" y="154080"/>
            <a:chExt cx="8610840" cy="684000"/>
          </a:xfrm>
        </p:grpSpPr>
        <p:sp>
          <p:nvSpPr>
            <p:cNvPr id="329" name=""/>
            <p:cNvSpPr/>
            <p:nvPr/>
          </p:nvSpPr>
          <p:spPr>
            <a:xfrm>
              <a:off x="7961400" y="154080"/>
              <a:ext cx="1030320" cy="303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7-8.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80880" y="324000"/>
              <a:ext cx="7467840" cy="5140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Z AKTÍV ÉS A PASSZÍV SZÁMLÁK ÁLTALÁNOS SÉMÁJ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4648320" y="1295280"/>
            <a:ext cx="0" cy="4953240"/>
          </a:xfrm>
          <a:prstGeom prst="line">
            <a:avLst/>
          </a:prstGeom>
          <a:ln w="1260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0" y="1368360"/>
            <a:ext cx="4876920" cy="1739160"/>
            <a:chOff x="0" y="1368360"/>
            <a:chExt cx="4876920" cy="1739160"/>
          </a:xfrm>
        </p:grpSpPr>
        <p:grpSp>
          <p:nvGrpSpPr>
            <p:cNvPr id="333" name=""/>
            <p:cNvGrpSpPr/>
            <p:nvPr/>
          </p:nvGrpSpPr>
          <p:grpSpPr>
            <a:xfrm>
              <a:off x="0" y="1368360"/>
              <a:ext cx="4876920" cy="1739160"/>
              <a:chOff x="0" y="1368360"/>
              <a:chExt cx="4876920" cy="1739160"/>
            </a:xfrm>
          </p:grpSpPr>
          <p:sp>
            <p:nvSpPr>
              <p:cNvPr id="334" name=""/>
              <p:cNvSpPr/>
              <p:nvPr/>
            </p:nvSpPr>
            <p:spPr>
              <a:xfrm>
                <a:off x="0" y="13827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80880" y="1368360"/>
                <a:ext cx="4496040" cy="173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Minden olyan számlát, melynek a TARTOZIK oldalára jegyzik fel a növekedést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	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	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   vag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	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	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számlának neveznek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6" name=""/>
            <p:cNvSpPr/>
            <p:nvPr/>
          </p:nvSpPr>
          <p:spPr>
            <a:xfrm>
              <a:off x="1905120" y="2057400"/>
              <a:ext cx="1295280" cy="3049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KTÍ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57200" y="2438280"/>
              <a:ext cx="2057400" cy="3049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KTÍV JELLEG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572000" y="1371600"/>
            <a:ext cx="4876920" cy="1739160"/>
            <a:chOff x="4572000" y="1371600"/>
            <a:chExt cx="4876920" cy="1739160"/>
          </a:xfrm>
        </p:grpSpPr>
        <p:grpSp>
          <p:nvGrpSpPr>
            <p:cNvPr id="339" name=""/>
            <p:cNvGrpSpPr/>
            <p:nvPr/>
          </p:nvGrpSpPr>
          <p:grpSpPr>
            <a:xfrm>
              <a:off x="4572000" y="1371600"/>
              <a:ext cx="4876920" cy="1739160"/>
              <a:chOff x="4572000" y="1371600"/>
              <a:chExt cx="4876920" cy="1739160"/>
            </a:xfrm>
          </p:grpSpPr>
          <p:sp>
            <p:nvSpPr>
              <p:cNvPr id="340" name=""/>
              <p:cNvSpPr/>
              <p:nvPr/>
            </p:nvSpPr>
            <p:spPr>
              <a:xfrm>
                <a:off x="4572000" y="13860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952880" y="1371600"/>
                <a:ext cx="4496040" cy="173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Minden olyan számlát, melynek     a KÖVETEL oldalára jegyzik fel a növekedést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	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	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   vag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	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	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  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számlának neveznek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6553440" y="2060640"/>
              <a:ext cx="129528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PASSZÍ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029200" y="2441520"/>
              <a:ext cx="2286000" cy="301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PASSZÍV JELLEG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0" y="3597120"/>
            <a:ext cx="4648320" cy="2040840"/>
            <a:chOff x="0" y="3597120"/>
            <a:chExt cx="4648320" cy="2040840"/>
          </a:xfrm>
        </p:grpSpPr>
        <p:sp>
          <p:nvSpPr>
            <p:cNvPr id="345" name=""/>
            <p:cNvSpPr/>
            <p:nvPr/>
          </p:nvSpPr>
          <p:spPr>
            <a:xfrm>
              <a:off x="446040" y="4263840"/>
              <a:ext cx="2733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14280" y="4246560"/>
              <a:ext cx="2276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Nyitó egyenle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Növekedé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142920" y="4093920"/>
              <a:ext cx="4352040" cy="1544040"/>
              <a:chOff x="142920" y="4093920"/>
              <a:chExt cx="4352040" cy="1544040"/>
            </a:xfrm>
          </p:grpSpPr>
          <p:sp>
            <p:nvSpPr>
              <p:cNvPr id="348" name=""/>
              <p:cNvSpPr/>
              <p:nvPr/>
            </p:nvSpPr>
            <p:spPr>
              <a:xfrm>
                <a:off x="2318400" y="4093920"/>
                <a:ext cx="0" cy="154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42920" y="4093920"/>
                <a:ext cx="4352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0" y="3597120"/>
              <a:ext cx="464832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AKTÍV, AKTÍV JELLEGŰ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T                     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SZÁMLÁK</a:t>
              </a: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                    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7075440" y="4281480"/>
            <a:ext cx="206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Nyitó egyenl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Növeked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4572000" y="3597120"/>
            <a:ext cx="4648320" cy="2040840"/>
            <a:chOff x="4572000" y="3597120"/>
            <a:chExt cx="4648320" cy="2040840"/>
          </a:xfrm>
        </p:grpSpPr>
        <p:sp>
          <p:nvSpPr>
            <p:cNvPr id="353" name=""/>
            <p:cNvSpPr/>
            <p:nvPr/>
          </p:nvSpPr>
          <p:spPr>
            <a:xfrm>
              <a:off x="5018040" y="4263840"/>
              <a:ext cx="2733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886280" y="4246560"/>
              <a:ext cx="2276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Csökkené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Záró egyenle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4714920" y="4093920"/>
              <a:ext cx="4352040" cy="1544040"/>
              <a:chOff x="4714920" y="4093920"/>
              <a:chExt cx="4352040" cy="1544040"/>
            </a:xfrm>
          </p:grpSpPr>
          <p:sp>
            <p:nvSpPr>
              <p:cNvPr id="356" name=""/>
              <p:cNvSpPr/>
              <p:nvPr/>
            </p:nvSpPr>
            <p:spPr>
              <a:xfrm>
                <a:off x="6890400" y="4093920"/>
                <a:ext cx="0" cy="154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714920" y="4093920"/>
                <a:ext cx="4352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4572000" y="3597120"/>
              <a:ext cx="464832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PASSZÍV, PASSZÍV JELLEGŰ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T                   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SZÁMLÁK</a:t>
              </a: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                    K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2427120" y="4246560"/>
            <a:ext cx="206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Csökken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Záró egyenl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8" dur="1" fill="hold"/>
                                  <p:tgtEl>
                                    <p:spTgt spid="35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4648320" y="1295280"/>
            <a:ext cx="0" cy="4953240"/>
          </a:xfrm>
          <a:prstGeom prst="line">
            <a:avLst/>
          </a:prstGeom>
          <a:ln w="1260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0" y="2286000"/>
            <a:ext cx="4648320" cy="1739880"/>
            <a:chOff x="0" y="2286000"/>
            <a:chExt cx="4648320" cy="1739880"/>
          </a:xfrm>
        </p:grpSpPr>
        <p:sp>
          <p:nvSpPr>
            <p:cNvPr id="362" name=""/>
            <p:cNvSpPr/>
            <p:nvPr/>
          </p:nvSpPr>
          <p:spPr>
            <a:xfrm>
              <a:off x="0" y="230004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80880" y="2286000"/>
              <a:ext cx="42674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vagyont a számvitel kettős vetületben 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(- eszközök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- források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veszi számba, rögzíti a könyv-viteli számláko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0" y="4114800"/>
            <a:ext cx="4572000" cy="916920"/>
            <a:chOff x="0" y="4114800"/>
            <a:chExt cx="4572000" cy="916920"/>
          </a:xfrm>
        </p:grpSpPr>
        <p:sp>
          <p:nvSpPr>
            <p:cNvPr id="365" name=""/>
            <p:cNvSpPr/>
            <p:nvPr/>
          </p:nvSpPr>
          <p:spPr>
            <a:xfrm>
              <a:off x="0" y="4128840"/>
              <a:ext cx="3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80880" y="4114800"/>
              <a:ext cx="4191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kettős könyvvitelben a vagyonra ható valamennyi gazdasági esemény feljegyzésre kerül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380880" y="154080"/>
            <a:ext cx="8534520" cy="1827000"/>
            <a:chOff x="380880" y="154080"/>
            <a:chExt cx="8534520" cy="1827000"/>
          </a:xfrm>
        </p:grpSpPr>
        <p:grpSp>
          <p:nvGrpSpPr>
            <p:cNvPr id="368" name=""/>
            <p:cNvGrpSpPr/>
            <p:nvPr/>
          </p:nvGrpSpPr>
          <p:grpSpPr>
            <a:xfrm>
              <a:off x="380880" y="154080"/>
              <a:ext cx="8534520" cy="684000"/>
              <a:chOff x="380880" y="154080"/>
              <a:chExt cx="8534520" cy="684000"/>
            </a:xfrm>
          </p:grpSpPr>
          <p:sp>
            <p:nvSpPr>
              <p:cNvPr id="369" name=""/>
              <p:cNvSpPr/>
              <p:nvPr/>
            </p:nvSpPr>
            <p:spPr>
              <a:xfrm>
                <a:off x="7885080" y="154080"/>
                <a:ext cx="1030320" cy="30312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7-9.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80880" y="324000"/>
                <a:ext cx="7323120" cy="514080"/>
              </a:xfrm>
              <a:prstGeom prst="roundRect">
                <a:avLst>
                  <a:gd name="adj" fmla="val 16667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A KETTŐS KÖNYVVITE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1066680" y="1447920"/>
              <a:ext cx="3124440" cy="533160"/>
            </a:xfrm>
            <a:prstGeom prst="roundRect">
              <a:avLst>
                <a:gd name="adj" fmla="val 16667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LÉNYE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2590560" y="838080"/>
              <a:ext cx="2057400" cy="60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4648320" y="838080"/>
            <a:ext cx="3657600" cy="1143000"/>
            <a:chOff x="4648320" y="838080"/>
            <a:chExt cx="3657600" cy="1143000"/>
          </a:xfrm>
        </p:grpSpPr>
        <p:sp>
          <p:nvSpPr>
            <p:cNvPr id="374" name=""/>
            <p:cNvSpPr/>
            <p:nvPr/>
          </p:nvSpPr>
          <p:spPr>
            <a:xfrm>
              <a:off x="5181480" y="1447920"/>
              <a:ext cx="3124440" cy="533160"/>
            </a:xfrm>
            <a:prstGeom prst="roundRect">
              <a:avLst>
                <a:gd name="adj" fmla="val 16667"/>
              </a:avLst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HÁRMAS SZABÁLY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648320" y="838080"/>
              <a:ext cx="2209680" cy="60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4648320" y="2268360"/>
            <a:ext cx="4266720" cy="1465560"/>
            <a:chOff x="4648320" y="2268360"/>
            <a:chExt cx="4266720" cy="1465560"/>
          </a:xfrm>
        </p:grpSpPr>
        <p:sp>
          <p:nvSpPr>
            <p:cNvPr id="377" name=""/>
            <p:cNvSpPr/>
            <p:nvPr/>
          </p:nvSpPr>
          <p:spPr>
            <a:xfrm>
              <a:off x="4648320" y="22827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981320" y="2268360"/>
              <a:ext cx="3933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Minden gazdasági eseményt két számlán kell feljegyezni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z egyik számla TARTOZIK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egy másik számla KÖVET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oldalá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152280" y="5637240"/>
            <a:ext cx="4191120" cy="916920"/>
            <a:chOff x="152280" y="5637240"/>
            <a:chExt cx="4191120" cy="916920"/>
          </a:xfrm>
        </p:grpSpPr>
        <p:sp>
          <p:nvSpPr>
            <p:cNvPr id="380" name=""/>
            <p:cNvSpPr/>
            <p:nvPr/>
          </p:nvSpPr>
          <p:spPr>
            <a:xfrm>
              <a:off x="152280" y="5637240"/>
              <a:ext cx="4191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u-HU" sz="1800" spc="-1" strike="noStrike">
                  <a:solidFill>
                    <a:srgbClr val="333399"/>
                  </a:solidFill>
                  <a:latin typeface="Bookman Old Style"/>
                </a:rPr>
                <a:t>* A vagyon lényegét és csoporto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u-HU" sz="1800" spc="-1" strike="noStrike">
                  <a:solidFill>
                    <a:srgbClr val="333399"/>
                  </a:solidFill>
                  <a:latin typeface="Bookman Old Style"/>
                </a:rPr>
                <a:t>  </a:t>
              </a:r>
              <a:r>
                <a:rPr b="1" i="1" lang="hu-HU" sz="1800" spc="-1" strike="noStrike">
                  <a:solidFill>
                    <a:srgbClr val="333399"/>
                  </a:solidFill>
                  <a:latin typeface="Bookman Old Style"/>
                </a:rPr>
                <a:t>sítását tartalmazza a 2-1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u-HU" sz="1800" spc="-1" strike="noStrike">
                  <a:solidFill>
                    <a:srgbClr val="333399"/>
                  </a:solidFill>
                  <a:latin typeface="Bookman Old Style"/>
                </a:rPr>
                <a:t>  </a:t>
              </a:r>
              <a:r>
                <a:rPr b="1" i="1" lang="hu-HU" sz="1800" spc="-1" strike="noStrike">
                  <a:solidFill>
                    <a:srgbClr val="333399"/>
                  </a:solidFill>
                  <a:latin typeface="Bookman Old Style"/>
                </a:rPr>
                <a:t>2-2.1 vázla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28600" y="5638680"/>
              <a:ext cx="17524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4648320" y="3886200"/>
            <a:ext cx="4266720" cy="382320"/>
            <a:chOff x="4648320" y="3886200"/>
            <a:chExt cx="4266720" cy="382320"/>
          </a:xfrm>
        </p:grpSpPr>
        <p:sp>
          <p:nvSpPr>
            <p:cNvPr id="383" name=""/>
            <p:cNvSpPr/>
            <p:nvPr/>
          </p:nvSpPr>
          <p:spPr>
            <a:xfrm>
              <a:off x="4648320" y="39002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981320" y="3886200"/>
              <a:ext cx="393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zonos összegbe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4648320" y="4419720"/>
            <a:ext cx="4266720" cy="916920"/>
            <a:chOff x="4648320" y="4419720"/>
            <a:chExt cx="4266720" cy="916920"/>
          </a:xfrm>
        </p:grpSpPr>
        <p:sp>
          <p:nvSpPr>
            <p:cNvPr id="386" name=""/>
            <p:cNvSpPr/>
            <p:nvPr/>
          </p:nvSpPr>
          <p:spPr>
            <a:xfrm>
              <a:off x="4648320" y="44337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981320" y="4419720"/>
              <a:ext cx="3933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Egymással kölcsönös összefüg-gésben (az egyik változás meghatározza a másikat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648320" y="5438880"/>
            <a:ext cx="4266720" cy="1191240"/>
            <a:chOff x="4648320" y="5438880"/>
            <a:chExt cx="4266720" cy="1191240"/>
          </a:xfrm>
        </p:grpSpPr>
        <p:sp>
          <p:nvSpPr>
            <p:cNvPr id="389" name=""/>
            <p:cNvSpPr/>
            <p:nvPr/>
          </p:nvSpPr>
          <p:spPr>
            <a:xfrm>
              <a:off x="4648320" y="5453280"/>
              <a:ext cx="333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981320" y="5438880"/>
              <a:ext cx="3933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Ez a szabály biztosítja, hogy a kettős könyvvitel egy önmagá-ban számszerűen ellenőrző zárt rendszer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4724280" y="1295280"/>
            <a:ext cx="0" cy="4953240"/>
          </a:xfrm>
          <a:prstGeom prst="line">
            <a:avLst/>
          </a:prstGeom>
          <a:ln w="1260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0" y="1905120"/>
            <a:ext cx="4648320" cy="2288520"/>
            <a:chOff x="0" y="1905120"/>
            <a:chExt cx="4648320" cy="2288520"/>
          </a:xfrm>
        </p:grpSpPr>
        <p:sp>
          <p:nvSpPr>
            <p:cNvPr id="393" name=""/>
            <p:cNvSpPr/>
            <p:nvPr/>
          </p:nvSpPr>
          <p:spPr>
            <a:xfrm>
              <a:off x="0" y="191916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1905120"/>
              <a:ext cx="426744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A vállalkozó vagyonát két szempont – a vállalkozási tevé-kenységben betöltött szerepük és eredetük (ESZKÖZÖK  és FORRÁ-SOK) – szerint indokolt, a szám-vitelben kötelező csoportosítani. Az ESZKÖZÖKET és a FORRÁ-SOKAT külön-külön is ki kell mutatni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0" y="4616280"/>
            <a:ext cx="4572000" cy="642600"/>
            <a:chOff x="0" y="4616280"/>
            <a:chExt cx="4572000" cy="642600"/>
          </a:xfrm>
        </p:grpSpPr>
        <p:sp>
          <p:nvSpPr>
            <p:cNvPr id="396" name=""/>
            <p:cNvSpPr/>
            <p:nvPr/>
          </p:nvSpPr>
          <p:spPr>
            <a:xfrm>
              <a:off x="0" y="4630680"/>
              <a:ext cx="3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80880" y="4616280"/>
              <a:ext cx="4191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Minden gazdasági eseménynek kettős hatása va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380880" y="154080"/>
            <a:ext cx="8534520" cy="1522440"/>
            <a:chOff x="380880" y="154080"/>
            <a:chExt cx="8534520" cy="1522440"/>
          </a:xfrm>
        </p:grpSpPr>
        <p:grpSp>
          <p:nvGrpSpPr>
            <p:cNvPr id="399" name=""/>
            <p:cNvGrpSpPr/>
            <p:nvPr/>
          </p:nvGrpSpPr>
          <p:grpSpPr>
            <a:xfrm>
              <a:off x="380880" y="154080"/>
              <a:ext cx="8534520" cy="684000"/>
              <a:chOff x="380880" y="154080"/>
              <a:chExt cx="8534520" cy="684000"/>
            </a:xfrm>
          </p:grpSpPr>
          <p:sp>
            <p:nvSpPr>
              <p:cNvPr id="400" name=""/>
              <p:cNvSpPr/>
              <p:nvPr/>
            </p:nvSpPr>
            <p:spPr>
              <a:xfrm>
                <a:off x="7885080" y="154080"/>
                <a:ext cx="1030320" cy="30312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7-9.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80880" y="324000"/>
                <a:ext cx="7323120" cy="514080"/>
              </a:xfrm>
              <a:prstGeom prst="roundRect">
                <a:avLst>
                  <a:gd name="adj" fmla="val 16667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A KETTŐS (FELJEGYZÉS) KÖNYVVITE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"/>
            <p:cNvSpPr/>
            <p:nvPr/>
          </p:nvSpPr>
          <p:spPr>
            <a:xfrm>
              <a:off x="380880" y="1295280"/>
              <a:ext cx="1828800" cy="3812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lapj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4724280" y="4724280"/>
            <a:ext cx="4267080" cy="1144440"/>
            <a:chOff x="4724280" y="4724280"/>
            <a:chExt cx="4267080" cy="1144440"/>
          </a:xfrm>
        </p:grpSpPr>
        <p:grpSp>
          <p:nvGrpSpPr>
            <p:cNvPr id="404" name=""/>
            <p:cNvGrpSpPr/>
            <p:nvPr/>
          </p:nvGrpSpPr>
          <p:grpSpPr>
            <a:xfrm>
              <a:off x="4724280" y="5226120"/>
              <a:ext cx="4267080" cy="642600"/>
              <a:chOff x="4724280" y="5226120"/>
              <a:chExt cx="4267080" cy="642600"/>
            </a:xfrm>
          </p:grpSpPr>
          <p:sp>
            <p:nvSpPr>
              <p:cNvPr id="405" name=""/>
              <p:cNvSpPr/>
              <p:nvPr/>
            </p:nvSpPr>
            <p:spPr>
              <a:xfrm>
                <a:off x="4724280" y="5240160"/>
                <a:ext cx="33300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057280" y="5226120"/>
                <a:ext cx="3934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A vállalkozó vagyonának teljes körű, pontos kimutatása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7" name=""/>
            <p:cNvSpPr/>
            <p:nvPr/>
          </p:nvSpPr>
          <p:spPr>
            <a:xfrm>
              <a:off x="4876920" y="4724280"/>
              <a:ext cx="1828800" cy="3812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Célj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4572000" y="2954160"/>
            <a:ext cx="4343040" cy="1465560"/>
            <a:chOff x="4572000" y="2954160"/>
            <a:chExt cx="4343040" cy="1465560"/>
          </a:xfrm>
        </p:grpSpPr>
        <p:sp>
          <p:nvSpPr>
            <p:cNvPr id="409" name=""/>
            <p:cNvSpPr/>
            <p:nvPr/>
          </p:nvSpPr>
          <p:spPr>
            <a:xfrm>
              <a:off x="4572000" y="2968560"/>
              <a:ext cx="339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911120" y="2954160"/>
              <a:ext cx="40039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ha a vállalkozó anyago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vásárol hitelben (utólagos fize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és mellett), akk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NŐ az anyagai értéke é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NŐ a kötelezettség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4572000" y="1295280"/>
            <a:ext cx="4343040" cy="1465560"/>
            <a:chOff x="4572000" y="1295280"/>
            <a:chExt cx="4343040" cy="1465560"/>
          </a:xfrm>
        </p:grpSpPr>
        <p:sp>
          <p:nvSpPr>
            <p:cNvPr id="412" name=""/>
            <p:cNvSpPr/>
            <p:nvPr/>
          </p:nvSpPr>
          <p:spPr>
            <a:xfrm>
              <a:off x="4572000" y="1309680"/>
              <a:ext cx="339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911120" y="1295280"/>
              <a:ext cx="40039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Például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ha a vállalkozó anyago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vásárol készpénzért, akk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NŐ az anyagai értéke é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CSÖKKEN a pénze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"/>
          <p:cNvGrpSpPr/>
          <p:nvPr/>
        </p:nvGrpSpPr>
        <p:grpSpPr>
          <a:xfrm>
            <a:off x="228600" y="5715000"/>
            <a:ext cx="6019920" cy="836640"/>
            <a:chOff x="228600" y="5715000"/>
            <a:chExt cx="6019920" cy="836640"/>
          </a:xfrm>
        </p:grpSpPr>
        <p:sp>
          <p:nvSpPr>
            <p:cNvPr id="415" name=""/>
            <p:cNvSpPr/>
            <p:nvPr/>
          </p:nvSpPr>
          <p:spPr>
            <a:xfrm>
              <a:off x="228600" y="5727600"/>
              <a:ext cx="6019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Bookman Old Style"/>
                </a:rPr>
                <a:t>* A számlák nyitása nem gazdasági esemény, ninc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Bookman Old Style"/>
                </a:rPr>
                <a:t>  </a:t>
              </a:r>
              <a:r>
                <a:rPr b="1" i="1" lang="en-US" sz="1600" spc="-1" strike="noStrike">
                  <a:solidFill>
                    <a:srgbClr val="333399"/>
                  </a:solidFill>
                  <a:latin typeface="Bookman Old Style"/>
                </a:rPr>
                <a:t>kettős hatása, a szabály betartását egy technika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Bookman Old Style"/>
                </a:rPr>
                <a:t>  </a:t>
              </a:r>
              <a:r>
                <a:rPr b="1" i="1" lang="en-US" sz="1600" spc="-1" strike="noStrike">
                  <a:solidFill>
                    <a:srgbClr val="333399"/>
                  </a:solidFill>
                  <a:latin typeface="Bookman Old Style"/>
                </a:rPr>
                <a:t>számla szolgálja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04920" y="5715000"/>
              <a:ext cx="1523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304920" y="5181480"/>
            <a:ext cx="1447560" cy="45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X =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0" y="1219320"/>
            <a:ext cx="6858000" cy="3657600"/>
            <a:chOff x="0" y="1219320"/>
            <a:chExt cx="6858000" cy="3657600"/>
          </a:xfrm>
        </p:grpSpPr>
        <p:grpSp>
          <p:nvGrpSpPr>
            <p:cNvPr id="419" name=""/>
            <p:cNvGrpSpPr/>
            <p:nvPr/>
          </p:nvGrpSpPr>
          <p:grpSpPr>
            <a:xfrm>
              <a:off x="0" y="1219320"/>
              <a:ext cx="4495680" cy="1675800"/>
              <a:chOff x="0" y="1219320"/>
              <a:chExt cx="4495680" cy="1675800"/>
            </a:xfrm>
          </p:grpSpPr>
          <p:sp>
            <p:nvSpPr>
              <p:cNvPr id="420" name=""/>
              <p:cNvSpPr/>
              <p:nvPr/>
            </p:nvSpPr>
            <p:spPr>
              <a:xfrm>
                <a:off x="438120" y="1901880"/>
                <a:ext cx="268920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80880" y="1884240"/>
                <a:ext cx="1717920" cy="642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Nyitó egyenleg  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2" name=""/>
              <p:cNvGrpSpPr/>
              <p:nvPr/>
            </p:nvGrpSpPr>
            <p:grpSpPr>
              <a:xfrm>
                <a:off x="141120" y="1731960"/>
                <a:ext cx="4279320" cy="1163160"/>
                <a:chOff x="141120" y="1731960"/>
                <a:chExt cx="4279320" cy="116316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2280240" y="1731960"/>
                  <a:ext cx="0" cy="1163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141120" y="1731960"/>
                  <a:ext cx="4279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5" name=""/>
              <p:cNvSpPr/>
              <p:nvPr/>
            </p:nvSpPr>
            <p:spPr>
              <a:xfrm>
                <a:off x="0" y="1219320"/>
                <a:ext cx="4495680" cy="58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T           ESZKÖZ SZÁMLÁK          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2133720" y="2819520"/>
              <a:ext cx="4724280" cy="1675440"/>
              <a:chOff x="2133720" y="2819520"/>
              <a:chExt cx="4724280" cy="1675440"/>
            </a:xfrm>
          </p:grpSpPr>
          <p:sp>
            <p:nvSpPr>
              <p:cNvPr id="427" name=""/>
              <p:cNvSpPr/>
              <p:nvPr/>
            </p:nvSpPr>
            <p:spPr>
              <a:xfrm>
                <a:off x="2579760" y="3502080"/>
                <a:ext cx="27334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8" name=""/>
              <p:cNvGrpSpPr/>
              <p:nvPr/>
            </p:nvGrpSpPr>
            <p:grpSpPr>
              <a:xfrm>
                <a:off x="2276640" y="3332160"/>
                <a:ext cx="4352040" cy="1162800"/>
                <a:chOff x="2276640" y="3332160"/>
                <a:chExt cx="4352040" cy="116280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4452120" y="3332160"/>
                  <a:ext cx="0" cy="1162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2276640" y="3332160"/>
                  <a:ext cx="43520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1" name=""/>
              <p:cNvSpPr/>
              <p:nvPr/>
            </p:nvSpPr>
            <p:spPr>
              <a:xfrm>
                <a:off x="2133720" y="2819520"/>
                <a:ext cx="4647960" cy="58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T       NYITÓMÉRLEG SZÁMLA       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724280" y="3504960"/>
                <a:ext cx="2133720" cy="642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Az eszközök nyitóértéke    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1219320" y="2590920"/>
              <a:ext cx="4647960" cy="2286000"/>
              <a:chOff x="1219320" y="2590920"/>
              <a:chExt cx="4647960" cy="2286000"/>
            </a:xfrm>
          </p:grpSpPr>
          <p:sp>
            <p:nvSpPr>
              <p:cNvPr id="434" name=""/>
              <p:cNvSpPr/>
              <p:nvPr/>
            </p:nvSpPr>
            <p:spPr>
              <a:xfrm>
                <a:off x="1219320" y="4876920"/>
                <a:ext cx="464796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V="1">
                <a:off x="5867280" y="4190760"/>
                <a:ext cx="0" cy="68580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V="1">
                <a:off x="1219320" y="2590920"/>
                <a:ext cx="0" cy="228600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7" name=""/>
          <p:cNvGrpSpPr/>
          <p:nvPr/>
        </p:nvGrpSpPr>
        <p:grpSpPr>
          <a:xfrm>
            <a:off x="3124440" y="1219320"/>
            <a:ext cx="5932080" cy="3885840"/>
            <a:chOff x="3124440" y="1219320"/>
            <a:chExt cx="5932080" cy="3885840"/>
          </a:xfrm>
        </p:grpSpPr>
        <p:grpSp>
          <p:nvGrpSpPr>
            <p:cNvPr id="438" name=""/>
            <p:cNvGrpSpPr/>
            <p:nvPr/>
          </p:nvGrpSpPr>
          <p:grpSpPr>
            <a:xfrm>
              <a:off x="4572000" y="1219320"/>
              <a:ext cx="4484520" cy="1675800"/>
              <a:chOff x="4572000" y="1219320"/>
              <a:chExt cx="4484520" cy="1675800"/>
            </a:xfrm>
          </p:grpSpPr>
          <p:sp>
            <p:nvSpPr>
              <p:cNvPr id="439" name=""/>
              <p:cNvSpPr/>
              <p:nvPr/>
            </p:nvSpPr>
            <p:spPr>
              <a:xfrm>
                <a:off x="5018040" y="1901880"/>
                <a:ext cx="263844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6999120" y="1884240"/>
                <a:ext cx="1535400" cy="642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Nyitó egyenleg 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1" name=""/>
              <p:cNvGrpSpPr/>
              <p:nvPr/>
            </p:nvGrpSpPr>
            <p:grpSpPr>
              <a:xfrm>
                <a:off x="4714920" y="1731960"/>
                <a:ext cx="4199760" cy="1163160"/>
                <a:chOff x="4714920" y="1731960"/>
                <a:chExt cx="4199760" cy="116316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6814080" y="1731960"/>
                  <a:ext cx="0" cy="1163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4714920" y="1731960"/>
                  <a:ext cx="41997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4" name=""/>
              <p:cNvSpPr/>
              <p:nvPr/>
            </p:nvSpPr>
            <p:spPr>
              <a:xfrm>
                <a:off x="4572000" y="1219320"/>
                <a:ext cx="4484520" cy="58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T           FORRÁS SZÁMLÁK         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3124440" y="2514600"/>
              <a:ext cx="4647960" cy="2590560"/>
              <a:chOff x="3124440" y="2514600"/>
              <a:chExt cx="4647960" cy="2590560"/>
            </a:xfrm>
          </p:grpSpPr>
          <p:sp>
            <p:nvSpPr>
              <p:cNvPr id="446" name=""/>
              <p:cNvSpPr/>
              <p:nvPr/>
            </p:nvSpPr>
            <p:spPr>
              <a:xfrm flipH="1">
                <a:off x="3124440" y="5105160"/>
                <a:ext cx="4647960" cy="0"/>
              </a:xfrm>
              <a:prstGeom prst="line">
                <a:avLst/>
              </a:prstGeom>
              <a:ln w="3816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V="1">
                <a:off x="3124440" y="4327560"/>
                <a:ext cx="0" cy="777240"/>
              </a:xfrm>
              <a:prstGeom prst="line">
                <a:avLst/>
              </a:prstGeom>
              <a:ln w="38160">
                <a:solidFill>
                  <a:srgbClr val="9900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V="1">
                <a:off x="7772400" y="2514600"/>
                <a:ext cx="0" cy="2590560"/>
              </a:xfrm>
              <a:prstGeom prst="line">
                <a:avLst/>
              </a:prstGeom>
              <a:ln w="38160">
                <a:solidFill>
                  <a:srgbClr val="9900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9" name=""/>
          <p:cNvSpPr/>
          <p:nvPr/>
        </p:nvSpPr>
        <p:spPr>
          <a:xfrm>
            <a:off x="2133720" y="3505320"/>
            <a:ext cx="213336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A forrás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nyitóértéke  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457200" y="76320"/>
            <a:ext cx="8458200" cy="1218960"/>
            <a:chOff x="457200" y="76320"/>
            <a:chExt cx="8458200" cy="1218960"/>
          </a:xfrm>
        </p:grpSpPr>
        <p:sp>
          <p:nvSpPr>
            <p:cNvPr id="451" name=""/>
            <p:cNvSpPr/>
            <p:nvPr/>
          </p:nvSpPr>
          <p:spPr>
            <a:xfrm>
              <a:off x="8032680" y="76320"/>
              <a:ext cx="882720" cy="347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7-9.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57200" y="150840"/>
              <a:ext cx="7391520" cy="59040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KÖNYVELÉS A KETTŐS KÖNYVVITEL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HÁRMAS SZABÁLYA SZERI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57200" y="914400"/>
              <a:ext cx="4191120" cy="3808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Bookman Old Style"/>
                </a:rPr>
                <a:t>A mérleg számlák megnyitása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"/>
          <p:cNvGrpSpPr/>
          <p:nvPr/>
        </p:nvGrpSpPr>
        <p:grpSpPr>
          <a:xfrm>
            <a:off x="380880" y="154080"/>
            <a:ext cx="8534520" cy="684000"/>
            <a:chOff x="380880" y="154080"/>
            <a:chExt cx="8534520" cy="684000"/>
          </a:xfrm>
        </p:grpSpPr>
        <p:sp>
          <p:nvSpPr>
            <p:cNvPr id="455" name=""/>
            <p:cNvSpPr/>
            <p:nvPr/>
          </p:nvSpPr>
          <p:spPr>
            <a:xfrm>
              <a:off x="7885080" y="154080"/>
              <a:ext cx="1030320" cy="303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7-9.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80880" y="324000"/>
              <a:ext cx="7323120" cy="5140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Z ALAPVETŐ GAZDASÁGI MŰVELETEK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SZÁMLA ÖSSZEFÜGGÉSE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762120" y="1492200"/>
            <a:ext cx="6858000" cy="1860480"/>
            <a:chOff x="762120" y="1492200"/>
            <a:chExt cx="6858000" cy="1860480"/>
          </a:xfrm>
        </p:grpSpPr>
        <p:sp>
          <p:nvSpPr>
            <p:cNvPr id="458" name=""/>
            <p:cNvSpPr/>
            <p:nvPr/>
          </p:nvSpPr>
          <p:spPr>
            <a:xfrm>
              <a:off x="762120" y="1492200"/>
              <a:ext cx="289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T   Eszköz számla  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9" name=""/>
            <p:cNvGrpSpPr/>
            <p:nvPr/>
          </p:nvGrpSpPr>
          <p:grpSpPr>
            <a:xfrm>
              <a:off x="1143360" y="2038320"/>
              <a:ext cx="5784120" cy="457200"/>
              <a:chOff x="1143360" y="2038320"/>
              <a:chExt cx="5784120" cy="457200"/>
            </a:xfrm>
          </p:grpSpPr>
          <p:grpSp>
            <p:nvGrpSpPr>
              <p:cNvPr id="460" name=""/>
              <p:cNvGrpSpPr/>
              <p:nvPr/>
            </p:nvGrpSpPr>
            <p:grpSpPr>
              <a:xfrm>
                <a:off x="1143360" y="2038320"/>
                <a:ext cx="5783760" cy="457200"/>
                <a:chOff x="1143360" y="2038320"/>
                <a:chExt cx="5783760" cy="45720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1587960" y="2038320"/>
                  <a:ext cx="4894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1587960" y="2495520"/>
                  <a:ext cx="4894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63" name=""/>
                <p:cNvGrpSpPr/>
                <p:nvPr/>
              </p:nvGrpSpPr>
              <p:grpSpPr>
                <a:xfrm>
                  <a:off x="6482520" y="2038320"/>
                  <a:ext cx="444600" cy="456840"/>
                  <a:chOff x="6482520" y="2038320"/>
                  <a:chExt cx="444600" cy="456840"/>
                </a:xfrm>
              </p:grpSpPr>
              <p:sp>
                <p:nvSpPr>
                  <p:cNvPr id="464" name=""/>
                  <p:cNvSpPr/>
                  <p:nvPr/>
                </p:nvSpPr>
                <p:spPr>
                  <a:xfrm>
                    <a:off x="6482520" y="2038320"/>
                    <a:ext cx="44460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 flipV="1">
                    <a:off x="6482520" y="2266560"/>
                    <a:ext cx="44460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6" name=""/>
                <p:cNvGrpSpPr/>
                <p:nvPr/>
              </p:nvGrpSpPr>
              <p:grpSpPr>
                <a:xfrm>
                  <a:off x="1143360" y="2038320"/>
                  <a:ext cx="444600" cy="456840"/>
                  <a:chOff x="1143360" y="2038320"/>
                  <a:chExt cx="444600" cy="456840"/>
                </a:xfrm>
              </p:grpSpPr>
              <p:sp>
                <p:nvSpPr>
                  <p:cNvPr id="467" name=""/>
                  <p:cNvSpPr/>
                  <p:nvPr/>
                </p:nvSpPr>
                <p:spPr>
                  <a:xfrm flipH="1">
                    <a:off x="1143360" y="2038320"/>
                    <a:ext cx="44460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 flipH="1" flipV="1">
                    <a:off x="1143360" y="2266560"/>
                    <a:ext cx="44460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9" name=""/>
              <p:cNvSpPr/>
              <p:nvPr/>
            </p:nvSpPr>
            <p:spPr>
              <a:xfrm>
                <a:off x="2527200" y="2038320"/>
                <a:ext cx="440028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336760" y="2038320"/>
                <a:ext cx="2818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Eszközök bevoná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"/>
            <p:cNvGrpSpPr/>
            <p:nvPr/>
          </p:nvGrpSpPr>
          <p:grpSpPr>
            <a:xfrm>
              <a:off x="914400" y="1828800"/>
              <a:ext cx="2457360" cy="228600"/>
              <a:chOff x="914400" y="1828800"/>
              <a:chExt cx="2457360" cy="228600"/>
            </a:xfrm>
          </p:grpSpPr>
          <p:sp>
            <p:nvSpPr>
              <p:cNvPr id="472" name=""/>
              <p:cNvSpPr/>
              <p:nvPr/>
            </p:nvSpPr>
            <p:spPr>
              <a:xfrm>
                <a:off x="914400" y="1828800"/>
                <a:ext cx="245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2057400" y="182880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4" name=""/>
            <p:cNvSpPr/>
            <p:nvPr/>
          </p:nvSpPr>
          <p:spPr>
            <a:xfrm>
              <a:off x="762120" y="2071800"/>
              <a:ext cx="42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5" name=""/>
            <p:cNvGrpSpPr/>
            <p:nvPr/>
          </p:nvGrpSpPr>
          <p:grpSpPr>
            <a:xfrm>
              <a:off x="4495680" y="1828800"/>
              <a:ext cx="2954160" cy="190440"/>
              <a:chOff x="4495680" y="1828800"/>
              <a:chExt cx="2954160" cy="190440"/>
            </a:xfrm>
          </p:grpSpPr>
          <p:sp>
            <p:nvSpPr>
              <p:cNvPr id="476" name=""/>
              <p:cNvSpPr/>
              <p:nvPr/>
            </p:nvSpPr>
            <p:spPr>
              <a:xfrm>
                <a:off x="4495680" y="1828800"/>
                <a:ext cx="2954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869800" y="1828800"/>
                <a:ext cx="0" cy="190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8" name=""/>
            <p:cNvSpPr/>
            <p:nvPr/>
          </p:nvSpPr>
          <p:spPr>
            <a:xfrm>
              <a:off x="4495680" y="1538280"/>
              <a:ext cx="312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T     Forrás számla     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057400" y="2514600"/>
              <a:ext cx="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867280" y="2514600"/>
              <a:ext cx="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934320" y="2071800"/>
              <a:ext cx="50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4943160" y="2743200"/>
            <a:ext cx="3515040" cy="3584520"/>
            <a:chOff x="4943160" y="2743200"/>
            <a:chExt cx="3515040" cy="3584520"/>
          </a:xfrm>
        </p:grpSpPr>
        <p:grpSp>
          <p:nvGrpSpPr>
            <p:cNvPr id="483" name=""/>
            <p:cNvGrpSpPr/>
            <p:nvPr/>
          </p:nvGrpSpPr>
          <p:grpSpPr>
            <a:xfrm>
              <a:off x="4943160" y="2743200"/>
              <a:ext cx="3438720" cy="3033720"/>
              <a:chOff x="4943160" y="2743200"/>
              <a:chExt cx="3438720" cy="3033720"/>
            </a:xfrm>
          </p:grpSpPr>
          <p:sp>
            <p:nvSpPr>
              <p:cNvPr id="484" name=""/>
              <p:cNvSpPr/>
              <p:nvPr/>
            </p:nvSpPr>
            <p:spPr>
              <a:xfrm>
                <a:off x="6858000" y="2819520"/>
                <a:ext cx="501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H="1">
                <a:off x="5355720" y="4216320"/>
                <a:ext cx="3024360" cy="0"/>
              </a:xfrm>
              <a:prstGeom prst="line">
                <a:avLst/>
              </a:prstGeom>
              <a:ln w="284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>
                <a:off x="4943520" y="3713040"/>
                <a:ext cx="3016080" cy="0"/>
              </a:xfrm>
              <a:prstGeom prst="line">
                <a:avLst/>
              </a:prstGeom>
              <a:ln w="284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943520" y="3714840"/>
                <a:ext cx="0" cy="2062080"/>
              </a:xfrm>
              <a:prstGeom prst="line">
                <a:avLst/>
              </a:prstGeom>
              <a:ln w="284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H="1">
                <a:off x="4943160" y="5776920"/>
                <a:ext cx="979560" cy="0"/>
              </a:xfrm>
              <a:prstGeom prst="line">
                <a:avLst/>
              </a:prstGeom>
              <a:ln w="284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H="1">
                <a:off x="5106240" y="3795840"/>
                <a:ext cx="3087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  </a:t>
                </a:r>
                <a:r>
                  <a:rPr b="1" lang="en-US" sz="1800" spc="-1" strike="noStrike">
                    <a:solidFill>
                      <a:srgbClr val="990033"/>
                    </a:solidFill>
                    <a:latin typeface="Bookman Old Style"/>
                  </a:rPr>
                  <a:t>Források változá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V="1">
                <a:off x="8381880" y="2743200"/>
                <a:ext cx="0" cy="1487520"/>
              </a:xfrm>
              <a:prstGeom prst="line">
                <a:avLst/>
              </a:prstGeom>
              <a:ln w="284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V="1">
                <a:off x="7961400" y="3228840"/>
                <a:ext cx="0" cy="486000"/>
              </a:xfrm>
              <a:prstGeom prst="line">
                <a:avLst/>
              </a:prstGeom>
              <a:ln w="284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H="1">
                <a:off x="7429320" y="2743200"/>
                <a:ext cx="952200" cy="0"/>
              </a:xfrm>
              <a:prstGeom prst="line">
                <a:avLst/>
              </a:prstGeom>
              <a:ln w="284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H="1">
                <a:off x="7429680" y="3228840"/>
                <a:ext cx="529920" cy="0"/>
              </a:xfrm>
              <a:prstGeom prst="line">
                <a:avLst/>
              </a:prstGeom>
              <a:ln w="284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H="1">
                <a:off x="7172280" y="2743200"/>
                <a:ext cx="295200" cy="214200"/>
              </a:xfrm>
              <a:prstGeom prst="line">
                <a:avLst/>
              </a:prstGeom>
              <a:ln w="284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H="1" flipV="1">
                <a:off x="7162560" y="2971800"/>
                <a:ext cx="266760" cy="257040"/>
              </a:xfrm>
              <a:prstGeom prst="line">
                <a:avLst/>
              </a:prstGeom>
              <a:ln w="284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6" name=""/>
              <p:cNvGrpSpPr/>
              <p:nvPr/>
            </p:nvGrpSpPr>
            <p:grpSpPr>
              <a:xfrm>
                <a:off x="5866920" y="5257800"/>
                <a:ext cx="305280" cy="485280"/>
                <a:chOff x="5866920" y="5257800"/>
                <a:chExt cx="305280" cy="48528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5866920" y="5257800"/>
                  <a:ext cx="295200" cy="214200"/>
                </a:xfrm>
                <a:prstGeom prst="line">
                  <a:avLst/>
                </a:prstGeom>
                <a:ln w="28440">
                  <a:solidFill>
                    <a:srgbClr val="99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 flipV="1">
                  <a:off x="5905440" y="5486040"/>
                  <a:ext cx="266760" cy="257040"/>
                </a:xfrm>
                <a:prstGeom prst="line">
                  <a:avLst/>
                </a:prstGeom>
                <a:ln w="28440">
                  <a:solidFill>
                    <a:srgbClr val="99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9" name=""/>
              <p:cNvSpPr/>
              <p:nvPr/>
            </p:nvSpPr>
            <p:spPr>
              <a:xfrm flipH="1">
                <a:off x="5333760" y="5257800"/>
                <a:ext cx="530280" cy="0"/>
              </a:xfrm>
              <a:prstGeom prst="line">
                <a:avLst/>
              </a:prstGeom>
              <a:ln w="284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334120" y="4191120"/>
                <a:ext cx="0" cy="1066680"/>
              </a:xfrm>
              <a:prstGeom prst="line">
                <a:avLst/>
              </a:prstGeom>
              <a:ln w="284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1" name=""/>
            <p:cNvSpPr/>
            <p:nvPr/>
          </p:nvSpPr>
          <p:spPr>
            <a:xfrm>
              <a:off x="6248520" y="5272200"/>
              <a:ext cx="50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2" name=""/>
            <p:cNvGrpSpPr/>
            <p:nvPr/>
          </p:nvGrpSpPr>
          <p:grpSpPr>
            <a:xfrm>
              <a:off x="5575320" y="4654440"/>
              <a:ext cx="2882880" cy="1673280"/>
              <a:chOff x="5575320" y="4654440"/>
              <a:chExt cx="2882880" cy="1673280"/>
            </a:xfrm>
          </p:grpSpPr>
          <p:grpSp>
            <p:nvGrpSpPr>
              <p:cNvPr id="503" name=""/>
              <p:cNvGrpSpPr/>
              <p:nvPr/>
            </p:nvGrpSpPr>
            <p:grpSpPr>
              <a:xfrm>
                <a:off x="5575320" y="5051520"/>
                <a:ext cx="2655360" cy="1276200"/>
                <a:chOff x="5575320" y="5051520"/>
                <a:chExt cx="2655360" cy="127620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5575320" y="5051520"/>
                  <a:ext cx="2655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6810480" y="5051520"/>
                  <a:ext cx="0" cy="1276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6" name=""/>
              <p:cNvSpPr/>
              <p:nvPr/>
            </p:nvSpPr>
            <p:spPr>
              <a:xfrm>
                <a:off x="5575320" y="4654440"/>
                <a:ext cx="2882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T    Forrás számla   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7" name=""/>
          <p:cNvGrpSpPr/>
          <p:nvPr/>
        </p:nvGrpSpPr>
        <p:grpSpPr>
          <a:xfrm>
            <a:off x="532800" y="2743200"/>
            <a:ext cx="3886920" cy="3528720"/>
            <a:chOff x="532800" y="2743200"/>
            <a:chExt cx="3886920" cy="3528720"/>
          </a:xfrm>
        </p:grpSpPr>
        <p:grpSp>
          <p:nvGrpSpPr>
            <p:cNvPr id="508" name=""/>
            <p:cNvGrpSpPr/>
            <p:nvPr/>
          </p:nvGrpSpPr>
          <p:grpSpPr>
            <a:xfrm>
              <a:off x="905040" y="4599000"/>
              <a:ext cx="2981160" cy="1672920"/>
              <a:chOff x="905040" y="4599000"/>
              <a:chExt cx="2981160" cy="1672920"/>
            </a:xfrm>
          </p:grpSpPr>
          <p:grpSp>
            <p:nvGrpSpPr>
              <p:cNvPr id="509" name=""/>
              <p:cNvGrpSpPr/>
              <p:nvPr/>
            </p:nvGrpSpPr>
            <p:grpSpPr>
              <a:xfrm>
                <a:off x="905040" y="4995720"/>
                <a:ext cx="2745720" cy="1276200"/>
                <a:chOff x="905040" y="4995720"/>
                <a:chExt cx="2745720" cy="127620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905040" y="4995720"/>
                  <a:ext cx="2745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2181960" y="4995720"/>
                  <a:ext cx="0" cy="1276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2" name=""/>
              <p:cNvSpPr/>
              <p:nvPr/>
            </p:nvSpPr>
            <p:spPr>
              <a:xfrm>
                <a:off x="905040" y="4599000"/>
                <a:ext cx="298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T   Eszköz számla   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3" name=""/>
            <p:cNvSpPr/>
            <p:nvPr/>
          </p:nvSpPr>
          <p:spPr>
            <a:xfrm>
              <a:off x="609480" y="2743200"/>
              <a:ext cx="50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4" name=""/>
            <p:cNvGrpSpPr/>
            <p:nvPr/>
          </p:nvGrpSpPr>
          <p:grpSpPr>
            <a:xfrm>
              <a:off x="532800" y="3015720"/>
              <a:ext cx="3886920" cy="2851200"/>
              <a:chOff x="532800" y="3015720"/>
              <a:chExt cx="3886920" cy="2851200"/>
            </a:xfrm>
          </p:grpSpPr>
          <p:sp>
            <p:nvSpPr>
              <p:cNvPr id="515" name=""/>
              <p:cNvSpPr/>
              <p:nvPr/>
            </p:nvSpPr>
            <p:spPr>
              <a:xfrm>
                <a:off x="534600" y="4249440"/>
                <a:ext cx="34171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1009800" y="3726000"/>
                <a:ext cx="340956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419720" y="3729240"/>
                <a:ext cx="0" cy="213768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3952080" y="4249440"/>
                <a:ext cx="0" cy="112356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9" name=""/>
              <p:cNvGrpSpPr/>
              <p:nvPr/>
            </p:nvGrpSpPr>
            <p:grpSpPr>
              <a:xfrm>
                <a:off x="3042360" y="5349960"/>
                <a:ext cx="296640" cy="487800"/>
                <a:chOff x="3042360" y="5349960"/>
                <a:chExt cx="296640" cy="487800"/>
              </a:xfrm>
            </p:grpSpPr>
            <p:sp>
              <p:nvSpPr>
                <p:cNvPr id="520" name=""/>
                <p:cNvSpPr/>
                <p:nvPr/>
              </p:nvSpPr>
              <p:spPr>
                <a:xfrm flipH="1" flipV="1">
                  <a:off x="3042360" y="5618160"/>
                  <a:ext cx="296640" cy="21960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 flipH="1">
                  <a:off x="3042360" y="5349960"/>
                  <a:ext cx="253080" cy="2685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2" name=""/>
              <p:cNvSpPr/>
              <p:nvPr/>
            </p:nvSpPr>
            <p:spPr>
              <a:xfrm flipV="1">
                <a:off x="532800" y="3724560"/>
                <a:ext cx="1080" cy="52452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V="1">
                <a:off x="3300120" y="5373000"/>
                <a:ext cx="641160" cy="108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320280" y="5851080"/>
                <a:ext cx="1099080" cy="1584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08040" y="3803760"/>
                <a:ext cx="3488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  </a:t>
                </a:r>
                <a:r>
                  <a:rPr b="1" lang="en-US" sz="1800" spc="-1" strike="noStrike">
                    <a:solidFill>
                      <a:srgbClr val="333399"/>
                    </a:solidFill>
                    <a:latin typeface="Bookman Old Style"/>
                  </a:rPr>
                  <a:t>Eszközök körforgása  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533520" y="3226320"/>
                <a:ext cx="0" cy="55800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V="1">
                <a:off x="1008000" y="3224160"/>
                <a:ext cx="0" cy="50436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V="1">
                <a:off x="533520" y="3016080"/>
                <a:ext cx="236160" cy="21024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H="1" flipV="1">
                <a:off x="769680" y="3015720"/>
                <a:ext cx="239760" cy="20844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"/>
            <p:cNvSpPr/>
            <p:nvPr/>
          </p:nvSpPr>
          <p:spPr>
            <a:xfrm>
              <a:off x="2743200" y="5410080"/>
              <a:ext cx="50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2162160" y="2709720"/>
            <a:ext cx="3705120" cy="457200"/>
            <a:chOff x="2162160" y="2709720"/>
            <a:chExt cx="3705120" cy="457200"/>
          </a:xfrm>
        </p:grpSpPr>
        <p:grpSp>
          <p:nvGrpSpPr>
            <p:cNvPr id="532" name=""/>
            <p:cNvGrpSpPr/>
            <p:nvPr/>
          </p:nvGrpSpPr>
          <p:grpSpPr>
            <a:xfrm>
              <a:off x="2437920" y="2709720"/>
              <a:ext cx="3048480" cy="457200"/>
              <a:chOff x="2437920" y="2709720"/>
              <a:chExt cx="3048480" cy="457200"/>
            </a:xfrm>
          </p:grpSpPr>
          <p:grpSp>
            <p:nvGrpSpPr>
              <p:cNvPr id="533" name=""/>
              <p:cNvGrpSpPr/>
              <p:nvPr/>
            </p:nvGrpSpPr>
            <p:grpSpPr>
              <a:xfrm>
                <a:off x="2437920" y="2709720"/>
                <a:ext cx="3048120" cy="457200"/>
                <a:chOff x="2437920" y="2709720"/>
                <a:chExt cx="3048120" cy="45720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2672640" y="2709720"/>
                  <a:ext cx="2579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2672640" y="3166920"/>
                  <a:ext cx="2579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36" name=""/>
                <p:cNvGrpSpPr/>
                <p:nvPr/>
              </p:nvGrpSpPr>
              <p:grpSpPr>
                <a:xfrm>
                  <a:off x="5251680" y="2709720"/>
                  <a:ext cx="234360" cy="456840"/>
                  <a:chOff x="5251680" y="2709720"/>
                  <a:chExt cx="234360" cy="456840"/>
                </a:xfrm>
              </p:grpSpPr>
              <p:sp>
                <p:nvSpPr>
                  <p:cNvPr id="537" name=""/>
                  <p:cNvSpPr/>
                  <p:nvPr/>
                </p:nvSpPr>
                <p:spPr>
                  <a:xfrm>
                    <a:off x="5251680" y="2709720"/>
                    <a:ext cx="23436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"/>
                  <p:cNvSpPr/>
                  <p:nvPr/>
                </p:nvSpPr>
                <p:spPr>
                  <a:xfrm flipV="1">
                    <a:off x="5251680" y="2937960"/>
                    <a:ext cx="23436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9" name=""/>
                <p:cNvGrpSpPr/>
                <p:nvPr/>
              </p:nvGrpSpPr>
              <p:grpSpPr>
                <a:xfrm>
                  <a:off x="2437920" y="2709720"/>
                  <a:ext cx="234360" cy="456840"/>
                  <a:chOff x="2437920" y="2709720"/>
                  <a:chExt cx="234360" cy="456840"/>
                </a:xfrm>
              </p:grpSpPr>
              <p:sp>
                <p:nvSpPr>
                  <p:cNvPr id="540" name=""/>
                  <p:cNvSpPr/>
                  <p:nvPr/>
                </p:nvSpPr>
                <p:spPr>
                  <a:xfrm flipH="1">
                    <a:off x="2437920" y="2709720"/>
                    <a:ext cx="23436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 flipH="1" flipV="1">
                    <a:off x="2437920" y="2937960"/>
                    <a:ext cx="23436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42" name=""/>
              <p:cNvSpPr/>
              <p:nvPr/>
            </p:nvSpPr>
            <p:spPr>
              <a:xfrm>
                <a:off x="2833560" y="2709720"/>
                <a:ext cx="2652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Eszközök kivoná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3" name=""/>
            <p:cNvSpPr/>
            <p:nvPr/>
          </p:nvSpPr>
          <p:spPr>
            <a:xfrm>
              <a:off x="2162160" y="2743200"/>
              <a:ext cx="42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518080" y="2743200"/>
              <a:ext cx="34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104760" y="5334120"/>
            <a:ext cx="961920" cy="368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X &gt;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449280" y="154080"/>
            <a:ext cx="8542440" cy="761400"/>
            <a:chOff x="449280" y="154080"/>
            <a:chExt cx="8542440" cy="761400"/>
          </a:xfrm>
        </p:grpSpPr>
        <p:sp>
          <p:nvSpPr>
            <p:cNvPr id="547" name=""/>
            <p:cNvSpPr/>
            <p:nvPr/>
          </p:nvSpPr>
          <p:spPr>
            <a:xfrm>
              <a:off x="7961400" y="154080"/>
              <a:ext cx="1030320" cy="303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7-9.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8" name=""/>
            <p:cNvGrpSpPr/>
            <p:nvPr/>
          </p:nvGrpSpPr>
          <p:grpSpPr>
            <a:xfrm>
              <a:off x="449280" y="272880"/>
              <a:ext cx="7323120" cy="642600"/>
              <a:chOff x="449280" y="272880"/>
              <a:chExt cx="7323120" cy="642600"/>
            </a:xfrm>
          </p:grpSpPr>
          <p:sp>
            <p:nvSpPr>
              <p:cNvPr id="549" name=""/>
              <p:cNvSpPr/>
              <p:nvPr/>
            </p:nvSpPr>
            <p:spPr>
              <a:xfrm>
                <a:off x="449280" y="291960"/>
                <a:ext cx="7323120" cy="590400"/>
              </a:xfrm>
              <a:prstGeom prst="roundRect">
                <a:avLst>
                  <a:gd name="adj" fmla="val 16667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1680840" y="272880"/>
                <a:ext cx="4696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ÖSSZETETT GAZDASÁGI MŰVELETEK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SZÁMLA ÖSSZEFÜGGÉSEI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1" name=""/>
          <p:cNvGrpSpPr/>
          <p:nvPr/>
        </p:nvGrpSpPr>
        <p:grpSpPr>
          <a:xfrm>
            <a:off x="2075040" y="3327480"/>
            <a:ext cx="3730320" cy="1660320"/>
            <a:chOff x="2075040" y="3327480"/>
            <a:chExt cx="3730320" cy="1660320"/>
          </a:xfrm>
        </p:grpSpPr>
        <p:sp>
          <p:nvSpPr>
            <p:cNvPr id="552" name=""/>
            <p:cNvSpPr/>
            <p:nvPr/>
          </p:nvSpPr>
          <p:spPr>
            <a:xfrm>
              <a:off x="2075040" y="3327480"/>
              <a:ext cx="373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T       Forrás számla       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075040" y="3732120"/>
              <a:ext cx="373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4027320" y="3732120"/>
              <a:ext cx="0" cy="125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133880" y="4000680"/>
              <a:ext cx="100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+(x-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1142280" y="1981080"/>
            <a:ext cx="7696800" cy="3886200"/>
            <a:chOff x="1142280" y="1981080"/>
            <a:chExt cx="7696800" cy="3886200"/>
          </a:xfrm>
        </p:grpSpPr>
        <p:sp>
          <p:nvSpPr>
            <p:cNvPr id="557" name=""/>
            <p:cNvSpPr/>
            <p:nvPr/>
          </p:nvSpPr>
          <p:spPr>
            <a:xfrm>
              <a:off x="3863880" y="5305320"/>
              <a:ext cx="425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124000" y="5865840"/>
              <a:ext cx="6670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142280" y="2292480"/>
              <a:ext cx="3240" cy="357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1149480" y="5864400"/>
              <a:ext cx="974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854360" y="2292480"/>
              <a:ext cx="0" cy="300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8794800" y="2290680"/>
              <a:ext cx="0" cy="357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8115480" y="2295360"/>
              <a:ext cx="0" cy="295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854360" y="5292720"/>
              <a:ext cx="153972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854360" y="5433840"/>
              <a:ext cx="660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Eszközök körforgásával egyidejű eszközkivoná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222720" y="4038480"/>
              <a:ext cx="91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-(x-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"/>
            <p:cNvGrpSpPr/>
            <p:nvPr/>
          </p:nvGrpSpPr>
          <p:grpSpPr>
            <a:xfrm>
              <a:off x="3392640" y="4457520"/>
              <a:ext cx="472680" cy="835200"/>
              <a:chOff x="3392640" y="4457520"/>
              <a:chExt cx="472680" cy="835200"/>
            </a:xfrm>
          </p:grpSpPr>
          <p:sp>
            <p:nvSpPr>
              <p:cNvPr id="568" name=""/>
              <p:cNvSpPr/>
              <p:nvPr/>
            </p:nvSpPr>
            <p:spPr>
              <a:xfrm flipV="1">
                <a:off x="3865320" y="4577760"/>
                <a:ext cx="0" cy="714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V="1">
                <a:off x="3392640" y="4570560"/>
                <a:ext cx="0" cy="714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H="1" flipV="1">
                <a:off x="3597480" y="4457520"/>
                <a:ext cx="267840" cy="11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V="1">
                <a:off x="3394080" y="4460040"/>
                <a:ext cx="253080" cy="10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2" name=""/>
            <p:cNvSpPr/>
            <p:nvPr/>
          </p:nvSpPr>
          <p:spPr>
            <a:xfrm>
              <a:off x="1217520" y="2362320"/>
              <a:ext cx="59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+ 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523880" y="1981080"/>
              <a:ext cx="366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8091360" y="2376360"/>
              <a:ext cx="59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- 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1143000" y="1981080"/>
              <a:ext cx="3808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8472600" y="1981080"/>
              <a:ext cx="366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8091000" y="1981080"/>
              <a:ext cx="3812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200160" y="1295280"/>
            <a:ext cx="8638920" cy="3124440"/>
            <a:chOff x="200160" y="1295280"/>
            <a:chExt cx="8638920" cy="3124440"/>
          </a:xfrm>
        </p:grpSpPr>
        <p:grpSp>
          <p:nvGrpSpPr>
            <p:cNvPr id="579" name=""/>
            <p:cNvGrpSpPr/>
            <p:nvPr/>
          </p:nvGrpSpPr>
          <p:grpSpPr>
            <a:xfrm>
              <a:off x="200160" y="1295280"/>
              <a:ext cx="8638920" cy="1450440"/>
              <a:chOff x="200160" y="1295280"/>
              <a:chExt cx="8638920" cy="1450440"/>
            </a:xfrm>
          </p:grpSpPr>
          <p:grpSp>
            <p:nvGrpSpPr>
              <p:cNvPr id="580" name=""/>
              <p:cNvGrpSpPr/>
              <p:nvPr/>
            </p:nvGrpSpPr>
            <p:grpSpPr>
              <a:xfrm>
                <a:off x="5229360" y="1295280"/>
                <a:ext cx="3609720" cy="1450440"/>
                <a:chOff x="5229360" y="1295280"/>
                <a:chExt cx="3609720" cy="1450440"/>
              </a:xfrm>
            </p:grpSpPr>
            <p:sp>
              <p:nvSpPr>
                <p:cNvPr id="581" name=""/>
                <p:cNvSpPr/>
                <p:nvPr/>
              </p:nvSpPr>
              <p:spPr>
                <a:xfrm>
                  <a:off x="5229360" y="1295280"/>
                  <a:ext cx="36097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Bookman Old Style"/>
                    </a:rPr>
                    <a:t>T         Eszköz számla       K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Bookman Old Style"/>
                    </a:rPr>
                    <a:t>	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5341680" y="1649160"/>
                  <a:ext cx="3420720" cy="9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 flipV="1">
                  <a:off x="7067520" y="1648800"/>
                  <a:ext cx="0" cy="1096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4" name=""/>
              <p:cNvGrpSpPr/>
              <p:nvPr/>
            </p:nvGrpSpPr>
            <p:grpSpPr>
              <a:xfrm>
                <a:off x="200160" y="1295280"/>
                <a:ext cx="3609720" cy="1450440"/>
                <a:chOff x="200160" y="1295280"/>
                <a:chExt cx="3609720" cy="1450440"/>
              </a:xfrm>
            </p:grpSpPr>
            <p:sp>
              <p:nvSpPr>
                <p:cNvPr id="585" name=""/>
                <p:cNvSpPr/>
                <p:nvPr/>
              </p:nvSpPr>
              <p:spPr>
                <a:xfrm>
                  <a:off x="200160" y="1295280"/>
                  <a:ext cx="36097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Bookman Old Style"/>
                    </a:rPr>
                    <a:t>T         Eszköz számla       K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Bookman Old Style"/>
                    </a:rPr>
                    <a:t>	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312480" y="1649160"/>
                  <a:ext cx="3420720" cy="9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 flipV="1">
                  <a:off x="2038320" y="1648800"/>
                  <a:ext cx="0" cy="1096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8" name=""/>
            <p:cNvGrpSpPr/>
            <p:nvPr/>
          </p:nvGrpSpPr>
          <p:grpSpPr>
            <a:xfrm>
              <a:off x="2133360" y="2057040"/>
              <a:ext cx="4876920" cy="2362680"/>
              <a:chOff x="2133360" y="2057040"/>
              <a:chExt cx="4876920" cy="2362680"/>
            </a:xfrm>
          </p:grpSpPr>
          <p:sp>
            <p:nvSpPr>
              <p:cNvPr id="589" name=""/>
              <p:cNvSpPr/>
              <p:nvPr/>
            </p:nvSpPr>
            <p:spPr>
              <a:xfrm>
                <a:off x="2867040" y="2071800"/>
                <a:ext cx="3973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V="1">
                <a:off x="2133720" y="2070000"/>
                <a:ext cx="180720" cy="29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314440" y="2070000"/>
                <a:ext cx="5526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2" name=""/>
              <p:cNvGrpSpPr/>
              <p:nvPr/>
            </p:nvGrpSpPr>
            <p:grpSpPr>
              <a:xfrm>
                <a:off x="5356080" y="3886200"/>
                <a:ext cx="968040" cy="512280"/>
                <a:chOff x="5356080" y="3886200"/>
                <a:chExt cx="968040" cy="51228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5556960" y="3886200"/>
                  <a:ext cx="767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 flipH="1">
                  <a:off x="5356080" y="3886200"/>
                  <a:ext cx="200880" cy="286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 flipH="1" flipV="1">
                  <a:off x="5356080" y="4173120"/>
                  <a:ext cx="200880" cy="225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6" name=""/>
              <p:cNvSpPr/>
              <p:nvPr/>
            </p:nvSpPr>
            <p:spPr>
              <a:xfrm>
                <a:off x="2133720" y="2070000"/>
                <a:ext cx="4419360" cy="58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buClr>
                    <a:srgbClr val="000000"/>
                  </a:buClr>
                  <a:buFont typeface="Bookman Old Style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y   Eszközök körforgásával  + 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 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egyidejű eszközbevoná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H="1" flipV="1">
                <a:off x="2133360" y="2362320"/>
                <a:ext cx="22860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H="1" flipV="1">
                <a:off x="6781320" y="2057040"/>
                <a:ext cx="228600" cy="29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V="1">
                <a:off x="6781680" y="2361960"/>
                <a:ext cx="228600" cy="29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781680" y="2666880"/>
                <a:ext cx="0" cy="175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562720" y="4419720"/>
                <a:ext cx="121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362320" y="2666880"/>
                <a:ext cx="396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V="1">
                <a:off x="6324480" y="266652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4" name=""/>
          <p:cNvGrpSpPr/>
          <p:nvPr/>
        </p:nvGrpSpPr>
        <p:grpSpPr>
          <a:xfrm>
            <a:off x="380880" y="154080"/>
            <a:ext cx="8534520" cy="684000"/>
            <a:chOff x="380880" y="154080"/>
            <a:chExt cx="8534520" cy="684000"/>
          </a:xfrm>
        </p:grpSpPr>
        <p:sp>
          <p:nvSpPr>
            <p:cNvPr id="605" name=""/>
            <p:cNvSpPr/>
            <p:nvPr/>
          </p:nvSpPr>
          <p:spPr>
            <a:xfrm>
              <a:off x="7885080" y="154080"/>
              <a:ext cx="1030320" cy="303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7-9.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880" y="324000"/>
              <a:ext cx="7323120" cy="5140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MÉRLEG SZÁMLÁK ZÁRÁ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200160" y="1946160"/>
            <a:ext cx="6640200" cy="3921120"/>
            <a:chOff x="200160" y="1946160"/>
            <a:chExt cx="6640200" cy="3921120"/>
          </a:xfrm>
        </p:grpSpPr>
        <p:grpSp>
          <p:nvGrpSpPr>
            <p:cNvPr id="608" name=""/>
            <p:cNvGrpSpPr/>
            <p:nvPr/>
          </p:nvGrpSpPr>
          <p:grpSpPr>
            <a:xfrm>
              <a:off x="200160" y="1946160"/>
              <a:ext cx="3758760" cy="1450440"/>
              <a:chOff x="200160" y="1946160"/>
              <a:chExt cx="3758760" cy="1450440"/>
            </a:xfrm>
          </p:grpSpPr>
          <p:sp>
            <p:nvSpPr>
              <p:cNvPr id="609" name=""/>
              <p:cNvSpPr/>
              <p:nvPr/>
            </p:nvSpPr>
            <p:spPr>
              <a:xfrm>
                <a:off x="200160" y="1946160"/>
                <a:ext cx="37587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T     Eszköz számlák       K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	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317160" y="2300040"/>
                <a:ext cx="35622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V="1">
                <a:off x="2114280" y="2299680"/>
                <a:ext cx="0" cy="109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"/>
            <p:cNvSpPr/>
            <p:nvPr/>
          </p:nvSpPr>
          <p:spPr>
            <a:xfrm>
              <a:off x="2362320" y="2479680"/>
              <a:ext cx="1218960" cy="7970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Záró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egyenle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3" name=""/>
            <p:cNvGrpSpPr/>
            <p:nvPr/>
          </p:nvGrpSpPr>
          <p:grpSpPr>
            <a:xfrm>
              <a:off x="1905120" y="3276360"/>
              <a:ext cx="4935240" cy="2590920"/>
              <a:chOff x="1905120" y="3276360"/>
              <a:chExt cx="4935240" cy="2590920"/>
            </a:xfrm>
          </p:grpSpPr>
          <p:sp>
            <p:nvSpPr>
              <p:cNvPr id="614" name=""/>
              <p:cNvSpPr/>
              <p:nvPr/>
            </p:nvSpPr>
            <p:spPr>
              <a:xfrm>
                <a:off x="2209680" y="4206960"/>
                <a:ext cx="4630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T     Zárómérleg számla     K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2608200" y="4611600"/>
                <a:ext cx="3730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V="1">
                <a:off x="4560840" y="4611600"/>
                <a:ext cx="0" cy="1255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590920" y="4800600"/>
                <a:ext cx="1828800" cy="6858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2000" spc="-1" strike="noStrike">
                    <a:solidFill>
                      <a:srgbClr val="000000"/>
                    </a:solidFill>
                    <a:latin typeface="Bookman Old Style"/>
                  </a:rPr>
                  <a:t>Az eszközök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2000" spc="-1" strike="noStrike">
                    <a:solidFill>
                      <a:srgbClr val="000000"/>
                    </a:solidFill>
                    <a:latin typeface="Bookman Old Style"/>
                  </a:rPr>
                  <a:t>záróérték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8" name=""/>
              <p:cNvGrpSpPr/>
              <p:nvPr/>
            </p:nvGrpSpPr>
            <p:grpSpPr>
              <a:xfrm>
                <a:off x="1905120" y="3276360"/>
                <a:ext cx="1142280" cy="1981440"/>
                <a:chOff x="1905120" y="3276360"/>
                <a:chExt cx="1142280" cy="1981440"/>
              </a:xfrm>
            </p:grpSpPr>
            <p:sp>
              <p:nvSpPr>
                <p:cNvPr id="619" name=""/>
                <p:cNvSpPr/>
                <p:nvPr/>
              </p:nvSpPr>
              <p:spPr>
                <a:xfrm>
                  <a:off x="1905120" y="5257800"/>
                  <a:ext cx="685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 flipV="1">
                  <a:off x="1905120" y="3276360"/>
                  <a:ext cx="1142280" cy="1981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21" name=""/>
          <p:cNvGrpSpPr/>
          <p:nvPr/>
        </p:nvGrpSpPr>
        <p:grpSpPr>
          <a:xfrm>
            <a:off x="4724280" y="1946160"/>
            <a:ext cx="4114440" cy="3540240"/>
            <a:chOff x="4724280" y="1946160"/>
            <a:chExt cx="4114440" cy="3540240"/>
          </a:xfrm>
        </p:grpSpPr>
        <p:grpSp>
          <p:nvGrpSpPr>
            <p:cNvPr id="622" name=""/>
            <p:cNvGrpSpPr/>
            <p:nvPr/>
          </p:nvGrpSpPr>
          <p:grpSpPr>
            <a:xfrm>
              <a:off x="5181480" y="1946160"/>
              <a:ext cx="3657240" cy="1450440"/>
              <a:chOff x="5181480" y="1946160"/>
              <a:chExt cx="3657240" cy="1450440"/>
            </a:xfrm>
          </p:grpSpPr>
          <p:sp>
            <p:nvSpPr>
              <p:cNvPr id="623" name=""/>
              <p:cNvSpPr/>
              <p:nvPr/>
            </p:nvSpPr>
            <p:spPr>
              <a:xfrm>
                <a:off x="5181480" y="1946160"/>
                <a:ext cx="36572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T      Forrás számlák      K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	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295600" y="2300040"/>
                <a:ext cx="346608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V="1">
                <a:off x="7044120" y="2299680"/>
                <a:ext cx="0" cy="109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6" name=""/>
            <p:cNvSpPr/>
            <p:nvPr/>
          </p:nvSpPr>
          <p:spPr>
            <a:xfrm>
              <a:off x="5562720" y="2438280"/>
              <a:ext cx="1295280" cy="7970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Záró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egyenle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724280" y="4800600"/>
              <a:ext cx="1828800" cy="6858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Bookman Old Style"/>
                </a:rPr>
                <a:t>A források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Bookman Old Style"/>
                </a:rPr>
                <a:t>záróérték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8" name=""/>
            <p:cNvGrpSpPr/>
            <p:nvPr/>
          </p:nvGrpSpPr>
          <p:grpSpPr>
            <a:xfrm>
              <a:off x="6248520" y="3276360"/>
              <a:ext cx="1371600" cy="1981440"/>
              <a:chOff x="6248520" y="3276360"/>
              <a:chExt cx="1371600" cy="1981440"/>
            </a:xfrm>
          </p:grpSpPr>
          <p:sp>
            <p:nvSpPr>
              <p:cNvPr id="629" name=""/>
              <p:cNvSpPr/>
              <p:nvPr/>
            </p:nvSpPr>
            <p:spPr>
              <a:xfrm flipH="1">
                <a:off x="6613560" y="5257800"/>
                <a:ext cx="1006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H="1" flipV="1">
                <a:off x="6248520" y="3276360"/>
                <a:ext cx="1371600" cy="19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39720" y="2743200"/>
            <a:ext cx="7894800" cy="1143000"/>
          </a:xfrm>
          <a:prstGeom prst="rect">
            <a:avLst/>
          </a:prstGeom>
          <a:gradFill rotWithShape="0">
            <a:gsLst>
              <a:gs pos="0">
                <a:srgbClr val="009999">
                  <a:alpha val="68235"/>
                </a:srgbClr>
              </a:gs>
              <a:gs pos="100000">
                <a:srgbClr val="007979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7. KÖNYVVITELI ALAPFOGALM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1" name=""/>
          <p:cNvGrpSpPr/>
          <p:nvPr/>
        </p:nvGrpSpPr>
        <p:grpSpPr>
          <a:xfrm>
            <a:off x="228600" y="154080"/>
            <a:ext cx="8839080" cy="684000"/>
            <a:chOff x="228600" y="154080"/>
            <a:chExt cx="8839080" cy="684000"/>
          </a:xfrm>
        </p:grpSpPr>
        <p:sp>
          <p:nvSpPr>
            <p:cNvPr id="632" name=""/>
            <p:cNvSpPr/>
            <p:nvPr/>
          </p:nvSpPr>
          <p:spPr>
            <a:xfrm>
              <a:off x="8037360" y="154080"/>
              <a:ext cx="1030320" cy="303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7-10.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28600" y="324000"/>
              <a:ext cx="7696080" cy="5140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KÖNYVVITELI SZÁMLÁK CSOPORTOSÍTÁSA ALAKILA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0" y="1066680"/>
            <a:ext cx="4876920" cy="2837160"/>
            <a:chOff x="0" y="1066680"/>
            <a:chExt cx="4876920" cy="2837160"/>
          </a:xfrm>
        </p:grpSpPr>
        <p:sp>
          <p:nvSpPr>
            <p:cNvPr id="635" name=""/>
            <p:cNvSpPr/>
            <p:nvPr/>
          </p:nvSpPr>
          <p:spPr>
            <a:xfrm>
              <a:off x="0" y="10810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80880" y="1066680"/>
              <a:ext cx="4496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Az eddigi vázlatokon ( a mérlegben és a könyviteli  számlákon) a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AKTÍVÁKAT (ESZKÖZÖKET) és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PASSZÍVÁKAT (FORRÁSOKAT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egyetlen értéken mutattuk ki. A gyakorlatban többször előfordul, hogy az eszközöket és a forrásokat többféle értéken kell kimutatni, vagy lehetőséget kell biztosítani a különböző értékek megállapításár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7" name=""/>
          <p:cNvSpPr/>
          <p:nvPr/>
        </p:nvSpPr>
        <p:spPr>
          <a:xfrm>
            <a:off x="4876920" y="1295280"/>
            <a:ext cx="0" cy="4953240"/>
          </a:xfrm>
          <a:prstGeom prst="line">
            <a:avLst/>
          </a:prstGeom>
          <a:ln w="1260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0" y="4191120"/>
            <a:ext cx="4876560" cy="1465560"/>
            <a:chOff x="0" y="4191120"/>
            <a:chExt cx="4876560" cy="1465560"/>
          </a:xfrm>
        </p:grpSpPr>
        <p:sp>
          <p:nvSpPr>
            <p:cNvPr id="639" name=""/>
            <p:cNvSpPr/>
            <p:nvPr/>
          </p:nvSpPr>
          <p:spPr>
            <a:xfrm>
              <a:off x="0" y="4205160"/>
              <a:ext cx="3790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06080" y="4191120"/>
              <a:ext cx="44704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Közismert igény A BEFEKTETETT ESZKÖZÖ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BRUTTÓ é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NETTÓ ÉRTÉKÉNEK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KIMUTATÁS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1" name=""/>
          <p:cNvGrpSpPr/>
          <p:nvPr/>
        </p:nvGrpSpPr>
        <p:grpSpPr>
          <a:xfrm>
            <a:off x="4800600" y="1066680"/>
            <a:ext cx="4343040" cy="1739880"/>
            <a:chOff x="4800600" y="1066680"/>
            <a:chExt cx="4343040" cy="1739880"/>
          </a:xfrm>
        </p:grpSpPr>
        <p:sp>
          <p:nvSpPr>
            <p:cNvPr id="642" name=""/>
            <p:cNvSpPr/>
            <p:nvPr/>
          </p:nvSpPr>
          <p:spPr>
            <a:xfrm>
              <a:off x="4800600" y="108108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139720" y="1066680"/>
              <a:ext cx="40039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Ezért a gyakorlatban az ALAPVET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KTÍV é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PASSZÍV számlák mellet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szükség v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RENDSZEREZŐ számlákra i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4800600" y="2771640"/>
            <a:ext cx="4266720" cy="1191240"/>
            <a:chOff x="4800600" y="2771640"/>
            <a:chExt cx="4266720" cy="1191240"/>
          </a:xfrm>
        </p:grpSpPr>
        <p:sp>
          <p:nvSpPr>
            <p:cNvPr id="645" name=""/>
            <p:cNvSpPr/>
            <p:nvPr/>
          </p:nvSpPr>
          <p:spPr>
            <a:xfrm>
              <a:off x="4800600" y="2786040"/>
              <a:ext cx="333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33600" y="2771640"/>
              <a:ext cx="3933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A rendszerező számlák kapcso-lódnak valamely alapvető számlához, azokkal összefügg-nek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4800600" y="3962520"/>
            <a:ext cx="4266720" cy="3111480"/>
            <a:chOff x="4800600" y="3962520"/>
            <a:chExt cx="4266720" cy="3111480"/>
          </a:xfrm>
        </p:grpSpPr>
        <p:sp>
          <p:nvSpPr>
            <p:cNvPr id="648" name=""/>
            <p:cNvSpPr/>
            <p:nvPr/>
          </p:nvSpPr>
          <p:spPr>
            <a:xfrm>
              <a:off x="4800600" y="39765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133600" y="3962520"/>
              <a:ext cx="3933720" cy="31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RENDSZEREZŐ SZÁMLÁK CSOPORTOSÍTÁSA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HELYESBÍTŐ SZÁMLÁ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KONTRAAKTÍV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KONRTRAPASSZÍV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számlák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- KIEGÉSZÍTŐ SZÁMLÁ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KTÍV KIEGÉSZÍTŐ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PASSZÍV KIEGÉSZÍT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számlák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"/>
          <p:cNvGrpSpPr/>
          <p:nvPr/>
        </p:nvGrpSpPr>
        <p:grpSpPr>
          <a:xfrm>
            <a:off x="380880" y="154080"/>
            <a:ext cx="8534520" cy="817560"/>
            <a:chOff x="380880" y="154080"/>
            <a:chExt cx="8534520" cy="817560"/>
          </a:xfrm>
        </p:grpSpPr>
        <p:sp>
          <p:nvSpPr>
            <p:cNvPr id="651" name=""/>
            <p:cNvSpPr/>
            <p:nvPr/>
          </p:nvSpPr>
          <p:spPr>
            <a:xfrm>
              <a:off x="7885080" y="154080"/>
              <a:ext cx="1030320" cy="303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7-10.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80880" y="304920"/>
              <a:ext cx="7323120" cy="6667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Z ALAPVETŐ ÉS A RENDSZEREZŐ SZÁMLÁ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SEMATIKUS BEMUTATÁ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228600" y="5105520"/>
            <a:ext cx="8623080" cy="1675440"/>
            <a:chOff x="228600" y="5105520"/>
            <a:chExt cx="8623080" cy="1675440"/>
          </a:xfrm>
        </p:grpSpPr>
        <p:grpSp>
          <p:nvGrpSpPr>
            <p:cNvPr id="654" name=""/>
            <p:cNvGrpSpPr/>
            <p:nvPr/>
          </p:nvGrpSpPr>
          <p:grpSpPr>
            <a:xfrm>
              <a:off x="228600" y="5884920"/>
              <a:ext cx="4127400" cy="896040"/>
              <a:chOff x="228600" y="5884920"/>
              <a:chExt cx="4127400" cy="896040"/>
            </a:xfrm>
          </p:grpSpPr>
          <p:grpSp>
            <p:nvGrpSpPr>
              <p:cNvPr id="655" name=""/>
              <p:cNvGrpSpPr/>
              <p:nvPr/>
            </p:nvGrpSpPr>
            <p:grpSpPr>
              <a:xfrm>
                <a:off x="374760" y="6190920"/>
                <a:ext cx="3834720" cy="590040"/>
                <a:chOff x="374760" y="6190920"/>
                <a:chExt cx="3834720" cy="590040"/>
              </a:xfrm>
            </p:grpSpPr>
            <p:sp>
              <p:nvSpPr>
                <p:cNvPr id="656" name=""/>
                <p:cNvSpPr/>
                <p:nvPr/>
              </p:nvSpPr>
              <p:spPr>
                <a:xfrm>
                  <a:off x="2291400" y="6190920"/>
                  <a:ext cx="0" cy="590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374760" y="6190920"/>
                  <a:ext cx="3834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8" name=""/>
              <p:cNvSpPr/>
              <p:nvPr/>
            </p:nvSpPr>
            <p:spPr>
              <a:xfrm>
                <a:off x="228600" y="5884920"/>
                <a:ext cx="412740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T  Aktív kiegészítő számlák   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1219320" y="62481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Bookman Old Style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124080" y="62481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Bookman Old Style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1" name=""/>
            <p:cNvGrpSpPr/>
            <p:nvPr/>
          </p:nvGrpSpPr>
          <p:grpSpPr>
            <a:xfrm>
              <a:off x="4572000" y="5884920"/>
              <a:ext cx="4279680" cy="896040"/>
              <a:chOff x="4572000" y="5884920"/>
              <a:chExt cx="4279680" cy="896040"/>
            </a:xfrm>
          </p:grpSpPr>
          <p:grpSp>
            <p:nvGrpSpPr>
              <p:cNvPr id="662" name=""/>
              <p:cNvGrpSpPr/>
              <p:nvPr/>
            </p:nvGrpSpPr>
            <p:grpSpPr>
              <a:xfrm>
                <a:off x="4723560" y="6190920"/>
                <a:ext cx="3976200" cy="590040"/>
                <a:chOff x="4723560" y="6190920"/>
                <a:chExt cx="3976200" cy="590040"/>
              </a:xfrm>
            </p:grpSpPr>
            <p:sp>
              <p:nvSpPr>
                <p:cNvPr id="663" name=""/>
                <p:cNvSpPr/>
                <p:nvPr/>
              </p:nvSpPr>
              <p:spPr>
                <a:xfrm>
                  <a:off x="6711120" y="6190920"/>
                  <a:ext cx="0" cy="590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4723560" y="6190920"/>
                  <a:ext cx="39762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5" name=""/>
              <p:cNvSpPr/>
              <p:nvPr/>
            </p:nvSpPr>
            <p:spPr>
              <a:xfrm>
                <a:off x="4572000" y="5884920"/>
                <a:ext cx="427968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T  Passzív kiegészítő számlák   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599080" y="6248160"/>
                <a:ext cx="473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Bookman Old Style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574400" y="6248160"/>
                <a:ext cx="473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Bookman Old Style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8" name=""/>
            <p:cNvSpPr/>
            <p:nvPr/>
          </p:nvSpPr>
          <p:spPr>
            <a:xfrm>
              <a:off x="2438280" y="5105520"/>
              <a:ext cx="4038840" cy="3808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Kiegészítő számlá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9" name=""/>
            <p:cNvGrpSpPr/>
            <p:nvPr/>
          </p:nvGrpSpPr>
          <p:grpSpPr>
            <a:xfrm>
              <a:off x="2209680" y="5486040"/>
              <a:ext cx="4876920" cy="380880"/>
              <a:chOff x="2209680" y="5486040"/>
              <a:chExt cx="4876920" cy="380880"/>
            </a:xfrm>
          </p:grpSpPr>
          <p:sp>
            <p:nvSpPr>
              <p:cNvPr id="670" name=""/>
              <p:cNvSpPr/>
              <p:nvPr/>
            </p:nvSpPr>
            <p:spPr>
              <a:xfrm flipV="1">
                <a:off x="2209680" y="5486040"/>
                <a:ext cx="2438640" cy="30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495680" y="5486400"/>
                <a:ext cx="2590920" cy="38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2" name=""/>
          <p:cNvGrpSpPr/>
          <p:nvPr/>
        </p:nvGrpSpPr>
        <p:grpSpPr>
          <a:xfrm>
            <a:off x="228600" y="2819520"/>
            <a:ext cx="8623080" cy="2209320"/>
            <a:chOff x="228600" y="2819520"/>
            <a:chExt cx="8623080" cy="2209320"/>
          </a:xfrm>
        </p:grpSpPr>
        <p:sp>
          <p:nvSpPr>
            <p:cNvPr id="673" name=""/>
            <p:cNvSpPr/>
            <p:nvPr/>
          </p:nvSpPr>
          <p:spPr>
            <a:xfrm>
              <a:off x="2438280" y="2819520"/>
              <a:ext cx="4038840" cy="3808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Rendszerező számlá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438280" y="3276720"/>
              <a:ext cx="4038840" cy="3808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Helyesbítő számlá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5" name=""/>
            <p:cNvGrpSpPr/>
            <p:nvPr/>
          </p:nvGrpSpPr>
          <p:grpSpPr>
            <a:xfrm>
              <a:off x="228600" y="4132440"/>
              <a:ext cx="4127400" cy="896400"/>
              <a:chOff x="228600" y="4132440"/>
              <a:chExt cx="4127400" cy="896400"/>
            </a:xfrm>
          </p:grpSpPr>
          <p:grpSp>
            <p:nvGrpSpPr>
              <p:cNvPr id="676" name=""/>
              <p:cNvGrpSpPr/>
              <p:nvPr/>
            </p:nvGrpSpPr>
            <p:grpSpPr>
              <a:xfrm>
                <a:off x="374760" y="4438440"/>
                <a:ext cx="3834720" cy="590400"/>
                <a:chOff x="374760" y="4438440"/>
                <a:chExt cx="3834720" cy="59040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2291400" y="4438440"/>
                  <a:ext cx="0" cy="590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374760" y="4438440"/>
                  <a:ext cx="3834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9" name=""/>
              <p:cNvSpPr/>
              <p:nvPr/>
            </p:nvSpPr>
            <p:spPr>
              <a:xfrm>
                <a:off x="228600" y="4132440"/>
                <a:ext cx="412740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800" spc="-1" strike="noStrike">
                    <a:solidFill>
                      <a:srgbClr val="000000"/>
                    </a:solidFill>
                    <a:latin typeface="Bookman Old Style"/>
                  </a:rPr>
                  <a:t>T    Kontraaktív számlák      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1219320" y="44956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Bookman Old Style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3124080" y="44956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Bookman Old Style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2" name=""/>
            <p:cNvGrpSpPr/>
            <p:nvPr/>
          </p:nvGrpSpPr>
          <p:grpSpPr>
            <a:xfrm>
              <a:off x="4724280" y="4132440"/>
              <a:ext cx="4127400" cy="896400"/>
              <a:chOff x="4724280" y="4132440"/>
              <a:chExt cx="4127400" cy="896400"/>
            </a:xfrm>
          </p:grpSpPr>
          <p:grpSp>
            <p:nvGrpSpPr>
              <p:cNvPr id="683" name=""/>
              <p:cNvGrpSpPr/>
              <p:nvPr/>
            </p:nvGrpSpPr>
            <p:grpSpPr>
              <a:xfrm>
                <a:off x="4870440" y="4438440"/>
                <a:ext cx="3834720" cy="590400"/>
                <a:chOff x="4870440" y="4438440"/>
                <a:chExt cx="3834720" cy="590400"/>
              </a:xfrm>
            </p:grpSpPr>
            <p:sp>
              <p:nvSpPr>
                <p:cNvPr id="684" name=""/>
                <p:cNvSpPr/>
                <p:nvPr/>
              </p:nvSpPr>
              <p:spPr>
                <a:xfrm>
                  <a:off x="6787080" y="4438440"/>
                  <a:ext cx="0" cy="590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4870440" y="4438440"/>
                  <a:ext cx="3834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6" name=""/>
              <p:cNvSpPr/>
              <p:nvPr/>
            </p:nvSpPr>
            <p:spPr>
              <a:xfrm>
                <a:off x="4724280" y="4132440"/>
                <a:ext cx="412740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800" spc="-1" strike="noStrike">
                    <a:solidFill>
                      <a:srgbClr val="000000"/>
                    </a:solidFill>
                    <a:latin typeface="Bookman Old Style"/>
                  </a:rPr>
                  <a:t>T    Kontrapasszív számlák     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715000" y="44956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Bookman Old Style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7619760" y="44956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Bookman Old Style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9" name=""/>
            <p:cNvGrpSpPr/>
            <p:nvPr/>
          </p:nvGrpSpPr>
          <p:grpSpPr>
            <a:xfrm>
              <a:off x="2209680" y="3657600"/>
              <a:ext cx="4876920" cy="380880"/>
              <a:chOff x="2209680" y="3657600"/>
              <a:chExt cx="4876920" cy="380880"/>
            </a:xfrm>
          </p:grpSpPr>
          <p:sp>
            <p:nvSpPr>
              <p:cNvPr id="690" name=""/>
              <p:cNvSpPr/>
              <p:nvPr/>
            </p:nvSpPr>
            <p:spPr>
              <a:xfrm flipV="1">
                <a:off x="2209680" y="3657600"/>
                <a:ext cx="243864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495680" y="3657600"/>
                <a:ext cx="25909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92" name=""/>
          <p:cNvGrpSpPr/>
          <p:nvPr/>
        </p:nvGrpSpPr>
        <p:grpSpPr>
          <a:xfrm>
            <a:off x="216000" y="1219320"/>
            <a:ext cx="8623080" cy="1600200"/>
            <a:chOff x="216000" y="1219320"/>
            <a:chExt cx="8623080" cy="1600200"/>
          </a:xfrm>
        </p:grpSpPr>
        <p:sp>
          <p:nvSpPr>
            <p:cNvPr id="693" name=""/>
            <p:cNvSpPr/>
            <p:nvPr/>
          </p:nvSpPr>
          <p:spPr>
            <a:xfrm>
              <a:off x="2438280" y="1219320"/>
              <a:ext cx="4038840" cy="3808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lapvető számlá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4" name=""/>
            <p:cNvGrpSpPr/>
            <p:nvPr/>
          </p:nvGrpSpPr>
          <p:grpSpPr>
            <a:xfrm>
              <a:off x="216000" y="1922400"/>
              <a:ext cx="4127400" cy="897120"/>
              <a:chOff x="216000" y="1922400"/>
              <a:chExt cx="4127400" cy="897120"/>
            </a:xfrm>
          </p:grpSpPr>
          <p:grpSp>
            <p:nvGrpSpPr>
              <p:cNvPr id="695" name=""/>
              <p:cNvGrpSpPr/>
              <p:nvPr/>
            </p:nvGrpSpPr>
            <p:grpSpPr>
              <a:xfrm>
                <a:off x="362160" y="2228760"/>
                <a:ext cx="3834720" cy="590760"/>
                <a:chOff x="362160" y="2228760"/>
                <a:chExt cx="3834720" cy="590760"/>
              </a:xfrm>
            </p:grpSpPr>
            <p:sp>
              <p:nvSpPr>
                <p:cNvPr id="696" name=""/>
                <p:cNvSpPr/>
                <p:nvPr/>
              </p:nvSpPr>
              <p:spPr>
                <a:xfrm>
                  <a:off x="2278800" y="2228760"/>
                  <a:ext cx="0" cy="590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362160" y="2228760"/>
                  <a:ext cx="3834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8" name=""/>
              <p:cNvSpPr/>
              <p:nvPr/>
            </p:nvSpPr>
            <p:spPr>
              <a:xfrm>
                <a:off x="216000" y="1922400"/>
                <a:ext cx="412740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T          Aktív számlák            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1206720" y="22860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Bookman Old Style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3111480" y="22860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Bookman Old Style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4711680" y="1922400"/>
              <a:ext cx="4127400" cy="897120"/>
              <a:chOff x="4711680" y="1922400"/>
              <a:chExt cx="4127400" cy="897120"/>
            </a:xfrm>
          </p:grpSpPr>
          <p:grpSp>
            <p:nvGrpSpPr>
              <p:cNvPr id="702" name=""/>
              <p:cNvGrpSpPr/>
              <p:nvPr/>
            </p:nvGrpSpPr>
            <p:grpSpPr>
              <a:xfrm>
                <a:off x="4857840" y="2228760"/>
                <a:ext cx="3834720" cy="590760"/>
                <a:chOff x="4857840" y="2228760"/>
                <a:chExt cx="3834720" cy="590760"/>
              </a:xfrm>
            </p:grpSpPr>
            <p:sp>
              <p:nvSpPr>
                <p:cNvPr id="703" name=""/>
                <p:cNvSpPr/>
                <p:nvPr/>
              </p:nvSpPr>
              <p:spPr>
                <a:xfrm>
                  <a:off x="6774480" y="2228760"/>
                  <a:ext cx="0" cy="590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4857840" y="2228760"/>
                  <a:ext cx="3834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5" name=""/>
              <p:cNvSpPr/>
              <p:nvPr/>
            </p:nvSpPr>
            <p:spPr>
              <a:xfrm>
                <a:off x="4711680" y="1922400"/>
                <a:ext cx="412740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T         Passzív számlák            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702400" y="22860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Bookman Old Style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607160" y="22860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Bookman Old Style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8" name=""/>
            <p:cNvGrpSpPr/>
            <p:nvPr/>
          </p:nvGrpSpPr>
          <p:grpSpPr>
            <a:xfrm>
              <a:off x="2209680" y="1600200"/>
              <a:ext cx="4876920" cy="380880"/>
              <a:chOff x="2209680" y="1600200"/>
              <a:chExt cx="4876920" cy="380880"/>
            </a:xfrm>
          </p:grpSpPr>
          <p:sp>
            <p:nvSpPr>
              <p:cNvPr id="709" name=""/>
              <p:cNvSpPr/>
              <p:nvPr/>
            </p:nvSpPr>
            <p:spPr>
              <a:xfrm flipV="1">
                <a:off x="2209680" y="1600200"/>
                <a:ext cx="243864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4495680" y="1600200"/>
                <a:ext cx="25909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8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1" name=""/>
          <p:cNvGrpSpPr/>
          <p:nvPr/>
        </p:nvGrpSpPr>
        <p:grpSpPr>
          <a:xfrm>
            <a:off x="380880" y="154080"/>
            <a:ext cx="8534520" cy="817560"/>
            <a:chOff x="380880" y="154080"/>
            <a:chExt cx="8534520" cy="817560"/>
          </a:xfrm>
        </p:grpSpPr>
        <p:sp>
          <p:nvSpPr>
            <p:cNvPr id="712" name=""/>
            <p:cNvSpPr/>
            <p:nvPr/>
          </p:nvSpPr>
          <p:spPr>
            <a:xfrm>
              <a:off x="7885080" y="154080"/>
              <a:ext cx="1030320" cy="303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7-10.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80880" y="304920"/>
              <a:ext cx="7323120" cy="6667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PÉLDA A KONTRAAKTÍV SZÁMLA ALKALMAZÁSÁR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228600" y="1676520"/>
            <a:ext cx="8763120" cy="1828800"/>
            <a:chOff x="228600" y="1676520"/>
            <a:chExt cx="8763120" cy="1828800"/>
          </a:xfrm>
        </p:grpSpPr>
        <p:grpSp>
          <p:nvGrpSpPr>
            <p:cNvPr id="715" name=""/>
            <p:cNvGrpSpPr/>
            <p:nvPr/>
          </p:nvGrpSpPr>
          <p:grpSpPr>
            <a:xfrm>
              <a:off x="1447920" y="2068560"/>
              <a:ext cx="3793320" cy="1339560"/>
              <a:chOff x="1447920" y="2068560"/>
              <a:chExt cx="3793320" cy="1339560"/>
            </a:xfrm>
          </p:grpSpPr>
          <p:sp>
            <p:nvSpPr>
              <p:cNvPr id="716" name=""/>
              <p:cNvSpPr/>
              <p:nvPr/>
            </p:nvSpPr>
            <p:spPr>
              <a:xfrm>
                <a:off x="3344040" y="2068560"/>
                <a:ext cx="0" cy="1339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447920" y="2068560"/>
                <a:ext cx="3793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2232000" y="2413080"/>
              <a:ext cx="114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317600" y="1676520"/>
              <a:ext cx="38862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T              Épületek              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733920" y="2666880"/>
              <a:ext cx="1577880" cy="1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334120" y="2413080"/>
              <a:ext cx="365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BRUTTÓ ÉRTÉK     =  1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28600" y="2141640"/>
              <a:ext cx="1295280" cy="136368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ktí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száml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152280" y="3879720"/>
            <a:ext cx="8763120" cy="1789920"/>
            <a:chOff x="152280" y="3879720"/>
            <a:chExt cx="8763120" cy="1789920"/>
          </a:xfrm>
        </p:grpSpPr>
        <p:grpSp>
          <p:nvGrpSpPr>
            <p:cNvPr id="724" name=""/>
            <p:cNvGrpSpPr/>
            <p:nvPr/>
          </p:nvGrpSpPr>
          <p:grpSpPr>
            <a:xfrm>
              <a:off x="1311120" y="4202280"/>
              <a:ext cx="3869640" cy="1339200"/>
              <a:chOff x="1311120" y="4202280"/>
              <a:chExt cx="3869640" cy="1339200"/>
            </a:xfrm>
          </p:grpSpPr>
          <p:sp>
            <p:nvSpPr>
              <p:cNvPr id="725" name=""/>
              <p:cNvSpPr/>
              <p:nvPr/>
            </p:nvSpPr>
            <p:spPr>
              <a:xfrm>
                <a:off x="3245400" y="4202280"/>
                <a:ext cx="0" cy="1339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1311120" y="4202280"/>
                <a:ext cx="3869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"/>
            <p:cNvSpPr/>
            <p:nvPr/>
          </p:nvSpPr>
          <p:spPr>
            <a:xfrm>
              <a:off x="2971800" y="4343400"/>
              <a:ext cx="114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164960" y="3879720"/>
              <a:ext cx="477864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T   Épületek értékcsökkenése  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908160" y="4572000"/>
              <a:ext cx="1349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257800" y="4343400"/>
              <a:ext cx="3657600" cy="13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ÉRTÉKCSÖKKENÉS =  4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Bookman Old Style"/>
                </a:rPr>
                <a:t>NETTÓ ÉRTÉK         = 6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52280" y="4275000"/>
              <a:ext cx="1371600" cy="1363680"/>
            </a:xfrm>
            <a:prstGeom prst="rightArrow">
              <a:avLst>
                <a:gd name="adj1" fmla="val 50000"/>
                <a:gd name="adj2" fmla="val 2514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Kont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ktí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száml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105160" y="5181480"/>
              <a:ext cx="365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3" name=""/>
          <p:cNvGrpSpPr/>
          <p:nvPr/>
        </p:nvGrpSpPr>
        <p:grpSpPr>
          <a:xfrm>
            <a:off x="380880" y="154080"/>
            <a:ext cx="8534520" cy="817560"/>
            <a:chOff x="380880" y="154080"/>
            <a:chExt cx="8534520" cy="817560"/>
          </a:xfrm>
        </p:grpSpPr>
        <p:sp>
          <p:nvSpPr>
            <p:cNvPr id="734" name=""/>
            <p:cNvSpPr/>
            <p:nvPr/>
          </p:nvSpPr>
          <p:spPr>
            <a:xfrm>
              <a:off x="7885080" y="154080"/>
              <a:ext cx="1030320" cy="303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7-10.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80880" y="304920"/>
              <a:ext cx="7323120" cy="6667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PÉLDA A KONTRAPASSZÍV SZÁMLA ALKALMAZÁSÁR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6" name=""/>
          <p:cNvGrpSpPr/>
          <p:nvPr/>
        </p:nvGrpSpPr>
        <p:grpSpPr>
          <a:xfrm>
            <a:off x="228600" y="1371600"/>
            <a:ext cx="8763120" cy="1828800"/>
            <a:chOff x="228600" y="1371600"/>
            <a:chExt cx="8763120" cy="1828800"/>
          </a:xfrm>
        </p:grpSpPr>
        <p:grpSp>
          <p:nvGrpSpPr>
            <p:cNvPr id="737" name=""/>
            <p:cNvGrpSpPr/>
            <p:nvPr/>
          </p:nvGrpSpPr>
          <p:grpSpPr>
            <a:xfrm>
              <a:off x="228600" y="1371600"/>
              <a:ext cx="8763120" cy="1828800"/>
              <a:chOff x="228600" y="1371600"/>
              <a:chExt cx="8763120" cy="1828800"/>
            </a:xfrm>
          </p:grpSpPr>
          <p:grpSp>
            <p:nvGrpSpPr>
              <p:cNvPr id="738" name=""/>
              <p:cNvGrpSpPr/>
              <p:nvPr/>
            </p:nvGrpSpPr>
            <p:grpSpPr>
              <a:xfrm>
                <a:off x="1447920" y="1763640"/>
                <a:ext cx="3793320" cy="1339560"/>
                <a:chOff x="1447920" y="1763640"/>
                <a:chExt cx="3793320" cy="1339560"/>
              </a:xfrm>
            </p:grpSpPr>
            <p:sp>
              <p:nvSpPr>
                <p:cNvPr id="739" name=""/>
                <p:cNvSpPr/>
                <p:nvPr/>
              </p:nvSpPr>
              <p:spPr>
                <a:xfrm>
                  <a:off x="3344040" y="1763640"/>
                  <a:ext cx="0" cy="1339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1447920" y="1763640"/>
                  <a:ext cx="3793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1" name=""/>
              <p:cNvSpPr/>
              <p:nvPr/>
            </p:nvSpPr>
            <p:spPr>
              <a:xfrm>
                <a:off x="3271680" y="2108160"/>
                <a:ext cx="114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1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317600" y="1371600"/>
                <a:ext cx="388620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T          Jegyzett tőke            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5334120" y="2108160"/>
                <a:ext cx="3657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BEJEGYZETT TŐKE = 1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228600" y="1836720"/>
                <a:ext cx="1295280" cy="136368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Passzív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száml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>
              <a:off x="4191120" y="2361960"/>
              <a:ext cx="990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6" name=""/>
          <p:cNvGrpSpPr/>
          <p:nvPr/>
        </p:nvGrpSpPr>
        <p:grpSpPr>
          <a:xfrm>
            <a:off x="304920" y="3429000"/>
            <a:ext cx="8762400" cy="2252520"/>
            <a:chOff x="304920" y="3429000"/>
            <a:chExt cx="8762400" cy="2252520"/>
          </a:xfrm>
        </p:grpSpPr>
        <p:grpSp>
          <p:nvGrpSpPr>
            <p:cNvPr id="747" name=""/>
            <p:cNvGrpSpPr/>
            <p:nvPr/>
          </p:nvGrpSpPr>
          <p:grpSpPr>
            <a:xfrm>
              <a:off x="1463400" y="3970440"/>
              <a:ext cx="3869280" cy="1339200"/>
              <a:chOff x="1463400" y="3970440"/>
              <a:chExt cx="3869280" cy="1339200"/>
            </a:xfrm>
          </p:grpSpPr>
          <p:sp>
            <p:nvSpPr>
              <p:cNvPr id="748" name=""/>
              <p:cNvSpPr/>
              <p:nvPr/>
            </p:nvSpPr>
            <p:spPr>
              <a:xfrm>
                <a:off x="3397320" y="3970440"/>
                <a:ext cx="0" cy="1339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1463400" y="3970440"/>
                <a:ext cx="3869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0" name=""/>
            <p:cNvSpPr/>
            <p:nvPr/>
          </p:nvSpPr>
          <p:spPr>
            <a:xfrm>
              <a:off x="2361960" y="4111560"/>
              <a:ext cx="114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393560" y="3429000"/>
              <a:ext cx="477792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T   Jegyzett, de még be nem    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fizetett tők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410080" y="4111560"/>
              <a:ext cx="3657240" cy="15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MÉG BE NE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FIZETETT TŐKE     =    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Bookman Old Style"/>
                </a:rPr>
                <a:t>MŰKÖDŐ TŐKE*     =    8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04920" y="4043160"/>
              <a:ext cx="1371240" cy="1363680"/>
            </a:xfrm>
            <a:prstGeom prst="rightArrow">
              <a:avLst>
                <a:gd name="adj1" fmla="val 50000"/>
                <a:gd name="adj2" fmla="val 2513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Kont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passzí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száml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181480" y="5178240"/>
              <a:ext cx="3657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267080" y="4340160"/>
              <a:ext cx="990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152280" y="5987880"/>
            <a:ext cx="7162560" cy="642600"/>
            <a:chOff x="152280" y="5987880"/>
            <a:chExt cx="7162560" cy="642600"/>
          </a:xfrm>
        </p:grpSpPr>
        <p:sp>
          <p:nvSpPr>
            <p:cNvPr id="757" name=""/>
            <p:cNvSpPr/>
            <p:nvPr/>
          </p:nvSpPr>
          <p:spPr>
            <a:xfrm>
              <a:off x="152280" y="5987880"/>
              <a:ext cx="7162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333399"/>
                  </a:solidFill>
                  <a:latin typeface="Bookman Old Style"/>
                </a:rPr>
                <a:t>* A működő tőke meghatározásánál esetenként még má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333399"/>
                  </a:solidFill>
                  <a:latin typeface="Bookman Old Style"/>
                </a:rPr>
                <a:t>  </a:t>
              </a:r>
              <a:r>
                <a:rPr b="1" i="1" lang="en-US" sz="1800" spc="-1" strike="noStrike">
                  <a:solidFill>
                    <a:srgbClr val="333399"/>
                  </a:solidFill>
                  <a:latin typeface="Bookman Old Style"/>
                </a:rPr>
                <a:t>tételt is le kell vonni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82600" y="5989320"/>
              <a:ext cx="299484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9" name=""/>
          <p:cNvGrpSpPr/>
          <p:nvPr/>
        </p:nvGrpSpPr>
        <p:grpSpPr>
          <a:xfrm>
            <a:off x="304920" y="154080"/>
            <a:ext cx="8686440" cy="988920"/>
            <a:chOff x="304920" y="154080"/>
            <a:chExt cx="8686440" cy="988920"/>
          </a:xfrm>
        </p:grpSpPr>
        <p:sp>
          <p:nvSpPr>
            <p:cNvPr id="760" name=""/>
            <p:cNvSpPr/>
            <p:nvPr/>
          </p:nvSpPr>
          <p:spPr>
            <a:xfrm>
              <a:off x="7952040" y="154080"/>
              <a:ext cx="1039320" cy="303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7-10.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04920" y="476280"/>
              <a:ext cx="7764120" cy="6667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PÉLDA AZ AKTÍV KIEGÉSZÍTŐ SZÁMLA ALKALMAZÁSÁR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228600" y="1371600"/>
            <a:ext cx="8763120" cy="1828800"/>
            <a:chOff x="228600" y="1371600"/>
            <a:chExt cx="8763120" cy="1828800"/>
          </a:xfrm>
        </p:grpSpPr>
        <p:grpSp>
          <p:nvGrpSpPr>
            <p:cNvPr id="763" name=""/>
            <p:cNvGrpSpPr/>
            <p:nvPr/>
          </p:nvGrpSpPr>
          <p:grpSpPr>
            <a:xfrm>
              <a:off x="1447920" y="1763640"/>
              <a:ext cx="3793320" cy="1339560"/>
              <a:chOff x="1447920" y="1763640"/>
              <a:chExt cx="3793320" cy="1339560"/>
            </a:xfrm>
          </p:grpSpPr>
          <p:sp>
            <p:nvSpPr>
              <p:cNvPr id="764" name=""/>
              <p:cNvSpPr/>
              <p:nvPr/>
            </p:nvSpPr>
            <p:spPr>
              <a:xfrm>
                <a:off x="3344040" y="1763640"/>
                <a:ext cx="0" cy="1339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1447920" y="1763640"/>
                <a:ext cx="3793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6" name=""/>
            <p:cNvSpPr/>
            <p:nvPr/>
          </p:nvSpPr>
          <p:spPr>
            <a:xfrm>
              <a:off x="2209680" y="2108160"/>
              <a:ext cx="114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317600" y="1371600"/>
              <a:ext cx="38862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T              Anyagok                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334120" y="2108160"/>
              <a:ext cx="3657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NYAGOK ÉRTÉK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VÉTELÁRON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         = 1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28600" y="1836720"/>
              <a:ext cx="1295280" cy="136368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ktí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száml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191120" y="2362320"/>
              <a:ext cx="990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"/>
          <p:cNvGrpSpPr/>
          <p:nvPr/>
        </p:nvGrpSpPr>
        <p:grpSpPr>
          <a:xfrm>
            <a:off x="304920" y="3575160"/>
            <a:ext cx="8839080" cy="2276280"/>
            <a:chOff x="304920" y="3575160"/>
            <a:chExt cx="8839080" cy="2276280"/>
          </a:xfrm>
        </p:grpSpPr>
        <p:grpSp>
          <p:nvGrpSpPr>
            <p:cNvPr id="772" name=""/>
            <p:cNvGrpSpPr/>
            <p:nvPr/>
          </p:nvGrpSpPr>
          <p:grpSpPr>
            <a:xfrm>
              <a:off x="1463760" y="3970440"/>
              <a:ext cx="3869640" cy="1339560"/>
              <a:chOff x="1463760" y="3970440"/>
              <a:chExt cx="3869640" cy="1339560"/>
            </a:xfrm>
          </p:grpSpPr>
          <p:sp>
            <p:nvSpPr>
              <p:cNvPr id="773" name=""/>
              <p:cNvSpPr/>
              <p:nvPr/>
            </p:nvSpPr>
            <p:spPr>
              <a:xfrm>
                <a:off x="3398040" y="3970440"/>
                <a:ext cx="0" cy="1339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1463760" y="3970440"/>
                <a:ext cx="3869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5" name=""/>
            <p:cNvSpPr/>
            <p:nvPr/>
          </p:nvSpPr>
          <p:spPr>
            <a:xfrm>
              <a:off x="2362320" y="4111560"/>
              <a:ext cx="114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371600" y="3575160"/>
              <a:ext cx="47782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T   Anyagok szállítási költsége  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257800" y="4111560"/>
              <a:ext cx="38862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NYAGOK ÉRTÉKÉ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NÖVELŐ SZÁLLÍTÁSI KÖLTSÉG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 =     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Bookman Old Style"/>
                </a:rPr>
                <a:t>AZ ANYAGOK ÉRTÉK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Bookman Old Style"/>
                </a:rPr>
                <a:t>BESZERZÉSI ÁRON    = 10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04920" y="4043520"/>
              <a:ext cx="1371600" cy="1363680"/>
            </a:xfrm>
            <a:prstGeom prst="rightArrow">
              <a:avLst>
                <a:gd name="adj1" fmla="val 50000"/>
                <a:gd name="adj2" fmla="val 2514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ktí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kiegészít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száml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181480" y="5178600"/>
              <a:ext cx="365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267080" y="4340160"/>
              <a:ext cx="990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"/>
          <p:cNvGrpSpPr/>
          <p:nvPr/>
        </p:nvGrpSpPr>
        <p:grpSpPr>
          <a:xfrm>
            <a:off x="380880" y="154080"/>
            <a:ext cx="8610840" cy="988920"/>
            <a:chOff x="380880" y="154080"/>
            <a:chExt cx="8610840" cy="988920"/>
          </a:xfrm>
        </p:grpSpPr>
        <p:sp>
          <p:nvSpPr>
            <p:cNvPr id="782" name=""/>
            <p:cNvSpPr/>
            <p:nvPr/>
          </p:nvSpPr>
          <p:spPr>
            <a:xfrm>
              <a:off x="7961400" y="154080"/>
              <a:ext cx="1030320" cy="303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7-10.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80880" y="476280"/>
              <a:ext cx="7696440" cy="6667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PÉLDA A PASSZÍV KIEGÉSZÍTŐ SZÁMLA ALKALMAZÁSÁR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4" name=""/>
          <p:cNvGrpSpPr/>
          <p:nvPr/>
        </p:nvGrpSpPr>
        <p:grpSpPr>
          <a:xfrm>
            <a:off x="228600" y="1371600"/>
            <a:ext cx="8763120" cy="1828800"/>
            <a:chOff x="228600" y="1371600"/>
            <a:chExt cx="8763120" cy="1828800"/>
          </a:xfrm>
        </p:grpSpPr>
        <p:grpSp>
          <p:nvGrpSpPr>
            <p:cNvPr id="785" name=""/>
            <p:cNvGrpSpPr/>
            <p:nvPr/>
          </p:nvGrpSpPr>
          <p:grpSpPr>
            <a:xfrm>
              <a:off x="1447920" y="1763640"/>
              <a:ext cx="3793320" cy="1339560"/>
              <a:chOff x="1447920" y="1763640"/>
              <a:chExt cx="3793320" cy="1339560"/>
            </a:xfrm>
          </p:grpSpPr>
          <p:sp>
            <p:nvSpPr>
              <p:cNvPr id="786" name=""/>
              <p:cNvSpPr/>
              <p:nvPr/>
            </p:nvSpPr>
            <p:spPr>
              <a:xfrm>
                <a:off x="3344040" y="1763640"/>
                <a:ext cx="0" cy="1339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1447920" y="1763640"/>
                <a:ext cx="3793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8" name=""/>
            <p:cNvSpPr/>
            <p:nvPr/>
          </p:nvSpPr>
          <p:spPr>
            <a:xfrm>
              <a:off x="3271680" y="2108160"/>
              <a:ext cx="114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317600" y="1371600"/>
              <a:ext cx="38862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T       Eredménytartalék        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334120" y="2108160"/>
              <a:ext cx="3657600" cy="83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Z ELŐZŐ ÉVEK MÉ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FEL NEM HASZNÁL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EREDMÉNYE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          = 1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28600" y="1836720"/>
              <a:ext cx="1295280" cy="136368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Passzí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száml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191120" y="2362320"/>
              <a:ext cx="990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304920" y="3575160"/>
            <a:ext cx="8991360" cy="1863360"/>
            <a:chOff x="304920" y="3575160"/>
            <a:chExt cx="8991360" cy="1863360"/>
          </a:xfrm>
        </p:grpSpPr>
        <p:grpSp>
          <p:nvGrpSpPr>
            <p:cNvPr id="794" name=""/>
            <p:cNvGrpSpPr/>
            <p:nvPr/>
          </p:nvGrpSpPr>
          <p:grpSpPr>
            <a:xfrm>
              <a:off x="1463760" y="3970440"/>
              <a:ext cx="3869640" cy="1339560"/>
              <a:chOff x="1463760" y="3970440"/>
              <a:chExt cx="3869640" cy="1339560"/>
            </a:xfrm>
          </p:grpSpPr>
          <p:sp>
            <p:nvSpPr>
              <p:cNvPr id="795" name=""/>
              <p:cNvSpPr/>
              <p:nvPr/>
            </p:nvSpPr>
            <p:spPr>
              <a:xfrm>
                <a:off x="3398040" y="3970440"/>
                <a:ext cx="0" cy="1339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1463760" y="3970440"/>
                <a:ext cx="3869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7" name=""/>
            <p:cNvSpPr/>
            <p:nvPr/>
          </p:nvSpPr>
          <p:spPr>
            <a:xfrm>
              <a:off x="3348000" y="4111560"/>
              <a:ext cx="114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371600" y="3575160"/>
              <a:ext cx="47782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T   Mérleg szerinti eredmény  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410080" y="4111560"/>
              <a:ext cx="3886200" cy="13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TÁRGYÉV                 EREDMÉNYE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         =    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Bookman Old Style"/>
                </a:rPr>
                <a:t>RENDELKEZÉS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Bookman Old Style"/>
                </a:rPr>
                <a:t>ÁLLÓ EREDMÉNY       = 10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04920" y="4043520"/>
              <a:ext cx="1371600" cy="1363680"/>
            </a:xfrm>
            <a:prstGeom prst="rightArrow">
              <a:avLst>
                <a:gd name="adj1" fmla="val 50000"/>
                <a:gd name="adj2" fmla="val 2514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Passzí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kiegészít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száml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181480" y="4800600"/>
              <a:ext cx="365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267080" y="4340160"/>
              <a:ext cx="990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3" name=""/>
          <p:cNvGrpSpPr/>
          <p:nvPr/>
        </p:nvGrpSpPr>
        <p:grpSpPr>
          <a:xfrm>
            <a:off x="380880" y="154080"/>
            <a:ext cx="8534520" cy="684000"/>
            <a:chOff x="380880" y="154080"/>
            <a:chExt cx="8534520" cy="684000"/>
          </a:xfrm>
        </p:grpSpPr>
        <p:sp>
          <p:nvSpPr>
            <p:cNvPr id="804" name=""/>
            <p:cNvSpPr/>
            <p:nvPr/>
          </p:nvSpPr>
          <p:spPr>
            <a:xfrm>
              <a:off x="7885080" y="154080"/>
              <a:ext cx="1030320" cy="303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7-11.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80880" y="324000"/>
              <a:ext cx="7323120" cy="5140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KÖNYVVITELI SZÁMLÁK TARTAL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6" name=""/>
          <p:cNvSpPr/>
          <p:nvPr/>
        </p:nvSpPr>
        <p:spPr>
          <a:xfrm>
            <a:off x="4724280" y="1295280"/>
            <a:ext cx="0" cy="4953240"/>
          </a:xfrm>
          <a:prstGeom prst="line">
            <a:avLst/>
          </a:prstGeom>
          <a:ln w="1260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"/>
          <p:cNvGrpSpPr/>
          <p:nvPr/>
        </p:nvGrpSpPr>
        <p:grpSpPr>
          <a:xfrm>
            <a:off x="0" y="1368360"/>
            <a:ext cx="4876920" cy="1832760"/>
            <a:chOff x="0" y="1368360"/>
            <a:chExt cx="4876920" cy="1832760"/>
          </a:xfrm>
        </p:grpSpPr>
        <p:grpSp>
          <p:nvGrpSpPr>
            <p:cNvPr id="808" name=""/>
            <p:cNvGrpSpPr/>
            <p:nvPr/>
          </p:nvGrpSpPr>
          <p:grpSpPr>
            <a:xfrm>
              <a:off x="0" y="1368360"/>
              <a:ext cx="4876920" cy="642600"/>
              <a:chOff x="0" y="1368360"/>
              <a:chExt cx="4876920" cy="642600"/>
            </a:xfrm>
          </p:grpSpPr>
          <p:sp>
            <p:nvSpPr>
              <p:cNvPr id="809" name=""/>
              <p:cNvSpPr/>
              <p:nvPr/>
            </p:nvSpPr>
            <p:spPr>
              <a:xfrm>
                <a:off x="0" y="13827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80880" y="1368360"/>
                <a:ext cx="4496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A számvitel célja a vagyon és a vagyonváltozás kimutatása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1" name=""/>
            <p:cNvSpPr/>
            <p:nvPr/>
          </p:nvSpPr>
          <p:spPr>
            <a:xfrm>
              <a:off x="0" y="202392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80880" y="2009880"/>
              <a:ext cx="4267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vagyon kimutatását szolgáló eszköz és forrás számlák fogalmát, csoportosítását az előző vázlatok tartalmazzák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"/>
          <p:cNvGrpSpPr/>
          <p:nvPr/>
        </p:nvGrpSpPr>
        <p:grpSpPr>
          <a:xfrm>
            <a:off x="0" y="3429000"/>
            <a:ext cx="4723920" cy="2014200"/>
            <a:chOff x="0" y="3429000"/>
            <a:chExt cx="4723920" cy="2014200"/>
          </a:xfrm>
        </p:grpSpPr>
        <p:sp>
          <p:nvSpPr>
            <p:cNvPr id="814" name=""/>
            <p:cNvSpPr/>
            <p:nvPr/>
          </p:nvSpPr>
          <p:spPr>
            <a:xfrm>
              <a:off x="0" y="3443400"/>
              <a:ext cx="36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93480" y="3429000"/>
              <a:ext cx="433044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A megalapozott döntésekhez ismerni kell a vagyon változását (az eredmény alakulását) előidéző gazdasági eseményeket. A tevé-kenysé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költségeit (ráfordításait) é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bevételei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6" name=""/>
          <p:cNvGrpSpPr/>
          <p:nvPr/>
        </p:nvGrpSpPr>
        <p:grpSpPr>
          <a:xfrm>
            <a:off x="4724280" y="3429000"/>
            <a:ext cx="4419360" cy="1465560"/>
            <a:chOff x="4724280" y="3429000"/>
            <a:chExt cx="4419360" cy="1465560"/>
          </a:xfrm>
        </p:grpSpPr>
        <p:sp>
          <p:nvSpPr>
            <p:cNvPr id="817" name=""/>
            <p:cNvSpPr/>
            <p:nvPr/>
          </p:nvSpPr>
          <p:spPr>
            <a:xfrm>
              <a:off x="4724280" y="3443400"/>
              <a:ext cx="34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070960" y="3429000"/>
              <a:ext cx="40726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Tehát az EREDMÉNYSZÁMLÁ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KÖLTSÉGEKET (RÁFORDÍTÁ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SOKAT)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BEVÉTELEKET (HOZAMOKA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tartalmaznak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9" name=""/>
          <p:cNvGrpSpPr/>
          <p:nvPr/>
        </p:nvGrpSpPr>
        <p:grpSpPr>
          <a:xfrm>
            <a:off x="4724280" y="1384200"/>
            <a:ext cx="4419360" cy="1663920"/>
            <a:chOff x="4724280" y="1384200"/>
            <a:chExt cx="4419360" cy="1663920"/>
          </a:xfrm>
        </p:grpSpPr>
        <p:grpSp>
          <p:nvGrpSpPr>
            <p:cNvPr id="820" name=""/>
            <p:cNvGrpSpPr/>
            <p:nvPr/>
          </p:nvGrpSpPr>
          <p:grpSpPr>
            <a:xfrm>
              <a:off x="4724280" y="1384200"/>
              <a:ext cx="4419360" cy="1465560"/>
              <a:chOff x="4724280" y="1384200"/>
              <a:chExt cx="4419360" cy="1465560"/>
            </a:xfrm>
          </p:grpSpPr>
          <p:sp>
            <p:nvSpPr>
              <p:cNvPr id="821" name=""/>
              <p:cNvSpPr/>
              <p:nvPr/>
            </p:nvSpPr>
            <p:spPr>
              <a:xfrm>
                <a:off x="4724280" y="1398600"/>
                <a:ext cx="34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5070960" y="1384200"/>
                <a:ext cx="407268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A bevételek és a költségek közötti különbség az EREDMÉNY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Ezért a költség (ráfordítás) számlákat együttesen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	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	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       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nevezik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3" name=""/>
            <p:cNvSpPr/>
            <p:nvPr/>
          </p:nvSpPr>
          <p:spPr>
            <a:xfrm>
              <a:off x="5105520" y="2819520"/>
              <a:ext cx="2666880" cy="2286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Eredményszámlákna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4" name=""/>
          <p:cNvGrpSpPr/>
          <p:nvPr/>
        </p:nvGrpSpPr>
        <p:grpSpPr>
          <a:xfrm>
            <a:off x="372960" y="76320"/>
            <a:ext cx="8618760" cy="838080"/>
            <a:chOff x="372960" y="76320"/>
            <a:chExt cx="8618760" cy="838080"/>
          </a:xfrm>
        </p:grpSpPr>
        <p:sp>
          <p:nvSpPr>
            <p:cNvPr id="825" name=""/>
            <p:cNvSpPr/>
            <p:nvPr/>
          </p:nvSpPr>
          <p:spPr>
            <a:xfrm>
              <a:off x="7961400" y="76320"/>
              <a:ext cx="1030320" cy="303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7-11.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72960" y="457200"/>
              <a:ext cx="7932960" cy="45720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Z EREDMÉNYSZÁMLÁK LEVEZETÉSE A MÉRLEGSZÁMLÁKBÓL I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380880" y="1066680"/>
            <a:ext cx="8000280" cy="1388160"/>
            <a:chOff x="380880" y="1066680"/>
            <a:chExt cx="8000280" cy="1388160"/>
          </a:xfrm>
        </p:grpSpPr>
        <p:sp>
          <p:nvSpPr>
            <p:cNvPr id="828" name=""/>
            <p:cNvSpPr/>
            <p:nvPr/>
          </p:nvSpPr>
          <p:spPr>
            <a:xfrm>
              <a:off x="380880" y="1081080"/>
              <a:ext cx="62460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005480" y="1066680"/>
              <a:ext cx="7375680" cy="138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termelés érdekében felhasznált élő és holt munka értéke a befejezetlen termelés értékét növeli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Ezért a BEFEJEZETLEN TERMELÉS SZÁMLA TARTO-ZIK OLDALÁN, mint eszközt növelő tétel a TERMELÉ-SI KÖLTSÉG szerepel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0" name=""/>
          <p:cNvGrpSpPr/>
          <p:nvPr/>
        </p:nvGrpSpPr>
        <p:grpSpPr>
          <a:xfrm>
            <a:off x="380880" y="2573280"/>
            <a:ext cx="7848000" cy="1388160"/>
            <a:chOff x="380880" y="2573280"/>
            <a:chExt cx="7848000" cy="1388160"/>
          </a:xfrm>
        </p:grpSpPr>
        <p:sp>
          <p:nvSpPr>
            <p:cNvPr id="831" name=""/>
            <p:cNvSpPr/>
            <p:nvPr/>
          </p:nvSpPr>
          <p:spPr>
            <a:xfrm>
              <a:off x="380880" y="2587320"/>
              <a:ext cx="61056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023840" y="2573280"/>
              <a:ext cx="7205040" cy="138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termelési folyamat végén elkészült késztermék a termelés hozama és ez csökkenti a befejezetlen termelés értékét, így a BEFEJEZETLEN TERMELÉS SZÁMLA KÖVETEL OLDALÁN, mint csökkentő tétel a raktárra vett HOZAM van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"/>
          <p:cNvGrpSpPr/>
          <p:nvPr/>
        </p:nvGrpSpPr>
        <p:grpSpPr>
          <a:xfrm>
            <a:off x="304920" y="4114800"/>
            <a:ext cx="8610120" cy="2666880"/>
            <a:chOff x="304920" y="4114800"/>
            <a:chExt cx="8610120" cy="2666880"/>
          </a:xfrm>
        </p:grpSpPr>
        <p:grpSp>
          <p:nvGrpSpPr>
            <p:cNvPr id="834" name=""/>
            <p:cNvGrpSpPr/>
            <p:nvPr/>
          </p:nvGrpSpPr>
          <p:grpSpPr>
            <a:xfrm>
              <a:off x="380880" y="4114800"/>
              <a:ext cx="8152920" cy="611640"/>
              <a:chOff x="380880" y="4114800"/>
              <a:chExt cx="8152920" cy="611640"/>
            </a:xfrm>
          </p:grpSpPr>
          <p:sp>
            <p:nvSpPr>
              <p:cNvPr id="835" name=""/>
              <p:cNvSpPr/>
              <p:nvPr/>
            </p:nvSpPr>
            <p:spPr>
              <a:xfrm>
                <a:off x="380880" y="4128840"/>
                <a:ext cx="633960" cy="35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1059840" y="4114800"/>
                <a:ext cx="7473960" cy="61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A BEFEJEZETLEN TERMELÉS számla felbontásával kapjuk a TERMELÉSI KÖLTSÉG és a HOZAM számlát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7" name=""/>
            <p:cNvGrpSpPr/>
            <p:nvPr/>
          </p:nvGrpSpPr>
          <p:grpSpPr>
            <a:xfrm>
              <a:off x="2243160" y="5170320"/>
              <a:ext cx="4613760" cy="621000"/>
              <a:chOff x="2243160" y="5170320"/>
              <a:chExt cx="4613760" cy="621000"/>
            </a:xfrm>
          </p:grpSpPr>
          <p:sp>
            <p:nvSpPr>
              <p:cNvPr id="838" name=""/>
              <p:cNvSpPr/>
              <p:nvPr/>
            </p:nvSpPr>
            <p:spPr>
              <a:xfrm>
                <a:off x="4549320" y="5170320"/>
                <a:ext cx="0" cy="621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2243160" y="5170320"/>
                <a:ext cx="4613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0" name=""/>
            <p:cNvSpPr/>
            <p:nvPr/>
          </p:nvSpPr>
          <p:spPr>
            <a:xfrm>
              <a:off x="2209680" y="4822920"/>
              <a:ext cx="48006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T     Befejezetlen termelés számla     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1" name=""/>
            <p:cNvGrpSpPr/>
            <p:nvPr/>
          </p:nvGrpSpPr>
          <p:grpSpPr>
            <a:xfrm>
              <a:off x="4724280" y="5965920"/>
              <a:ext cx="4190760" cy="815760"/>
              <a:chOff x="4724280" y="5965920"/>
              <a:chExt cx="4190760" cy="815760"/>
            </a:xfrm>
          </p:grpSpPr>
          <p:grpSp>
            <p:nvGrpSpPr>
              <p:cNvPr id="842" name=""/>
              <p:cNvGrpSpPr/>
              <p:nvPr/>
            </p:nvGrpSpPr>
            <p:grpSpPr>
              <a:xfrm>
                <a:off x="4952880" y="6313320"/>
                <a:ext cx="3682080" cy="468360"/>
                <a:chOff x="4952880" y="6313320"/>
                <a:chExt cx="3682080" cy="468360"/>
              </a:xfrm>
            </p:grpSpPr>
            <p:sp>
              <p:nvSpPr>
                <p:cNvPr id="843" name=""/>
                <p:cNvSpPr/>
                <p:nvPr/>
              </p:nvSpPr>
              <p:spPr>
                <a:xfrm>
                  <a:off x="6793560" y="6313320"/>
                  <a:ext cx="0" cy="468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4952880" y="6313320"/>
                  <a:ext cx="36820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5" name=""/>
              <p:cNvSpPr/>
              <p:nvPr/>
            </p:nvSpPr>
            <p:spPr>
              <a:xfrm>
                <a:off x="4724280" y="5965920"/>
                <a:ext cx="419076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T          Hozam számla         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6" name=""/>
            <p:cNvGrpSpPr/>
            <p:nvPr/>
          </p:nvGrpSpPr>
          <p:grpSpPr>
            <a:xfrm>
              <a:off x="304920" y="5965920"/>
              <a:ext cx="4190760" cy="815760"/>
              <a:chOff x="304920" y="5965920"/>
              <a:chExt cx="4190760" cy="815760"/>
            </a:xfrm>
          </p:grpSpPr>
          <p:grpSp>
            <p:nvGrpSpPr>
              <p:cNvPr id="847" name=""/>
              <p:cNvGrpSpPr/>
              <p:nvPr/>
            </p:nvGrpSpPr>
            <p:grpSpPr>
              <a:xfrm>
                <a:off x="533520" y="6313320"/>
                <a:ext cx="3682080" cy="468360"/>
                <a:chOff x="533520" y="6313320"/>
                <a:chExt cx="3682080" cy="468360"/>
              </a:xfrm>
            </p:grpSpPr>
            <p:sp>
              <p:nvSpPr>
                <p:cNvPr id="848" name=""/>
                <p:cNvSpPr/>
                <p:nvPr/>
              </p:nvSpPr>
              <p:spPr>
                <a:xfrm>
                  <a:off x="2374200" y="6313320"/>
                  <a:ext cx="0" cy="468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533520" y="6313320"/>
                  <a:ext cx="36820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0" name=""/>
              <p:cNvSpPr/>
              <p:nvPr/>
            </p:nvSpPr>
            <p:spPr>
              <a:xfrm>
                <a:off x="304920" y="5965920"/>
                <a:ext cx="419076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T   Termelési költség számla  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1" name=""/>
            <p:cNvSpPr/>
            <p:nvPr/>
          </p:nvSpPr>
          <p:spPr>
            <a:xfrm>
              <a:off x="1828800" y="63388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162920" y="63388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590920" y="5257800"/>
              <a:ext cx="1828800" cy="457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Termelési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költség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648320" y="5257800"/>
              <a:ext cx="2057400" cy="457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A termelt termék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értéke - Hozam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1676160" y="5715000"/>
              <a:ext cx="1600200" cy="3049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181480" y="5715000"/>
              <a:ext cx="1524240" cy="3049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7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7" name=""/>
          <p:cNvGrpSpPr/>
          <p:nvPr/>
        </p:nvGrpSpPr>
        <p:grpSpPr>
          <a:xfrm>
            <a:off x="220680" y="154080"/>
            <a:ext cx="8771040" cy="741240"/>
            <a:chOff x="220680" y="154080"/>
            <a:chExt cx="8771040" cy="741240"/>
          </a:xfrm>
        </p:grpSpPr>
        <p:sp>
          <p:nvSpPr>
            <p:cNvPr id="858" name=""/>
            <p:cNvSpPr/>
            <p:nvPr/>
          </p:nvSpPr>
          <p:spPr>
            <a:xfrm>
              <a:off x="7961400" y="154080"/>
              <a:ext cx="1030320" cy="303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7-11.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20680" y="380880"/>
              <a:ext cx="7704000" cy="5144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EREDMÉNYSZÁMLÁK LEVEZETÉSE A MÉRLEGSZÁMLÁKBÓL II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0" name=""/>
          <p:cNvGrpSpPr/>
          <p:nvPr/>
        </p:nvGrpSpPr>
        <p:grpSpPr>
          <a:xfrm>
            <a:off x="0" y="1066680"/>
            <a:ext cx="8762760" cy="1618560"/>
            <a:chOff x="0" y="1066680"/>
            <a:chExt cx="8762760" cy="1618560"/>
          </a:xfrm>
        </p:grpSpPr>
        <p:sp>
          <p:nvSpPr>
            <p:cNvPr id="861" name=""/>
            <p:cNvSpPr/>
            <p:nvPr/>
          </p:nvSpPr>
          <p:spPr>
            <a:xfrm>
              <a:off x="0" y="1081080"/>
              <a:ext cx="68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84360" y="1066680"/>
              <a:ext cx="807840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Bookman Old Style"/>
                </a:rPr>
                <a:t>Az eredmény – elméletileg – levezethető egyetlen forrás számlán is, amit EREDMÉNY számlának neveznek. A számla KÖVETEL oldalára kerül feljegyzésre az eredményt növelő tétel (BEVÉTEL). A TARTOZIK oldalára az eredményt csök-kentő tétel (KÖLTSÉG, RÁFORDÍTÁS)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3" name=""/>
          <p:cNvGrpSpPr/>
          <p:nvPr/>
        </p:nvGrpSpPr>
        <p:grpSpPr>
          <a:xfrm>
            <a:off x="304920" y="2895480"/>
            <a:ext cx="8610120" cy="3254400"/>
            <a:chOff x="304920" y="2895480"/>
            <a:chExt cx="8610120" cy="3254400"/>
          </a:xfrm>
        </p:grpSpPr>
        <p:sp>
          <p:nvSpPr>
            <p:cNvPr id="864" name=""/>
            <p:cNvSpPr/>
            <p:nvPr/>
          </p:nvSpPr>
          <p:spPr>
            <a:xfrm>
              <a:off x="730080" y="2895480"/>
              <a:ext cx="8033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z ilyen módon vezetett EREDMÉNY számla felbontásával lehet eljutni a RÁFORDÍTÁS és a BEVÉTEL számlákhoz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5" name=""/>
            <p:cNvGrpSpPr/>
            <p:nvPr/>
          </p:nvGrpSpPr>
          <p:grpSpPr>
            <a:xfrm>
              <a:off x="304920" y="5334120"/>
              <a:ext cx="4190760" cy="815760"/>
              <a:chOff x="304920" y="5334120"/>
              <a:chExt cx="4190760" cy="815760"/>
            </a:xfrm>
          </p:grpSpPr>
          <p:grpSp>
            <p:nvGrpSpPr>
              <p:cNvPr id="866" name=""/>
              <p:cNvGrpSpPr/>
              <p:nvPr/>
            </p:nvGrpSpPr>
            <p:grpSpPr>
              <a:xfrm>
                <a:off x="304920" y="5334120"/>
                <a:ext cx="4190760" cy="815760"/>
                <a:chOff x="304920" y="5334120"/>
                <a:chExt cx="4190760" cy="815760"/>
              </a:xfrm>
            </p:grpSpPr>
            <p:grpSp>
              <p:nvGrpSpPr>
                <p:cNvPr id="867" name=""/>
                <p:cNvGrpSpPr/>
                <p:nvPr/>
              </p:nvGrpSpPr>
              <p:grpSpPr>
                <a:xfrm>
                  <a:off x="533520" y="5681520"/>
                  <a:ext cx="3682080" cy="468360"/>
                  <a:chOff x="533520" y="5681520"/>
                  <a:chExt cx="3682080" cy="468360"/>
                </a:xfrm>
              </p:grpSpPr>
              <p:sp>
                <p:nvSpPr>
                  <p:cNvPr id="868" name=""/>
                  <p:cNvSpPr/>
                  <p:nvPr/>
                </p:nvSpPr>
                <p:spPr>
                  <a:xfrm>
                    <a:off x="2374200" y="5681520"/>
                    <a:ext cx="0" cy="46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>
                    <a:off x="533520" y="5681520"/>
                    <a:ext cx="368208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70" name=""/>
                <p:cNvSpPr/>
                <p:nvPr/>
              </p:nvSpPr>
              <p:spPr>
                <a:xfrm>
                  <a:off x="304920" y="5334120"/>
                  <a:ext cx="419076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Bookman Old Style"/>
                    </a:rPr>
                    <a:t>T      Ráfordítások számla    K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1" name=""/>
              <p:cNvSpPr/>
              <p:nvPr/>
            </p:nvSpPr>
            <p:spPr>
              <a:xfrm>
                <a:off x="1828800" y="5707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"/>
            <p:cNvGrpSpPr/>
            <p:nvPr/>
          </p:nvGrpSpPr>
          <p:grpSpPr>
            <a:xfrm>
              <a:off x="4724280" y="5334120"/>
              <a:ext cx="4190760" cy="815760"/>
              <a:chOff x="4724280" y="5334120"/>
              <a:chExt cx="4190760" cy="815760"/>
            </a:xfrm>
          </p:grpSpPr>
          <p:grpSp>
            <p:nvGrpSpPr>
              <p:cNvPr id="873" name=""/>
              <p:cNvGrpSpPr/>
              <p:nvPr/>
            </p:nvGrpSpPr>
            <p:grpSpPr>
              <a:xfrm>
                <a:off x="4724280" y="5334120"/>
                <a:ext cx="4190760" cy="815760"/>
                <a:chOff x="4724280" y="5334120"/>
                <a:chExt cx="4190760" cy="815760"/>
              </a:xfrm>
            </p:grpSpPr>
            <p:grpSp>
              <p:nvGrpSpPr>
                <p:cNvPr id="874" name=""/>
                <p:cNvGrpSpPr/>
                <p:nvPr/>
              </p:nvGrpSpPr>
              <p:grpSpPr>
                <a:xfrm>
                  <a:off x="4952880" y="5681520"/>
                  <a:ext cx="3682080" cy="468360"/>
                  <a:chOff x="4952880" y="5681520"/>
                  <a:chExt cx="3682080" cy="468360"/>
                </a:xfrm>
              </p:grpSpPr>
              <p:sp>
                <p:nvSpPr>
                  <p:cNvPr id="875" name=""/>
                  <p:cNvSpPr/>
                  <p:nvPr/>
                </p:nvSpPr>
                <p:spPr>
                  <a:xfrm>
                    <a:off x="6793560" y="5681520"/>
                    <a:ext cx="0" cy="46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6" name=""/>
                  <p:cNvSpPr/>
                  <p:nvPr/>
                </p:nvSpPr>
                <p:spPr>
                  <a:xfrm>
                    <a:off x="4952880" y="5681520"/>
                    <a:ext cx="368208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77" name=""/>
                <p:cNvSpPr/>
                <p:nvPr/>
              </p:nvSpPr>
              <p:spPr>
                <a:xfrm>
                  <a:off x="4724280" y="5334120"/>
                  <a:ext cx="419076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Bookman Old Style"/>
                    </a:rPr>
                    <a:t>T        Bevételek számla      K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8" name=""/>
              <p:cNvSpPr/>
              <p:nvPr/>
            </p:nvSpPr>
            <p:spPr>
              <a:xfrm>
                <a:off x="7162920" y="5707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9" name=""/>
            <p:cNvGrpSpPr/>
            <p:nvPr/>
          </p:nvGrpSpPr>
          <p:grpSpPr>
            <a:xfrm>
              <a:off x="2209680" y="3809880"/>
              <a:ext cx="4800600" cy="1196640"/>
              <a:chOff x="2209680" y="3809880"/>
              <a:chExt cx="4800600" cy="1196640"/>
            </a:xfrm>
          </p:grpSpPr>
          <p:grpSp>
            <p:nvGrpSpPr>
              <p:cNvPr id="880" name=""/>
              <p:cNvGrpSpPr/>
              <p:nvPr/>
            </p:nvGrpSpPr>
            <p:grpSpPr>
              <a:xfrm>
                <a:off x="2243160" y="4157640"/>
                <a:ext cx="4613760" cy="848880"/>
                <a:chOff x="2243160" y="4157640"/>
                <a:chExt cx="4613760" cy="848880"/>
              </a:xfrm>
            </p:grpSpPr>
            <p:sp>
              <p:nvSpPr>
                <p:cNvPr id="881" name=""/>
                <p:cNvSpPr/>
                <p:nvPr/>
              </p:nvSpPr>
              <p:spPr>
                <a:xfrm>
                  <a:off x="4549320" y="4157640"/>
                  <a:ext cx="0" cy="848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2243160" y="4157640"/>
                  <a:ext cx="46137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3" name=""/>
              <p:cNvSpPr/>
              <p:nvPr/>
            </p:nvSpPr>
            <p:spPr>
              <a:xfrm>
                <a:off x="2209680" y="3809880"/>
                <a:ext cx="480060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T              Eredmény számla            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2590920" y="4245120"/>
                <a:ext cx="1828800" cy="4572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Bookman Old Style"/>
                  </a:rPr>
                  <a:t>Ráfordítások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4648320" y="4245120"/>
                <a:ext cx="2057400" cy="4572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Bookman Old Style"/>
                  </a:rPr>
                  <a:t>Bevételek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"/>
            <p:cNvSpPr/>
            <p:nvPr/>
          </p:nvSpPr>
          <p:spPr>
            <a:xfrm flipH="1">
              <a:off x="1980720" y="4702320"/>
              <a:ext cx="1600200" cy="6094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562720" y="4702320"/>
              <a:ext cx="1295280" cy="6094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4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"/>
          <p:cNvGrpSpPr/>
          <p:nvPr/>
        </p:nvGrpSpPr>
        <p:grpSpPr>
          <a:xfrm>
            <a:off x="457200" y="152280"/>
            <a:ext cx="8534520" cy="762120"/>
            <a:chOff x="457200" y="152280"/>
            <a:chExt cx="8534520" cy="762120"/>
          </a:xfrm>
        </p:grpSpPr>
        <p:sp>
          <p:nvSpPr>
            <p:cNvPr id="889" name=""/>
            <p:cNvSpPr/>
            <p:nvPr/>
          </p:nvSpPr>
          <p:spPr>
            <a:xfrm>
              <a:off x="8001000" y="152280"/>
              <a:ext cx="990720" cy="381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7-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57200" y="380880"/>
              <a:ext cx="7391520" cy="53352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Z EGYSÉGES SZÁMLAKER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1" name=""/>
          <p:cNvGrpSpPr/>
          <p:nvPr/>
        </p:nvGrpSpPr>
        <p:grpSpPr>
          <a:xfrm>
            <a:off x="304920" y="2819520"/>
            <a:ext cx="4038480" cy="1523880"/>
            <a:chOff x="304920" y="2819520"/>
            <a:chExt cx="4038480" cy="1523880"/>
          </a:xfrm>
        </p:grpSpPr>
        <p:sp>
          <p:nvSpPr>
            <p:cNvPr id="892" name=""/>
            <p:cNvSpPr/>
            <p:nvPr/>
          </p:nvSpPr>
          <p:spPr>
            <a:xfrm>
              <a:off x="304920" y="3581280"/>
              <a:ext cx="1752480" cy="7621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ESZKÖ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SZÁMLÁ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590920" y="3581280"/>
              <a:ext cx="1752480" cy="762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FORRÁ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SZÁMLÁ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4" name=""/>
            <p:cNvGrpSpPr/>
            <p:nvPr/>
          </p:nvGrpSpPr>
          <p:grpSpPr>
            <a:xfrm>
              <a:off x="1142640" y="2819520"/>
              <a:ext cx="2210040" cy="761760"/>
              <a:chOff x="1142640" y="2819520"/>
              <a:chExt cx="2210040" cy="761760"/>
            </a:xfrm>
          </p:grpSpPr>
          <p:sp>
            <p:nvSpPr>
              <p:cNvPr id="895" name=""/>
              <p:cNvSpPr/>
              <p:nvPr/>
            </p:nvSpPr>
            <p:spPr>
              <a:xfrm flipH="1">
                <a:off x="1142640" y="2819520"/>
                <a:ext cx="1143000" cy="761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0" y="2819520"/>
                <a:ext cx="1066680" cy="761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97" name=""/>
          <p:cNvGrpSpPr/>
          <p:nvPr/>
        </p:nvGrpSpPr>
        <p:grpSpPr>
          <a:xfrm>
            <a:off x="4952880" y="2819520"/>
            <a:ext cx="4038840" cy="1523880"/>
            <a:chOff x="4952880" y="2819520"/>
            <a:chExt cx="4038840" cy="1523880"/>
          </a:xfrm>
        </p:grpSpPr>
        <p:sp>
          <p:nvSpPr>
            <p:cNvPr id="898" name=""/>
            <p:cNvSpPr/>
            <p:nvPr/>
          </p:nvSpPr>
          <p:spPr>
            <a:xfrm>
              <a:off x="4952880" y="3581280"/>
              <a:ext cx="1752840" cy="7621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KÖLTSÉG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RÁFORDÍTÁ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SZÁMLÁ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238880" y="3581280"/>
              <a:ext cx="1752840" cy="762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ÁRBEVÉTEL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BEVÉT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SZÁMLÁ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0" name=""/>
            <p:cNvGrpSpPr/>
            <p:nvPr/>
          </p:nvGrpSpPr>
          <p:grpSpPr>
            <a:xfrm>
              <a:off x="5866920" y="2819520"/>
              <a:ext cx="2210040" cy="761760"/>
              <a:chOff x="5866920" y="2819520"/>
              <a:chExt cx="2210040" cy="761760"/>
            </a:xfrm>
          </p:grpSpPr>
          <p:sp>
            <p:nvSpPr>
              <p:cNvPr id="901" name=""/>
              <p:cNvSpPr/>
              <p:nvPr/>
            </p:nvSpPr>
            <p:spPr>
              <a:xfrm flipH="1">
                <a:off x="5866920" y="2819520"/>
                <a:ext cx="1143000" cy="761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7010280" y="2819520"/>
                <a:ext cx="1066680" cy="761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3" name=""/>
          <p:cNvGrpSpPr/>
          <p:nvPr/>
        </p:nvGrpSpPr>
        <p:grpSpPr>
          <a:xfrm>
            <a:off x="457200" y="1066680"/>
            <a:ext cx="8229600" cy="1752840"/>
            <a:chOff x="457200" y="1066680"/>
            <a:chExt cx="8229600" cy="1752840"/>
          </a:xfrm>
        </p:grpSpPr>
        <p:sp>
          <p:nvSpPr>
            <p:cNvPr id="904" name=""/>
            <p:cNvSpPr/>
            <p:nvPr/>
          </p:nvSpPr>
          <p:spPr>
            <a:xfrm>
              <a:off x="457200" y="2209680"/>
              <a:ext cx="3657600" cy="609840"/>
            </a:xfrm>
            <a:prstGeom prst="roundRect">
              <a:avLst>
                <a:gd name="adj" fmla="val 16667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MÉRLEG SZÁMLÁ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952880" y="2209680"/>
              <a:ext cx="3733920" cy="609840"/>
            </a:xfrm>
            <a:prstGeom prst="roundRect">
              <a:avLst>
                <a:gd name="adj" fmla="val 16667"/>
              </a:avLst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EREDMÉNY (TŐKE VÁLTOZÁ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SZÁMLÁ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514600" y="1066680"/>
              <a:ext cx="3657600" cy="53352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TARTALMILA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7" name=""/>
            <p:cNvGrpSpPr/>
            <p:nvPr/>
          </p:nvGrpSpPr>
          <p:grpSpPr>
            <a:xfrm>
              <a:off x="2438280" y="1600200"/>
              <a:ext cx="3733200" cy="533520"/>
              <a:chOff x="2438280" y="1600200"/>
              <a:chExt cx="3733200" cy="533520"/>
            </a:xfrm>
          </p:grpSpPr>
          <p:sp>
            <p:nvSpPr>
              <p:cNvPr id="908" name=""/>
              <p:cNvSpPr/>
              <p:nvPr/>
            </p:nvSpPr>
            <p:spPr>
              <a:xfrm flipH="1">
                <a:off x="2438280" y="1600200"/>
                <a:ext cx="1931040" cy="53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4369320" y="1600200"/>
                <a:ext cx="1802160" cy="53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0" name=""/>
          <p:cNvGrpSpPr/>
          <p:nvPr/>
        </p:nvGrpSpPr>
        <p:grpSpPr>
          <a:xfrm>
            <a:off x="837720" y="4343040"/>
            <a:ext cx="5182200" cy="685800"/>
            <a:chOff x="837720" y="4343040"/>
            <a:chExt cx="5182200" cy="685800"/>
          </a:xfrm>
        </p:grpSpPr>
        <p:sp>
          <p:nvSpPr>
            <p:cNvPr id="911" name=""/>
            <p:cNvSpPr/>
            <p:nvPr/>
          </p:nvSpPr>
          <p:spPr>
            <a:xfrm flipH="1" flipV="1">
              <a:off x="837720" y="4419360"/>
              <a:ext cx="1419480" cy="6094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 flipV="1">
              <a:off x="2257560" y="4343040"/>
              <a:ext cx="3762360" cy="6858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3581280" y="4419360"/>
            <a:ext cx="4724640" cy="609480"/>
            <a:chOff x="3581280" y="4419360"/>
            <a:chExt cx="4724640" cy="609480"/>
          </a:xfrm>
        </p:grpSpPr>
        <p:sp>
          <p:nvSpPr>
            <p:cNvPr id="914" name=""/>
            <p:cNvSpPr/>
            <p:nvPr/>
          </p:nvSpPr>
          <p:spPr>
            <a:xfrm flipH="1" flipV="1">
              <a:off x="3581280" y="4419360"/>
              <a:ext cx="3400560" cy="609480"/>
            </a:xfrm>
            <a:prstGeom prst="line">
              <a:avLst/>
            </a:prstGeom>
            <a:ln w="38160">
              <a:solidFill>
                <a:srgbClr val="000000"/>
              </a:solidFill>
              <a:prstDash val="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 flipV="1">
              <a:off x="6981840" y="4419360"/>
              <a:ext cx="1324080" cy="609480"/>
            </a:xfrm>
            <a:prstGeom prst="line">
              <a:avLst/>
            </a:prstGeom>
            <a:ln w="38160">
              <a:solidFill>
                <a:srgbClr val="000000"/>
              </a:solidFill>
              <a:prstDash val="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1371600" y="5029200"/>
            <a:ext cx="6477120" cy="1447920"/>
            <a:chOff x="1371600" y="5029200"/>
            <a:chExt cx="6477120" cy="1447920"/>
          </a:xfrm>
        </p:grpSpPr>
        <p:sp>
          <p:nvSpPr>
            <p:cNvPr id="917" name=""/>
            <p:cNvSpPr/>
            <p:nvPr/>
          </p:nvSpPr>
          <p:spPr>
            <a:xfrm>
              <a:off x="1371600" y="5029200"/>
              <a:ext cx="1752480" cy="4572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KTÍ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657600" y="6019920"/>
              <a:ext cx="1752480" cy="4572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LAKILA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095880" y="5029200"/>
              <a:ext cx="1752840" cy="457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PASSZÍ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0" name=""/>
            <p:cNvGrpSpPr/>
            <p:nvPr/>
          </p:nvGrpSpPr>
          <p:grpSpPr>
            <a:xfrm>
              <a:off x="2057040" y="5562720"/>
              <a:ext cx="4952160" cy="457200"/>
              <a:chOff x="2057040" y="5562720"/>
              <a:chExt cx="4952160" cy="457200"/>
            </a:xfrm>
          </p:grpSpPr>
          <p:sp>
            <p:nvSpPr>
              <p:cNvPr id="921" name=""/>
              <p:cNvSpPr/>
              <p:nvPr/>
            </p:nvSpPr>
            <p:spPr>
              <a:xfrm flipH="1" flipV="1">
                <a:off x="2057040" y="5562720"/>
                <a:ext cx="256140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flipV="1">
                <a:off x="4618800" y="5562720"/>
                <a:ext cx="239040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5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660240" y="154080"/>
            <a:ext cx="8254800" cy="683640"/>
            <a:chOff x="660240" y="154080"/>
            <a:chExt cx="8254800" cy="683640"/>
          </a:xfrm>
        </p:grpSpPr>
        <p:sp>
          <p:nvSpPr>
            <p:cNvPr id="101" name=""/>
            <p:cNvSpPr/>
            <p:nvPr/>
          </p:nvSpPr>
          <p:spPr>
            <a:xfrm>
              <a:off x="8004960" y="154080"/>
              <a:ext cx="910080" cy="2566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7-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0240" y="324000"/>
              <a:ext cx="7043760" cy="5137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KÖNYVVEZETÉS (KÖNYVVITEL) FOGAL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914400" y="1295280"/>
            <a:ext cx="7772400" cy="24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KÖNYVVEZETÉS AZ A TEVÉKENYSÉG, amelynek keretében a GAZDÁLKODÓ A TEVÉKENYSÉGE SORÁN FELMERÜLŐ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10000"/>
              </a:lnSpc>
              <a:buClr>
                <a:srgbClr val="000000"/>
              </a:buClr>
              <a:buFont typeface="Bookman Old Styl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vagyonra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10000"/>
              </a:lnSpc>
              <a:buClr>
                <a:srgbClr val="000000"/>
              </a:buClr>
              <a:buFont typeface="Bookman Old Styl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jövedelemre hat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GAZDASÁGI ESEMÉNYEKRŐ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3276720"/>
            <a:ext cx="7848720" cy="24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hu-HU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hu-HU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hu-HU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hu-HU" sz="22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1" lang="hu-HU" sz="2200" spc="-1" strike="noStrike">
                <a:solidFill>
                  <a:srgbClr val="000000"/>
                </a:solidFill>
                <a:latin typeface="Bookman Old Style"/>
              </a:rPr>
              <a:t>(a számviteli törvény-ben rögzített szabályok szerin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Bookman Old Style"/>
              </a:rPr>
              <a:t>- ZÁRT RENDSZERBEN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10000"/>
              </a:lnSpc>
              <a:buClr>
                <a:srgbClr val="000000"/>
              </a:buClr>
              <a:buFont typeface="Bookman Old Styl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hu-HU" sz="2200" spc="-1" strike="noStrike">
                <a:solidFill>
                  <a:srgbClr val="000000"/>
                </a:solidFill>
                <a:latin typeface="Bookman Old Style"/>
              </a:rPr>
              <a:t>FOLYAMATOSAN NYILVÁNTARTÁST VEZET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Bookman Old Style"/>
              </a:rPr>
              <a:t>és azt az üzleti év végén lezárj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3" name=""/>
          <p:cNvGrpSpPr/>
          <p:nvPr/>
        </p:nvGrpSpPr>
        <p:grpSpPr>
          <a:xfrm>
            <a:off x="380880" y="154080"/>
            <a:ext cx="8534520" cy="684000"/>
            <a:chOff x="380880" y="154080"/>
            <a:chExt cx="8534520" cy="684000"/>
          </a:xfrm>
        </p:grpSpPr>
        <p:sp>
          <p:nvSpPr>
            <p:cNvPr id="924" name=""/>
            <p:cNvSpPr/>
            <p:nvPr/>
          </p:nvSpPr>
          <p:spPr>
            <a:xfrm>
              <a:off x="7885080" y="154080"/>
              <a:ext cx="1030320" cy="303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7-13.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80880" y="324000"/>
              <a:ext cx="7323120" cy="5140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Z EGYSÉGES SZÁMLAKER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6" name=""/>
          <p:cNvGrpSpPr/>
          <p:nvPr/>
        </p:nvGrpSpPr>
        <p:grpSpPr>
          <a:xfrm>
            <a:off x="0" y="1165320"/>
            <a:ext cx="4876920" cy="587160"/>
            <a:chOff x="0" y="1165320"/>
            <a:chExt cx="4876920" cy="587160"/>
          </a:xfrm>
        </p:grpSpPr>
        <p:sp>
          <p:nvSpPr>
            <p:cNvPr id="927" name=""/>
            <p:cNvSpPr/>
            <p:nvPr/>
          </p:nvSpPr>
          <p:spPr>
            <a:xfrm>
              <a:off x="0" y="1179360"/>
              <a:ext cx="3808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80880" y="1165320"/>
              <a:ext cx="449604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z egységes számlakeretet a szám-viteli törvényben fogalmazták meg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9" name=""/>
          <p:cNvSpPr/>
          <p:nvPr/>
        </p:nvSpPr>
        <p:spPr>
          <a:xfrm>
            <a:off x="4724280" y="1295280"/>
            <a:ext cx="0" cy="4953240"/>
          </a:xfrm>
          <a:prstGeom prst="line">
            <a:avLst/>
          </a:prstGeom>
          <a:ln w="1260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4648320" y="1143000"/>
            <a:ext cx="4723920" cy="2806560"/>
            <a:chOff x="4648320" y="1143000"/>
            <a:chExt cx="4723920" cy="2806560"/>
          </a:xfrm>
        </p:grpSpPr>
        <p:sp>
          <p:nvSpPr>
            <p:cNvPr id="931" name=""/>
            <p:cNvSpPr/>
            <p:nvPr/>
          </p:nvSpPr>
          <p:spPr>
            <a:xfrm>
              <a:off x="4648320" y="1157400"/>
              <a:ext cx="37044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018760" y="1143000"/>
              <a:ext cx="4353480" cy="28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Az egységes számlakeret FOGALMA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Bookman Old Styl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a könyvviteli számlák csopor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tosítása tartalmuk és jellegü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szerint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Bookman Old Styl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a gazdasági műveletek össze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függéseinek kijelölése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Bookman Old Styl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a könyvelés szabályainak ki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jelölése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Bookman Old Styl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a könyvviteli számlák egység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számozásának és elnevezésé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nek  biztosítása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"/>
          <p:cNvGrpSpPr/>
          <p:nvPr/>
        </p:nvGrpSpPr>
        <p:grpSpPr>
          <a:xfrm>
            <a:off x="4724280" y="4341960"/>
            <a:ext cx="4419360" cy="2203920"/>
            <a:chOff x="4724280" y="4341960"/>
            <a:chExt cx="4419360" cy="2203920"/>
          </a:xfrm>
        </p:grpSpPr>
        <p:sp>
          <p:nvSpPr>
            <p:cNvPr id="934" name=""/>
            <p:cNvSpPr/>
            <p:nvPr/>
          </p:nvSpPr>
          <p:spPr>
            <a:xfrm>
              <a:off x="4724280" y="4356000"/>
              <a:ext cx="3466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070960" y="4341960"/>
              <a:ext cx="4072680" cy="220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számviteli törvény tíz számla-osztályt határozott meg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1-4.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MÉRLEGSZÁMLÁK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5., 8-9.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EREDMÉNYSZÁMLÁK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6-7.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SZABADON HASZNÁL-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HATÓ SZÁMLÁK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0.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NYILVÁNTARTÁSI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SZÁMLÁK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6" name=""/>
          <p:cNvGrpSpPr/>
          <p:nvPr/>
        </p:nvGrpSpPr>
        <p:grpSpPr>
          <a:xfrm>
            <a:off x="0" y="1927080"/>
            <a:ext cx="4648320" cy="3833280"/>
            <a:chOff x="0" y="1927080"/>
            <a:chExt cx="4648320" cy="3833280"/>
          </a:xfrm>
        </p:grpSpPr>
        <p:grpSp>
          <p:nvGrpSpPr>
            <p:cNvPr id="937" name=""/>
            <p:cNvGrpSpPr/>
            <p:nvPr/>
          </p:nvGrpSpPr>
          <p:grpSpPr>
            <a:xfrm>
              <a:off x="0" y="1927080"/>
              <a:ext cx="4648320" cy="1326960"/>
              <a:chOff x="0" y="1927080"/>
              <a:chExt cx="4648320" cy="1326960"/>
            </a:xfrm>
          </p:grpSpPr>
          <p:sp>
            <p:nvSpPr>
              <p:cNvPr id="938" name=""/>
              <p:cNvSpPr/>
              <p:nvPr/>
            </p:nvSpPr>
            <p:spPr>
              <a:xfrm>
                <a:off x="0" y="1941120"/>
                <a:ext cx="361800" cy="34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380880" y="1927080"/>
                <a:ext cx="4267440" cy="13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Az egységes számlaker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CÉLJA, hogy a gazdálkodó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90000"/>
                  </a:lnSpc>
                  <a:buClr>
                    <a:srgbClr val="000000"/>
                  </a:buClr>
                  <a:buFont typeface="Bookman Old Style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eszközeinek é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90000"/>
                  </a:lnSpc>
                  <a:buClr>
                    <a:srgbClr val="000000"/>
                  </a:buClr>
                  <a:buFont typeface="Bookman Old Style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forrásainak, 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90000"/>
                  </a:lnSpc>
                  <a:buClr>
                    <a:srgbClr val="000000"/>
                  </a:buClr>
                  <a:buFont typeface="Bookman Old Style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gazdasági műveletek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0" name=""/>
            <p:cNvSpPr/>
            <p:nvPr/>
          </p:nvSpPr>
          <p:spPr>
            <a:xfrm>
              <a:off x="990720" y="3200400"/>
              <a:ext cx="3657600" cy="25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eredményre gyakorolt hatá-sainak egységes rendszerbe foglalásával SEGÍTSÉGET ADJON a gazdálkodó SZÁM-VITELÉNEK MEGSZERVE-ZÉSÉHEZ, BIZTOSÍTSA a számviteli törvény szerinti BESZÁMOLÓ ELKÉSZÍTÉ-SÉHEZ SZÜKSÉGES ALAP-INFORMÁCIÓKA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1" name=""/>
          <p:cNvGraphicFramePr/>
          <p:nvPr/>
        </p:nvGraphicFramePr>
        <p:xfrm>
          <a:off x="304920" y="914400"/>
          <a:ext cx="8534160" cy="2347920"/>
        </p:xfrm>
        <a:graphic>
          <a:graphicData uri="http://schemas.openxmlformats.org/drawingml/2006/table">
            <a:tbl>
              <a:tblPr/>
              <a:tblGrid>
                <a:gridCol w="685800"/>
                <a:gridCol w="2819160"/>
                <a:gridCol w="1447920"/>
                <a:gridCol w="1828800"/>
                <a:gridCol w="1752480"/>
              </a:tblGrid>
              <a:tr h="3132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A SZÁMLAOSZTÁ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ADATOK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BIZTOSÍ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SZÁ-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NE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JELLE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TARTAL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Befektetett eszközö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Aktív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Eszkö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A mérleghe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Készlete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Követelések, pénzügy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eszközök, aktív időbeli elhatárolás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Forrás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Passzív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Forrá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42" name=""/>
          <p:cNvGraphicFramePr/>
          <p:nvPr/>
        </p:nvGraphicFramePr>
        <p:xfrm>
          <a:off x="304920" y="3255840"/>
          <a:ext cx="8534160" cy="477720"/>
        </p:xfrm>
        <a:graphic>
          <a:graphicData uri="http://schemas.openxmlformats.org/drawingml/2006/table">
            <a:tbl>
              <a:tblPr/>
              <a:tblGrid>
                <a:gridCol w="685800"/>
                <a:gridCol w="2819160"/>
                <a:gridCol w="1447920"/>
                <a:gridCol w="1828800"/>
                <a:gridCol w="1752480"/>
              </a:tblGrid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Költségneme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Aktív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Költsé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Az eredmény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kimutatásho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43" name=""/>
          <p:cNvGraphicFramePr/>
          <p:nvPr/>
        </p:nvGraphicFramePr>
        <p:xfrm>
          <a:off x="304920" y="3733920"/>
          <a:ext cx="8534160" cy="950760"/>
        </p:xfrm>
        <a:graphic>
          <a:graphicData uri="http://schemas.openxmlformats.org/drawingml/2006/table">
            <a:tbl>
              <a:tblPr/>
              <a:tblGrid>
                <a:gridCol w="685800"/>
                <a:gridCol w="2819160"/>
                <a:gridCol w="1447920"/>
                <a:gridCol w="1828800"/>
                <a:gridCol w="1752480"/>
              </a:tblGrid>
              <a:tr h="28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6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Szabadon használhat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Tartalomtól függő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Vezetői döntéstől függő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A vezető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információho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7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Szabadon használhat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44" name=""/>
          <p:cNvGraphicFramePr/>
          <p:nvPr/>
        </p:nvGraphicFramePr>
        <p:xfrm>
          <a:off x="304920" y="4710240"/>
          <a:ext cx="8534160" cy="1157040"/>
        </p:xfrm>
        <a:graphic>
          <a:graphicData uri="http://schemas.openxmlformats.org/drawingml/2006/table">
            <a:tbl>
              <a:tblPr/>
              <a:tblGrid>
                <a:gridCol w="685800"/>
                <a:gridCol w="2819160"/>
                <a:gridCol w="1447920"/>
                <a:gridCol w="1828800"/>
                <a:gridCol w="1752480"/>
              </a:tblGrid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8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Értékesítés elszámolt önköltsége és ráfordítás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Aktív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Költsé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Az eredmény- kimutatásho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9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Értékesítés árbevétele és bevétele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Passzív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Árbevétel, bevéte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45" name=""/>
          <p:cNvGraphicFramePr/>
          <p:nvPr/>
        </p:nvGraphicFramePr>
        <p:xfrm>
          <a:off x="304920" y="5867280"/>
          <a:ext cx="8534160" cy="843120"/>
        </p:xfrm>
        <a:graphic>
          <a:graphicData uri="http://schemas.openxmlformats.org/drawingml/2006/table">
            <a:tbl>
              <a:tblPr/>
              <a:tblGrid>
                <a:gridCol w="685800"/>
                <a:gridCol w="2819160"/>
                <a:gridCol w="1447920"/>
                <a:gridCol w="1828800"/>
                <a:gridCol w="1752480"/>
              </a:tblGrid>
              <a:tr h="84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0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Nyilvántartási számlá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Eszköz, Forrás,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Költség, Bevéte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5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A vezetői információhoz, mérlegbeszá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5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molóho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46" name=""/>
          <p:cNvGrpSpPr/>
          <p:nvPr/>
        </p:nvGrpSpPr>
        <p:grpSpPr>
          <a:xfrm>
            <a:off x="380880" y="76320"/>
            <a:ext cx="8534520" cy="684000"/>
            <a:chOff x="380880" y="76320"/>
            <a:chExt cx="8534520" cy="684000"/>
          </a:xfrm>
        </p:grpSpPr>
        <p:sp>
          <p:nvSpPr>
            <p:cNvPr id="947" name=""/>
            <p:cNvSpPr/>
            <p:nvPr/>
          </p:nvSpPr>
          <p:spPr>
            <a:xfrm>
              <a:off x="7885080" y="76320"/>
              <a:ext cx="1030320" cy="303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7-13.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80880" y="246240"/>
              <a:ext cx="7323120" cy="5140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Z EGYSÉGES SZÁMLAKERET FELÉPÍTÉ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9" name=""/>
          <p:cNvGrpSpPr/>
          <p:nvPr/>
        </p:nvGrpSpPr>
        <p:grpSpPr>
          <a:xfrm>
            <a:off x="380880" y="154080"/>
            <a:ext cx="8534520" cy="684000"/>
            <a:chOff x="380880" y="154080"/>
            <a:chExt cx="8534520" cy="684000"/>
          </a:xfrm>
        </p:grpSpPr>
        <p:sp>
          <p:nvSpPr>
            <p:cNvPr id="950" name=""/>
            <p:cNvSpPr/>
            <p:nvPr/>
          </p:nvSpPr>
          <p:spPr>
            <a:xfrm>
              <a:off x="7885080" y="154080"/>
              <a:ext cx="1030320" cy="303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7-13-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80880" y="324000"/>
              <a:ext cx="7323120" cy="5140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SZÁMLARE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"/>
          <p:cNvGrpSpPr/>
          <p:nvPr/>
        </p:nvGrpSpPr>
        <p:grpSpPr>
          <a:xfrm>
            <a:off x="-76320" y="1368360"/>
            <a:ext cx="4876920" cy="2288520"/>
            <a:chOff x="-76320" y="1368360"/>
            <a:chExt cx="4876920" cy="2288520"/>
          </a:xfrm>
        </p:grpSpPr>
        <p:sp>
          <p:nvSpPr>
            <p:cNvPr id="953" name=""/>
            <p:cNvSpPr/>
            <p:nvPr/>
          </p:nvSpPr>
          <p:spPr>
            <a:xfrm>
              <a:off x="-76320" y="138276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04560" y="1368360"/>
              <a:ext cx="449604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A kettős könyvvitelt vezető gazdál-kodó az egységes számlakeret elő-írásainak figyelembevételével OLYAN SZÁMLARENDET KÖTELES KÉSZÍTENI, amely szerint könyvel-ve a számviteli törvényben előírt beszámoló készítését maradékta-lanul biztosítj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5" name=""/>
          <p:cNvSpPr/>
          <p:nvPr/>
        </p:nvSpPr>
        <p:spPr>
          <a:xfrm>
            <a:off x="4800600" y="1295280"/>
            <a:ext cx="0" cy="4953240"/>
          </a:xfrm>
          <a:prstGeom prst="line">
            <a:avLst/>
          </a:prstGeom>
          <a:ln w="1260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4724280" y="5029200"/>
            <a:ext cx="4267080" cy="1191240"/>
            <a:chOff x="4724280" y="5029200"/>
            <a:chExt cx="4267080" cy="1191240"/>
          </a:xfrm>
        </p:grpSpPr>
        <p:sp>
          <p:nvSpPr>
            <p:cNvPr id="957" name=""/>
            <p:cNvSpPr/>
            <p:nvPr/>
          </p:nvSpPr>
          <p:spPr>
            <a:xfrm>
              <a:off x="4724280" y="50436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057280" y="5029200"/>
              <a:ext cx="3934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vállalkozó a megalakulástól számított 90 NAPON BELÜL köteles a számlarendet elkészíteni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9" name=""/>
          <p:cNvGrpSpPr/>
          <p:nvPr/>
        </p:nvGrpSpPr>
        <p:grpSpPr>
          <a:xfrm>
            <a:off x="4724280" y="2786040"/>
            <a:ext cx="4267080" cy="2014200"/>
            <a:chOff x="4724280" y="2786040"/>
            <a:chExt cx="4267080" cy="2014200"/>
          </a:xfrm>
        </p:grpSpPr>
        <p:sp>
          <p:nvSpPr>
            <p:cNvPr id="960" name=""/>
            <p:cNvSpPr/>
            <p:nvPr/>
          </p:nvSpPr>
          <p:spPr>
            <a:xfrm>
              <a:off x="4724280" y="28004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057280" y="2786040"/>
              <a:ext cx="39340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SZÁMLAREND ÖSSZEÁLLÍ-TÁSÁÉRT, annak folyamatos KARBANTARTÁSÁÉRT, a NAP-RAKÉSZ KÖNYVVEZETÉS HE-LYESSÉGÉÉRT A GAZDÁLKO-DÓ KÉPVISELETÉRE JOGO-SULT SZEMÉLY A FELELŐ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2" name=""/>
          <p:cNvGrpSpPr/>
          <p:nvPr/>
        </p:nvGrpSpPr>
        <p:grpSpPr>
          <a:xfrm>
            <a:off x="0" y="1371600"/>
            <a:ext cx="8991360" cy="5262840"/>
            <a:chOff x="0" y="1371600"/>
            <a:chExt cx="8991360" cy="5262840"/>
          </a:xfrm>
        </p:grpSpPr>
        <p:grpSp>
          <p:nvGrpSpPr>
            <p:cNvPr id="963" name=""/>
            <p:cNvGrpSpPr/>
            <p:nvPr/>
          </p:nvGrpSpPr>
          <p:grpSpPr>
            <a:xfrm>
              <a:off x="0" y="3797280"/>
              <a:ext cx="4724280" cy="2837160"/>
              <a:chOff x="0" y="3797280"/>
              <a:chExt cx="4724280" cy="2837160"/>
            </a:xfrm>
          </p:grpSpPr>
          <p:sp>
            <p:nvSpPr>
              <p:cNvPr id="964" name=""/>
              <p:cNvSpPr/>
              <p:nvPr/>
            </p:nvSpPr>
            <p:spPr>
              <a:xfrm>
                <a:off x="0" y="3811680"/>
                <a:ext cx="36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393480" y="3797280"/>
                <a:ext cx="4330800" cy="28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800" spc="-1" strike="noStrike">
                    <a:solidFill>
                      <a:srgbClr val="000000"/>
                    </a:solidFill>
                    <a:latin typeface="Bookman Old Style"/>
                  </a:rPr>
                  <a:t>A SZÁMLAREND TARTALMAZZA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000000"/>
                  </a:buClr>
                  <a:buFont typeface="Bookman Old Style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8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1" lang="hu-HU" sz="1800" spc="-1" strike="noStrike">
                    <a:solidFill>
                      <a:srgbClr val="000000"/>
                    </a:solidFill>
                    <a:latin typeface="Bookman Old Style"/>
                  </a:rPr>
                  <a:t>Minden alkalmazásra kijelöl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800" spc="-1" strike="noStrike">
                    <a:solidFill>
                      <a:srgbClr val="000000"/>
                    </a:solidFill>
                    <a:latin typeface="Bookman Old Style"/>
                  </a:rPr>
                  <a:t>  </a:t>
                </a:r>
                <a:r>
                  <a:rPr b="1" lang="hu-HU" sz="1800" spc="-1" strike="noStrike">
                    <a:solidFill>
                      <a:srgbClr val="000000"/>
                    </a:solidFill>
                    <a:latin typeface="Bookman Old Style"/>
                  </a:rPr>
                  <a:t>számla számjelét és meg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800" spc="-1" strike="noStrike">
                    <a:solidFill>
                      <a:srgbClr val="000000"/>
                    </a:solidFill>
                    <a:latin typeface="Bookman Old Style"/>
                  </a:rPr>
                  <a:t>  </a:t>
                </a:r>
                <a:r>
                  <a:rPr b="1" lang="hu-HU" sz="1800" spc="-1" strike="noStrike">
                    <a:solidFill>
                      <a:srgbClr val="000000"/>
                    </a:solidFill>
                    <a:latin typeface="Bookman Old Style"/>
                  </a:rPr>
                  <a:t>nevezését,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000000"/>
                  </a:buClr>
                  <a:buFont typeface="Bookman Old Style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8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1" lang="hu-HU" sz="1800" spc="-1" strike="noStrike">
                    <a:solidFill>
                      <a:srgbClr val="000000"/>
                    </a:solidFill>
                    <a:latin typeface="Bookman Old Style"/>
                  </a:rPr>
                  <a:t>a számla tartalmát,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000000"/>
                  </a:buClr>
                  <a:buFont typeface="Bookman Old Style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8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1" lang="hu-HU" sz="1800" spc="-1" strike="noStrike">
                    <a:solidFill>
                      <a:srgbClr val="000000"/>
                    </a:solidFill>
                    <a:latin typeface="Bookman Old Style"/>
                  </a:rPr>
                  <a:t>a számlát érintő gazdaság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800" spc="-1" strike="noStrike">
                    <a:solidFill>
                      <a:srgbClr val="000000"/>
                    </a:solidFill>
                    <a:latin typeface="Bookman Old Style"/>
                  </a:rPr>
                  <a:t>  </a:t>
                </a:r>
                <a:r>
                  <a:rPr b="1" lang="hu-HU" sz="1800" spc="-1" strike="noStrike">
                    <a:solidFill>
                      <a:srgbClr val="000000"/>
                    </a:solidFill>
                    <a:latin typeface="Bookman Old Style"/>
                  </a:rPr>
                  <a:t>eseményeket, azo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000000"/>
                  </a:buClr>
                  <a:buFont typeface="Bookman Old Style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8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1" lang="hu-HU" sz="1800" spc="-1" strike="noStrike">
                    <a:solidFill>
                      <a:srgbClr val="000000"/>
                    </a:solidFill>
                    <a:latin typeface="Bookman Old Style"/>
                  </a:rPr>
                  <a:t>más számlával való kapcso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800" spc="-1" strike="noStrike">
                    <a:solidFill>
                      <a:srgbClr val="000000"/>
                    </a:solidFill>
                    <a:latin typeface="Bookman Old Style"/>
                  </a:rPr>
                  <a:t>   </a:t>
                </a:r>
                <a:r>
                  <a:rPr b="1" lang="hu-HU" sz="1800" spc="-1" strike="noStrike">
                    <a:solidFill>
                      <a:srgbClr val="000000"/>
                    </a:solidFill>
                    <a:latin typeface="Bookman Old Style"/>
                  </a:rPr>
                  <a:t>latát,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8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6" name=""/>
            <p:cNvGrpSpPr/>
            <p:nvPr/>
          </p:nvGrpSpPr>
          <p:grpSpPr>
            <a:xfrm>
              <a:off x="4648320" y="1371600"/>
              <a:ext cx="4343040" cy="1191240"/>
              <a:chOff x="4648320" y="1371600"/>
              <a:chExt cx="4343040" cy="1191240"/>
            </a:xfrm>
          </p:grpSpPr>
          <p:sp>
            <p:nvSpPr>
              <p:cNvPr id="967" name=""/>
              <p:cNvSpPr/>
              <p:nvPr/>
            </p:nvSpPr>
            <p:spPr>
              <a:xfrm>
                <a:off x="4648320" y="1386000"/>
                <a:ext cx="3391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4987440" y="1371600"/>
                <a:ext cx="40039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lvl="1" marL="457200" algn="just">
                  <a:lnSpc>
                    <a:spcPct val="100000"/>
                  </a:lnSpc>
                  <a:buClr>
                    <a:srgbClr val="000000"/>
                  </a:buClr>
                  <a:buFont typeface="Bookman Old Style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a főkönyvi számla és az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analitikus nyilvántartáso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kapcsolatát,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000000"/>
                  </a:buClr>
                  <a:buFont typeface="Bookman Old Style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a bizonylati rendet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"/>
          <p:cNvGrpSpPr/>
          <p:nvPr/>
        </p:nvGrpSpPr>
        <p:grpSpPr>
          <a:xfrm>
            <a:off x="380880" y="154080"/>
            <a:ext cx="8534520" cy="684000"/>
            <a:chOff x="380880" y="154080"/>
            <a:chExt cx="8534520" cy="684000"/>
          </a:xfrm>
        </p:grpSpPr>
        <p:sp>
          <p:nvSpPr>
            <p:cNvPr id="970" name=""/>
            <p:cNvSpPr/>
            <p:nvPr/>
          </p:nvSpPr>
          <p:spPr>
            <a:xfrm>
              <a:off x="7885080" y="154080"/>
              <a:ext cx="1030320" cy="303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7-13-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80880" y="324000"/>
              <a:ext cx="7323120" cy="5140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KÖNYVVITELI SZÁMLÁK SZÁMOZÁ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2" name=""/>
          <p:cNvGrpSpPr/>
          <p:nvPr/>
        </p:nvGrpSpPr>
        <p:grpSpPr>
          <a:xfrm>
            <a:off x="0" y="1368360"/>
            <a:ext cx="4876920" cy="1547640"/>
            <a:chOff x="0" y="1368360"/>
            <a:chExt cx="4876920" cy="1547640"/>
          </a:xfrm>
        </p:grpSpPr>
        <p:sp>
          <p:nvSpPr>
            <p:cNvPr id="973" name=""/>
            <p:cNvSpPr/>
            <p:nvPr/>
          </p:nvSpPr>
          <p:spPr>
            <a:xfrm>
              <a:off x="0" y="138276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80880" y="1368360"/>
              <a:ext cx="4496040" cy="15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KÖNYVVITELI SZÁMLÁK SZÁ-MOZÁSA A TÍZES SZÁMREND-SZERBEN TÖRTÉNIK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Z ELSŐ számjegy jelöli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SZÁMLAOSZTÁLY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5" name=""/>
          <p:cNvSpPr/>
          <p:nvPr/>
        </p:nvSpPr>
        <p:spPr>
          <a:xfrm>
            <a:off x="4495680" y="1295280"/>
            <a:ext cx="0" cy="4953240"/>
          </a:xfrm>
          <a:prstGeom prst="line">
            <a:avLst/>
          </a:prstGeom>
          <a:ln w="1260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6" name=""/>
          <p:cNvGrpSpPr/>
          <p:nvPr/>
        </p:nvGrpSpPr>
        <p:grpSpPr>
          <a:xfrm>
            <a:off x="0" y="3092400"/>
            <a:ext cx="4648320" cy="642600"/>
            <a:chOff x="0" y="3092400"/>
            <a:chExt cx="4648320" cy="642600"/>
          </a:xfrm>
        </p:grpSpPr>
        <p:sp>
          <p:nvSpPr>
            <p:cNvPr id="977" name=""/>
            <p:cNvSpPr/>
            <p:nvPr/>
          </p:nvSpPr>
          <p:spPr>
            <a:xfrm>
              <a:off x="0" y="3106440"/>
              <a:ext cx="361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80880" y="3092400"/>
              <a:ext cx="4267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MÁSODIK számjegy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SZÁMLACSOPORTOT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"/>
          <p:cNvGrpSpPr/>
          <p:nvPr/>
        </p:nvGrpSpPr>
        <p:grpSpPr>
          <a:xfrm>
            <a:off x="0" y="3962520"/>
            <a:ext cx="4572000" cy="642600"/>
            <a:chOff x="0" y="3962520"/>
            <a:chExt cx="4572000" cy="642600"/>
          </a:xfrm>
        </p:grpSpPr>
        <p:sp>
          <p:nvSpPr>
            <p:cNvPr id="980" name=""/>
            <p:cNvSpPr/>
            <p:nvPr/>
          </p:nvSpPr>
          <p:spPr>
            <a:xfrm>
              <a:off x="0" y="3976560"/>
              <a:ext cx="3556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380880" y="3962520"/>
              <a:ext cx="4191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HARMADIK számjegy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SZÁMLÁT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"/>
          <p:cNvGrpSpPr/>
          <p:nvPr/>
        </p:nvGrpSpPr>
        <p:grpSpPr>
          <a:xfrm>
            <a:off x="4495680" y="1339920"/>
            <a:ext cx="4343400" cy="783000"/>
            <a:chOff x="4495680" y="1339920"/>
            <a:chExt cx="4343400" cy="783000"/>
          </a:xfrm>
        </p:grpSpPr>
        <p:sp>
          <p:nvSpPr>
            <p:cNvPr id="983" name=""/>
            <p:cNvSpPr/>
            <p:nvPr/>
          </p:nvSpPr>
          <p:spPr>
            <a:xfrm>
              <a:off x="4495680" y="1353960"/>
              <a:ext cx="33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835520" y="1339920"/>
              <a:ext cx="4003560" cy="78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PÉLDÁUL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333399"/>
                  </a:solidFill>
                  <a:latin typeface="Bookman Old Style"/>
                </a:rPr>
                <a:t>1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. Számlaosztály: BEFEKTETETT 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    ESZKÖZÖK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5" name=""/>
          <p:cNvGrpSpPr/>
          <p:nvPr/>
        </p:nvGrpSpPr>
        <p:grpSpPr>
          <a:xfrm>
            <a:off x="0" y="4800600"/>
            <a:ext cx="4572000" cy="642600"/>
            <a:chOff x="0" y="4800600"/>
            <a:chExt cx="4572000" cy="642600"/>
          </a:xfrm>
        </p:grpSpPr>
        <p:sp>
          <p:nvSpPr>
            <p:cNvPr id="986" name=""/>
            <p:cNvSpPr/>
            <p:nvPr/>
          </p:nvSpPr>
          <p:spPr>
            <a:xfrm>
              <a:off x="0" y="4815000"/>
              <a:ext cx="355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80880" y="4800600"/>
              <a:ext cx="4191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NEGYEDIK számjegy a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LSZÁMLÁ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8" name=""/>
          <p:cNvSpPr/>
          <p:nvPr/>
        </p:nvSpPr>
        <p:spPr>
          <a:xfrm>
            <a:off x="4724280" y="2438280"/>
            <a:ext cx="430848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ookman Old Style"/>
              </a:rPr>
              <a:t>1</a:t>
            </a:r>
            <a:r>
              <a:rPr b="1" lang="en-US" sz="1700" spc="-1" strike="noStrike">
                <a:solidFill>
                  <a:srgbClr val="333399"/>
                </a:solidFill>
                <a:latin typeface="Bookman Old Style"/>
              </a:rPr>
              <a:t>1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. Számlacsoport: IMMATERIÁLI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.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     JAVA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4724280" y="3352680"/>
            <a:ext cx="449604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ookman Old Style"/>
              </a:rPr>
              <a:t>1</a:t>
            </a:r>
            <a:r>
              <a:rPr b="1" lang="en-US" sz="1700" spc="-1" strike="noStrike">
                <a:solidFill>
                  <a:srgbClr val="333399"/>
                </a:solidFill>
                <a:latin typeface="Bookman Old Style"/>
              </a:rPr>
              <a:t>2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. Számlacsoport: INGATLANOK É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A KAPCSOLÓDÓ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VAGYONI ÉRTÉKŰ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JOGO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4683240" y="4511520"/>
            <a:ext cx="44607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ookman Old Style"/>
              </a:rPr>
              <a:t>12</a:t>
            </a:r>
            <a:r>
              <a:rPr b="1" lang="en-US" sz="1700" spc="-1" strike="noStrike">
                <a:solidFill>
                  <a:srgbClr val="333399"/>
                </a:solidFill>
                <a:latin typeface="Bookman Old Style"/>
              </a:rPr>
              <a:t>3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. Számla: 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     ÉPÜLETEK, ÉPÜ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8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LETRÉSZEK, TU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8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LAJDONI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8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HÁNYADO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4724280" y="5638680"/>
            <a:ext cx="43084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Bookman Old Style"/>
              </a:rPr>
              <a:t>123</a:t>
            </a:r>
            <a:r>
              <a:rPr b="1" lang="hu-HU" sz="1700" spc="-1" strike="noStrike">
                <a:solidFill>
                  <a:srgbClr val="333399"/>
                </a:solidFill>
                <a:latin typeface="Bookman Old Style"/>
              </a:rPr>
              <a:t>1</a:t>
            </a: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. Alszámla:</a:t>
            </a: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hu-HU" sz="1700" spc="-1" strike="noStrike">
                <a:solidFill>
                  <a:srgbClr val="000000"/>
                </a:solidFill>
                <a:latin typeface="Bookman Old Style"/>
              </a:rPr>
              <a:t>     RAKTÁRA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2" name=""/>
          <p:cNvGrpSpPr/>
          <p:nvPr/>
        </p:nvGrpSpPr>
        <p:grpSpPr>
          <a:xfrm>
            <a:off x="380880" y="154080"/>
            <a:ext cx="8534520" cy="684000"/>
            <a:chOff x="380880" y="154080"/>
            <a:chExt cx="8534520" cy="684000"/>
          </a:xfrm>
        </p:grpSpPr>
        <p:sp>
          <p:nvSpPr>
            <p:cNvPr id="993" name=""/>
            <p:cNvSpPr/>
            <p:nvPr/>
          </p:nvSpPr>
          <p:spPr>
            <a:xfrm>
              <a:off x="7885080" y="154080"/>
              <a:ext cx="1030320" cy="303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Ä-13.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80880" y="324000"/>
              <a:ext cx="7323120" cy="5140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SZÁMLAOSZTÁLYOK (CSOPORTOK) É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MÉRLEG KAPCSOL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5" name=""/>
          <p:cNvGrpSpPr/>
          <p:nvPr/>
        </p:nvGrpSpPr>
        <p:grpSpPr>
          <a:xfrm>
            <a:off x="228600" y="990720"/>
            <a:ext cx="8763120" cy="5277240"/>
            <a:chOff x="228600" y="990720"/>
            <a:chExt cx="8763120" cy="5277240"/>
          </a:xfrm>
        </p:grpSpPr>
        <p:sp>
          <p:nvSpPr>
            <p:cNvPr id="996" name=""/>
            <p:cNvSpPr/>
            <p:nvPr/>
          </p:nvSpPr>
          <p:spPr>
            <a:xfrm flipV="1" rot="5400000">
              <a:off x="723960" y="495000"/>
              <a:ext cx="685440" cy="1676520"/>
            </a:xfrm>
            <a:custGeom>
              <a:avLst/>
              <a:gdLst>
                <a:gd name="textAreaLeft" fmla="*/ 0 w 685440"/>
                <a:gd name="textAreaRight" fmla="*/ 685800 w 685440"/>
                <a:gd name="textAreaTop" fmla="*/ -360 h 1676520"/>
                <a:gd name="textAreaBottom" fmla="*/ 167652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33"/>
                  </a:solidFill>
                  <a:latin typeface="Bookman Old Style"/>
                </a:rPr>
                <a:t>Számlaosztály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33"/>
                  </a:solidFill>
                  <a:latin typeface="Bookman Old Style"/>
                </a:rPr>
                <a:t>számlacsopor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33"/>
                  </a:solidFill>
                  <a:latin typeface="Bookman Old Style"/>
                </a:rPr>
                <a:t>szám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7" name=""/>
            <p:cNvGrpSpPr/>
            <p:nvPr/>
          </p:nvGrpSpPr>
          <p:grpSpPr>
            <a:xfrm>
              <a:off x="1600200" y="1828800"/>
              <a:ext cx="6170760" cy="4439160"/>
              <a:chOff x="1600200" y="1828800"/>
              <a:chExt cx="6170760" cy="4439160"/>
            </a:xfrm>
          </p:grpSpPr>
          <p:sp>
            <p:nvSpPr>
              <p:cNvPr id="998" name=""/>
              <p:cNvSpPr/>
              <p:nvPr/>
            </p:nvSpPr>
            <p:spPr>
              <a:xfrm>
                <a:off x="4684680" y="1828800"/>
                <a:ext cx="0" cy="4439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1600200" y="1828800"/>
                <a:ext cx="6170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0" name=""/>
            <p:cNvSpPr/>
            <p:nvPr/>
          </p:nvSpPr>
          <p:spPr>
            <a:xfrm>
              <a:off x="1371600" y="1523880"/>
              <a:ext cx="685800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ktívák 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       MÉRLEG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 Passzívá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V="1" rot="5400000">
              <a:off x="7810560" y="495000"/>
              <a:ext cx="685440" cy="1676520"/>
            </a:xfrm>
            <a:custGeom>
              <a:avLst/>
              <a:gdLst>
                <a:gd name="textAreaLeft" fmla="*/ 0 w 685440"/>
                <a:gd name="textAreaRight" fmla="*/ 685800 w 685440"/>
                <a:gd name="textAreaTop" fmla="*/ -360 h 1676520"/>
                <a:gd name="textAreaBottom" fmla="*/ 167652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33"/>
                  </a:solidFill>
                  <a:latin typeface="Bookman Old Style"/>
                </a:rPr>
                <a:t>Számlaosztály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33"/>
                  </a:solidFill>
                  <a:latin typeface="Bookman Old Style"/>
                </a:rPr>
                <a:t>számlacsopor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33"/>
                  </a:solidFill>
                  <a:latin typeface="Bookman Old Style"/>
                </a:rPr>
                <a:t>szám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2" name=""/>
          <p:cNvSpPr/>
          <p:nvPr/>
        </p:nvSpPr>
        <p:spPr>
          <a:xfrm>
            <a:off x="533520" y="2057400"/>
            <a:ext cx="487656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1.        </a:t>
            </a:r>
            <a:r>
              <a:rPr b="1" lang="en-US" sz="17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 A.  BEFEKTETETT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ESZKÖZÖ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533520" y="2666880"/>
            <a:ext cx="48765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2-3.     </a:t>
            </a:r>
            <a:r>
              <a:rPr b="1" lang="en-US" sz="17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 B.  FORGÓESZKÖZÖ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533520" y="3048120"/>
            <a:ext cx="48765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2.        </a:t>
            </a:r>
            <a:r>
              <a:rPr b="1" lang="en-US" sz="17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       I.    KÉSZLETE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533520" y="3429000"/>
            <a:ext cx="48765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31-36. </a:t>
            </a:r>
            <a:r>
              <a:rPr b="1" lang="en-US" sz="17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       II.   KÖVETELÉSE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533520" y="3809880"/>
            <a:ext cx="48765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37.      </a:t>
            </a:r>
            <a:r>
              <a:rPr b="1" lang="en-US" sz="17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       III.  ÉRTÉKPAPÍRO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533520" y="4875120"/>
            <a:ext cx="487656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39 .     </a:t>
            </a:r>
            <a:r>
              <a:rPr b="1" lang="en-US" sz="17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 C.  AKTÍV IDŐBELI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       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ELHATÁROLÁSO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533520" y="4343400"/>
            <a:ext cx="48765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38.      </a:t>
            </a:r>
            <a:r>
              <a:rPr b="1" lang="en-US" sz="17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       IV.  PÉNZESZKÖZÖ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4800600" y="2057400"/>
            <a:ext cx="4038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D. SAJÁT TŐKE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Wingdings 3"/>
                <a:ea typeface="Wingdings 3"/>
              </a:rPr>
              <a:t>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  41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4800600" y="2978280"/>
            <a:ext cx="4038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E. CÉLTARTALÉKOK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Wingdings 3"/>
                <a:ea typeface="Wingdings 3"/>
              </a:rPr>
              <a:t>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  42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4800600" y="3740040"/>
            <a:ext cx="4038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F. KÖTELEZETTSÉGEK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Wingdings 3"/>
                <a:ea typeface="Wingdings 3"/>
              </a:rPr>
              <a:t>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  43-47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4724280" y="4876920"/>
            <a:ext cx="41148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G. PASSZÍV IDŐBELI 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Wingdings 3"/>
                <a:ea typeface="Wingdings 3"/>
              </a:rPr>
              <a:t>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  48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ELHATÁROLÁSO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6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3" name=""/>
          <p:cNvGrpSpPr/>
          <p:nvPr/>
        </p:nvGrpSpPr>
        <p:grpSpPr>
          <a:xfrm>
            <a:off x="220680" y="154080"/>
            <a:ext cx="8847000" cy="684000"/>
            <a:chOff x="220680" y="154080"/>
            <a:chExt cx="8847000" cy="684000"/>
          </a:xfrm>
        </p:grpSpPr>
        <p:sp>
          <p:nvSpPr>
            <p:cNvPr id="1014" name=""/>
            <p:cNvSpPr/>
            <p:nvPr/>
          </p:nvSpPr>
          <p:spPr>
            <a:xfrm>
              <a:off x="8136000" y="154080"/>
              <a:ext cx="931680" cy="303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7-13.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20680" y="324000"/>
              <a:ext cx="7856640" cy="5140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SZÁMLAOSZTÁLYOK (CSOPORTOK) ÉS AZ ÖSSZKÖLTSÉ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ELJÁRÁSSAL KÉSZÜLŐ EREDMÉNYKIMUTATÁS KAPCSOLATA I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6" name=""/>
          <p:cNvGrpSpPr/>
          <p:nvPr/>
        </p:nvGrpSpPr>
        <p:grpSpPr>
          <a:xfrm>
            <a:off x="228600" y="990000"/>
            <a:ext cx="6705720" cy="685800"/>
            <a:chOff x="228600" y="990000"/>
            <a:chExt cx="6705720" cy="685800"/>
          </a:xfrm>
        </p:grpSpPr>
        <p:sp>
          <p:nvSpPr>
            <p:cNvPr id="1017" name=""/>
            <p:cNvSpPr/>
            <p:nvPr/>
          </p:nvSpPr>
          <p:spPr>
            <a:xfrm flipV="1" rot="5400000">
              <a:off x="914400" y="303840"/>
              <a:ext cx="685800" cy="205740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2057400"/>
                <a:gd name="textAreaBottom" fmla="*/ 205740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Bookman Old Style"/>
                </a:rPr>
                <a:t>Számlaosztály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Bookman Old Style"/>
                </a:rPr>
                <a:t>számlacso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Bookman Old Style"/>
                </a:rPr>
                <a:t>szá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V="1" rot="5400000">
              <a:off x="4533840" y="-724680"/>
              <a:ext cx="685800" cy="411480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360 h 4114800"/>
                <a:gd name="textAreaBottom" fmla="*/ 4115520 h 4114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Bookman Old Style"/>
                </a:rPr>
                <a:t>Az eredmény összetevő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19" name=""/>
          <p:cNvGraphicFramePr/>
          <p:nvPr/>
        </p:nvGraphicFramePr>
        <p:xfrm>
          <a:off x="304920" y="1797120"/>
          <a:ext cx="8458200" cy="4375080"/>
        </p:xfrm>
        <a:graphic>
          <a:graphicData uri="http://schemas.openxmlformats.org/drawingml/2006/table">
            <a:tbl>
              <a:tblPr/>
              <a:tblGrid>
                <a:gridCol w="1295280"/>
                <a:gridCol w="533520"/>
                <a:gridCol w="685800"/>
                <a:gridCol w="5943600"/>
              </a:tblGrid>
              <a:tr h="48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91-9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Wingdings 3"/>
                          <a:ea typeface="Wingdings 3"/>
                        </a:rPr>
                        <a:t>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I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ÉRTÉKESÍTÉS NETTÓ ÁRBEVÉTE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58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Wingdings 3"/>
                          <a:ea typeface="Wingdings 3"/>
                        </a:rPr>
                        <a:t>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II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AKTIVÁLT SAJÁT TELJESÍTMÉNYEK ÉRTÉ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96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Wingdings 3"/>
                          <a:ea typeface="Wingdings 3"/>
                        </a:rPr>
                        <a:t>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III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EGYÉB BEVÉTEL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8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Wingdings 3"/>
                          <a:ea typeface="Wingdings 3"/>
                        </a:rPr>
                        <a:t>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IV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ANYAGJELLEGŰ RÁFORDÍTÁSO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8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Wingdings 3"/>
                          <a:ea typeface="Wingdings 3"/>
                        </a:rPr>
                        <a:t>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V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SZEMÉLYI JELLEGŰ RÁFORDÍTÁSO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8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Wingdings 3"/>
                          <a:ea typeface="Wingdings 3"/>
                        </a:rPr>
                        <a:t>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VI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ÉRTÉKCSÖKKENÉSI LEÍRÁ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86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Wingdings 3"/>
                          <a:ea typeface="Wingdings 3"/>
                        </a:rPr>
                        <a:t>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VII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EGYÉB RÁFORDÍTÁSO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ÜZEMI (ÜZLETI) TEVÉKENYSÉG EREDMÉNY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"/>
          <p:cNvGrpSpPr/>
          <p:nvPr/>
        </p:nvGrpSpPr>
        <p:grpSpPr>
          <a:xfrm>
            <a:off x="220680" y="154080"/>
            <a:ext cx="8847000" cy="684000"/>
            <a:chOff x="220680" y="154080"/>
            <a:chExt cx="8847000" cy="684000"/>
          </a:xfrm>
        </p:grpSpPr>
        <p:sp>
          <p:nvSpPr>
            <p:cNvPr id="1021" name=""/>
            <p:cNvSpPr/>
            <p:nvPr/>
          </p:nvSpPr>
          <p:spPr>
            <a:xfrm>
              <a:off x="8136000" y="154080"/>
              <a:ext cx="931680" cy="303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7-13.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20680" y="324000"/>
              <a:ext cx="7856640" cy="5140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SZÁMLAOSZTÁLYOK (CSOPORTOK) ÉS AZ ÖSSZKÖLTSÉ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ELJÁRÁSSAL KÉSZÜLŐ EREDMÉNYKIMUTATÁS KAPCSOLATA I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23" name=""/>
          <p:cNvGraphicFramePr/>
          <p:nvPr/>
        </p:nvGraphicFramePr>
        <p:xfrm>
          <a:off x="304920" y="1752480"/>
          <a:ext cx="8458200" cy="4961160"/>
        </p:xfrm>
        <a:graphic>
          <a:graphicData uri="http://schemas.openxmlformats.org/drawingml/2006/table">
            <a:tbl>
              <a:tblPr/>
              <a:tblGrid>
                <a:gridCol w="1295280"/>
                <a:gridCol w="533520"/>
                <a:gridCol w="761760"/>
                <a:gridCol w="58676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97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Wingdings 3"/>
                          <a:ea typeface="Wingdings 3"/>
                        </a:rPr>
                        <a:t>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VIII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PÉNZÜGYI MŰVELETEK BEVÉTELE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87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Wingdings 3"/>
                          <a:ea typeface="Wingdings 3"/>
                        </a:rPr>
                        <a:t>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IX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PÉNZÜGYI MŰVELETEK RÁFORDÍTÁS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Wingdings 3"/>
                          <a:ea typeface="Wingdings 3"/>
                        </a:rPr>
                        <a:t>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B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PÉNZÜGYI MŰVELETEK EREDMÉNY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Wingdings 3"/>
                          <a:ea typeface="Wingdings 3"/>
                        </a:rPr>
                        <a:t>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SZOKÁSOS VÁLLALKOZÁSI EREDMÉ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98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Wingdings 3"/>
                          <a:ea typeface="Wingdings 3"/>
                        </a:rPr>
                        <a:t>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X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RENDKÍVÜLI BEVÉTEL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88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Wingdings 3"/>
                          <a:ea typeface="Wingdings 3"/>
                        </a:rPr>
                        <a:t>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XI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RENDKÍVÜLI RÁFORDÍTÁSO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RENDKÍVÜLI EREDMÉ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ADÓZÁS ELŐTTI EREDMÉ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89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Wingdings 3"/>
                          <a:ea typeface="Wingdings 3"/>
                        </a:rPr>
                        <a:t>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XII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ADÓFIZETÉSI KÖTELEZETTSÉ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F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ADÓZOTT EREDMÉ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99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1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Wingdings 3"/>
                          <a:ea typeface="Wingdings 3"/>
                        </a:rPr>
                        <a:t>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EREDMÉNYTARTALÉK IGÉNYBEVÉTELE OSZTALÉKRA, RÉSZESEDÉS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7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Wingdings 3"/>
                          <a:ea typeface="Wingdings 3"/>
                        </a:rPr>
                        <a:t>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JÓVÁHAGYOTT OSZTALÉK, RÉSZESEDÉ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19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Wingdings 3"/>
                          <a:ea typeface="Wingdings 3"/>
                        </a:rPr>
                        <a:t>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33"/>
                          </a:solidFill>
                          <a:latin typeface="Bookman Old Style"/>
                        </a:rPr>
                        <a:t>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33"/>
                          </a:solidFill>
                          <a:latin typeface="Bookman Old Style"/>
                        </a:rPr>
                        <a:t>MÉRLEG SZERINTI EREDMÉ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pSp>
        <p:nvGrpSpPr>
          <p:cNvPr id="1024" name=""/>
          <p:cNvGrpSpPr/>
          <p:nvPr/>
        </p:nvGrpSpPr>
        <p:grpSpPr>
          <a:xfrm>
            <a:off x="228600" y="990000"/>
            <a:ext cx="6705720" cy="685800"/>
            <a:chOff x="228600" y="990000"/>
            <a:chExt cx="6705720" cy="685800"/>
          </a:xfrm>
        </p:grpSpPr>
        <p:sp>
          <p:nvSpPr>
            <p:cNvPr id="1025" name=""/>
            <p:cNvSpPr/>
            <p:nvPr/>
          </p:nvSpPr>
          <p:spPr>
            <a:xfrm flipV="1" rot="5400000">
              <a:off x="914400" y="303840"/>
              <a:ext cx="685800" cy="205740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2057400"/>
                <a:gd name="textAreaBottom" fmla="*/ 205740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Bookman Old Style"/>
                </a:rPr>
                <a:t>Számlaosztály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Bookman Old Style"/>
                </a:rPr>
                <a:t>számlacso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Bookman Old Style"/>
                </a:rPr>
                <a:t>szá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V="1" rot="5400000">
              <a:off x="4533840" y="-724680"/>
              <a:ext cx="685800" cy="411480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360 h 4114800"/>
                <a:gd name="textAreaBottom" fmla="*/ 4115520 h 4114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Bookman Old Style"/>
                </a:rPr>
                <a:t>Az eredmény összetevő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7" name=""/>
          <p:cNvGrpSpPr/>
          <p:nvPr/>
        </p:nvGrpSpPr>
        <p:grpSpPr>
          <a:xfrm>
            <a:off x="144360" y="76320"/>
            <a:ext cx="8847360" cy="684000"/>
            <a:chOff x="144360" y="76320"/>
            <a:chExt cx="8847360" cy="684000"/>
          </a:xfrm>
        </p:grpSpPr>
        <p:sp>
          <p:nvSpPr>
            <p:cNvPr id="1028" name=""/>
            <p:cNvSpPr/>
            <p:nvPr/>
          </p:nvSpPr>
          <p:spPr>
            <a:xfrm>
              <a:off x="7907400" y="76320"/>
              <a:ext cx="1084320" cy="303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7-13.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44360" y="246240"/>
              <a:ext cx="7704360" cy="5140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SZÁMLAOSZTÁLYOK (CSOPORTOK) ÉS A FORGALMI KÖLTSÉ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ELJÁRÁSSAL KÉSZÜLŐ EREDMÉNYKIMUTATÁS KAPCSOL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30" name=""/>
          <p:cNvGraphicFramePr/>
          <p:nvPr/>
        </p:nvGraphicFramePr>
        <p:xfrm>
          <a:off x="304920" y="1644480"/>
          <a:ext cx="8458200" cy="4454640"/>
        </p:xfrm>
        <a:graphic>
          <a:graphicData uri="http://schemas.openxmlformats.org/drawingml/2006/table">
            <a:tbl>
              <a:tblPr/>
              <a:tblGrid>
                <a:gridCol w="1295280"/>
                <a:gridCol w="533520"/>
                <a:gridCol w="685800"/>
                <a:gridCol w="5943600"/>
              </a:tblGrid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91-9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Wingdings 3"/>
                          <a:ea typeface="Wingdings 3"/>
                        </a:rPr>
                        <a:t>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I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ÉRTÉKESÍTÉS NETTÓ ÁRBEVÉTE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81-84.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Wingdings 3"/>
                          <a:ea typeface="Wingdings 3"/>
                        </a:rPr>
                        <a:t>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II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ÉRTÉKESÍTÉS KÖZVETLEN KÖLTSÉ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III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ÉRTÉKESÍTÉS BRUTTÓ EREDMÉNY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85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Wingdings 3"/>
                          <a:ea typeface="Wingdings 3"/>
                        </a:rPr>
                        <a:t>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IV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ÉRTÉKESÍTÉS KÖZVETETT KÖLTSÉGE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96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Wingdings 3"/>
                          <a:ea typeface="Wingdings 3"/>
                        </a:rPr>
                        <a:t>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V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EGYÉB BEVÉTEL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86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Wingdings 3"/>
                          <a:ea typeface="Wingdings 3"/>
                        </a:rPr>
                        <a:t>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VI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EGYÉB RÁFORDÍTÁSO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ÜZEMI (ÜZLETI) TEVÉKENYSÉG EREDMÉNY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ff"/>
                    </a:solidFill>
                  </a:tcPr>
                </a:tc>
              </a:tr>
              <a:tr h="764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A következő sorok értelemszerűen megegyeznek a 5-13.7 vázlaton szereplő tételekke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1031" name=""/>
          <p:cNvGrpSpPr/>
          <p:nvPr/>
        </p:nvGrpSpPr>
        <p:grpSpPr>
          <a:xfrm>
            <a:off x="228600" y="6064200"/>
            <a:ext cx="8534520" cy="642600"/>
            <a:chOff x="228600" y="6064200"/>
            <a:chExt cx="8534520" cy="642600"/>
          </a:xfrm>
        </p:grpSpPr>
        <p:sp>
          <p:nvSpPr>
            <p:cNvPr id="1032" name=""/>
            <p:cNvSpPr/>
            <p:nvPr/>
          </p:nvSpPr>
          <p:spPr>
            <a:xfrm>
              <a:off x="228600" y="6064200"/>
              <a:ext cx="8534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u-HU" sz="1800" spc="-1" strike="noStrike">
                  <a:solidFill>
                    <a:srgbClr val="333399"/>
                  </a:solidFill>
                  <a:latin typeface="Bookman Old Style"/>
                </a:rPr>
                <a:t>*  A 81-84-es számlák neve és tartalma eltérő forgalmi költsé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u-HU" sz="1800" spc="-1" strike="noStrike">
                  <a:solidFill>
                    <a:srgbClr val="333399"/>
                  </a:solidFill>
                  <a:latin typeface="Bookman Old Style"/>
                </a:rPr>
                <a:t>   </a:t>
              </a:r>
              <a:r>
                <a:rPr b="1" i="1" lang="hu-HU" sz="1800" spc="-1" strike="noStrike">
                  <a:solidFill>
                    <a:srgbClr val="333399"/>
                  </a:solidFill>
                  <a:latin typeface="Bookman Old Style"/>
                </a:rPr>
                <a:t>eljárással készülő eredménykimutatás eseté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04920" y="6064200"/>
              <a:ext cx="16002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4" name=""/>
          <p:cNvGrpSpPr/>
          <p:nvPr/>
        </p:nvGrpSpPr>
        <p:grpSpPr>
          <a:xfrm>
            <a:off x="228600" y="990000"/>
            <a:ext cx="6705720" cy="685800"/>
            <a:chOff x="228600" y="990000"/>
            <a:chExt cx="6705720" cy="685800"/>
          </a:xfrm>
        </p:grpSpPr>
        <p:sp>
          <p:nvSpPr>
            <p:cNvPr id="1035" name=""/>
            <p:cNvSpPr/>
            <p:nvPr/>
          </p:nvSpPr>
          <p:spPr>
            <a:xfrm flipV="1" rot="5400000">
              <a:off x="914400" y="303840"/>
              <a:ext cx="685800" cy="205740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2057400"/>
                <a:gd name="textAreaBottom" fmla="*/ 205740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Bookman Old Style"/>
                </a:rPr>
                <a:t>Számlaosztály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Bookman Old Style"/>
                </a:rPr>
                <a:t>számlacso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Bookman Old Style"/>
                </a:rPr>
                <a:t>szá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V="1" rot="5400000">
              <a:off x="4533840" y="-724680"/>
              <a:ext cx="685800" cy="411480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360 h 4114800"/>
                <a:gd name="textAreaBottom" fmla="*/ 4115520 h 4114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Bookman Old Style"/>
                </a:rPr>
                <a:t>Az eredmény összetevő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7" name=""/>
          <p:cNvGrpSpPr/>
          <p:nvPr/>
        </p:nvGrpSpPr>
        <p:grpSpPr>
          <a:xfrm>
            <a:off x="457200" y="152280"/>
            <a:ext cx="8534520" cy="762120"/>
            <a:chOff x="457200" y="152280"/>
            <a:chExt cx="8534520" cy="762120"/>
          </a:xfrm>
        </p:grpSpPr>
        <p:sp>
          <p:nvSpPr>
            <p:cNvPr id="1038" name=""/>
            <p:cNvSpPr/>
            <p:nvPr/>
          </p:nvSpPr>
          <p:spPr>
            <a:xfrm>
              <a:off x="8001000" y="152280"/>
              <a:ext cx="990720" cy="381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7-1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57200" y="380880"/>
              <a:ext cx="7391520" cy="53352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NÉGY SZÁMLASOROS (KÉT-KÉT ELLENTÉ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SZÁMLASOROS) SZÁMLAELMÉLET SÉMÁJ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0" name=""/>
          <p:cNvGrpSpPr/>
          <p:nvPr/>
        </p:nvGrpSpPr>
        <p:grpSpPr>
          <a:xfrm>
            <a:off x="380880" y="914040"/>
            <a:ext cx="8229600" cy="1143000"/>
            <a:chOff x="380880" y="914040"/>
            <a:chExt cx="8229600" cy="1143000"/>
          </a:xfrm>
        </p:grpSpPr>
        <p:sp>
          <p:nvSpPr>
            <p:cNvPr id="1041" name=""/>
            <p:cNvSpPr/>
            <p:nvPr/>
          </p:nvSpPr>
          <p:spPr>
            <a:xfrm>
              <a:off x="380880" y="1549440"/>
              <a:ext cx="3657600" cy="507600"/>
            </a:xfrm>
            <a:prstGeom prst="roundRect">
              <a:avLst>
                <a:gd name="adj" fmla="val 16667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MÉRLEG SZÁMLÁ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876920" y="1549440"/>
              <a:ext cx="3733560" cy="507600"/>
            </a:xfrm>
            <a:prstGeom prst="roundRect">
              <a:avLst>
                <a:gd name="adj" fmla="val 16667"/>
              </a:avLst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EREDMÉNYSZÁMLÁ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3" name=""/>
            <p:cNvGrpSpPr/>
            <p:nvPr/>
          </p:nvGrpSpPr>
          <p:grpSpPr>
            <a:xfrm>
              <a:off x="2209680" y="914040"/>
              <a:ext cx="4572000" cy="571680"/>
              <a:chOff x="2209680" y="914040"/>
              <a:chExt cx="4572000" cy="571680"/>
            </a:xfrm>
          </p:grpSpPr>
          <p:sp>
            <p:nvSpPr>
              <p:cNvPr id="1044" name=""/>
              <p:cNvSpPr/>
              <p:nvPr/>
            </p:nvSpPr>
            <p:spPr>
              <a:xfrm flipV="1">
                <a:off x="2209680" y="914040"/>
                <a:ext cx="2133720" cy="571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4343400" y="914400"/>
                <a:ext cx="2438280" cy="571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6" name=""/>
          <p:cNvGrpSpPr/>
          <p:nvPr/>
        </p:nvGrpSpPr>
        <p:grpSpPr>
          <a:xfrm>
            <a:off x="76320" y="2057400"/>
            <a:ext cx="8762760" cy="1330200"/>
            <a:chOff x="76320" y="2057400"/>
            <a:chExt cx="8762760" cy="1330200"/>
          </a:xfrm>
        </p:grpSpPr>
        <p:sp>
          <p:nvSpPr>
            <p:cNvPr id="1047" name=""/>
            <p:cNvSpPr/>
            <p:nvPr/>
          </p:nvSpPr>
          <p:spPr>
            <a:xfrm>
              <a:off x="76320" y="2514600"/>
              <a:ext cx="1985760" cy="873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990033"/>
                  </a:solidFill>
                  <a:latin typeface="Bookman Old Style"/>
                </a:rPr>
                <a:t>Eszköz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990033"/>
                  </a:solidFill>
                  <a:latin typeface="Bookman Old Style"/>
                </a:rPr>
                <a:t>számlák (E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990033"/>
                  </a:solidFill>
                  <a:latin typeface="Bookman Old Style"/>
                </a:rPr>
                <a:t>Egyenleg  T 40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500720" y="2514600"/>
              <a:ext cx="2052360" cy="873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990033"/>
                  </a:solidFill>
                  <a:latin typeface="Bookman Old Style"/>
                </a:rPr>
                <a:t>Költség,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990033"/>
                  </a:solidFill>
                  <a:latin typeface="Bookman Old Style"/>
                </a:rPr>
                <a:t> </a:t>
              </a:r>
              <a:r>
                <a:rPr b="1" lang="en-US" sz="1700" spc="-1" strike="noStrike">
                  <a:solidFill>
                    <a:srgbClr val="990033"/>
                  </a:solidFill>
                  <a:latin typeface="Bookman Old Style"/>
                </a:rPr>
                <a:t>(ráfordítás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990033"/>
                  </a:solidFill>
                  <a:latin typeface="Bookman Old Style"/>
                </a:rPr>
                <a:t>számlák (K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990033"/>
                  </a:solidFill>
                  <a:latin typeface="Bookman Old Style"/>
                </a:rPr>
                <a:t>Egyenleg  T  65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786720" y="2514600"/>
              <a:ext cx="2052360" cy="873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990033"/>
                  </a:solidFill>
                  <a:latin typeface="Bookman Old Style"/>
                </a:rPr>
                <a:t>Bevétel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990033"/>
                  </a:solidFill>
                  <a:latin typeface="Bookman Old Style"/>
                </a:rPr>
                <a:t>számlák (B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990033"/>
                  </a:solidFill>
                  <a:latin typeface="Bookman Old Style"/>
                </a:rPr>
                <a:t>Egyenleg  K 70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0" name=""/>
            <p:cNvGrpSpPr/>
            <p:nvPr/>
          </p:nvGrpSpPr>
          <p:grpSpPr>
            <a:xfrm>
              <a:off x="685800" y="2057400"/>
              <a:ext cx="3047760" cy="425520"/>
              <a:chOff x="685800" y="2057400"/>
              <a:chExt cx="3047760" cy="425520"/>
            </a:xfrm>
          </p:grpSpPr>
          <p:sp>
            <p:nvSpPr>
              <p:cNvPr id="1051" name=""/>
              <p:cNvSpPr/>
              <p:nvPr/>
            </p:nvSpPr>
            <p:spPr>
              <a:xfrm flipV="1">
                <a:off x="685800" y="2057400"/>
                <a:ext cx="1422360" cy="425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2108160" y="2057400"/>
                <a:ext cx="1625400" cy="425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3" name=""/>
            <p:cNvGrpSpPr/>
            <p:nvPr/>
          </p:nvGrpSpPr>
          <p:grpSpPr>
            <a:xfrm>
              <a:off x="5410080" y="2057400"/>
              <a:ext cx="3047760" cy="380880"/>
              <a:chOff x="5410080" y="2057400"/>
              <a:chExt cx="3047760" cy="380880"/>
            </a:xfrm>
          </p:grpSpPr>
          <p:sp>
            <p:nvSpPr>
              <p:cNvPr id="1054" name=""/>
              <p:cNvSpPr/>
              <p:nvPr/>
            </p:nvSpPr>
            <p:spPr>
              <a:xfrm flipV="1">
                <a:off x="5410080" y="2057400"/>
                <a:ext cx="142236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6832440" y="2057400"/>
                <a:ext cx="162540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6" name=""/>
            <p:cNvSpPr/>
            <p:nvPr/>
          </p:nvSpPr>
          <p:spPr>
            <a:xfrm>
              <a:off x="2362320" y="2514600"/>
              <a:ext cx="1985760" cy="873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990033"/>
                  </a:solidFill>
                  <a:latin typeface="Bookman Old Style"/>
                </a:rPr>
                <a:t>Forrás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990033"/>
                  </a:solidFill>
                  <a:latin typeface="Bookman Old Style"/>
                </a:rPr>
                <a:t>számlák (F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990033"/>
                  </a:solidFill>
                  <a:latin typeface="Bookman Old Style"/>
                </a:rPr>
                <a:t>Egyenleg  K 35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7" name=""/>
          <p:cNvGrpSpPr/>
          <p:nvPr/>
        </p:nvGrpSpPr>
        <p:grpSpPr>
          <a:xfrm>
            <a:off x="533520" y="3428640"/>
            <a:ext cx="8153280" cy="1066680"/>
            <a:chOff x="533520" y="3428640"/>
            <a:chExt cx="8153280" cy="1066680"/>
          </a:xfrm>
        </p:grpSpPr>
        <p:sp>
          <p:nvSpPr>
            <p:cNvPr id="1058" name=""/>
            <p:cNvSpPr/>
            <p:nvPr/>
          </p:nvSpPr>
          <p:spPr>
            <a:xfrm>
              <a:off x="533520" y="3855600"/>
              <a:ext cx="3657600" cy="639720"/>
            </a:xfrm>
            <a:prstGeom prst="roundRect">
              <a:avLst>
                <a:gd name="adj" fmla="val 16667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MÉRLEG SZÁMLÁ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ÖSSZEVONT EGYENLE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T  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029200" y="3855600"/>
              <a:ext cx="3657600" cy="639720"/>
            </a:xfrm>
            <a:prstGeom prst="roundRect">
              <a:avLst>
                <a:gd name="adj" fmla="val 16667"/>
              </a:avLst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EREDMÉNYSZÁMLÁ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ÖSSZEVONT EGYENLE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K  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685800" y="3429000"/>
              <a:ext cx="1422360" cy="426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 flipV="1">
              <a:off x="2108160" y="3428640"/>
              <a:ext cx="1625760" cy="426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181480" y="3429000"/>
              <a:ext cx="1422360" cy="426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V="1">
              <a:off x="6603840" y="3428640"/>
              <a:ext cx="1625760" cy="426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4" name=""/>
          <p:cNvGrpSpPr/>
          <p:nvPr/>
        </p:nvGrpSpPr>
        <p:grpSpPr>
          <a:xfrm>
            <a:off x="152280" y="4572000"/>
            <a:ext cx="4114440" cy="1878120"/>
            <a:chOff x="152280" y="4572000"/>
            <a:chExt cx="4114440" cy="1878120"/>
          </a:xfrm>
        </p:grpSpPr>
        <p:grpSp>
          <p:nvGrpSpPr>
            <p:cNvPr id="1065" name=""/>
            <p:cNvGrpSpPr/>
            <p:nvPr/>
          </p:nvGrpSpPr>
          <p:grpSpPr>
            <a:xfrm>
              <a:off x="307440" y="4926240"/>
              <a:ext cx="3881520" cy="1523880"/>
              <a:chOff x="307440" y="4926240"/>
              <a:chExt cx="3881520" cy="1523880"/>
            </a:xfrm>
          </p:grpSpPr>
          <p:sp>
            <p:nvSpPr>
              <p:cNvPr id="1066" name=""/>
              <p:cNvSpPr/>
              <p:nvPr/>
            </p:nvSpPr>
            <p:spPr>
              <a:xfrm>
                <a:off x="307440" y="4926240"/>
                <a:ext cx="3881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2176200" y="4926240"/>
                <a:ext cx="0" cy="1523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8" name=""/>
            <p:cNvSpPr/>
            <p:nvPr/>
          </p:nvSpPr>
          <p:spPr>
            <a:xfrm>
              <a:off x="152280" y="4572000"/>
              <a:ext cx="4114440" cy="180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Mérle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Eszközök   400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    Források   35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    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Nyereség     5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333399"/>
                  </a:solidFill>
                  <a:latin typeface="Bookman Old Style"/>
                </a:rPr>
                <a:t>Főösszeg    400     Főösszeg   40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52280" y="5764320"/>
              <a:ext cx="411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52280" y="6373800"/>
              <a:ext cx="411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1" name=""/>
          <p:cNvGrpSpPr/>
          <p:nvPr/>
        </p:nvGrpSpPr>
        <p:grpSpPr>
          <a:xfrm>
            <a:off x="4343400" y="4572000"/>
            <a:ext cx="4572000" cy="1878120"/>
            <a:chOff x="4343400" y="4572000"/>
            <a:chExt cx="4572000" cy="1878120"/>
          </a:xfrm>
        </p:grpSpPr>
        <p:grpSp>
          <p:nvGrpSpPr>
            <p:cNvPr id="1072" name=""/>
            <p:cNvGrpSpPr/>
            <p:nvPr/>
          </p:nvGrpSpPr>
          <p:grpSpPr>
            <a:xfrm>
              <a:off x="4419720" y="4925880"/>
              <a:ext cx="4495680" cy="1524240"/>
              <a:chOff x="4419720" y="4925880"/>
              <a:chExt cx="4495680" cy="1524240"/>
            </a:xfrm>
          </p:grpSpPr>
          <p:grpSp>
            <p:nvGrpSpPr>
              <p:cNvPr id="1073" name=""/>
              <p:cNvGrpSpPr/>
              <p:nvPr/>
            </p:nvGrpSpPr>
            <p:grpSpPr>
              <a:xfrm>
                <a:off x="4419720" y="4925880"/>
                <a:ext cx="4495680" cy="1524240"/>
                <a:chOff x="4419720" y="4925880"/>
                <a:chExt cx="4495680" cy="1524240"/>
              </a:xfrm>
            </p:grpSpPr>
            <p:sp>
              <p:nvSpPr>
                <p:cNvPr id="1074" name=""/>
                <p:cNvSpPr/>
                <p:nvPr/>
              </p:nvSpPr>
              <p:spPr>
                <a:xfrm>
                  <a:off x="4419720" y="4925880"/>
                  <a:ext cx="44956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6705720" y="4925880"/>
                  <a:ext cx="0" cy="1524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6" name=""/>
              <p:cNvSpPr/>
              <p:nvPr/>
            </p:nvSpPr>
            <p:spPr>
              <a:xfrm>
                <a:off x="4419720" y="5764320"/>
                <a:ext cx="425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4419720" y="6373800"/>
                <a:ext cx="425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8" name=""/>
            <p:cNvSpPr/>
            <p:nvPr/>
          </p:nvSpPr>
          <p:spPr>
            <a:xfrm>
              <a:off x="4343400" y="4572000"/>
              <a:ext cx="4572000" cy="180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Eredménykimutatá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Költségek (ráf.) 650   Bevételek   70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Nyereség           </a:t>
              </a:r>
              <a:r>
                <a:rPr b="1" lang="hu-HU" sz="14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50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333399"/>
                  </a:solidFill>
                  <a:latin typeface="Bookman Old Style"/>
                </a:rPr>
                <a:t>Összesen          700    Összesen   70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9" name=""/>
          <p:cNvSpPr/>
          <p:nvPr/>
        </p:nvSpPr>
        <p:spPr>
          <a:xfrm>
            <a:off x="228600" y="640080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</a:rPr>
              <a:t>Képlete: E – F = B – K vagy E + K = F +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3" dur="indefinite" restart="never" nodeType="tmRoot">
          <p:childTnLst>
            <p:seq>
              <p:cTn id="1044" dur="indefinite" nodeType="mainSeq">
                <p:childTnLst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2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ELŐADÁ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Felhasznált forrásai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zakirodalo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zma András: Vázlatok a számvitel tanulásához 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rváth Katalin: Számvitel a gyakorlatb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gyéb források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vábbi ismeretszerzést szolgáló források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ármilyen számviteli szakköny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380880" y="152280"/>
            <a:ext cx="8610840" cy="1022400"/>
            <a:chOff x="380880" y="152280"/>
            <a:chExt cx="8610840" cy="1022400"/>
          </a:xfrm>
        </p:grpSpPr>
        <p:sp>
          <p:nvSpPr>
            <p:cNvPr id="106" name=""/>
            <p:cNvSpPr/>
            <p:nvPr/>
          </p:nvSpPr>
          <p:spPr>
            <a:xfrm>
              <a:off x="8229600" y="152280"/>
              <a:ext cx="762120" cy="228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7-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80880" y="533520"/>
              <a:ext cx="8305920" cy="64116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GAZDASÁGI ESEMÉNYEK (MŰVELETEK) CSOPORTOSÍTÁ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76320" y="1219320"/>
            <a:ext cx="4491000" cy="5016240"/>
            <a:chOff x="76320" y="1219320"/>
            <a:chExt cx="4491000" cy="5016240"/>
          </a:xfrm>
        </p:grpSpPr>
        <p:sp>
          <p:nvSpPr>
            <p:cNvPr id="109" name=""/>
            <p:cNvSpPr/>
            <p:nvPr/>
          </p:nvSpPr>
          <p:spPr>
            <a:xfrm>
              <a:off x="228600" y="3581280"/>
              <a:ext cx="2133720" cy="7621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Bevételek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nem érint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320" y="4495680"/>
              <a:ext cx="29718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Pl.  - Hitelfelvétel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hiteltörlesztés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munkabé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kifizetés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vásárlá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készpénzért stb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1066680" y="2819520"/>
              <a:ext cx="114300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2362320" y="1219320"/>
              <a:ext cx="220500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7200" y="2057400"/>
              <a:ext cx="3657600" cy="79380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PÉNZMOZGÁSSAL JÁR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4567320" y="1219320"/>
            <a:ext cx="4728960" cy="4050000"/>
            <a:chOff x="4567320" y="1219320"/>
            <a:chExt cx="4728960" cy="4050000"/>
          </a:xfrm>
        </p:grpSpPr>
        <p:sp>
          <p:nvSpPr>
            <p:cNvPr id="115" name=""/>
            <p:cNvSpPr/>
            <p:nvPr/>
          </p:nvSpPr>
          <p:spPr>
            <a:xfrm>
              <a:off x="4567320" y="1219320"/>
              <a:ext cx="190980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4952880" y="2057400"/>
              <a:ext cx="4343400" cy="3211920"/>
              <a:chOff x="4952880" y="2057400"/>
              <a:chExt cx="4343400" cy="3211920"/>
            </a:xfrm>
          </p:grpSpPr>
          <p:sp>
            <p:nvSpPr>
              <p:cNvPr id="117" name=""/>
              <p:cNvSpPr/>
              <p:nvPr/>
            </p:nvSpPr>
            <p:spPr>
              <a:xfrm>
                <a:off x="4952880" y="3232080"/>
                <a:ext cx="4343400" cy="203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Pl.  - A munkabér elszámolása,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spcBef>
                    <a:spcPts val="1125"/>
                  </a:spcBef>
                  <a:buClr>
                    <a:srgbClr val="000000"/>
                  </a:buClr>
                  <a:buFont typeface="Bookman Old Style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értékesítés utólagos fizetés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mellett,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spcBef>
                    <a:spcPts val="1125"/>
                  </a:spcBef>
                  <a:buClr>
                    <a:srgbClr val="000000"/>
                  </a:buClr>
                  <a:buFont typeface="Bookman Old Style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az értékcsökkenési leírás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elszámolása stb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181480" y="2057400"/>
                <a:ext cx="3657600" cy="793800"/>
              </a:xfrm>
              <a:prstGeom prst="roundRect">
                <a:avLst>
                  <a:gd name="adj" fmla="val 16667"/>
                </a:avLst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PÉNZMOZGÁSSAL NEM JÁRÓ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" name=""/>
          <p:cNvGrpSpPr/>
          <p:nvPr/>
        </p:nvGrpSpPr>
        <p:grpSpPr>
          <a:xfrm>
            <a:off x="2286000" y="2819520"/>
            <a:ext cx="2971800" cy="3429000"/>
            <a:chOff x="2286000" y="2819520"/>
            <a:chExt cx="2971800" cy="3429000"/>
          </a:xfrm>
        </p:grpSpPr>
        <p:sp>
          <p:nvSpPr>
            <p:cNvPr id="120" name=""/>
            <p:cNvSpPr/>
            <p:nvPr/>
          </p:nvSpPr>
          <p:spPr>
            <a:xfrm>
              <a:off x="2286000" y="2819520"/>
              <a:ext cx="99072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743200" y="3581280"/>
              <a:ext cx="2133720" cy="7621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Bevételek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érint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667240" y="4508640"/>
              <a:ext cx="25905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Pl.  - Értékesíté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készpénzért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kamatbevétel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osztalé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felvétel stb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"/>
          <p:cNvSpPr/>
          <p:nvPr/>
        </p:nvSpPr>
        <p:spPr>
          <a:xfrm>
            <a:off x="755640" y="5516640"/>
            <a:ext cx="5708520" cy="1191240"/>
          </a:xfrm>
          <a:prstGeom prst="rect">
            <a:avLst/>
          </a:prstGeom>
          <a:gradFill rotWithShape="0">
            <a:gsLst>
              <a:gs pos="0">
                <a:srgbClr val="006666">
                  <a:alpha val="23137"/>
                </a:srgbClr>
              </a:gs>
              <a:gs pos="100000">
                <a:srgbClr val="002f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ffffff"/>
                </a:solidFill>
                <a:latin typeface="Arial"/>
              </a:rPr>
              <a:t>Előadás anyagát készített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Dr. Bács Zolt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68000" y="980640"/>
            <a:ext cx="815652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KÖSZÖNÖM A FIGYELMÜKET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KÖVETKEZŐ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ELŐADÁS CÍME</a:t>
            </a:r>
            <a:br>
              <a:rPr sz="3200"/>
            </a:br>
            <a:r>
              <a:rPr b="0" lang="en-US" sz="3200" spc="-1" strike="noStrike">
                <a:solidFill>
                  <a:srgbClr val="993300"/>
                </a:solidFill>
                <a:latin typeface="Arial Black"/>
              </a:rPr>
              <a:t>A négy számlasoros számlaelméle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380880" y="152280"/>
            <a:ext cx="8610840" cy="1022400"/>
            <a:chOff x="380880" y="152280"/>
            <a:chExt cx="8610840" cy="1022400"/>
          </a:xfrm>
        </p:grpSpPr>
        <p:sp>
          <p:nvSpPr>
            <p:cNvPr id="124" name=""/>
            <p:cNvSpPr/>
            <p:nvPr/>
          </p:nvSpPr>
          <p:spPr>
            <a:xfrm>
              <a:off x="8229600" y="152280"/>
              <a:ext cx="762120" cy="228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7-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0880" y="533520"/>
              <a:ext cx="8305920" cy="64116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KÖNYVVEZETÉSI RENDSZEREK FOGAL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228600" y="1143000"/>
            <a:ext cx="4114800" cy="3552120"/>
            <a:chOff x="228600" y="1143000"/>
            <a:chExt cx="4114800" cy="3552120"/>
          </a:xfrm>
        </p:grpSpPr>
        <p:grpSp>
          <p:nvGrpSpPr>
            <p:cNvPr id="127" name=""/>
            <p:cNvGrpSpPr/>
            <p:nvPr/>
          </p:nvGrpSpPr>
          <p:grpSpPr>
            <a:xfrm>
              <a:off x="228600" y="1994040"/>
              <a:ext cx="2514600" cy="2701080"/>
              <a:chOff x="228600" y="1994040"/>
              <a:chExt cx="2514600" cy="2701080"/>
            </a:xfrm>
          </p:grpSpPr>
          <p:sp>
            <p:nvSpPr>
              <p:cNvPr id="128" name=""/>
              <p:cNvSpPr/>
              <p:nvPr/>
            </p:nvSpPr>
            <p:spPr>
              <a:xfrm>
                <a:off x="228600" y="1994040"/>
                <a:ext cx="2514600" cy="761760"/>
              </a:xfrm>
              <a:prstGeom prst="roundRect">
                <a:avLst>
                  <a:gd name="adj" fmla="val 16667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KETTŐ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KÖNYVVITE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28600" y="2771640"/>
                <a:ext cx="2514600" cy="1923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2000" spc="-1" strike="noStrike">
                    <a:solidFill>
                      <a:srgbClr val="000000"/>
                    </a:solidFill>
                    <a:latin typeface="Bookman Old Style"/>
                  </a:rPr>
                  <a:t>Valamennyi gaz-dasági esemény (művelet) feljegy-zése zárt rend-szerbe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 flipV="1">
              <a:off x="1143000" y="1143000"/>
              <a:ext cx="3200400" cy="851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124080" y="1143000"/>
            <a:ext cx="2590920" cy="3539160"/>
            <a:chOff x="3124080" y="1143000"/>
            <a:chExt cx="2590920" cy="3539160"/>
          </a:xfrm>
        </p:grpSpPr>
        <p:grpSp>
          <p:nvGrpSpPr>
            <p:cNvPr id="132" name=""/>
            <p:cNvGrpSpPr/>
            <p:nvPr/>
          </p:nvGrpSpPr>
          <p:grpSpPr>
            <a:xfrm>
              <a:off x="3124080" y="1981080"/>
              <a:ext cx="2590920" cy="2701080"/>
              <a:chOff x="3124080" y="1981080"/>
              <a:chExt cx="2590920" cy="2701080"/>
            </a:xfrm>
          </p:grpSpPr>
          <p:sp>
            <p:nvSpPr>
              <p:cNvPr id="133" name=""/>
              <p:cNvSpPr/>
              <p:nvPr/>
            </p:nvSpPr>
            <p:spPr>
              <a:xfrm>
                <a:off x="3124080" y="1981080"/>
                <a:ext cx="2590920" cy="761760"/>
              </a:xfrm>
              <a:prstGeom prst="roundRect">
                <a:avLst>
                  <a:gd name="adj" fmla="val 16667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EGYSZER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KÖNYVVITE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124080" y="2758680"/>
                <a:ext cx="2590920" cy="1923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2000" spc="-1" strike="noStrike">
                    <a:solidFill>
                      <a:srgbClr val="000000"/>
                    </a:solidFill>
                    <a:latin typeface="Bookman Old Style"/>
                  </a:rPr>
                  <a:t>Csak a pénzmoz-gással járó gazda-sági műveletek feljegyzése zárt rendszerbe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4343400" y="114300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343400" y="1143000"/>
            <a:ext cx="4419720" cy="3556800"/>
            <a:chOff x="4343400" y="1143000"/>
            <a:chExt cx="4419720" cy="3556800"/>
          </a:xfrm>
        </p:grpSpPr>
        <p:grpSp>
          <p:nvGrpSpPr>
            <p:cNvPr id="137" name=""/>
            <p:cNvGrpSpPr/>
            <p:nvPr/>
          </p:nvGrpSpPr>
          <p:grpSpPr>
            <a:xfrm>
              <a:off x="6095880" y="1998720"/>
              <a:ext cx="2667240" cy="2701080"/>
              <a:chOff x="6095880" y="1998720"/>
              <a:chExt cx="2667240" cy="2701080"/>
            </a:xfrm>
          </p:grpSpPr>
          <p:sp>
            <p:nvSpPr>
              <p:cNvPr id="138" name=""/>
              <p:cNvSpPr/>
              <p:nvPr/>
            </p:nvSpPr>
            <p:spPr>
              <a:xfrm>
                <a:off x="6095880" y="1998720"/>
                <a:ext cx="2667240" cy="761760"/>
              </a:xfrm>
              <a:prstGeom prst="roundRect">
                <a:avLst>
                  <a:gd name="adj" fmla="val 16667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BEVÉTELEKRŐL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VEZETETT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NYILVÁNTARTÁ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095880" y="2776320"/>
                <a:ext cx="2667240" cy="1923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2000" spc="-1" strike="noStrike">
                    <a:solidFill>
                      <a:srgbClr val="000000"/>
                    </a:solidFill>
                    <a:latin typeface="Bookman Old Style"/>
                  </a:rPr>
                  <a:t>A pénzügyileg is realizált (befolyt) bevételek feljegy-zése idősorrend-be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343400" y="1143000"/>
              <a:ext cx="312408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380880" y="152280"/>
            <a:ext cx="8610840" cy="1022400"/>
            <a:chOff x="380880" y="152280"/>
            <a:chExt cx="8610840" cy="1022400"/>
          </a:xfrm>
        </p:grpSpPr>
        <p:sp>
          <p:nvSpPr>
            <p:cNvPr id="142" name=""/>
            <p:cNvSpPr/>
            <p:nvPr/>
          </p:nvSpPr>
          <p:spPr>
            <a:xfrm>
              <a:off x="8229600" y="152280"/>
              <a:ext cx="762120" cy="228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7-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0880" y="533520"/>
              <a:ext cx="8305920" cy="64116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KÖNYVVEZETÉS SORÁN HASZNÁLT NYILVÁNTARTÁSO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76320" y="1208160"/>
            <a:ext cx="4495320" cy="4804920"/>
            <a:chOff x="76320" y="1208160"/>
            <a:chExt cx="4495320" cy="4804920"/>
          </a:xfrm>
        </p:grpSpPr>
        <p:grpSp>
          <p:nvGrpSpPr>
            <p:cNvPr id="145" name=""/>
            <p:cNvGrpSpPr/>
            <p:nvPr/>
          </p:nvGrpSpPr>
          <p:grpSpPr>
            <a:xfrm>
              <a:off x="76320" y="2076480"/>
              <a:ext cx="2747160" cy="3936600"/>
              <a:chOff x="76320" y="2076480"/>
              <a:chExt cx="2747160" cy="3936600"/>
            </a:xfrm>
          </p:grpSpPr>
          <p:sp>
            <p:nvSpPr>
              <p:cNvPr id="146" name=""/>
              <p:cNvSpPr/>
              <p:nvPr/>
            </p:nvSpPr>
            <p:spPr>
              <a:xfrm>
                <a:off x="76320" y="2076480"/>
                <a:ext cx="2747160" cy="777240"/>
              </a:xfrm>
              <a:prstGeom prst="roundRect">
                <a:avLst>
                  <a:gd name="adj" fmla="val 16667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A KETTŐ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KÖNYVVITELBE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6320" y="2869920"/>
                <a:ext cx="2747160" cy="3143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NAPLÓ,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KÖNYVVITELI (FŐKÖNYVI) SZÁM-LA,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FŐKÖNYVI KIVO-NAT,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ANALITIKUS SZÁMLA,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FOLYÓSZÁMLA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 flipV="1">
              <a:off x="1075320" y="1208160"/>
              <a:ext cx="3496320" cy="868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124080" y="1219320"/>
            <a:ext cx="2895480" cy="4772160"/>
            <a:chOff x="3124080" y="1219320"/>
            <a:chExt cx="2895480" cy="4772160"/>
          </a:xfrm>
        </p:grpSpPr>
        <p:grpSp>
          <p:nvGrpSpPr>
            <p:cNvPr id="150" name=""/>
            <p:cNvGrpSpPr/>
            <p:nvPr/>
          </p:nvGrpSpPr>
          <p:grpSpPr>
            <a:xfrm>
              <a:off x="3124080" y="2063520"/>
              <a:ext cx="2895480" cy="3927960"/>
              <a:chOff x="3124080" y="2063520"/>
              <a:chExt cx="2895480" cy="3927960"/>
            </a:xfrm>
          </p:grpSpPr>
          <p:sp>
            <p:nvSpPr>
              <p:cNvPr id="151" name=""/>
              <p:cNvSpPr/>
              <p:nvPr/>
            </p:nvSpPr>
            <p:spPr>
              <a:xfrm>
                <a:off x="3124080" y="2063520"/>
                <a:ext cx="2895480" cy="767160"/>
              </a:xfrm>
              <a:prstGeom prst="roundRect">
                <a:avLst>
                  <a:gd name="adj" fmla="val 16667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AZ EGYSZER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KÖNYVVITELBE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124080" y="2848320"/>
                <a:ext cx="2895480" cy="3143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NAPLÓFŐKÖNYV,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vag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PÉNZTÁRKÖNYV,  vag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NAPLÓ ÉS FŐKÖNY-VI SZÁMLA,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ANALITIKUS SZÁM-LA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4486680" y="1219320"/>
              <a:ext cx="0" cy="84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495680" y="1219320"/>
            <a:ext cx="4571640" cy="4781880"/>
            <a:chOff x="4495680" y="1219320"/>
            <a:chExt cx="4571640" cy="4781880"/>
          </a:xfrm>
        </p:grpSpPr>
        <p:grpSp>
          <p:nvGrpSpPr>
            <p:cNvPr id="155" name=""/>
            <p:cNvGrpSpPr/>
            <p:nvPr/>
          </p:nvGrpSpPr>
          <p:grpSpPr>
            <a:xfrm>
              <a:off x="6308280" y="2077920"/>
              <a:ext cx="2759040" cy="3923280"/>
              <a:chOff x="6308280" y="2077920"/>
              <a:chExt cx="2759040" cy="3923280"/>
            </a:xfrm>
          </p:grpSpPr>
          <p:sp>
            <p:nvSpPr>
              <p:cNvPr id="156" name=""/>
              <p:cNvSpPr/>
              <p:nvPr/>
            </p:nvSpPr>
            <p:spPr>
              <a:xfrm>
                <a:off x="6308280" y="2077920"/>
                <a:ext cx="2759040" cy="764280"/>
              </a:xfrm>
              <a:prstGeom prst="roundRect">
                <a:avLst>
                  <a:gd name="adj" fmla="val 16667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BEVÉTELEKRŐL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VEZETETT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NYILVÁNTARTÁSBA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308280" y="2858040"/>
                <a:ext cx="2759040" cy="3143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IDŐSOROS FELJEGYZÉST BIZTOSÍTÓ NYILVÁNTARTÁS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4495680" y="1219320"/>
              <a:ext cx="3231360" cy="840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380880" y="154080"/>
            <a:ext cx="8534520" cy="684000"/>
            <a:chOff x="380880" y="154080"/>
            <a:chExt cx="8534520" cy="684000"/>
          </a:xfrm>
        </p:grpSpPr>
        <p:sp>
          <p:nvSpPr>
            <p:cNvPr id="160" name=""/>
            <p:cNvSpPr/>
            <p:nvPr/>
          </p:nvSpPr>
          <p:spPr>
            <a:xfrm>
              <a:off x="7885080" y="154080"/>
              <a:ext cx="1030320" cy="303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7-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80880" y="324000"/>
              <a:ext cx="7323120" cy="5140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KÖNYVVITELI SZÁMLA LEVEZETÉSE A MÉRLEGBŐ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0" y="1368360"/>
            <a:ext cx="4876920" cy="642600"/>
            <a:chOff x="0" y="1368360"/>
            <a:chExt cx="4876920" cy="642600"/>
          </a:xfrm>
        </p:grpSpPr>
        <p:sp>
          <p:nvSpPr>
            <p:cNvPr id="163" name=""/>
            <p:cNvSpPr/>
            <p:nvPr/>
          </p:nvSpPr>
          <p:spPr>
            <a:xfrm>
              <a:off x="0" y="138276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0880" y="1368360"/>
              <a:ext cx="4496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A számvitel célja a vagyon és a va-gyonváltozás kimutatás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4724280" y="1295280"/>
            <a:ext cx="0" cy="4953240"/>
          </a:xfrm>
          <a:prstGeom prst="line">
            <a:avLst/>
          </a:prstGeom>
          <a:ln w="1260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0" y="2286000"/>
            <a:ext cx="4648320" cy="916920"/>
            <a:chOff x="0" y="2286000"/>
            <a:chExt cx="4648320" cy="916920"/>
          </a:xfrm>
        </p:grpSpPr>
        <p:sp>
          <p:nvSpPr>
            <p:cNvPr id="167" name=""/>
            <p:cNvSpPr/>
            <p:nvPr/>
          </p:nvSpPr>
          <p:spPr>
            <a:xfrm>
              <a:off x="0" y="230004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0880" y="2286000"/>
              <a:ext cx="4267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vagyon (eszközök és források) kimutatására szolgál a könyv-viteli mérleg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0" y="3429000"/>
            <a:ext cx="4572000" cy="2288520"/>
            <a:chOff x="0" y="3429000"/>
            <a:chExt cx="4572000" cy="2288520"/>
          </a:xfrm>
        </p:grpSpPr>
        <p:sp>
          <p:nvSpPr>
            <p:cNvPr id="170" name=""/>
            <p:cNvSpPr/>
            <p:nvPr/>
          </p:nvSpPr>
          <p:spPr>
            <a:xfrm>
              <a:off x="0" y="3443400"/>
              <a:ext cx="3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80880" y="3429000"/>
              <a:ext cx="41911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gazdasági események hatására a vagyon folyamatosan változik. Ezért a gazdasági események hatásának rögzítése érdekében minden egyes gazdasági esemény után újabb és újabb mérleget ke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készíteni. Amint ez látható a     3-6.1 – 3-6.7 vázlatoko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4724280" y="1384200"/>
            <a:ext cx="4343040" cy="2562840"/>
            <a:chOff x="4724280" y="1384200"/>
            <a:chExt cx="4343040" cy="2562840"/>
          </a:xfrm>
        </p:grpSpPr>
        <p:sp>
          <p:nvSpPr>
            <p:cNvPr id="173" name=""/>
            <p:cNvSpPr/>
            <p:nvPr/>
          </p:nvSpPr>
          <p:spPr>
            <a:xfrm>
              <a:off x="4724280" y="139860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063400" y="1384200"/>
              <a:ext cx="400392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Egy-egy gazdasági esemény két, vagy három mérlegsort érint. Ezért – hogy ne kelljen minden gazdasági esemény után újabb mérleget készíteni - célszerű a mérleg sorait külön-külön nyilvántartásokban rögzíteni és a változásokat e nyilvántar-tásokban feljegyezni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4724280" y="5057640"/>
            <a:ext cx="4267080" cy="1191240"/>
            <a:chOff x="4724280" y="5057640"/>
            <a:chExt cx="4267080" cy="1191240"/>
          </a:xfrm>
        </p:grpSpPr>
        <p:sp>
          <p:nvSpPr>
            <p:cNvPr id="176" name=""/>
            <p:cNvSpPr/>
            <p:nvPr/>
          </p:nvSpPr>
          <p:spPr>
            <a:xfrm>
              <a:off x="4724280" y="50720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057280" y="5057640"/>
              <a:ext cx="3934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leírtakból jól látható, hogy a mérlegből levezetett könyv-viteli számlák egy-egy mérleg-sort tartalmaznak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4724280" y="4037040"/>
            <a:ext cx="4267080" cy="916920"/>
            <a:chOff x="4724280" y="4037040"/>
            <a:chExt cx="4267080" cy="916920"/>
          </a:xfrm>
        </p:grpSpPr>
        <p:sp>
          <p:nvSpPr>
            <p:cNvPr id="179" name=""/>
            <p:cNvSpPr/>
            <p:nvPr/>
          </p:nvSpPr>
          <p:spPr>
            <a:xfrm>
              <a:off x="4724280" y="40510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057280" y="4037040"/>
              <a:ext cx="3934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Ezeket a nyilvántartásokat nevezik könyvviteli számlák-nak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660240" y="154080"/>
            <a:ext cx="8255160" cy="684000"/>
            <a:chOff x="660240" y="154080"/>
            <a:chExt cx="8255160" cy="684000"/>
          </a:xfrm>
        </p:grpSpPr>
        <p:sp>
          <p:nvSpPr>
            <p:cNvPr id="182" name=""/>
            <p:cNvSpPr/>
            <p:nvPr/>
          </p:nvSpPr>
          <p:spPr>
            <a:xfrm>
              <a:off x="7924680" y="154080"/>
              <a:ext cx="990720" cy="303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7-6.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60240" y="324000"/>
              <a:ext cx="7043760" cy="5140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KÖNYVVITELI SZÁMLA I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0" y="1368360"/>
            <a:ext cx="4876920" cy="2669760"/>
            <a:chOff x="0" y="1368360"/>
            <a:chExt cx="4876920" cy="2669760"/>
          </a:xfrm>
        </p:grpSpPr>
        <p:sp>
          <p:nvSpPr>
            <p:cNvPr id="185" name=""/>
            <p:cNvSpPr/>
            <p:nvPr/>
          </p:nvSpPr>
          <p:spPr>
            <a:xfrm>
              <a:off x="0" y="138276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81240" y="1749600"/>
              <a:ext cx="44956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könyvviteli számla olyan KÉTOLDALÚ NYILVÁNTARTÁS, amelyne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EGYIK OLDALÁN 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NÖVEKEDÉSEKET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MÁSIK OLDALÁN 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CSÖKKENÉSEKET jegyzik fel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1240" y="1368360"/>
              <a:ext cx="1523880" cy="3812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FOGALMA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0" y="4309920"/>
            <a:ext cx="4800600" cy="2014200"/>
            <a:chOff x="0" y="4309920"/>
            <a:chExt cx="4800600" cy="2014200"/>
          </a:xfrm>
        </p:grpSpPr>
        <p:sp>
          <p:nvSpPr>
            <p:cNvPr id="189" name=""/>
            <p:cNvSpPr/>
            <p:nvPr/>
          </p:nvSpPr>
          <p:spPr>
            <a:xfrm>
              <a:off x="0" y="43434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4920" y="4309920"/>
              <a:ext cx="44956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SZÁMLA NEVE A SZÁMLA TAR-TALMÁT FEJEZI KI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Pl. VEVŐK számla a vevőkkel szembeni követelést tartalmazza, az egyik oldalon a követelés növekedését, a másik oldalon a csökkenésé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4648320" y="1371600"/>
            <a:ext cx="4800600" cy="1191240"/>
            <a:chOff x="4648320" y="1371600"/>
            <a:chExt cx="4800600" cy="1191240"/>
          </a:xfrm>
        </p:grpSpPr>
        <p:sp>
          <p:nvSpPr>
            <p:cNvPr id="192" name=""/>
            <p:cNvSpPr/>
            <p:nvPr/>
          </p:nvSpPr>
          <p:spPr>
            <a:xfrm>
              <a:off x="4648320" y="14047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53240" y="137160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SZÁML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bal oldalát TARTOZIK (T)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jobb oldalát KÖVETEL (K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oldalnak nevezik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4648320" y="2819520"/>
            <a:ext cx="4800600" cy="2837160"/>
            <a:chOff x="4648320" y="2819520"/>
            <a:chExt cx="4800600" cy="2837160"/>
          </a:xfrm>
        </p:grpSpPr>
        <p:sp>
          <p:nvSpPr>
            <p:cNvPr id="195" name=""/>
            <p:cNvSpPr/>
            <p:nvPr/>
          </p:nvSpPr>
          <p:spPr>
            <a:xfrm>
              <a:off x="4648320" y="2852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953240" y="2819520"/>
              <a:ext cx="449568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FELJEGYZÉSEK ELNEVEZÉSE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ha a számla TARTOZIK oldalár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könyvelnek, akkor azt a száml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MEGTERHELÉSÉNEK (terhé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írásnak) nevezik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ha a számla KÖVETEL oldalá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könyvelnek, akkor azt a száml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elismerésének (javára írásnak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nevezik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4724280" y="1295280"/>
            <a:ext cx="0" cy="4953240"/>
          </a:xfrm>
          <a:prstGeom prst="line">
            <a:avLst/>
          </a:prstGeom>
          <a:ln w="1260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"/>
          <p:cNvGrpSpPr/>
          <p:nvPr/>
        </p:nvGrpSpPr>
        <p:grpSpPr>
          <a:xfrm>
            <a:off x="660240" y="154080"/>
            <a:ext cx="8255160" cy="684000"/>
            <a:chOff x="660240" y="154080"/>
            <a:chExt cx="8255160" cy="684000"/>
          </a:xfrm>
        </p:grpSpPr>
        <p:sp>
          <p:nvSpPr>
            <p:cNvPr id="199" name=""/>
            <p:cNvSpPr/>
            <p:nvPr/>
          </p:nvSpPr>
          <p:spPr>
            <a:xfrm>
              <a:off x="7924680" y="154080"/>
              <a:ext cx="990720" cy="303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7-6.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60240" y="324000"/>
              <a:ext cx="7043760" cy="5140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KÖNYVVITELI SZÁMLA II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0" y="1368360"/>
            <a:ext cx="4876920" cy="1191240"/>
            <a:chOff x="0" y="1368360"/>
            <a:chExt cx="4876920" cy="1191240"/>
          </a:xfrm>
        </p:grpSpPr>
        <p:sp>
          <p:nvSpPr>
            <p:cNvPr id="202" name=""/>
            <p:cNvSpPr/>
            <p:nvPr/>
          </p:nvSpPr>
          <p:spPr>
            <a:xfrm>
              <a:off x="0" y="138276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80880" y="1368360"/>
              <a:ext cx="4496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KÖNYVVITELI SZÁML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TARTOZIK oldalára írt tételek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együttes összegét TARTOZIK FŐ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ÖSSZEGNEK,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0" y="4552920"/>
            <a:ext cx="4800600" cy="916920"/>
            <a:chOff x="0" y="4552920"/>
            <a:chExt cx="4800600" cy="916920"/>
          </a:xfrm>
        </p:grpSpPr>
        <p:sp>
          <p:nvSpPr>
            <p:cNvPr id="205" name=""/>
            <p:cNvSpPr/>
            <p:nvPr/>
          </p:nvSpPr>
          <p:spPr>
            <a:xfrm>
              <a:off x="0" y="45860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04920" y="4552920"/>
              <a:ext cx="4495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Az egyenleg TARTOZIK vagy KÖVETEL jellegű. Az egyenleg jelle-gét a főösszeg határozza meg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4876920" y="1371600"/>
            <a:ext cx="4800600" cy="916920"/>
            <a:chOff x="4876920" y="1371600"/>
            <a:chExt cx="4800600" cy="916920"/>
          </a:xfrm>
        </p:grpSpPr>
        <p:sp>
          <p:nvSpPr>
            <p:cNvPr id="208" name=""/>
            <p:cNvSpPr/>
            <p:nvPr/>
          </p:nvSpPr>
          <p:spPr>
            <a:xfrm>
              <a:off x="4876920" y="14047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181840" y="1371600"/>
              <a:ext cx="4495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Ha a TARTOZIK FŐÖSSZEG A NAGYOBB, akkor a számlának TARTOZIK EGYENLEGE VAN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4724280" y="1295280"/>
            <a:ext cx="0" cy="4953240"/>
          </a:xfrm>
          <a:prstGeom prst="line">
            <a:avLst/>
          </a:prstGeom>
          <a:ln w="1260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0880" y="2590920"/>
            <a:ext cx="449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KÖVETEL oldalára írt tétele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együttes összegét KÖVETEL FŐ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ÖSSZEGNEK nevezi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0" y="3657600"/>
            <a:ext cx="4800600" cy="642600"/>
            <a:chOff x="0" y="3657600"/>
            <a:chExt cx="4800600" cy="642600"/>
          </a:xfrm>
        </p:grpSpPr>
        <p:sp>
          <p:nvSpPr>
            <p:cNvPr id="213" name=""/>
            <p:cNvSpPr/>
            <p:nvPr/>
          </p:nvSpPr>
          <p:spPr>
            <a:xfrm>
              <a:off x="0" y="36910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4920" y="3657600"/>
              <a:ext cx="4495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két főösszeg közötti különbözet az EGYENLEG (SALDÓ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4876920" y="2360520"/>
            <a:ext cx="4800600" cy="916920"/>
            <a:chOff x="4876920" y="2360520"/>
            <a:chExt cx="4800600" cy="916920"/>
          </a:xfrm>
        </p:grpSpPr>
        <p:sp>
          <p:nvSpPr>
            <p:cNvPr id="216" name=""/>
            <p:cNvSpPr/>
            <p:nvPr/>
          </p:nvSpPr>
          <p:spPr>
            <a:xfrm>
              <a:off x="4876920" y="23940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181840" y="2360520"/>
              <a:ext cx="4495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Ha a KÖVETEL FŐÖSSZEG A NAGYOBB, akkor a számlának KÖVETEL EGYENLEGE VA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4648320" y="3505320"/>
            <a:ext cx="4495320" cy="1300680"/>
            <a:chOff x="4648320" y="3505320"/>
            <a:chExt cx="4495320" cy="1300680"/>
          </a:xfrm>
        </p:grpSpPr>
        <p:grpSp>
          <p:nvGrpSpPr>
            <p:cNvPr id="219" name=""/>
            <p:cNvGrpSpPr/>
            <p:nvPr/>
          </p:nvGrpSpPr>
          <p:grpSpPr>
            <a:xfrm>
              <a:off x="4648320" y="3505320"/>
              <a:ext cx="4495320" cy="1300680"/>
              <a:chOff x="4648320" y="3505320"/>
              <a:chExt cx="4495320" cy="1300680"/>
            </a:xfrm>
          </p:grpSpPr>
          <p:sp>
            <p:nvSpPr>
              <p:cNvPr id="220" name=""/>
              <p:cNvSpPr/>
              <p:nvPr/>
            </p:nvSpPr>
            <p:spPr>
              <a:xfrm>
                <a:off x="4648320" y="3538440"/>
                <a:ext cx="356400" cy="39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933800" y="3505320"/>
                <a:ext cx="4209840" cy="13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A száml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buClr>
                    <a:srgbClr val="000000"/>
                  </a:buClr>
                  <a:buFont typeface="Bookman Old Style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TARTOZIK oldalára rögzített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	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     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együttes összege 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TARTOZIK FORGALOM, 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5257800" y="4191120"/>
              <a:ext cx="1371600" cy="2286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változás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4648320" y="4875120"/>
            <a:ext cx="4495320" cy="999000"/>
            <a:chOff x="4648320" y="4875120"/>
            <a:chExt cx="4495320" cy="999000"/>
          </a:xfrm>
        </p:grpSpPr>
        <p:grpSp>
          <p:nvGrpSpPr>
            <p:cNvPr id="224" name=""/>
            <p:cNvGrpSpPr/>
            <p:nvPr/>
          </p:nvGrpSpPr>
          <p:grpSpPr>
            <a:xfrm>
              <a:off x="4648320" y="4875120"/>
              <a:ext cx="4495320" cy="999000"/>
              <a:chOff x="4648320" y="4875120"/>
              <a:chExt cx="4495320" cy="999000"/>
            </a:xfrm>
          </p:grpSpPr>
          <p:sp>
            <p:nvSpPr>
              <p:cNvPr id="225" name=""/>
              <p:cNvSpPr/>
              <p:nvPr/>
            </p:nvSpPr>
            <p:spPr>
              <a:xfrm>
                <a:off x="4648320" y="4908600"/>
                <a:ext cx="35640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933800" y="4875120"/>
                <a:ext cx="4209840" cy="99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- KÖVETEL oldalára rögzített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	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    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együttes összege 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KÖVETEL FORGALOM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5181480" y="5257800"/>
              <a:ext cx="1371600" cy="2286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változás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5T16:00:57Z</dcterms:created>
  <dc:creator>tamas</dc:creator>
  <dc:description/>
  <dc:language>en-US</dc:language>
  <cp:lastModifiedBy>Bács Zoltán</cp:lastModifiedBy>
  <dcterms:modified xsi:type="dcterms:W3CDTF">2008-08-31T07:39:15Z</dcterms:modified>
  <cp:revision>57</cp:revision>
  <dc:subject/>
  <dc:title>1. dia</dc:title>
</cp:coreProperties>
</file>