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5CE-7ED3-49B9-850A-0056C795C94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86048-4D24-4043-B906-5D13A9A6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098C-44C4-4F6E-B467-B59367E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B09FB-C1B6-4902-B8AA-A4556A7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EDDAD-44D8-49C4-A280-E0A90AF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84A3E-BC6C-4CFE-8FBB-23A99F5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545EC-2EDA-4B68-A501-E7926C23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A5B4-2AA4-4AB5-AF77-54ABF8E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AB2E0-5AAB-47F9-ADC3-FA5B5ED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EEC9C-A47E-4DD9-AF2F-7B48A7F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0FE4-F2A7-45D8-8BD8-D894628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C7F5-17E5-4DFF-869F-CAE278E6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B9522-E8C8-4852-97BA-8241940C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67BC-3264-480B-8EC1-1D5521DAA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880" y="152280"/>
            <a:ext cx="8534520" cy="532080"/>
            <a:chOff x="380880" y="152280"/>
            <a:chExt cx="8534520" cy="532080"/>
          </a:xfrm>
        </p:grpSpPr>
        <p:sp>
          <p:nvSpPr>
            <p:cNvPr id="146" name=""/>
            <p:cNvSpPr/>
            <p:nvPr/>
          </p:nvSpPr>
          <p:spPr>
            <a:xfrm>
              <a:off x="7885080" y="152280"/>
              <a:ext cx="1030320" cy="27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228600"/>
              <a:ext cx="7323120" cy="455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ESEMÉNYEK RÖGZÍTÉSE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152280" y="86364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– 12. 31.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52280" y="1282680"/>
          <a:ext cx="8763120" cy="5270400"/>
        </p:xfrm>
        <a:graphic>
          <a:graphicData uri="http://schemas.openxmlformats.org/drawingml/2006/table">
            <a:tbl>
              <a:tblPr/>
              <a:tblGrid>
                <a:gridCol w="822600"/>
                <a:gridCol w="1920600"/>
                <a:gridCol w="1905120"/>
                <a:gridCol w="1905120"/>
                <a:gridCol w="1143000"/>
                <a:gridCol w="1066680"/>
              </a:tblGrid>
              <a:tr h="26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hozat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felhasznál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1. Anyag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 Készlet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unkabér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4. Bér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b járulé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. Bérjárulék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cs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7. Écs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 Befektete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elyi adó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 Egyéb ráfordítá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amatfizeté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7. Pénzügyi műve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tek ráfordítás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 Pénzeszközö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érítés nélküli átad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. Rendkívüli 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 Befektetett eszközö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aját termelésű készlet értékesíté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1. Vevő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. Árbevé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apott kártéríté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 Pénzeszközö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 Egyéb 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apott kam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 Pénzeszközö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7. Pénzügyi műve-letek bevétele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lévült kötele-zettség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8. Rendkívüli 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aját termelésű készlet növekedé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 Készlet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 Aktivált saját    teljesítmény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vite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5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6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ESEMÉNYEK RÖGZÍTÉ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SZÁMLÁKON 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320" y="1089000"/>
            <a:ext cx="3049560" cy="1578240"/>
            <a:chOff x="76320" y="1089000"/>
            <a:chExt cx="3049560" cy="1578240"/>
          </a:xfrm>
        </p:grpSpPr>
        <p:grpSp>
          <p:nvGrpSpPr>
            <p:cNvPr id="154" name=""/>
            <p:cNvGrpSpPr/>
            <p:nvPr/>
          </p:nvGrpSpPr>
          <p:grpSpPr>
            <a:xfrm>
              <a:off x="77760" y="1465200"/>
              <a:ext cx="2866680" cy="1201320"/>
              <a:chOff x="77760" y="1465200"/>
              <a:chExt cx="2866680" cy="1201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510560" y="146520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60" y="14652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6320" y="108900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. Befektetett eszközö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8640" y="15238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2880" y="1523880"/>
              <a:ext cx="99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54080" y="2354400"/>
              <a:ext cx="2971800" cy="312840"/>
              <a:chOff x="154080" y="2354400"/>
              <a:chExt cx="2971800" cy="312840"/>
            </a:xfrm>
          </p:grpSpPr>
          <p:sp>
            <p:nvSpPr>
              <p:cNvPr id="161" name=""/>
              <p:cNvSpPr/>
              <p:nvPr/>
            </p:nvSpPr>
            <p:spPr>
              <a:xfrm>
                <a:off x="382680" y="235440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5160" y="235440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080" y="23619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4080" y="25905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54080" y="1523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2880" y="18288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2880" y="1523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2880" y="21337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I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124080" y="1089000"/>
            <a:ext cx="2973600" cy="1578240"/>
            <a:chOff x="3124080" y="1089000"/>
            <a:chExt cx="2973600" cy="1578240"/>
          </a:xfrm>
        </p:grpSpPr>
        <p:grpSp>
          <p:nvGrpSpPr>
            <p:cNvPr id="170" name=""/>
            <p:cNvGrpSpPr/>
            <p:nvPr/>
          </p:nvGrpSpPr>
          <p:grpSpPr>
            <a:xfrm>
              <a:off x="3125880" y="1465200"/>
              <a:ext cx="2866680" cy="1201320"/>
              <a:chOff x="3125880" y="1465200"/>
              <a:chExt cx="2866680" cy="1201320"/>
            </a:xfrm>
          </p:grpSpPr>
          <p:sp>
            <p:nvSpPr>
              <p:cNvPr id="171" name=""/>
              <p:cNvSpPr/>
              <p:nvPr/>
            </p:nvSpPr>
            <p:spPr>
              <a:xfrm>
                <a:off x="4558680" y="146520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5880" y="14652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124080" y="1089000"/>
              <a:ext cx="2973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. Készl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6760" y="1523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6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0640" y="1523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01840" y="2354400"/>
              <a:ext cx="2818080" cy="312840"/>
              <a:chOff x="3201840" y="2354400"/>
              <a:chExt cx="2818080" cy="312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505320" y="235440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29200" y="235440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01840" y="236232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01840" y="259092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201840" y="1523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0640" y="1523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0640" y="18288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200400" y="182880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170760" y="1089000"/>
            <a:ext cx="2973240" cy="1578240"/>
            <a:chOff x="6170760" y="1089000"/>
            <a:chExt cx="2973240" cy="1578240"/>
          </a:xfrm>
        </p:grpSpPr>
        <p:grpSp>
          <p:nvGrpSpPr>
            <p:cNvPr id="186" name=""/>
            <p:cNvGrpSpPr/>
            <p:nvPr/>
          </p:nvGrpSpPr>
          <p:grpSpPr>
            <a:xfrm>
              <a:off x="6172200" y="1465200"/>
              <a:ext cx="2866680" cy="1201320"/>
              <a:chOff x="6172200" y="1465200"/>
              <a:chExt cx="2866680" cy="1201320"/>
            </a:xfrm>
          </p:grpSpPr>
          <p:sp>
            <p:nvSpPr>
              <p:cNvPr id="187" name=""/>
              <p:cNvSpPr/>
              <p:nvPr/>
            </p:nvSpPr>
            <p:spPr>
              <a:xfrm>
                <a:off x="7605000" y="146520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72200" y="14652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170760" y="108900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Bookman Old Style"/>
                </a:rPr>
                <a:t>31. Köv. áruszáll. (Vevő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3080" y="15238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77320" y="152388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248520" y="2354400"/>
              <a:ext cx="2817360" cy="312840"/>
              <a:chOff x="6248520" y="2354400"/>
              <a:chExt cx="2817360" cy="312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551640" y="235440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75520" y="235440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48520" y="236232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48520" y="259092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400800" y="15559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77320" y="1523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320" y="2917800"/>
            <a:ext cx="2973240" cy="1577880"/>
            <a:chOff x="76320" y="2917800"/>
            <a:chExt cx="2973240" cy="1577880"/>
          </a:xfrm>
        </p:grpSpPr>
        <p:grpSp>
          <p:nvGrpSpPr>
            <p:cNvPr id="200" name=""/>
            <p:cNvGrpSpPr/>
            <p:nvPr/>
          </p:nvGrpSpPr>
          <p:grpSpPr>
            <a:xfrm>
              <a:off x="77760" y="3294000"/>
              <a:ext cx="2866680" cy="1200960"/>
              <a:chOff x="77760" y="3294000"/>
              <a:chExt cx="2866680" cy="1200960"/>
            </a:xfrm>
          </p:grpSpPr>
          <p:sp>
            <p:nvSpPr>
              <p:cNvPr id="201" name=""/>
              <p:cNvSpPr/>
              <p:nvPr/>
            </p:nvSpPr>
            <p:spPr>
              <a:xfrm>
                <a:off x="1510560" y="3294000"/>
                <a:ext cx="0" cy="120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760" y="32940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6320" y="291780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8.  Pénzeszközö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640" y="335268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2880" y="3352680"/>
              <a:ext cx="99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4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54080" y="4182840"/>
              <a:ext cx="2817360" cy="312840"/>
              <a:chOff x="154080" y="4182840"/>
              <a:chExt cx="2817360" cy="312840"/>
            </a:xfrm>
          </p:grpSpPr>
          <p:sp>
            <p:nvSpPr>
              <p:cNvPr id="207" name=""/>
              <p:cNvSpPr/>
              <p:nvPr/>
            </p:nvSpPr>
            <p:spPr>
              <a:xfrm>
                <a:off x="457200" y="418284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81080" y="418284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4080" y="419076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4080" y="441936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54080" y="335268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2880" y="335268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880" y="365724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280" y="365724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280" y="396216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24080" y="2917800"/>
            <a:ext cx="2973600" cy="1577880"/>
            <a:chOff x="3124080" y="2917800"/>
            <a:chExt cx="2973600" cy="1577880"/>
          </a:xfrm>
        </p:grpSpPr>
        <p:grpSp>
          <p:nvGrpSpPr>
            <p:cNvPr id="217" name=""/>
            <p:cNvGrpSpPr/>
            <p:nvPr/>
          </p:nvGrpSpPr>
          <p:grpSpPr>
            <a:xfrm>
              <a:off x="3125880" y="3294000"/>
              <a:ext cx="2866680" cy="1200960"/>
              <a:chOff x="3125880" y="3294000"/>
              <a:chExt cx="2866680" cy="1200960"/>
            </a:xfrm>
          </p:grpSpPr>
          <p:sp>
            <p:nvSpPr>
              <p:cNvPr id="218" name=""/>
              <p:cNvSpPr/>
              <p:nvPr/>
            </p:nvSpPr>
            <p:spPr>
              <a:xfrm>
                <a:off x="4558680" y="3294000"/>
                <a:ext cx="0" cy="120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5880" y="32940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124080" y="2917800"/>
              <a:ext cx="2973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11. Jegyzett tő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201840" y="4182840"/>
              <a:ext cx="2818080" cy="312840"/>
              <a:chOff x="3201840" y="4182840"/>
              <a:chExt cx="2818080" cy="312840"/>
            </a:xfrm>
          </p:grpSpPr>
          <p:sp>
            <p:nvSpPr>
              <p:cNvPr id="222" name=""/>
              <p:cNvSpPr/>
              <p:nvPr/>
            </p:nvSpPr>
            <p:spPr>
              <a:xfrm>
                <a:off x="3505320" y="418284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29200" y="418284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01840" y="41907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01840" y="44193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201840" y="342864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2880" y="3428640"/>
              <a:ext cx="228600" cy="228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505320" y="3352680"/>
              <a:ext cx="2514600" cy="337320"/>
              <a:chOff x="3505320" y="3352680"/>
              <a:chExt cx="2514600" cy="33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3505320" y="335268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29200" y="335268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6172200" y="2819520"/>
            <a:ext cx="2973240" cy="1654200"/>
            <a:chOff x="6172200" y="2819520"/>
            <a:chExt cx="2973240" cy="1654200"/>
          </a:xfrm>
        </p:grpSpPr>
        <p:grpSp>
          <p:nvGrpSpPr>
            <p:cNvPr id="232" name=""/>
            <p:cNvGrpSpPr/>
            <p:nvPr/>
          </p:nvGrpSpPr>
          <p:grpSpPr>
            <a:xfrm>
              <a:off x="6173640" y="3272040"/>
              <a:ext cx="2866680" cy="1201320"/>
              <a:chOff x="6173640" y="3272040"/>
              <a:chExt cx="2866680" cy="1201320"/>
            </a:xfrm>
          </p:grpSpPr>
          <p:sp>
            <p:nvSpPr>
              <p:cNvPr id="233" name=""/>
              <p:cNvSpPr/>
              <p:nvPr/>
            </p:nvSpPr>
            <p:spPr>
              <a:xfrm>
                <a:off x="7606440" y="327204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73640" y="327204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172200" y="2819520"/>
              <a:ext cx="297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19. Mérleg szerinti eredmé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249960" y="4160880"/>
              <a:ext cx="2817360" cy="312840"/>
              <a:chOff x="6249960" y="4160880"/>
              <a:chExt cx="2817360" cy="312840"/>
            </a:xfrm>
          </p:grpSpPr>
          <p:sp>
            <p:nvSpPr>
              <p:cNvPr id="237" name=""/>
              <p:cNvSpPr/>
              <p:nvPr/>
            </p:nvSpPr>
            <p:spPr>
              <a:xfrm>
                <a:off x="6553080" y="41608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76960" y="41608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49960" y="41688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49960" y="43974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400800" y="34290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78760" y="34290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553080" y="3330720"/>
              <a:ext cx="2514600" cy="337320"/>
              <a:chOff x="6553080" y="3330720"/>
              <a:chExt cx="2514600" cy="337320"/>
            </a:xfrm>
          </p:grpSpPr>
          <p:sp>
            <p:nvSpPr>
              <p:cNvPr id="244" name=""/>
              <p:cNvSpPr/>
              <p:nvPr/>
            </p:nvSpPr>
            <p:spPr>
              <a:xfrm>
                <a:off x="6553080" y="333072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76960" y="33307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6172200" y="4724280"/>
            <a:ext cx="2973240" cy="1484280"/>
            <a:chOff x="6172200" y="4724280"/>
            <a:chExt cx="2973240" cy="1484280"/>
          </a:xfrm>
        </p:grpSpPr>
        <p:grpSp>
          <p:nvGrpSpPr>
            <p:cNvPr id="247" name=""/>
            <p:cNvGrpSpPr/>
            <p:nvPr/>
          </p:nvGrpSpPr>
          <p:grpSpPr>
            <a:xfrm>
              <a:off x="6173640" y="5006880"/>
              <a:ext cx="2866680" cy="1201320"/>
              <a:chOff x="6173640" y="5006880"/>
              <a:chExt cx="2866680" cy="1201320"/>
            </a:xfrm>
          </p:grpSpPr>
          <p:sp>
            <p:nvSpPr>
              <p:cNvPr id="248" name=""/>
              <p:cNvSpPr/>
              <p:nvPr/>
            </p:nvSpPr>
            <p:spPr>
              <a:xfrm>
                <a:off x="7606440" y="50068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73640" y="50068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172200" y="472428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92. Zárómérleg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249960" y="5895720"/>
              <a:ext cx="2817360" cy="312840"/>
              <a:chOff x="6249960" y="5895720"/>
              <a:chExt cx="2817360" cy="312840"/>
            </a:xfrm>
          </p:grpSpPr>
          <p:sp>
            <p:nvSpPr>
              <p:cNvPr id="252" name=""/>
              <p:cNvSpPr/>
              <p:nvPr/>
            </p:nvSpPr>
            <p:spPr>
              <a:xfrm>
                <a:off x="6553080" y="589572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2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76960" y="589572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2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9960" y="59036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9960" y="61322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249960" y="50655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26480" y="50655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553080" y="5065560"/>
              <a:ext cx="2514600" cy="337320"/>
              <a:chOff x="6553080" y="5065560"/>
              <a:chExt cx="2514600" cy="337320"/>
            </a:xfrm>
          </p:grpSpPr>
          <p:sp>
            <p:nvSpPr>
              <p:cNvPr id="259" name=""/>
              <p:cNvSpPr/>
              <p:nvPr/>
            </p:nvSpPr>
            <p:spPr>
              <a:xfrm>
                <a:off x="6553080" y="50655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2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76960" y="50655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2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76320" y="4724280"/>
            <a:ext cx="2973240" cy="2116080"/>
            <a:chOff x="76320" y="4724280"/>
            <a:chExt cx="2973240" cy="2116080"/>
          </a:xfrm>
        </p:grpSpPr>
        <p:grpSp>
          <p:nvGrpSpPr>
            <p:cNvPr id="262" name=""/>
            <p:cNvGrpSpPr/>
            <p:nvPr/>
          </p:nvGrpSpPr>
          <p:grpSpPr>
            <a:xfrm>
              <a:off x="77760" y="5006880"/>
              <a:ext cx="2866680" cy="1832760"/>
              <a:chOff x="77760" y="5006880"/>
              <a:chExt cx="2866680" cy="1832760"/>
            </a:xfrm>
          </p:grpSpPr>
          <p:sp>
            <p:nvSpPr>
              <p:cNvPr id="263" name=""/>
              <p:cNvSpPr/>
              <p:nvPr/>
            </p:nvSpPr>
            <p:spPr>
              <a:xfrm>
                <a:off x="1510560" y="5006880"/>
                <a:ext cx="0" cy="18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760" y="50068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6320" y="472428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5-47. Kötelezettség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54080" y="6527520"/>
              <a:ext cx="2817360" cy="312840"/>
              <a:chOff x="154080" y="6527520"/>
              <a:chExt cx="2817360" cy="312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57200" y="652752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9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81080" y="652752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9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4080" y="65354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4080" y="67640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54080" y="5065560"/>
              <a:ext cx="2057400" cy="228600"/>
              <a:chOff x="154080" y="5065560"/>
              <a:chExt cx="2057400" cy="228600"/>
            </a:xfrm>
          </p:grpSpPr>
          <p:sp>
            <p:nvSpPr>
              <p:cNvPr id="272" name=""/>
              <p:cNvSpPr/>
              <p:nvPr/>
            </p:nvSpPr>
            <p:spPr>
              <a:xfrm>
                <a:off x="154080" y="506556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1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82880" y="506556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I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57200" y="5065560"/>
              <a:ext cx="2514600" cy="1554120"/>
              <a:chOff x="457200" y="5065560"/>
              <a:chExt cx="2514600" cy="1554120"/>
            </a:xfrm>
          </p:grpSpPr>
          <p:sp>
            <p:nvSpPr>
              <p:cNvPr id="275" name=""/>
              <p:cNvSpPr/>
              <p:nvPr/>
            </p:nvSpPr>
            <p:spPr>
              <a:xfrm>
                <a:off x="457200" y="5065560"/>
                <a:ext cx="990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8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1080" y="5065560"/>
                <a:ext cx="9907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52640" y="5316480"/>
              <a:ext cx="2057400" cy="228600"/>
              <a:chOff x="152640" y="5316480"/>
              <a:chExt cx="2057400" cy="228600"/>
            </a:xfrm>
          </p:grpSpPr>
          <p:sp>
            <p:nvSpPr>
              <p:cNvPr id="278" name=""/>
              <p:cNvSpPr/>
              <p:nvPr/>
            </p:nvSpPr>
            <p:spPr>
              <a:xfrm>
                <a:off x="152640" y="531648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IV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1440" y="531648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981440" y="562104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440" y="584964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1440" y="607824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440" y="630684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22640" y="4724280"/>
            <a:ext cx="2973240" cy="1484280"/>
            <a:chOff x="3122640" y="4724280"/>
            <a:chExt cx="2973240" cy="1484280"/>
          </a:xfrm>
        </p:grpSpPr>
        <p:grpSp>
          <p:nvGrpSpPr>
            <p:cNvPr id="285" name=""/>
            <p:cNvGrpSpPr/>
            <p:nvPr/>
          </p:nvGrpSpPr>
          <p:grpSpPr>
            <a:xfrm>
              <a:off x="3124080" y="5006880"/>
              <a:ext cx="2866680" cy="1201320"/>
              <a:chOff x="3124080" y="5006880"/>
              <a:chExt cx="2866680" cy="1201320"/>
            </a:xfrm>
          </p:grpSpPr>
          <p:sp>
            <p:nvSpPr>
              <p:cNvPr id="286" name=""/>
              <p:cNvSpPr/>
              <p:nvPr/>
            </p:nvSpPr>
            <p:spPr>
              <a:xfrm>
                <a:off x="4556880" y="50068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24080" y="50068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122640" y="472428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91. Nyitómérleg szám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200400" y="5895720"/>
              <a:ext cx="2817360" cy="312840"/>
              <a:chOff x="3200400" y="5895720"/>
              <a:chExt cx="2817360" cy="312840"/>
            </a:xfrm>
          </p:grpSpPr>
          <p:sp>
            <p:nvSpPr>
              <p:cNvPr id="290" name=""/>
              <p:cNvSpPr/>
              <p:nvPr/>
            </p:nvSpPr>
            <p:spPr>
              <a:xfrm>
                <a:off x="3503520" y="589572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27400" y="589572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00400" y="59036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0400" y="61322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3200400" y="50655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6920" y="50655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503520" y="5065560"/>
              <a:ext cx="2514600" cy="337320"/>
              <a:chOff x="3503520" y="5065560"/>
              <a:chExt cx="2514600" cy="337320"/>
            </a:xfrm>
          </p:grpSpPr>
          <p:sp>
            <p:nvSpPr>
              <p:cNvPr id="297" name=""/>
              <p:cNvSpPr/>
              <p:nvPr/>
            </p:nvSpPr>
            <p:spPr>
              <a:xfrm>
                <a:off x="3503520" y="50655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27400" y="50655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80880" y="76320"/>
            <a:ext cx="8534520" cy="684000"/>
            <a:chOff x="380880" y="76320"/>
            <a:chExt cx="8534520" cy="684000"/>
          </a:xfrm>
        </p:grpSpPr>
        <p:sp>
          <p:nvSpPr>
            <p:cNvPr id="300" name=""/>
            <p:cNvSpPr/>
            <p:nvPr/>
          </p:nvSpPr>
          <p:spPr>
            <a:xfrm>
              <a:off x="788508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6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24624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ESEMÉNYEK RÖGZÍTÉ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SZÁMLÁKON 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124080" y="1084320"/>
            <a:ext cx="2973600" cy="1484280"/>
            <a:chOff x="3124080" y="1084320"/>
            <a:chExt cx="2973600" cy="1484280"/>
          </a:xfrm>
        </p:grpSpPr>
        <p:grpSp>
          <p:nvGrpSpPr>
            <p:cNvPr id="303" name=""/>
            <p:cNvGrpSpPr/>
            <p:nvPr/>
          </p:nvGrpSpPr>
          <p:grpSpPr>
            <a:xfrm>
              <a:off x="3125880" y="1366920"/>
              <a:ext cx="2866680" cy="1201320"/>
              <a:chOff x="3125880" y="1366920"/>
              <a:chExt cx="2866680" cy="1201320"/>
            </a:xfrm>
          </p:grpSpPr>
          <p:sp>
            <p:nvSpPr>
              <p:cNvPr id="304" name=""/>
              <p:cNvSpPr/>
              <p:nvPr/>
            </p:nvSpPr>
            <p:spPr>
              <a:xfrm>
                <a:off x="4558680" y="136692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25880" y="136692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124080" y="1084320"/>
              <a:ext cx="2973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1. Anyag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676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3064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201840" y="2255760"/>
              <a:ext cx="2818080" cy="312840"/>
              <a:chOff x="3201840" y="2255760"/>
              <a:chExt cx="2818080" cy="312840"/>
            </a:xfrm>
          </p:grpSpPr>
          <p:sp>
            <p:nvSpPr>
              <p:cNvPr id="310" name=""/>
              <p:cNvSpPr/>
              <p:nvPr/>
            </p:nvSpPr>
            <p:spPr>
              <a:xfrm>
                <a:off x="3505320" y="225576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9200" y="225576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201840" y="226368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01840" y="249228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20184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3064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170760" y="1084320"/>
            <a:ext cx="2973240" cy="1484280"/>
            <a:chOff x="6170760" y="1084320"/>
            <a:chExt cx="2973240" cy="1484280"/>
          </a:xfrm>
        </p:grpSpPr>
        <p:grpSp>
          <p:nvGrpSpPr>
            <p:cNvPr id="317" name=""/>
            <p:cNvGrpSpPr/>
            <p:nvPr/>
          </p:nvGrpSpPr>
          <p:grpSpPr>
            <a:xfrm>
              <a:off x="6172200" y="1366920"/>
              <a:ext cx="2866680" cy="1201320"/>
              <a:chOff x="6172200" y="1366920"/>
              <a:chExt cx="2866680" cy="1201320"/>
            </a:xfrm>
          </p:grpSpPr>
          <p:sp>
            <p:nvSpPr>
              <p:cNvPr id="318" name=""/>
              <p:cNvSpPr/>
              <p:nvPr/>
            </p:nvSpPr>
            <p:spPr>
              <a:xfrm>
                <a:off x="7605000" y="136692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72200" y="136692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170760" y="108432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4. Bérköltsé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5308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77320" y="1425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248520" y="2255760"/>
              <a:ext cx="2817360" cy="312840"/>
              <a:chOff x="6248520" y="2255760"/>
              <a:chExt cx="2817360" cy="312840"/>
            </a:xfrm>
          </p:grpSpPr>
          <p:sp>
            <p:nvSpPr>
              <p:cNvPr id="324" name=""/>
              <p:cNvSpPr/>
              <p:nvPr/>
            </p:nvSpPr>
            <p:spPr>
              <a:xfrm>
                <a:off x="6551640" y="225576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75520" y="225576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48520" y="226368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48520" y="249228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400800" y="14572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7732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122640" y="4648320"/>
            <a:ext cx="2973240" cy="1654200"/>
            <a:chOff x="3122640" y="4648320"/>
            <a:chExt cx="2973240" cy="1654200"/>
          </a:xfrm>
        </p:grpSpPr>
        <p:grpSp>
          <p:nvGrpSpPr>
            <p:cNvPr id="331" name=""/>
            <p:cNvGrpSpPr/>
            <p:nvPr/>
          </p:nvGrpSpPr>
          <p:grpSpPr>
            <a:xfrm>
              <a:off x="3124080" y="5100480"/>
              <a:ext cx="2866680" cy="1201680"/>
              <a:chOff x="3124080" y="5100480"/>
              <a:chExt cx="2866680" cy="1201680"/>
            </a:xfrm>
          </p:grpSpPr>
          <p:sp>
            <p:nvSpPr>
              <p:cNvPr id="332" name=""/>
              <p:cNvSpPr/>
              <p:nvPr/>
            </p:nvSpPr>
            <p:spPr>
              <a:xfrm>
                <a:off x="4556880" y="5100480"/>
                <a:ext cx="0" cy="12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24080" y="51004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122640" y="4648320"/>
              <a:ext cx="297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1. Anyagjellegű 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200400" y="5989680"/>
              <a:ext cx="2817360" cy="312840"/>
              <a:chOff x="3200400" y="5989680"/>
              <a:chExt cx="2817360" cy="312840"/>
            </a:xfrm>
          </p:grpSpPr>
          <p:sp>
            <p:nvSpPr>
              <p:cNvPr id="336" name=""/>
              <p:cNvSpPr/>
              <p:nvPr/>
            </p:nvSpPr>
            <p:spPr>
              <a:xfrm>
                <a:off x="3503520" y="59896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7400" y="59896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400" y="59976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00400" y="6226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20040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503520" y="5159520"/>
              <a:ext cx="2514600" cy="337320"/>
              <a:chOff x="3503520" y="5159520"/>
              <a:chExt cx="2514600" cy="337320"/>
            </a:xfrm>
          </p:grpSpPr>
          <p:sp>
            <p:nvSpPr>
              <p:cNvPr id="343" name=""/>
              <p:cNvSpPr/>
              <p:nvPr/>
            </p:nvSpPr>
            <p:spPr>
              <a:xfrm>
                <a:off x="3503520" y="515952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27400" y="51595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4520" y="4622760"/>
            <a:ext cx="2973600" cy="1662120"/>
            <a:chOff x="74520" y="4622760"/>
            <a:chExt cx="2973600" cy="1662120"/>
          </a:xfrm>
        </p:grpSpPr>
        <p:grpSp>
          <p:nvGrpSpPr>
            <p:cNvPr id="346" name=""/>
            <p:cNvGrpSpPr/>
            <p:nvPr/>
          </p:nvGrpSpPr>
          <p:grpSpPr>
            <a:xfrm>
              <a:off x="76320" y="5083200"/>
              <a:ext cx="2866680" cy="1201320"/>
              <a:chOff x="76320" y="5083200"/>
              <a:chExt cx="2866680" cy="1201320"/>
            </a:xfrm>
          </p:grpSpPr>
          <p:sp>
            <p:nvSpPr>
              <p:cNvPr id="347" name=""/>
              <p:cNvSpPr/>
              <p:nvPr/>
            </p:nvSpPr>
            <p:spPr>
              <a:xfrm>
                <a:off x="1509120" y="508320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6320" y="50832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74520" y="4622760"/>
              <a:ext cx="2973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8. Aktivált saját teljesítmények érté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2280" y="5972040"/>
              <a:ext cx="2818080" cy="312840"/>
              <a:chOff x="152280" y="5972040"/>
              <a:chExt cx="2818080" cy="312840"/>
            </a:xfrm>
          </p:grpSpPr>
          <p:sp>
            <p:nvSpPr>
              <p:cNvPr id="351" name=""/>
              <p:cNvSpPr/>
              <p:nvPr/>
            </p:nvSpPr>
            <p:spPr>
              <a:xfrm>
                <a:off x="455760" y="597204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79640" y="597204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59799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2280" y="62085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152280" y="5141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28800" y="5141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55760" y="5141880"/>
              <a:ext cx="2514600" cy="337320"/>
              <a:chOff x="455760" y="5141880"/>
              <a:chExt cx="2514600" cy="337320"/>
            </a:xfrm>
          </p:grpSpPr>
          <p:sp>
            <p:nvSpPr>
              <p:cNvPr id="358" name=""/>
              <p:cNvSpPr/>
              <p:nvPr/>
            </p:nvSpPr>
            <p:spPr>
              <a:xfrm>
                <a:off x="455760" y="514188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9640" y="514188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121200" y="2895480"/>
            <a:ext cx="2973240" cy="1484280"/>
            <a:chOff x="3121200" y="2895480"/>
            <a:chExt cx="2973240" cy="1484280"/>
          </a:xfrm>
        </p:grpSpPr>
        <p:grpSp>
          <p:nvGrpSpPr>
            <p:cNvPr id="361" name=""/>
            <p:cNvGrpSpPr/>
            <p:nvPr/>
          </p:nvGrpSpPr>
          <p:grpSpPr>
            <a:xfrm>
              <a:off x="3122640" y="3178080"/>
              <a:ext cx="2866680" cy="1201320"/>
              <a:chOff x="3122640" y="3178080"/>
              <a:chExt cx="2866680" cy="1201320"/>
            </a:xfrm>
          </p:grpSpPr>
          <p:sp>
            <p:nvSpPr>
              <p:cNvPr id="362" name=""/>
              <p:cNvSpPr/>
              <p:nvPr/>
            </p:nvSpPr>
            <p:spPr>
              <a:xfrm>
                <a:off x="4555440" y="31780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31780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121200" y="2895480"/>
              <a:ext cx="2973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6. Bérjárulék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198960" y="4066920"/>
              <a:ext cx="2817360" cy="312840"/>
              <a:chOff x="3198960" y="4066920"/>
              <a:chExt cx="2817360" cy="312840"/>
            </a:xfrm>
          </p:grpSpPr>
          <p:sp>
            <p:nvSpPr>
              <p:cNvPr id="366" name=""/>
              <p:cNvSpPr/>
              <p:nvPr/>
            </p:nvSpPr>
            <p:spPr>
              <a:xfrm>
                <a:off x="3502080" y="406692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25960" y="406692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198960" y="40748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98960" y="430344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19896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548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502080" y="3236760"/>
              <a:ext cx="2514600" cy="337320"/>
              <a:chOff x="3502080" y="3236760"/>
              <a:chExt cx="2514600" cy="337320"/>
            </a:xfrm>
          </p:grpSpPr>
          <p:sp>
            <p:nvSpPr>
              <p:cNvPr id="373" name=""/>
              <p:cNvSpPr/>
              <p:nvPr/>
            </p:nvSpPr>
            <p:spPr>
              <a:xfrm>
                <a:off x="3502080" y="32367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25960" y="32367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019920" y="2895480"/>
            <a:ext cx="3200400" cy="1484640"/>
            <a:chOff x="6019920" y="2895480"/>
            <a:chExt cx="3200400" cy="1484640"/>
          </a:xfrm>
        </p:grpSpPr>
        <p:grpSp>
          <p:nvGrpSpPr>
            <p:cNvPr id="376" name=""/>
            <p:cNvGrpSpPr/>
            <p:nvPr/>
          </p:nvGrpSpPr>
          <p:grpSpPr>
            <a:xfrm>
              <a:off x="6172200" y="3178080"/>
              <a:ext cx="2866680" cy="1201320"/>
              <a:chOff x="6172200" y="3178080"/>
              <a:chExt cx="2866680" cy="1201320"/>
            </a:xfrm>
          </p:grpSpPr>
          <p:sp>
            <p:nvSpPr>
              <p:cNvPr id="377" name=""/>
              <p:cNvSpPr/>
              <p:nvPr/>
            </p:nvSpPr>
            <p:spPr>
              <a:xfrm>
                <a:off x="7605000" y="31780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72200" y="31780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2895480"/>
              <a:ext cx="3200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7. Értékcsökkenési leírá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6248520" y="4067280"/>
              <a:ext cx="2817360" cy="312840"/>
              <a:chOff x="6248520" y="4067280"/>
              <a:chExt cx="2817360" cy="312840"/>
            </a:xfrm>
          </p:grpSpPr>
          <p:sp>
            <p:nvSpPr>
              <p:cNvPr id="381" name=""/>
              <p:cNvSpPr/>
              <p:nvPr/>
            </p:nvSpPr>
            <p:spPr>
              <a:xfrm>
                <a:off x="6551640" y="40672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75520" y="40672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8520" y="4075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48520" y="43038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24852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2468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551640" y="3236760"/>
              <a:ext cx="2514600" cy="337320"/>
              <a:chOff x="6551640" y="3236760"/>
              <a:chExt cx="2514600" cy="337320"/>
            </a:xfrm>
          </p:grpSpPr>
          <p:sp>
            <p:nvSpPr>
              <p:cNvPr id="388" name=""/>
              <p:cNvSpPr/>
              <p:nvPr/>
            </p:nvSpPr>
            <p:spPr>
              <a:xfrm>
                <a:off x="6551640" y="32367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075520" y="32367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74520" y="914400"/>
            <a:ext cx="2973600" cy="3198960"/>
            <a:chOff x="74520" y="914400"/>
            <a:chExt cx="2973600" cy="3198960"/>
          </a:xfrm>
        </p:grpSpPr>
        <p:grpSp>
          <p:nvGrpSpPr>
            <p:cNvPr id="391" name=""/>
            <p:cNvGrpSpPr/>
            <p:nvPr/>
          </p:nvGrpSpPr>
          <p:grpSpPr>
            <a:xfrm>
              <a:off x="76320" y="1344600"/>
              <a:ext cx="2866680" cy="2768760"/>
              <a:chOff x="76320" y="1344600"/>
              <a:chExt cx="2866680" cy="2768760"/>
            </a:xfrm>
          </p:grpSpPr>
          <p:sp>
            <p:nvSpPr>
              <p:cNvPr id="392" name=""/>
              <p:cNvSpPr/>
              <p:nvPr/>
            </p:nvSpPr>
            <p:spPr>
              <a:xfrm>
                <a:off x="1509120" y="1344600"/>
                <a:ext cx="0" cy="276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13446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4520" y="914400"/>
              <a:ext cx="2973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93. Adózott eredmény elszámolá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52280" y="3649680"/>
              <a:ext cx="2818080" cy="312840"/>
              <a:chOff x="152280" y="3649680"/>
              <a:chExt cx="2818080" cy="312840"/>
            </a:xfrm>
          </p:grpSpPr>
          <p:sp>
            <p:nvSpPr>
              <p:cNvPr id="396" name=""/>
              <p:cNvSpPr/>
              <p:nvPr/>
            </p:nvSpPr>
            <p:spPr>
              <a:xfrm>
                <a:off x="455760" y="36496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79640" y="364968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2280" y="365760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52280" y="388620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52280" y="1403280"/>
              <a:ext cx="2057400" cy="228600"/>
              <a:chOff x="152280" y="1403280"/>
              <a:chExt cx="2057400" cy="228600"/>
            </a:xfrm>
          </p:grpSpPr>
          <p:sp>
            <p:nvSpPr>
              <p:cNvPr id="401" name=""/>
              <p:cNvSpPr/>
              <p:nvPr/>
            </p:nvSpPr>
            <p:spPr>
              <a:xfrm>
                <a:off x="152280" y="140328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1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81080" y="140328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55760" y="14032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50840" y="1654200"/>
              <a:ext cx="2057400" cy="228600"/>
              <a:chOff x="150840" y="1654200"/>
              <a:chExt cx="2057400" cy="228600"/>
            </a:xfrm>
          </p:grpSpPr>
          <p:sp>
            <p:nvSpPr>
              <p:cNvPr id="405" name=""/>
              <p:cNvSpPr/>
              <p:nvPr/>
            </p:nvSpPr>
            <p:spPr>
              <a:xfrm>
                <a:off x="150840" y="165420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9640" y="1654200"/>
                <a:ext cx="228600" cy="228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2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1979640" y="1403280"/>
              <a:ext cx="990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79640" y="1958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79640" y="21873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79640" y="24159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7200" y="1869840"/>
              <a:ext cx="990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4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3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280" y="23619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2280" y="25905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2280" y="2882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280" y="31114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2280" y="33526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2280" y="1904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80" y="21333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172200" y="4648320"/>
            <a:ext cx="2973240" cy="1654200"/>
            <a:chOff x="6172200" y="4648320"/>
            <a:chExt cx="2973240" cy="1654200"/>
          </a:xfrm>
        </p:grpSpPr>
        <p:grpSp>
          <p:nvGrpSpPr>
            <p:cNvPr id="420" name=""/>
            <p:cNvGrpSpPr/>
            <p:nvPr/>
          </p:nvGrpSpPr>
          <p:grpSpPr>
            <a:xfrm>
              <a:off x="6173640" y="5100480"/>
              <a:ext cx="2866680" cy="1201680"/>
              <a:chOff x="6173640" y="5100480"/>
              <a:chExt cx="2866680" cy="12016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06440" y="5100480"/>
                <a:ext cx="0" cy="12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3640" y="51004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6172200" y="4648320"/>
              <a:ext cx="297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2. Személyi jellegű 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6249960" y="5989680"/>
              <a:ext cx="2817360" cy="312840"/>
              <a:chOff x="6249960" y="5989680"/>
              <a:chExt cx="2817360" cy="312840"/>
            </a:xfrm>
          </p:grpSpPr>
          <p:sp>
            <p:nvSpPr>
              <p:cNvPr id="425" name=""/>
              <p:cNvSpPr/>
              <p:nvPr/>
            </p:nvSpPr>
            <p:spPr>
              <a:xfrm>
                <a:off x="6553080" y="59896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76960" y="59896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49960" y="59976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49960" y="6226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24996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2648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553080" y="5159520"/>
              <a:ext cx="2514600" cy="580680"/>
              <a:chOff x="6553080" y="5159520"/>
              <a:chExt cx="2514600" cy="580680"/>
            </a:xfrm>
          </p:grpSpPr>
          <p:sp>
            <p:nvSpPr>
              <p:cNvPr id="432" name=""/>
              <p:cNvSpPr/>
              <p:nvPr/>
            </p:nvSpPr>
            <p:spPr>
              <a:xfrm>
                <a:off x="6553080" y="5159520"/>
                <a:ext cx="990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76960" y="51595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6248520" y="54100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76320"/>
            <a:ext cx="8534520" cy="684000"/>
            <a:chOff x="380880" y="76320"/>
            <a:chExt cx="8534520" cy="684000"/>
          </a:xfrm>
        </p:grpSpPr>
        <p:sp>
          <p:nvSpPr>
            <p:cNvPr id="436" name=""/>
            <p:cNvSpPr/>
            <p:nvPr/>
          </p:nvSpPr>
          <p:spPr>
            <a:xfrm>
              <a:off x="788508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6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4624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ESEMÉNYEK RÖGZÍTÉ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SZÁMLÁKON I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124080" y="1084320"/>
            <a:ext cx="2973600" cy="1484280"/>
            <a:chOff x="3124080" y="1084320"/>
            <a:chExt cx="2973600" cy="1484280"/>
          </a:xfrm>
        </p:grpSpPr>
        <p:grpSp>
          <p:nvGrpSpPr>
            <p:cNvPr id="439" name=""/>
            <p:cNvGrpSpPr/>
            <p:nvPr/>
          </p:nvGrpSpPr>
          <p:grpSpPr>
            <a:xfrm>
              <a:off x="3125880" y="1366920"/>
              <a:ext cx="2866680" cy="1201320"/>
              <a:chOff x="3125880" y="1366920"/>
              <a:chExt cx="2866680" cy="1201320"/>
            </a:xfrm>
          </p:grpSpPr>
          <p:sp>
            <p:nvSpPr>
              <p:cNvPr id="440" name=""/>
              <p:cNvSpPr/>
              <p:nvPr/>
            </p:nvSpPr>
            <p:spPr>
              <a:xfrm>
                <a:off x="4558680" y="136692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5880" y="136692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124080" y="1084320"/>
              <a:ext cx="2973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6. Egyéb 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676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3064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3201840" y="2255760"/>
              <a:ext cx="2818080" cy="312840"/>
              <a:chOff x="3201840" y="2255760"/>
              <a:chExt cx="2818080" cy="312840"/>
            </a:xfrm>
          </p:grpSpPr>
          <p:sp>
            <p:nvSpPr>
              <p:cNvPr id="446" name=""/>
              <p:cNvSpPr/>
              <p:nvPr/>
            </p:nvSpPr>
            <p:spPr>
              <a:xfrm>
                <a:off x="3505320" y="225576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29200" y="225576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01840" y="226368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01840" y="249228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20184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3064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170760" y="914400"/>
            <a:ext cx="2973240" cy="1654200"/>
            <a:chOff x="6170760" y="914400"/>
            <a:chExt cx="2973240" cy="1654200"/>
          </a:xfrm>
        </p:grpSpPr>
        <p:grpSp>
          <p:nvGrpSpPr>
            <p:cNvPr id="453" name=""/>
            <p:cNvGrpSpPr/>
            <p:nvPr/>
          </p:nvGrpSpPr>
          <p:grpSpPr>
            <a:xfrm>
              <a:off x="6172200" y="1366920"/>
              <a:ext cx="2866680" cy="1201320"/>
              <a:chOff x="6172200" y="1366920"/>
              <a:chExt cx="2866680" cy="1201320"/>
            </a:xfrm>
          </p:grpSpPr>
          <p:sp>
            <p:nvSpPr>
              <p:cNvPr id="454" name=""/>
              <p:cNvSpPr/>
              <p:nvPr/>
            </p:nvSpPr>
            <p:spPr>
              <a:xfrm>
                <a:off x="7605000" y="136692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72200" y="136692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170760" y="914400"/>
              <a:ext cx="297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7. Pénzügyi művel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ráfordítás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53080" y="1425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1425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6248520" y="2255760"/>
              <a:ext cx="2817360" cy="312840"/>
              <a:chOff x="6248520" y="2255760"/>
              <a:chExt cx="2817360" cy="312840"/>
            </a:xfrm>
          </p:grpSpPr>
          <p:sp>
            <p:nvSpPr>
              <p:cNvPr id="460" name=""/>
              <p:cNvSpPr/>
              <p:nvPr/>
            </p:nvSpPr>
            <p:spPr>
              <a:xfrm>
                <a:off x="6551640" y="225576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75520" y="225576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48520" y="226368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48520" y="249228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400800" y="14572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77320" y="142560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22640" y="4648320"/>
            <a:ext cx="2973240" cy="1654200"/>
            <a:chOff x="3122640" y="4648320"/>
            <a:chExt cx="2973240" cy="1654200"/>
          </a:xfrm>
        </p:grpSpPr>
        <p:grpSp>
          <p:nvGrpSpPr>
            <p:cNvPr id="467" name=""/>
            <p:cNvGrpSpPr/>
            <p:nvPr/>
          </p:nvGrpSpPr>
          <p:grpSpPr>
            <a:xfrm>
              <a:off x="3124080" y="5100480"/>
              <a:ext cx="2866680" cy="1201680"/>
              <a:chOff x="3124080" y="5100480"/>
              <a:chExt cx="2866680" cy="1201680"/>
            </a:xfrm>
          </p:grpSpPr>
          <p:sp>
            <p:nvSpPr>
              <p:cNvPr id="468" name=""/>
              <p:cNvSpPr/>
              <p:nvPr/>
            </p:nvSpPr>
            <p:spPr>
              <a:xfrm>
                <a:off x="4556880" y="5100480"/>
                <a:ext cx="0" cy="12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24080" y="51004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3122640" y="4648320"/>
              <a:ext cx="297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97. Pénzügyi műveletek bevétel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00400" y="5989680"/>
              <a:ext cx="2817360" cy="312840"/>
              <a:chOff x="3200400" y="5989680"/>
              <a:chExt cx="2817360" cy="312840"/>
            </a:xfrm>
          </p:grpSpPr>
          <p:sp>
            <p:nvSpPr>
              <p:cNvPr id="472" name=""/>
              <p:cNvSpPr/>
              <p:nvPr/>
            </p:nvSpPr>
            <p:spPr>
              <a:xfrm>
                <a:off x="3503520" y="59896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27400" y="59896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200400" y="59976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00400" y="6226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20040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76920" y="515952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503520" y="5159520"/>
              <a:ext cx="2514600" cy="337320"/>
              <a:chOff x="3503520" y="5159520"/>
              <a:chExt cx="2514600" cy="337320"/>
            </a:xfrm>
          </p:grpSpPr>
          <p:sp>
            <p:nvSpPr>
              <p:cNvPr id="479" name=""/>
              <p:cNvSpPr/>
              <p:nvPr/>
            </p:nvSpPr>
            <p:spPr>
              <a:xfrm>
                <a:off x="3503520" y="515952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27400" y="51595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4520" y="4800600"/>
            <a:ext cx="2973600" cy="1484280"/>
            <a:chOff x="74520" y="4800600"/>
            <a:chExt cx="2973600" cy="1484280"/>
          </a:xfrm>
        </p:grpSpPr>
        <p:grpSp>
          <p:nvGrpSpPr>
            <p:cNvPr id="482" name=""/>
            <p:cNvGrpSpPr/>
            <p:nvPr/>
          </p:nvGrpSpPr>
          <p:grpSpPr>
            <a:xfrm>
              <a:off x="76320" y="5083200"/>
              <a:ext cx="2866680" cy="1201320"/>
              <a:chOff x="76320" y="5083200"/>
              <a:chExt cx="2866680" cy="1201320"/>
            </a:xfrm>
          </p:grpSpPr>
          <p:sp>
            <p:nvSpPr>
              <p:cNvPr id="483" name=""/>
              <p:cNvSpPr/>
              <p:nvPr/>
            </p:nvSpPr>
            <p:spPr>
              <a:xfrm>
                <a:off x="1509120" y="508320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320" y="508320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74520" y="4800600"/>
              <a:ext cx="2973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96. Egyéb bev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52280" y="5972040"/>
              <a:ext cx="2818080" cy="312840"/>
              <a:chOff x="152280" y="5972040"/>
              <a:chExt cx="2818080" cy="312840"/>
            </a:xfrm>
          </p:grpSpPr>
          <p:sp>
            <p:nvSpPr>
              <p:cNvPr id="487" name=""/>
              <p:cNvSpPr/>
              <p:nvPr/>
            </p:nvSpPr>
            <p:spPr>
              <a:xfrm>
                <a:off x="455760" y="597204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79640" y="5972040"/>
                <a:ext cx="990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2280" y="59799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2280" y="620856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152280" y="5141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28800" y="514188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55760" y="5141880"/>
              <a:ext cx="2514600" cy="337320"/>
              <a:chOff x="455760" y="5141880"/>
              <a:chExt cx="2514600" cy="337320"/>
            </a:xfrm>
          </p:grpSpPr>
          <p:sp>
            <p:nvSpPr>
              <p:cNvPr id="494" name=""/>
              <p:cNvSpPr/>
              <p:nvPr/>
            </p:nvSpPr>
            <p:spPr>
              <a:xfrm>
                <a:off x="455760" y="514188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79640" y="514188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2895480" y="2895480"/>
            <a:ext cx="3355920" cy="1484640"/>
            <a:chOff x="2895480" y="2895480"/>
            <a:chExt cx="3355920" cy="1484640"/>
          </a:xfrm>
        </p:grpSpPr>
        <p:grpSp>
          <p:nvGrpSpPr>
            <p:cNvPr id="497" name=""/>
            <p:cNvGrpSpPr/>
            <p:nvPr/>
          </p:nvGrpSpPr>
          <p:grpSpPr>
            <a:xfrm>
              <a:off x="3122640" y="3178080"/>
              <a:ext cx="2866680" cy="1201320"/>
              <a:chOff x="3122640" y="3178080"/>
              <a:chExt cx="2866680" cy="1201320"/>
            </a:xfrm>
          </p:grpSpPr>
          <p:sp>
            <p:nvSpPr>
              <p:cNvPr id="498" name=""/>
              <p:cNvSpPr/>
              <p:nvPr/>
            </p:nvSpPr>
            <p:spPr>
              <a:xfrm>
                <a:off x="4555440" y="31780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22640" y="31780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895480" y="2895480"/>
              <a:ext cx="3355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9. Nyereséget terhelő adó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198960" y="4067280"/>
              <a:ext cx="2817360" cy="312840"/>
              <a:chOff x="3198960" y="4067280"/>
              <a:chExt cx="2817360" cy="312840"/>
            </a:xfrm>
          </p:grpSpPr>
          <p:sp>
            <p:nvSpPr>
              <p:cNvPr id="502" name=""/>
              <p:cNvSpPr/>
              <p:nvPr/>
            </p:nvSpPr>
            <p:spPr>
              <a:xfrm>
                <a:off x="3502080" y="40672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25960" y="40672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98960" y="4075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98960" y="43038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19896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7512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502080" y="3236760"/>
              <a:ext cx="2514600" cy="337320"/>
              <a:chOff x="3502080" y="3236760"/>
              <a:chExt cx="2514600" cy="337320"/>
            </a:xfrm>
          </p:grpSpPr>
          <p:sp>
            <p:nvSpPr>
              <p:cNvPr id="509" name=""/>
              <p:cNvSpPr/>
              <p:nvPr/>
            </p:nvSpPr>
            <p:spPr>
              <a:xfrm>
                <a:off x="3502080" y="32367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025960" y="32367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4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6019920" y="2895480"/>
            <a:ext cx="3200400" cy="1484640"/>
            <a:chOff x="6019920" y="2895480"/>
            <a:chExt cx="3200400" cy="1484640"/>
          </a:xfrm>
        </p:grpSpPr>
        <p:grpSp>
          <p:nvGrpSpPr>
            <p:cNvPr id="512" name=""/>
            <p:cNvGrpSpPr/>
            <p:nvPr/>
          </p:nvGrpSpPr>
          <p:grpSpPr>
            <a:xfrm>
              <a:off x="6172200" y="3178080"/>
              <a:ext cx="2866680" cy="1201320"/>
              <a:chOff x="6172200" y="3178080"/>
              <a:chExt cx="2866680" cy="1201320"/>
            </a:xfrm>
          </p:grpSpPr>
          <p:sp>
            <p:nvSpPr>
              <p:cNvPr id="513" name=""/>
              <p:cNvSpPr/>
              <p:nvPr/>
            </p:nvSpPr>
            <p:spPr>
              <a:xfrm>
                <a:off x="7605000" y="31780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72200" y="31780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19920" y="2895480"/>
              <a:ext cx="3200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91. Árbevé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6248520" y="4067280"/>
              <a:ext cx="2817360" cy="312840"/>
              <a:chOff x="6248520" y="4067280"/>
              <a:chExt cx="2817360" cy="312840"/>
            </a:xfrm>
          </p:grpSpPr>
          <p:sp>
            <p:nvSpPr>
              <p:cNvPr id="517" name=""/>
              <p:cNvSpPr/>
              <p:nvPr/>
            </p:nvSpPr>
            <p:spPr>
              <a:xfrm>
                <a:off x="6551640" y="40672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075520" y="40672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48520" y="4075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48520" y="43038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24852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2468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551640" y="3236760"/>
              <a:ext cx="2514600" cy="337320"/>
              <a:chOff x="6551640" y="3236760"/>
              <a:chExt cx="2514600" cy="337320"/>
            </a:xfrm>
          </p:grpSpPr>
          <p:sp>
            <p:nvSpPr>
              <p:cNvPr id="524" name=""/>
              <p:cNvSpPr/>
              <p:nvPr/>
            </p:nvSpPr>
            <p:spPr>
              <a:xfrm>
                <a:off x="6551640" y="323676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75520" y="323676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5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173640" y="5100480"/>
            <a:ext cx="2866680" cy="1201680"/>
            <a:chOff x="6173640" y="5100480"/>
            <a:chExt cx="2866680" cy="1201680"/>
          </a:xfrm>
        </p:grpSpPr>
        <p:sp>
          <p:nvSpPr>
            <p:cNvPr id="527" name=""/>
            <p:cNvSpPr/>
            <p:nvPr/>
          </p:nvSpPr>
          <p:spPr>
            <a:xfrm>
              <a:off x="7606440" y="5100480"/>
              <a:ext cx="0" cy="12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73640" y="5100480"/>
              <a:ext cx="28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172200" y="4818240"/>
            <a:ext cx="2973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98. Rendkívüli bevéte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249960" y="5989680"/>
            <a:ext cx="2817360" cy="312840"/>
            <a:chOff x="6249960" y="5989680"/>
            <a:chExt cx="2817360" cy="312840"/>
          </a:xfrm>
        </p:grpSpPr>
        <p:sp>
          <p:nvSpPr>
            <p:cNvPr id="531" name=""/>
            <p:cNvSpPr/>
            <p:nvPr/>
          </p:nvSpPr>
          <p:spPr>
            <a:xfrm>
              <a:off x="6553080" y="5989680"/>
              <a:ext cx="990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76960" y="5989680"/>
              <a:ext cx="99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49960" y="5997600"/>
              <a:ext cx="27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49960" y="6226200"/>
              <a:ext cx="27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249960" y="515952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926480" y="515952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553080" y="5159520"/>
            <a:ext cx="2514600" cy="337320"/>
            <a:chOff x="6553080" y="5159520"/>
            <a:chExt cx="2514600" cy="337320"/>
          </a:xfrm>
        </p:grpSpPr>
        <p:sp>
          <p:nvSpPr>
            <p:cNvPr id="538" name=""/>
            <p:cNvSpPr/>
            <p:nvPr/>
          </p:nvSpPr>
          <p:spPr>
            <a:xfrm>
              <a:off x="6553080" y="51595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76960" y="51595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0" y="1066680"/>
            <a:ext cx="3124080" cy="1484640"/>
            <a:chOff x="0" y="1066680"/>
            <a:chExt cx="3124080" cy="1484640"/>
          </a:xfrm>
        </p:grpSpPr>
        <p:grpSp>
          <p:nvGrpSpPr>
            <p:cNvPr id="541" name=""/>
            <p:cNvGrpSpPr/>
            <p:nvPr/>
          </p:nvGrpSpPr>
          <p:grpSpPr>
            <a:xfrm>
              <a:off x="77760" y="1349280"/>
              <a:ext cx="2866680" cy="1201320"/>
              <a:chOff x="77760" y="1349280"/>
              <a:chExt cx="2866680" cy="1201320"/>
            </a:xfrm>
          </p:grpSpPr>
          <p:sp>
            <p:nvSpPr>
              <p:cNvPr id="542" name=""/>
              <p:cNvSpPr/>
              <p:nvPr/>
            </p:nvSpPr>
            <p:spPr>
              <a:xfrm>
                <a:off x="1510560" y="13492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760" y="13492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0" y="1066680"/>
              <a:ext cx="3124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3. Értékcsökkenési leírá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8640" y="140796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82880" y="140796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154080" y="2238480"/>
              <a:ext cx="2817360" cy="312840"/>
              <a:chOff x="154080" y="2238480"/>
              <a:chExt cx="2817360" cy="312840"/>
            </a:xfrm>
          </p:grpSpPr>
          <p:sp>
            <p:nvSpPr>
              <p:cNvPr id="548" name=""/>
              <p:cNvSpPr/>
              <p:nvPr/>
            </p:nvSpPr>
            <p:spPr>
              <a:xfrm>
                <a:off x="457200" y="22384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981080" y="22384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4080" y="22464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54080" y="24750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154080" y="14079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82880" y="14079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-76320" y="2895480"/>
            <a:ext cx="3200400" cy="1484640"/>
            <a:chOff x="-76320" y="2895480"/>
            <a:chExt cx="3200400" cy="1484640"/>
          </a:xfrm>
        </p:grpSpPr>
        <p:grpSp>
          <p:nvGrpSpPr>
            <p:cNvPr id="555" name=""/>
            <p:cNvGrpSpPr/>
            <p:nvPr/>
          </p:nvGrpSpPr>
          <p:grpSpPr>
            <a:xfrm>
              <a:off x="77760" y="3178080"/>
              <a:ext cx="2866680" cy="1201320"/>
              <a:chOff x="77760" y="3178080"/>
              <a:chExt cx="2866680" cy="1201320"/>
            </a:xfrm>
          </p:grpSpPr>
          <p:sp>
            <p:nvSpPr>
              <p:cNvPr id="556" name=""/>
              <p:cNvSpPr/>
              <p:nvPr/>
            </p:nvSpPr>
            <p:spPr>
              <a:xfrm>
                <a:off x="1510560" y="3178080"/>
                <a:ext cx="0" cy="120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760" y="3178080"/>
                <a:ext cx="28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-76320" y="2895480"/>
              <a:ext cx="3200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88. Rendkívüli 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8640" y="323676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82880" y="323676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154080" y="4067280"/>
              <a:ext cx="2817360" cy="312840"/>
              <a:chOff x="154080" y="4067280"/>
              <a:chExt cx="2817360" cy="312840"/>
            </a:xfrm>
          </p:grpSpPr>
          <p:sp>
            <p:nvSpPr>
              <p:cNvPr id="562" name=""/>
              <p:cNvSpPr/>
              <p:nvPr/>
            </p:nvSpPr>
            <p:spPr>
              <a:xfrm>
                <a:off x="457200" y="4067280"/>
                <a:ext cx="99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81080" y="4067280"/>
                <a:ext cx="99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4080" y="40752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4080" y="4303800"/>
                <a:ext cx="274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5408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82880" y="3236760"/>
              <a:ext cx="228600" cy="228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2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380880" y="154080"/>
            <a:ext cx="8534520" cy="836640"/>
            <a:chOff x="380880" y="154080"/>
            <a:chExt cx="8534520" cy="836640"/>
          </a:xfrm>
        </p:grpSpPr>
        <p:sp>
          <p:nvSpPr>
            <p:cNvPr id="56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0880" y="32400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LTSÉGSZÁMLÁK ZÁRÁSA A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1" name=""/>
          <p:cNvGraphicFramePr/>
          <p:nvPr/>
        </p:nvGraphicFramePr>
        <p:xfrm>
          <a:off x="152280" y="150804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– 12. 31.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52280" y="1949400"/>
          <a:ext cx="8763120" cy="2498760"/>
        </p:xfrm>
        <a:graphic>
          <a:graphicData uri="http://schemas.openxmlformats.org/drawingml/2006/table">
            <a:tbl>
              <a:tblPr/>
              <a:tblGrid>
                <a:gridCol w="762120"/>
                <a:gridCol w="1981080"/>
                <a:gridCol w="1905120"/>
                <a:gridCol w="1905120"/>
                <a:gridCol w="1143000"/>
                <a:gridCol w="1066680"/>
              </a:tblGrid>
              <a:tr h="28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hozat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költség átvezeté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. Anyagjelleg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1. Anyag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érköltségek és bér-járulékok átvezeté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. Személyi jelleg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4. Bér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. Bérjárulék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 átvezeté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. Értékcsökkené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7. Értékcsökkené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vite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5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5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885080" y="154080"/>
            <a:ext cx="1030320" cy="30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541440" y="189000"/>
            <a:ext cx="8991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FŐKÖNYVI KIVONAT, 2001. 12. 31.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2280" y="254160"/>
            <a:ext cx="899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762120"/>
            <a:ext cx="8991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2280" y="254160"/>
            <a:ext cx="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0" y="254160"/>
            <a:ext cx="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52280" y="685800"/>
          <a:ext cx="8763120" cy="5992920"/>
        </p:xfrm>
        <a:graphic>
          <a:graphicData uri="http://schemas.openxmlformats.org/drawingml/2006/table">
            <a:tbl>
              <a:tblPr/>
              <a:tblGrid>
                <a:gridCol w="609840"/>
                <a:gridCol w="761760"/>
                <a:gridCol w="3276720"/>
                <a:gridCol w="1066680"/>
                <a:gridCol w="990720"/>
                <a:gridCol w="990720"/>
                <a:gridCol w="10666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őössz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en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gne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eszközö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észle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ések áruszáll. és szolg. (Vevő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eszközö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egyzett tő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telezettség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tómérleg szám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Mérlegszámlák össze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6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2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költ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érkölt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érjárulék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i le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ivált saját teljesítmények érté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jellegű ráfordítás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emélyi jellegű ráfordítás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i le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ráfordít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ráfordítás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rbevé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bevéte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bevétel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Eredményszámlák össze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8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Mindössz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55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55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7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7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380880" y="154080"/>
            <a:ext cx="8534520" cy="836640"/>
            <a:chOff x="380880" y="154080"/>
            <a:chExt cx="8534520" cy="836640"/>
          </a:xfrm>
        </p:grpSpPr>
        <p:sp>
          <p:nvSpPr>
            <p:cNvPr id="58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0880" y="32400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REDMÉNYSZÁMLÁK ZÁRÁSA A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3" name=""/>
          <p:cNvGraphicFramePr/>
          <p:nvPr/>
        </p:nvGraphicFramePr>
        <p:xfrm>
          <a:off x="152280" y="106668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– 12. 31.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152280" y="1508040"/>
          <a:ext cx="8763120" cy="5376960"/>
        </p:xfrm>
        <a:graphic>
          <a:graphicData uri="http://schemas.openxmlformats.org/drawingml/2006/table">
            <a:tbl>
              <a:tblPr/>
              <a:tblGrid>
                <a:gridCol w="822600"/>
                <a:gridCol w="1844640"/>
                <a:gridCol w="1981080"/>
                <a:gridCol w="1905120"/>
                <a:gridCol w="1143000"/>
                <a:gridCol w="10666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Áthozat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5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5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ivált saját teljesítmények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 Aktivált sajá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eljesítmények ér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. Anyagjelleg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. Személyi jelleg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. Értékcsökkené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 Egyéb 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7. Pénzügyi műve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tek ráfordítása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. Rendkívüli ráfordítás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. Árbevé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 Egyéb 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7. Pénzügyi műve-letek bevétele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8. Rendkívüli bevétel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Átvite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1219320" y="76320"/>
            <a:ext cx="7772400" cy="380880"/>
            <a:chOff x="1219320" y="76320"/>
            <a:chExt cx="7772400" cy="380880"/>
          </a:xfrm>
        </p:grpSpPr>
        <p:sp>
          <p:nvSpPr>
            <p:cNvPr id="586" name=""/>
            <p:cNvSpPr/>
            <p:nvPr/>
          </p:nvSpPr>
          <p:spPr>
            <a:xfrm>
              <a:off x="8077320" y="76320"/>
              <a:ext cx="91440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76320"/>
              <a:ext cx="6629400" cy="380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KIMUTATÁS, 2001. 12. 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8" name=""/>
          <p:cNvGraphicFramePr/>
          <p:nvPr/>
        </p:nvGraphicFramePr>
        <p:xfrm>
          <a:off x="228600" y="609480"/>
          <a:ext cx="8610480" cy="2454480"/>
        </p:xfrm>
        <a:graphic>
          <a:graphicData uri="http://schemas.openxmlformats.org/drawingml/2006/table">
            <a:tbl>
              <a:tblPr/>
              <a:tblGrid>
                <a:gridCol w="685440"/>
                <a:gridCol w="6705720"/>
                <a:gridCol w="1219320"/>
              </a:tblGrid>
              <a:tr h="285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A tétel megnev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Összeg 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nettó árbevéte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ivált saját teljesítmények érték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jellegű ráfordítás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emélyi jellegű ráfordítás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i leírá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Üzemi (üzleti) tevékenység eredménye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I±II+III-IV-V-VI-VI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228600" y="3048120"/>
          <a:ext cx="8610480" cy="3616200"/>
        </p:xfrm>
        <a:graphic>
          <a:graphicData uri="http://schemas.openxmlformats.org/drawingml/2006/table">
            <a:tbl>
              <a:tblPr/>
              <a:tblGrid>
                <a:gridCol w="685800"/>
                <a:gridCol w="6705720"/>
                <a:gridCol w="121896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bevétele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X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ráfordítása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eredménye (VIII-IX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okásos vállalkozási eredmény (±A±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6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bevétel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ráfordítás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eredmény (X-X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3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ás előtti eredmény (±C ±D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I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fizetési kötelezettség [(1350x18):100=243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ott eredmény (E-XI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tartalék igénybevétele osztalékra, részesedés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óváhagyott osztalék, részesedé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Mérleg szerinti </a:t>
                      </a:r>
                      <a:r>
                        <a:rPr b="1" lang="en-US" sz="17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eredmény (±F+22-2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380880" y="154080"/>
            <a:ext cx="8534520" cy="683640"/>
            <a:chOff x="380880" y="154080"/>
            <a:chExt cx="8534520" cy="683640"/>
          </a:xfrm>
        </p:grpSpPr>
        <p:sp>
          <p:nvSpPr>
            <p:cNvPr id="591" name=""/>
            <p:cNvSpPr/>
            <p:nvPr/>
          </p:nvSpPr>
          <p:spPr>
            <a:xfrm>
              <a:off x="7885080" y="154080"/>
              <a:ext cx="1030320" cy="24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0880" y="292680"/>
              <a:ext cx="7323120" cy="545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DÓZÁS ELŐTTI EREDMÉNY ELSZÁMOLÁSÁN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RÖGZÍTÉSE A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3" name=""/>
          <p:cNvGraphicFramePr/>
          <p:nvPr/>
        </p:nvGraphicFramePr>
        <p:xfrm>
          <a:off x="152280" y="150804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– 12. 31.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152280" y="1949400"/>
          <a:ext cx="8763120" cy="2833560"/>
        </p:xfrm>
        <a:graphic>
          <a:graphicData uri="http://schemas.openxmlformats.org/drawingml/2006/table">
            <a:tbl>
              <a:tblPr/>
              <a:tblGrid>
                <a:gridCol w="609840"/>
                <a:gridCol w="2133360"/>
                <a:gridCol w="1828800"/>
                <a:gridCol w="1981440"/>
                <a:gridCol w="1143000"/>
                <a:gridCol w="1066680"/>
              </a:tblGrid>
              <a:tr h="28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Áthozat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fizetési kötelezet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9. Nyereséget ter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elő adó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-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áfordítás számla zár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9. Nyereséget ter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elő adó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észesedés elszámo-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-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mérleg szerinti eredmény kimutat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3. Adózott ered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ny elszámolá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9. Mérleg szerin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Átvite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7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7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380880" y="154080"/>
            <a:ext cx="8534520" cy="836640"/>
            <a:chOff x="380880" y="154080"/>
            <a:chExt cx="8534520" cy="836640"/>
          </a:xfrm>
        </p:grpSpPr>
        <p:sp>
          <p:nvSpPr>
            <p:cNvPr id="59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32400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SZÁMLÁK ZÁRÁSA A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8" name=""/>
          <p:cNvGraphicFramePr/>
          <p:nvPr/>
        </p:nvGraphicFramePr>
        <p:xfrm>
          <a:off x="152280" y="106668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 - 12. 31.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228600" y="1447920"/>
          <a:ext cx="8686800" cy="5113080"/>
        </p:xfrm>
        <a:graphic>
          <a:graphicData uri="http://schemas.openxmlformats.org/drawingml/2006/table">
            <a:tbl>
              <a:tblPr/>
              <a:tblGrid>
                <a:gridCol w="762120"/>
                <a:gridCol w="1904760"/>
                <a:gridCol w="1905120"/>
                <a:gridCol w="1905120"/>
                <a:gridCol w="1143000"/>
                <a:gridCol w="1066680"/>
              </a:tblGrid>
              <a:tr h="28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Áthozat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7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7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r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2. Zárómér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 Befektetet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 Készle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1. Köv. áruszál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Vevő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 Pénzeszköz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r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2. Zárómér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1. Saját tő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induló tők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9. Mérleg sze-rinti eredmé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ég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ÖSSZESE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112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112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2708280"/>
            <a:ext cx="7894800" cy="114300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10.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ÉLDA A KÖNYVVEZETÉS, VALAMINT 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MÉRLEG ÉS AZ EREDMÉNYKIMUTATÁ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KAPCSOLATÁNAK BEMUTATÁS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885080" y="154080"/>
            <a:ext cx="1030320" cy="30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0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52280" y="2041560"/>
          <a:ext cx="8839440" cy="3779640"/>
        </p:xfrm>
        <a:graphic>
          <a:graphicData uri="http://schemas.openxmlformats.org/drawingml/2006/table">
            <a:tbl>
              <a:tblPr/>
              <a:tblGrid>
                <a:gridCol w="3124440"/>
                <a:gridCol w="1218960"/>
                <a:gridCol w="3276720"/>
                <a:gridCol w="121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A tétel megnevezé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Összeg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A tétel megnev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Összeg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ffffff"/>
                        </a:buClr>
                        <a:buFont typeface="Bookman Old Style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.  SAJÁT TŐK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    JEGYZETT TŐK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.    FORGÓ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  KÉSZLET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. MÉRLEG SZERIN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 KÖVETELÉS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vő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.   KÖTELEZETTSÉG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8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 PÉNZ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4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ESZKÖZÖ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2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FORRÁSO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2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52280" y="1523880"/>
          <a:ext cx="8991720" cy="50796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ÁK               MÉRLEG, 2001. 12. 31.                  PASSZÍV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beszámolási kötelezettsé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154080"/>
            <a:ext cx="8534520" cy="836640"/>
            <a:chOff x="380880" y="154080"/>
            <a:chExt cx="8534520" cy="836640"/>
          </a:xfrm>
        </p:grpSpPr>
        <p:sp>
          <p:nvSpPr>
            <p:cNvPr id="10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32400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 KFT VAGYONÁT AZ ÜZLETI ÉV ELEJÉ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VETKEZŐ MÉRLEG TARTALMA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152280" y="2362320"/>
          <a:ext cx="8839440" cy="311940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3429000"/>
                <a:gridCol w="106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A tétel megnevezé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Összeg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A tétel megnev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Összeg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ffffff"/>
                        </a:buClr>
                        <a:buFont typeface="Bookman Old Style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.  SAJÁT TŐK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 JEGYZETT TŐK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buClr>
                          <a:srgbClr val="ffffff"/>
                        </a:buClr>
                        <a:buFont typeface="Bookman Old Style"/>
                        <a:buAutoNum type="alphaU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GÓ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   KÉSZLET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.   KÖTELEZETTSÉGE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 PÉNZESZKÖZÖ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ESZKÖZÖ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FORRÁSO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2280" y="1828800"/>
          <a:ext cx="8991720" cy="52380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ÁK               MÉRLEG, 2001. 01. 01.                  PASSZÍV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0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2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ÜZLETI ÉV GAZDASÁGI ESEMÉNYEI eFt-ban 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304920" y="1093680"/>
          <a:ext cx="8458200" cy="5459400"/>
        </p:xfrm>
        <a:graphic>
          <a:graphicData uri="http://schemas.openxmlformats.org/drawingml/2006/table">
            <a:tbl>
              <a:tblPr/>
              <a:tblGrid>
                <a:gridCol w="7315200"/>
                <a:gridCol w="1143000"/>
              </a:tblGrid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felhasznál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9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ltség NŐ. Készlet CSÖKKEN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unkabér elszámolá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9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ltség NŐ. Kötelezettség NŐ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  Társadalombiztosítási járulé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ltség NŐ. Kötelezettség NŐ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 Értékcsökkenési leír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ltség NŐ. Befektetett eszköz CSÖKKEN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  Helyi adó elszámolá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Egyéb ráfordítás NŐ. Kötelezettség NŐ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  Kamatfize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Pénzügyi műveletek ráfordítása NŐ.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eszköz CSÖKKEN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   Befektetett eszköz átadása térítés nélkü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Rendkívüli ráfordítás NŐ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eszköz CSÖKKEN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1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2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ÜZLETI ÉV GAZDASÁGI ESEMÉNYEI eFt-ban 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228600" y="1136520"/>
          <a:ext cx="8686800" cy="4977000"/>
        </p:xfrm>
        <a:graphic>
          <a:graphicData uri="http://schemas.openxmlformats.org/drawingml/2006/table">
            <a:tbl>
              <a:tblPr/>
              <a:tblGrid>
                <a:gridCol w="7696080"/>
                <a:gridCol w="990720"/>
              </a:tblGrid>
              <a:tr h="105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aját termelésű készletet értékesített,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izetésre később kerül s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9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vetelés NŐ. Árbevétel NŐ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ártérítést kapott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9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Pénzeszköz NŐ. 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 NŐ.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. Kamatot kapott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Pénzeszköz NŐ. Pénzügyi műveletek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e NŐ. 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lévült kötelezettség elszámolás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ötelezettség CSÖKKEN. Rendkívüli bevétel NŐ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Bookman Old Style"/>
                        <a:buAutoNum type="arabicPeriod" startAt="1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aját termelésű készletek állománya összessé-gében nőtt az év során. Elszámolás év végén.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Készletek NŐ. Aktivált saját teljesítmények értéke NŐ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54080"/>
            <a:ext cx="8839080" cy="988920"/>
            <a:chOff x="76320" y="154080"/>
            <a:chExt cx="8839080" cy="988920"/>
          </a:xfrm>
        </p:grpSpPr>
        <p:sp>
          <p:nvSpPr>
            <p:cNvPr id="114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320" y="552600"/>
              <a:ext cx="4724280" cy="590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VONAT A KFT SZÁMVITELI  POLIT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ÁJÁBÓL ÉS A SZÁMLARENDJÉBŐ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523880"/>
            <a:ext cx="4647960" cy="1618560"/>
            <a:chOff x="0" y="1523880"/>
            <a:chExt cx="4647960" cy="1618560"/>
          </a:xfrm>
        </p:grpSpPr>
        <p:sp>
          <p:nvSpPr>
            <p:cNvPr id="117" name=""/>
            <p:cNvSpPr/>
            <p:nvPr/>
          </p:nvSpPr>
          <p:spPr>
            <a:xfrm>
              <a:off x="0" y="1538280"/>
              <a:ext cx="3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2880" y="1523880"/>
              <a:ext cx="4285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ó a SZÁMVITELI POLITIKÁBAN  és a SZÁMLA-RENDBEN köteles rögzíteni a kialakított számviteli rendet, szabályok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3429000"/>
            <a:ext cx="4876920" cy="2228400"/>
            <a:chOff x="0" y="3429000"/>
            <a:chExt cx="4876920" cy="2228400"/>
          </a:xfrm>
        </p:grpSpPr>
        <p:sp>
          <p:nvSpPr>
            <p:cNvPr id="120" name=""/>
            <p:cNvSpPr/>
            <p:nvPr/>
          </p:nvSpPr>
          <p:spPr>
            <a:xfrm>
              <a:off x="0" y="34430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80" y="3429000"/>
              <a:ext cx="44960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KFT-b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eredménykimutatás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összköltség eljárással készíti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saját termelésű készlet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változását csak év végé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könyveli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533520"/>
            <a:ext cx="4876200" cy="5963040"/>
            <a:chOff x="4648320" y="533520"/>
            <a:chExt cx="4876200" cy="5963040"/>
          </a:xfrm>
        </p:grpSpPr>
        <p:sp>
          <p:nvSpPr>
            <p:cNvPr id="123" name=""/>
            <p:cNvSpPr/>
            <p:nvPr/>
          </p:nvSpPr>
          <p:spPr>
            <a:xfrm>
              <a:off x="4724280" y="1218960"/>
              <a:ext cx="0" cy="49528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648320" y="1523880"/>
              <a:ext cx="4876200" cy="4972680"/>
              <a:chOff x="4648320" y="1523880"/>
              <a:chExt cx="4876200" cy="4972680"/>
            </a:xfrm>
          </p:grpSpPr>
          <p:sp>
            <p:nvSpPr>
              <p:cNvPr id="125" name=""/>
              <p:cNvSpPr/>
              <p:nvPr/>
            </p:nvSpPr>
            <p:spPr>
              <a:xfrm>
                <a:off x="4648320" y="153792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28840" y="1523880"/>
                <a:ext cx="4495680" cy="49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33cc"/>
                    </a:solidFill>
                    <a:latin typeface="Bookman Old Style"/>
                  </a:rPr>
                  <a:t>AZ EGYSZERŰSÍTÉS ÉRDE-KÉBEN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z általános forgalmi adó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elszámolásától eltekintünk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munkabérből nem vonjá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le a dolgozót terhelő járu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lékoka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befektetett eszközö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számlája a nettó értéke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tartalmazza, nincs külö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számlája  az elszámol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értékcsökkenésnek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társasági adó mértéke 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jövedelem 18%-a (ninc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dóalapot módosító téte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Kft 307 eFt osztaléko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fize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181480" y="533520"/>
              <a:ext cx="3429000" cy="5331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JEGYZÉ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2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3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ELADAT MEGOLDÁSÁNAK LÉPÉSEI 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52280" y="1143000"/>
            <a:ext cx="449604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mérlegszámlák nyitása a naplóban (7-4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mérlegszámlák megnyitása a főkönyvi számlákon (7-6.1 vázla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gazdasági események rögzítése a naplóban (7-5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gazdasági események elkönyvelése a főkönyvi számlákon ( 7-6.1, 7-6.2,      7-6.3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költségszámlák zárása a naplóban (7-7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143000"/>
            <a:ext cx="4267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költségszámlák zárása a főkönyvi számlákon (7-6.2, 7-6.3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Főkönyvi kivonat elkészítése (7-8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redményszámlák zárása a naplóban (7-9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z eredményszámlák lezárása a főkönyvi számlákon, az egyenleg átvezetése a 493. Adózott eredmény elszámolása számlára (7-6.2, 7-6.3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35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3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ELADAT MEGOLDÁSÁNAK LÉPÉSEI 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720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295280"/>
            <a:ext cx="449604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z eredménykimutatás elkészítése, a fizetendő társasági adó összegének kiszámítása (7-10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z adózás előtti eredmény elszámolásának rögzítése a naplóban (7-11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z adó, részesedés, mérleg-szerinti eredmény elszámo-lása a főkönyvi számlákon (7-6.1, 7-6.2, 7-6.3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355760"/>
            <a:ext cx="44956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13. A mérlegszámlák zárása a naplóban (7-12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14. A mérlegszámlák zárása a számlavázlatokon (7-6.1,    7-6.2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15. A mérleg összeállítása a mérlegszámlák záróegyen-legéből az üzleti év végén. (7-13 vázl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80880" y="154080"/>
            <a:ext cx="8534520" cy="836640"/>
            <a:chOff x="380880" y="154080"/>
            <a:chExt cx="8534520" cy="836640"/>
          </a:xfrm>
        </p:grpSpPr>
        <p:sp>
          <p:nvSpPr>
            <p:cNvPr id="14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32400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LÁK NYITÁSA A NAPLÓB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304920" y="1600200"/>
          <a:ext cx="8534160" cy="50796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GYES NAPLÓ, 2001. 01. 01. – 12. 31.       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 old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28600" y="2041560"/>
          <a:ext cx="8686800" cy="3873600"/>
        </p:xfrm>
        <a:graphic>
          <a:graphicData uri="http://schemas.openxmlformats.org/drawingml/2006/table">
            <a:tbl>
              <a:tblPr/>
              <a:tblGrid>
                <a:gridCol w="762120"/>
                <a:gridCol w="1904760"/>
                <a:gridCol w="1905120"/>
                <a:gridCol w="1905120"/>
                <a:gridCol w="1143000"/>
                <a:gridCol w="1066680"/>
              </a:tblGrid>
              <a:tr h="28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Gazdasági ese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 Befektetet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 Készle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. Pénzeszköz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1. Nyitómér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1. Nyitómér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1. Saját tő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induló tők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-47. Kötelezett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ég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vitel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2:01Z</dcterms:modified>
  <cp:revision>57</cp:revision>
  <dc:subject/>
  <dc:title>1. dia</dc:title>
</cp:coreProperties>
</file>