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B867-86A7-4E2A-9AC6-B3D348189A6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109D0-CB14-4B11-8A1D-B0E74D71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E77BE-B9C5-45F6-9D85-1C5DA4F9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AABD2-8AB2-4A91-9AD0-0A46CAE1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A3BFF-21EA-435F-BCAF-A7C97A81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CE84-76EB-4A9E-86B1-E974A602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A7241-64ED-4E5F-9115-43DBF1B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7AE41-DDB8-4927-966B-647F7DA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4DD38-7632-4EEF-8641-4F85A41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F1B8A-BA7A-42FD-A5D8-4DE0F13E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A5B4B-A490-44C7-ADD7-C6A4B332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DBF67-F5B5-443D-9C90-F7198355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899B7-088D-4AEF-801E-5035E9E5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F57F-8148-41DF-A774-E70A6B4AB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609480" y="76320"/>
            <a:ext cx="8458200" cy="1904760"/>
            <a:chOff x="609480" y="76320"/>
            <a:chExt cx="8458200" cy="1904760"/>
          </a:xfrm>
        </p:grpSpPr>
        <p:sp>
          <p:nvSpPr>
            <p:cNvPr id="288" name=""/>
            <p:cNvSpPr/>
            <p:nvPr/>
          </p:nvSpPr>
          <p:spPr>
            <a:xfrm>
              <a:off x="8153280" y="76320"/>
              <a:ext cx="9144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6-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609480" y="457200"/>
              <a:ext cx="7850160" cy="1523880"/>
              <a:chOff x="609480" y="457200"/>
              <a:chExt cx="7850160" cy="1523880"/>
            </a:xfrm>
          </p:grpSpPr>
          <p:sp>
            <p:nvSpPr>
              <p:cNvPr id="290" name=""/>
              <p:cNvSpPr/>
              <p:nvPr/>
            </p:nvSpPr>
            <p:spPr>
              <a:xfrm>
                <a:off x="684360" y="511200"/>
                <a:ext cx="6978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4360" y="1114560"/>
                <a:ext cx="6978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00200" y="457200"/>
                <a:ext cx="5638680" cy="685800"/>
              </a:xfrm>
              <a:prstGeom prst="flowChartAlternateProcess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Z EREDMÉNYKIMUTATÁS KÉT MÓDJ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ÖZÖTTI AZONOSSÁ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9480" y="1490760"/>
                <a:ext cx="3888000" cy="4903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ÖSSZKÖLTSÉG ELJÁR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2209680" y="1142640"/>
                <a:ext cx="4190400" cy="305280"/>
                <a:chOff x="2209680" y="1142640"/>
                <a:chExt cx="4190400" cy="305280"/>
              </a:xfrm>
            </p:grpSpPr>
            <p:sp>
              <p:nvSpPr>
                <p:cNvPr id="295" name=""/>
                <p:cNvSpPr/>
                <p:nvPr/>
              </p:nvSpPr>
              <p:spPr>
                <a:xfrm flipV="1">
                  <a:off x="2209680" y="1142640"/>
                  <a:ext cx="224460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54280" y="1143000"/>
                  <a:ext cx="194580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572000" y="1490760"/>
                <a:ext cx="3887640" cy="490320"/>
              </a:xfrm>
              <a:prstGeom prst="roundRect">
                <a:avLst>
                  <a:gd name="adj" fmla="val 16667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FORGALMI KÖLTSÉG ELJÁR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09480" y="3048120"/>
            <a:ext cx="8001000" cy="528480"/>
            <a:chOff x="609480" y="3048120"/>
            <a:chExt cx="8001000" cy="528480"/>
          </a:xfrm>
        </p:grpSpPr>
        <p:sp>
          <p:nvSpPr>
            <p:cNvPr id="299" name=""/>
            <p:cNvSpPr/>
            <p:nvPr/>
          </p:nvSpPr>
          <p:spPr>
            <a:xfrm>
              <a:off x="8077320" y="3048120"/>
              <a:ext cx="533160" cy="5284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80" y="3048120"/>
              <a:ext cx="8001000" cy="52848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SZOKÁSOS VÁLLALKOZÁSI EREDMÉNY [üzemi (üzleti) tevékenység eredménye, pénzügyi műveletek eredménye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9480" y="4419720"/>
            <a:ext cx="8001000" cy="548640"/>
            <a:chOff x="609480" y="4419720"/>
            <a:chExt cx="8001000" cy="548640"/>
          </a:xfrm>
        </p:grpSpPr>
        <p:sp>
          <p:nvSpPr>
            <p:cNvPr id="302" name=""/>
            <p:cNvSpPr/>
            <p:nvPr/>
          </p:nvSpPr>
          <p:spPr>
            <a:xfrm>
              <a:off x="8077320" y="4439880"/>
              <a:ext cx="533160" cy="5284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480" y="4419720"/>
              <a:ext cx="8001000" cy="52812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ADÓZÁS ELŐTTI EREDMÉNY (Szokásos vállalkozási eredmény, rendkívüli eredmé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09480" y="2209680"/>
            <a:ext cx="8001000" cy="838440"/>
            <a:chOff x="609480" y="2209680"/>
            <a:chExt cx="8001000" cy="838440"/>
          </a:xfrm>
        </p:grpSpPr>
        <p:sp>
          <p:nvSpPr>
            <p:cNvPr id="305" name=""/>
            <p:cNvSpPr/>
            <p:nvPr/>
          </p:nvSpPr>
          <p:spPr>
            <a:xfrm>
              <a:off x="8077320" y="2519280"/>
              <a:ext cx="5331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2519280"/>
              <a:ext cx="8001000" cy="52884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Pénzügyi műveletek  bevétel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Pénzügyi műveletek  ráfordításai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09680"/>
              <a:ext cx="8001000" cy="30960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PÉNZÜGYI MŰVELETEK EREDMÉNYE                        (±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3048120"/>
              <a:ext cx="8001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09480" y="4952880"/>
            <a:ext cx="8001000" cy="1547640"/>
            <a:chOff x="609480" y="4952880"/>
            <a:chExt cx="8001000" cy="1547640"/>
          </a:xfrm>
        </p:grpSpPr>
        <p:sp>
          <p:nvSpPr>
            <p:cNvPr id="310" name=""/>
            <p:cNvSpPr/>
            <p:nvPr/>
          </p:nvSpPr>
          <p:spPr>
            <a:xfrm>
              <a:off x="8077320" y="6141960"/>
              <a:ext cx="533160" cy="358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(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6141960"/>
              <a:ext cx="8001000" cy="3585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Bookman Old Style"/>
                </a:rPr>
                <a:t>MÉRLEG SZERINTI EREDMÉN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7320" y="4968720"/>
              <a:ext cx="5331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4952880"/>
              <a:ext cx="8001000" cy="32544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Adófizetési kötelezet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77320" y="5278320"/>
              <a:ext cx="533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480" y="5278320"/>
              <a:ext cx="8001000" cy="3348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Bookman Old Style"/>
                </a:rPr>
                <a:t>ADÓZOTT EREDMÉ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77320" y="5613120"/>
              <a:ext cx="5331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480" y="5613120"/>
              <a:ext cx="8001000" cy="52884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Eredménytartalék igénybevétele osztalékra, részesedés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Jóváhagyott osztalék, részesed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9480" y="5278320"/>
              <a:ext cx="8001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09480" y="3556080"/>
            <a:ext cx="8001000" cy="863640"/>
            <a:chOff x="609480" y="3556080"/>
            <a:chExt cx="8001000" cy="863640"/>
          </a:xfrm>
        </p:grpSpPr>
        <p:sp>
          <p:nvSpPr>
            <p:cNvPr id="320" name=""/>
            <p:cNvSpPr/>
            <p:nvPr/>
          </p:nvSpPr>
          <p:spPr>
            <a:xfrm>
              <a:off x="8077320" y="3556080"/>
              <a:ext cx="533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3556080"/>
              <a:ext cx="8001000" cy="3351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Bookman Old Style"/>
                </a:rPr>
                <a:t>RENDKÍVÜLI EREDMÉ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77320" y="3891240"/>
              <a:ext cx="5331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480" y="3891240"/>
              <a:ext cx="8001000" cy="528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Rendkívüli bevétel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Rendkívüli ráfordít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9480" y="4419720"/>
              <a:ext cx="8001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480" y="3891240"/>
              <a:ext cx="8001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556080"/>
              <a:ext cx="8001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380880" y="76320"/>
            <a:ext cx="8686800" cy="6041880"/>
            <a:chOff x="380880" y="76320"/>
            <a:chExt cx="8686800" cy="6041880"/>
          </a:xfrm>
        </p:grpSpPr>
        <p:sp>
          <p:nvSpPr>
            <p:cNvPr id="328" name=""/>
            <p:cNvSpPr/>
            <p:nvPr/>
          </p:nvSpPr>
          <p:spPr>
            <a:xfrm>
              <a:off x="8153280" y="76320"/>
              <a:ext cx="9144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6-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6520" y="457200"/>
              <a:ext cx="563868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EREDMÉNYKIMUTATÁS KÉ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LTOZATA KÖZÖTTI ELTÉR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80880" y="1142640"/>
              <a:ext cx="4191120" cy="4975560"/>
              <a:chOff x="380880" y="1142640"/>
              <a:chExt cx="4191120" cy="4975560"/>
            </a:xfrm>
          </p:grpSpPr>
          <p:sp>
            <p:nvSpPr>
              <p:cNvPr id="331" name=""/>
              <p:cNvSpPr/>
              <p:nvPr/>
            </p:nvSpPr>
            <p:spPr>
              <a:xfrm>
                <a:off x="380880" y="1490760"/>
                <a:ext cx="4191120" cy="4903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„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” változat (lépcsőzetes elrendezés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286000" y="1142640"/>
                <a:ext cx="22446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962520" y="2925720"/>
                <a:ext cx="609480" cy="63972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0880" y="2925720"/>
                <a:ext cx="3581640" cy="63972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Eredmény 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62520" y="3565440"/>
                <a:ext cx="6094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0880" y="3565440"/>
                <a:ext cx="35816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Bevételek I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Ráfordítások I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62520" y="4205160"/>
                <a:ext cx="609480" cy="63972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0880" y="4205160"/>
                <a:ext cx="3581640" cy="63972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Eredmény I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62520" y="4844880"/>
                <a:ext cx="60948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0880" y="4844880"/>
                <a:ext cx="358164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2520" y="5424480"/>
                <a:ext cx="609480" cy="69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Bookman Old Style"/>
                  </a:rPr>
                  <a:t>±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0880" y="5424480"/>
                <a:ext cx="3581640" cy="69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Bookman Old Style"/>
                  </a:rPr>
                  <a:t>Eredmény 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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62520" y="2286000"/>
                <a:ext cx="6094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80880" y="2286000"/>
                <a:ext cx="35816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Bevételek 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Ráfordítások 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0880" y="2286000"/>
                <a:ext cx="4191120" cy="0"/>
              </a:xfrm>
              <a:prstGeom prst="line">
                <a:avLst/>
              </a:prstGeom>
              <a:ln cap="sq"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0880" y="6118200"/>
                <a:ext cx="4191120" cy="0"/>
              </a:xfrm>
              <a:prstGeom prst="line">
                <a:avLst/>
              </a:prstGeom>
              <a:ln cap="sq"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80880" y="2286000"/>
                <a:ext cx="0" cy="3832200"/>
              </a:xfrm>
              <a:prstGeom prst="line">
                <a:avLst/>
              </a:prstGeom>
              <a:ln cap="sq"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72000" y="2286000"/>
                <a:ext cx="0" cy="38322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62520" y="2286000"/>
                <a:ext cx="0" cy="383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0880" y="292572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80" y="542448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0880" y="484488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880" y="420516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0880" y="356544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530600" y="1143000"/>
            <a:ext cx="4384800" cy="5428080"/>
            <a:chOff x="4530600" y="1143000"/>
            <a:chExt cx="4384800" cy="5428080"/>
          </a:xfrm>
        </p:grpSpPr>
        <p:sp>
          <p:nvSpPr>
            <p:cNvPr id="356" name=""/>
            <p:cNvSpPr/>
            <p:nvPr/>
          </p:nvSpPr>
          <p:spPr>
            <a:xfrm>
              <a:off x="4800600" y="61722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Bookman Old Style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= bevételek   </a:t>
              </a:r>
              <a:r>
                <a:rPr b="1" lang="en-US" sz="2000" spc="-1" strike="noStrike">
                  <a:solidFill>
                    <a:srgbClr val="ff0000"/>
                  </a:solidFill>
                  <a:latin typeface="Bookman Old Style"/>
                </a:rPr>
                <a:t>R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= ráfordít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530600" y="1143000"/>
              <a:ext cx="4384800" cy="4991040"/>
              <a:chOff x="4530600" y="1143000"/>
              <a:chExt cx="4384800" cy="499104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4530600" y="1143000"/>
                <a:ext cx="4384800" cy="838080"/>
                <a:chOff x="4530600" y="1143000"/>
                <a:chExt cx="4384800" cy="8380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530600" y="1143000"/>
                  <a:ext cx="194652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724280" y="1490760"/>
                  <a:ext cx="4191120" cy="49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Bookman Old Style"/>
                    </a:rPr>
                    <a:t>„</a:t>
                  </a:r>
                  <a:r>
                    <a:rPr b="1" lang="en-US" sz="1700" spc="-1" strike="noStrike">
                      <a:solidFill>
                        <a:srgbClr val="000000"/>
                      </a:solidFill>
                      <a:latin typeface="Bookman Old Style"/>
                    </a:rPr>
                    <a:t>B” változat (mérlegszerű elrendezés)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7010280" y="5440320"/>
                <a:ext cx="1905120" cy="693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Bookman Old Style"/>
                  </a:rPr>
                  <a:t>Veszteség 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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Bookman Old Style"/>
                  </a:rPr>
                  <a:t>(B &lt; R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24280" y="5440320"/>
                <a:ext cx="2286000" cy="693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Bookman Old Style"/>
                  </a:rPr>
                  <a:t>Nyereség 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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Bookman Old Style"/>
                  </a:rPr>
                  <a:t>(B &gt; R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10280" y="4221000"/>
                <a:ext cx="1905120" cy="6400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Veszteség I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Bookman Old Style"/>
                  </a:rPr>
                  <a:t>(B &lt; R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24280" y="4221000"/>
                <a:ext cx="2286000" cy="6400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Nyereség I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Bookman Old Style"/>
                  </a:rPr>
                  <a:t>(B &gt; R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10280" y="2925720"/>
                <a:ext cx="1905120" cy="655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Veszteség 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Bookman Old Style"/>
                  </a:rPr>
                  <a:t>(B &lt; R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24280" y="2925720"/>
                <a:ext cx="2286000" cy="655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Nyereség 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Bookman Old Style"/>
                  </a:rPr>
                  <a:t>(B &gt; R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10280" y="3581280"/>
                <a:ext cx="1905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Bevételek I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24280" y="3581280"/>
                <a:ext cx="228600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Ráfordítások I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10280" y="4861080"/>
                <a:ext cx="1905120" cy="57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24280" y="4861080"/>
                <a:ext cx="2286000" cy="57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10280" y="2286000"/>
                <a:ext cx="1905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Bevételek 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24280" y="2286000"/>
                <a:ext cx="228600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Bookman Old Style"/>
                  </a:rPr>
                  <a:t>Ráfordítások I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24280" y="2286000"/>
                <a:ext cx="4191120" cy="0"/>
              </a:xfrm>
              <a:prstGeom prst="line">
                <a:avLst/>
              </a:prstGeom>
              <a:ln cap="sq"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24280" y="6134040"/>
                <a:ext cx="4191120" cy="0"/>
              </a:xfrm>
              <a:prstGeom prst="line">
                <a:avLst/>
              </a:prstGeom>
              <a:ln cap="sq"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24280" y="2286000"/>
                <a:ext cx="0" cy="3848040"/>
              </a:xfrm>
              <a:prstGeom prst="line">
                <a:avLst/>
              </a:prstGeom>
              <a:ln cap="sq"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915400" y="2286000"/>
                <a:ext cx="0" cy="38480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10280" y="2286000"/>
                <a:ext cx="0" cy="384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24280" y="292572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24280" y="544032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24280" y="422100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24280" y="358128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24280" y="4861080"/>
                <a:ext cx="4191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2280" y="1828800"/>
            <a:ext cx="34290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Az üzleti év: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          e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árbevétele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        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aktivált sajá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teljesítmények értéke    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összes költsége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           90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az értékesítés költsé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(900-300)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           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egyéb bevétele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egyéb ráfordítása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991720" y="2819520"/>
            <a:ext cx="0" cy="420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14920" y="2819520"/>
            <a:ext cx="3211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26480" y="2819520"/>
            <a:ext cx="1065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33920" y="46386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991720" y="46386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5086440"/>
            <a:ext cx="0" cy="33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1720" y="5086440"/>
            <a:ext cx="0" cy="338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733920" y="5410080"/>
            <a:ext cx="5257800" cy="1106640"/>
            <a:chOff x="3733920" y="5410080"/>
            <a:chExt cx="5257800" cy="1106640"/>
          </a:xfrm>
        </p:grpSpPr>
        <p:sp>
          <p:nvSpPr>
            <p:cNvPr id="392" name=""/>
            <p:cNvSpPr/>
            <p:nvPr/>
          </p:nvSpPr>
          <p:spPr>
            <a:xfrm>
              <a:off x="7926480" y="5424480"/>
              <a:ext cx="1065240" cy="109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+  4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14920" y="5410080"/>
              <a:ext cx="3514680" cy="109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ÜZEMI (ÜZLETI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TEVÉKENYSÉ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EREDMÉNY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33920" y="5424480"/>
              <a:ext cx="981000" cy="109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ookman Old Style"/>
                </a:rPr>
                <a:t>+  4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33920" y="6516720"/>
              <a:ext cx="525780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33920" y="5424480"/>
              <a:ext cx="0" cy="109224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991720" y="5424480"/>
              <a:ext cx="0" cy="109224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33920" y="4638600"/>
            <a:ext cx="5257800" cy="785880"/>
            <a:chOff x="3733920" y="4638600"/>
            <a:chExt cx="5257800" cy="785880"/>
          </a:xfrm>
        </p:grpSpPr>
        <p:sp>
          <p:nvSpPr>
            <p:cNvPr id="399" name=""/>
            <p:cNvSpPr/>
            <p:nvPr/>
          </p:nvSpPr>
          <p:spPr>
            <a:xfrm>
              <a:off x="7926480" y="5086440"/>
              <a:ext cx="10652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-  1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14920" y="5086440"/>
              <a:ext cx="32115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Egyéb ráfordít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3920" y="5086440"/>
              <a:ext cx="9810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-  1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26480" y="4638600"/>
              <a:ext cx="1065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algn="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+  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14920" y="4638600"/>
              <a:ext cx="32115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Egyéb bevétel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3920" y="4638600"/>
              <a:ext cx="9810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+  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33920" y="5424480"/>
              <a:ext cx="525780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733920" y="3200400"/>
            <a:ext cx="5257800" cy="1398600"/>
            <a:chOff x="3733920" y="3200400"/>
            <a:chExt cx="5257800" cy="1398600"/>
          </a:xfrm>
        </p:grpSpPr>
        <p:sp>
          <p:nvSpPr>
            <p:cNvPr id="407" name=""/>
            <p:cNvSpPr/>
            <p:nvPr/>
          </p:nvSpPr>
          <p:spPr>
            <a:xfrm>
              <a:off x="7926480" y="3881520"/>
              <a:ext cx="1065240" cy="379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14920" y="3881520"/>
              <a:ext cx="3211560" cy="379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Összes 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33920" y="3881520"/>
              <a:ext cx="981000" cy="379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-  9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6480" y="4260960"/>
              <a:ext cx="106524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-  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14920" y="4260960"/>
              <a:ext cx="32115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Értékesítés költsé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33920" y="4260960"/>
              <a:ext cx="98100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26480" y="3200400"/>
              <a:ext cx="1065240" cy="68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14920" y="3200400"/>
              <a:ext cx="3211560" cy="68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hu-HU" sz="1800" spc="-1" strike="noStrike">
                  <a:solidFill>
                    <a:srgbClr val="ffffff"/>
                  </a:solidFill>
                  <a:latin typeface="Bookman Old Style"/>
                </a:rPr>
                <a:t>Aktivált saját teljesít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hu-HU" sz="1800" spc="-1" strike="noStrike">
                  <a:solidFill>
                    <a:srgbClr val="ffffff"/>
                  </a:solidFill>
                  <a:latin typeface="Bookman Old Style"/>
                </a:rPr>
                <a:t>mények érté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33920" y="3200400"/>
              <a:ext cx="990360" cy="68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+ 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33920" y="3200400"/>
              <a:ext cx="0" cy="1398600"/>
            </a:xfrm>
            <a:prstGeom prst="line">
              <a:avLst/>
            </a:prstGeom>
            <a:ln cap="sq" w="38160">
              <a:solidFill>
                <a:srgbClr val="333399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91720" y="3200400"/>
              <a:ext cx="0" cy="1398600"/>
            </a:xfrm>
            <a:prstGeom prst="line">
              <a:avLst/>
            </a:prstGeom>
            <a:ln cap="sq" w="38160">
              <a:solidFill>
                <a:srgbClr val="333399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33920" y="4599000"/>
              <a:ext cx="5257800" cy="0"/>
            </a:xfrm>
            <a:prstGeom prst="line">
              <a:avLst/>
            </a:prstGeom>
            <a:ln cap="sq" w="38160">
              <a:solidFill>
                <a:srgbClr val="333399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04920" y="76320"/>
            <a:ext cx="8762760" cy="1218960"/>
            <a:chOff x="304920" y="76320"/>
            <a:chExt cx="8762760" cy="1218960"/>
          </a:xfrm>
        </p:grpSpPr>
        <p:sp>
          <p:nvSpPr>
            <p:cNvPr id="420" name=""/>
            <p:cNvSpPr/>
            <p:nvPr/>
          </p:nvSpPr>
          <p:spPr>
            <a:xfrm>
              <a:off x="609480" y="685800"/>
              <a:ext cx="71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56680" y="76320"/>
              <a:ext cx="71100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920" y="533520"/>
              <a:ext cx="8381880" cy="7617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ÉLDA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ÜZEMI (ÜZLETI) TEVÉKENYSÉG EREDMÉNYÉNEK LEVEZETÉSÉ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581280" y="1828800"/>
            <a:ext cx="5486040" cy="818640"/>
            <a:chOff x="3581280" y="1828800"/>
            <a:chExt cx="5486040" cy="818640"/>
          </a:xfrm>
        </p:grpSpPr>
        <p:sp>
          <p:nvSpPr>
            <p:cNvPr id="424" name=""/>
            <p:cNvSpPr/>
            <p:nvPr/>
          </p:nvSpPr>
          <p:spPr>
            <a:xfrm>
              <a:off x="3581280" y="1828800"/>
              <a:ext cx="2670840" cy="81864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96480" y="1828800"/>
              <a:ext cx="2670840" cy="81864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GALMI KÖLT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657600" y="2779560"/>
            <a:ext cx="5334120" cy="420480"/>
            <a:chOff x="3657600" y="2779560"/>
            <a:chExt cx="5334120" cy="420480"/>
          </a:xfrm>
        </p:grpSpPr>
        <p:sp>
          <p:nvSpPr>
            <p:cNvPr id="427" name=""/>
            <p:cNvSpPr/>
            <p:nvPr/>
          </p:nvSpPr>
          <p:spPr>
            <a:xfrm>
              <a:off x="7696080" y="2779560"/>
              <a:ext cx="129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+ 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14920" y="2779560"/>
              <a:ext cx="32115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Árbevé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2779560"/>
              <a:ext cx="1057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+ 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33920" y="3200040"/>
              <a:ext cx="5257800" cy="0"/>
            </a:xfrm>
            <a:prstGeom prst="line">
              <a:avLst/>
            </a:prstGeom>
            <a:ln cap="sq" w="38160">
              <a:solidFill>
                <a:srgbClr val="333399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914400" y="114480"/>
            <a:ext cx="8077320" cy="1333440"/>
            <a:chOff x="914400" y="114480"/>
            <a:chExt cx="8077320" cy="1333440"/>
          </a:xfrm>
        </p:grpSpPr>
        <p:sp>
          <p:nvSpPr>
            <p:cNvPr id="432" name=""/>
            <p:cNvSpPr/>
            <p:nvPr/>
          </p:nvSpPr>
          <p:spPr>
            <a:xfrm>
              <a:off x="8128080" y="114480"/>
              <a:ext cx="863640" cy="26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8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4400" y="457200"/>
              <a:ext cx="7315200" cy="9907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MÉNYKIMUTATÁS ELŐÍRT TAGOL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KÖLTSÉG ELJÁRÁS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„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” változ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724280" y="1752480"/>
            <a:ext cx="4419720" cy="4838760"/>
            <a:chOff x="4724280" y="1752480"/>
            <a:chExt cx="4419720" cy="4838760"/>
          </a:xfrm>
        </p:grpSpPr>
        <p:grpSp>
          <p:nvGrpSpPr>
            <p:cNvPr id="435" name=""/>
            <p:cNvGrpSpPr/>
            <p:nvPr/>
          </p:nvGrpSpPr>
          <p:grpSpPr>
            <a:xfrm>
              <a:off x="4851360" y="1752480"/>
              <a:ext cx="4292640" cy="4838760"/>
              <a:chOff x="4851360" y="1752480"/>
              <a:chExt cx="4292640" cy="4838760"/>
            </a:xfrm>
          </p:grpSpPr>
          <p:sp>
            <p:nvSpPr>
              <p:cNvPr id="436" name=""/>
              <p:cNvSpPr/>
              <p:nvPr/>
            </p:nvSpPr>
            <p:spPr>
              <a:xfrm>
                <a:off x="4876920" y="1752480"/>
                <a:ext cx="4267080" cy="44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05. Anyagköltsé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06. Igénybe vett szolgáltatások érték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07. Egyéb szolgáltatások érték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08. Eladott áruk beszerzési érték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09. Eladott (közvetített) szolgál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tatások érték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IV. ANYAGJELLEGŰ RÁFORDÍTÁSOK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066680" indent="-609480">
                  <a:lnSpc>
                    <a:spcPct val="11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(05+06+07+08+09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0. Bérköltsé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1. Személyi jellegű egyéb kifizetés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12. Bérjáruléko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V.  SZEMÉLYI JELLEGŰ RÁFORDÍ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     </a:t>
                </a: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TÁSOK  (10+11+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VI. ÉRTÉKCSÖKKENÉSI LEÍRÁ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VII.EGYÉB RÁFORDÍTÁSO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     </a:t>
                </a: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Ebből: értékveszté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51360" y="6095880"/>
                <a:ext cx="4064040" cy="495360"/>
              </a:xfrm>
              <a:prstGeom prst="flowChartAlternateProcess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A.  ÜZEMI (ÜZLETI) TEVÉKENYSÉG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     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EREDMÉNYE (I±II+III-IV-V-VI-VII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724280" y="1828800"/>
              <a:ext cx="0" cy="472428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52280" y="1752480"/>
            <a:ext cx="4572000" cy="4064040"/>
            <a:chOff x="152280" y="1752480"/>
            <a:chExt cx="4572000" cy="4064040"/>
          </a:xfrm>
        </p:grpSpPr>
        <p:sp>
          <p:nvSpPr>
            <p:cNvPr id="440" name=""/>
            <p:cNvSpPr/>
            <p:nvPr/>
          </p:nvSpPr>
          <p:spPr>
            <a:xfrm>
              <a:off x="609480" y="1752480"/>
              <a:ext cx="4114800" cy="33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Belföldi értékesítés nettó árbevéte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Exportértékesítés nettó árbevéte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ÉRTÉKESÍTÉS NETTÓ ÁRBEVÉTE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(01+0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Saját termelésű készletek állomány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változá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Saját előállítású eszközök aktivál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érté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AKTIVÁLT SAJÁT TELJESÍTMÉNY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ÉRTÉKE (±03+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EGYÉB BEVÉTEL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Ebből: Visszaírt értékveszt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280" y="1752480"/>
              <a:ext cx="53352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01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02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03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0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I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II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2280" y="1752480"/>
              <a:ext cx="533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2280" y="5816520"/>
              <a:ext cx="533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2280" y="1752480"/>
              <a:ext cx="0" cy="4064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" y="1752480"/>
              <a:ext cx="0" cy="4064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848720" y="1522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6-8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781520" y="685800"/>
            <a:ext cx="4285440" cy="5562720"/>
            <a:chOff x="4781520" y="685800"/>
            <a:chExt cx="4285440" cy="5562720"/>
          </a:xfrm>
        </p:grpSpPr>
        <p:grpSp>
          <p:nvGrpSpPr>
            <p:cNvPr id="448" name=""/>
            <p:cNvGrpSpPr/>
            <p:nvPr/>
          </p:nvGrpSpPr>
          <p:grpSpPr>
            <a:xfrm>
              <a:off x="4838400" y="685800"/>
              <a:ext cx="4228560" cy="3886200"/>
              <a:chOff x="4838400" y="685800"/>
              <a:chExt cx="4228560" cy="3886200"/>
            </a:xfrm>
          </p:grpSpPr>
          <p:sp>
            <p:nvSpPr>
              <p:cNvPr id="449" name=""/>
              <p:cNvSpPr/>
              <p:nvPr/>
            </p:nvSpPr>
            <p:spPr>
              <a:xfrm>
                <a:off x="4882680" y="895320"/>
                <a:ext cx="4165200" cy="32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1" marL="4572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X. RENDKÍVÜLI BEVÉTEL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XI.RENDKÍVÜLI RÁFORDÍTÁSO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XII. ADÓFIZETÉSI KÖTELEZETTSÉ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2. Eredménytartalék igénybevéte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osztalékra, részesedés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23. Jóváhagyott osztalék, részesedé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57120" y="685800"/>
                <a:ext cx="41907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C. SZOKÁSOS VÁLLALKOZÁSI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EREDMÉNY  (±A±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57120" y="1752480"/>
                <a:ext cx="4209840" cy="325440"/>
              </a:xfrm>
              <a:prstGeom prst="roundRect">
                <a:avLst>
                  <a:gd name="adj" fmla="val 16667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D. RENDKÍVÜLI EREDMÉNY  (X-XI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38400" y="2187720"/>
                <a:ext cx="4209840" cy="326880"/>
              </a:xfrm>
              <a:prstGeom prst="roundRect">
                <a:avLst>
                  <a:gd name="adj" fmla="val 16667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E. ADÓZÁS ELŐTTI EREDMÉNY  (±C±D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38400" y="2873520"/>
                <a:ext cx="4209840" cy="32688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F. ADÓZOTT EREDMÉNY  (±E-XII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82680" y="4114800"/>
                <a:ext cx="416520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G. MÉRLEG SZERINTI EREDMÉNY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    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(±F+22-2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4781520" y="685800"/>
              <a:ext cx="0" cy="55627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0" y="685800"/>
            <a:ext cx="5638680" cy="6095880"/>
            <a:chOff x="0" y="685800"/>
            <a:chExt cx="5638680" cy="6095880"/>
          </a:xfrm>
        </p:grpSpPr>
        <p:sp>
          <p:nvSpPr>
            <p:cNvPr id="457" name=""/>
            <p:cNvSpPr/>
            <p:nvPr/>
          </p:nvSpPr>
          <p:spPr>
            <a:xfrm>
              <a:off x="76320" y="6477120"/>
              <a:ext cx="5562360" cy="304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Bookman Old Style"/>
                </a:rPr>
                <a:t>B.    PÉNZÜGYI MŰVELETEK EREDMÉNYE  (VIII-I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720" y="685800"/>
              <a:ext cx="46674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Kapott (járó) osztalék és részesed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Ebből: kapcsolt vállalkozástól kap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Részesedések értékesítésének árf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lyamnyere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Ebből: kapcsolt vállalkozástól kap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Befektetett pénzügyi eszközö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kamatai, árfolyamnyere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Ebből: kapcsolt vállalkozástól kap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Egyéb kapott (járó) kamatok é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kamatjellegű bevétel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Ebből: kapcsolt vállalkozástól kap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Pénzügyi műveletek egyéb bevétele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333399"/>
                  </a:solidFill>
                  <a:latin typeface="Bookman Old Style"/>
                </a:rPr>
                <a:t>PÉNZÜGYI MŰVELETEK BEVÉTELE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600" spc="-1" strike="noStrike">
                  <a:solidFill>
                    <a:srgbClr val="333399"/>
                  </a:solidFill>
                  <a:latin typeface="Bookman Old Style"/>
                </a:rPr>
                <a:t>(13+14+15+16+17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Befektetett pénzügyi eszközö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árfolyamveszte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Ebből: kapcsolt vállalkozásnak ad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Fizetendő kamatok és kamatjelleg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ráfordít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Ebből: kapcsolt vállalkozásnak adot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Részesedések, értékpapírok, bank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betétek értékveszté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Pénzügyi műveletek egyéb ráfordítá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Bookman Old Style"/>
                </a:rPr>
                <a:t>sa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333399"/>
                  </a:solidFill>
                  <a:latin typeface="Bookman Old Style"/>
                </a:rPr>
                <a:t>PÉNZÜGYI MŰVELETEK RÁFORDÍTÁ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333399"/>
                  </a:solidFill>
                  <a:latin typeface="Bookman Old Style"/>
                </a:rPr>
                <a:t>SAI(18+19±20+2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0" y="685800"/>
              <a:ext cx="66672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13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1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15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16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17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VIII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18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19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20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21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IX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914400" y="95400"/>
            <a:ext cx="8102520" cy="1066680"/>
            <a:chOff x="914400" y="95400"/>
            <a:chExt cx="8102520" cy="1066680"/>
          </a:xfrm>
        </p:grpSpPr>
        <p:sp>
          <p:nvSpPr>
            <p:cNvPr id="461" name=""/>
            <p:cNvSpPr/>
            <p:nvPr/>
          </p:nvSpPr>
          <p:spPr>
            <a:xfrm>
              <a:off x="8229600" y="95400"/>
              <a:ext cx="787320" cy="438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6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14400" y="304920"/>
              <a:ext cx="6934320" cy="8571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REDMÉNYKIMUTATÁS ELŐÍRT TAG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RGALMI KÖLTSÉG ELJÁRÁSS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„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” változ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57200" y="5943600"/>
            <a:ext cx="8077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Bookman Old Style"/>
              </a:rPr>
              <a:t>A következő sorok értelemszerűen megegyeznek az összköltsé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Bookman Old Style"/>
              </a:rPr>
              <a:t>eljárás „A” változat 13-23. és VIII-XII., valamint a B-G. soraiv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Bookman Old Style"/>
              </a:rPr>
              <a:t>(4-8.2 vázl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52280" y="1676520"/>
            <a:ext cx="4572000" cy="4038480"/>
            <a:chOff x="152280" y="1676520"/>
            <a:chExt cx="4572000" cy="4038480"/>
          </a:xfrm>
        </p:grpSpPr>
        <p:sp>
          <p:nvSpPr>
            <p:cNvPr id="465" name=""/>
            <p:cNvSpPr/>
            <p:nvPr/>
          </p:nvSpPr>
          <p:spPr>
            <a:xfrm>
              <a:off x="152280" y="525780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III. ÉRTÉKESÍTÉS BRUTTÓ ERED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MÉNYE (I-I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280" y="1676520"/>
              <a:ext cx="4572000" cy="33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01. Belföldi értékesítés nettó árbevéte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02. Exportértékesítés nettó árbevéte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.    ÉRTÉKESÍTÉS NETTÓ ÁRBEVÉTE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(01+0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03. Értékesítés elszámolt közvetlen önköltsé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04. Eladott áruk beszerzési érté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05. Eladott (közvetített) szolgáltatások érté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II.   ÉRTÉKESÍTÉS KÖZVETLEN KÖL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SÉGEI (03+04+0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724280" y="1676520"/>
            <a:ext cx="4419720" cy="4038480"/>
            <a:chOff x="4724280" y="1676520"/>
            <a:chExt cx="4419720" cy="4038480"/>
          </a:xfrm>
        </p:grpSpPr>
        <p:grpSp>
          <p:nvGrpSpPr>
            <p:cNvPr id="468" name=""/>
            <p:cNvGrpSpPr/>
            <p:nvPr/>
          </p:nvGrpSpPr>
          <p:grpSpPr>
            <a:xfrm>
              <a:off x="4876920" y="1676520"/>
              <a:ext cx="4267080" cy="3343320"/>
              <a:chOff x="4876920" y="1676520"/>
              <a:chExt cx="4267080" cy="3343320"/>
            </a:xfrm>
          </p:grpSpPr>
          <p:sp>
            <p:nvSpPr>
              <p:cNvPr id="469" name=""/>
              <p:cNvSpPr/>
              <p:nvPr/>
            </p:nvSpPr>
            <p:spPr>
              <a:xfrm>
                <a:off x="4876920" y="1676520"/>
                <a:ext cx="4267080" cy="28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06. Értékesítési, forgalmazási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költség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07. Igazgatási költség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08. Egyéb általános költség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IV.  ÉRTÉKESÍTÉS KÖZVETET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KÖLTSÉGEI (06+07+08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V.   EGYÉB BEVÉTEL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066680" indent="-609480">
                  <a:lnSpc>
                    <a:spcPct val="11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Ebből: visszaírt értékveszté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VI.  EGYÉB RÁFORDÍTÁSO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066680" indent="-609480">
                  <a:lnSpc>
                    <a:spcPct val="11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Ebből: értékveszté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4486320"/>
                <a:ext cx="396252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A.  ÜZEMI (ÜZLETI) TEVÉKENYSÉG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     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Bookman Old Style"/>
                  </a:rPr>
                  <a:t>EREDMÉNYE (±III-IV+V-VI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24280" y="1752480"/>
              <a:ext cx="0" cy="39625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Könyvviteli alapfogalma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1413000"/>
            <a:ext cx="7894440" cy="114300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6. AZ EREDMÉNY FOGALMA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           CSOPORTOSÍTÁSA, KIMUTA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724280" y="1219320"/>
            <a:ext cx="4419720" cy="779760"/>
            <a:chOff x="4724280" y="1219320"/>
            <a:chExt cx="4419720" cy="779760"/>
          </a:xfrm>
        </p:grpSpPr>
        <p:sp>
          <p:nvSpPr>
            <p:cNvPr id="101" name=""/>
            <p:cNvSpPr/>
            <p:nvPr/>
          </p:nvSpPr>
          <p:spPr>
            <a:xfrm>
              <a:off x="4838760" y="1219320"/>
              <a:ext cx="1714320" cy="3808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GAL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1295280"/>
              <a:ext cx="441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aját vagyon változásának összege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04920" y="2590920"/>
            <a:ext cx="4419000" cy="1161000"/>
            <a:chOff x="304920" y="2590920"/>
            <a:chExt cx="4419000" cy="1161000"/>
          </a:xfrm>
        </p:grpSpPr>
        <p:sp>
          <p:nvSpPr>
            <p:cNvPr id="104" name=""/>
            <p:cNvSpPr/>
            <p:nvPr/>
          </p:nvSpPr>
          <p:spPr>
            <a:xfrm>
              <a:off x="304920" y="2590920"/>
              <a:ext cx="2974680" cy="380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880" y="3048120"/>
              <a:ext cx="43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aját vagy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Idegen vagyon (kötelezettsé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76920" y="2590920"/>
            <a:ext cx="3961800" cy="1161000"/>
            <a:chOff x="4876920" y="2590920"/>
            <a:chExt cx="3961800" cy="1161000"/>
          </a:xfrm>
        </p:grpSpPr>
        <p:sp>
          <p:nvSpPr>
            <p:cNvPr id="107" name=""/>
            <p:cNvSpPr/>
            <p:nvPr/>
          </p:nvSpPr>
          <p:spPr>
            <a:xfrm>
              <a:off x="4876920" y="2590920"/>
              <a:ext cx="2666880" cy="380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2880" y="3048120"/>
              <a:ext cx="388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yere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eszte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0880" y="4145040"/>
            <a:ext cx="4267080" cy="886320"/>
            <a:chOff x="380880" y="4145040"/>
            <a:chExt cx="4267080" cy="886320"/>
          </a:xfrm>
        </p:grpSpPr>
        <p:sp>
          <p:nvSpPr>
            <p:cNvPr id="110" name=""/>
            <p:cNvSpPr/>
            <p:nvPr/>
          </p:nvSpPr>
          <p:spPr>
            <a:xfrm>
              <a:off x="380880" y="4175280"/>
              <a:ext cx="343080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Bookman Old Style"/>
                </a:rPr>
                <a:t>Saját vagyon (saját tők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463248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cc0000"/>
                  </a:solidFill>
                  <a:latin typeface="Bookman Old Style"/>
                </a:rPr>
                <a:t>Vagyon - Kötelezett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11680" y="4145040"/>
              <a:ext cx="50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Bookman Old Style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57200" y="5867280"/>
            <a:ext cx="4114800" cy="609480"/>
            <a:chOff x="457200" y="5867280"/>
            <a:chExt cx="4114800" cy="609480"/>
          </a:xfrm>
        </p:grpSpPr>
        <p:sp>
          <p:nvSpPr>
            <p:cNvPr id="114" name=""/>
            <p:cNvSpPr/>
            <p:nvPr/>
          </p:nvSpPr>
          <p:spPr>
            <a:xfrm>
              <a:off x="457200" y="5896080"/>
              <a:ext cx="411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* EGY IDŐ</a:t>
              </a:r>
              <a:r>
                <a:rPr b="1" i="1" lang="en-US" sz="1600" spc="-1" strike="noStrike" u="sng">
                  <a:solidFill>
                    <a:srgbClr val="333399"/>
                  </a:solidFill>
                  <a:uFillTx/>
                  <a:latin typeface="Bookman Old Style"/>
                </a:rPr>
                <a:t>PONT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BAN (Pl. az üzleti é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  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végé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867280"/>
              <a:ext cx="12189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00600" y="4038480"/>
            <a:ext cx="4267080" cy="748440"/>
            <a:chOff x="4800600" y="4038480"/>
            <a:chExt cx="4267080" cy="748440"/>
          </a:xfrm>
        </p:grpSpPr>
        <p:sp>
          <p:nvSpPr>
            <p:cNvPr id="117" name=""/>
            <p:cNvSpPr/>
            <p:nvPr/>
          </p:nvSpPr>
          <p:spPr>
            <a:xfrm>
              <a:off x="4910040" y="4038480"/>
              <a:ext cx="1643040" cy="3812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yere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4083120"/>
              <a:ext cx="426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aját vagyon növekedé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952880" y="4800600"/>
            <a:ext cx="4191120" cy="703800"/>
            <a:chOff x="4952880" y="4800600"/>
            <a:chExt cx="4191120" cy="703800"/>
          </a:xfrm>
        </p:grpSpPr>
        <p:sp>
          <p:nvSpPr>
            <p:cNvPr id="120" name=""/>
            <p:cNvSpPr/>
            <p:nvPr/>
          </p:nvSpPr>
          <p:spPr>
            <a:xfrm>
              <a:off x="4952880" y="4800600"/>
              <a:ext cx="1712880" cy="3812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esztesé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2880" y="4800600"/>
              <a:ext cx="419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saját vagyon csökkené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724280" y="5867280"/>
            <a:ext cx="4343040" cy="609480"/>
            <a:chOff x="4724280" y="5867280"/>
            <a:chExt cx="4343040" cy="609480"/>
          </a:xfrm>
        </p:grpSpPr>
        <p:sp>
          <p:nvSpPr>
            <p:cNvPr id="123" name=""/>
            <p:cNvSpPr/>
            <p:nvPr/>
          </p:nvSpPr>
          <p:spPr>
            <a:xfrm>
              <a:off x="4724280" y="5896080"/>
              <a:ext cx="434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** EGY IDŐ</a:t>
              </a:r>
              <a:r>
                <a:rPr b="1" i="1" lang="en-US" sz="1600" spc="-1" strike="noStrike" u="sng">
                  <a:solidFill>
                    <a:srgbClr val="333399"/>
                  </a:solidFill>
                  <a:uFillTx/>
                  <a:latin typeface="Bookman Old Style"/>
                </a:rPr>
                <a:t>SZAK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ALATT (Pl. egy üzle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   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évbe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4560" y="5867280"/>
              <a:ext cx="1286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" y="152280"/>
            <a:ext cx="8763120" cy="2456640"/>
            <a:chOff x="228600" y="152280"/>
            <a:chExt cx="8763120" cy="2456640"/>
          </a:xfrm>
        </p:grpSpPr>
        <p:sp>
          <p:nvSpPr>
            <p:cNvPr id="126" name=""/>
            <p:cNvSpPr/>
            <p:nvPr/>
          </p:nvSpPr>
          <p:spPr>
            <a:xfrm>
              <a:off x="8001000" y="152280"/>
              <a:ext cx="990720" cy="304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0240" y="399960"/>
              <a:ext cx="3149640" cy="514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AGY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380880"/>
              <a:ext cx="3124080" cy="5144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REDMÉ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8600" y="1219320"/>
              <a:ext cx="3809880" cy="1389600"/>
              <a:chOff x="228600" y="1219320"/>
              <a:chExt cx="3809880" cy="1389600"/>
            </a:xfrm>
          </p:grpSpPr>
          <p:sp>
            <p:nvSpPr>
              <p:cNvPr id="130" name=""/>
              <p:cNvSpPr/>
              <p:nvPr/>
            </p:nvSpPr>
            <p:spPr>
              <a:xfrm>
                <a:off x="345960" y="1219320"/>
                <a:ext cx="1711440" cy="3808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FOGALMA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8600" y="1295280"/>
                <a:ext cx="38098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vállalkozó tulajdonában, kezelésében lévő eszközök együttes értéke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4648320" y="914400"/>
            <a:ext cx="0" cy="55627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0" y="1770120"/>
            <a:ext cx="0" cy="463068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320" y="1523880"/>
            <a:ext cx="4572000" cy="718560"/>
            <a:chOff x="76320" y="1523880"/>
            <a:chExt cx="4572000" cy="718560"/>
          </a:xfrm>
        </p:grpSpPr>
        <p:sp>
          <p:nvSpPr>
            <p:cNvPr id="135" name=""/>
            <p:cNvSpPr/>
            <p:nvPr/>
          </p:nvSpPr>
          <p:spPr>
            <a:xfrm>
              <a:off x="76320" y="159984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= ÖSSZES HOZAM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ES KÖLTSÉG (RÁFORDÍTÁ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523880"/>
              <a:ext cx="160020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EREDMÉNY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920" y="3886200"/>
            <a:ext cx="4267080" cy="1220040"/>
            <a:chOff x="304920" y="3886200"/>
            <a:chExt cx="4267080" cy="1220040"/>
          </a:xfrm>
        </p:grpSpPr>
        <p:sp>
          <p:nvSpPr>
            <p:cNvPr id="138" name=""/>
            <p:cNvSpPr/>
            <p:nvPr/>
          </p:nvSpPr>
          <p:spPr>
            <a:xfrm>
              <a:off x="304920" y="3915000"/>
              <a:ext cx="426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értékesített eszközök és szolgáltatások ellen-értéke (a kapott pénz, vagy a vevő által elismert követelé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880" y="3886200"/>
              <a:ext cx="1981440" cy="381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BEVÉTE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6320" y="2590920"/>
            <a:ext cx="4495680" cy="993240"/>
            <a:chOff x="76320" y="2590920"/>
            <a:chExt cx="4495680" cy="993240"/>
          </a:xfrm>
        </p:grpSpPr>
        <p:sp>
          <p:nvSpPr>
            <p:cNvPr id="141" name=""/>
            <p:cNvSpPr/>
            <p:nvPr/>
          </p:nvSpPr>
          <p:spPr>
            <a:xfrm>
              <a:off x="380880" y="2590920"/>
              <a:ext cx="2133720" cy="381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ÖSSZES HOZ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20" y="2667240"/>
              <a:ext cx="449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= BEVÉTEL 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AJÁT ELŐÁLLÍTÁSÚ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ÁLLOMÁNYVÁLTOZÁ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724280" y="5181480"/>
            <a:ext cx="4343040" cy="1103400"/>
            <a:chOff x="4724280" y="5181480"/>
            <a:chExt cx="4343040" cy="1103400"/>
          </a:xfrm>
        </p:grpSpPr>
        <p:sp>
          <p:nvSpPr>
            <p:cNvPr id="144" name=""/>
            <p:cNvSpPr/>
            <p:nvPr/>
          </p:nvSpPr>
          <p:spPr>
            <a:xfrm>
              <a:off x="4724280" y="5217480"/>
              <a:ext cx="434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*   Minden adat azonos időszak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   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vonatkozik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** Mind a két módszerrel azo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   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eredményt kapunk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4560" y="5181480"/>
              <a:ext cx="1286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724280" y="1522440"/>
            <a:ext cx="4343400" cy="1267560"/>
            <a:chOff x="4724280" y="1522440"/>
            <a:chExt cx="4343400" cy="1267560"/>
          </a:xfrm>
        </p:grpSpPr>
        <p:sp>
          <p:nvSpPr>
            <p:cNvPr id="147" name=""/>
            <p:cNvSpPr/>
            <p:nvPr/>
          </p:nvSpPr>
          <p:spPr>
            <a:xfrm>
              <a:off x="5029200" y="1522440"/>
              <a:ext cx="190512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EREDMÉNY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1598760"/>
              <a:ext cx="43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= BEVÉTEL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ÉRTÉKESÍTETT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SZOLGÁLTATÁSOK) KÖLTSÉG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ÁFORDÍTÁSO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04920" y="5410080"/>
            <a:ext cx="4038480" cy="1219680"/>
            <a:chOff x="304920" y="5410080"/>
            <a:chExt cx="4038480" cy="1219680"/>
          </a:xfrm>
        </p:grpSpPr>
        <p:sp>
          <p:nvSpPr>
            <p:cNvPr id="150" name=""/>
            <p:cNvSpPr/>
            <p:nvPr/>
          </p:nvSpPr>
          <p:spPr>
            <a:xfrm>
              <a:off x="304920" y="5438520"/>
              <a:ext cx="403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   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felhasz-nált élő és holt munka pénzben kifejezett, tényleges bekerülési érték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880" y="541008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ÖSSZES KÖLTSÉ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28600" y="76320"/>
            <a:ext cx="8763120" cy="1371600"/>
            <a:chOff x="228600" y="76320"/>
            <a:chExt cx="8763120" cy="1371600"/>
          </a:xfrm>
        </p:grpSpPr>
        <p:sp>
          <p:nvSpPr>
            <p:cNvPr id="153" name=""/>
            <p:cNvSpPr/>
            <p:nvPr/>
          </p:nvSpPr>
          <p:spPr>
            <a:xfrm>
              <a:off x="8248680" y="76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228600"/>
              <a:ext cx="8001000" cy="4572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REDMÉNY LEVEZETÉSE A GAZDASÁGI FOLYAMATBÓL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76160" y="685800"/>
              <a:ext cx="2514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080" y="68580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0" y="1770120"/>
            <a:ext cx="0" cy="463068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320" y="1523880"/>
            <a:ext cx="4572000" cy="993240"/>
            <a:chOff x="76320" y="1523880"/>
            <a:chExt cx="4572000" cy="993240"/>
          </a:xfrm>
        </p:grpSpPr>
        <p:sp>
          <p:nvSpPr>
            <p:cNvPr id="159" name=""/>
            <p:cNvSpPr/>
            <p:nvPr/>
          </p:nvSpPr>
          <p:spPr>
            <a:xfrm>
              <a:off x="76320" y="160020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=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ERMELÉSI ÉRTÉK – TERMELÉ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880" y="1523880"/>
              <a:ext cx="3200400" cy="381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„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SZÁMÍTOTT EREDMÉN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04920" y="2590920"/>
            <a:ext cx="4190760" cy="1191240"/>
            <a:chOff x="304920" y="2590920"/>
            <a:chExt cx="4190760" cy="1191240"/>
          </a:xfrm>
        </p:grpSpPr>
        <p:sp>
          <p:nvSpPr>
            <p:cNvPr id="162" name=""/>
            <p:cNvSpPr/>
            <p:nvPr/>
          </p:nvSpPr>
          <p:spPr>
            <a:xfrm>
              <a:off x="380880" y="2590920"/>
              <a:ext cx="259092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TERMELÉSI ÉRTÉK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2590920"/>
              <a:ext cx="419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z előállí-tott eszközök és a teljesített szolgáltatások piaci áron számí-tott érték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724280" y="5181480"/>
            <a:ext cx="4343040" cy="616680"/>
            <a:chOff x="4724280" y="5181480"/>
            <a:chExt cx="4343040" cy="616680"/>
          </a:xfrm>
        </p:grpSpPr>
        <p:sp>
          <p:nvSpPr>
            <p:cNvPr id="165" name=""/>
            <p:cNvSpPr/>
            <p:nvPr/>
          </p:nvSpPr>
          <p:spPr>
            <a:xfrm>
              <a:off x="4724280" y="5217480"/>
              <a:ext cx="434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*   Minden adat azonos időszak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    </a:t>
              </a:r>
              <a:r>
                <a:rPr b="1" i="1" lang="en-US" sz="1600" spc="-1" strike="noStrike">
                  <a:solidFill>
                    <a:srgbClr val="333399"/>
                  </a:solidFill>
                  <a:latin typeface="Bookman Old Style"/>
                </a:rPr>
                <a:t>vonatkozik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4560" y="5181480"/>
              <a:ext cx="1286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" y="152280"/>
            <a:ext cx="8763120" cy="609480"/>
            <a:chOff x="228600" y="152280"/>
            <a:chExt cx="8763120" cy="609480"/>
          </a:xfrm>
        </p:grpSpPr>
        <p:sp>
          <p:nvSpPr>
            <p:cNvPr id="168" name=""/>
            <p:cNvSpPr/>
            <p:nvPr/>
          </p:nvSpPr>
          <p:spPr>
            <a:xfrm>
              <a:off x="8248680" y="15228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304560"/>
              <a:ext cx="8001000" cy="4572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EREDMÉNY FAJTÁI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04920" y="3990960"/>
            <a:ext cx="3962160" cy="964440"/>
            <a:chOff x="304920" y="3990960"/>
            <a:chExt cx="3962160" cy="964440"/>
          </a:xfrm>
        </p:grpSpPr>
        <p:sp>
          <p:nvSpPr>
            <p:cNvPr id="171" name=""/>
            <p:cNvSpPr/>
            <p:nvPr/>
          </p:nvSpPr>
          <p:spPr>
            <a:xfrm>
              <a:off x="380880" y="3990960"/>
              <a:ext cx="289584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TERMELÉSI KÖLTSÉ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4038480"/>
              <a:ext cx="396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fel-használt élő és holt munka pénzben kifejezett érték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6320" y="5180040"/>
            <a:ext cx="4343400" cy="1267560"/>
            <a:chOff x="76320" y="5180040"/>
            <a:chExt cx="4343400" cy="1267560"/>
          </a:xfrm>
        </p:grpSpPr>
        <p:sp>
          <p:nvSpPr>
            <p:cNvPr id="174" name=""/>
            <p:cNvSpPr/>
            <p:nvPr/>
          </p:nvSpPr>
          <p:spPr>
            <a:xfrm>
              <a:off x="76320" y="5256360"/>
              <a:ext cx="43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=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VÉTEL – AZ ÉRTÉKESÍTE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ZKÖZÖK (SZOLGÁLTATÁSO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LTSÉGE, RÁFORDÍTÁSO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040" y="5180040"/>
              <a:ext cx="304164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REALIZÁLT EREDMÉ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24280" y="1447920"/>
            <a:ext cx="4343400" cy="1877040"/>
            <a:chOff x="4724280" y="1447920"/>
            <a:chExt cx="4343400" cy="1877040"/>
          </a:xfrm>
        </p:grpSpPr>
        <p:sp>
          <p:nvSpPr>
            <p:cNvPr id="177" name=""/>
            <p:cNvSpPr/>
            <p:nvPr/>
          </p:nvSpPr>
          <p:spPr>
            <a:xfrm>
              <a:off x="5029200" y="1447920"/>
              <a:ext cx="37335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PÉNZÜGYILEG IS REALIZÁ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EREDMÉN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1447920"/>
              <a:ext cx="43434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NZÜGYILEG IS REALIZÁLT BEVÉTEL (befolyt pénzbevétel)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ÉRTÉKESÍTETT ESZKÖZÖK (szolgáltatások) KÖLTSÉGE, RÁ-FORDÍTÁSO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0" y="1219320"/>
            <a:ext cx="0" cy="463068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6320" y="1295280"/>
            <a:ext cx="4267080" cy="1816200"/>
            <a:chOff x="76320" y="1295280"/>
            <a:chExt cx="4267080" cy="1816200"/>
          </a:xfrm>
        </p:grpSpPr>
        <p:sp>
          <p:nvSpPr>
            <p:cNvPr id="181" name=""/>
            <p:cNvSpPr/>
            <p:nvPr/>
          </p:nvSpPr>
          <p:spPr>
            <a:xfrm>
              <a:off x="76320" y="1371600"/>
              <a:ext cx="426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ÉRTÉK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ÍTETT KÉSZLETEK ÉS SZOL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GÁLTATÁSOK ELLENÉRTÉK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szpénzben kifizetett, vag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evő által elfogadott, áfa-t n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artalmazó össz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295280"/>
              <a:ext cx="213372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ÁRBEVÉTE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28600" y="152280"/>
            <a:ext cx="8763120" cy="609480"/>
            <a:chOff x="228600" y="152280"/>
            <a:chExt cx="8763120" cy="609480"/>
          </a:xfrm>
        </p:grpSpPr>
        <p:sp>
          <p:nvSpPr>
            <p:cNvPr id="184" name=""/>
            <p:cNvSpPr/>
            <p:nvPr/>
          </p:nvSpPr>
          <p:spPr>
            <a:xfrm>
              <a:off x="8248680" y="15228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304560"/>
              <a:ext cx="8001000" cy="4572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EVÉTELEK 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6320" y="3882960"/>
            <a:ext cx="4190760" cy="1678680"/>
            <a:chOff x="76320" y="3882960"/>
            <a:chExt cx="4190760" cy="1678680"/>
          </a:xfrm>
        </p:grpSpPr>
        <p:sp>
          <p:nvSpPr>
            <p:cNvPr id="187" name=""/>
            <p:cNvSpPr/>
            <p:nvPr/>
          </p:nvSpPr>
          <p:spPr>
            <a:xfrm>
              <a:off x="76320" y="3958920"/>
              <a:ext cx="4190760" cy="16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PÉNZÜGYI MŰVELETEKBŐ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ÁRMAZÓ BEVÉTEL. Kapo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osztalék, árfolyamnyereség, ka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pott kamat st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3882960"/>
              <a:ext cx="32004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PÉNZÜGYI MŰVELET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BEVÉTEL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24280" y="1295280"/>
            <a:ext cx="4343400" cy="2288520"/>
            <a:chOff x="4724280" y="1295280"/>
            <a:chExt cx="4343400" cy="2288520"/>
          </a:xfrm>
        </p:grpSpPr>
        <p:sp>
          <p:nvSpPr>
            <p:cNvPr id="190" name=""/>
            <p:cNvSpPr/>
            <p:nvPr/>
          </p:nvSpPr>
          <p:spPr>
            <a:xfrm>
              <a:off x="5029200" y="1295280"/>
              <a:ext cx="2286000" cy="304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EGYÉB BEVÉTE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24280" y="1295280"/>
              <a:ext cx="4343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 ÁRB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ÉTEL RÉSZÉT NEM KÉPEZ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VÉTELEK, amely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rendszeres tevékenysé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orán keletkezne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m minősüln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 sem pénzügy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- sem rendkívüli bevételne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8320" y="3886200"/>
            <a:ext cx="4343400" cy="2361600"/>
            <a:chOff x="4648320" y="3886200"/>
            <a:chExt cx="4343400" cy="2361600"/>
          </a:xfrm>
        </p:grpSpPr>
        <p:sp>
          <p:nvSpPr>
            <p:cNvPr id="193" name=""/>
            <p:cNvSpPr/>
            <p:nvPr/>
          </p:nvSpPr>
          <p:spPr>
            <a:xfrm>
              <a:off x="4648320" y="3959280"/>
              <a:ext cx="4343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 3" charset="2"/>
                <a:buChar char="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OKÁSOS VÁLLALKOZÁSI T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ÉKENYSÉGGEL NEM ÁLLN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ÖZVETLEN KAPCSOLATB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(Pl. térítés nélkül kapott eszkö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zök, kapott támogatás).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3360" y="3886200"/>
              <a:ext cx="321624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RENDKÍVÜLI BEVÉTELEK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73120" y="171360"/>
            <a:ext cx="7442280" cy="819360"/>
            <a:chOff x="1473120" y="171360"/>
            <a:chExt cx="7442280" cy="819360"/>
          </a:xfrm>
        </p:grpSpPr>
        <p:sp>
          <p:nvSpPr>
            <p:cNvPr id="196" name=""/>
            <p:cNvSpPr/>
            <p:nvPr/>
          </p:nvSpPr>
          <p:spPr>
            <a:xfrm>
              <a:off x="7797960" y="171360"/>
              <a:ext cx="1117440" cy="34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3120" y="399960"/>
              <a:ext cx="6147000" cy="5907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REDMÉNYKATEGÓRI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76920" y="3336840"/>
            <a:ext cx="4419360" cy="2911680"/>
            <a:chOff x="4876920" y="3336840"/>
            <a:chExt cx="4419360" cy="2911680"/>
          </a:xfrm>
        </p:grpSpPr>
        <p:sp>
          <p:nvSpPr>
            <p:cNvPr id="199" name=""/>
            <p:cNvSpPr/>
            <p:nvPr/>
          </p:nvSpPr>
          <p:spPr>
            <a:xfrm>
              <a:off x="5029200" y="5576760"/>
              <a:ext cx="38862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MÉRLEG SZERINTI EREDMÉNY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0)  VAGY   (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9200" y="5029200"/>
              <a:ext cx="3886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ÓVÁHAGYOTT OSZTALÉK, RÉSZESEDÉS                            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05720" y="4024440"/>
              <a:ext cx="2209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DÓZOTT ERED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                                                                           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+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4024440"/>
              <a:ext cx="167652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GÉNYBE VETT EREDMÉNY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ARTALÉK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  (+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4024440"/>
              <a:ext cx="38862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9200" y="5029200"/>
              <a:ext cx="38862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5576760"/>
              <a:ext cx="38862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6248520"/>
              <a:ext cx="38862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29200" y="4024440"/>
              <a:ext cx="0" cy="2224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4024440"/>
              <a:ext cx="0" cy="10047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915400" y="4024440"/>
              <a:ext cx="0" cy="2224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76920" y="3336840"/>
              <a:ext cx="4419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HA A JÓVÁHAGYOTT OSZTALÉK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RÉSZESEDÉS </a:t>
              </a: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&gt;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ADÓZOTT EREDMÉ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52280" y="1219320"/>
            <a:ext cx="4724640" cy="5029200"/>
            <a:chOff x="152280" y="1219320"/>
            <a:chExt cx="4724640" cy="5029200"/>
          </a:xfrm>
        </p:grpSpPr>
        <p:sp>
          <p:nvSpPr>
            <p:cNvPr id="212" name=""/>
            <p:cNvSpPr/>
            <p:nvPr/>
          </p:nvSpPr>
          <p:spPr>
            <a:xfrm>
              <a:off x="3701880" y="5041800"/>
              <a:ext cx="117504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MÉRLEG SZERINTI ERED-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      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±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08280" y="5041800"/>
              <a:ext cx="18936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ÓVÁHAGYOTT OSZTALÉK, RÉSZESEDÉ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-) VAGY (0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280" y="5041800"/>
              <a:ext cx="16560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8280" y="4044960"/>
              <a:ext cx="3068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DÓZOTT EREDMÉNY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      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±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280" y="4044960"/>
              <a:ext cx="165600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DÓFIZETÉSI KÖTELE-ZETTSÉ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-) VAGY (0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2280" y="3367080"/>
              <a:ext cx="472464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DÓZÁS ELŐTTI EREDMÉNY                  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±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94080" y="2425680"/>
              <a:ext cx="1482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RENDKÍVÜLI EREDMÉNY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           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±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   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280" y="2425680"/>
              <a:ext cx="32418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SZOKÁSOS VÁLLALKOZÁSI EREDMÉNY                      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±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94080" y="1219320"/>
              <a:ext cx="148284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8280" y="1219320"/>
              <a:ext cx="158580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ÉNZÜGYI MŰVELETEK EREDMÉNY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±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280" y="1219320"/>
              <a:ext cx="175284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ÜZEMI (ÜZLETI) TEVÉKENYSÉG EREDMÉNY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Bookman Old Style"/>
                </a:rPr>
                <a:t>(±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280" y="1219320"/>
              <a:ext cx="324180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280" y="1219320"/>
              <a:ext cx="0" cy="38224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28800" y="1219320"/>
              <a:ext cx="0" cy="1206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4080" y="1219320"/>
              <a:ext cx="0" cy="21477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2280" y="2425680"/>
              <a:ext cx="4724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280" y="3367080"/>
              <a:ext cx="4724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280" y="4044960"/>
              <a:ext cx="4724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280" y="5041800"/>
              <a:ext cx="4724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08280" y="4044960"/>
              <a:ext cx="0" cy="22035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1880" y="5041800"/>
              <a:ext cx="0" cy="1206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6920" y="2425680"/>
              <a:ext cx="0" cy="382284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08280" y="6248520"/>
              <a:ext cx="30686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609480" y="3701520"/>
            <a:ext cx="3657600" cy="2624400"/>
            <a:chOff x="609480" y="3701520"/>
            <a:chExt cx="3657600" cy="2624400"/>
          </a:xfrm>
        </p:grpSpPr>
        <p:grpSp>
          <p:nvGrpSpPr>
            <p:cNvPr id="236" name=""/>
            <p:cNvGrpSpPr/>
            <p:nvPr/>
          </p:nvGrpSpPr>
          <p:grpSpPr>
            <a:xfrm>
              <a:off x="609480" y="4464000"/>
              <a:ext cx="1752840" cy="1861920"/>
              <a:chOff x="609480" y="4464000"/>
              <a:chExt cx="1752840" cy="1861920"/>
            </a:xfrm>
          </p:grpSpPr>
          <p:sp>
            <p:nvSpPr>
              <p:cNvPr id="237" name=""/>
              <p:cNvSpPr/>
              <p:nvPr/>
            </p:nvSpPr>
            <p:spPr>
              <a:xfrm>
                <a:off x="685800" y="4464000"/>
                <a:ext cx="152388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„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” változ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9480" y="5683320"/>
                <a:ext cx="17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Lépcsőzetes elrendez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514600" y="4464000"/>
              <a:ext cx="1752480" cy="1861920"/>
              <a:chOff x="2514600" y="4464000"/>
              <a:chExt cx="1752480" cy="1861920"/>
            </a:xfrm>
          </p:grpSpPr>
          <p:sp>
            <p:nvSpPr>
              <p:cNvPr id="240" name=""/>
              <p:cNvSpPr/>
              <p:nvPr/>
            </p:nvSpPr>
            <p:spPr>
              <a:xfrm>
                <a:off x="2514600" y="4464000"/>
                <a:ext cx="160020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26480" y="4788000"/>
                <a:ext cx="154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„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” v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ltoz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14600" y="5683320"/>
                <a:ext cx="1752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érlegszerű elrendez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295280" y="3701520"/>
              <a:ext cx="2133720" cy="762480"/>
              <a:chOff x="1295280" y="3701520"/>
              <a:chExt cx="2133720" cy="76248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1295280" y="3701520"/>
                <a:ext cx="11430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438280" y="3701880"/>
                <a:ext cx="9907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838080" y="76320"/>
            <a:ext cx="8153640" cy="3625560"/>
            <a:chOff x="838080" y="76320"/>
            <a:chExt cx="8153640" cy="3625560"/>
          </a:xfrm>
        </p:grpSpPr>
        <p:sp>
          <p:nvSpPr>
            <p:cNvPr id="247" name=""/>
            <p:cNvSpPr/>
            <p:nvPr/>
          </p:nvSpPr>
          <p:spPr>
            <a:xfrm>
              <a:off x="8229600" y="76320"/>
              <a:ext cx="76212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6-6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523880" y="1035000"/>
              <a:ext cx="5715000" cy="1599840"/>
              <a:chOff x="1523880" y="1035000"/>
              <a:chExt cx="5715000" cy="1599840"/>
            </a:xfrm>
          </p:grpSpPr>
          <p:sp>
            <p:nvSpPr>
              <p:cNvPr id="249" name=""/>
              <p:cNvSpPr/>
              <p:nvPr/>
            </p:nvSpPr>
            <p:spPr>
              <a:xfrm>
                <a:off x="1523880" y="1035000"/>
                <a:ext cx="5715000" cy="762120"/>
              </a:xfrm>
              <a:prstGeom prst="flowChartAlternateProcess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Z EREDMÉNYKIMUTATÁS MÓDJ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209680" y="1796760"/>
                <a:ext cx="4114080" cy="838080"/>
                <a:chOff x="2209680" y="1796760"/>
                <a:chExt cx="4114080" cy="838080"/>
              </a:xfrm>
            </p:grpSpPr>
            <p:sp>
              <p:nvSpPr>
                <p:cNvPr id="251" name=""/>
                <p:cNvSpPr/>
                <p:nvPr/>
              </p:nvSpPr>
              <p:spPr>
                <a:xfrm flipV="1">
                  <a:off x="2209680" y="1796760"/>
                  <a:ext cx="2203920" cy="837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413600" y="1797120"/>
                  <a:ext cx="1910160" cy="837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838080" y="2635200"/>
              <a:ext cx="3276720" cy="10666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ÖSSZKÖLTSÉ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6920" y="2635200"/>
              <a:ext cx="3276360" cy="10666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GALMI KÖLTSÉ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JÁRÁS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800600" y="3701520"/>
            <a:ext cx="3733920" cy="2624400"/>
            <a:chOff x="4800600" y="3701520"/>
            <a:chExt cx="3733920" cy="2624400"/>
          </a:xfrm>
        </p:grpSpPr>
        <p:grpSp>
          <p:nvGrpSpPr>
            <p:cNvPr id="256" name=""/>
            <p:cNvGrpSpPr/>
            <p:nvPr/>
          </p:nvGrpSpPr>
          <p:grpSpPr>
            <a:xfrm>
              <a:off x="6781680" y="4464000"/>
              <a:ext cx="1752840" cy="1861920"/>
              <a:chOff x="6781680" y="4464000"/>
              <a:chExt cx="1752840" cy="186192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464000"/>
                <a:ext cx="160020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„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B” változ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81680" y="5683320"/>
                <a:ext cx="17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Mérlegszerű elrendez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800600" y="4464000"/>
              <a:ext cx="1828800" cy="1861920"/>
              <a:chOff x="4800600" y="4464000"/>
              <a:chExt cx="1828800" cy="1861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800600" y="4464000"/>
                <a:ext cx="167652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„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”  változ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76920" y="5683320"/>
                <a:ext cx="1752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Lépcsőzetes elrendez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62720" y="3701520"/>
              <a:ext cx="2133000" cy="762480"/>
              <a:chOff x="5562720" y="3701520"/>
              <a:chExt cx="2133000" cy="76248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5562720" y="3701520"/>
                <a:ext cx="114264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705360" y="3701880"/>
                <a:ext cx="99036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609480" y="76320"/>
            <a:ext cx="8458200" cy="2743200"/>
            <a:chOff x="609480" y="76320"/>
            <a:chExt cx="8458200" cy="2743200"/>
          </a:xfrm>
        </p:grpSpPr>
        <p:sp>
          <p:nvSpPr>
            <p:cNvPr id="266" name=""/>
            <p:cNvSpPr/>
            <p:nvPr/>
          </p:nvSpPr>
          <p:spPr>
            <a:xfrm>
              <a:off x="8153280" y="76320"/>
              <a:ext cx="9144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6-6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09480" y="685800"/>
              <a:ext cx="7850160" cy="1523880"/>
              <a:chOff x="609480" y="685800"/>
              <a:chExt cx="7850160" cy="1523880"/>
            </a:xfrm>
          </p:grpSpPr>
          <p:sp>
            <p:nvSpPr>
              <p:cNvPr id="268" name=""/>
              <p:cNvSpPr/>
              <p:nvPr/>
            </p:nvSpPr>
            <p:spPr>
              <a:xfrm>
                <a:off x="684360" y="739800"/>
                <a:ext cx="6978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4360" y="1343160"/>
                <a:ext cx="6978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00200" y="685800"/>
                <a:ext cx="5638680" cy="685800"/>
              </a:xfrm>
              <a:prstGeom prst="flowChartAlternateProcess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Z EREDMÉNYKIMUTATÁS KÉT MÓDJ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ÖZÖTTI ELTÉRÉ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9480" y="1719360"/>
                <a:ext cx="3888000" cy="4903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ÖSSZKÖLTSÉG ELJÁR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2209680" y="1371240"/>
                <a:ext cx="4190400" cy="305280"/>
                <a:chOff x="2209680" y="1371240"/>
                <a:chExt cx="4190400" cy="305280"/>
              </a:xfrm>
            </p:grpSpPr>
            <p:sp>
              <p:nvSpPr>
                <p:cNvPr id="273" name=""/>
                <p:cNvSpPr/>
                <p:nvPr/>
              </p:nvSpPr>
              <p:spPr>
                <a:xfrm flipV="1">
                  <a:off x="2209680" y="1371240"/>
                  <a:ext cx="224460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454280" y="1371600"/>
                  <a:ext cx="194580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4572000" y="1719360"/>
                <a:ext cx="3887640" cy="490320"/>
              </a:xfrm>
              <a:prstGeom prst="roundRect">
                <a:avLst>
                  <a:gd name="adj" fmla="val 16667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FORGALMI KÖLTSÉG ELJÁRÁ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09480" y="2427120"/>
              <a:ext cx="7848720" cy="392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ÜZEMI (ÜZLETI) TEVÉKENYSGÉG EREDMÉNYE          (±)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143000" y="64771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A TOVÁBBIAKBAN A KÉT MÓDSZER AZ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2817720"/>
            <a:ext cx="3936960" cy="3583080"/>
            <a:chOff x="609480" y="2817720"/>
            <a:chExt cx="3936960" cy="3583080"/>
          </a:xfrm>
        </p:grpSpPr>
        <p:sp>
          <p:nvSpPr>
            <p:cNvPr id="279" name=""/>
            <p:cNvSpPr/>
            <p:nvPr/>
          </p:nvSpPr>
          <p:spPr>
            <a:xfrm>
              <a:off x="4165560" y="2817720"/>
              <a:ext cx="380880" cy="358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±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480" y="2817720"/>
              <a:ext cx="3556080" cy="358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i="1" lang="hu-HU" sz="1800" spc="-1" strike="noStrike">
                  <a:solidFill>
                    <a:srgbClr val="ffffff"/>
                  </a:solidFill>
                  <a:latin typeface="Bookman Old Style"/>
                </a:rPr>
                <a:t>ÖSSZES HOZA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Árbevéte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Aktivált saját teljesít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mények érték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Egyéb bevéte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i="1" lang="hu-HU" sz="1800" spc="-1" strike="noStrike">
                  <a:solidFill>
                    <a:srgbClr val="ffffff"/>
                  </a:solidFill>
                  <a:latin typeface="Bookman Old Style"/>
                </a:rPr>
                <a:t>ÖSSZES KÖLTSÉ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Anyagjellegű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ráfordításo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Személyi jellegű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ráfordításo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Értékcsökkenési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leírá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2948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hu-HU" sz="1900" spc="-1" strike="noStrike">
                  <a:solidFill>
                    <a:srgbClr val="ffffff"/>
                  </a:solidFill>
                  <a:latin typeface="Bookman Old Style"/>
                </a:rPr>
                <a:t>Egyéb ráfordításo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46440" y="2817720"/>
              <a:ext cx="0" cy="35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5560" y="2817720"/>
              <a:ext cx="0" cy="35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546440" y="2817720"/>
            <a:ext cx="3886200" cy="3583080"/>
            <a:chOff x="4546440" y="2817720"/>
            <a:chExt cx="3886200" cy="3583080"/>
          </a:xfrm>
        </p:grpSpPr>
        <p:sp>
          <p:nvSpPr>
            <p:cNvPr id="284" name=""/>
            <p:cNvSpPr/>
            <p:nvPr/>
          </p:nvSpPr>
          <p:spPr>
            <a:xfrm>
              <a:off x="7829640" y="2817720"/>
              <a:ext cx="603000" cy="358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46440" y="2817720"/>
              <a:ext cx="3283200" cy="358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Bookman Old Style"/>
                </a:rPr>
                <a:t>ÖSSZES BEVÉTEL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Árbevéte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Egyéb bevéte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Bookman Old Style"/>
                </a:rPr>
                <a:t>FORGALMI KÖLTSÉ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Értékesíté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közvetlen költsége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Értékesíté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közvetett költsége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47840">
                <a:lnSpc>
                  <a:spcPct val="80000"/>
                </a:lnSpc>
                <a:buClr>
                  <a:srgbClr val="ffffff"/>
                </a:buClr>
                <a:buFont typeface="Wingdings 3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r>
                <a:rPr b="1" lang="en-US" sz="1900" spc="-1" strike="noStrike">
                  <a:solidFill>
                    <a:srgbClr val="ffffff"/>
                  </a:solidFill>
                  <a:latin typeface="Bookman Old Style"/>
                </a:rPr>
                <a:t>Egyéb ráfordításo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29640" y="2817720"/>
              <a:ext cx="0" cy="35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38:25Z</dcterms:modified>
  <cp:revision>57</cp:revision>
  <dc:subject/>
  <dc:title>1. dia</dc:title>
</cp:coreProperties>
</file>