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5257-FF24-4CF6-AE81-B5CCD2EA028E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 források citációs  formája: Szerző (évszám): publikáció címe. megjelenés helye. Kiadó. Evf. Szam. Oldalszá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Honlapok URL cí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öbb összefüggő előadás vagy gyakorlat esetében az egymásra épülést itt lehet megadn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Itt kell megadni ha a következő előadás vagy gyakorlat megértéséhez  milyen más tárgyak ismeretére van szüksé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előadások / gyakorlatok diáinak kidolgozása során jelöljön ki kulcsszavakat amelyeket az ellenőrző kérdésekhez hiperhivatkozásként kapcsoljon a kérdéshez. Művelet leírása BESZÚRÁS OBJEKTUM HIPERHIVATKOZÁS súgób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19AAD-E67A-4A83-BEAD-04C5A44AD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36FE4-BE4F-4A08-A0D5-948BC5AF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28C76-D9FA-411A-8994-7E637BF9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F92D1-FF88-4101-A90D-F6985D66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919D4-7170-427C-AF61-BE3A4B29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FCEA1-7533-4268-8C81-080F7172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B875D-0AE7-45CD-BF5A-6E58FBAF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C0A78-14A1-4E61-B1D9-986CE475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4B661-1381-428B-ACA0-CFAC7D58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63A48-7448-4601-9F49-7519EFCB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5A43B-E3FF-484B-9313-0069F53E0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627F6-3962-4232-9C6A-D566AF23D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76720" y="6381360"/>
            <a:ext cx="2266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FOP 3.3.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7c7c">
                  <a:alpha val="86274"/>
                </a:srgbClr>
              </a:gs>
              <a:gs pos="100000">
                <a:srgbClr val="009999">
                  <a:alpha val="2117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B99D-933C-4A21-B46A-8B6EF2986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4986360"/>
            <a:ext cx="1776240" cy="1871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308720" y="0"/>
            <a:ext cx="1617840" cy="1700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378560" y="5084640"/>
            <a:ext cx="1535400" cy="1565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1979640" y="549360"/>
            <a:ext cx="201600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4067280" y="189000"/>
            <a:ext cx="731880" cy="1844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4859280" y="549360"/>
            <a:ext cx="2232000" cy="838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3132000" y="5373720"/>
            <a:ext cx="302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38160">
                  <a:solidFill>
                    <a:srgbClr val="99ccff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HEFOP - 3.3.1.</a:t>
            </a:r>
            <a:endParaRPr b="1" lang="en-US" sz="1400" spc="1" strike="noStrike">
              <a:ln w="38160">
                <a:solidFill>
                  <a:srgbClr val="99ccff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009999">
                  <a:alpha val="68235"/>
                </a:srgbClr>
              </a:gs>
              <a:gs pos="100000">
                <a:srgbClr val="007979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0"/>
          <a:ext cx="1763640" cy="1763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0"/>
                    <a:ext cx="1763640" cy="17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gradFill rotWithShape="0">
            <a:gsLst>
              <a:gs pos="0">
                <a:srgbClr val="009999">
                  <a:alpha val="68235"/>
                </a:srgbClr>
              </a:gs>
              <a:gs pos="100000">
                <a:srgbClr val="007979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ZÁMVITEL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5.hé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04920" y="632448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Bookman Old Style"/>
              </a:rPr>
              <a:t>* A vállalkozó 20 e Ft-ért anyagot vásáro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04920" y="123840"/>
            <a:ext cx="8681760" cy="804960"/>
            <a:chOff x="304920" y="123840"/>
            <a:chExt cx="8681760" cy="804960"/>
          </a:xfrm>
        </p:grpSpPr>
        <p:sp>
          <p:nvSpPr>
            <p:cNvPr id="276" name=""/>
            <p:cNvSpPr/>
            <p:nvPr/>
          </p:nvSpPr>
          <p:spPr>
            <a:xfrm>
              <a:off x="6629400" y="53352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man Old Style"/>
                </a:rPr>
                <a:t>PASSZÍVÁ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81080" y="533520"/>
              <a:ext cx="46483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man Old Style"/>
                </a:rPr>
                <a:t>(ESZKÖZ BEVONÁSA UTÁN*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0880" y="533520"/>
              <a:ext cx="16002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man Old Style"/>
                </a:rPr>
                <a:t>AKTÍVÁ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80880" y="533520"/>
              <a:ext cx="16002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80880" y="928800"/>
              <a:ext cx="16002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0880" y="53352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686800" y="53352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81080" y="533520"/>
              <a:ext cx="46483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981080" y="928800"/>
              <a:ext cx="46483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629400" y="533520"/>
              <a:ext cx="20574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29400" y="928800"/>
              <a:ext cx="20574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4920" y="914400"/>
              <a:ext cx="8381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077320" y="123840"/>
              <a:ext cx="909360" cy="3333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5-6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05320" y="123840"/>
              <a:ext cx="1828800" cy="4381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MÉRLE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838080" y="4624560"/>
            <a:ext cx="29718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4920" y="4624560"/>
            <a:ext cx="5331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38080" y="5035680"/>
            <a:ext cx="29718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5035680"/>
            <a:ext cx="5331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4543560" y="5446800"/>
            <a:ext cx="4143240" cy="450720"/>
            <a:chOff x="4543560" y="5446800"/>
            <a:chExt cx="4143240" cy="450720"/>
          </a:xfrm>
        </p:grpSpPr>
        <p:sp>
          <p:nvSpPr>
            <p:cNvPr id="295" name=""/>
            <p:cNvSpPr/>
            <p:nvPr/>
          </p:nvSpPr>
          <p:spPr>
            <a:xfrm>
              <a:off x="8001000" y="5446800"/>
              <a:ext cx="6858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105520" y="5446800"/>
              <a:ext cx="28954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PASSZÍV IDŐBELI ELHATÁROLÁSO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543560" y="5446800"/>
              <a:ext cx="56196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G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838080" y="544680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AKTÍV IDŐBELI ELHATÁROLÁSO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4920" y="5446800"/>
            <a:ext cx="533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543560" y="5897520"/>
            <a:ext cx="4143240" cy="450720"/>
            <a:chOff x="4543560" y="5897520"/>
            <a:chExt cx="4143240" cy="450720"/>
          </a:xfrm>
        </p:grpSpPr>
        <p:sp>
          <p:nvSpPr>
            <p:cNvPr id="301" name=""/>
            <p:cNvSpPr/>
            <p:nvPr/>
          </p:nvSpPr>
          <p:spPr>
            <a:xfrm>
              <a:off x="8001000" y="5897520"/>
              <a:ext cx="685800" cy="450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117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105520" y="5897520"/>
              <a:ext cx="2895480" cy="450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FORRÁSOK ÖSSZES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43560" y="5897520"/>
              <a:ext cx="561960" cy="450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304920" y="5897520"/>
            <a:ext cx="4238640" cy="450720"/>
            <a:chOff x="304920" y="5897520"/>
            <a:chExt cx="4238640" cy="450720"/>
          </a:xfrm>
        </p:grpSpPr>
        <p:sp>
          <p:nvSpPr>
            <p:cNvPr id="305" name=""/>
            <p:cNvSpPr/>
            <p:nvPr/>
          </p:nvSpPr>
          <p:spPr>
            <a:xfrm>
              <a:off x="3809880" y="5897520"/>
              <a:ext cx="733680" cy="450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117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38080" y="5897520"/>
              <a:ext cx="2971800" cy="450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ESZKÖZÖK ÖSSZES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04920" y="5897520"/>
              <a:ext cx="533160" cy="450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105520" y="4624560"/>
            <a:ext cx="28954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HOSSZÚ LEJÁRATÚ KÖTELEZETTSÉG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43560" y="4624560"/>
            <a:ext cx="5619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I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105520" y="5035680"/>
            <a:ext cx="3124080" cy="411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RÖVID LEJÁRATÚ KÖTELEZETTSÉGEK </a:t>
            </a:r>
            <a:r>
              <a:rPr b="1" lang="en-US" sz="1200" spc="-1" strike="noStrike">
                <a:solidFill>
                  <a:srgbClr val="ffffff"/>
                </a:solidFill>
                <a:latin typeface="Bookman Old Style"/>
              </a:rPr>
              <a:t>(100+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43560" y="5035680"/>
            <a:ext cx="561960" cy="411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II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105520" y="4213080"/>
            <a:ext cx="28954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HÁTRASOROLT KÖTELEZETTSÉG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543560" y="4213080"/>
            <a:ext cx="5619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38080" y="4213080"/>
            <a:ext cx="29718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4920" y="4213080"/>
            <a:ext cx="5331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543560" y="3962520"/>
            <a:ext cx="3457440" cy="250560"/>
            <a:chOff x="4543560" y="3962520"/>
            <a:chExt cx="3457440" cy="250560"/>
          </a:xfrm>
        </p:grpSpPr>
        <p:sp>
          <p:nvSpPr>
            <p:cNvPr id="317" name=""/>
            <p:cNvSpPr/>
            <p:nvPr/>
          </p:nvSpPr>
          <p:spPr>
            <a:xfrm>
              <a:off x="5105520" y="3962520"/>
              <a:ext cx="2895480" cy="2505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KÖTELEZETTSÉGE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543560" y="3962520"/>
              <a:ext cx="561960" cy="2505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F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838080" y="3962520"/>
            <a:ext cx="29718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4920" y="3962520"/>
            <a:ext cx="5331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4543560" y="3687840"/>
            <a:ext cx="3457440" cy="274680"/>
            <a:chOff x="4543560" y="3687840"/>
            <a:chExt cx="3457440" cy="274680"/>
          </a:xfrm>
        </p:grpSpPr>
        <p:sp>
          <p:nvSpPr>
            <p:cNvPr id="322" name=""/>
            <p:cNvSpPr/>
            <p:nvPr/>
          </p:nvSpPr>
          <p:spPr>
            <a:xfrm>
              <a:off x="4543560" y="3687840"/>
              <a:ext cx="56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E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105520" y="3687840"/>
              <a:ext cx="2895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CÉLTARTALÉKO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304920" y="3687840"/>
            <a:ext cx="53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IV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4920" y="3276720"/>
            <a:ext cx="5331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II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04920" y="2971800"/>
            <a:ext cx="533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I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4920" y="2666880"/>
            <a:ext cx="533160" cy="304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38080" y="3687840"/>
            <a:ext cx="297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PÉNZESZKÖZÖ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3276720"/>
            <a:ext cx="29718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ÉRTÉKPAPÍRO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38080" y="297180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KÖVETELÉS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2666880"/>
            <a:ext cx="2971800" cy="304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KÉSZLETEK  (300+20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304920" y="2346480"/>
            <a:ext cx="3504960" cy="320400"/>
            <a:chOff x="304920" y="2346480"/>
            <a:chExt cx="3504960" cy="320400"/>
          </a:xfrm>
        </p:grpSpPr>
        <p:sp>
          <p:nvSpPr>
            <p:cNvPr id="333" name=""/>
            <p:cNvSpPr/>
            <p:nvPr/>
          </p:nvSpPr>
          <p:spPr>
            <a:xfrm>
              <a:off x="304920" y="2346480"/>
              <a:ext cx="533160" cy="320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B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38080" y="2346480"/>
              <a:ext cx="2971800" cy="320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FORGÓESZKÖZÖ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8001000" y="5035680"/>
            <a:ext cx="685800" cy="411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1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001000" y="4624560"/>
            <a:ext cx="6858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2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001000" y="4213080"/>
            <a:ext cx="6858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001000" y="3962520"/>
            <a:ext cx="6858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001000" y="3687840"/>
            <a:ext cx="6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5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001000" y="3276720"/>
            <a:ext cx="6858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001000" y="2971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001000" y="26668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001000" y="2346480"/>
            <a:ext cx="685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001000" y="1935000"/>
            <a:ext cx="6858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001000" y="1523880"/>
            <a:ext cx="6858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001000" y="12193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8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4543560" y="1219320"/>
            <a:ext cx="3457440" cy="2468520"/>
            <a:chOff x="4543560" y="1219320"/>
            <a:chExt cx="3457440" cy="2468520"/>
          </a:xfrm>
        </p:grpSpPr>
        <p:sp>
          <p:nvSpPr>
            <p:cNvPr id="348" name=""/>
            <p:cNvSpPr/>
            <p:nvPr/>
          </p:nvSpPr>
          <p:spPr>
            <a:xfrm>
              <a:off x="4543560" y="3276720"/>
              <a:ext cx="5619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VI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43560" y="2972160"/>
              <a:ext cx="561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V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543560" y="2667240"/>
              <a:ext cx="561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V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543560" y="2346480"/>
              <a:ext cx="561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V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543560" y="1935360"/>
              <a:ext cx="5619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I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43560" y="1524240"/>
              <a:ext cx="5619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543560" y="1219320"/>
              <a:ext cx="561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05520" y="3276720"/>
              <a:ext cx="289548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MÉRLEG SZERINTI EREDMÉN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05520" y="2972160"/>
              <a:ext cx="2895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ÉRTÉKELÉSI TARTALÉ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05520" y="2667240"/>
              <a:ext cx="2895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LEKÖTÖTT TARTALÉ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105520" y="2346480"/>
              <a:ext cx="28954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EREDMÉNYTARTALÉ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105520" y="1935360"/>
              <a:ext cx="289548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TŐKETARTALÉ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05520" y="1524240"/>
              <a:ext cx="289548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JEGYZETT, DE MÉG BE NEM FIZETETT TŐKE (-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105520" y="1219320"/>
              <a:ext cx="2895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JEGYZETT TŐK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04920" y="1219320"/>
            <a:ext cx="3504960" cy="1127160"/>
            <a:chOff x="304920" y="1219320"/>
            <a:chExt cx="3504960" cy="1127160"/>
          </a:xfrm>
        </p:grpSpPr>
        <p:sp>
          <p:nvSpPr>
            <p:cNvPr id="363" name=""/>
            <p:cNvSpPr/>
            <p:nvPr/>
          </p:nvSpPr>
          <p:spPr>
            <a:xfrm>
              <a:off x="304920" y="1935360"/>
              <a:ext cx="5331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I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04920" y="1524240"/>
              <a:ext cx="5331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4920" y="1219320"/>
              <a:ext cx="533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38080" y="1935360"/>
              <a:ext cx="29718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BEFEKTETETT PÉNZÜGY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ESZKÖZÖ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38080" y="1524240"/>
              <a:ext cx="29718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TÁRGYI ESZKÖZÖ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8080" y="1219320"/>
              <a:ext cx="2971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MMATERIÁLIS JAVA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4543560" y="914400"/>
            <a:ext cx="4143240" cy="304560"/>
            <a:chOff x="4543560" y="914400"/>
            <a:chExt cx="4143240" cy="304560"/>
          </a:xfrm>
        </p:grpSpPr>
        <p:sp>
          <p:nvSpPr>
            <p:cNvPr id="370" name=""/>
            <p:cNvSpPr/>
            <p:nvPr/>
          </p:nvSpPr>
          <p:spPr>
            <a:xfrm>
              <a:off x="4543560" y="914400"/>
              <a:ext cx="561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D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001000" y="914400"/>
              <a:ext cx="685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05520" y="914400"/>
              <a:ext cx="2895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SAJÁT TŐK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04920" y="914400"/>
            <a:ext cx="4238640" cy="304560"/>
            <a:chOff x="304920" y="914400"/>
            <a:chExt cx="4238640" cy="304560"/>
          </a:xfrm>
        </p:grpSpPr>
        <p:sp>
          <p:nvSpPr>
            <p:cNvPr id="374" name=""/>
            <p:cNvSpPr/>
            <p:nvPr/>
          </p:nvSpPr>
          <p:spPr>
            <a:xfrm>
              <a:off x="304920" y="914400"/>
              <a:ext cx="533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A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809880" y="914400"/>
              <a:ext cx="733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38080" y="914400"/>
              <a:ext cx="2971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BEFEKTETETT ESZKÖZÖ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304920" y="6348240"/>
            <a:ext cx="8381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686800" y="914400"/>
            <a:ext cx="0" cy="54338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04920" y="914400"/>
            <a:ext cx="0" cy="54338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077320" y="914400"/>
            <a:ext cx="0" cy="543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04920" y="5897520"/>
            <a:ext cx="8381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09880" y="4624560"/>
            <a:ext cx="733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809880" y="5035680"/>
            <a:ext cx="733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09880" y="5446800"/>
            <a:ext cx="7336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09880" y="4191120"/>
            <a:ext cx="733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809880" y="3962520"/>
            <a:ext cx="7336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368784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1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809880" y="3276720"/>
            <a:ext cx="733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4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09880" y="2971800"/>
            <a:ext cx="733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6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809880" y="2666880"/>
            <a:ext cx="733680" cy="304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3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09880" y="2346480"/>
            <a:ext cx="733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809880" y="1935000"/>
            <a:ext cx="7336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5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809880" y="1523880"/>
            <a:ext cx="733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59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809880" y="1219320"/>
            <a:ext cx="733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809880" y="914400"/>
            <a:ext cx="0" cy="543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543560" y="914400"/>
            <a:ext cx="0" cy="5433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04920" y="632448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Bookman Old Style"/>
              </a:rPr>
              <a:t>* A vállalkozó 30 e Ft hosszú lejáratú hitelt törlesztet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304920" y="123840"/>
            <a:ext cx="8681760" cy="804960"/>
            <a:chOff x="304920" y="123840"/>
            <a:chExt cx="8681760" cy="804960"/>
          </a:xfrm>
        </p:grpSpPr>
        <p:sp>
          <p:nvSpPr>
            <p:cNvPr id="399" name=""/>
            <p:cNvSpPr/>
            <p:nvPr/>
          </p:nvSpPr>
          <p:spPr>
            <a:xfrm>
              <a:off x="6629400" y="53352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man Old Style"/>
                </a:rPr>
                <a:t>PASSZÍVÁ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81080" y="533520"/>
              <a:ext cx="46483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man Old Style"/>
                </a:rPr>
                <a:t>(ESZKÖZÖK KIVONÁSA UTÁN*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880" y="533520"/>
              <a:ext cx="16002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man Old Style"/>
                </a:rPr>
                <a:t>AKTÍVÁ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0880" y="533520"/>
              <a:ext cx="16002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0880" y="928800"/>
              <a:ext cx="16002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80880" y="53352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686800" y="53352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81080" y="533520"/>
              <a:ext cx="46483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81080" y="928800"/>
              <a:ext cx="46483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29400" y="533520"/>
              <a:ext cx="20574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629400" y="928800"/>
              <a:ext cx="20574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04920" y="914400"/>
              <a:ext cx="8381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077320" y="123840"/>
              <a:ext cx="909360" cy="3333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5-6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505320" y="123840"/>
              <a:ext cx="1828800" cy="4381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MÉRLE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838080" y="4624560"/>
            <a:ext cx="29718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04920" y="4624560"/>
            <a:ext cx="5331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38080" y="5035680"/>
            <a:ext cx="29718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04920" y="5035680"/>
            <a:ext cx="5331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543560" y="5492880"/>
            <a:ext cx="4143240" cy="450720"/>
            <a:chOff x="4543560" y="5492880"/>
            <a:chExt cx="4143240" cy="450720"/>
          </a:xfrm>
        </p:grpSpPr>
        <p:sp>
          <p:nvSpPr>
            <p:cNvPr id="418" name=""/>
            <p:cNvSpPr/>
            <p:nvPr/>
          </p:nvSpPr>
          <p:spPr>
            <a:xfrm>
              <a:off x="8001000" y="5492880"/>
              <a:ext cx="6858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105520" y="5492880"/>
              <a:ext cx="28954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PASSZÍV IDŐBELI ELHATÁROLÁSO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43560" y="5492880"/>
              <a:ext cx="56196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G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838080" y="544680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AKTÍV IDŐBELI ELHATÁROLÁSO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04920" y="5446800"/>
            <a:ext cx="533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4543560" y="5897520"/>
            <a:ext cx="4143240" cy="450720"/>
            <a:chOff x="4543560" y="5897520"/>
            <a:chExt cx="4143240" cy="450720"/>
          </a:xfrm>
        </p:grpSpPr>
        <p:sp>
          <p:nvSpPr>
            <p:cNvPr id="424" name=""/>
            <p:cNvSpPr/>
            <p:nvPr/>
          </p:nvSpPr>
          <p:spPr>
            <a:xfrm>
              <a:off x="8001000" y="5897520"/>
              <a:ext cx="685800" cy="450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114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105520" y="5897520"/>
              <a:ext cx="2895480" cy="450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FORRÁSOK ÖSSZES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543560" y="5897520"/>
              <a:ext cx="561960" cy="450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304920" y="5897520"/>
            <a:ext cx="4238640" cy="450720"/>
            <a:chOff x="304920" y="5897520"/>
            <a:chExt cx="4238640" cy="450720"/>
          </a:xfrm>
        </p:grpSpPr>
        <p:sp>
          <p:nvSpPr>
            <p:cNvPr id="428" name=""/>
            <p:cNvSpPr/>
            <p:nvPr/>
          </p:nvSpPr>
          <p:spPr>
            <a:xfrm>
              <a:off x="3809880" y="5897520"/>
              <a:ext cx="733680" cy="450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114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38080" y="5897520"/>
              <a:ext cx="2971800" cy="450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ESZKÖZÖK ÖSSZES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04920" y="5897520"/>
              <a:ext cx="533160" cy="450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5105520" y="4624560"/>
            <a:ext cx="2895480" cy="4809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HOSSZÚ LEJÁRATÚ KÖTELEZETTSÉG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(200-30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43560" y="4624560"/>
            <a:ext cx="561960" cy="4809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I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105520" y="5111640"/>
            <a:ext cx="28954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RÖVID LEJÁRATÚ KÖTELEZETTSÉG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543560" y="5105520"/>
            <a:ext cx="5619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II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105520" y="4213080"/>
            <a:ext cx="28954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HÁTRASOROLT KÖTELEZETTSÉG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43560" y="4213080"/>
            <a:ext cx="5619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38080" y="4213080"/>
            <a:ext cx="29718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04920" y="4213080"/>
            <a:ext cx="5331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4543560" y="3962520"/>
            <a:ext cx="3457440" cy="250560"/>
            <a:chOff x="4543560" y="3962520"/>
            <a:chExt cx="3457440" cy="250560"/>
          </a:xfrm>
        </p:grpSpPr>
        <p:sp>
          <p:nvSpPr>
            <p:cNvPr id="440" name=""/>
            <p:cNvSpPr/>
            <p:nvPr/>
          </p:nvSpPr>
          <p:spPr>
            <a:xfrm>
              <a:off x="5105520" y="3962520"/>
              <a:ext cx="2895480" cy="2505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KÖTELEZETTSÉGE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543560" y="3962520"/>
              <a:ext cx="561960" cy="2505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F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838080" y="3962520"/>
            <a:ext cx="29718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3962520"/>
            <a:ext cx="5331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4543560" y="3687840"/>
            <a:ext cx="3457440" cy="274680"/>
            <a:chOff x="4543560" y="3687840"/>
            <a:chExt cx="3457440" cy="274680"/>
          </a:xfrm>
        </p:grpSpPr>
        <p:sp>
          <p:nvSpPr>
            <p:cNvPr id="445" name=""/>
            <p:cNvSpPr/>
            <p:nvPr/>
          </p:nvSpPr>
          <p:spPr>
            <a:xfrm>
              <a:off x="4543560" y="3687840"/>
              <a:ext cx="56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E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105520" y="3687840"/>
              <a:ext cx="2895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CÉLTARTALÉKO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304920" y="3687840"/>
            <a:ext cx="53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IV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04920" y="3276720"/>
            <a:ext cx="5331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II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04920" y="2971800"/>
            <a:ext cx="533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I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04920" y="2666880"/>
            <a:ext cx="533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38080" y="3687840"/>
            <a:ext cx="2971800" cy="4269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PÉNZESZKÖZÖ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(100-30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38080" y="3276720"/>
            <a:ext cx="29718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ÉRTÉKPAPÍRO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838080" y="297180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KÖVETELÉS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838080" y="26668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KÉSZLET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304920" y="2346480"/>
            <a:ext cx="3504960" cy="320400"/>
            <a:chOff x="304920" y="2346480"/>
            <a:chExt cx="3504960" cy="320400"/>
          </a:xfrm>
        </p:grpSpPr>
        <p:sp>
          <p:nvSpPr>
            <p:cNvPr id="456" name=""/>
            <p:cNvSpPr/>
            <p:nvPr/>
          </p:nvSpPr>
          <p:spPr>
            <a:xfrm>
              <a:off x="304920" y="2346480"/>
              <a:ext cx="533160" cy="320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B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38080" y="2346480"/>
              <a:ext cx="2971800" cy="320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FORGÓESZKÖZÖ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8001000" y="5151600"/>
            <a:ext cx="6858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1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8001000" y="4624560"/>
            <a:ext cx="685800" cy="4809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17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001000" y="4213080"/>
            <a:ext cx="6858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001000" y="3962520"/>
            <a:ext cx="6858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001000" y="3687840"/>
            <a:ext cx="6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5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001000" y="3276720"/>
            <a:ext cx="6858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001000" y="2971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001000" y="26668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01000" y="2346480"/>
            <a:ext cx="685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001000" y="1935000"/>
            <a:ext cx="6858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001000" y="1523880"/>
            <a:ext cx="6858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001000" y="12193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8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4543560" y="1219320"/>
            <a:ext cx="3457440" cy="2468520"/>
            <a:chOff x="4543560" y="1219320"/>
            <a:chExt cx="3457440" cy="2468520"/>
          </a:xfrm>
        </p:grpSpPr>
        <p:sp>
          <p:nvSpPr>
            <p:cNvPr id="471" name=""/>
            <p:cNvSpPr/>
            <p:nvPr/>
          </p:nvSpPr>
          <p:spPr>
            <a:xfrm>
              <a:off x="4543560" y="3276720"/>
              <a:ext cx="5619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VI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543560" y="2972160"/>
              <a:ext cx="561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V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543560" y="2667240"/>
              <a:ext cx="561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V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543560" y="2346480"/>
              <a:ext cx="561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V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543560" y="1935360"/>
              <a:ext cx="5619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I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543560" y="1524240"/>
              <a:ext cx="5619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43560" y="1219320"/>
              <a:ext cx="561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105520" y="3276720"/>
              <a:ext cx="289548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MÉRLEG SZERINTI EREDMÉN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105520" y="2972160"/>
              <a:ext cx="2895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ÉRTÉKELÉSI TARTALÉ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105520" y="2667240"/>
              <a:ext cx="2895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LEKÖTÖTT TARTALÉ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105520" y="2346480"/>
              <a:ext cx="28954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EREDMÉNYTARTALÉ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105520" y="1935360"/>
              <a:ext cx="289548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TŐKETARTALÉ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105520" y="1524240"/>
              <a:ext cx="289548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JEGYZETT, DE MÉG BE NEM FIZETETT TŐKE (-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105520" y="1219320"/>
              <a:ext cx="2895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JEGYZETT TŐK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304920" y="1219320"/>
            <a:ext cx="3504960" cy="1127160"/>
            <a:chOff x="304920" y="1219320"/>
            <a:chExt cx="3504960" cy="1127160"/>
          </a:xfrm>
        </p:grpSpPr>
        <p:sp>
          <p:nvSpPr>
            <p:cNvPr id="486" name=""/>
            <p:cNvSpPr/>
            <p:nvPr/>
          </p:nvSpPr>
          <p:spPr>
            <a:xfrm>
              <a:off x="304920" y="1935360"/>
              <a:ext cx="5331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I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04920" y="1524240"/>
              <a:ext cx="5331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04920" y="1219320"/>
              <a:ext cx="533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38080" y="1935360"/>
              <a:ext cx="29718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BEFEKTETETT PÉNZÜGY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ESZKÖZÖ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38080" y="1524240"/>
              <a:ext cx="29718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TÁRGYI ESZKÖZÖ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38080" y="1219320"/>
              <a:ext cx="2971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MMATERIÁLIS JAVA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543560" y="914400"/>
            <a:ext cx="4143240" cy="304560"/>
            <a:chOff x="4543560" y="914400"/>
            <a:chExt cx="4143240" cy="304560"/>
          </a:xfrm>
        </p:grpSpPr>
        <p:sp>
          <p:nvSpPr>
            <p:cNvPr id="493" name=""/>
            <p:cNvSpPr/>
            <p:nvPr/>
          </p:nvSpPr>
          <p:spPr>
            <a:xfrm>
              <a:off x="4543560" y="914400"/>
              <a:ext cx="561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D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001000" y="914400"/>
              <a:ext cx="685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105520" y="914400"/>
              <a:ext cx="2895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SAJÁT TŐK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304920" y="914400"/>
            <a:ext cx="4238640" cy="304560"/>
            <a:chOff x="304920" y="914400"/>
            <a:chExt cx="4238640" cy="304560"/>
          </a:xfrm>
        </p:grpSpPr>
        <p:sp>
          <p:nvSpPr>
            <p:cNvPr id="497" name=""/>
            <p:cNvSpPr/>
            <p:nvPr/>
          </p:nvSpPr>
          <p:spPr>
            <a:xfrm>
              <a:off x="304920" y="914400"/>
              <a:ext cx="533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A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809880" y="914400"/>
              <a:ext cx="733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8080" y="914400"/>
              <a:ext cx="2971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BEFEKTETETT ESZKÖZÖ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04920" y="6348240"/>
            <a:ext cx="8381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686800" y="914400"/>
            <a:ext cx="0" cy="54338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04920" y="914400"/>
            <a:ext cx="0" cy="54338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8001000" y="914400"/>
            <a:ext cx="0" cy="543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04920" y="5897520"/>
            <a:ext cx="8381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809880" y="4624560"/>
            <a:ext cx="733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809880" y="5035680"/>
            <a:ext cx="733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809880" y="5446800"/>
            <a:ext cx="7336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809880" y="4191120"/>
            <a:ext cx="733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809880" y="3962520"/>
            <a:ext cx="7336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809880" y="3687840"/>
            <a:ext cx="733680" cy="4269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7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809880" y="3276720"/>
            <a:ext cx="733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4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809880" y="2971800"/>
            <a:ext cx="733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6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809880" y="2666880"/>
            <a:ext cx="733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3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809880" y="2346480"/>
            <a:ext cx="733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809880" y="1935000"/>
            <a:ext cx="7336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5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809880" y="1523880"/>
            <a:ext cx="733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59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809880" y="1219320"/>
            <a:ext cx="733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809880" y="914400"/>
            <a:ext cx="0" cy="543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543560" y="914400"/>
            <a:ext cx="0" cy="5433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304920" y="632448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cc0000"/>
                </a:solidFill>
                <a:latin typeface="Bookman Old Style"/>
              </a:rPr>
              <a:t>* A vállalkozó 40 eFt-ot megkapott a követelésébő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304920" y="123840"/>
            <a:ext cx="8681760" cy="804960"/>
            <a:chOff x="304920" y="123840"/>
            <a:chExt cx="8681760" cy="804960"/>
          </a:xfrm>
        </p:grpSpPr>
        <p:sp>
          <p:nvSpPr>
            <p:cNvPr id="522" name=""/>
            <p:cNvSpPr/>
            <p:nvPr/>
          </p:nvSpPr>
          <p:spPr>
            <a:xfrm>
              <a:off x="6629400" y="53352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man Old Style"/>
                </a:rPr>
                <a:t>PASSZÍVÁ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981080" y="533520"/>
              <a:ext cx="46483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(ESZKÖZÖK KÖRFORGÁSA UTÁN*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80880" y="533520"/>
              <a:ext cx="16002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man Old Style"/>
                </a:rPr>
                <a:t>AKTÍVÁ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80880" y="533520"/>
              <a:ext cx="16002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80880" y="928800"/>
              <a:ext cx="16002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80880" y="53352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686800" y="53352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981080" y="533520"/>
              <a:ext cx="46483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981080" y="928800"/>
              <a:ext cx="46483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629400" y="533520"/>
              <a:ext cx="20574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629400" y="928800"/>
              <a:ext cx="20574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4920" y="914400"/>
              <a:ext cx="8381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077320" y="123840"/>
              <a:ext cx="909360" cy="3333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5-6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05320" y="123840"/>
              <a:ext cx="1828800" cy="4381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MÉRLE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838080" y="4624560"/>
            <a:ext cx="29718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04920" y="4624560"/>
            <a:ext cx="5331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38080" y="5035680"/>
            <a:ext cx="29718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04920" y="5035680"/>
            <a:ext cx="5331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4543560" y="5446800"/>
            <a:ext cx="4143240" cy="450720"/>
            <a:chOff x="4543560" y="5446800"/>
            <a:chExt cx="4143240" cy="450720"/>
          </a:xfrm>
        </p:grpSpPr>
        <p:sp>
          <p:nvSpPr>
            <p:cNvPr id="541" name=""/>
            <p:cNvSpPr/>
            <p:nvPr/>
          </p:nvSpPr>
          <p:spPr>
            <a:xfrm>
              <a:off x="8001000" y="5446800"/>
              <a:ext cx="6858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05520" y="5446800"/>
              <a:ext cx="28954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PASSZÍV IDŐBELI ELHATÁROLÁSO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543560" y="5446800"/>
              <a:ext cx="56196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G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838080" y="544680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AKTÍV IDŐBELI ELHATÁROLÁSO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04920" y="5446800"/>
            <a:ext cx="533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4543560" y="5897520"/>
            <a:ext cx="4143240" cy="450720"/>
            <a:chOff x="4543560" y="5897520"/>
            <a:chExt cx="4143240" cy="450720"/>
          </a:xfrm>
        </p:grpSpPr>
        <p:sp>
          <p:nvSpPr>
            <p:cNvPr id="547" name=""/>
            <p:cNvSpPr/>
            <p:nvPr/>
          </p:nvSpPr>
          <p:spPr>
            <a:xfrm>
              <a:off x="8001000" y="5897520"/>
              <a:ext cx="6858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114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105520" y="5897520"/>
              <a:ext cx="28954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FORRÁSOK ÖSSZES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543560" y="5897520"/>
              <a:ext cx="56196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304920" y="5897520"/>
            <a:ext cx="4238640" cy="450720"/>
            <a:chOff x="304920" y="5897520"/>
            <a:chExt cx="4238640" cy="450720"/>
          </a:xfrm>
        </p:grpSpPr>
        <p:sp>
          <p:nvSpPr>
            <p:cNvPr id="551" name=""/>
            <p:cNvSpPr/>
            <p:nvPr/>
          </p:nvSpPr>
          <p:spPr>
            <a:xfrm>
              <a:off x="3809880" y="5897520"/>
              <a:ext cx="7336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114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38080" y="5897520"/>
              <a:ext cx="29718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ESZKÖZÖK ÖSSZES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04920" y="5897520"/>
              <a:ext cx="53316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5105520" y="4624560"/>
            <a:ext cx="28954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HOSSZÚ LEJÁRATÚ KÖTELEZETTSÉG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543560" y="4624560"/>
            <a:ext cx="5619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I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105520" y="5035680"/>
            <a:ext cx="28954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RÖVID LEJÁRATÚ KÖTELEZETTSÉG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43560" y="5035680"/>
            <a:ext cx="5619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II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105520" y="4213080"/>
            <a:ext cx="28954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HÁTRASOROLT KÖTELEZETTSÉG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543560" y="4213080"/>
            <a:ext cx="5619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38080" y="4213080"/>
            <a:ext cx="29718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4213080"/>
            <a:ext cx="5331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4543560" y="3962520"/>
            <a:ext cx="3457440" cy="250560"/>
            <a:chOff x="4543560" y="3962520"/>
            <a:chExt cx="3457440" cy="250560"/>
          </a:xfrm>
        </p:grpSpPr>
        <p:sp>
          <p:nvSpPr>
            <p:cNvPr id="563" name=""/>
            <p:cNvSpPr/>
            <p:nvPr/>
          </p:nvSpPr>
          <p:spPr>
            <a:xfrm>
              <a:off x="5105520" y="3962520"/>
              <a:ext cx="289548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KÖTELEZETTSÉGE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43560" y="3962520"/>
              <a:ext cx="56196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F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838080" y="3962520"/>
            <a:ext cx="29718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04920" y="3962520"/>
            <a:ext cx="5331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4543560" y="3687840"/>
            <a:ext cx="3457440" cy="274680"/>
            <a:chOff x="4543560" y="3687840"/>
            <a:chExt cx="3457440" cy="274680"/>
          </a:xfrm>
        </p:grpSpPr>
        <p:sp>
          <p:nvSpPr>
            <p:cNvPr id="568" name=""/>
            <p:cNvSpPr/>
            <p:nvPr/>
          </p:nvSpPr>
          <p:spPr>
            <a:xfrm>
              <a:off x="4543560" y="3687840"/>
              <a:ext cx="56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E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105520" y="3687840"/>
              <a:ext cx="2895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CÉLTARTALÉKO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304920" y="3687840"/>
            <a:ext cx="533160" cy="2746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IV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04920" y="3276720"/>
            <a:ext cx="5331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II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04920" y="2971800"/>
            <a:ext cx="533160" cy="304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I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04920" y="2666880"/>
            <a:ext cx="533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838080" y="3687840"/>
            <a:ext cx="2971800" cy="2746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PÉNZESZKÖZÖK  (70+40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38080" y="3276720"/>
            <a:ext cx="29718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ÉRTÉKPAPÍRO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38080" y="2971800"/>
            <a:ext cx="2971800" cy="304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KÖVETELÉSEK  (60-40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38080" y="26668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KÉSZLET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304920" y="2346480"/>
            <a:ext cx="3504960" cy="320400"/>
            <a:chOff x="304920" y="2346480"/>
            <a:chExt cx="3504960" cy="320400"/>
          </a:xfrm>
        </p:grpSpPr>
        <p:sp>
          <p:nvSpPr>
            <p:cNvPr id="579" name=""/>
            <p:cNvSpPr/>
            <p:nvPr/>
          </p:nvSpPr>
          <p:spPr>
            <a:xfrm>
              <a:off x="304920" y="2346480"/>
              <a:ext cx="533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B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38080" y="2346480"/>
              <a:ext cx="2971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FORGÓESZKÖZÖ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8001000" y="5035680"/>
            <a:ext cx="6858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1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8001000" y="4624560"/>
            <a:ext cx="6858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17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8001000" y="4213080"/>
            <a:ext cx="6858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8001000" y="3962520"/>
            <a:ext cx="6858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8001000" y="3687840"/>
            <a:ext cx="6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5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8001000" y="3276720"/>
            <a:ext cx="6858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8001000" y="2971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8001000" y="26668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8001000" y="2346480"/>
            <a:ext cx="685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001000" y="1935000"/>
            <a:ext cx="6858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8001000" y="1523880"/>
            <a:ext cx="6858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8001000" y="12193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8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4543560" y="1219320"/>
            <a:ext cx="3457440" cy="2468520"/>
            <a:chOff x="4543560" y="1219320"/>
            <a:chExt cx="3457440" cy="2468520"/>
          </a:xfrm>
        </p:grpSpPr>
        <p:sp>
          <p:nvSpPr>
            <p:cNvPr id="594" name=""/>
            <p:cNvSpPr/>
            <p:nvPr/>
          </p:nvSpPr>
          <p:spPr>
            <a:xfrm>
              <a:off x="4543560" y="3276720"/>
              <a:ext cx="5619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VI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543560" y="2972160"/>
              <a:ext cx="561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V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543560" y="2667240"/>
              <a:ext cx="561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V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543560" y="2346480"/>
              <a:ext cx="561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V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543560" y="1935360"/>
              <a:ext cx="5619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I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543560" y="1524240"/>
              <a:ext cx="5619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543560" y="1219320"/>
              <a:ext cx="561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105520" y="3276720"/>
              <a:ext cx="289548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MÉRLEG SZERINTI EREDMÉN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105520" y="2972160"/>
              <a:ext cx="2895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ÉRTÉKELÉSI TARTALÉ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105520" y="2667240"/>
              <a:ext cx="2895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LEKÖTÖTT TARTALÉ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105520" y="2346480"/>
              <a:ext cx="28954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EREDMÉNYTARTALÉ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105520" y="1935360"/>
              <a:ext cx="289548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TŐKETARTALÉ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105520" y="1524240"/>
              <a:ext cx="289548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JEGYZETT, DE MÉG BE NEM FIZETETT TŐKE (-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105520" y="1219320"/>
              <a:ext cx="2895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JEGYZETT TŐK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304920" y="1219320"/>
            <a:ext cx="3504960" cy="1127160"/>
            <a:chOff x="304920" y="1219320"/>
            <a:chExt cx="3504960" cy="1127160"/>
          </a:xfrm>
        </p:grpSpPr>
        <p:sp>
          <p:nvSpPr>
            <p:cNvPr id="609" name=""/>
            <p:cNvSpPr/>
            <p:nvPr/>
          </p:nvSpPr>
          <p:spPr>
            <a:xfrm>
              <a:off x="304920" y="1935360"/>
              <a:ext cx="5331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I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4920" y="1524240"/>
              <a:ext cx="5331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04920" y="1219320"/>
              <a:ext cx="533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38080" y="1935360"/>
              <a:ext cx="29718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BEFEKTETETT PÉNZÜGY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ESZKÖZÖ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38080" y="1524240"/>
              <a:ext cx="29718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TÁRGYI ESZKÖZÖ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38080" y="1219320"/>
              <a:ext cx="2971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MMATERIÁLIS JAVA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543560" y="914400"/>
            <a:ext cx="4143240" cy="304560"/>
            <a:chOff x="4543560" y="914400"/>
            <a:chExt cx="4143240" cy="304560"/>
          </a:xfrm>
        </p:grpSpPr>
        <p:sp>
          <p:nvSpPr>
            <p:cNvPr id="616" name=""/>
            <p:cNvSpPr/>
            <p:nvPr/>
          </p:nvSpPr>
          <p:spPr>
            <a:xfrm>
              <a:off x="4543560" y="914400"/>
              <a:ext cx="561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D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001000" y="914400"/>
              <a:ext cx="685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05520" y="914400"/>
              <a:ext cx="2895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SAJÁT TŐK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304920" y="914400"/>
            <a:ext cx="4238640" cy="304560"/>
            <a:chOff x="304920" y="914400"/>
            <a:chExt cx="4238640" cy="304560"/>
          </a:xfrm>
        </p:grpSpPr>
        <p:sp>
          <p:nvSpPr>
            <p:cNvPr id="620" name=""/>
            <p:cNvSpPr/>
            <p:nvPr/>
          </p:nvSpPr>
          <p:spPr>
            <a:xfrm>
              <a:off x="304920" y="914400"/>
              <a:ext cx="533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A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880" y="914400"/>
              <a:ext cx="733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38080" y="914400"/>
              <a:ext cx="2971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BEFEKTETETT ESZKÖZÖ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304920" y="6348240"/>
            <a:ext cx="8381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8686800" y="914400"/>
            <a:ext cx="0" cy="54338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04920" y="914400"/>
            <a:ext cx="0" cy="54338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8001000" y="914400"/>
            <a:ext cx="0" cy="543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04920" y="5897520"/>
            <a:ext cx="8381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809880" y="4624560"/>
            <a:ext cx="733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809880" y="5035680"/>
            <a:ext cx="733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809880" y="5446800"/>
            <a:ext cx="7336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809880" y="4191120"/>
            <a:ext cx="733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809880" y="3962520"/>
            <a:ext cx="7336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809880" y="3687840"/>
            <a:ext cx="733680" cy="2746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11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809880" y="3276720"/>
            <a:ext cx="733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4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809880" y="2971800"/>
            <a:ext cx="733680" cy="304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809880" y="2666880"/>
            <a:ext cx="733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3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809880" y="2346480"/>
            <a:ext cx="733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809880" y="1905120"/>
            <a:ext cx="733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5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809880" y="1523880"/>
            <a:ext cx="733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59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809880" y="1219320"/>
            <a:ext cx="733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809880" y="914400"/>
            <a:ext cx="0" cy="543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543560" y="914400"/>
            <a:ext cx="0" cy="5433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304920" y="6324480"/>
            <a:ext cx="9067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Bookman Old Style"/>
              </a:rPr>
              <a:t>* A vállalkozó a szállítóval szembeni kötelezettségéből 20 e Ft-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Bookman Old Style"/>
              </a:rPr>
              <a:t>   </a:t>
            </a:r>
            <a:r>
              <a:rPr b="1" i="1" lang="en-US" sz="1800" spc="-1" strike="noStrike">
                <a:solidFill>
                  <a:srgbClr val="cc0000"/>
                </a:solidFill>
                <a:latin typeface="Bookman Old Style"/>
              </a:rPr>
              <a:t>hosszú lejáratú hitelből fizetett 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304920" y="123840"/>
            <a:ext cx="8681760" cy="804960"/>
            <a:chOff x="304920" y="123840"/>
            <a:chExt cx="8681760" cy="804960"/>
          </a:xfrm>
        </p:grpSpPr>
        <p:sp>
          <p:nvSpPr>
            <p:cNvPr id="645" name=""/>
            <p:cNvSpPr/>
            <p:nvPr/>
          </p:nvSpPr>
          <p:spPr>
            <a:xfrm>
              <a:off x="6629400" y="53352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man Old Style"/>
                </a:rPr>
                <a:t>PASSZÍVÁ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81080" y="533520"/>
              <a:ext cx="46483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man Old Style"/>
                </a:rPr>
                <a:t>(FORRÁSOK VÁLTOZÁSA UTÁN*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80880" y="533520"/>
              <a:ext cx="16002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man Old Style"/>
                </a:rPr>
                <a:t>AKTÍVÁ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80880" y="533520"/>
              <a:ext cx="16002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80880" y="928800"/>
              <a:ext cx="16002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80880" y="53352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686800" y="53352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981080" y="533520"/>
              <a:ext cx="46483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981080" y="928800"/>
              <a:ext cx="46483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629400" y="533520"/>
              <a:ext cx="20574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629400" y="928800"/>
              <a:ext cx="20574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04920" y="914400"/>
              <a:ext cx="8381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077320" y="123840"/>
              <a:ext cx="909360" cy="3333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5-6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505320" y="123840"/>
              <a:ext cx="1828800" cy="4381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MÉRLE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838080" y="4624560"/>
            <a:ext cx="29718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04920" y="4624560"/>
            <a:ext cx="5331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838080" y="5035680"/>
            <a:ext cx="29718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04920" y="5035680"/>
            <a:ext cx="5331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4543560" y="5492880"/>
            <a:ext cx="4143240" cy="450720"/>
            <a:chOff x="4543560" y="5492880"/>
            <a:chExt cx="4143240" cy="450720"/>
          </a:xfrm>
        </p:grpSpPr>
        <p:sp>
          <p:nvSpPr>
            <p:cNvPr id="664" name=""/>
            <p:cNvSpPr/>
            <p:nvPr/>
          </p:nvSpPr>
          <p:spPr>
            <a:xfrm>
              <a:off x="8001000" y="5492880"/>
              <a:ext cx="6858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105520" y="5492880"/>
              <a:ext cx="28954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PASSZÍV IDŐBELI ELHATÁROLÁSO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543560" y="5492880"/>
              <a:ext cx="56196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G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"/>
          <p:cNvSpPr/>
          <p:nvPr/>
        </p:nvSpPr>
        <p:spPr>
          <a:xfrm>
            <a:off x="838080" y="544680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AKTÍV IDŐBELI ELHATÁROLÁSO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04920" y="5446800"/>
            <a:ext cx="533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4543560" y="5897520"/>
            <a:ext cx="4143240" cy="450720"/>
            <a:chOff x="4543560" y="5897520"/>
            <a:chExt cx="4143240" cy="450720"/>
          </a:xfrm>
        </p:grpSpPr>
        <p:sp>
          <p:nvSpPr>
            <p:cNvPr id="670" name=""/>
            <p:cNvSpPr/>
            <p:nvPr/>
          </p:nvSpPr>
          <p:spPr>
            <a:xfrm>
              <a:off x="8001000" y="5897520"/>
              <a:ext cx="6858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114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05520" y="5897520"/>
              <a:ext cx="28954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FORRÁSOK ÖSSZES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543560" y="5897520"/>
              <a:ext cx="56196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304920" y="5897520"/>
            <a:ext cx="4238640" cy="450720"/>
            <a:chOff x="304920" y="5897520"/>
            <a:chExt cx="4238640" cy="450720"/>
          </a:xfrm>
        </p:grpSpPr>
        <p:sp>
          <p:nvSpPr>
            <p:cNvPr id="674" name=""/>
            <p:cNvSpPr/>
            <p:nvPr/>
          </p:nvSpPr>
          <p:spPr>
            <a:xfrm>
              <a:off x="3809880" y="5897520"/>
              <a:ext cx="7336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114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38080" y="5897520"/>
              <a:ext cx="29718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ESZKÖZÖK ÖSSZES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04920" y="5897520"/>
              <a:ext cx="53316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5105520" y="4495680"/>
            <a:ext cx="2895480" cy="5335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HOSSZÚ LEJÁRATÚ KÖTELEZETTSÉG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(170+20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543560" y="4495680"/>
            <a:ext cx="561960" cy="5335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I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105520" y="4998960"/>
            <a:ext cx="2895480" cy="487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RÖVID LEJÁRATÚ KÖTELEZETTSÉG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(120-20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543560" y="4998960"/>
            <a:ext cx="561960" cy="487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II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105520" y="4160880"/>
            <a:ext cx="28954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HÁTRASOROLT KÖTELEZETTSÉG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543560" y="4160880"/>
            <a:ext cx="5619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838080" y="4213080"/>
            <a:ext cx="29718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04920" y="4213080"/>
            <a:ext cx="5331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4543560" y="3962520"/>
            <a:ext cx="3457440" cy="250560"/>
            <a:chOff x="4543560" y="3962520"/>
            <a:chExt cx="3457440" cy="250560"/>
          </a:xfrm>
        </p:grpSpPr>
        <p:sp>
          <p:nvSpPr>
            <p:cNvPr id="686" name=""/>
            <p:cNvSpPr/>
            <p:nvPr/>
          </p:nvSpPr>
          <p:spPr>
            <a:xfrm>
              <a:off x="5105520" y="3962520"/>
              <a:ext cx="289548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KÖTELEZETTSÉGE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543560" y="3962520"/>
              <a:ext cx="56196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F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"/>
          <p:cNvSpPr/>
          <p:nvPr/>
        </p:nvSpPr>
        <p:spPr>
          <a:xfrm>
            <a:off x="838080" y="3962520"/>
            <a:ext cx="29718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04920" y="3962520"/>
            <a:ext cx="5331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4543560" y="3687840"/>
            <a:ext cx="3457440" cy="274680"/>
            <a:chOff x="4543560" y="3687840"/>
            <a:chExt cx="3457440" cy="274680"/>
          </a:xfrm>
        </p:grpSpPr>
        <p:sp>
          <p:nvSpPr>
            <p:cNvPr id="691" name=""/>
            <p:cNvSpPr/>
            <p:nvPr/>
          </p:nvSpPr>
          <p:spPr>
            <a:xfrm>
              <a:off x="4543560" y="3687840"/>
              <a:ext cx="56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E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105520" y="3687840"/>
              <a:ext cx="2895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CÉLTARTALÉKO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04920" y="3687840"/>
            <a:ext cx="53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IV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04920" y="3276720"/>
            <a:ext cx="5331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II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4920" y="2971800"/>
            <a:ext cx="533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I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04920" y="2666880"/>
            <a:ext cx="533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838080" y="3687840"/>
            <a:ext cx="297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PÉNZESZKÖZÖ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838080" y="3276720"/>
            <a:ext cx="29718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ÉRTÉKPAPÍRO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838080" y="297180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KÖVETELÉS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838080" y="26668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KÉSZLET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304920" y="2346480"/>
            <a:ext cx="3504960" cy="320400"/>
            <a:chOff x="304920" y="2346480"/>
            <a:chExt cx="3504960" cy="320400"/>
          </a:xfrm>
        </p:grpSpPr>
        <p:sp>
          <p:nvSpPr>
            <p:cNvPr id="702" name=""/>
            <p:cNvSpPr/>
            <p:nvPr/>
          </p:nvSpPr>
          <p:spPr>
            <a:xfrm>
              <a:off x="304920" y="2346480"/>
              <a:ext cx="533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B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38080" y="2346480"/>
              <a:ext cx="2971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FORGÓESZKÖZÖ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8001000" y="4998960"/>
            <a:ext cx="685800" cy="487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1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8001000" y="4495680"/>
            <a:ext cx="685800" cy="5335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19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8001000" y="4160880"/>
            <a:ext cx="6858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8001000" y="3962520"/>
            <a:ext cx="6858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8001000" y="3687840"/>
            <a:ext cx="6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5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8001000" y="3276720"/>
            <a:ext cx="6858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8001000" y="2971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8001000" y="26668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8001000" y="2346480"/>
            <a:ext cx="685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8001000" y="1935000"/>
            <a:ext cx="6858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001000" y="1523880"/>
            <a:ext cx="6858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001000" y="12193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8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4543560" y="1219320"/>
            <a:ext cx="3457440" cy="2468520"/>
            <a:chOff x="4543560" y="1219320"/>
            <a:chExt cx="3457440" cy="2468520"/>
          </a:xfrm>
        </p:grpSpPr>
        <p:sp>
          <p:nvSpPr>
            <p:cNvPr id="717" name=""/>
            <p:cNvSpPr/>
            <p:nvPr/>
          </p:nvSpPr>
          <p:spPr>
            <a:xfrm>
              <a:off x="4543560" y="3276720"/>
              <a:ext cx="5619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VI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543560" y="2972160"/>
              <a:ext cx="561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V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543560" y="2667240"/>
              <a:ext cx="561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V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543560" y="2346480"/>
              <a:ext cx="561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V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543560" y="1935360"/>
              <a:ext cx="5619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I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543560" y="1524240"/>
              <a:ext cx="5619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43560" y="1219320"/>
              <a:ext cx="561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105520" y="3276720"/>
              <a:ext cx="289548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MÉRLEG SZERINTI EREDMÉN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105520" y="2972160"/>
              <a:ext cx="2895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ÉRTÉKELÉSI TARTALÉ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105520" y="2667240"/>
              <a:ext cx="2895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LEKÖTÖTT TARTALÉ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105520" y="2346480"/>
              <a:ext cx="28954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EREDMÉNYTARTALÉ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105520" y="1935360"/>
              <a:ext cx="289548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TŐKETARTALÉ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105520" y="1524240"/>
              <a:ext cx="289548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JEGYZETT, DE MÉG BE NEM FIZETETT TŐKE (-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105520" y="1219320"/>
              <a:ext cx="2895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JEGYZETT TŐK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304920" y="1219320"/>
            <a:ext cx="3504960" cy="1127160"/>
            <a:chOff x="304920" y="1219320"/>
            <a:chExt cx="3504960" cy="1127160"/>
          </a:xfrm>
        </p:grpSpPr>
        <p:sp>
          <p:nvSpPr>
            <p:cNvPr id="732" name=""/>
            <p:cNvSpPr/>
            <p:nvPr/>
          </p:nvSpPr>
          <p:spPr>
            <a:xfrm>
              <a:off x="304920" y="1935360"/>
              <a:ext cx="5331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I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04920" y="1524240"/>
              <a:ext cx="5331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04920" y="1219320"/>
              <a:ext cx="533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38080" y="1935360"/>
              <a:ext cx="29718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BEFEKTETETT PÉNZÜGY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ESZKÖZÖ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38080" y="1524240"/>
              <a:ext cx="29718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TÁRGYI ESZKÖZÖ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38080" y="1219320"/>
              <a:ext cx="2971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MMATERIÁLIS JAVA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4543560" y="914400"/>
            <a:ext cx="4143240" cy="304560"/>
            <a:chOff x="4543560" y="914400"/>
            <a:chExt cx="4143240" cy="304560"/>
          </a:xfrm>
        </p:grpSpPr>
        <p:sp>
          <p:nvSpPr>
            <p:cNvPr id="739" name=""/>
            <p:cNvSpPr/>
            <p:nvPr/>
          </p:nvSpPr>
          <p:spPr>
            <a:xfrm>
              <a:off x="4543560" y="914400"/>
              <a:ext cx="561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D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001000" y="914400"/>
              <a:ext cx="685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105520" y="914400"/>
              <a:ext cx="2895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SAJÁT TŐK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304920" y="914400"/>
            <a:ext cx="4238640" cy="304560"/>
            <a:chOff x="304920" y="914400"/>
            <a:chExt cx="4238640" cy="304560"/>
          </a:xfrm>
        </p:grpSpPr>
        <p:sp>
          <p:nvSpPr>
            <p:cNvPr id="743" name=""/>
            <p:cNvSpPr/>
            <p:nvPr/>
          </p:nvSpPr>
          <p:spPr>
            <a:xfrm>
              <a:off x="304920" y="914400"/>
              <a:ext cx="533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A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809880" y="914400"/>
              <a:ext cx="733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38080" y="914400"/>
              <a:ext cx="2971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BEFEKTETETT ESZKÖZÖ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304920" y="6348240"/>
            <a:ext cx="8381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686800" y="914400"/>
            <a:ext cx="0" cy="54338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04920" y="914400"/>
            <a:ext cx="0" cy="54338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8001000" y="914400"/>
            <a:ext cx="0" cy="543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04920" y="5897520"/>
            <a:ext cx="8381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809880" y="4624560"/>
            <a:ext cx="733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809880" y="5035680"/>
            <a:ext cx="733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809880" y="5446800"/>
            <a:ext cx="7336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809880" y="4191120"/>
            <a:ext cx="733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809880" y="3962520"/>
            <a:ext cx="7336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809880" y="368784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11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809880" y="3276720"/>
            <a:ext cx="733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4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809880" y="2971800"/>
            <a:ext cx="733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809880" y="2666880"/>
            <a:ext cx="733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3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809880" y="2346480"/>
            <a:ext cx="733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809880" y="1935000"/>
            <a:ext cx="7336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5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809880" y="1523880"/>
            <a:ext cx="733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59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809880" y="1219320"/>
            <a:ext cx="733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809880" y="914400"/>
            <a:ext cx="0" cy="543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4543560" y="914400"/>
            <a:ext cx="0" cy="5433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9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152280" y="632448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Bookman Old Style"/>
              </a:rPr>
              <a:t>* A vállalkozó 10 e Ft értékben kimutatott készletet 15 e Ft-ért elado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304920" y="123840"/>
            <a:ext cx="8681760" cy="804960"/>
            <a:chOff x="304920" y="123840"/>
            <a:chExt cx="8681760" cy="804960"/>
          </a:xfrm>
        </p:grpSpPr>
        <p:sp>
          <p:nvSpPr>
            <p:cNvPr id="768" name=""/>
            <p:cNvSpPr/>
            <p:nvPr/>
          </p:nvSpPr>
          <p:spPr>
            <a:xfrm>
              <a:off x="6629400" y="53352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man Old Style"/>
                </a:rPr>
                <a:t>PASSZÍVÁ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752480" y="457200"/>
              <a:ext cx="5334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7000"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ookman Old Style"/>
                </a:rPr>
                <a:t>(ESZKÖZÖK KÖRFORGÁSÁVAL EGYIDEJ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ookman Old Style"/>
                </a:rPr>
                <a:t>ESZKÖZBEVONÁS UTÁN*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80880" y="533520"/>
              <a:ext cx="1447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man Old Style"/>
                </a:rPr>
                <a:t>AKTÍVÁ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80880" y="533520"/>
              <a:ext cx="16002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80880" y="928800"/>
              <a:ext cx="16002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0880" y="53352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686800" y="53352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981080" y="533520"/>
              <a:ext cx="46483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981080" y="928800"/>
              <a:ext cx="46483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629400" y="533520"/>
              <a:ext cx="20574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629400" y="928800"/>
              <a:ext cx="20574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04920" y="914400"/>
              <a:ext cx="8381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077320" y="123840"/>
              <a:ext cx="909360" cy="3333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5-6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505320" y="123840"/>
              <a:ext cx="1828800" cy="3333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MÉRLE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2" name=""/>
          <p:cNvSpPr/>
          <p:nvPr/>
        </p:nvSpPr>
        <p:spPr>
          <a:xfrm>
            <a:off x="838080" y="4624560"/>
            <a:ext cx="29718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04920" y="4624560"/>
            <a:ext cx="5331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38080" y="5035680"/>
            <a:ext cx="29718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04920" y="5035680"/>
            <a:ext cx="5331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4543560" y="5446800"/>
            <a:ext cx="4143240" cy="450720"/>
            <a:chOff x="4543560" y="5446800"/>
            <a:chExt cx="4143240" cy="450720"/>
          </a:xfrm>
        </p:grpSpPr>
        <p:sp>
          <p:nvSpPr>
            <p:cNvPr id="787" name=""/>
            <p:cNvSpPr/>
            <p:nvPr/>
          </p:nvSpPr>
          <p:spPr>
            <a:xfrm>
              <a:off x="8001000" y="5446800"/>
              <a:ext cx="6858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105520" y="5446800"/>
              <a:ext cx="28954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PASSZÍV IDŐBELI ELHATÁROLÁSO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543560" y="5446800"/>
              <a:ext cx="56196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G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"/>
          <p:cNvSpPr/>
          <p:nvPr/>
        </p:nvSpPr>
        <p:spPr>
          <a:xfrm>
            <a:off x="838080" y="544680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AKTÍV IDŐBELI ELHATÁROLÁSO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04920" y="5446800"/>
            <a:ext cx="533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4543560" y="5897520"/>
            <a:ext cx="4143240" cy="450720"/>
            <a:chOff x="4543560" y="5897520"/>
            <a:chExt cx="4143240" cy="450720"/>
          </a:xfrm>
        </p:grpSpPr>
        <p:sp>
          <p:nvSpPr>
            <p:cNvPr id="793" name=""/>
            <p:cNvSpPr/>
            <p:nvPr/>
          </p:nvSpPr>
          <p:spPr>
            <a:xfrm>
              <a:off x="8001000" y="5897520"/>
              <a:ext cx="685800" cy="450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114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105520" y="5897520"/>
              <a:ext cx="2895480" cy="450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FORRÁSOK ÖSSZES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43560" y="5897520"/>
              <a:ext cx="561960" cy="450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304920" y="5897520"/>
            <a:ext cx="4238640" cy="450720"/>
            <a:chOff x="304920" y="5897520"/>
            <a:chExt cx="4238640" cy="450720"/>
          </a:xfrm>
        </p:grpSpPr>
        <p:sp>
          <p:nvSpPr>
            <p:cNvPr id="797" name=""/>
            <p:cNvSpPr/>
            <p:nvPr/>
          </p:nvSpPr>
          <p:spPr>
            <a:xfrm>
              <a:off x="3809880" y="5897520"/>
              <a:ext cx="733680" cy="450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114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38080" y="5897520"/>
              <a:ext cx="2971800" cy="450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ESZKÖZÖK ÖSSZES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04920" y="5897520"/>
              <a:ext cx="533160" cy="450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5105520" y="4624560"/>
            <a:ext cx="28954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HOSSZÚ LEJÁRATÚ KÖTELEZETTSÉG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543560" y="4624560"/>
            <a:ext cx="5619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I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105520" y="5035680"/>
            <a:ext cx="28954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RÖVID LEJÁRATÚ KÖTELEZETTSÉG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543560" y="5035680"/>
            <a:ext cx="5619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II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105520" y="4213080"/>
            <a:ext cx="28954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HÁTRASOROLT KÖTELEZETTSÉG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543560" y="4213080"/>
            <a:ext cx="5619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838080" y="4213080"/>
            <a:ext cx="29718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04920" y="4213080"/>
            <a:ext cx="5331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4543560" y="3962520"/>
            <a:ext cx="3457440" cy="250560"/>
            <a:chOff x="4543560" y="3962520"/>
            <a:chExt cx="3457440" cy="250560"/>
          </a:xfrm>
        </p:grpSpPr>
        <p:sp>
          <p:nvSpPr>
            <p:cNvPr id="809" name=""/>
            <p:cNvSpPr/>
            <p:nvPr/>
          </p:nvSpPr>
          <p:spPr>
            <a:xfrm>
              <a:off x="5105520" y="3962520"/>
              <a:ext cx="289548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KÖTELEZETTSÉGE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43560" y="3962520"/>
              <a:ext cx="56196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F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"/>
          <p:cNvSpPr/>
          <p:nvPr/>
        </p:nvSpPr>
        <p:spPr>
          <a:xfrm>
            <a:off x="838080" y="3962520"/>
            <a:ext cx="29718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04920" y="3962520"/>
            <a:ext cx="5331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4543560" y="3687840"/>
            <a:ext cx="3457440" cy="274680"/>
            <a:chOff x="4543560" y="3687840"/>
            <a:chExt cx="3457440" cy="274680"/>
          </a:xfrm>
        </p:grpSpPr>
        <p:sp>
          <p:nvSpPr>
            <p:cNvPr id="814" name=""/>
            <p:cNvSpPr/>
            <p:nvPr/>
          </p:nvSpPr>
          <p:spPr>
            <a:xfrm>
              <a:off x="4543560" y="3687840"/>
              <a:ext cx="56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E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105520" y="3687840"/>
              <a:ext cx="2895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CÉLTARTALÉKO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304920" y="3687840"/>
            <a:ext cx="53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IV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04920" y="3276720"/>
            <a:ext cx="5331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II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04920" y="2971800"/>
            <a:ext cx="533160" cy="304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I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04920" y="2666880"/>
            <a:ext cx="53316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838080" y="3687840"/>
            <a:ext cx="297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PÉNZESZKÖZÖ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838080" y="3276720"/>
            <a:ext cx="29718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ÉRTÉKPAPÍRO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838080" y="2971800"/>
            <a:ext cx="2971800" cy="304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KÖVETELÉSEK  (20+15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838080" y="2666880"/>
            <a:ext cx="297180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KÉSZLETEK  (320-10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304920" y="2346480"/>
            <a:ext cx="3504960" cy="320400"/>
            <a:chOff x="304920" y="2346480"/>
            <a:chExt cx="3504960" cy="320400"/>
          </a:xfrm>
        </p:grpSpPr>
        <p:sp>
          <p:nvSpPr>
            <p:cNvPr id="825" name=""/>
            <p:cNvSpPr/>
            <p:nvPr/>
          </p:nvSpPr>
          <p:spPr>
            <a:xfrm>
              <a:off x="304920" y="2346480"/>
              <a:ext cx="533160" cy="320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B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838080" y="2346480"/>
              <a:ext cx="2971800" cy="320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FORGÓESZKÖZÖ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7" name=""/>
          <p:cNvSpPr/>
          <p:nvPr/>
        </p:nvSpPr>
        <p:spPr>
          <a:xfrm>
            <a:off x="8001000" y="5035680"/>
            <a:ext cx="6858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1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8001000" y="4624560"/>
            <a:ext cx="6858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19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8001000" y="4213080"/>
            <a:ext cx="6858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8001000" y="3962520"/>
            <a:ext cx="6858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8001000" y="3687840"/>
            <a:ext cx="6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5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8001000" y="2971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8001000" y="26668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8001000" y="2346480"/>
            <a:ext cx="685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8001000" y="1935000"/>
            <a:ext cx="6858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8001000" y="1523880"/>
            <a:ext cx="6858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8001000" y="12193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8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543560" y="2971800"/>
            <a:ext cx="561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V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543560" y="2666880"/>
            <a:ext cx="561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V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543560" y="2346480"/>
            <a:ext cx="561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IV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543560" y="1935000"/>
            <a:ext cx="5619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II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543560" y="1523880"/>
            <a:ext cx="5619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I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4543560" y="1219320"/>
            <a:ext cx="56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4543560" y="3276720"/>
            <a:ext cx="4143240" cy="411120"/>
            <a:chOff x="4543560" y="3276720"/>
            <a:chExt cx="4143240" cy="411120"/>
          </a:xfrm>
        </p:grpSpPr>
        <p:sp>
          <p:nvSpPr>
            <p:cNvPr id="845" name=""/>
            <p:cNvSpPr/>
            <p:nvPr/>
          </p:nvSpPr>
          <p:spPr>
            <a:xfrm>
              <a:off x="8001000" y="3276720"/>
              <a:ext cx="685800" cy="4111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543560" y="3276720"/>
              <a:ext cx="561960" cy="4111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VI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105520" y="3276720"/>
              <a:ext cx="2895480" cy="4111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MÉRLEG SZERINTI EREDMÉNY  (0+5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"/>
          <p:cNvSpPr/>
          <p:nvPr/>
        </p:nvSpPr>
        <p:spPr>
          <a:xfrm>
            <a:off x="5105520" y="2971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ÉRTÉKELÉSI TARTALÉ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5105520" y="26668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LEKÖTÖTT TARTALÉ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105520" y="23464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EREDMÉNYTARTALÉ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105520" y="1935000"/>
            <a:ext cx="28954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TŐKETARTALÉ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105520" y="1523880"/>
            <a:ext cx="28954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JEGYZETT, DE MÉG BE NEM FIZETETT TŐKE (-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105520" y="1219320"/>
            <a:ext cx="289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JEGYZETT TŐK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304920" y="1219320"/>
            <a:ext cx="3504960" cy="1127160"/>
            <a:chOff x="304920" y="1219320"/>
            <a:chExt cx="3504960" cy="1127160"/>
          </a:xfrm>
        </p:grpSpPr>
        <p:sp>
          <p:nvSpPr>
            <p:cNvPr id="855" name=""/>
            <p:cNvSpPr/>
            <p:nvPr/>
          </p:nvSpPr>
          <p:spPr>
            <a:xfrm>
              <a:off x="304920" y="1935360"/>
              <a:ext cx="5331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I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04920" y="1524240"/>
              <a:ext cx="5331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04920" y="1219320"/>
              <a:ext cx="533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38080" y="1935360"/>
              <a:ext cx="29718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BEFEKTETETT PÉNZÜGY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ESZKÖZÖ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38080" y="1524240"/>
              <a:ext cx="29718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TÁRGYI ESZKÖZÖ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38080" y="1219320"/>
              <a:ext cx="2971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MMATERIÁLIS JAVA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1" name=""/>
          <p:cNvSpPr/>
          <p:nvPr/>
        </p:nvSpPr>
        <p:spPr>
          <a:xfrm>
            <a:off x="4543560" y="914400"/>
            <a:ext cx="561960" cy="304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8001000" y="9144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105520" y="914400"/>
            <a:ext cx="2895480" cy="304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SAJÁT TŐK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304920" y="914400"/>
            <a:ext cx="4238640" cy="304560"/>
            <a:chOff x="304920" y="914400"/>
            <a:chExt cx="4238640" cy="304560"/>
          </a:xfrm>
        </p:grpSpPr>
        <p:sp>
          <p:nvSpPr>
            <p:cNvPr id="865" name=""/>
            <p:cNvSpPr/>
            <p:nvPr/>
          </p:nvSpPr>
          <p:spPr>
            <a:xfrm>
              <a:off x="304920" y="914400"/>
              <a:ext cx="533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A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809880" y="914400"/>
              <a:ext cx="733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38080" y="914400"/>
              <a:ext cx="2971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BEFEKTETETT ESZKÖZÖ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304920" y="6348240"/>
            <a:ext cx="8381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8686800" y="914400"/>
            <a:ext cx="0" cy="54338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04920" y="914400"/>
            <a:ext cx="0" cy="54338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8001000" y="914400"/>
            <a:ext cx="0" cy="543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04920" y="5897520"/>
            <a:ext cx="8381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809880" y="4624560"/>
            <a:ext cx="733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809880" y="5035680"/>
            <a:ext cx="733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809880" y="5446800"/>
            <a:ext cx="7336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809880" y="4191120"/>
            <a:ext cx="733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809880" y="3962520"/>
            <a:ext cx="7336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3809880" y="368784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11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3809880" y="3276720"/>
            <a:ext cx="733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4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809880" y="2971800"/>
            <a:ext cx="733680" cy="304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3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809880" y="2666880"/>
            <a:ext cx="73368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31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809880" y="2346480"/>
            <a:ext cx="733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3809880" y="1935000"/>
            <a:ext cx="7336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5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809880" y="1523880"/>
            <a:ext cx="733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59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809880" y="1219320"/>
            <a:ext cx="733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3809880" y="914400"/>
            <a:ext cx="0" cy="543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543560" y="914400"/>
            <a:ext cx="0" cy="5433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572000" y="914400"/>
            <a:ext cx="3657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152280" y="632448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Bookman Old Style"/>
              </a:rPr>
              <a:t>* A vállalkozó 50 e Ft értékben kimutatott készletet 48 e Ft-ért elado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304920" y="123840"/>
            <a:ext cx="8681760" cy="804960"/>
            <a:chOff x="304920" y="123840"/>
            <a:chExt cx="8681760" cy="804960"/>
          </a:xfrm>
        </p:grpSpPr>
        <p:sp>
          <p:nvSpPr>
            <p:cNvPr id="891" name=""/>
            <p:cNvSpPr/>
            <p:nvPr/>
          </p:nvSpPr>
          <p:spPr>
            <a:xfrm>
              <a:off x="6629400" y="53352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man Old Style"/>
                </a:rPr>
                <a:t>PASSZÍVÁ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752480" y="457200"/>
              <a:ext cx="5334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7000"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ookman Old Style"/>
                </a:rPr>
                <a:t>(ESZKÖZÖK KÖRFORGÁSÁVAL EGYIDEJ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ookman Old Style"/>
                </a:rPr>
                <a:t>ESZKÖZKIVONÁS UTÁN*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80880" y="533520"/>
              <a:ext cx="1447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man Old Style"/>
                </a:rPr>
                <a:t>AKTÍVÁ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80880" y="533520"/>
              <a:ext cx="16002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80880" y="928800"/>
              <a:ext cx="16002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80880" y="53352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686800" y="53352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981080" y="533520"/>
              <a:ext cx="46483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981080" y="928800"/>
              <a:ext cx="46483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629400" y="533520"/>
              <a:ext cx="20574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629400" y="928800"/>
              <a:ext cx="20574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04920" y="914400"/>
              <a:ext cx="8381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8077320" y="123840"/>
              <a:ext cx="909360" cy="3333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5-6.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505320" y="123840"/>
              <a:ext cx="1828800" cy="3333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MÉRLE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838080" y="4624560"/>
            <a:ext cx="29718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04920" y="4624560"/>
            <a:ext cx="5331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838080" y="5035680"/>
            <a:ext cx="29718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04920" y="5035680"/>
            <a:ext cx="5331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4543560" y="5446800"/>
            <a:ext cx="4143240" cy="450720"/>
            <a:chOff x="4543560" y="5446800"/>
            <a:chExt cx="4143240" cy="450720"/>
          </a:xfrm>
        </p:grpSpPr>
        <p:sp>
          <p:nvSpPr>
            <p:cNvPr id="910" name=""/>
            <p:cNvSpPr/>
            <p:nvPr/>
          </p:nvSpPr>
          <p:spPr>
            <a:xfrm>
              <a:off x="8001000" y="5446800"/>
              <a:ext cx="6858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105520" y="5446800"/>
              <a:ext cx="28954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PASSZÍV IDŐBELI ELHATÁROLÁSO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543560" y="5446800"/>
              <a:ext cx="56196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G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3" name=""/>
          <p:cNvSpPr/>
          <p:nvPr/>
        </p:nvSpPr>
        <p:spPr>
          <a:xfrm>
            <a:off x="838080" y="544680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AKTÍV IDŐBELI ELHATÁROLÁSO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304920" y="5446800"/>
            <a:ext cx="533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4543560" y="5897520"/>
            <a:ext cx="4143240" cy="450720"/>
            <a:chOff x="4543560" y="5897520"/>
            <a:chExt cx="4143240" cy="450720"/>
          </a:xfrm>
        </p:grpSpPr>
        <p:sp>
          <p:nvSpPr>
            <p:cNvPr id="916" name=""/>
            <p:cNvSpPr/>
            <p:nvPr/>
          </p:nvSpPr>
          <p:spPr>
            <a:xfrm>
              <a:off x="8001000" y="5897520"/>
              <a:ext cx="685800" cy="450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114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105520" y="5897520"/>
              <a:ext cx="2895480" cy="450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FORRÁSOK ÖSSZES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543560" y="5897520"/>
              <a:ext cx="561960" cy="450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304920" y="5897520"/>
            <a:ext cx="4238640" cy="450720"/>
            <a:chOff x="304920" y="5897520"/>
            <a:chExt cx="4238640" cy="450720"/>
          </a:xfrm>
        </p:grpSpPr>
        <p:sp>
          <p:nvSpPr>
            <p:cNvPr id="920" name=""/>
            <p:cNvSpPr/>
            <p:nvPr/>
          </p:nvSpPr>
          <p:spPr>
            <a:xfrm>
              <a:off x="3809880" y="5897520"/>
              <a:ext cx="733680" cy="450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114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38080" y="5897520"/>
              <a:ext cx="2971800" cy="450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ESZKÖZÖK ÖSSZES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04920" y="5897520"/>
              <a:ext cx="533160" cy="450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5105520" y="4624560"/>
            <a:ext cx="28954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HOSSZÚ LEJÁRATÚ KÖTELEZETTSÉG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543560" y="4624560"/>
            <a:ext cx="5619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I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105520" y="5035680"/>
            <a:ext cx="28954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RÖVID LEJÁRATÚ KÖTELEZETTSÉG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4543560" y="5035680"/>
            <a:ext cx="5619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II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5105520" y="4213080"/>
            <a:ext cx="28954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HÁTRASOROLT KÖTELEZETTSÉG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543560" y="4213080"/>
            <a:ext cx="5619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838080" y="4213080"/>
            <a:ext cx="29718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04920" y="4213080"/>
            <a:ext cx="5331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4543560" y="3962520"/>
            <a:ext cx="3457440" cy="250560"/>
            <a:chOff x="4543560" y="3962520"/>
            <a:chExt cx="3457440" cy="250560"/>
          </a:xfrm>
        </p:grpSpPr>
        <p:sp>
          <p:nvSpPr>
            <p:cNvPr id="932" name=""/>
            <p:cNvSpPr/>
            <p:nvPr/>
          </p:nvSpPr>
          <p:spPr>
            <a:xfrm>
              <a:off x="5105520" y="3962520"/>
              <a:ext cx="289548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KÖTELEZETTSÉGE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543560" y="3962520"/>
              <a:ext cx="56196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F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838080" y="3962520"/>
            <a:ext cx="29718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04920" y="3962520"/>
            <a:ext cx="5331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4543560" y="3687840"/>
            <a:ext cx="3457440" cy="274680"/>
            <a:chOff x="4543560" y="3687840"/>
            <a:chExt cx="3457440" cy="274680"/>
          </a:xfrm>
        </p:grpSpPr>
        <p:sp>
          <p:nvSpPr>
            <p:cNvPr id="937" name=""/>
            <p:cNvSpPr/>
            <p:nvPr/>
          </p:nvSpPr>
          <p:spPr>
            <a:xfrm>
              <a:off x="4543560" y="3687840"/>
              <a:ext cx="56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E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105520" y="3687840"/>
              <a:ext cx="2895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CÉLTARTALÉKO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9" name=""/>
          <p:cNvSpPr/>
          <p:nvPr/>
        </p:nvSpPr>
        <p:spPr>
          <a:xfrm>
            <a:off x="304920" y="3687840"/>
            <a:ext cx="53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IV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04920" y="3276720"/>
            <a:ext cx="5331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II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04920" y="2971800"/>
            <a:ext cx="533160" cy="304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I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04920" y="2666880"/>
            <a:ext cx="53316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838080" y="3687840"/>
            <a:ext cx="297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PÉNZESZKÖZÖ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838080" y="3276720"/>
            <a:ext cx="29718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ÉRTÉKPAPÍRO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838080" y="2971800"/>
            <a:ext cx="2971800" cy="304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KÖVETELÉSEK  (35+48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838080" y="2666880"/>
            <a:ext cx="297180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KÉSZLETEK  (310-50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304920" y="2346480"/>
            <a:ext cx="3504960" cy="320400"/>
            <a:chOff x="304920" y="2346480"/>
            <a:chExt cx="3504960" cy="320400"/>
          </a:xfrm>
        </p:grpSpPr>
        <p:sp>
          <p:nvSpPr>
            <p:cNvPr id="948" name=""/>
            <p:cNvSpPr/>
            <p:nvPr/>
          </p:nvSpPr>
          <p:spPr>
            <a:xfrm>
              <a:off x="304920" y="2346480"/>
              <a:ext cx="533160" cy="320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B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838080" y="2346480"/>
              <a:ext cx="2971800" cy="320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FORGÓESZKÖZÖ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0" name=""/>
          <p:cNvSpPr/>
          <p:nvPr/>
        </p:nvSpPr>
        <p:spPr>
          <a:xfrm>
            <a:off x="8001000" y="5035680"/>
            <a:ext cx="6858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1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8001000" y="4624560"/>
            <a:ext cx="6858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19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8001000" y="4213080"/>
            <a:ext cx="6858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8001000" y="3962520"/>
            <a:ext cx="6858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8001000" y="3687840"/>
            <a:ext cx="6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5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8001000" y="2971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8001000" y="26668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8001000" y="2346480"/>
            <a:ext cx="685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8001000" y="1935000"/>
            <a:ext cx="6858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8001000" y="1523880"/>
            <a:ext cx="6858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001000" y="12193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8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543560" y="2971800"/>
            <a:ext cx="561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V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543560" y="2666880"/>
            <a:ext cx="561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V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4543560" y="2346480"/>
            <a:ext cx="561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IV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543560" y="1935000"/>
            <a:ext cx="5619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II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543560" y="1523880"/>
            <a:ext cx="5619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I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4543560" y="1219320"/>
            <a:ext cx="56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4543560" y="3276720"/>
            <a:ext cx="4143240" cy="411120"/>
            <a:chOff x="4543560" y="3276720"/>
            <a:chExt cx="4143240" cy="411120"/>
          </a:xfrm>
        </p:grpSpPr>
        <p:sp>
          <p:nvSpPr>
            <p:cNvPr id="968" name=""/>
            <p:cNvSpPr/>
            <p:nvPr/>
          </p:nvSpPr>
          <p:spPr>
            <a:xfrm>
              <a:off x="8001000" y="3276720"/>
              <a:ext cx="685800" cy="4111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543560" y="3276720"/>
              <a:ext cx="561960" cy="4111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VI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105520" y="3276720"/>
              <a:ext cx="2895480" cy="4111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MÉRLEG SZERINTI EREDMÉNY  (5-2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5105520" y="2971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ÉRTÉKELÉSI TARTALÉ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105520" y="26668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LEKÖTÖTT TARTALÉ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105520" y="23464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EREDMÉNYTARTALÉ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105520" y="1935000"/>
            <a:ext cx="28954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TŐKETARTALÉ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5105520" y="1523880"/>
            <a:ext cx="28954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JEGYZETT, DE MÉG BE NEM FIZETETT TŐKE (-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105520" y="1219320"/>
            <a:ext cx="289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JEGYZETT TŐK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304920" y="1219320"/>
            <a:ext cx="3504960" cy="1127160"/>
            <a:chOff x="304920" y="1219320"/>
            <a:chExt cx="3504960" cy="1127160"/>
          </a:xfrm>
        </p:grpSpPr>
        <p:sp>
          <p:nvSpPr>
            <p:cNvPr id="978" name=""/>
            <p:cNvSpPr/>
            <p:nvPr/>
          </p:nvSpPr>
          <p:spPr>
            <a:xfrm>
              <a:off x="304920" y="1935360"/>
              <a:ext cx="5331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I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04920" y="1524240"/>
              <a:ext cx="5331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04920" y="1219320"/>
              <a:ext cx="533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838080" y="1935360"/>
              <a:ext cx="29718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BEFEKTETETT PÉNZÜGY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ESZKÖZÖ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838080" y="1524240"/>
              <a:ext cx="29718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TÁRGYI ESZKÖZÖ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838080" y="1219320"/>
              <a:ext cx="2971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MMATERIÁLIS JAVA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4543560" y="914400"/>
            <a:ext cx="561960" cy="304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8001000" y="9144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5105520" y="914400"/>
            <a:ext cx="2895480" cy="304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SAJÁT TŐK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304920" y="914400"/>
            <a:ext cx="4238640" cy="304560"/>
            <a:chOff x="304920" y="914400"/>
            <a:chExt cx="4238640" cy="304560"/>
          </a:xfrm>
        </p:grpSpPr>
        <p:sp>
          <p:nvSpPr>
            <p:cNvPr id="988" name=""/>
            <p:cNvSpPr/>
            <p:nvPr/>
          </p:nvSpPr>
          <p:spPr>
            <a:xfrm>
              <a:off x="304920" y="914400"/>
              <a:ext cx="533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A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809880" y="914400"/>
              <a:ext cx="733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838080" y="914400"/>
              <a:ext cx="2971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BEFEKTETETT ESZKÖZÖ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"/>
          <p:cNvSpPr/>
          <p:nvPr/>
        </p:nvSpPr>
        <p:spPr>
          <a:xfrm>
            <a:off x="304920" y="6348240"/>
            <a:ext cx="8381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8686800" y="914400"/>
            <a:ext cx="0" cy="54338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04920" y="914400"/>
            <a:ext cx="0" cy="54338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8001000" y="914400"/>
            <a:ext cx="0" cy="543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04920" y="5897520"/>
            <a:ext cx="8381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809880" y="4624560"/>
            <a:ext cx="733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809880" y="5035680"/>
            <a:ext cx="733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809880" y="5446800"/>
            <a:ext cx="7336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809880" y="4191120"/>
            <a:ext cx="733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3809880" y="3962520"/>
            <a:ext cx="7336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809880" y="368784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11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809880" y="3276720"/>
            <a:ext cx="733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4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3809880" y="2971800"/>
            <a:ext cx="733680" cy="304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8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3809880" y="2666880"/>
            <a:ext cx="73368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26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809880" y="2346480"/>
            <a:ext cx="733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809880" y="1935000"/>
            <a:ext cx="7336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5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809880" y="1523880"/>
            <a:ext cx="733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59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809880" y="1219320"/>
            <a:ext cx="733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Bookman Old Style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3809880" y="914400"/>
            <a:ext cx="0" cy="543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4543560" y="914400"/>
            <a:ext cx="0" cy="5433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572000" y="914400"/>
            <a:ext cx="3657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LŐADÁS ELLENÖRZŐ KÉRDÉSEI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ZSGÁRA FELKÉSZÍTŐ KÉRDÉS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gyonváltozási típusok és hatásuk a mérleg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LŐADÁ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Felhasznált forrásai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zakirodalo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zma András: Vázlatok a számvitel tanulásához 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rváth Katalin: Számvitel a gyakorlatb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éb forráso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vábbi ismeretszerzést szolgáló forráso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ármilyen számviteli szakköny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755640" y="5516640"/>
            <a:ext cx="5708520" cy="1191240"/>
          </a:xfrm>
          <a:prstGeom prst="rect">
            <a:avLst/>
          </a:prstGeom>
          <a:gradFill rotWithShape="0">
            <a:gsLst>
              <a:gs pos="0">
                <a:srgbClr val="006666">
                  <a:alpha val="23137"/>
                </a:srgbClr>
              </a:gs>
              <a:gs pos="100000">
                <a:srgbClr val="002f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ffffff"/>
                </a:solidFill>
                <a:latin typeface="Arial"/>
              </a:rPr>
              <a:t>Előadás anyagát készítet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r. Bács Zolt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68000" y="1773000"/>
            <a:ext cx="815652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KÖSZÖNÖM A FIGYELMÜKET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KÖVETKEZŐ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LŐADÁS CÍME</a:t>
            </a:r>
            <a:br>
              <a:rPr sz="3600"/>
            </a:br>
            <a:r>
              <a:rPr b="0" lang="en-US" sz="3600" spc="-1" strike="noStrike">
                <a:solidFill>
                  <a:srgbClr val="993300"/>
                </a:solidFill>
                <a:latin typeface="Arial Black"/>
              </a:rPr>
              <a:t>Az eredmény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gazdasági művelet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LŐADÁS ÁTTEKINTÉ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49200" y="2514600"/>
            <a:ext cx="6980400" cy="1447920"/>
          </a:xfrm>
          <a:prstGeom prst="rect">
            <a:avLst/>
          </a:prstGeom>
          <a:gradFill rotWithShape="0">
            <a:gsLst>
              <a:gs pos="0">
                <a:srgbClr val="009999">
                  <a:alpha val="68235"/>
                </a:srgbClr>
              </a:gs>
              <a:gs pos="100000">
                <a:srgbClr val="007979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ffffff"/>
              </a:buClr>
              <a:buFont typeface="Bookman Old Styl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A GAZDASÁGI MŰVELETEK É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HATÁSUK A VAGYONRA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1295280" y="2666880"/>
            <a:ext cx="6096240" cy="3340080"/>
            <a:chOff x="1295280" y="2666880"/>
            <a:chExt cx="6096240" cy="3340080"/>
          </a:xfrm>
        </p:grpSpPr>
        <p:sp>
          <p:nvSpPr>
            <p:cNvPr id="104" name=""/>
            <p:cNvSpPr/>
            <p:nvPr/>
          </p:nvSpPr>
          <p:spPr>
            <a:xfrm>
              <a:off x="1295280" y="2666880"/>
              <a:ext cx="6096240" cy="36828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GAZDASÁGI FOLYAMATOK CSOPORTOSÍTÁ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23880" y="3530520"/>
              <a:ext cx="1974960" cy="3682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REÁ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342880" y="3070080"/>
              <a:ext cx="1258920" cy="422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2226960" y="3048120"/>
              <a:ext cx="1353960" cy="48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47920" y="4267080"/>
              <a:ext cx="28191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beszerzés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észletezés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termelés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észtermék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raktározás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értékesíté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660240" y="154080"/>
            <a:ext cx="8254800" cy="1769040"/>
            <a:chOff x="660240" y="154080"/>
            <a:chExt cx="8254800" cy="1769040"/>
          </a:xfrm>
        </p:grpSpPr>
        <p:grpSp>
          <p:nvGrpSpPr>
            <p:cNvPr id="110" name=""/>
            <p:cNvGrpSpPr/>
            <p:nvPr/>
          </p:nvGrpSpPr>
          <p:grpSpPr>
            <a:xfrm>
              <a:off x="660240" y="154080"/>
              <a:ext cx="8254800" cy="683640"/>
              <a:chOff x="660240" y="154080"/>
              <a:chExt cx="8254800" cy="683640"/>
            </a:xfrm>
          </p:grpSpPr>
          <p:sp>
            <p:nvSpPr>
              <p:cNvPr id="111" name=""/>
              <p:cNvSpPr/>
              <p:nvPr/>
            </p:nvSpPr>
            <p:spPr>
              <a:xfrm>
                <a:off x="8004960" y="154080"/>
                <a:ext cx="910080" cy="2566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5-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60240" y="324000"/>
                <a:ext cx="7043760" cy="513720"/>
              </a:xfrm>
              <a:prstGeom prst="roundRect">
                <a:avLst>
                  <a:gd name="adj" fmla="val 16667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A GAZDASÁGI FOLYAMAT FOGALM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1295280" y="1219320"/>
              <a:ext cx="6782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vállalkozásban lezajló gazdasági mozgások összességét gazdasági folyamatnak nevezik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724280" y="3048120"/>
            <a:ext cx="3505320" cy="3278880"/>
            <a:chOff x="4724280" y="3048120"/>
            <a:chExt cx="3505320" cy="3278880"/>
          </a:xfrm>
        </p:grpSpPr>
        <p:sp>
          <p:nvSpPr>
            <p:cNvPr id="115" name=""/>
            <p:cNvSpPr/>
            <p:nvPr/>
          </p:nvSpPr>
          <p:spPr>
            <a:xfrm>
              <a:off x="5022720" y="3510000"/>
              <a:ext cx="1974960" cy="3682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NOMINÁ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24280" y="3048120"/>
              <a:ext cx="14526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05520" y="4038480"/>
              <a:ext cx="31240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pénzbevoná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hitelfelvétel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laptőke emelés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amatfelvétel st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pénzkezelés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pénzkivoná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hiteltörlesztés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amatfizetés st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838080" y="76320"/>
            <a:ext cx="8153640" cy="761760"/>
            <a:chOff x="838080" y="76320"/>
            <a:chExt cx="8153640" cy="761760"/>
          </a:xfrm>
        </p:grpSpPr>
        <p:sp>
          <p:nvSpPr>
            <p:cNvPr id="119" name=""/>
            <p:cNvSpPr/>
            <p:nvPr/>
          </p:nvSpPr>
          <p:spPr>
            <a:xfrm>
              <a:off x="8248680" y="76320"/>
              <a:ext cx="743040" cy="299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5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080" y="228600"/>
              <a:ext cx="7213680" cy="60948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GAZDASÁGI MŰVELET (ESEMÉN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28600" y="1219320"/>
            <a:ext cx="4191120" cy="1450440"/>
            <a:chOff x="228600" y="1219320"/>
            <a:chExt cx="4191120" cy="1450440"/>
          </a:xfrm>
        </p:grpSpPr>
        <p:sp>
          <p:nvSpPr>
            <p:cNvPr id="122" name=""/>
            <p:cNvSpPr/>
            <p:nvPr/>
          </p:nvSpPr>
          <p:spPr>
            <a:xfrm>
              <a:off x="228600" y="1752840"/>
              <a:ext cx="4191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gazdasági művelet a gazda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ági folyamat egy mozzanata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lem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04920" y="1219320"/>
              <a:ext cx="3733560" cy="3812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r>
                <a:rPr b="1" lang="en-US" sz="2000" spc="-1" strike="noStrike">
                  <a:solidFill>
                    <a:srgbClr val="333399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333399"/>
                  </a:solidFill>
                  <a:latin typeface="Bookman Old Style"/>
                </a:rPr>
                <a:t>FOGAL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4419720" y="179532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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 gazdasági művelet hatásán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érésére alkalmazhat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 MENNYISÉG SZERINTI MÉ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RÉSMÓD (tömeg, térfog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terület stb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 PÉNZBENI MÉRÉSMÓ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1430280"/>
            <a:ext cx="0" cy="411480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267080"/>
            <a:ext cx="434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 3" charset="2"/>
              <a:buChar char="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A számvitelben ez utóbbi 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általános, mert ezzel a külö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böző gazdasági események kö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zös nevezőre hozható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958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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 számvitelben azt mérik, h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 gazdasági művelet hatásár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HOGYAN VÁLTOZIK A VÁLLAL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KOZÓ VAGY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52280" y="2878200"/>
            <a:ext cx="4191120" cy="1159920"/>
            <a:chOff x="152280" y="2878200"/>
            <a:chExt cx="4191120" cy="1159920"/>
          </a:xfrm>
        </p:grpSpPr>
        <p:sp>
          <p:nvSpPr>
            <p:cNvPr id="129" name=""/>
            <p:cNvSpPr/>
            <p:nvPr/>
          </p:nvSpPr>
          <p:spPr>
            <a:xfrm>
              <a:off x="152280" y="2878200"/>
              <a:ext cx="4191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gazdasági művelet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zámokban történő mérésé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nevezik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00200" y="3504960"/>
              <a:ext cx="2666880" cy="22824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ZÁMVITELI MÉRÉS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3520" y="3809880"/>
              <a:ext cx="1447560" cy="22824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MÓDNA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838080" y="76320"/>
            <a:ext cx="8153640" cy="761760"/>
            <a:chOff x="838080" y="76320"/>
            <a:chExt cx="8153640" cy="761760"/>
          </a:xfrm>
        </p:grpSpPr>
        <p:sp>
          <p:nvSpPr>
            <p:cNvPr id="133" name=""/>
            <p:cNvSpPr/>
            <p:nvPr/>
          </p:nvSpPr>
          <p:spPr>
            <a:xfrm>
              <a:off x="8248680" y="76320"/>
              <a:ext cx="743040" cy="299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5-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080" y="228600"/>
              <a:ext cx="7213680" cy="60948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GAZDASÁGI MŰVELETEK HATÁSA A VAGYONR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724280" y="1374840"/>
            <a:ext cx="457200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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 VAGY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növelik, va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csökkentik, va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z eszközök, va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 források szerkezeté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változtatják me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1430280"/>
            <a:ext cx="0" cy="411480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432240"/>
            <a:ext cx="464832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Wingdings 3" charset="2"/>
              <a:buChar char="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 gazdasági műveleteke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érlegre gyakorolt hatásu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lapj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négy alaptípus 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két összetett tí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valamelyikébe be lehet sorol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1371600"/>
            <a:ext cx="41911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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 vállalkozó induló vagyon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érlegben kerül kimutatás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2286000"/>
            <a:ext cx="434340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</a:t>
            </a: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A gazdasági műveletek (es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mények) sokfélék,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közvetlenül, va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közvetetten (az eredmény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kimutatáson keresztül) mi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dig hatással vannak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vagyonra (a mérleg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660240" y="154080"/>
            <a:ext cx="8255160" cy="836640"/>
            <a:chOff x="660240" y="154080"/>
            <a:chExt cx="8255160" cy="836640"/>
          </a:xfrm>
        </p:grpSpPr>
        <p:sp>
          <p:nvSpPr>
            <p:cNvPr id="141" name=""/>
            <p:cNvSpPr/>
            <p:nvPr/>
          </p:nvSpPr>
          <p:spPr>
            <a:xfrm>
              <a:off x="8005680" y="154080"/>
              <a:ext cx="9097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5-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0240" y="324000"/>
              <a:ext cx="7043760" cy="6667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GAZDASÁGI MŰVELETEK ALAPTÍPUSAI É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HATÁSUK A VAGYONR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00400" y="15382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A =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2133720"/>
            <a:ext cx="7391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Eszközök bevonása: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A + x = P +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Eszközök kivonása: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A – x = P –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Eszközök körforgása: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A + x – x =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Források változása: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A = P + x -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4648320"/>
            <a:ext cx="44956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A = eszközö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P = forr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x = a változás mérté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660240" y="154080"/>
            <a:ext cx="8255160" cy="836640"/>
            <a:chOff x="660240" y="154080"/>
            <a:chExt cx="8255160" cy="836640"/>
          </a:xfrm>
        </p:grpSpPr>
        <p:sp>
          <p:nvSpPr>
            <p:cNvPr id="147" name=""/>
            <p:cNvSpPr/>
            <p:nvPr/>
          </p:nvSpPr>
          <p:spPr>
            <a:xfrm>
              <a:off x="8005680" y="154080"/>
              <a:ext cx="909720" cy="303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5-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0240" y="324000"/>
              <a:ext cx="7043760" cy="6667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Z ÖSSZETETT GAZDASÁGI MŰVELETEK TÍPUSAI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ÉS HATÁSUK A VAGYONR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200400" y="12952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A =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1981080"/>
            <a:ext cx="61722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Eszközök körforgásával egyidejű eszközbevonás (x &gt;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ctr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A + x – y = P + (x –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5222880"/>
            <a:ext cx="44956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= eszközö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= forr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x, y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= a változás mérté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589200"/>
            <a:ext cx="61722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2. Eszközök körforgásával egyidejű eszközkivonás (x &lt;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ctr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A + x – y = P - (y -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  <p:animClr clrSpc="rgb"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380880" y="762120"/>
          <a:ext cx="8305920" cy="39528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KTÍVÁ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NYITÓ MÉRLEG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ASSZÍVÁ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838080" y="4853160"/>
            <a:ext cx="29718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4853160"/>
            <a:ext cx="5331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5264280"/>
            <a:ext cx="29718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5264280"/>
            <a:ext cx="5331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543560" y="5675400"/>
            <a:ext cx="4143240" cy="450720"/>
            <a:chOff x="4543560" y="5675400"/>
            <a:chExt cx="4143240" cy="450720"/>
          </a:xfrm>
        </p:grpSpPr>
        <p:sp>
          <p:nvSpPr>
            <p:cNvPr id="159" name=""/>
            <p:cNvSpPr/>
            <p:nvPr/>
          </p:nvSpPr>
          <p:spPr>
            <a:xfrm>
              <a:off x="8001000" y="5675400"/>
              <a:ext cx="6858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05520" y="5675400"/>
              <a:ext cx="2895480" cy="450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PASSZÍV IDŐBELI ELHATÁROLÁSO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43560" y="5675400"/>
              <a:ext cx="561960" cy="450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G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04920" y="5675400"/>
            <a:ext cx="3504960" cy="450720"/>
            <a:chOff x="304920" y="5675400"/>
            <a:chExt cx="3504960" cy="450720"/>
          </a:xfrm>
        </p:grpSpPr>
        <p:sp>
          <p:nvSpPr>
            <p:cNvPr id="163" name=""/>
            <p:cNvSpPr/>
            <p:nvPr/>
          </p:nvSpPr>
          <p:spPr>
            <a:xfrm>
              <a:off x="838080" y="5675400"/>
              <a:ext cx="2971800" cy="450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AKTÍV IDŐBELI ELHATÁROLÁSO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4920" y="5675400"/>
              <a:ext cx="533160" cy="450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C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4543560" y="6126120"/>
            <a:ext cx="4143240" cy="450720"/>
            <a:chOff x="4543560" y="6126120"/>
            <a:chExt cx="4143240" cy="450720"/>
          </a:xfrm>
        </p:grpSpPr>
        <p:sp>
          <p:nvSpPr>
            <p:cNvPr id="166" name=""/>
            <p:cNvSpPr/>
            <p:nvPr/>
          </p:nvSpPr>
          <p:spPr>
            <a:xfrm>
              <a:off x="8001000" y="6126120"/>
              <a:ext cx="685800" cy="450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115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105520" y="6126120"/>
              <a:ext cx="2895480" cy="450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FORRÁSOK ÖSSZES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43560" y="6126120"/>
              <a:ext cx="561960" cy="450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04920" y="6126120"/>
            <a:ext cx="4238640" cy="450720"/>
            <a:chOff x="304920" y="6126120"/>
            <a:chExt cx="4238640" cy="450720"/>
          </a:xfrm>
        </p:grpSpPr>
        <p:sp>
          <p:nvSpPr>
            <p:cNvPr id="170" name=""/>
            <p:cNvSpPr/>
            <p:nvPr/>
          </p:nvSpPr>
          <p:spPr>
            <a:xfrm>
              <a:off x="3809880" y="6126120"/>
              <a:ext cx="733680" cy="450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115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38080" y="6126120"/>
              <a:ext cx="2971800" cy="450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ESZKÖZÖK ÖSSZES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4920" y="6126120"/>
              <a:ext cx="533160" cy="450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543560" y="4441680"/>
            <a:ext cx="3457440" cy="1233360"/>
            <a:chOff x="4543560" y="4441680"/>
            <a:chExt cx="3457440" cy="1233360"/>
          </a:xfrm>
        </p:grpSpPr>
        <p:sp>
          <p:nvSpPr>
            <p:cNvPr id="174" name=""/>
            <p:cNvSpPr/>
            <p:nvPr/>
          </p:nvSpPr>
          <p:spPr>
            <a:xfrm>
              <a:off x="5105520" y="4852800"/>
              <a:ext cx="289548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HOSSZÚ LEJÁRATÚ KÖTELEZETTSÉGE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43560" y="4852800"/>
              <a:ext cx="5619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05520" y="5263920"/>
              <a:ext cx="289548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RÖVID LEJÁRATÚ KÖTELEZETTSÉGE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43560" y="5263920"/>
              <a:ext cx="5619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I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5520" y="4441680"/>
              <a:ext cx="289548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HÁTRASOROLT KÖTELEZETTSÉGE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43560" y="4441680"/>
              <a:ext cx="5619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838080" y="4441680"/>
            <a:ext cx="29718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4441680"/>
            <a:ext cx="5331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543560" y="4191120"/>
            <a:ext cx="3457440" cy="250560"/>
            <a:chOff x="4543560" y="4191120"/>
            <a:chExt cx="3457440" cy="250560"/>
          </a:xfrm>
        </p:grpSpPr>
        <p:sp>
          <p:nvSpPr>
            <p:cNvPr id="183" name=""/>
            <p:cNvSpPr/>
            <p:nvPr/>
          </p:nvSpPr>
          <p:spPr>
            <a:xfrm>
              <a:off x="5105520" y="4191120"/>
              <a:ext cx="2895480" cy="2505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KÖTELEZETTSÉGE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43560" y="4191120"/>
              <a:ext cx="561960" cy="2505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F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838080" y="4191120"/>
            <a:ext cx="29718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4191120"/>
            <a:ext cx="5331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543560" y="3916440"/>
            <a:ext cx="3457440" cy="274680"/>
            <a:chOff x="4543560" y="3916440"/>
            <a:chExt cx="3457440" cy="274680"/>
          </a:xfrm>
        </p:grpSpPr>
        <p:sp>
          <p:nvSpPr>
            <p:cNvPr id="188" name=""/>
            <p:cNvSpPr/>
            <p:nvPr/>
          </p:nvSpPr>
          <p:spPr>
            <a:xfrm>
              <a:off x="4543560" y="3916440"/>
              <a:ext cx="561960" cy="2746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E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05520" y="3916440"/>
              <a:ext cx="2895480" cy="2746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CÉLTARTALÉKO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304920" y="2895480"/>
            <a:ext cx="3504960" cy="1295280"/>
            <a:chOff x="304920" y="2895480"/>
            <a:chExt cx="3504960" cy="1295280"/>
          </a:xfrm>
        </p:grpSpPr>
        <p:sp>
          <p:nvSpPr>
            <p:cNvPr id="191" name=""/>
            <p:cNvSpPr/>
            <p:nvPr/>
          </p:nvSpPr>
          <p:spPr>
            <a:xfrm>
              <a:off x="304920" y="3916080"/>
              <a:ext cx="533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V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4920" y="3504960"/>
              <a:ext cx="5331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I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04920" y="3200400"/>
              <a:ext cx="533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4920" y="2895480"/>
              <a:ext cx="533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38080" y="3916080"/>
              <a:ext cx="297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PÉNZESZKÖZÖ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38080" y="3504960"/>
              <a:ext cx="29718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ÉRTÉKPAPÍRO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38080" y="3200400"/>
              <a:ext cx="2971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KÖVETELÉSE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38080" y="2895480"/>
              <a:ext cx="2971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KÉSZLETE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04920" y="2575080"/>
            <a:ext cx="3504960" cy="320400"/>
            <a:chOff x="304920" y="2575080"/>
            <a:chExt cx="3504960" cy="320400"/>
          </a:xfrm>
        </p:grpSpPr>
        <p:sp>
          <p:nvSpPr>
            <p:cNvPr id="200" name=""/>
            <p:cNvSpPr/>
            <p:nvPr/>
          </p:nvSpPr>
          <p:spPr>
            <a:xfrm>
              <a:off x="304920" y="2575080"/>
              <a:ext cx="533160" cy="320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B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8080" y="2575080"/>
              <a:ext cx="2971800" cy="320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FORGÓESZKÖZÖ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8001000" y="1447920"/>
            <a:ext cx="685800" cy="4227480"/>
            <a:chOff x="8001000" y="1447920"/>
            <a:chExt cx="685800" cy="4227480"/>
          </a:xfrm>
        </p:grpSpPr>
        <p:sp>
          <p:nvSpPr>
            <p:cNvPr id="203" name=""/>
            <p:cNvSpPr/>
            <p:nvPr/>
          </p:nvSpPr>
          <p:spPr>
            <a:xfrm>
              <a:off x="8001000" y="5264280"/>
              <a:ext cx="6858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8001000" y="1447920"/>
              <a:ext cx="685800" cy="3816360"/>
              <a:chOff x="8001000" y="1447920"/>
              <a:chExt cx="685800" cy="3816360"/>
            </a:xfrm>
          </p:grpSpPr>
          <p:sp>
            <p:nvSpPr>
              <p:cNvPr id="205" name=""/>
              <p:cNvSpPr/>
              <p:nvPr/>
            </p:nvSpPr>
            <p:spPr>
              <a:xfrm>
                <a:off x="8001000" y="4853160"/>
                <a:ext cx="685800" cy="41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2000"/>
              </a:bodyPr>
              <a:p>
                <a:pPr algn="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Bookman Old Style"/>
                  </a:rPr>
                  <a:t>200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001000" y="4442040"/>
                <a:ext cx="685800" cy="41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001000" y="4191120"/>
                <a:ext cx="685800" cy="25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001000" y="3916440"/>
                <a:ext cx="685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Bookman Old Style"/>
                  </a:rPr>
                  <a:t>50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001000" y="3505320"/>
                <a:ext cx="685800" cy="41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001000" y="3200760"/>
                <a:ext cx="6858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001000" y="2895840"/>
                <a:ext cx="6858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001000" y="2575080"/>
                <a:ext cx="6858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001000" y="2163960"/>
                <a:ext cx="685800" cy="41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001000" y="1752840"/>
                <a:ext cx="685800" cy="41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001000" y="1447920"/>
                <a:ext cx="6858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Bookman Old Style"/>
                  </a:rPr>
                  <a:t>800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6" name=""/>
          <p:cNvGrpSpPr/>
          <p:nvPr/>
        </p:nvGrpSpPr>
        <p:grpSpPr>
          <a:xfrm>
            <a:off x="4543560" y="1447920"/>
            <a:ext cx="3457440" cy="2468520"/>
            <a:chOff x="4543560" y="1447920"/>
            <a:chExt cx="3457440" cy="2468520"/>
          </a:xfrm>
        </p:grpSpPr>
        <p:sp>
          <p:nvSpPr>
            <p:cNvPr id="217" name=""/>
            <p:cNvSpPr/>
            <p:nvPr/>
          </p:nvSpPr>
          <p:spPr>
            <a:xfrm>
              <a:off x="4543560" y="3505320"/>
              <a:ext cx="5619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VI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43560" y="3200760"/>
              <a:ext cx="561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V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43560" y="2895840"/>
              <a:ext cx="561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V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43560" y="2575080"/>
              <a:ext cx="561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V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43560" y="2163960"/>
              <a:ext cx="5619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I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3560" y="1752840"/>
              <a:ext cx="5619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543560" y="1447920"/>
              <a:ext cx="561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05520" y="3505320"/>
              <a:ext cx="289548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MÉRLEG SZERINTI EREDMÉN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105520" y="3200760"/>
              <a:ext cx="2895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ÉRTÉKELÉSI TARTALÉ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05520" y="2895840"/>
              <a:ext cx="2895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LEKÖTÖTT TARTALÉ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105520" y="2575080"/>
              <a:ext cx="28954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EREDMÉNYTARTALÉ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105520" y="2163960"/>
              <a:ext cx="289548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TŐKETARTALÉ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105520" y="1752840"/>
              <a:ext cx="289548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JEGYZETT, DE MÉG BE NEM FIZETETT TŐKE (-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105520" y="1447920"/>
              <a:ext cx="2895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JEGYZETT TŐK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04920" y="1447920"/>
            <a:ext cx="3504960" cy="1127160"/>
            <a:chOff x="304920" y="1447920"/>
            <a:chExt cx="3504960" cy="1127160"/>
          </a:xfrm>
        </p:grpSpPr>
        <p:sp>
          <p:nvSpPr>
            <p:cNvPr id="232" name=""/>
            <p:cNvSpPr/>
            <p:nvPr/>
          </p:nvSpPr>
          <p:spPr>
            <a:xfrm>
              <a:off x="304920" y="2163960"/>
              <a:ext cx="5331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I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04920" y="1752840"/>
              <a:ext cx="5331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04920" y="1447920"/>
              <a:ext cx="533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8080" y="2163960"/>
              <a:ext cx="29718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BEFEKTETETT PÉNZÜGY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ESZKÖZÖ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8080" y="1752840"/>
              <a:ext cx="29718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TÁRGYI ESZKÖZÖ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8080" y="1447920"/>
              <a:ext cx="2971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MMATERIÁLIS JAVA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4543560" y="1143000"/>
            <a:ext cx="4143240" cy="304560"/>
            <a:chOff x="4543560" y="1143000"/>
            <a:chExt cx="4143240" cy="304560"/>
          </a:xfrm>
        </p:grpSpPr>
        <p:sp>
          <p:nvSpPr>
            <p:cNvPr id="239" name=""/>
            <p:cNvSpPr/>
            <p:nvPr/>
          </p:nvSpPr>
          <p:spPr>
            <a:xfrm>
              <a:off x="4543560" y="1143000"/>
              <a:ext cx="561960" cy="3045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D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001000" y="1143000"/>
              <a:ext cx="685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05520" y="1143000"/>
              <a:ext cx="2895480" cy="3045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SAJÁT TŐK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04920" y="1143000"/>
            <a:ext cx="4238640" cy="304560"/>
            <a:chOff x="304920" y="1143000"/>
            <a:chExt cx="4238640" cy="304560"/>
          </a:xfrm>
        </p:grpSpPr>
        <p:sp>
          <p:nvSpPr>
            <p:cNvPr id="243" name=""/>
            <p:cNvSpPr/>
            <p:nvPr/>
          </p:nvSpPr>
          <p:spPr>
            <a:xfrm>
              <a:off x="304920" y="1143000"/>
              <a:ext cx="533160" cy="3045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A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809880" y="1143000"/>
              <a:ext cx="733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8080" y="1143000"/>
              <a:ext cx="2971800" cy="3045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BEFEKTETETT ESZKÖZÖ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686800" y="1143000"/>
            <a:ext cx="0" cy="54338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1143000"/>
            <a:ext cx="0" cy="54338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001000" y="1143000"/>
            <a:ext cx="0" cy="543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6126120"/>
            <a:ext cx="8381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04920" y="123840"/>
            <a:ext cx="8681760" cy="561960"/>
            <a:chOff x="304920" y="123840"/>
            <a:chExt cx="8681760" cy="561960"/>
          </a:xfrm>
        </p:grpSpPr>
        <p:sp>
          <p:nvSpPr>
            <p:cNvPr id="252" name=""/>
            <p:cNvSpPr/>
            <p:nvPr/>
          </p:nvSpPr>
          <p:spPr>
            <a:xfrm>
              <a:off x="8077320" y="123840"/>
              <a:ext cx="909360" cy="3333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5-6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4920" y="247680"/>
              <a:ext cx="7696080" cy="4381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MÉRLEG VÁLTOZÁSA A GAZDASÁGI MŰVELETEK HATÁSÁ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3809880" y="1143000"/>
            <a:ext cx="733680" cy="5433840"/>
            <a:chOff x="3809880" y="1143000"/>
            <a:chExt cx="733680" cy="5433840"/>
          </a:xfrm>
        </p:grpSpPr>
        <p:sp>
          <p:nvSpPr>
            <p:cNvPr id="255" name=""/>
            <p:cNvSpPr/>
            <p:nvPr/>
          </p:nvSpPr>
          <p:spPr>
            <a:xfrm>
              <a:off x="3809880" y="4852800"/>
              <a:ext cx="73368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09880" y="5263920"/>
              <a:ext cx="73368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809880" y="5675040"/>
              <a:ext cx="73368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09880" y="4419360"/>
              <a:ext cx="73368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09880" y="4190760"/>
              <a:ext cx="73368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09880" y="3916080"/>
              <a:ext cx="73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09880" y="3504960"/>
              <a:ext cx="73368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09880" y="3200400"/>
              <a:ext cx="733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09880" y="2895480"/>
              <a:ext cx="733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3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809880" y="2574720"/>
              <a:ext cx="7336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09880" y="2163600"/>
              <a:ext cx="73368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09880" y="1752480"/>
              <a:ext cx="73368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59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09880" y="1447560"/>
              <a:ext cx="733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1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09880" y="1143000"/>
              <a:ext cx="0" cy="543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543560" y="1143000"/>
              <a:ext cx="0" cy="543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52280" y="6567480"/>
            <a:ext cx="8534520" cy="337320"/>
            <a:chOff x="152280" y="6567480"/>
            <a:chExt cx="8534520" cy="337320"/>
          </a:xfrm>
        </p:grpSpPr>
        <p:sp>
          <p:nvSpPr>
            <p:cNvPr id="271" name=""/>
            <p:cNvSpPr/>
            <p:nvPr/>
          </p:nvSpPr>
          <p:spPr>
            <a:xfrm>
              <a:off x="304920" y="6576840"/>
              <a:ext cx="8381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2280" y="6567480"/>
              <a:ext cx="640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u-HU" sz="1600" spc="-1" strike="noStrike">
                  <a:solidFill>
                    <a:srgbClr val="cc0000"/>
                  </a:solidFill>
                  <a:latin typeface="Bookman Old Style"/>
                </a:rPr>
                <a:t>* Az adatok eFt-ban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8600" y="66294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5T16:00:57Z</dcterms:created>
  <dc:creator>tamas</dc:creator>
  <dc:description/>
  <dc:language>en-US</dc:language>
  <cp:lastModifiedBy>Bács Zoltán</cp:lastModifiedBy>
  <dcterms:modified xsi:type="dcterms:W3CDTF">2008-08-31T07:36:33Z</dcterms:modified>
  <cp:revision>59</cp:revision>
  <dc:subject/>
  <dc:title>1. dia</dc:title>
</cp:coreProperties>
</file>