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7.gif" ContentType="image/gif"/>
  <Override PartName="/ppt/media/image16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0571-AA0C-4E52-9BE2-426A57BB127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őadások / gyakorlatok diáinak kidolgozása során jelöljön ki kulcsszavakat amelyeket az ellenőrző kérdésekhez hiperhivatkozásként kapcsoljon a kérdéshez. Művelet leírása BESZÚRÁS OBJEKTUM HIPERHIVATKOZÁS súgó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F7935-E2C9-45D8-B5AE-965834E8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69578-EC0E-4CF9-9560-71613494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51CEC-7665-4554-B775-961AF47D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1E51E-5A5F-4F47-BB2B-A30810F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68105-77FE-45E7-8152-FB8EE17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66B5D-D236-4DC7-8BC4-929AAB6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8461B-9857-4EF3-9C44-C210610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22BC5-3A80-4C75-ADF0-3751D37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59E6A-27DF-4F2B-A286-432E875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A42F-311C-4D31-83F5-D73FE747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66863-5F6A-4FDF-A589-97DB9F9E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150F-4237-4921-ABC7-EC7FAC45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3BCA-1B62-450F-AFF0-6EE1CF48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5.wm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viteli gondolkodásmód alap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ÁTTEKINTÉ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64000" y="2637000"/>
            <a:ext cx="503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476280"/>
            <a:ext cx="2879640" cy="59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2708280"/>
            <a:ext cx="2736720" cy="2808360"/>
          </a:xfrm>
          <a:prstGeom prst="rect">
            <a:avLst/>
          </a:prstGeom>
          <a:solidFill>
            <a:srgbClr val="20a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. FORGÓESZKÖZÖ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észlet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övetelés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Értékpapí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énzeszközö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76360" cy="46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55548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647640" cy="460440"/>
          </a:xfrm>
          <a:prstGeom prst="rect">
            <a:avLst/>
          </a:prstGeom>
          <a:ln w="0">
            <a:noFill/>
          </a:ln>
        </p:spPr>
      </p:pic>
      <p:sp>
        <p:nvSpPr>
          <p:cNvPr id="107" name="computr3"/>
          <p:cNvSpPr/>
          <p:nvPr/>
        </p:nvSpPr>
        <p:spPr>
          <a:xfrm>
            <a:off x="395280" y="1341360"/>
            <a:ext cx="576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718920" cy="573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24000" y="5589720"/>
            <a:ext cx="647640" cy="538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95280" y="189000"/>
            <a:ext cx="501480" cy="50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24000" y="5013360"/>
            <a:ext cx="647640" cy="503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33336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7800" y="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ZKÖZ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 van nál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 eszközök miből származna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476280"/>
            <a:ext cx="2736720" cy="2252520"/>
          </a:xfrm>
          <a:prstGeom prst="rect">
            <a:avLst/>
          </a:prstGeom>
          <a:solidFill>
            <a:srgbClr val="1a72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. BEFEKTETETT ESZKÖZÖ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Immat jav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Tárgyi eszközö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Befektetett pénzügyi esz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76280"/>
            <a:ext cx="2881440" cy="59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560" y="3333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6370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5280" y="321300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6920" y="39337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0240" y="4941720"/>
            <a:ext cx="9320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opás 1.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yag 4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ka 2.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6920" y="6308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5280" y="141300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6560" y="57340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560" y="1916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4720" y="48690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5445000"/>
            <a:ext cx="2736720" cy="631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. AKTÍV IDŐBELI ELH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76280"/>
            <a:ext cx="2737080" cy="225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.  SAJÁT TŐ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egyzett tő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egyzett, de még be nem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őketartalé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redménytartalé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kötött tartalé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Értékelési tartalé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érleg szerinti (ÉVES) 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708280"/>
            <a:ext cx="2737080" cy="307080"/>
          </a:xfrm>
          <a:prstGeom prst="rect">
            <a:avLst/>
          </a:prstGeom>
          <a:solidFill>
            <a:srgbClr val="1f7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.  CÉLTATALÉK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97360"/>
            <a:ext cx="2737080" cy="2391120"/>
          </a:xfrm>
          <a:prstGeom prst="rect">
            <a:avLst/>
          </a:prstGeom>
          <a:solidFill>
            <a:srgbClr val="fcf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 KÖTELEZETTSÉG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átrasorolt kö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szú lejáratú kö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övid lejáratú kö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445000"/>
            <a:ext cx="2737080" cy="631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. PASSZÍV IDŐBELI ELH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95280" y="765000"/>
            <a:ext cx="490680" cy="492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560" y="836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581360"/>
            <a:ext cx="27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941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56720" y="76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6720" y="4149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013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60930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4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85080" y="6093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4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60930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6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5080" y="6093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6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68320" y="836640"/>
            <a:ext cx="729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ELTETÉS, MEGJELENÉSI FORMA SZE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98640" y="1125360"/>
            <a:ext cx="4546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ÁRMAZÁS, EREDET SZE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484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084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59.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10.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79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49.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4160" y="26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628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11.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4724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9440" y="6093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6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6880" y="6093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6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3213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1080" y="314172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941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49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3933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1484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41.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19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324000" y="6165720"/>
            <a:ext cx="649080" cy="614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436572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00" y="4365720"/>
            <a:ext cx="687240" cy="515880"/>
            <a:chOff x="324000" y="4365720"/>
            <a:chExt cx="687240" cy="515880"/>
          </a:xfrm>
        </p:grpSpPr>
        <p:sp>
          <p:nvSpPr>
            <p:cNvPr id="163" name=""/>
            <p:cNvSpPr/>
            <p:nvPr/>
          </p:nvSpPr>
          <p:spPr>
            <a:xfrm>
              <a:off x="489240" y="4470840"/>
              <a:ext cx="354240" cy="3160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4776480"/>
              <a:ext cx="203400" cy="105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920" y="4365720"/>
              <a:ext cx="203400" cy="10512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7840" y="4776480"/>
              <a:ext cx="203400" cy="10512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186920" y="4437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4437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360" y="3284640"/>
            <a:ext cx="6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4.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5084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15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17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39.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20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-1.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220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-4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3357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220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-2.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3.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5080" y="220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-3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5080" y="465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6.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2520" y="6021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59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6880" y="6021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59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440" y="6093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55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13800" y="6093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55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716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13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242100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+ 13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6093000"/>
            <a:ext cx="8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68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3800" y="6093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68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532720" y="2349360"/>
            <a:ext cx="611280" cy="276480"/>
          </a:xfrm>
          <a:prstGeom prst="rect">
            <a:avLst/>
          </a:prstGeom>
          <a:solidFill>
            <a:srgbClr val="7bd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+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0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ELLENÖRZŐ KÉRDÉSE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ZSGÁRA FELKÉSZÍT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yonváltozási típusok és hatásuk a mérle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5516640"/>
            <a:ext cx="5708520" cy="119124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A gazdasági művelete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35:48Z</dcterms:modified>
  <cp:revision>56</cp:revision>
  <dc:subject/>
  <dc:title>1. dia</dc:title>
</cp:coreProperties>
</file>