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3E8E-CC64-4196-98A0-3F46169EEA8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 források citációs  formája: Szerző (évszám): publikáció címe. megjelenés helye. Kiadó. Evf. Szam. Oldal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nlapok URL c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bb összefüggő előadás vagy gyakorlat esetében az egymásra épülést itt lehet megad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tt kell megadni ha a következő előadás vagy gyakorlat megértéséhez  milyen más tárgyak ismeretére van szüksé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DB314-D9FD-46BF-9EF4-AF1D4599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D9214-D3FA-4CBF-975D-3E7135F7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78BD3-3E4C-490A-A2F7-5576F308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E0EBB-D28B-40C9-9277-BF107886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8537D-C1E0-40C2-9301-AE2FD131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36252-4543-4893-847D-BCF79803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990EB-9B8F-4986-BC01-24B553B8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8DE68-0F1A-40D8-B76E-24696910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737BC-6741-4C48-AB4E-96A1F5D9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35AC6-A2BC-4419-B5D2-222BBFC7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4CA77-E79D-48DC-A793-4DDE7B33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12887-4224-4C30-B5F9-C83F3706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76720" y="6381360"/>
            <a:ext cx="226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FOP 3.3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7c">
                  <a:alpha val="86274"/>
                </a:srgbClr>
              </a:gs>
              <a:gs pos="100000">
                <a:srgbClr val="009999">
                  <a:alpha val="2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7DD4-EEBF-4D4E-94C1-181726D23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986360"/>
            <a:ext cx="1776240" cy="18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61784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78560" y="5084640"/>
            <a:ext cx="15354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20160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067280" y="189000"/>
            <a:ext cx="73188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549360"/>
            <a:ext cx="22320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132000" y="537372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38160">
                  <a:solidFill>
                    <a:srgbClr val="99ccff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EFOP - 3.3.1.</a:t>
            </a:r>
            <a:endParaRPr b="1" lang="en-US" sz="1400" spc="1" strike="noStrike">
              <a:ln w="38160">
                <a:solidFill>
                  <a:srgbClr val="99ccff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1763640" cy="17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176364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ZÁMVITEL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.h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1523880" y="152280"/>
            <a:ext cx="7467840" cy="627120"/>
            <a:chOff x="1523880" y="152280"/>
            <a:chExt cx="7467840" cy="627120"/>
          </a:xfrm>
        </p:grpSpPr>
        <p:sp>
          <p:nvSpPr>
            <p:cNvPr id="229" name=""/>
            <p:cNvSpPr/>
            <p:nvPr/>
          </p:nvSpPr>
          <p:spPr>
            <a:xfrm>
              <a:off x="8077320" y="152280"/>
              <a:ext cx="914400" cy="3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3-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3880" y="304920"/>
              <a:ext cx="6299280" cy="4744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CÉLTARTALÉ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495680" y="990720"/>
            <a:ext cx="4496040" cy="1297440"/>
            <a:chOff x="4495680" y="990720"/>
            <a:chExt cx="4496040" cy="1297440"/>
          </a:xfrm>
        </p:grpSpPr>
        <p:sp>
          <p:nvSpPr>
            <p:cNvPr id="232" name=""/>
            <p:cNvSpPr/>
            <p:nvPr/>
          </p:nvSpPr>
          <p:spPr>
            <a:xfrm>
              <a:off x="4699080" y="990720"/>
              <a:ext cx="4292640" cy="34272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A KÉPZÉS MÓDSZ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95680" y="1523880"/>
              <a:ext cx="4496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ONKRÉT, MEGBÍZHATÓ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DATOK ALAPJÁ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495680" y="243828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STATISZTIKAI BECSLÉS ÚTJ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12408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IDŐSZAKONKÉNT ISMÉTLŐ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DŐ VÁRHATÓ KÖLTSÉGEK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96252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EGYÉB CÉLOKRA képzett fo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rá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Így a bizonytalan, kétes ere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Bookman Old Style"/>
              </a:rPr>
              <a:t>mény nem kerül kimutatás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95680" y="1066680"/>
            <a:ext cx="0" cy="43434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990720"/>
            <a:ext cx="4648320" cy="2133360"/>
            <a:chOff x="0" y="990720"/>
            <a:chExt cx="4648320" cy="2133360"/>
          </a:xfrm>
        </p:grpSpPr>
        <p:sp>
          <p:nvSpPr>
            <p:cNvPr id="239" name=""/>
            <p:cNvSpPr/>
            <p:nvPr/>
          </p:nvSpPr>
          <p:spPr>
            <a:xfrm>
              <a:off x="0" y="1523880"/>
              <a:ext cx="46483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adózás előtti eredmén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erhére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VÁRHATÓ KÖTELEZETTSÉ-GEKRE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3040" y="990720"/>
              <a:ext cx="4140360" cy="34272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52280" y="327672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>
              <a:lnSpc>
                <a:spcPct val="9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szállít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vállalkoz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szolgáltat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hitelező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kölcsönző  által már TELJESÍ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TETT, A VÁLLALKOZÓ ÁLTAL ELFOGADOTT, ELISMERT  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219320" y="152280"/>
            <a:ext cx="7772400" cy="533520"/>
            <a:chOff x="1219320" y="152280"/>
            <a:chExt cx="7772400" cy="533520"/>
          </a:xfrm>
        </p:grpSpPr>
        <p:sp>
          <p:nvSpPr>
            <p:cNvPr id="243" name=""/>
            <p:cNvSpPr/>
            <p:nvPr/>
          </p:nvSpPr>
          <p:spPr>
            <a:xfrm>
              <a:off x="8077320" y="152280"/>
              <a:ext cx="91440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3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9320" y="210960"/>
              <a:ext cx="6298920" cy="4748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TELEZETTSÉG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6320" y="838080"/>
            <a:ext cx="5029200" cy="1708200"/>
            <a:chOff x="76320" y="838080"/>
            <a:chExt cx="5029200" cy="1708200"/>
          </a:xfrm>
        </p:grpSpPr>
        <p:sp>
          <p:nvSpPr>
            <p:cNvPr id="246" name=""/>
            <p:cNvSpPr/>
            <p:nvPr/>
          </p:nvSpPr>
          <p:spPr>
            <a:xfrm flipH="1">
              <a:off x="76320" y="1219320"/>
              <a:ext cx="449568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ok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állítás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állalkozás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olgáltatási 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gyéb SZERZŐDÉSBŐL ERED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2280" y="838080"/>
              <a:ext cx="495324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9480" y="5029200"/>
            <a:ext cx="426744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szállításho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szolgáltatásho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pénznyújtáshoz, valamin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incstári vagyon részét  képez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szközök kezelésbe vételéh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apcsolódi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562720" y="838080"/>
            <a:ext cx="3429000" cy="1318680"/>
            <a:chOff x="5562720" y="838080"/>
            <a:chExt cx="3429000" cy="1318680"/>
          </a:xfrm>
        </p:grpSpPr>
        <p:sp>
          <p:nvSpPr>
            <p:cNvPr id="250" name=""/>
            <p:cNvSpPr/>
            <p:nvPr/>
          </p:nvSpPr>
          <p:spPr>
            <a:xfrm>
              <a:off x="5562720" y="838080"/>
              <a:ext cx="34290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MEGSZŰ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38680" y="1295280"/>
              <a:ext cx="33530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A A VÁLLALKOZ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ifizet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410080" y="838080"/>
            <a:ext cx="0" cy="57150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52280" y="2590920"/>
            <a:ext cx="5029200" cy="825480"/>
            <a:chOff x="152280" y="2590920"/>
            <a:chExt cx="5029200" cy="825480"/>
          </a:xfrm>
        </p:grpSpPr>
        <p:sp>
          <p:nvSpPr>
            <p:cNvPr id="254" name=""/>
            <p:cNvSpPr/>
            <p:nvPr/>
          </p:nvSpPr>
          <p:spPr>
            <a:xfrm>
              <a:off x="152280" y="2590920"/>
              <a:ext cx="5029200" cy="476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Bookman Old Style"/>
                </a:rPr>
                <a:t>PÉNZFORMÁBAN TELJESÍTENDŐ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Bookman Old Style"/>
                </a:rPr>
                <a:t>ELISMERT FIZETÉSI KÖTELEZETTSÉG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2280" y="3048120"/>
              <a:ext cx="464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Bookman Old Style"/>
                </a:rPr>
                <a:t>Amelyek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638680" y="1905120"/>
            <a:ext cx="358164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000000"/>
              </a:buClr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váltót ad át, vagy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HITELEZŐ ELENGED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390600" y="4724280"/>
            <a:ext cx="7991280" cy="1069200"/>
            <a:chOff x="390600" y="4724280"/>
            <a:chExt cx="7991280" cy="1069200"/>
          </a:xfrm>
        </p:grpSpPr>
        <p:sp>
          <p:nvSpPr>
            <p:cNvPr id="258" name=""/>
            <p:cNvSpPr/>
            <p:nvPr/>
          </p:nvSpPr>
          <p:spPr>
            <a:xfrm>
              <a:off x="390600" y="5029200"/>
              <a:ext cx="799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1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nnyiségi felvétel, méré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egyezteté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9480" y="4724280"/>
              <a:ext cx="3124440" cy="304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A LELTÁ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ZÁS MÓDJA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60240" y="154080"/>
            <a:ext cx="8254800" cy="683640"/>
            <a:chOff x="660240" y="154080"/>
            <a:chExt cx="8254800" cy="683640"/>
          </a:xfrm>
        </p:grpSpPr>
        <p:sp>
          <p:nvSpPr>
            <p:cNvPr id="261" name=""/>
            <p:cNvSpPr/>
            <p:nvPr/>
          </p:nvSpPr>
          <p:spPr>
            <a:xfrm>
              <a:off x="8004960" y="154080"/>
              <a:ext cx="910080" cy="256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3-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0240" y="324000"/>
              <a:ext cx="7043760" cy="513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LELTÁ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11280" y="1268280"/>
            <a:ext cx="7619760" cy="2075040"/>
            <a:chOff x="611280" y="1268280"/>
            <a:chExt cx="7619760" cy="2075040"/>
          </a:xfrm>
        </p:grpSpPr>
        <p:sp>
          <p:nvSpPr>
            <p:cNvPr id="264" name=""/>
            <p:cNvSpPr/>
            <p:nvPr/>
          </p:nvSpPr>
          <p:spPr>
            <a:xfrm>
              <a:off x="763560" y="1358640"/>
              <a:ext cx="1523520" cy="304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GAL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1280" y="1268280"/>
              <a:ext cx="761976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a leltár olyan jegyzékszerű kimutatás, amely a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valóságban  meglév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ő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 eszközöket és forrásoka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mennyiségben és értékbe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ételesen (részletesen)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elle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ő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rizhe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ő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 mód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egy adott i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ő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pontra vona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koztatva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mutatja k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80880" y="3352680"/>
            <a:ext cx="7696440" cy="1068840"/>
            <a:chOff x="380880" y="3352680"/>
            <a:chExt cx="7696440" cy="1068840"/>
          </a:xfrm>
        </p:grpSpPr>
        <p:sp>
          <p:nvSpPr>
            <p:cNvPr id="267" name=""/>
            <p:cNvSpPr/>
            <p:nvPr/>
          </p:nvSpPr>
          <p:spPr>
            <a:xfrm>
              <a:off x="609480" y="3352680"/>
              <a:ext cx="3048120" cy="304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A LELTÁR KÉSZÜLH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880" y="3657240"/>
              <a:ext cx="7696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1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 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leltározással, va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-Bold"/>
                  <a:ea typeface="Times New Roman"/>
                </a:rPr>
                <a:t>nyilvántartások alapjá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1676520" y="152280"/>
            <a:ext cx="7238880" cy="849600"/>
            <a:chOff x="1676520" y="152280"/>
            <a:chExt cx="7238880" cy="849600"/>
          </a:xfrm>
        </p:grpSpPr>
        <p:sp>
          <p:nvSpPr>
            <p:cNvPr id="270" name=""/>
            <p:cNvSpPr/>
            <p:nvPr/>
          </p:nvSpPr>
          <p:spPr>
            <a:xfrm>
              <a:off x="8001000" y="152280"/>
              <a:ext cx="91440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3-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76520" y="316080"/>
              <a:ext cx="5638680" cy="6858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KÖNYVVITELI MÉRLEG 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057400" y="4495320"/>
            <a:ext cx="4800600" cy="1600560"/>
            <a:chOff x="2057400" y="4495320"/>
            <a:chExt cx="4800600" cy="1600560"/>
          </a:xfrm>
        </p:grpSpPr>
        <p:sp>
          <p:nvSpPr>
            <p:cNvPr id="273" name=""/>
            <p:cNvSpPr/>
            <p:nvPr/>
          </p:nvSpPr>
          <p:spPr>
            <a:xfrm>
              <a:off x="2590920" y="5187960"/>
              <a:ext cx="3220920" cy="9079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ÖSSZEVONTAN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PÉNZÉRTÉKBEN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man Old Style"/>
                </a:rPr>
                <a:t>ADOTT IDŐPONTBA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57400" y="4572000"/>
              <a:ext cx="2286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267080" y="4495320"/>
              <a:ext cx="2590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914400" y="1371600"/>
            <a:ext cx="7010280" cy="838080"/>
            <a:chOff x="914400" y="1371600"/>
            <a:chExt cx="7010280" cy="838080"/>
          </a:xfrm>
        </p:grpSpPr>
        <p:sp>
          <p:nvSpPr>
            <p:cNvPr id="277" name=""/>
            <p:cNvSpPr/>
            <p:nvPr/>
          </p:nvSpPr>
          <p:spPr>
            <a:xfrm>
              <a:off x="914400" y="1371600"/>
              <a:ext cx="7010280" cy="838080"/>
            </a:xfrm>
            <a:prstGeom prst="flowChartAlternateProcess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mérleg olyan – kétoldalú, vagy egyoldalú – kimutatá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mely a vállalkozó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tartalmazz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76720" y="1752480"/>
              <a:ext cx="1600200" cy="304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AGYONÁ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84040" y="2209680"/>
            <a:ext cx="4135320" cy="2286000"/>
            <a:chOff x="284040" y="2209680"/>
            <a:chExt cx="4135320" cy="2286000"/>
          </a:xfrm>
        </p:grpSpPr>
        <p:grpSp>
          <p:nvGrpSpPr>
            <p:cNvPr id="280" name=""/>
            <p:cNvGrpSpPr/>
            <p:nvPr/>
          </p:nvGrpSpPr>
          <p:grpSpPr>
            <a:xfrm>
              <a:off x="284040" y="2209680"/>
              <a:ext cx="4135320" cy="2286000"/>
              <a:chOff x="284040" y="2209680"/>
              <a:chExt cx="4135320" cy="2286000"/>
            </a:xfrm>
          </p:grpSpPr>
          <p:sp>
            <p:nvSpPr>
              <p:cNvPr id="281" name=""/>
              <p:cNvSpPr/>
              <p:nvPr/>
            </p:nvSpPr>
            <p:spPr>
              <a:xfrm flipH="1">
                <a:off x="2417400" y="2209680"/>
                <a:ext cx="2001960" cy="12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84040" y="3429000"/>
                <a:ext cx="3830760" cy="1066680"/>
              </a:xfrm>
              <a:prstGeom prst="flowChartAlternate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Bookman Old Style"/>
                  </a:rPr>
                  <a:t>A vállalkozási tevékenységbe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Bookman Old Style"/>
                  </a:rPr>
                  <a:t>betöltött szerepük szerin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Bookman Old Style"/>
                  </a:rPr>
                  <a:t>csoportosítva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1447920" y="4267080"/>
              <a:ext cx="15238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SZKÖZÖ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419720" y="2209680"/>
            <a:ext cx="4114800" cy="2286000"/>
            <a:chOff x="4419720" y="2209680"/>
            <a:chExt cx="4114800" cy="2286000"/>
          </a:xfrm>
        </p:grpSpPr>
        <p:grpSp>
          <p:nvGrpSpPr>
            <p:cNvPr id="285" name=""/>
            <p:cNvGrpSpPr/>
            <p:nvPr/>
          </p:nvGrpSpPr>
          <p:grpSpPr>
            <a:xfrm>
              <a:off x="4419720" y="2209680"/>
              <a:ext cx="4114800" cy="2286000"/>
              <a:chOff x="4419720" y="2209680"/>
              <a:chExt cx="4114800" cy="2286000"/>
            </a:xfrm>
          </p:grpSpPr>
          <p:sp>
            <p:nvSpPr>
              <p:cNvPr id="286" name=""/>
              <p:cNvSpPr/>
              <p:nvPr/>
            </p:nvSpPr>
            <p:spPr>
              <a:xfrm>
                <a:off x="4419720" y="2209680"/>
                <a:ext cx="2503440" cy="12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24280" y="3429000"/>
                <a:ext cx="3810240" cy="1066680"/>
              </a:xfrm>
              <a:prstGeom prst="flowChartAlternate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Bookman Old Style"/>
                  </a:rPr>
                  <a:t>Eredetük szerin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Bookman Old Style"/>
                  </a:rPr>
                  <a:t>csoportosítva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5943600" y="4191120"/>
              <a:ext cx="1523880" cy="304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ORRÁ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1219320" y="96840"/>
            <a:ext cx="7823160" cy="646200"/>
            <a:chOff x="1219320" y="96840"/>
            <a:chExt cx="7823160" cy="646200"/>
          </a:xfrm>
        </p:grpSpPr>
        <p:sp>
          <p:nvSpPr>
            <p:cNvPr id="290" name=""/>
            <p:cNvSpPr/>
            <p:nvPr/>
          </p:nvSpPr>
          <p:spPr>
            <a:xfrm>
              <a:off x="8305920" y="96840"/>
              <a:ext cx="736560" cy="284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3-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19320" y="152280"/>
              <a:ext cx="6603840" cy="5907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MÉRLEG SZERKEZE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„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” változ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52280" y="1219320"/>
            <a:ext cx="4496040" cy="5181480"/>
            <a:chOff x="152280" y="1219320"/>
            <a:chExt cx="4496040" cy="5181480"/>
          </a:xfrm>
        </p:grpSpPr>
        <p:grpSp>
          <p:nvGrpSpPr>
            <p:cNvPr id="293" name=""/>
            <p:cNvGrpSpPr/>
            <p:nvPr/>
          </p:nvGrpSpPr>
          <p:grpSpPr>
            <a:xfrm>
              <a:off x="152280" y="1219320"/>
              <a:ext cx="4496040" cy="4038120"/>
              <a:chOff x="152280" y="1219320"/>
              <a:chExt cx="4496040" cy="4038120"/>
            </a:xfrm>
          </p:grpSpPr>
          <p:sp>
            <p:nvSpPr>
              <p:cNvPr id="294" name=""/>
              <p:cNvSpPr/>
              <p:nvPr/>
            </p:nvSpPr>
            <p:spPr>
              <a:xfrm>
                <a:off x="152280" y="1704960"/>
                <a:ext cx="4496040" cy="35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A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. BEFEKTETETT ESZKÖZÖ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I.   Immateriális java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II.  Tárgyi eszközö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III. Befektetett pénzügyi eszközö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B. FORGÓESZKÖZÖ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I.   Készlete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II.  Követelése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III. Értékpapíro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IV. Pénzeszközö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C. AKTÍV IDŐBELI ELHATÁ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ROLÁSO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52280" y="1219320"/>
                <a:ext cx="403884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Bookman Old Style"/>
                  </a:rPr>
                  <a:t>ESZKÖZÖK (AKTÍVÁK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304920" y="6019920"/>
              <a:ext cx="2514600" cy="380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Bookman Old Style"/>
                </a:rPr>
                <a:t>Eszközök összes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495680" y="1219320"/>
            <a:ext cx="4572000" cy="5181480"/>
            <a:chOff x="4495680" y="1219320"/>
            <a:chExt cx="4572000" cy="5181480"/>
          </a:xfrm>
        </p:grpSpPr>
        <p:grpSp>
          <p:nvGrpSpPr>
            <p:cNvPr id="298" name=""/>
            <p:cNvGrpSpPr/>
            <p:nvPr/>
          </p:nvGrpSpPr>
          <p:grpSpPr>
            <a:xfrm>
              <a:off x="4495680" y="1219320"/>
              <a:ext cx="4572000" cy="5087880"/>
              <a:chOff x="4495680" y="1219320"/>
              <a:chExt cx="4572000" cy="5087880"/>
            </a:xfrm>
          </p:grpSpPr>
          <p:sp>
            <p:nvSpPr>
              <p:cNvPr id="299" name=""/>
              <p:cNvSpPr/>
              <p:nvPr/>
            </p:nvSpPr>
            <p:spPr>
              <a:xfrm>
                <a:off x="4648320" y="1774800"/>
                <a:ext cx="4419360" cy="45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D.  SAJÁT TŐK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I.   Jegyzett tők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II.  Jegyzett, de még be nem fizetett tőke (-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III. Tőketartalé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IV.  Eredménytartalé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V.   Lekötött tartalé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VI.  Értékelési tartalé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VII. Mérleg szerinti eredmén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E.  CÉLTARTALÉKO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F.  KÖTELEZETTSÉGE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I.   Hátrasorolt kötelezettsége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II.  Hosszú lejáratú kötelezettsége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III. Rövid lejáratú kötelezettsége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G.  PASSZÍV IDŐBELI ELHATÁ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ROLÁSO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495680" y="1295280"/>
                <a:ext cx="0" cy="4648320"/>
              </a:xfrm>
              <a:prstGeom prst="line">
                <a:avLst/>
              </a:prstGeom>
              <a:ln w="1260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48320" y="1219320"/>
                <a:ext cx="403848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Bookman Old Style"/>
                  </a:rPr>
                  <a:t>FORRÁSOK (PASSZÍVÁK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4648320" y="6019920"/>
              <a:ext cx="2514600" cy="380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Bookman Old Style"/>
                </a:rPr>
                <a:t>Források összes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1371600" y="114480"/>
            <a:ext cx="7620120" cy="723600"/>
            <a:chOff x="1371600" y="114480"/>
            <a:chExt cx="7620120" cy="723600"/>
          </a:xfrm>
        </p:grpSpPr>
        <p:sp>
          <p:nvSpPr>
            <p:cNvPr id="304" name=""/>
            <p:cNvSpPr/>
            <p:nvPr/>
          </p:nvSpPr>
          <p:spPr>
            <a:xfrm>
              <a:off x="8001000" y="114480"/>
              <a:ext cx="990720" cy="26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3-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71600" y="230040"/>
              <a:ext cx="6299280" cy="6080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MÉRLEG ELŐÍRT TAGOL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„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” változ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52280" y="914400"/>
            <a:ext cx="5029200" cy="5334120"/>
            <a:chOff x="152280" y="914400"/>
            <a:chExt cx="5029200" cy="5334120"/>
          </a:xfrm>
        </p:grpSpPr>
        <p:sp>
          <p:nvSpPr>
            <p:cNvPr id="307" name=""/>
            <p:cNvSpPr/>
            <p:nvPr/>
          </p:nvSpPr>
          <p:spPr>
            <a:xfrm>
              <a:off x="152280" y="1733400"/>
              <a:ext cx="5029200" cy="45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700" spc="-1" strike="noStrike">
                  <a:solidFill>
                    <a:srgbClr val="000000"/>
                  </a:solidFill>
                  <a:latin typeface="Bookman Old Style"/>
                </a:rPr>
                <a:t>I. IMMATERIÁLIS JAVA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1. Alapítás-átszervezés aktivált érték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2. Kísérleti fejlesztés aktivált érték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3. Vagyoni értékű jogo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4. Szellemi termék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5. Üzleti, vagy cégérté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6. Immateriális javakra adott előleg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7. Immateriális javak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értékhelyesbítés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700" spc="-1" strike="noStrike">
                  <a:solidFill>
                    <a:srgbClr val="000000"/>
                  </a:solidFill>
                  <a:latin typeface="Bookman Old Style"/>
                </a:rPr>
                <a:t>II. TÁRGYI ESZKÖZÖ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1. Ingatlanok és a kapcsolódó vagyon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értékű jogo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2. Műszaki berendezések, gépek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járműv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3. Egyéb berendezések, felszerelések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járműv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4. Tenyészállato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5. Beruházások, felújításo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6. Beruházásokra adott előleg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7. Tárgyi eszközök értékhelyesbítés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28600" y="914400"/>
              <a:ext cx="3276720" cy="838080"/>
              <a:chOff x="228600" y="914400"/>
              <a:chExt cx="3276720" cy="838080"/>
            </a:xfrm>
          </p:grpSpPr>
          <p:sp>
            <p:nvSpPr>
              <p:cNvPr id="309" name=""/>
              <p:cNvSpPr/>
              <p:nvPr/>
            </p:nvSpPr>
            <p:spPr>
              <a:xfrm>
                <a:off x="228600" y="914400"/>
                <a:ext cx="32767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Bookman Old Style"/>
                  </a:rPr>
                  <a:t>ESZKÖZÖK (AKTÍVÁK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8600" y="1447920"/>
                <a:ext cx="327672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Bookman Old Style"/>
                  </a:rPr>
                  <a:t> </a:t>
                </a: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A. Befektetett eszközö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5105520" y="1712880"/>
            <a:ext cx="4038480" cy="4383000"/>
            <a:chOff x="5105520" y="1712880"/>
            <a:chExt cx="4038480" cy="4383000"/>
          </a:xfrm>
        </p:grpSpPr>
        <p:sp>
          <p:nvSpPr>
            <p:cNvPr id="312" name=""/>
            <p:cNvSpPr/>
            <p:nvPr/>
          </p:nvSpPr>
          <p:spPr>
            <a:xfrm>
              <a:off x="5105520" y="1712880"/>
              <a:ext cx="4038480" cy="38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700" spc="-1" strike="noStrike">
                  <a:solidFill>
                    <a:srgbClr val="000000"/>
                  </a:solidFill>
                  <a:latin typeface="Bookman Old Style"/>
                </a:rPr>
                <a:t>III. BEFEKTETETT PÉNZÜGYI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7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i="1" lang="hu-HU" sz="1700" spc="-1" strike="noStrike">
                  <a:solidFill>
                    <a:srgbClr val="000000"/>
                  </a:solidFill>
                  <a:latin typeface="Bookman Old Style"/>
                </a:rPr>
                <a:t>ESZKÖZÖ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1. Tartós részesedés kapcsol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vállalkozásb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2. Tartósan adott kölcsö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kapcsolt vállalkozásb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3. Egyéb tartós részesedé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4. Tartósan adott kölcsö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egyéb részesedési viszony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ban álló vállalkozásb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5. Egyéb tartósan adot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kölcsö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6. Tartós hitelviszonyt meg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testesítő értékpapí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7. Befektetett pénzügyi esz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közök értékhelyesbítés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05520" y="1828800"/>
              <a:ext cx="0" cy="426708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8051760" y="114480"/>
            <a:ext cx="939960" cy="419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3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6320" y="533520"/>
            <a:ext cx="4114800" cy="5562360"/>
            <a:chOff x="76320" y="533520"/>
            <a:chExt cx="4114800" cy="5562360"/>
          </a:xfrm>
        </p:grpSpPr>
        <p:sp>
          <p:nvSpPr>
            <p:cNvPr id="316" name=""/>
            <p:cNvSpPr/>
            <p:nvPr/>
          </p:nvSpPr>
          <p:spPr>
            <a:xfrm>
              <a:off x="76320" y="885960"/>
              <a:ext cx="4114800" cy="52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Bookman Old Style"/>
                </a:rPr>
                <a:t>I.  KÉSZLET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1. Anyago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2. Befejezetlen termelé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és félkész termék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3. Növendék-, hízó- é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egyéb állato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4. Késztermék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5. Áru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6. Készletekre adott előleg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Bookman Old Style"/>
                </a:rPr>
                <a:t>II. KÖVETELÉS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1. Követelések áruszállításbó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és szolgáltatásból (vevők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2. Követelések kapcsol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vállalkozással szembe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3. Követelések egyéb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részesedési viszonyban lévő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vállalkozással szembe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4. Váltókövetelés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5. Egyéb követelés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2280" y="533520"/>
              <a:ext cx="3276720" cy="3283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cc0000"/>
                  </a:solidFill>
                  <a:latin typeface="Bookman Old Style"/>
                </a:rPr>
                <a:t>B. Forgóeszközö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724280" y="914400"/>
            <a:ext cx="4419720" cy="5029200"/>
            <a:chOff x="4724280" y="914400"/>
            <a:chExt cx="4419720" cy="5029200"/>
          </a:xfrm>
        </p:grpSpPr>
        <p:grpSp>
          <p:nvGrpSpPr>
            <p:cNvPr id="319" name=""/>
            <p:cNvGrpSpPr/>
            <p:nvPr/>
          </p:nvGrpSpPr>
          <p:grpSpPr>
            <a:xfrm>
              <a:off x="4724280" y="914400"/>
              <a:ext cx="4419720" cy="5029200"/>
              <a:chOff x="4724280" y="914400"/>
              <a:chExt cx="4419720" cy="5029200"/>
            </a:xfrm>
          </p:grpSpPr>
          <p:sp>
            <p:nvSpPr>
              <p:cNvPr id="320" name=""/>
              <p:cNvSpPr/>
              <p:nvPr/>
            </p:nvSpPr>
            <p:spPr>
              <a:xfrm>
                <a:off x="4876920" y="914400"/>
                <a:ext cx="4267080" cy="49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III. ÉRTÉKPAPÍRO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1. Részesedés kapcsolt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vállalkozásba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2. Egyéb részesedé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3. Saját részvények, saját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üzletrésze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4. Forgatási célú hitelviszonyt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megtestesítő értékpapíro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IV. PÉNZESZKÖZÖ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1. Pénztár, csekke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2. Bankbetéte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1. Bevételek aktív időbeli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elhatárolás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2. Költségek, ráfordítások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   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aktív időbeli elhatárolás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3. Halasztott ráfordításo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24280" y="990720"/>
                <a:ext cx="0" cy="4952880"/>
              </a:xfrm>
              <a:prstGeom prst="line">
                <a:avLst/>
              </a:prstGeom>
              <a:ln w="1260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52880" y="3886200"/>
                <a:ext cx="373392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C. Aktív időbeli elhatároláso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4952880" y="5486400"/>
              <a:ext cx="2514600" cy="380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Bookman Old Style"/>
                </a:rPr>
                <a:t>Eszközök összes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8077320" y="114480"/>
            <a:ext cx="93960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3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838080"/>
            <a:ext cx="4800600" cy="4038840"/>
            <a:chOff x="152280" y="838080"/>
            <a:chExt cx="4800600" cy="4038840"/>
          </a:xfrm>
        </p:grpSpPr>
        <p:sp>
          <p:nvSpPr>
            <p:cNvPr id="326" name=""/>
            <p:cNvSpPr/>
            <p:nvPr/>
          </p:nvSpPr>
          <p:spPr>
            <a:xfrm>
              <a:off x="152280" y="952560"/>
              <a:ext cx="4572000" cy="39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Bookman Old Style"/>
                </a:rPr>
                <a:t>JEGYZETT TŐK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Ebből: visszavásárolt tulajdoni részesedés névértéke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romanU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Bookman Old Style"/>
                </a:rPr>
                <a:t>JEGYZETT, DE MÉG BE NEM FIZETETT TŐKE (-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romanU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Bookman Old Style"/>
                </a:rPr>
                <a:t>TŐKETARTALÉ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romanU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Bookman Old Style"/>
                </a:rPr>
                <a:t>EREDMÉNYTARTALÉK (±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romanU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Bookman Old Style"/>
                </a:rPr>
                <a:t>LEKÖTÖTT TARTALÉ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romanU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Bookman Old Style"/>
                </a:rPr>
                <a:t>ÉRTÉKELÉSI TARTALÉ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romanU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Bookman Old Style"/>
                </a:rPr>
                <a:t>MÉRLEG SZERINTI EREDMÉNY (±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10000"/>
                </a:lnSpc>
                <a:buClr>
                  <a:srgbClr val="000000"/>
                </a:buClr>
                <a:buFont typeface="Bookman Old Style"/>
                <a:buAutoNum type="romanU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80880" y="838080"/>
              <a:ext cx="4572000" cy="938160"/>
              <a:chOff x="380880" y="838080"/>
              <a:chExt cx="4572000" cy="938160"/>
            </a:xfrm>
          </p:grpSpPr>
          <p:sp>
            <p:nvSpPr>
              <p:cNvPr id="328" name=""/>
              <p:cNvSpPr/>
              <p:nvPr/>
            </p:nvSpPr>
            <p:spPr>
              <a:xfrm>
                <a:off x="380880" y="838080"/>
                <a:ext cx="457200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Bookman Old Style"/>
                  </a:rPr>
                  <a:t>FORRÁSOK (PASSZÍVÁK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80880" y="1447920"/>
                <a:ext cx="3546720" cy="3283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 </a:t>
                </a: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D. Saját tőke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4952880" y="1447920"/>
            <a:ext cx="3962520" cy="3200400"/>
            <a:chOff x="4952880" y="1447920"/>
            <a:chExt cx="3962520" cy="3200400"/>
          </a:xfrm>
        </p:grpSpPr>
        <p:grpSp>
          <p:nvGrpSpPr>
            <p:cNvPr id="331" name=""/>
            <p:cNvGrpSpPr/>
            <p:nvPr/>
          </p:nvGrpSpPr>
          <p:grpSpPr>
            <a:xfrm>
              <a:off x="4952880" y="1447920"/>
              <a:ext cx="3962520" cy="2409120"/>
              <a:chOff x="4952880" y="1447920"/>
              <a:chExt cx="3962520" cy="2409120"/>
            </a:xfrm>
          </p:grpSpPr>
          <p:sp>
            <p:nvSpPr>
              <p:cNvPr id="332" name=""/>
              <p:cNvSpPr/>
              <p:nvPr/>
            </p:nvSpPr>
            <p:spPr>
              <a:xfrm>
                <a:off x="4952880" y="1938240"/>
                <a:ext cx="3962520" cy="19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914400" indent="-457200">
                  <a:lnSpc>
                    <a:spcPct val="110000"/>
                  </a:lnSpc>
                  <a:buClr>
                    <a:srgbClr val="000000"/>
                  </a:buClr>
                  <a:buFont typeface="Bookman Old Style"/>
                  <a:buAutoNum type="arabicPeriod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Céltartalék a várható kötelezettségekre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40000"/>
                  </a:lnSpc>
                  <a:buClr>
                    <a:srgbClr val="000000"/>
                  </a:buClr>
                  <a:buFont typeface="Bookman Old Style"/>
                  <a:buAutoNum type="arabicPeriod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110000"/>
                  </a:lnSpc>
                  <a:buClr>
                    <a:srgbClr val="000000"/>
                  </a:buClr>
                  <a:buFont typeface="Bookman Old Style"/>
                  <a:buAutoNum type="arabicPeriod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Céltartalék a jövőbeni költségekre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4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11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3.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Bookman Old Style"/>
                  </a:rPr>
                  <a:t>Egyéb céltartalé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57800" y="1447920"/>
                <a:ext cx="3429000" cy="3283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 </a:t>
                </a: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E. Céltartaléko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4952880" y="1447920"/>
              <a:ext cx="0" cy="320040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128080" y="114480"/>
            <a:ext cx="93960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3-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0" y="380880"/>
            <a:ext cx="4952880" cy="5943600"/>
            <a:chOff x="0" y="380880"/>
            <a:chExt cx="4952880" cy="5943600"/>
          </a:xfrm>
        </p:grpSpPr>
        <p:sp>
          <p:nvSpPr>
            <p:cNvPr id="337" name=""/>
            <p:cNvSpPr/>
            <p:nvPr/>
          </p:nvSpPr>
          <p:spPr>
            <a:xfrm>
              <a:off x="0" y="742680"/>
              <a:ext cx="4952880" cy="55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7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i="1" lang="hu-HU" sz="1700" spc="-1" strike="noStrike">
                  <a:solidFill>
                    <a:srgbClr val="000000"/>
                  </a:solidFill>
                  <a:latin typeface="Bookman Old Style"/>
                </a:rPr>
                <a:t>I. HÁTRASOROL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7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i="1" lang="hu-HU" sz="1700" spc="-1" strike="noStrike">
                  <a:solidFill>
                    <a:srgbClr val="000000"/>
                  </a:solidFill>
                  <a:latin typeface="Bookman Old Style"/>
                </a:rPr>
                <a:t>KÖTELEZETTSÉG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buClr>
                  <a:srgbClr val="000000"/>
                </a:buClr>
                <a:buFont typeface="Bookman Old Style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Hátrasorolt kötelezettségek kapcsolt vállalkozással szem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be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buClr>
                  <a:srgbClr val="000000"/>
                </a:buClr>
                <a:buFont typeface="Bookman Old Style"/>
                <a:buAutoNum type="arabicPeriod" startAt="2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Hátrasorolt kötelezettség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egyéb részesedési viszonyban lévő vállalkozással szembe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buClr>
                  <a:srgbClr val="000000"/>
                </a:buClr>
                <a:buFont typeface="Bookman Old Style"/>
                <a:buAutoNum type="arabicPeriod" startAt="3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Hátrasorolt kötelezettségek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egyéb gazdálkodóval szembe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7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i="1" lang="hu-HU" sz="1700" spc="-1" strike="noStrike">
                  <a:solidFill>
                    <a:srgbClr val="000000"/>
                  </a:solidFill>
                  <a:latin typeface="Bookman Old Style"/>
                </a:rPr>
                <a:t>II. HOSSZÚ LEJÁRATÚ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7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i="1" lang="hu-HU" sz="1700" spc="-1" strike="noStrike">
                  <a:solidFill>
                    <a:srgbClr val="000000"/>
                  </a:solidFill>
                  <a:latin typeface="Bookman Old Style"/>
                </a:rPr>
                <a:t>KÖTELEZETTSÉG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buClr>
                  <a:srgbClr val="000000"/>
                </a:buClr>
                <a:buFont typeface="Bookman Old Style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Hosszú lejáratra kapott köl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csönö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buClr>
                  <a:srgbClr val="000000"/>
                </a:buClr>
                <a:buFont typeface="Bookman Old Style"/>
                <a:buAutoNum type="arabicPeriod" startAt="2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Átváltoztatható kötvény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buClr>
                  <a:srgbClr val="000000"/>
                </a:buClr>
                <a:buFont typeface="Bookman Old Style"/>
                <a:buAutoNum type="arabicPeriod" startAt="2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Tartozások kötvénykibocsá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tásbó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buClr>
                  <a:srgbClr val="000000"/>
                </a:buClr>
                <a:buFont typeface="Bookman Old Style"/>
                <a:buAutoNum type="arabicPeriod" startAt="4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Beruházási és fejlesztési hi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tel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2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Egyéb hosszú lejáratú hitel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2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Tartós kötelezettségek kap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csolt vállalkozással szembe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2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Tartós kötelezettségek egyéb részesedési viszonyban lévő vállalkozással szembe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14400" indent="-45720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2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Bookman Old Style"/>
                </a:rPr>
                <a:t>Egyéb hosszú lejáratú kötele-zettség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2280" y="380880"/>
              <a:ext cx="3733920" cy="3045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0000"/>
                  </a:solidFill>
                  <a:latin typeface="Bookman Old Style"/>
                </a:rPr>
                <a:t>F. Kötelezettség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343400" y="685800"/>
            <a:ext cx="4800600" cy="5791320"/>
            <a:chOff x="4343400" y="685800"/>
            <a:chExt cx="4800600" cy="5791320"/>
          </a:xfrm>
        </p:grpSpPr>
        <p:grpSp>
          <p:nvGrpSpPr>
            <p:cNvPr id="340" name=""/>
            <p:cNvGrpSpPr/>
            <p:nvPr/>
          </p:nvGrpSpPr>
          <p:grpSpPr>
            <a:xfrm>
              <a:off x="4343400" y="685800"/>
              <a:ext cx="4800600" cy="5789160"/>
              <a:chOff x="4343400" y="685800"/>
              <a:chExt cx="4800600" cy="5789160"/>
            </a:xfrm>
          </p:grpSpPr>
          <p:sp>
            <p:nvSpPr>
              <p:cNvPr id="341" name=""/>
              <p:cNvSpPr/>
              <p:nvPr/>
            </p:nvSpPr>
            <p:spPr>
              <a:xfrm>
                <a:off x="4343400" y="685800"/>
                <a:ext cx="4800600" cy="54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    </a:t>
                </a:r>
                <a:r>
                  <a:rPr b="1" i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III.   RÖVID LEJÁRATÚ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           </a:t>
                </a:r>
                <a:r>
                  <a:rPr b="1" i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KÖTELEZETTSÉGE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AutoNum type="arabicPeriod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Rövid lejáratú kölcsönök  ebből:az átváltoztatható köt-vénye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AutoNum type="arabicPeriod" startAt="2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Rövid lejáratú hitele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AutoNum type="arabicPeriod" startAt="2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Vevőktől kapott előlege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AutoNum type="arabicPeriod" startAt="2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Kötelezettségek áruszállításból és szolgáltatásból (szállítók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AutoNum type="arabicPeriod" startAt="2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Váltótartozáso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AutoNum type="arabicPeriod" startAt="2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Rövid lejáratú kötelezettségek kapcsolt vállalkozással szembe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AutoNum type="arabicPeriod" startAt="2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Rövid lejáratú kötelezettségek egyéb részesedési viszonyban lévő vállalkozással szembe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AutoNum type="arabicPeriod" startAt="2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Egyéb rövid lejáratú kötele-zettsége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AutoNum type="arabicPeriod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Bevételek passzív időbeli elhatárolás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AutoNum type="arabicPeriod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Költségek, ráfordítások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8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	</a:t>
                </a:r>
                <a:r>
                  <a:rPr b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passzív időbeli elhatárolás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914400" indent="-457200"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AutoNum type="arabicPeriod" startAt="3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700" spc="-1" strike="noStrike">
                    <a:solidFill>
                      <a:srgbClr val="000000"/>
                    </a:solidFill>
                    <a:latin typeface="Bookman Old Style"/>
                  </a:rPr>
                  <a:t>Halasztott bevétele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u-HU" sz="1700" spc="-1" strike="noStrike">
                    <a:solidFill>
                      <a:srgbClr val="333399"/>
                    </a:solidFill>
                    <a:latin typeface="Bookman Old Style"/>
                  </a:rPr>
                  <a:t>     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800600" y="4493880"/>
                <a:ext cx="403848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G. Passzív időbeli elhatároláso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48320" y="760320"/>
                <a:ext cx="0" cy="5714640"/>
              </a:xfrm>
              <a:prstGeom prst="line">
                <a:avLst/>
              </a:prstGeom>
              <a:ln w="1260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4800600" y="6095880"/>
              <a:ext cx="2514600" cy="381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Bookman Old Style"/>
                </a:rPr>
                <a:t>Források összes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371600" y="84240"/>
            <a:ext cx="7620120" cy="677880"/>
            <a:chOff x="1371600" y="84240"/>
            <a:chExt cx="7620120" cy="677880"/>
          </a:xfrm>
        </p:grpSpPr>
        <p:sp>
          <p:nvSpPr>
            <p:cNvPr id="346" name=""/>
            <p:cNvSpPr/>
            <p:nvPr/>
          </p:nvSpPr>
          <p:spPr>
            <a:xfrm>
              <a:off x="8229600" y="84240"/>
              <a:ext cx="762120" cy="37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3-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71600" y="190440"/>
              <a:ext cx="6299280" cy="5716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MÉRLEG ELŐÍRT TAGOL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„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” változ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76320" y="914400"/>
            <a:ext cx="4038480" cy="5638680"/>
            <a:chOff x="76320" y="914400"/>
            <a:chExt cx="4038480" cy="5638680"/>
          </a:xfrm>
        </p:grpSpPr>
        <p:sp>
          <p:nvSpPr>
            <p:cNvPr id="349" name=""/>
            <p:cNvSpPr/>
            <p:nvPr/>
          </p:nvSpPr>
          <p:spPr>
            <a:xfrm>
              <a:off x="76320" y="971640"/>
              <a:ext cx="3784320" cy="55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IMMATERIÁLIS JAVA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TÁRGYI ESZKÖZÖ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BEFEKTETETT PÉNZÜGYI ESZKÖZÖ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KÉSZLET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KÖVETELÉS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ÉRTÉKPAPÍRO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PÉNZESZKÖZÖ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600" y="914400"/>
              <a:ext cx="3886200" cy="3049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99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cc0000"/>
                  </a:solidFill>
                  <a:latin typeface="Bookman Old Style"/>
                </a:rPr>
                <a:t>A. Befektetett eszközö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600" y="2438280"/>
              <a:ext cx="3886200" cy="3049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0000"/>
                  </a:solidFill>
                  <a:latin typeface="Bookman Old Style"/>
                </a:rPr>
                <a:t>B. Forgóeszközö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228600" y="3886200"/>
              <a:ext cx="3886200" cy="2666880"/>
              <a:chOff x="228600" y="3886200"/>
              <a:chExt cx="3886200" cy="2666880"/>
            </a:xfrm>
          </p:grpSpPr>
          <p:sp>
            <p:nvSpPr>
              <p:cNvPr id="353" name=""/>
              <p:cNvSpPr/>
              <p:nvPr/>
            </p:nvSpPr>
            <p:spPr>
              <a:xfrm>
                <a:off x="228600" y="5943600"/>
                <a:ext cx="388620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700" spc="-1" strike="noStrike">
                    <a:solidFill>
                      <a:srgbClr val="cc0000"/>
                    </a:solidFill>
                    <a:latin typeface="Bookman Old Style"/>
                  </a:rPr>
                  <a:t>G. Az eszközök összértéke az egy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700" spc="-1" strike="noStrike">
                    <a:solidFill>
                      <a:srgbClr val="cc0000"/>
                    </a:solidFill>
                    <a:latin typeface="Bookman Old Style"/>
                  </a:rPr>
                  <a:t>    </a:t>
                </a:r>
                <a:r>
                  <a:rPr b="1" lang="hu-HU" sz="1700" spc="-1" strike="noStrike">
                    <a:solidFill>
                      <a:srgbClr val="cc0000"/>
                    </a:solidFill>
                    <a:latin typeface="Bookman Old Style"/>
                  </a:rPr>
                  <a:t>éven belül esedékes kötelezett-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700" spc="-1" strike="noStrike">
                    <a:solidFill>
                      <a:srgbClr val="cc0000"/>
                    </a:solidFill>
                    <a:latin typeface="Bookman Old Style"/>
                  </a:rPr>
                  <a:t>    </a:t>
                </a:r>
                <a:r>
                  <a:rPr b="1" lang="hu-HU" sz="1700" spc="-1" strike="noStrike">
                    <a:solidFill>
                      <a:srgbClr val="cc0000"/>
                    </a:solidFill>
                    <a:latin typeface="Bookman Old Style"/>
                  </a:rPr>
                  <a:t>ségek levonása után (A</a:t>
                </a:r>
                <a:r>
                  <a:rPr b="1" lang="hu-HU" sz="1700" spc="-1" strike="noStrike" u="sng">
                    <a:solidFill>
                      <a:srgbClr val="cc0000"/>
                    </a:solidFill>
                    <a:uFillTx/>
                    <a:latin typeface="Bookman Old Style"/>
                  </a:rPr>
                  <a:t>+</a:t>
                </a:r>
                <a:r>
                  <a:rPr b="1" lang="hu-HU" sz="1700" spc="-1" strike="noStrike">
                    <a:solidFill>
                      <a:srgbClr val="cc0000"/>
                    </a:solidFill>
                    <a:latin typeface="Bookman Old Style"/>
                  </a:rPr>
                  <a:t>F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5181480"/>
                <a:ext cx="3886200" cy="6289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F. Forgóeszközök – rövid lejáratú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    </a:t>
                </a: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kötelezettségek különbözete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    </a:t>
                </a: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(B+C-D-E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28600" y="4267080"/>
                <a:ext cx="388620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D. Egy éven belül esedéke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    </a:t>
                </a: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kötelezettsége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8600" y="3886200"/>
                <a:ext cx="38862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C. Aktív időbeli elhatároláso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28600" y="4800600"/>
                <a:ext cx="38862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E. Passzív időbeli elhatároláso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4419720" y="914400"/>
            <a:ext cx="4419360" cy="5638680"/>
            <a:chOff x="4419720" y="914400"/>
            <a:chExt cx="4419360" cy="5638680"/>
          </a:xfrm>
        </p:grpSpPr>
        <p:sp>
          <p:nvSpPr>
            <p:cNvPr id="359" name=""/>
            <p:cNvSpPr/>
            <p:nvPr/>
          </p:nvSpPr>
          <p:spPr>
            <a:xfrm>
              <a:off x="4419720" y="1352520"/>
              <a:ext cx="4419360" cy="49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HOSSZÚ LEJÁRATÚ KÖTELEZETTSÉG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HÁTRASOROLT KÖTELEZETTSÉGE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JEGYZETT TŐK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JEGYZETT, DE MÉG BE NEM FIZETETT TŐKE (-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TŐKETARTALÉ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EREDMÉNYTARTALÉK (±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LEKÖTÖTT TARTALÉ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ÉRTÉKELÉSI TARTALÉ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buClr>
                  <a:srgbClr val="000000"/>
                </a:buClr>
                <a:buFont typeface="Bookman Old Style"/>
                <a:buAutoNum type="romanU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MÉRLEG SZERINTI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man Old Style"/>
                </a:rPr>
                <a:t>EREDMÉNY (±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66680" indent="-60948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4495680" y="914400"/>
              <a:ext cx="4191120" cy="5638680"/>
              <a:chOff x="4495680" y="914400"/>
              <a:chExt cx="4191120" cy="5638680"/>
            </a:xfrm>
          </p:grpSpPr>
          <p:sp>
            <p:nvSpPr>
              <p:cNvPr id="361" name=""/>
              <p:cNvSpPr/>
              <p:nvPr/>
            </p:nvSpPr>
            <p:spPr>
              <a:xfrm>
                <a:off x="4800600" y="914400"/>
                <a:ext cx="388620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H. Egy évnél hosszabb lejáratú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    </a:t>
                </a: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kötelezettsége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00600" y="2819520"/>
                <a:ext cx="38862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 </a:t>
                </a: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J. Saját tőke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800600" y="2438280"/>
                <a:ext cx="38862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333399"/>
                    </a:solidFill>
                    <a:latin typeface="Bookman Old Style"/>
                  </a:rPr>
                  <a:t> </a:t>
                </a:r>
                <a:r>
                  <a:rPr b="1" lang="en-US" sz="1700" spc="-1" strike="noStrike">
                    <a:solidFill>
                      <a:srgbClr val="cc0000"/>
                    </a:solidFill>
                    <a:latin typeface="Bookman Old Style"/>
                  </a:rPr>
                  <a:t>I. Céltartalékok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495680" y="914400"/>
                <a:ext cx="0" cy="5638680"/>
              </a:xfrm>
              <a:prstGeom prst="line">
                <a:avLst/>
              </a:prstGeom>
              <a:ln w="1260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838080" y="76320"/>
            <a:ext cx="8153640" cy="761760"/>
            <a:chOff x="838080" y="76320"/>
            <a:chExt cx="8153640" cy="761760"/>
          </a:xfrm>
        </p:grpSpPr>
        <p:sp>
          <p:nvSpPr>
            <p:cNvPr id="100" name=""/>
            <p:cNvSpPr/>
            <p:nvPr/>
          </p:nvSpPr>
          <p:spPr>
            <a:xfrm>
              <a:off x="8248680" y="76320"/>
              <a:ext cx="743040" cy="29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3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8080" y="228600"/>
              <a:ext cx="7213680" cy="6094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ORGÓESZKÖZÖ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04920" y="1295280"/>
            <a:ext cx="3809880" cy="3141720"/>
            <a:chOff x="304920" y="1295280"/>
            <a:chExt cx="3809880" cy="3141720"/>
          </a:xfrm>
        </p:grpSpPr>
        <p:sp>
          <p:nvSpPr>
            <p:cNvPr id="103" name=""/>
            <p:cNvSpPr/>
            <p:nvPr/>
          </p:nvSpPr>
          <p:spPr>
            <a:xfrm>
              <a:off x="304920" y="1996920"/>
              <a:ext cx="380988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forgóeszközök a vállalkozási tevékenységet általában egy évnél rövidebb ideig szolgáló vagyontárgyak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vetelések, értékpapírok és pénzeszközö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1295280"/>
              <a:ext cx="373356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572000" y="1295280"/>
            <a:ext cx="4267080" cy="3276720"/>
            <a:chOff x="4572000" y="1295280"/>
            <a:chExt cx="4267080" cy="3276720"/>
          </a:xfrm>
        </p:grpSpPr>
        <p:grpSp>
          <p:nvGrpSpPr>
            <p:cNvPr id="106" name=""/>
            <p:cNvGrpSpPr/>
            <p:nvPr/>
          </p:nvGrpSpPr>
          <p:grpSpPr>
            <a:xfrm>
              <a:off x="4876920" y="1295280"/>
              <a:ext cx="3962160" cy="2120400"/>
              <a:chOff x="4876920" y="1295280"/>
              <a:chExt cx="3962160" cy="2120400"/>
            </a:xfrm>
          </p:grpSpPr>
          <p:sp>
            <p:nvSpPr>
              <p:cNvPr id="107" name=""/>
              <p:cNvSpPr/>
              <p:nvPr/>
            </p:nvSpPr>
            <p:spPr>
              <a:xfrm>
                <a:off x="5029200" y="1295280"/>
                <a:ext cx="3809880" cy="381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Bookman Old Style"/>
                  </a:rPr>
                  <a:t>CSOPORTOSÍTÁ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76920" y="1981080"/>
                <a:ext cx="396216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 algn="just">
                  <a:lnSpc>
                    <a:spcPct val="11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ÉSZLETE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1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ÖVETELÉSE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1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ÉRTÉKPAPÍRO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1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PÉNZESZKÖZÖ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4572000" y="1295280"/>
              <a:ext cx="0" cy="327672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 ELLENÖRZŐ KÉRDÉSE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ZSGÁRA FELKÉSZÍTŐ KÉRDÉS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orgóeszközö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észlet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érleg tagol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érleg típus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aját tőke elem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Felhasznált forrása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akirodal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zma András: Vázlatok a számvitel tanulásához 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váth Katalin: Számvitel a gyakorlat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éb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vábbi ismeretszerzést szolgáló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ármilyen számviteli szakköny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755640" y="5516640"/>
            <a:ext cx="5708520" cy="916920"/>
          </a:xfrm>
          <a:prstGeom prst="rect">
            <a:avLst/>
          </a:prstGeom>
          <a:gradFill rotWithShape="0">
            <a:gsLst>
              <a:gs pos="0">
                <a:srgbClr val="006666">
                  <a:alpha val="23137"/>
                </a:srgbClr>
              </a:gs>
              <a:gs pos="100000">
                <a:srgbClr val="002f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Előadás anyagát készítetté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r. Bács Z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156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ÖSZÖNÖM A FIGYELMÜKE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ÖVETKEZŐ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 CÍME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A számviteli gondolkodásmód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lényeg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55280" y="3933720"/>
            <a:ext cx="69231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öbb előadást átfogó oktatási téma előadássorozatának címe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övetkező előadás megértéséhez ajánlott ismeretek kulcsszava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838080" y="76320"/>
            <a:ext cx="8153640" cy="761760"/>
            <a:chOff x="838080" y="76320"/>
            <a:chExt cx="8153640" cy="761760"/>
          </a:xfrm>
        </p:grpSpPr>
        <p:sp>
          <p:nvSpPr>
            <p:cNvPr id="111" name=""/>
            <p:cNvSpPr/>
            <p:nvPr/>
          </p:nvSpPr>
          <p:spPr>
            <a:xfrm>
              <a:off x="8248680" y="76320"/>
              <a:ext cx="743040" cy="29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3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080" y="228600"/>
              <a:ext cx="7213680" cy="6094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ÉSZLETEK 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28600" y="1023840"/>
            <a:ext cx="3962520" cy="59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vállalkozási tevékenységet közvetlenül vagy közvetve – általában egy évnél rövidebb ideig – szolgáló olyan eszközök, amelyek rendszerint egyetlen termelési folyamatban vesznek részt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termék előállítás, szolgáltatás nyújtás során kerülnek majd felhasználásra (ANYAG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 termelés, a feldolgo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valamely fázisában vannak (BEFEJEZETLEN TERME-LÉS, FÉLKÉSZTERMÉ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ár elkészült termék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(KÉSZTERMÉK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értékesítési célból kerül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beszerzésre és az értékesítésig változatlan állapotban maradnak (ÁRUK, GÖNGYÖLEGEK, KÖZVETÍTETT SZOLGÁLTATÁSO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43400" y="1014480"/>
            <a:ext cx="4648320" cy="5614920"/>
            <a:chOff x="4343400" y="1014480"/>
            <a:chExt cx="4648320" cy="5614920"/>
          </a:xfrm>
        </p:grpSpPr>
        <p:sp>
          <p:nvSpPr>
            <p:cNvPr id="115" name=""/>
            <p:cNvSpPr/>
            <p:nvPr/>
          </p:nvSpPr>
          <p:spPr>
            <a:xfrm>
              <a:off x="4495680" y="1014480"/>
              <a:ext cx="4496040" cy="40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készletek között kell kimutatni az eddig felsoroltakon tú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asználatba vételükig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ERSZÁMOKAT, MŰSZERE-KET, BERENDEZÉSEKET, FELSZERELÉSEKET, MUNKA-RUHÁKAT stb. ha a vállalkozási tevékenységet legfeljebb egy évig szolgáljá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NÖVENDÉK, HÍZÓ ÉS EGYÉ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ÁLLATOKAT függetlenül a tartás idejétől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BEFEKTETETT ESZKÖZÖ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ÖZÜL AZ IDE ÁTSOROLT ESZ-KÖZÖKET. (A tartósan használaton kívüli eszközök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43400" y="1066680"/>
              <a:ext cx="0" cy="556272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657600" y="2362320"/>
            <a:ext cx="5714280" cy="2981160"/>
            <a:chOff x="3657600" y="2362320"/>
            <a:chExt cx="5714280" cy="2981160"/>
          </a:xfrm>
        </p:grpSpPr>
        <p:grpSp>
          <p:nvGrpSpPr>
            <p:cNvPr id="118" name=""/>
            <p:cNvGrpSpPr/>
            <p:nvPr/>
          </p:nvGrpSpPr>
          <p:grpSpPr>
            <a:xfrm>
              <a:off x="3657600" y="2362320"/>
              <a:ext cx="4620600" cy="2332440"/>
              <a:chOff x="3657600" y="2362320"/>
              <a:chExt cx="4620600" cy="233244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4440960" y="2362320"/>
                <a:ext cx="3837240" cy="608760"/>
                <a:chOff x="4440960" y="2362320"/>
                <a:chExt cx="3837240" cy="6087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320520" y="2362320"/>
                  <a:ext cx="0" cy="30420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440960" y="2666520"/>
                  <a:ext cx="3837240" cy="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440960" y="2666520"/>
                  <a:ext cx="0" cy="3045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20520" y="2666520"/>
                  <a:ext cx="0" cy="3045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278200" y="2666520"/>
                  <a:ext cx="0" cy="3045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657600" y="2971440"/>
                <a:ext cx="1955880" cy="1723320"/>
                <a:chOff x="3657600" y="2971440"/>
                <a:chExt cx="1955880" cy="17233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657600" y="2971440"/>
                  <a:ext cx="1722960" cy="1066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Bookman Old Style"/>
                    </a:rPr>
                    <a:t>KÉSZ-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Bookman Old Style"/>
                    </a:rPr>
                    <a:t>TERMÉKE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657600" y="4190400"/>
                  <a:ext cx="1955880" cy="50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Ipari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Mezőgazdasági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5537520" y="2971440"/>
              <a:ext cx="1722960" cy="2372040"/>
              <a:chOff x="5537520" y="2971440"/>
              <a:chExt cx="1722960" cy="2372040"/>
            </a:xfrm>
          </p:grpSpPr>
          <p:sp>
            <p:nvSpPr>
              <p:cNvPr id="129" name=""/>
              <p:cNvSpPr/>
              <p:nvPr/>
            </p:nvSpPr>
            <p:spPr>
              <a:xfrm>
                <a:off x="5537520" y="2971440"/>
                <a:ext cx="1644840" cy="1066680"/>
              </a:xfrm>
              <a:prstGeom prst="roundRect">
                <a:avLst>
                  <a:gd name="adj" fmla="val 16667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NÖVENDÉK-,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ÍZÓ- É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EGYÉB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ÁLLATO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693760" y="4190760"/>
                <a:ext cx="1566720" cy="115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Növendé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Hízó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Egyé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266960" y="2971440"/>
              <a:ext cx="2104920" cy="1915560"/>
              <a:chOff x="7266960" y="2971440"/>
              <a:chExt cx="2104920" cy="1915560"/>
            </a:xfrm>
          </p:grpSpPr>
          <p:sp>
            <p:nvSpPr>
              <p:cNvPr id="132" name=""/>
              <p:cNvSpPr/>
              <p:nvPr/>
            </p:nvSpPr>
            <p:spPr>
              <a:xfrm>
                <a:off x="7266960" y="2971440"/>
                <a:ext cx="1767960" cy="1066320"/>
              </a:xfrm>
              <a:prstGeom prst="roundRect">
                <a:avLst>
                  <a:gd name="adj" fmla="val 16667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BEFEJEZETL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ÉS FÉLKÉSZ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TERMÉK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66960" y="4177440"/>
                <a:ext cx="2104920" cy="7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Ipari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Mezőgazdasági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Bookman Old Style"/>
                  </a:rPr>
                  <a:t>Építőipari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1143000" y="762120"/>
            <a:ext cx="6375240" cy="1599840"/>
            <a:chOff x="1143000" y="762120"/>
            <a:chExt cx="6375240" cy="1599840"/>
          </a:xfrm>
        </p:grpSpPr>
        <p:sp>
          <p:nvSpPr>
            <p:cNvPr id="135" name=""/>
            <p:cNvSpPr/>
            <p:nvPr/>
          </p:nvSpPr>
          <p:spPr>
            <a:xfrm>
              <a:off x="1143000" y="1431720"/>
              <a:ext cx="1955880" cy="9302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ÁSÁRO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3352680" y="1407960"/>
              <a:ext cx="4165560" cy="930240"/>
              <a:chOff x="3352680" y="1407960"/>
              <a:chExt cx="4165560" cy="930240"/>
            </a:xfrm>
          </p:grpSpPr>
          <p:sp>
            <p:nvSpPr>
              <p:cNvPr id="137" name=""/>
              <p:cNvSpPr/>
              <p:nvPr/>
            </p:nvSpPr>
            <p:spPr>
              <a:xfrm>
                <a:off x="3352680" y="1407960"/>
                <a:ext cx="1955880" cy="93024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KÉSZLETEK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ADOTT ELŐLE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62720" y="1407960"/>
                <a:ext cx="1955520" cy="93024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SAJÁ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man Old Style"/>
                  </a:rPr>
                  <a:t>TERMELÉS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828800" y="762120"/>
              <a:ext cx="4960440" cy="653760"/>
              <a:chOff x="1828800" y="762120"/>
              <a:chExt cx="4960440" cy="65376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1828800" y="762120"/>
                <a:ext cx="4960440" cy="653040"/>
                <a:chOff x="1828800" y="762120"/>
                <a:chExt cx="4960440" cy="653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94160" y="762120"/>
                  <a:ext cx="0" cy="32580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828800" y="1087920"/>
                  <a:ext cx="4960440" cy="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828800" y="1087920"/>
                  <a:ext cx="0" cy="32724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789240" y="1087920"/>
                  <a:ext cx="0" cy="32724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4343400" y="1089720"/>
                <a:ext cx="0" cy="3261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838080" y="81000"/>
            <a:ext cx="8229600" cy="681120"/>
            <a:chOff x="838080" y="81000"/>
            <a:chExt cx="8229600" cy="681120"/>
          </a:xfrm>
        </p:grpSpPr>
        <p:sp>
          <p:nvSpPr>
            <p:cNvPr id="147" name=""/>
            <p:cNvSpPr/>
            <p:nvPr/>
          </p:nvSpPr>
          <p:spPr>
            <a:xfrm>
              <a:off x="8325000" y="81000"/>
              <a:ext cx="742680" cy="29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3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080" y="152280"/>
              <a:ext cx="7213680" cy="60984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ÉSZLETEK FAJTÁ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6320" y="2362320"/>
            <a:ext cx="4114800" cy="4452120"/>
            <a:chOff x="76320" y="2362320"/>
            <a:chExt cx="4114800" cy="4452120"/>
          </a:xfrm>
        </p:grpSpPr>
        <p:grpSp>
          <p:nvGrpSpPr>
            <p:cNvPr id="150" name=""/>
            <p:cNvGrpSpPr/>
            <p:nvPr/>
          </p:nvGrpSpPr>
          <p:grpSpPr>
            <a:xfrm>
              <a:off x="152280" y="2362320"/>
              <a:ext cx="3516480" cy="4001400"/>
              <a:chOff x="152280" y="2362320"/>
              <a:chExt cx="3516480" cy="4001400"/>
            </a:xfrm>
          </p:grpSpPr>
          <p:sp>
            <p:nvSpPr>
              <p:cNvPr id="151" name=""/>
              <p:cNvSpPr/>
              <p:nvPr/>
            </p:nvSpPr>
            <p:spPr>
              <a:xfrm>
                <a:off x="2730600" y="2666880"/>
                <a:ext cx="0" cy="3042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33480" y="2666880"/>
                <a:ext cx="0" cy="3042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152280" y="2971440"/>
                <a:ext cx="1676520" cy="3392280"/>
                <a:chOff x="152280" y="2971440"/>
                <a:chExt cx="1676520" cy="33922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52280" y="2971440"/>
                  <a:ext cx="1562400" cy="1066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Bookman Old Style"/>
                    </a:rPr>
                    <a:t>ANYAGO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52280" y="4190400"/>
                  <a:ext cx="1676520" cy="217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Alapanyagok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Segéd, üzem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 </a:t>
                  </a: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és fűtő anya-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 </a:t>
                  </a: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gok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Tartalék 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 </a:t>
                  </a: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alkatrészek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Fogyóeszkö-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 </a:t>
                  </a: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zök</a:t>
                  </a:r>
                  <a:r>
                    <a:rPr b="1" lang="hu-HU" sz="1600" spc="-1" strike="noStrike">
                      <a:solidFill>
                        <a:srgbClr val="333399"/>
                      </a:solidFill>
                      <a:latin typeface="Bookman Old Style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Gyártóeszkö-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 </a:t>
                  </a:r>
                  <a:r>
                    <a:rPr b="1" lang="hu-HU" sz="1500" spc="-1" strike="noStrike">
                      <a:solidFill>
                        <a:srgbClr val="000000"/>
                      </a:solidFill>
                      <a:latin typeface="Bookman Old Style"/>
                    </a:rPr>
                    <a:t>zök</a:t>
                  </a:r>
                  <a:r>
                    <a:rPr b="1" lang="hu-HU" sz="1600" spc="-1" strike="noStrike">
                      <a:solidFill>
                        <a:srgbClr val="333399"/>
                      </a:solidFill>
                      <a:latin typeface="Bookman Old Style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871640" y="2971440"/>
                <a:ext cx="1797120" cy="2528280"/>
                <a:chOff x="1871640" y="2971440"/>
                <a:chExt cx="1797120" cy="25282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871640" y="2971440"/>
                  <a:ext cx="1641600" cy="1066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Bookman Old Style"/>
                    </a:rPr>
                    <a:t>ÁRU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871640" y="4174560"/>
                  <a:ext cx="1797120" cy="13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Kereskedelmi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  </a:t>
                  </a: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készletek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Közvetített 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 </a:t>
                  </a: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szolgáltatások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buClr>
                      <a:srgbClr val="000000"/>
                    </a:buClr>
                    <a:buFont typeface="Bookman Old Style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Betétdíjas 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  </a:t>
                  </a:r>
                  <a:r>
                    <a:rPr b="1" lang="en-US" sz="1500" spc="-1" strike="noStrike">
                      <a:solidFill>
                        <a:srgbClr val="000000"/>
                      </a:solidFill>
                      <a:latin typeface="Bookman Old Style"/>
                    </a:rPr>
                    <a:t>göngyölegek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1871640" y="2362320"/>
                <a:ext cx="0" cy="3045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33480" y="2666880"/>
                <a:ext cx="17971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6320" y="6477120"/>
              <a:ext cx="4114800" cy="337320"/>
              <a:chOff x="76320" y="6477120"/>
              <a:chExt cx="4114800" cy="337320"/>
            </a:xfrm>
          </p:grpSpPr>
          <p:sp>
            <p:nvSpPr>
              <p:cNvPr id="162" name=""/>
              <p:cNvSpPr/>
              <p:nvPr/>
            </p:nvSpPr>
            <p:spPr>
              <a:xfrm>
                <a:off x="76320" y="6477120"/>
                <a:ext cx="4114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* Egy évnél rövidebb élettartamúa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600" y="6477120"/>
                <a:ext cx="1295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838080" y="76320"/>
            <a:ext cx="8153640" cy="761760"/>
            <a:chOff x="838080" y="76320"/>
            <a:chExt cx="8153640" cy="761760"/>
          </a:xfrm>
        </p:grpSpPr>
        <p:sp>
          <p:nvSpPr>
            <p:cNvPr id="165" name=""/>
            <p:cNvSpPr/>
            <p:nvPr/>
          </p:nvSpPr>
          <p:spPr>
            <a:xfrm>
              <a:off x="8248680" y="76320"/>
              <a:ext cx="743040" cy="29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3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228600"/>
              <a:ext cx="7213680" cy="6094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VETELÉS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52280" y="1066680"/>
            <a:ext cx="4648320" cy="5578560"/>
            <a:chOff x="152280" y="1066680"/>
            <a:chExt cx="4648320" cy="5578560"/>
          </a:xfrm>
        </p:grpSpPr>
        <p:sp>
          <p:nvSpPr>
            <p:cNvPr id="168" name=""/>
            <p:cNvSpPr/>
            <p:nvPr/>
          </p:nvSpPr>
          <p:spPr>
            <a:xfrm>
              <a:off x="152280" y="1447920"/>
              <a:ext cx="434340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zok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ülönféle szállítás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vállalkozás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zolgáltatási 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gyéb szerződésből jogszerű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redő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2280" y="1066680"/>
              <a:ext cx="419112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52280" y="2949480"/>
              <a:ext cx="4648320" cy="3695760"/>
              <a:chOff x="152280" y="2949480"/>
              <a:chExt cx="4648320" cy="3695760"/>
            </a:xfrm>
          </p:grpSpPr>
          <p:sp>
            <p:nvSpPr>
              <p:cNvPr id="171" name=""/>
              <p:cNvSpPr/>
              <p:nvPr/>
            </p:nvSpPr>
            <p:spPr>
              <a:xfrm>
                <a:off x="179280" y="2949480"/>
                <a:ext cx="4164120" cy="5079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Bookman Old Style"/>
                  </a:rPr>
                  <a:t>PÉNZFORMÁBAN KIFEJEZET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Bookman Old Style"/>
                  </a:rPr>
                  <a:t>FIZETÉSI IGÉNYEK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2280" y="3457440"/>
                <a:ext cx="4648320" cy="31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AMELYEK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A VÁLLALKOZÁS MÁR TELJE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SÍTETT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A MÁSIK FÉL ÁLTAL ELFOGA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DOTT, ELISME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TERMÉKÉRTÉKESÍTÉSHEZ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SZOLGÁLTATÁS TELJESÍTÉ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SÉHEZ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ÉRTÉKPAPÍR ÉRTÉKESÍTÉS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HEZ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KÖLCSÖNNYÚJTÁSHOZ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80000"/>
                  </a:lnSpc>
                  <a:buClr>
                    <a:srgbClr val="000000"/>
                  </a:buClr>
                  <a:buFont typeface="Bookman Old Style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ELŐLEGFIZETÉSHEZ, (ideért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ve az osztalékelőleget is) stb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Bookman Old Style"/>
                  </a:rPr>
                  <a:t>KAPCSOLÓDNAK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4648320" y="1471680"/>
            <a:ext cx="4419360" cy="5005440"/>
            <a:chOff x="4648320" y="1471680"/>
            <a:chExt cx="4419360" cy="5005440"/>
          </a:xfrm>
        </p:grpSpPr>
        <p:sp>
          <p:nvSpPr>
            <p:cNvPr id="174" name=""/>
            <p:cNvSpPr/>
            <p:nvPr/>
          </p:nvSpPr>
          <p:spPr>
            <a:xfrm>
              <a:off x="4648320" y="1523880"/>
              <a:ext cx="0" cy="495324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1471680"/>
              <a:ext cx="4267080" cy="29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333399"/>
                  </a:solidFill>
                  <a:latin typeface="Bookman Old Style"/>
                </a:rPr>
                <a:t>VALAM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- munkavállalói tartozá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- visszatérítendő adó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- igényelt, de még ne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teljesített támogatá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333399"/>
                  </a:solidFill>
                  <a:latin typeface="Bookman Old Style"/>
                </a:rPr>
                <a:t>TOVÁBB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-  a vásárolt követelése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-  a térítés nélkül és egyé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címen átvett követelé-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se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7080" y="1066680"/>
            <a:ext cx="444492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Bookman Old Style"/>
              </a:rPr>
              <a:t>A MÉRLEGBEN KÖVETELÉSKÉ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Bookman Old Style"/>
              </a:rPr>
              <a:t>KIMUTATOT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Követelések áruszállításból és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szolgáltatásból (vevő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Követelések kapcsolt vállal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kozással szemb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Követelések egyéb részesedé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si viszonyban lévő vállalk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zással szemb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Váltókövetelés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Egyéb követelés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90720" y="135000"/>
            <a:ext cx="8001000" cy="703080"/>
            <a:chOff x="990720" y="135000"/>
            <a:chExt cx="8001000" cy="703080"/>
          </a:xfrm>
        </p:grpSpPr>
        <p:sp>
          <p:nvSpPr>
            <p:cNvPr id="178" name=""/>
            <p:cNvSpPr/>
            <p:nvPr/>
          </p:nvSpPr>
          <p:spPr>
            <a:xfrm>
              <a:off x="8001000" y="135000"/>
              <a:ext cx="990720" cy="322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3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228600"/>
              <a:ext cx="6564240" cy="6094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ÖVETELÉSEK CSOPORTOSÍT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572000" y="1066680"/>
            <a:ext cx="4572000" cy="5562720"/>
            <a:chOff x="4572000" y="1066680"/>
            <a:chExt cx="4572000" cy="5562720"/>
          </a:xfrm>
        </p:grpSpPr>
        <p:sp>
          <p:nvSpPr>
            <p:cNvPr id="181" name=""/>
            <p:cNvSpPr/>
            <p:nvPr/>
          </p:nvSpPr>
          <p:spPr>
            <a:xfrm>
              <a:off x="4648320" y="1066680"/>
              <a:ext cx="4495680" cy="51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333399"/>
                  </a:solidFill>
                  <a:latin typeface="Bookman Old Style"/>
                </a:rPr>
                <a:t>A MÉRLEGBEN MÁS ESZKÖZÖ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333399"/>
                  </a:solidFill>
                  <a:latin typeface="Bookman Old Style"/>
                </a:rPr>
                <a:t>KÖZÖTT KIMUTATOT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Immateriális javakra adot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lőleg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Beruházásokra adott előleg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Tartósan adott kölcsön kap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csolt vállalkozásban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Tartósan adott kölcsön egyé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részesedési viszonyban lévő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vállalkozásban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gyéb  tartósan adott kölcsön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Készletekre adott előleg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Bankbetéte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Bevételek aktív elhatárolás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333399"/>
                  </a:solidFill>
                  <a:latin typeface="Bookman Old Style"/>
                </a:rPr>
                <a:t>A MÉRLEGBEN FORRÁST CSÖK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333399"/>
                  </a:solidFill>
                  <a:latin typeface="Bookman Old Style"/>
                </a:rPr>
                <a:t>KENTŐ TÉTELKÉNT KIMUTATOTT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Jegyzett, de még be nem fizetett tőke (-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0" y="1143000"/>
              <a:ext cx="0" cy="548640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447920" y="228600"/>
            <a:ext cx="7543800" cy="1676520"/>
            <a:chOff x="1447920" y="228600"/>
            <a:chExt cx="7543800" cy="1676520"/>
          </a:xfrm>
        </p:grpSpPr>
        <p:sp>
          <p:nvSpPr>
            <p:cNvPr id="184" name=""/>
            <p:cNvSpPr/>
            <p:nvPr/>
          </p:nvSpPr>
          <p:spPr>
            <a:xfrm>
              <a:off x="7924680" y="228600"/>
              <a:ext cx="1067040" cy="30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3-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920" y="685800"/>
              <a:ext cx="6298920" cy="4572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PÉNZESZKÖZÖ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1981080" y="1143000"/>
              <a:ext cx="5029200" cy="762120"/>
              <a:chOff x="1981080" y="1143000"/>
              <a:chExt cx="5029200" cy="762120"/>
            </a:xfrm>
          </p:grpSpPr>
          <p:sp>
            <p:nvSpPr>
              <p:cNvPr id="187" name=""/>
              <p:cNvSpPr/>
              <p:nvPr/>
            </p:nvSpPr>
            <p:spPr>
              <a:xfrm>
                <a:off x="1981080" y="1600200"/>
                <a:ext cx="50292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81080" y="1600200"/>
                <a:ext cx="0" cy="3049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10280" y="1600200"/>
                <a:ext cx="0" cy="3049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82080" y="1143000"/>
                <a:ext cx="0" cy="4572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830160" y="1905120"/>
            <a:ext cx="2979720" cy="2971800"/>
            <a:chOff x="830160" y="1905120"/>
            <a:chExt cx="2979720" cy="2971800"/>
          </a:xfrm>
        </p:grpSpPr>
        <p:sp>
          <p:nvSpPr>
            <p:cNvPr id="192" name=""/>
            <p:cNvSpPr/>
            <p:nvPr/>
          </p:nvSpPr>
          <p:spPr>
            <a:xfrm>
              <a:off x="838080" y="2743200"/>
              <a:ext cx="2971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Fizetési eszköz-ként felhasznál-ható tényleges pénz, elektroni-kus pénzeszköz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és csek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Forint vagy deviza (valut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0160" y="1905120"/>
              <a:ext cx="290376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478480" y="1905120"/>
            <a:ext cx="3208320" cy="4114800"/>
            <a:chOff x="5478480" y="1905120"/>
            <a:chExt cx="3208320" cy="4114800"/>
          </a:xfrm>
        </p:grpSpPr>
        <p:sp>
          <p:nvSpPr>
            <p:cNvPr id="195" name=""/>
            <p:cNvSpPr/>
            <p:nvPr/>
          </p:nvSpPr>
          <p:spPr>
            <a:xfrm>
              <a:off x="5562720" y="2743200"/>
              <a:ext cx="312408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Készpén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lektronikus pénzeszközö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Csekk (azonnal pénzre váltható vevőtől kapot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Bankbetét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Nem lekötöt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Rövid lejáratra lekötöt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78480" y="1905120"/>
              <a:ext cx="2903400" cy="690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Fajtá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5288040" y="2133720"/>
            <a:ext cx="3398760" cy="2310840"/>
            <a:chOff x="5288040" y="2133720"/>
            <a:chExt cx="3398760" cy="2310840"/>
          </a:xfrm>
        </p:grpSpPr>
        <p:sp>
          <p:nvSpPr>
            <p:cNvPr id="198" name=""/>
            <p:cNvSpPr/>
            <p:nvPr/>
          </p:nvSpPr>
          <p:spPr>
            <a:xfrm>
              <a:off x="6083280" y="2133720"/>
              <a:ext cx="1952640" cy="6602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Bookman Old Style"/>
                </a:rPr>
                <a:t>FAJTÁ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96320" y="279396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083280" y="3041640"/>
              <a:ext cx="1879560" cy="494280"/>
              <a:chOff x="6083280" y="3041640"/>
              <a:chExt cx="1879560" cy="494280"/>
            </a:xfrm>
          </p:grpSpPr>
          <p:sp>
            <p:nvSpPr>
              <p:cNvPr id="201" name=""/>
              <p:cNvSpPr/>
              <p:nvPr/>
            </p:nvSpPr>
            <p:spPr>
              <a:xfrm>
                <a:off x="6083280" y="3041640"/>
                <a:ext cx="18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083280" y="304164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962840" y="304164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5288040" y="3537000"/>
              <a:ext cx="1590840" cy="907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Bookman Old Style"/>
                </a:rPr>
                <a:t>Aktív időbe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Bookman Old Style"/>
                </a:rPr>
                <a:t>elhatárolás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96320" y="3537000"/>
              <a:ext cx="1590480" cy="907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Bookman Old Style"/>
                </a:rPr>
                <a:t>Passzív időbe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Bookman Old Style"/>
                </a:rPr>
                <a:t>elhatárolás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9480" y="2133720"/>
            <a:ext cx="3581280" cy="3835440"/>
            <a:chOff x="609480" y="2133720"/>
            <a:chExt cx="3581280" cy="3835440"/>
          </a:xfrm>
        </p:grpSpPr>
        <p:sp>
          <p:nvSpPr>
            <p:cNvPr id="207" name=""/>
            <p:cNvSpPr/>
            <p:nvPr/>
          </p:nvSpPr>
          <p:spPr>
            <a:xfrm>
              <a:off x="1371240" y="2133720"/>
              <a:ext cx="1952640" cy="6606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EL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1200" y="279432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9480" y="3073680"/>
              <a:ext cx="3581280" cy="289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Olyan gazdasági esemény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kihatásait, amelyek KÉ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vagy TÖBB ÉVET is érintene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az adott idősza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BEVÉTELEI és KÖLTSÉGE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között olyan arányban k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elszámolni, ahogyan az 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ALAPUL SZOLGÁLÓ IDŐSZA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és az ELSZÁMOLÁSI IDŐSZA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 </a:t>
              </a: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között megoszlanak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62120" y="152280"/>
            <a:ext cx="8153280" cy="1967040"/>
            <a:chOff x="762120" y="152280"/>
            <a:chExt cx="8153280" cy="1967040"/>
          </a:xfrm>
        </p:grpSpPr>
        <p:sp>
          <p:nvSpPr>
            <p:cNvPr id="211" name=""/>
            <p:cNvSpPr/>
            <p:nvPr/>
          </p:nvSpPr>
          <p:spPr>
            <a:xfrm>
              <a:off x="8001000" y="152280"/>
              <a:ext cx="91440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3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7920" y="239760"/>
              <a:ext cx="586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2120" y="468360"/>
              <a:ext cx="71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76520" y="316080"/>
              <a:ext cx="5638680" cy="68580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IDŐBELI ELHATÁROLÁ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0" y="10018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0" y="1459080"/>
              <a:ext cx="23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38280" y="1459080"/>
              <a:ext cx="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43680" y="1459080"/>
              <a:ext cx="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38280" y="1459080"/>
              <a:ext cx="22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572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A saját tőke olyan  tőkerész, amelyet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TULAJDONOS (AZ ALAPÍTÓ) BOCSÁTOTT a vállalkozó rendelkezésé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AZ ADÓZOTT EREDMÉNYBŐL HAGYOTT a vállalkozóná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hu-HU" sz="2000" spc="-1" strike="noStrike">
                <a:solidFill>
                  <a:srgbClr val="cc0000"/>
                </a:solidFill>
                <a:latin typeface="Bookman Old Style"/>
              </a:rPr>
              <a:t>KIVÉTE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Bookman Old Style"/>
              </a:rPr>
              <a:t>jogszabály alapján a tőke-tartalékba, az eredmény-tartalékba helyezett átvett pénz- és egyéb eszköz, vala-mint az értékelési tartalék.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hu-HU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95280" y="76320"/>
            <a:ext cx="7696440" cy="723960"/>
            <a:chOff x="1295280" y="76320"/>
            <a:chExt cx="7696440" cy="723960"/>
          </a:xfrm>
        </p:grpSpPr>
        <p:sp>
          <p:nvSpPr>
            <p:cNvPr id="222" name=""/>
            <p:cNvSpPr/>
            <p:nvPr/>
          </p:nvSpPr>
          <p:spPr>
            <a:xfrm>
              <a:off x="8077320" y="76320"/>
              <a:ext cx="914400" cy="38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3-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95280" y="228600"/>
              <a:ext cx="6299280" cy="5716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SAJÁT TŐK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52280" y="1200240"/>
            <a:ext cx="3835440" cy="34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FOGA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219320"/>
            <a:ext cx="4343400" cy="34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CSOPORTOS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1752480"/>
            <a:ext cx="45720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JEGYZETT TŐKE (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JEGYZETT, DE MÉG BE N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FIZETETT TŐKE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TŐKETARTALÉK (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EREDMÉNYTARTALÉK (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LEKÖTÖTT TARTALÉK (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ÉRTÉKELÉSI TARTALÉK (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ÉRLEG SZERINTI EREDMÉ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(±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219320"/>
            <a:ext cx="0" cy="487656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6:00:57Z</dcterms:created>
  <dc:creator>tamas</dc:creator>
  <dc:description/>
  <dc:language>en-US</dc:language>
  <cp:lastModifiedBy>Bács Zoltán</cp:lastModifiedBy>
  <dcterms:modified xsi:type="dcterms:W3CDTF">2008-08-31T07:35:09Z</dcterms:modified>
  <cp:revision>57</cp:revision>
  <dc:subject/>
  <dc:title>1. dia</dc:title>
</cp:coreProperties>
</file>