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png" ContentType="image/png"/>
  <Override PartName="/ppt/media/image12.jpeg" ContentType="image/jpeg"/>
  <Override PartName="/ppt/media/image10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4.wmf" ContentType="image/x-wmf"/>
  <Override PartName="/ppt/media/image3.jpeg" ContentType="image/jpeg"/>
  <Override PartName="/ppt/media/image15.png" ContentType="image/png"/>
  <Override PartName="/ppt/media/image5.jpeg" ContentType="image/jpeg"/>
  <Override PartName="/ppt/media/image1.wmf" ContentType="image/x-wmf"/>
  <Override PartName="/ppt/media/image2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224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1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214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217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198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132.xml.rels" ContentType="application/vnd.openxmlformats-package.relationships+xml"/>
  <Override PartName="/ppt/slides/_rels/slide218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8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55.xml.rels" ContentType="application/vnd.openxmlformats-package.relationships+xml"/>
  <Override PartName="/ppt/slides/_rels/slide201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51.xml.rels" ContentType="application/vnd.openxmlformats-package.relationships+xml"/>
  <Override PartName="/ppt/slides/_rels/slide160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70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72.xml.rels" ContentType="application/vnd.openxmlformats-package.relationships+xml"/>
  <Override PartName="/ppt/slides/_rels/slide155.xml.rels" ContentType="application/vnd.openxmlformats-package.relationships+xml"/>
  <Override PartName="/ppt/slides/_rels/slide205.xml.rels" ContentType="application/vnd.openxmlformats-package.relationships+xml"/>
  <Override PartName="/ppt/slides/_rels/slide197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67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20.xml.rels" ContentType="application/vnd.openxmlformats-package.relationships+xml"/>
  <Override PartName="/ppt/slides/_rels/slide206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73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149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79.xml.rels" ContentType="application/vnd.openxmlformats-package.relationships+xml"/>
  <Override PartName="/ppt/slides/_rels/slide43.xml.rels" ContentType="application/vnd.openxmlformats-package.relationships+xml"/>
  <Override PartName="/ppt/slides/_rels/slide223.xml.rels" ContentType="application/vnd.openxmlformats-package.relationships+xml"/>
  <Override PartName="/ppt/slides/_rels/slide207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42.xml.rels" ContentType="application/vnd.openxmlformats-package.relationships+xml"/>
  <Override PartName="/ppt/slides/_rels/slide222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221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31.xml.rels" ContentType="application/vnd.openxmlformats-package.relationships+xml"/>
  <Override PartName="/ppt/slides/_rels/slide159.xml.rels" ContentType="application/vnd.openxmlformats-package.relationships+xml"/>
  <Override PartName="/ppt/slides/_rels/slide211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210.xml.rels" ContentType="application/vnd.openxmlformats-package.relationshi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21.xml" ContentType="application/vnd.openxmlformats-officedocument.presentationml.slide+xml"/>
  <Override PartName="/ppt/slides/slide53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14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15.xml" ContentType="application/vnd.openxmlformats-officedocument.presentationml.slide+xml"/>
  <Override PartName="/ppt/slides/slide216.xml" ContentType="application/vnd.openxmlformats-officedocument.presentationml.slide+xml"/>
  <Override PartName="/ppt/slides/slide51.xml" ContentType="application/vnd.openxmlformats-officedocument.presentationml.slide+xml"/>
  <Override PartName="/ppt/slides/slide220.xml" ContentType="application/vnd.openxmlformats-officedocument.presentationml.slide+xml"/>
  <Override PartName="/ppt/slides/slide52.xml" ContentType="application/vnd.openxmlformats-officedocument.presentationml.slide+xml"/>
  <Override PartName="/ppt/slides/slide219.xml" ContentType="application/vnd.openxmlformats-officedocument.presentationml.slide+xml"/>
  <Override PartName="/ppt/slides/slide136.xml" ContentType="application/vnd.openxmlformats-officedocument.presentationml.slide+xml"/>
  <Override PartName="/ppt/slides/slide221.xml" ContentType="application/vnd.openxmlformats-officedocument.presentationml.slide+xml"/>
  <Override PartName="/ppt/slides/slide137.xml" ContentType="application/vnd.openxmlformats-officedocument.presentationml.slide+xml"/>
  <Override PartName="/ppt/slides/slide222.xml" ContentType="application/vnd.openxmlformats-officedocument.presentationml.slide+xml"/>
  <Override PartName="/ppt/slides/slide138.xml" ContentType="application/vnd.openxmlformats-officedocument.presentationml.slide+xml"/>
  <Override PartName="/ppt/slides/slide223.xml" ContentType="application/vnd.openxmlformats-officedocument.presentationml.slide+xml"/>
  <Override PartName="/ppt/slides/slide30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25.xml" ContentType="application/vnd.openxmlformats-officedocument.presentationml.slide+xml"/>
  <Override PartName="/ppt/slides/slide128.xml" ContentType="application/vnd.openxmlformats-officedocument.presentationml.slide+xml"/>
  <Override PartName="/ppt/slides/slide196.xml" ContentType="application/vnd.openxmlformats-officedocument.presentationml.slide+xml"/>
  <Override PartName="/ppt/slides/slide32.xml" ContentType="application/vnd.openxmlformats-officedocument.presentationml.slide+xml"/>
  <Override PartName="/ppt/slides/slide214.xml" ContentType="application/vnd.openxmlformats-officedocument.presentationml.slide+xml"/>
  <Override PartName="/ppt/slides/slide226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33.xml" ContentType="application/vnd.openxmlformats-officedocument.presentationml.slide+xml"/>
  <Override PartName="/ppt/slides/slide213.xml" ContentType="application/vnd.openxmlformats-officedocument.presentationml.slide+xml"/>
  <Override PartName="/ppt/slides/slide20.xml" ContentType="application/vnd.openxmlformats-officedocument.presentationml.slide+xml"/>
  <Override PartName="/ppt/slides/slide187.xml" ContentType="application/vnd.openxmlformats-officedocument.presentationml.slide+xml"/>
  <Override PartName="/ppt/slides/slide119.xml" ContentType="application/vnd.openxmlformats-officedocument.presentationml.slide+xml"/>
  <Override PartName="/ppt/slides/slide212.xml" ContentType="application/vnd.openxmlformats-officedocument.presentationml.slide+xml"/>
  <Override PartName="/ppt/slides/slide211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210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20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198.xml" ContentType="application/vnd.openxmlformats-officedocument.presentationml.slide+xml"/>
  <Override PartName="/ppt/slides/slide200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421-8752-4491-89F1-25F245FF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5E61-D12A-4DF1-8F0B-3BE5900D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CAB6-1EEC-4C7B-BBE3-A4D24A78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DE3-5ADE-4723-8670-38520879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C9A9-C61E-4DC2-BFF5-961545C1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F0C6-1659-44B2-9AA5-ED8E066F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E8C0-3859-4371-92D6-A824877F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0EC0-E56F-456C-8F5E-C1F4CBD8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2C3F-771A-425A-BF36-72040E07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AEF9-4FD7-4BAB-8887-79975700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E196-BD22-4968-BEC9-C064ADB9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209-F004-4549-B9A7-D19FC604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85A3-DF73-4D3B-A259-695D925E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7B98-78E0-4752-A5F7-E41E30E4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A0C6-8061-4E76-A214-DFC2C552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2C5E-5BE6-496D-9813-87E36E8F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4816-01BB-4D2E-B09E-BEBDFD3D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611-DFF9-4FC6-8EAE-4AFA9B6D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B587-76B7-4297-A15F-70A9FDD0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505-C89D-49E6-9399-0B6CB650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FCC-43AA-42BC-943D-387A7C3B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B4D-196B-4F35-9FD6-13091359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8AD-B36E-477D-866D-6870EDA4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4BE-8F3B-401F-9D1F-EACF8BCE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0417-E834-4ADF-BE18-A3BF92E7F9E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F1F5-D10C-4AA5-A4DB-D4B4CE8ABEB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4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4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0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br>
              <a:rPr sz="4700"/>
            </a:br>
            <a:r>
              <a:rPr b="1" lang="en-US" sz="5800" spc="-1" strike="noStrike">
                <a:solidFill>
                  <a:srgbClr val="999900"/>
                </a:solidFill>
                <a:latin typeface="Garamond"/>
              </a:rPr>
              <a:t>Agrármarketing</a:t>
            </a:r>
            <a:br>
              <a:rPr sz="5800"/>
            </a:br>
            <a:r>
              <a:rPr b="0" i="1" lang="en-US" sz="5800" spc="-1" strike="noStrike">
                <a:solidFill>
                  <a:srgbClr val="999900"/>
                </a:solidFill>
                <a:latin typeface="Garamond"/>
              </a:rPr>
              <a:t>Bevezetés a marketingbe</a:t>
            </a:r>
            <a:br>
              <a:rPr sz="5800"/>
            </a:br>
            <a:br>
              <a:rPr sz="5800"/>
            </a:br>
            <a:br>
              <a:rPr sz="5800"/>
            </a:br>
            <a:r>
              <a:rPr b="0" i="1" lang="en-US" sz="5800" spc="-1" strike="noStrike">
                <a:solidFill>
                  <a:srgbClr val="999900"/>
                </a:solidFill>
                <a:latin typeface="Garamond"/>
              </a:rPr>
              <a:t>Dr. Lehota József</a:t>
            </a:r>
            <a:br>
              <a:rPr sz="5800"/>
            </a:b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piaci orientáció fogalma II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Verdana"/>
              </a:rPr>
              <a:t>Narver-Slatter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(1990) meghatározása szerint: a piaci orientáció és interfunkcionális erőforrások koordinált felhasználása, a magasabb vevői érték létrehozására, amelyben a piaci orientáció köre három magatartási komponenst, (a fogyasztó, a versenytárs és interfunkcionális orientáció) és két döntési kritériumot, (hosszú távő irányultság és a nyereségorientáltság) tartalma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szervezeti piacok beszerzési magatartása III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 legfontosabb beszerzési célok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5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termékek elérhetősége akkor és ott, ahol szükség van rájuk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5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megfelelő termékminőség biztosítása, amely összhangban van a tervezett termék jellemzőivel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5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termék elérhetőségével és minőségével összhangban lévő beszerzési ár biztosítása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5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termékhez kapcsolódó szolgáltatások (pl. csomagolás) optimalizálása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hosszú távú szállítói, beszerzői kapcsolatok kialakítása és fejleszté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szervezeti piacok beszerzési magatartása IV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beszerzési folyamat szakasza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2800" indent="-4428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zükségletek felismerés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2800" indent="-4428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eszerzendő termék tulajdonságának meghatározás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2800" indent="-4428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erméktulajdonságok leírás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2800" indent="-4428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eszerzési alternatívák felkutatás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2800" indent="-4428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z ajánlatkéré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2800" indent="-4428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z ajánlatok értékelése, a szállítók kiválasztás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2800" indent="-4428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egrendelések lebonyolítás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2800" indent="-4428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isszacsatolás és értékel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szervezeti piacok beszerzési magatartása V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 beszerzési központban résztvevők csoportja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kezdeményezők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elhasználók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befolyásolók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öntéshozók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vásárlók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és az információt közvetítő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9900"/>
                </a:solidFill>
                <a:latin typeface="Garamond"/>
              </a:rPr>
              <a:t>A szervezeti piacok beszerzési magatartása V.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beszerzési központban a résztvevők szerepe a következőkre terjed k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kezdeményezők azok a személyek, akik a szükségleteket felismerik és a beszerzési folyamatot elindítják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elhasználók azok, akik a termékeket felhasználják, a feldolgozási folyamatában új forma-haszonértéket hoznak létr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efolyásolók azok, akik a döntési folyamatra hatással vannak, (pl. minőség-ellenőrzés, a pénzügyi és számviteli szakemberek, stb.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szervezeti piacok beszerzési magatartása V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öntéshozók azok, akik az alternatívák értékelését követően a végső beszerzési döntést meghozzák (a döntéshozók elhelyezkedése a vállalati struktúrában függ a beszerzési feladatok centralizációja, illetve decentralizációja szintjétől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ásárlók azok, akik a beszerzési döntéseket követően magát a beszerzést lebonyolítják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z információközvetítők azok, akik az információk áramlását ellenőrzik a beszerzési központ és a vállalat többi része, valamint a vállalat környezete közöt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szervezeti piacok beszerzési magatartása VI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 beszerzési alaphelyzetek a következő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-442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z egyszerű újravásárlás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-442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ódosított újravásárlás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-442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z új vásárlá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szervezeti piacok beszerzési magatartás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z egyszerű és a módosított újravásárlás fő közös jellemzői a következő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zonylag kevés a többlet-információigény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zonylag alacsony a kockázat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yors döntési lehetőség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zonylag erős az ár hatás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zállítókkal való megelégedettség foka maga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eszerzési szakemberek szerepe erő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szervezeti piacok beszerzési magatartás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z új vásárlási helyzet fő jellemző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viszonylag nagy információigény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lassú döntéshozatal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z új termékkel, új szállítókkal kapcsolatos magas kockázat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z árak kisebb szerepe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űszaki szakemberek nagyobb szerep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9900"/>
                </a:solidFill>
                <a:latin typeface="Garamond"/>
              </a:rPr>
              <a:t>Alacsony differenciáltságú élelmiszer tömegtermékek ipari beszerzési magatartásának strukturális modellje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>
            <a:off x="684360" y="1628640"/>
            <a:ext cx="7559640" cy="433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166680" indent="-166680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ÖRNYEZ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2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rszá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2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észet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2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zabályozás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56000" y="1916280"/>
            <a:ext cx="5472000" cy="381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176040" indent="-8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6040" indent="-8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ZERVEZ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6040" indent="-8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6040" indent="-838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állalati mér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6040" indent="-8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Forgal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6040" indent="-8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Felhasználá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6040" indent="-8388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yártott vég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6040" indent="-8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ék típus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140360" y="2421000"/>
            <a:ext cx="3600360" cy="30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ESZERZÉSI HELYZ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Új vásárlá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ódosítot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újravásárlá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gyszerű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újravásárlá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940360" y="2924280"/>
            <a:ext cx="1584360" cy="20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300" spc="-1" strike="noStrike">
                <a:solidFill>
                  <a:srgbClr val="000000"/>
                </a:solidFill>
                <a:latin typeface="Arial"/>
              </a:rPr>
              <a:t>SZEMPONTO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Termék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kritériumok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specifikáció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Beszállító(k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kiválasztás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999900"/>
                </a:solidFill>
                <a:latin typeface="Garamond"/>
              </a:rPr>
              <a:t>Termékpolitika</a:t>
            </a:r>
            <a:endParaRPr b="0" lang="en-US" sz="71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zakály Zoltá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A marketing makrokörnyezet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emográfiai környezet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gazdasági környezet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ermészeti környez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echnológiai környezhet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ársadalmi-kulturális környezet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és a politikai, jogi környez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A termék fogalma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rmék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mindaz, ami a piacon szükségletek és igények kielégítésére felkínálható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termékhez szorosan kapcsolódó fogalom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szolgáltatás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mely nem tárgyiasult (nem kézzel fogható), nem választható szét és változékony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A termék öt szintje élelmiszereknél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468360" y="981000"/>
          <a:ext cx="8424720" cy="5438880"/>
        </p:xfrm>
        <a:graphic>
          <a:graphicData uri="http://schemas.openxmlformats.org/drawingml/2006/table">
            <a:tbl>
              <a:tblPr/>
              <a:tblGrid>
                <a:gridCol w="3095640"/>
                <a:gridCol w="5329080"/>
              </a:tblGrid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rmékszint megnevezés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gjelenési forma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emi hasz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iváló íz, egészségessé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aptermé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tárgyiasult élelmisz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várt termé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gas élvezeti érték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és egészséges élelmisz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ő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ített termék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ülönböz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ő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ásványi anyagokban és vitaminokban törté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ő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dúsítás, márkáz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tenciális termé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o- és funkcionális élelmiszer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A termékminőség fogalm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Tomcsányi szerint</a:t>
            </a:r>
            <a:r>
              <a:rPr b="0" i="1" lang="hu-H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(1994, 1998)</a:t>
            </a:r>
            <a:r>
              <a:rPr b="0" i="1" lang="hu-H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termékmarketingben a minőség: áruminősé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Biacs</a:t>
            </a:r>
            <a:r>
              <a:rPr b="0" i="1" lang="hu-H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(1999) meghatározása alapján „a minőség elsősorban értékjelző, ami azt jelenti, hogy a fogyasztó által jobbnak talált termékekért többet fizet, míg más termékeket kevesebbre értékel, így gyengébb minőségűnek ítél”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Élelmiszerek esetében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 a minőség magába foglalja a termék higiéniai, táplálkozási, érzékszervi és külső megjelenésével kapcsolatos tulajdonságai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9440" y="3488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z öttényezős minőségmodell élelmiszereknél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755640" y="1773360"/>
            <a:ext cx="316872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Biztonsági összetev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076720" y="1773360"/>
            <a:ext cx="35989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tonságos fogyaszthatósá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11640" y="198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5640" y="2708280"/>
            <a:ext cx="316872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Használati összetev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211640" y="29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076720" y="2708280"/>
            <a:ext cx="35989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ktikussá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55640" y="3645000"/>
            <a:ext cx="316872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Táplálkozási összetev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211640" y="38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76720" y="3573360"/>
            <a:ext cx="3598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észséges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4508640"/>
            <a:ext cx="316872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Élvezeti összetev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1164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076720" y="4508640"/>
            <a:ext cx="35989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lvezetes fogyasz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55640" y="5445000"/>
            <a:ext cx="316872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Szimbolikus összetev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566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076720" y="5445000"/>
            <a:ext cx="3598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Önkifejezés, önmegvalósít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A márkázás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 márk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gy név, kifejezés, jel, szimbólum, vagy ezek kombinációja. Legalapvetőbb célja, hogy adott eladó vagy eladók termékeit (szolgáltatásait)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zonosítsa és megkülönböztes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versenytársaktó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A márkaérték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márkaérték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galma alatt a márka azon tulajdonságait értjük, amelyek a fogyasztónak értéktöbbletet képesek nyújtani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ás megközelítésben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márkaérté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z, ami a fogyasztó fejében egy márkáról létezik, és ahogyan ez a fogyasztó viselkedését befolyásolja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9440" y="404640"/>
            <a:ext cx="807732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A márkaérték elemei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árkaismertsé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Észlelt minősé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árkaasszociációk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árkahűsé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gyéb márkaérték-összetevő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Márkázási stratégiák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melői márká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- Egyedi márkanév stratég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- Egyetlen családnév stratég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- Vállalati és egyedi márkanév együt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reskedelmi márká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c márkák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erikus (márkanév nélküli) terméke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9440" y="404640"/>
            <a:ext cx="807732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A termelői és a kereskedelmi márkák közötti különbségek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468360" y="1773360"/>
          <a:ext cx="8229600" cy="4346280"/>
        </p:xfrm>
        <a:graphic>
          <a:graphicData uri="http://schemas.openxmlformats.org/drawingml/2006/table">
            <a:tbl>
              <a:tblPr/>
              <a:tblGrid>
                <a:gridCol w="4146480"/>
                <a:gridCol w="408312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rmel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ő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ereskedelm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árká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denhol kapható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sak a kereskedelmi láncnál kapható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enzív reklámozá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érsékelt reklámozá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gasabb ára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edvez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ő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b ára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nováció, termékfejleszté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-too termékek, utánzato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  <a:ea typeface="Times New Roman"/>
              </a:rPr>
              <a:t>A csomagolás helye a marketing-mixbe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9440" y="2349360"/>
            <a:ext cx="777564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termékmix része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kommunikációsmix része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marketingmix 5. eleme (5. 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marketing mikrokörnyezete I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állalati belső környezet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ogyasztók, a vásárlók és a szervezeti piaci vevők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ersenytársak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eszállítók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iaci közvetítőszervezetek (nagy és kiskereskedelem, külkereskedelem, piaci szervezetek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z ún. elősegítő szervezetek (pénzügyi, biztosítási, oktatási, kutatási, szaktanácsadás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38556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aramond"/>
                <a:ea typeface="Times New Roman"/>
              </a:rPr>
              <a:t>A csomagolás kereskedelmi szerepe</a:t>
            </a:r>
            <a:endParaRPr b="0" lang="en-US" sz="4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8302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Könnyű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szállíthatóság, készletezés, átrakás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Termékvédelem, biztonsá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Helytakarékos raktározás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>
            <a:off x="3924360" y="4221000"/>
            <a:ext cx="1198440" cy="9907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14400" y="54100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 termékmix rés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38556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aramond"/>
                <a:ea typeface="Times New Roman"/>
              </a:rPr>
              <a:t>A csomagolás </a:t>
            </a:r>
            <a:r>
              <a:rPr b="1" lang="en-US" sz="4200" spc="-1" strike="noStrike">
                <a:solidFill>
                  <a:srgbClr val="000000"/>
                </a:solidFill>
                <a:latin typeface="Garamond"/>
              </a:rPr>
              <a:t>marketing</a:t>
            </a:r>
            <a:r>
              <a:rPr b="1" lang="en-US" sz="4200" spc="-1" strike="noStrike">
                <a:solidFill>
                  <a:srgbClr val="000000"/>
                </a:solidFill>
                <a:latin typeface="Garamond"/>
                <a:ea typeface="Times New Roman"/>
              </a:rPr>
              <a:t> szerepe</a:t>
            </a:r>
            <a:r>
              <a:rPr b="0" lang="en-US" sz="3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termék jó megjelenítése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Vásárlásra ösztönz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versenytársaktól eltér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ő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csomagolá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vev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ő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tájékoztatása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3851280" y="4292640"/>
            <a:ext cx="1278000" cy="9907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04920" y="54864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 kommunikációsmix rés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termékfejlesztés folyamata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468360" y="1125360"/>
          <a:ext cx="8229600" cy="5361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Ötletgyártá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Ötletértékelés és szelektálá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termékkoncepció kifejlesztése és tesztelé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rmékfejleszté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termékek piaci tesztelé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iaci bevezeté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A termékéletciklus fogalma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 termék értékesítésének mennyiségét (értékét) az idő függvényében leíró görbét </a:t>
            </a:r>
            <a:r>
              <a:rPr b="1" lang="hu-HU" sz="3200" spc="-1" strike="noStrike">
                <a:solidFill>
                  <a:srgbClr val="000000"/>
                </a:solidFill>
                <a:latin typeface="Verdana"/>
              </a:rPr>
              <a:t>termékéletciklusnak,</a:t>
            </a: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 a hozzá kapcsolódó magyarázatrendszert </a:t>
            </a:r>
            <a:r>
              <a:rPr b="1" lang="hu-HU" sz="3200" spc="-1" strike="noStrike">
                <a:solidFill>
                  <a:srgbClr val="000000"/>
                </a:solidFill>
                <a:latin typeface="Verdana"/>
              </a:rPr>
              <a:t>termékéletciklus-elméletnek</a:t>
            </a: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 nevezzük.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990720" y="3657600"/>
            <a:ext cx="2057400" cy="1828800"/>
          </a:xfrm>
          <a:custGeom>
            <a:avLst/>
            <a:gdLst/>
            <a:ahLst/>
            <a:rect l="l" t="t" r="r" b="b"/>
            <a:pathLst>
              <a:path w="1200" h="1536">
                <a:moveTo>
                  <a:pt x="0" y="1536"/>
                </a:moveTo>
                <a:cubicBezTo>
                  <a:pt x="28" y="1524"/>
                  <a:pt x="56" y="1512"/>
                  <a:pt x="96" y="1488"/>
                </a:cubicBezTo>
                <a:cubicBezTo>
                  <a:pt x="136" y="1464"/>
                  <a:pt x="192" y="1424"/>
                  <a:pt x="240" y="1392"/>
                </a:cubicBezTo>
                <a:cubicBezTo>
                  <a:pt x="288" y="1360"/>
                  <a:pt x="336" y="1336"/>
                  <a:pt x="384" y="1296"/>
                </a:cubicBezTo>
                <a:cubicBezTo>
                  <a:pt x="432" y="1256"/>
                  <a:pt x="464" y="1224"/>
                  <a:pt x="528" y="1152"/>
                </a:cubicBezTo>
                <a:cubicBezTo>
                  <a:pt x="592" y="1080"/>
                  <a:pt x="704" y="952"/>
                  <a:pt x="768" y="864"/>
                </a:cubicBezTo>
                <a:cubicBezTo>
                  <a:pt x="832" y="776"/>
                  <a:pt x="864" y="712"/>
                  <a:pt x="912" y="624"/>
                </a:cubicBezTo>
                <a:cubicBezTo>
                  <a:pt x="960" y="536"/>
                  <a:pt x="1008" y="440"/>
                  <a:pt x="1056" y="336"/>
                </a:cubicBezTo>
                <a:cubicBezTo>
                  <a:pt x="1104" y="232"/>
                  <a:pt x="1176" y="56"/>
                  <a:pt x="1200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4952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350532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8360" y="5661000"/>
            <a:ext cx="8370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vezetés       Növekedés         Érettség        Hanyat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91520" y="2819520"/>
            <a:ext cx="990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91520" y="2819520"/>
            <a:ext cx="1143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048120" y="1828800"/>
            <a:ext cx="4876560" cy="1828800"/>
          </a:xfrm>
          <a:custGeom>
            <a:avLst/>
            <a:gdLst/>
            <a:ahLst/>
            <a:rect l="l" t="t" r="r" b="b"/>
            <a:pathLst>
              <a:path w="2208" h="968">
                <a:moveTo>
                  <a:pt x="0" y="968"/>
                </a:moveTo>
                <a:cubicBezTo>
                  <a:pt x="12" y="944"/>
                  <a:pt x="24" y="920"/>
                  <a:pt x="48" y="872"/>
                </a:cubicBezTo>
                <a:cubicBezTo>
                  <a:pt x="72" y="824"/>
                  <a:pt x="112" y="736"/>
                  <a:pt x="144" y="680"/>
                </a:cubicBezTo>
                <a:cubicBezTo>
                  <a:pt x="176" y="624"/>
                  <a:pt x="208" y="584"/>
                  <a:pt x="240" y="536"/>
                </a:cubicBezTo>
                <a:cubicBezTo>
                  <a:pt x="272" y="488"/>
                  <a:pt x="296" y="440"/>
                  <a:pt x="336" y="392"/>
                </a:cubicBezTo>
                <a:cubicBezTo>
                  <a:pt x="376" y="344"/>
                  <a:pt x="432" y="288"/>
                  <a:pt x="480" y="248"/>
                </a:cubicBezTo>
                <a:cubicBezTo>
                  <a:pt x="528" y="208"/>
                  <a:pt x="568" y="184"/>
                  <a:pt x="624" y="152"/>
                </a:cubicBezTo>
                <a:cubicBezTo>
                  <a:pt x="680" y="120"/>
                  <a:pt x="744" y="80"/>
                  <a:pt x="816" y="56"/>
                </a:cubicBezTo>
                <a:cubicBezTo>
                  <a:pt x="888" y="32"/>
                  <a:pt x="976" y="16"/>
                  <a:pt x="1056" y="8"/>
                </a:cubicBezTo>
                <a:cubicBezTo>
                  <a:pt x="1136" y="0"/>
                  <a:pt x="1224" y="0"/>
                  <a:pt x="1296" y="8"/>
                </a:cubicBezTo>
                <a:cubicBezTo>
                  <a:pt x="1368" y="16"/>
                  <a:pt x="1424" y="32"/>
                  <a:pt x="1488" y="56"/>
                </a:cubicBezTo>
                <a:cubicBezTo>
                  <a:pt x="1552" y="80"/>
                  <a:pt x="1624" y="120"/>
                  <a:pt x="1680" y="152"/>
                </a:cubicBezTo>
                <a:cubicBezTo>
                  <a:pt x="1736" y="184"/>
                  <a:pt x="1776" y="208"/>
                  <a:pt x="1824" y="248"/>
                </a:cubicBezTo>
                <a:cubicBezTo>
                  <a:pt x="1872" y="288"/>
                  <a:pt x="1928" y="344"/>
                  <a:pt x="1968" y="392"/>
                </a:cubicBezTo>
                <a:cubicBezTo>
                  <a:pt x="2008" y="440"/>
                  <a:pt x="2032" y="480"/>
                  <a:pt x="2064" y="536"/>
                </a:cubicBezTo>
                <a:cubicBezTo>
                  <a:pt x="2096" y="592"/>
                  <a:pt x="2136" y="680"/>
                  <a:pt x="2160" y="728"/>
                </a:cubicBezTo>
                <a:cubicBezTo>
                  <a:pt x="2184" y="776"/>
                  <a:pt x="2200" y="808"/>
                  <a:pt x="2208" y="824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934320" y="2209680"/>
            <a:ext cx="0" cy="3276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90720" y="1143000"/>
            <a:ext cx="7467480" cy="4495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16200000">
            <a:off x="-994320" y="2590920"/>
            <a:ext cx="33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galom és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089680" y="1231920"/>
            <a:ext cx="168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gal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039920" y="4294080"/>
            <a:ext cx="104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990720" y="4876920"/>
            <a:ext cx="7162560" cy="838080"/>
          </a:xfrm>
          <a:custGeom>
            <a:avLst/>
            <a:gdLst/>
            <a:ahLst/>
            <a:rect l="l" t="t" r="r" b="b"/>
            <a:pathLst>
              <a:path w="4608" h="584">
                <a:moveTo>
                  <a:pt x="0" y="584"/>
                </a:moveTo>
                <a:cubicBezTo>
                  <a:pt x="92" y="552"/>
                  <a:pt x="184" y="520"/>
                  <a:pt x="288" y="488"/>
                </a:cubicBezTo>
                <a:cubicBezTo>
                  <a:pt x="392" y="456"/>
                  <a:pt x="496" y="432"/>
                  <a:pt x="624" y="392"/>
                </a:cubicBezTo>
                <a:cubicBezTo>
                  <a:pt x="752" y="352"/>
                  <a:pt x="928" y="288"/>
                  <a:pt x="1056" y="248"/>
                </a:cubicBezTo>
                <a:cubicBezTo>
                  <a:pt x="1184" y="208"/>
                  <a:pt x="1272" y="184"/>
                  <a:pt x="1392" y="152"/>
                </a:cubicBezTo>
                <a:cubicBezTo>
                  <a:pt x="1512" y="120"/>
                  <a:pt x="1640" y="80"/>
                  <a:pt x="1776" y="56"/>
                </a:cubicBezTo>
                <a:cubicBezTo>
                  <a:pt x="1912" y="32"/>
                  <a:pt x="2080" y="16"/>
                  <a:pt x="2208" y="8"/>
                </a:cubicBezTo>
                <a:cubicBezTo>
                  <a:pt x="2336" y="0"/>
                  <a:pt x="2440" y="0"/>
                  <a:pt x="2544" y="8"/>
                </a:cubicBezTo>
                <a:cubicBezTo>
                  <a:pt x="2648" y="16"/>
                  <a:pt x="2728" y="32"/>
                  <a:pt x="2832" y="56"/>
                </a:cubicBezTo>
                <a:cubicBezTo>
                  <a:pt x="2936" y="80"/>
                  <a:pt x="3072" y="128"/>
                  <a:pt x="3168" y="152"/>
                </a:cubicBezTo>
                <a:cubicBezTo>
                  <a:pt x="3264" y="176"/>
                  <a:pt x="3312" y="184"/>
                  <a:pt x="3408" y="200"/>
                </a:cubicBezTo>
                <a:cubicBezTo>
                  <a:pt x="3504" y="216"/>
                  <a:pt x="3616" y="232"/>
                  <a:pt x="3744" y="248"/>
                </a:cubicBezTo>
                <a:cubicBezTo>
                  <a:pt x="3872" y="264"/>
                  <a:pt x="4048" y="288"/>
                  <a:pt x="4176" y="296"/>
                </a:cubicBezTo>
                <a:cubicBezTo>
                  <a:pt x="4304" y="304"/>
                  <a:pt x="4440" y="296"/>
                  <a:pt x="4512" y="296"/>
                </a:cubicBezTo>
                <a:cubicBezTo>
                  <a:pt x="4584" y="296"/>
                  <a:pt x="4596" y="296"/>
                  <a:pt x="4608" y="296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galom és profit a termékéletciklus egyes szakaszai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Köszönöm a figyelmet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999900"/>
                </a:solidFill>
                <a:latin typeface="Garamond"/>
              </a:rPr>
              <a:t>Árpolitika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árpáti Lászl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Ár, mint a marketing mix elem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Verdana"/>
              </a:rPr>
              <a:t>   „</a:t>
            </a:r>
            <a:r>
              <a:rPr b="0" i="1" lang="hu-HU" sz="2800" spc="-1" strike="noStrike">
                <a:solidFill>
                  <a:srgbClr val="000000"/>
                </a:solidFill>
                <a:latin typeface="Verdana"/>
              </a:rPr>
              <a:t>Mottó: Ha a hatékony termékpolitika, reklám és értékesítés elveti az üzleti siker magvait, akkor a hatékony árpolitika learatja azt” idézi Bauer-Berács (1996), Nagle (1987) gondolatá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ipikus keresleti görbe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684360" y="1729080"/>
            <a:ext cx="7200360" cy="4365000"/>
            <a:chOff x="684360" y="1729080"/>
            <a:chExt cx="7200360" cy="4365000"/>
          </a:xfrm>
        </p:grpSpPr>
        <p:sp>
          <p:nvSpPr>
            <p:cNvPr id="463" name=""/>
            <p:cNvSpPr/>
            <p:nvPr/>
          </p:nvSpPr>
          <p:spPr>
            <a:xfrm>
              <a:off x="684360" y="2170440"/>
              <a:ext cx="1152000" cy="331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836360" y="5113440"/>
              <a:ext cx="5904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420360" y="3151080"/>
              <a:ext cx="720" cy="22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836360" y="4132440"/>
              <a:ext cx="3168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68360" y="2415600"/>
              <a:ext cx="3888360" cy="24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1836360" y="1729080"/>
              <a:ext cx="720" cy="37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20360" y="5481360"/>
              <a:ext cx="1584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5004720" y="4132440"/>
              <a:ext cx="720" cy="134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1836360" y="3151440"/>
              <a:ext cx="1584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260360" y="3887280"/>
              <a:ext cx="720" cy="3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flipV="1">
              <a:off x="3420360" y="5154480"/>
              <a:ext cx="72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44360" y="5603760"/>
              <a:ext cx="115200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iindul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á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96720" y="5603760"/>
              <a:ext cx="1152000" cy="24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Árnövelé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0720" y="5603760"/>
              <a:ext cx="1584000" cy="24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Ár,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t/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60360" y="3519360"/>
              <a:ext cx="0" cy="49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60360" y="3519360"/>
              <a:ext cx="0" cy="49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16360" y="3519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4360" y="2170440"/>
              <a:ext cx="1152000" cy="331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reslet, 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iinduló értékesíté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Értékesítés csökkenés az árnövelés hatásá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60360" y="3396600"/>
              <a:ext cx="0" cy="49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Árrugalmassági együttható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476360" y="1916280"/>
                <a:ext cx="259236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marketing mikrokörnyezete II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gisztikai szerveztek (szállítmányozók, raktározók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rketing szervezetek, (piackutató, reklám, PR, és marketing tanácsadó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ormációs szervezetek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zakmai szövetségek, érdekképviseletek, politikai pártok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közvélemény, a civil szervezetek, a kormányzat / önkormányzat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médi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Költségalapú árképzés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43080" y="2708280"/>
            <a:ext cx="8800920" cy="1739520"/>
            <a:chOff x="343080" y="2708280"/>
            <a:chExt cx="8800920" cy="1739520"/>
          </a:xfrm>
        </p:grpSpPr>
        <p:sp>
          <p:nvSpPr>
            <p:cNvPr id="488" name=""/>
            <p:cNvSpPr/>
            <p:nvPr/>
          </p:nvSpPr>
          <p:spPr>
            <a:xfrm>
              <a:off x="343080" y="2708280"/>
              <a:ext cx="799920" cy="80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lőállítási költsé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00200" y="2708280"/>
              <a:ext cx="799920" cy="80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lvárt gyártói nyeresé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857680" y="2708280"/>
              <a:ext cx="799920" cy="80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ermelő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á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14800" y="2708280"/>
              <a:ext cx="799920" cy="80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+ Rárakódó árrések + ÁF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372280" y="2708280"/>
              <a:ext cx="799920" cy="80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ogyasztói á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29400" y="2708280"/>
              <a:ext cx="799920" cy="80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ermék és ára a piac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115480" y="2708280"/>
              <a:ext cx="1028520" cy="80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ogyaszt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43280" y="3878280"/>
              <a:ext cx="1028520" cy="56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Legyártott termé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15200" y="3878280"/>
              <a:ext cx="1142640" cy="56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ásárlási dönté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gen/N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43000" y="2963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00480" y="2963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57600" y="2963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15080" y="2963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72200" y="2963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5800" y="342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5800" y="4106880"/>
              <a:ext cx="125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71800" y="4221360"/>
              <a:ext cx="33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286680" y="3191760"/>
              <a:ext cx="0" cy="10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86680" y="319212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429680" y="296352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886880" y="296352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886880" y="2963520"/>
              <a:ext cx="0" cy="9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58280" y="2963520"/>
              <a:ext cx="0" cy="9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9900"/>
                </a:solidFill>
                <a:latin typeface="Garamond"/>
              </a:rPr>
              <a:t>Árképzés a fogyasztói értékítélet szerint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50920" y="2276640"/>
            <a:ext cx="8892720" cy="2214360"/>
            <a:chOff x="250920" y="2276640"/>
            <a:chExt cx="8892720" cy="2214360"/>
          </a:xfrm>
        </p:grpSpPr>
        <p:sp>
          <p:nvSpPr>
            <p:cNvPr id="513" name=""/>
            <p:cNvSpPr/>
            <p:nvPr/>
          </p:nvSpPr>
          <p:spPr>
            <a:xfrm>
              <a:off x="364680" y="2276640"/>
              <a:ext cx="797760" cy="63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ogyaszt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60920" y="2276640"/>
              <a:ext cx="1026000" cy="74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iacon lévő termék tulajdonságai és á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09520" y="2413080"/>
              <a:ext cx="911880" cy="47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gen, legyárt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91640" y="2276640"/>
              <a:ext cx="911880" cy="109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ermelői döntés az elérhető jövedelem alapjá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231760" y="2413080"/>
              <a:ext cx="911880" cy="70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em gyárt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50920" y="3672720"/>
              <a:ext cx="569880" cy="54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62800" y="3641040"/>
              <a:ext cx="911880" cy="81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ásárló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02920" y="3641040"/>
              <a:ext cx="911880" cy="81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gen, adott ár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25520" y="3641040"/>
              <a:ext cx="911880" cy="81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= Termelői á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065640" y="3641040"/>
              <a:ext cx="911880" cy="84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- Előállítói költsé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71280" y="3641040"/>
              <a:ext cx="911880" cy="81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Ár - ÁF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- Rárakódó árrése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62800" y="268524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1732680" y="268524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91040" y="2685240"/>
              <a:ext cx="0" cy="90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733040" y="2685240"/>
              <a:ext cx="0" cy="90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205760" y="3641040"/>
              <a:ext cx="911880" cy="81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= Nyeresé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2987280" y="2685240"/>
              <a:ext cx="262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521040" y="2685240"/>
              <a:ext cx="56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003880" y="268524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820800" y="391464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075040" y="391464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15160" y="3914640"/>
              <a:ext cx="45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83520" y="391464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37400" y="391464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77520" y="391464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547760" y="3367800"/>
              <a:ext cx="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Gyakorlati pél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állalkozásunkban egy újszerű testápoló krémet fejlesztettünk ki, amely egyszerre segít a barnulásban és véd a káros sugárzások ell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krém előállítási költsége 300 Ft/tubus, és 20 %-os költségarányos nyereséget kívánunk elérni. A termelői ár ezért 300 x (1+20/100) = 360 Ft/tubus. Nagykereskedelmi árrés 10 %, kiskereskedelmi árrés 15 %, ÁFA kulcs 20 %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z egyes árak ezek alapjá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gykereskedelmi ár: 360 Ft/tubus x (1+10/100) = 396 Ft/tub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iskereskedelmi ár:    396 Ft/tubus x (1+15/100) = 455 Ft/ tub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gyasztói ár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455 Ft/tubus x (1+20/100) = 546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t/ tub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Gyakorlati példa 2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zsgáljuk meg, hogy ilyen fogyasztói ár milyen hatással lenne a gyártásban és forgalmazásban résztvevők anyagi helyzeté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gyasztói ár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00 Ft/tub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ÁF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00 – (800/(1+20/100)) = 134 Ft/tub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iskereskedelmi ár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00 – 134 = 666 Ft/tub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gykereskedelmi ár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66 – (666/(1+15/100)) = 579 Ft/tub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rmelői ár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79 – (579/(1+10/100)) = 526 Ft/tub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őállítási költség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00 Ft/ tub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yereség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26 – 300 = 226 Ft/tubus, amely az eredeti termelői nyereség 377 %-a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Új termék induló árstratégiája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859040" y="2135160"/>
            <a:ext cx="542592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z iparági értékesítés, költségek és a piaci átlagár viszony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1521000" y="1600200"/>
            <a:ext cx="6102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9900"/>
                </a:solidFill>
                <a:latin typeface="Garamond"/>
              </a:rPr>
              <a:t>Értékesítés várható jövedelme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8" name=""/>
          <p:cNvSpPr/>
          <p:nvPr/>
        </p:nvSpPr>
        <p:spPr>
          <a:xfrm>
            <a:off x="2165400" y="170640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826920" y="1700280"/>
          <a:ext cx="7777440" cy="4708440"/>
        </p:xfrm>
        <a:graphic>
          <a:graphicData uri="http://schemas.openxmlformats.org/drawingml/2006/table">
            <a:tbl>
              <a:tblPr/>
              <a:tblGrid>
                <a:gridCol w="1970280"/>
                <a:gridCol w="1477800"/>
                <a:gridCol w="1332000"/>
                <a:gridCol w="1478160"/>
                <a:gridCol w="1519200"/>
              </a:tblGrid>
              <a:tr h="660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gyasztói árszint P</a:t>
                      </a:r>
                      <a:r>
                        <a:rPr b="1" lang="hu-H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e eFt/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rtékesí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rbevé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Összes költsé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öved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9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 (d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B, e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, e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ÖV, e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7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4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7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8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5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1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9900"/>
                </a:solidFill>
                <a:latin typeface="Garamond"/>
              </a:rPr>
              <a:t>Értékesítés várható jövedelme eltérő költségszintek esetén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457200" y="1600200"/>
          <a:ext cx="8229600" cy="4691160"/>
        </p:xfrm>
        <a:graphic>
          <a:graphicData uri="http://schemas.openxmlformats.org/drawingml/2006/table">
            <a:tbl>
              <a:tblPr/>
              <a:tblGrid>
                <a:gridCol w="1666800"/>
                <a:gridCol w="1384200"/>
                <a:gridCol w="1101960"/>
                <a:gridCol w="1204920"/>
                <a:gridCol w="1141200"/>
                <a:gridCol w="17305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forgalmazás összes költsé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termelés változó költsé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rmegjelöl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um á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imális jövedelmet adó ár P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„optimum”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imum ár P</a:t>
                      </a:r>
                      <a:r>
                        <a:rPr b="1" lang="hu-HU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max</a:t>
                      </a: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V, eFt/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 .Ft/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F</a:t>
                      </a:r>
                      <a:r>
                        <a:rPr b="1" lang="hu-HU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lle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övede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lle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t/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V = 50 e .Ft/db = átlagos sz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r, e .Ft/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 forgalmazási költség = hatékony csatorna -menedzs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övedelem, et/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90 5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V = 60 e .Ft/db = nem hatékony költségmenedzs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r, eFt/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övedelem, eFt/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31 5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V = 40 e .Ft/db = hatékony költséggazdálkod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r, eFt/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övedelem, eFt/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9900"/>
                </a:solidFill>
                <a:latin typeface="Garamond"/>
              </a:rPr>
              <a:t>Értékesítés várható jövedelme eltérő költségszintek esetén 2.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1508040" y="2401920"/>
          <a:ext cx="6970680" cy="3279600"/>
        </p:xfrm>
        <a:graphic>
          <a:graphicData uri="http://schemas.openxmlformats.org/drawingml/2006/table">
            <a:tbl>
              <a:tblPr/>
              <a:tblGrid>
                <a:gridCol w="1411200"/>
                <a:gridCol w="1173240"/>
                <a:gridCol w="932040"/>
                <a:gridCol w="1022400"/>
                <a:gridCol w="966600"/>
                <a:gridCol w="1465200"/>
              </a:tblGrid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V = 50 eFt/db = átlagos sz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r, eFt/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% forgalmazási költség = nem hatékony csatorna-menedzs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övedelem, eFt/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1 25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V = 60 eFt/db = nem hatékony költségmenedzs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r, eFt/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övedelem, eFt/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6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8 7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V = 40 eFt/db = hatékony költséggazdálkod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r, eFt/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övedelem, eFt/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 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Árdöntése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úlzottan magas árakon nem lehet jövedelmező termelést folytatni, a piac ezt általában nem fogadja 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z átlagos piaci áraknál jelentősen alacsonyabb árakat csak akkor indokolt alkalmazni, ha a termelői költség szintje tartósan alacsony, akkor viszont ezt alkalmazni kell, a versenytársak kiszorítása érdekéb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ermelés magas költségeit még rövidtávon sem lehet jövedelemcsökkenés nélkül elfogadtatni a piacon, hosszú-távú hatása ránk nézve tragikus leh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ába van a gyártás során szigorú költséggazdálkodás, a forgalmazás magas költsége ennek gazdasági hatását lerontja a piac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A marketing rendsze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vevői/fogyasztói célcsoport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vállalat által nem, vagy korlátozottan ellenőrizhető tényezők, amelyeket összefoglalóan a marketing környezetének nevezhetünk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marketing-mix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Köszönöm a figyelmet!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GRÁRMARKETING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999900"/>
                </a:solidFill>
                <a:latin typeface="Garamond"/>
              </a:rPr>
              <a:t>AZ ÉRTÉKESÍTÉSI CSATORNA SZEREPE A MARKETINGBEN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999900"/>
                </a:solidFill>
                <a:latin typeface="Garamond"/>
              </a:rPr>
              <a:t>Dr. Komáromi Nándor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95280" y="371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z értékesítési csatorna fogalma és csoportjai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ársadalmi munkamegosztás fejlődésével, a kereslet és kínálat sokszínűvé válásával (differenciálódásával) párhuzamosan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ermelők és a felhasználó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illetve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ogyasztók térben és időben egyre inkább elkülönülnek egymástó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A térbeni és időbeni elkülönülés áthidalására a termelő és a fogyasztó közé ún. közvetítő szervezetek, feldolgozók és forgalmazók ékelődnek b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9900"/>
                </a:solidFill>
                <a:latin typeface="Garamond"/>
              </a:rPr>
              <a:t>Az értékesítési csatorna fogalma és csoportjai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disztribúciós rendszer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alapvetően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két részből áll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gyrészt az értékesítési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arketing)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sator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ásrészt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izikai elosztá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market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ogisztik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alrendszerébő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9900"/>
                </a:solidFill>
                <a:latin typeface="Garamond"/>
              </a:rPr>
              <a:t>Az értékesítési csatorna fogalma és csoportjai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piaci szereplők kapcsolatában fontos érdekellentétek mutatkoznak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ermelő/az eladó az egyszerre nagyobb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ennyisé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értékesítésében érdekelt, a vevő/ a vásárló a többször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isebb mennyiség vásárlásában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z eladó a megtermel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nőség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ívánja értékesíteni, a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vő/vásárló a felhasználói célnak megfelelő minőség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ívánja megvásárolni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z eladó, a termelő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agytömegű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kisebb választék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rmék értékesítésében érdekelt, a vevő/ a vásárló 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zélesebb választé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gyidejű elérhetőségében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9900"/>
                </a:solidFill>
                <a:latin typeface="Garamond"/>
              </a:rPr>
              <a:t>Az értékesítési csatorna fogalma és csoportjai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z eladó a lehető legmagasabb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árat szeretné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lérni, a vevő/a fogyasztó pedig a legalacsonyabb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d az eladó, mind a vevő a legalacsonyabb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ockáza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állalásában érdekelt, amely kockázat megosztásban konfliktusokat okozh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9900"/>
                </a:solidFill>
                <a:latin typeface="Garamond"/>
              </a:rPr>
              <a:t>Az értékesítési csatorna fogalma és csoportjai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ezőgazdasági termékek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és élelmiszerek az elosztási rendszer sajátosság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limatikus feltétele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ghatározzák a termék termelhetőségét, az adott helyen való elérhetőségét, valamint a termelés költségeit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rmékek jelentős része romland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rövid ideig tárolható, raktározható, illetve abból fakadóan speciális szállítási módszereket igény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z értékesítési csatorna fogalma és csoportjai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ermelé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dőjárási okok miat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jelentős szezonalítást mutat, illetve fogyasztói magatartás miatt a kereslet szezonalítása is sok esetben érvényesü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ezőgazdasági termékek és élelmiszerek előállításában, illetve felhasználásban, fogyasztásában nag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zámú piaci szereplő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és fogyasztó vesz rész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erméke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termékszolgáltatások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áramlás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z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formációk áramlás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és a piaci szereplők közti megosztása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ulajdonjogok áramlás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végső felhasználó irányáb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z értékesítési csatornán belüli folyamatok közül az alapvetők a következők: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9900"/>
                </a:solidFill>
                <a:latin typeface="Garamond"/>
              </a:rPr>
              <a:t>Az értékesítési csatorna fogalma és csoportjai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z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értékesítési csatornán belüli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fontosabb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rketingfunkcióka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 következőképpen csoportosíthatju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serefunkció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z értékesítés, a beszerzés, az árképzé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izikai áruelosztási funkció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szállítás, a raktározás és a készletgazdálkodá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isegítő funkció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z osztályozás, a válogatás, a piaci információgyűjtés, a finanszírozás, a minőségellenőrzés és szabályozá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marketing-mix, a 4P rendszere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oduct: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ermék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ice: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ár és eladási feltételek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lace: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értékesítési csatorna és az árusítás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omotion: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eladásösztönzés, marketingkommunikáció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9900"/>
                </a:solidFill>
                <a:latin typeface="Garamond"/>
              </a:rPr>
              <a:t>Az értékesítési csatorna fogalma és csoportjai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z értékesítési csatornán belül működő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intézmények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csoportosítás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z inputhoz kapcsolódó intézmények: a direkt és az indirekt ellátók és beszállítók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z outputhoz kapcsolódó intézmények: a direkt és az indirekt felhasználók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jelenlegi és potenciális versenytársak, helyettesítő termékeket előállító versenytársak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zabályozási intézmények: kormányzati szervezetek, iparági szervezetek és érdekvédelmi szervezete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9900"/>
                </a:solidFill>
                <a:latin typeface="Garamond"/>
              </a:rPr>
              <a:t>Az értékesítési csatorna fogalma és csoportjai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Értékesítési csatorna közvetítők csoportosítás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özvetítő kereskedők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gykereskedők, kiskereskedők, külkereskedők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özvetítő ügynökségek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ügynökök, alkuszok, bizományosok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pekulatív közvetítők, kereskedők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ldolgozók egyéb, ún. elősegítő szervezete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z élelmiszer-kereskedelem funkciói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457200" y="1628640"/>
          <a:ext cx="8218440" cy="5115240"/>
        </p:xfrm>
        <a:graphic>
          <a:graphicData uri="http://schemas.openxmlformats.org/drawingml/2006/table">
            <a:tbl>
              <a:tblPr/>
              <a:tblGrid>
                <a:gridCol w="3902040"/>
                <a:gridCol w="4316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ő funkciók (nagykereskedelem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segítő funkciók (nagykereskedele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Clr>
                          <a:srgbClr val="666600"/>
                        </a:buClr>
                        <a:buSzPct val="75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beszerzés, beszállítás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Clr>
                          <a:srgbClr val="666600"/>
                        </a:buClr>
                        <a:buSzPct val="75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z osztályozás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Clr>
                          <a:srgbClr val="666600"/>
                        </a:buClr>
                        <a:buSzPct val="75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rövid távú raktározás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Clr>
                          <a:srgbClr val="666600"/>
                        </a:buClr>
                        <a:buSzPct val="75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választékkialakítás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Clr>
                          <a:srgbClr val="666600"/>
                        </a:buClr>
                        <a:buSzPct val="75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kiszállítás, elosztás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Clr>
                          <a:srgbClr val="666600"/>
                        </a:buClr>
                        <a:buSzPct val="75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szállítási információk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yújtása  a  vevőknek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Clr>
                          <a:srgbClr val="666600"/>
                        </a:buClr>
                        <a:buSzPct val="75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ációnyújtás  a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skereskedelemnek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Clr>
                          <a:srgbClr val="666600"/>
                        </a:buClr>
                        <a:buSzPct val="75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hosszú távú raktározás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Clr>
                          <a:srgbClr val="666600"/>
                        </a:buClr>
                        <a:buSzPct val="75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z információgyűjtés a  </a:t>
                      </a:r>
                      <a:br>
                        <a:rPr sz="1900"/>
                      </a:b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gyártóktól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Clr>
                          <a:srgbClr val="666600"/>
                        </a:buClr>
                        <a:buSzPct val="75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új termékek értékelése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Clr>
                          <a:srgbClr val="666600"/>
                        </a:buClr>
                        <a:buSzPct val="75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régi termékek kiszelektálása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Clr>
                          <a:srgbClr val="666600"/>
                        </a:buClr>
                        <a:buSzPct val="75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rövid távú hitelnyújtás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Clr>
                          <a:srgbClr val="666600"/>
                        </a:buClr>
                        <a:buSzPct val="75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kiskereskedelmi árajánlat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Clr>
                          <a:srgbClr val="666600"/>
                        </a:buClr>
                        <a:buSzPct val="75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z újracsomagolás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Clr>
                          <a:srgbClr val="666600"/>
                        </a:buClr>
                        <a:buSzPct val="75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kiskereskedelem segítés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hely, forma kialakítása,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buClr>
                          <a:srgbClr val="666600"/>
                        </a:buClr>
                        <a:buSzPct val="75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klámtámogatás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z élelmiszer-kereskedelem funkciói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1649520" y="1700280"/>
            <a:ext cx="5843520" cy="396720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7451640" y="1700280"/>
            <a:ext cx="7308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z élelmiszer-kereskedelem funkciói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5" name=""/>
          <p:cNvSpPr/>
          <p:nvPr/>
        </p:nvSpPr>
        <p:spPr>
          <a:xfrm>
            <a:off x="8028000" y="1844640"/>
            <a:ext cx="0" cy="41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116000" y="1773360"/>
            <a:ext cx="6824520" cy="4397400"/>
            <a:chOff x="1116000" y="1773360"/>
            <a:chExt cx="6824520" cy="4397400"/>
          </a:xfrm>
        </p:grpSpPr>
        <p:sp>
          <p:nvSpPr>
            <p:cNvPr id="587" name=""/>
            <p:cNvSpPr/>
            <p:nvPr/>
          </p:nvSpPr>
          <p:spPr>
            <a:xfrm>
              <a:off x="1646640" y="1784520"/>
              <a:ext cx="2503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Fő funkciók (kiskereskedelem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03560" y="17845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831200" y="1784520"/>
              <a:ext cx="296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Kisegítő funkciók (kiskereskedelem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21560" y="17845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116000" y="17733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116000" y="17733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127160" y="1773360"/>
              <a:ext cx="33955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522680" y="17733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533840" y="1773360"/>
              <a:ext cx="3397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31160" y="177336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31160" y="177336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116000" y="1784520"/>
              <a:ext cx="11160" cy="21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522680" y="1784520"/>
              <a:ext cx="11160" cy="21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931160" y="1784520"/>
              <a:ext cx="9360" cy="21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229760" y="205092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93120" y="20718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372320" y="2073240"/>
              <a:ext cx="2335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 bolt belső tér és polctervezé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592440" y="20732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229760" y="232236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93120" y="23432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79520" y="2344680"/>
              <a:ext cx="20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 készlet, és  raktártervezé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354480" y="23446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229760" y="259380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293120" y="26146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15880" y="2616120"/>
              <a:ext cx="13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91120" y="2616120"/>
              <a:ext cx="2552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kiskereskedelmi árak kihelyezé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14640" y="26161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229760" y="286704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93120" y="28875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91040" y="2889360"/>
              <a:ext cx="1398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 bolti reklámozá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19440" y="2889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29760" y="313848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293120" y="31590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405440" y="3160800"/>
              <a:ext cx="68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500" spc="-1" strike="noStrike">
                  <a:solidFill>
                    <a:srgbClr val="000000"/>
                  </a:solidFill>
                  <a:latin typeface="Times New Roman"/>
                </a:rPr>
                <a:t>a viszárú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052000" y="31608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098440" y="3160800"/>
              <a:ext cx="72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szervezé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90720" y="31608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29760" y="341136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93120" y="34322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92840" y="3433680"/>
              <a:ext cx="1265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 készletfigyelé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593800" y="34336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229760" y="368460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293120" y="37051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360080" y="3706920"/>
              <a:ext cx="3076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 darabolás, az újracsomagolás (pl. hús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11560" y="3917880"/>
              <a:ext cx="329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sajt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22240" y="39178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29760" y="417024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293120" y="41911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359000" y="4192560"/>
              <a:ext cx="3120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 speciális részlegek szervezése (pl. bor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399680" y="4403880"/>
              <a:ext cx="94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sajt, pékáru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92480" y="44038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29760" y="465444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93120" y="46753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377360" y="4676760"/>
              <a:ext cx="2116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 merchandising szervezé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387600" y="46767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29760" y="492588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93120" y="49467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238760" y="4948200"/>
              <a:ext cx="308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 gyártói árengedmények felhasználás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130640" y="49482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00480" y="49482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29760" y="519912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93120" y="52196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01840" y="5221440"/>
              <a:ext cx="86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 beszerzé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19400" y="52214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229760" y="547056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293120" y="54910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86000" y="5492880"/>
              <a:ext cx="170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 választék kialakítás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003480" y="54928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29760" y="574524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93120" y="57657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387440" y="5767560"/>
              <a:ext cx="162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munkaerő szervezé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928960" y="57675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636440" y="205092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699800" y="20718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16440" y="2073240"/>
              <a:ext cx="47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 hit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261760" y="20732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285520" y="2073240"/>
              <a:ext cx="183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génybevétel szervezé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31160" y="20732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636440" y="232236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99800" y="23432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00240" y="2344680"/>
              <a:ext cx="1332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 házhoz szállítá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67440" y="23446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636440" y="259380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699800" y="26146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777200" y="2616120"/>
              <a:ext cx="2472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 bolti szolgáltatások szervezé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124760" y="26161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36440" y="286704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99800" y="28875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68200" y="2889360"/>
              <a:ext cx="299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z élelmiszerek tisztítása, osztályozása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16880" y="2889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36440" y="313848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99800" y="31590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06360" y="3160800"/>
              <a:ext cx="945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 tanácsadá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705280" y="31608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36440" y="341136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99800" y="34322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784400" y="3433680"/>
              <a:ext cx="21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 bolti bemutatók szervezé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69160" y="34336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36440" y="368460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99800" y="37051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963960" y="3706920"/>
              <a:ext cx="390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z üvegek, használt csomagoló anyagok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05720" y="370692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99160" y="3917880"/>
              <a:ext cx="125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újrahasznosítás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987880" y="39178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6440" y="417024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699800" y="41911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40480" y="4192560"/>
              <a:ext cx="317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 bolti étkeztetési szolgáltatás szervezé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42160" y="41925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36440" y="444168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99800" y="44625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80080" y="4464000"/>
              <a:ext cx="2385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 postai szolgáltatás szervezé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047000" y="4464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36440" y="471312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99800" y="47340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88720" y="4735440"/>
              <a:ext cx="177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 hitelkártya elfogadás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473880" y="47354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36440" y="4986360"/>
              <a:ext cx="7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699800" y="50068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93040" y="5008680"/>
              <a:ext cx="170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 gépbérlet szervezé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410160" y="50086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116000" y="1998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127160" y="1998720"/>
              <a:ext cx="33955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522680" y="1998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533840" y="1998720"/>
              <a:ext cx="3397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931160" y="19987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16000" y="2009880"/>
              <a:ext cx="11160" cy="396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16000" y="59770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16000" y="59770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127160" y="5977080"/>
              <a:ext cx="339552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522680" y="2009880"/>
              <a:ext cx="11160" cy="396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22680" y="59770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33840" y="5977080"/>
              <a:ext cx="339732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931160" y="2009880"/>
              <a:ext cx="9360" cy="396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31160" y="5977080"/>
              <a:ext cx="93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931160" y="5977080"/>
              <a:ext cx="93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04560" y="59878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z élelmiszer-kereskedelem funkciói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4" name=""/>
          <p:cNvSpPr/>
          <p:nvPr/>
        </p:nvSpPr>
        <p:spPr>
          <a:xfrm>
            <a:off x="7524720" y="1773360"/>
            <a:ext cx="0" cy="40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755640" y="1628640"/>
            <a:ext cx="6753240" cy="4223160"/>
            <a:chOff x="755640" y="1628640"/>
            <a:chExt cx="6753240" cy="4223160"/>
          </a:xfrm>
        </p:grpSpPr>
        <p:sp>
          <p:nvSpPr>
            <p:cNvPr id="726" name=""/>
            <p:cNvSpPr/>
            <p:nvPr/>
          </p:nvSpPr>
          <p:spPr>
            <a:xfrm>
              <a:off x="1382040" y="1638360"/>
              <a:ext cx="22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ő funkciók (vendéglátóipa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55000" y="16383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40680" y="1638360"/>
              <a:ext cx="265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Kisegítő funkciók (vendéglátóipa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34840" y="16383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5640" y="1628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55640" y="1628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66800" y="1628640"/>
              <a:ext cx="3360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127400" y="1628640"/>
              <a:ext cx="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137120" y="1628640"/>
              <a:ext cx="3360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497720" y="1628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97720" y="1628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5640" y="1639800"/>
              <a:ext cx="11160" cy="20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127400" y="1639800"/>
              <a:ext cx="9720" cy="20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97720" y="1639800"/>
              <a:ext cx="11160" cy="20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69400" y="189072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930600" y="1911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47960" y="1911240"/>
              <a:ext cx="259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szolgáltatási forma meghatározá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594600" y="19112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69400" y="214956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930600" y="2170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055520" y="2170080"/>
              <a:ext cx="28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z 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9120" y="2170080"/>
              <a:ext cx="1611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tkeztető rész tervezé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911680" y="2170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69400" y="240660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30600" y="2427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049040" y="2427120"/>
              <a:ext cx="229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menüválaszték meghatározá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306960" y="24271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69400" y="266544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30600" y="2685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052640" y="2685960"/>
              <a:ext cx="1326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z ármeghatározá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356200" y="2685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69400" y="292248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930600" y="2943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049040" y="2943360"/>
              <a:ext cx="302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z élelmiszerek beszerzése és előkészíté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18320" y="29433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69400" y="318132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930600" y="3201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47240" y="3201840"/>
              <a:ext cx="3115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z előkészítő gépek, eszközök kiválasztás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054440" y="3403440"/>
              <a:ext cx="95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s beszerzé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994400" y="3403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69400" y="364176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30600" y="3662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49400" y="3662280"/>
              <a:ext cx="181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beszállítók kiválasztá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31040" y="36622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69400" y="390060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930600" y="3921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46160" y="3921120"/>
              <a:ext cx="2986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kereslet és a vendégáramlási időpontok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52640" y="4121280"/>
              <a:ext cx="106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eghatározá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095920" y="41212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69400" y="435924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930600" y="4379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54440" y="43797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207080" y="4379760"/>
              <a:ext cx="1662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elkészítés ütemezé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38960" y="4379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69400" y="461808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930600" y="4638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52280" y="4638600"/>
              <a:ext cx="165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személyzet beosztá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672280" y="4638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69400" y="487512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930600" y="4896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050840" y="4896000"/>
              <a:ext cx="165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készletmenedzs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673720" y="4896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69400" y="513252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930600" y="5153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049400" y="5153040"/>
              <a:ext cx="2617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z alapanyagok és készletek tárolá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18360" y="51530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69400" y="539280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30600" y="5413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049040" y="5413320"/>
              <a:ext cx="240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menü igényekhez való igazítá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413520" y="54133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241520" y="189072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02720" y="1911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419720" y="1911240"/>
              <a:ext cx="257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z elviteli szolgáltatások szervezé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947280" y="19112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41520" y="214956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02720" y="2170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422960" y="2170080"/>
              <a:ext cx="1254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házhoz szállítá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54880" y="2170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241520" y="240660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2720" y="2427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420080" y="2427120"/>
              <a:ext cx="241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speciális élelmiszerek rendelé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788520" y="24271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241520" y="266544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02720" y="2685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422600" y="2685960"/>
              <a:ext cx="165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az ételek, étkeztetési 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039360" y="2685960"/>
              <a:ext cx="1226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rbe való juttatá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244280" y="2685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241520" y="292248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302720" y="2943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420080" y="2943360"/>
              <a:ext cx="211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tápanyagtartalom kimutatá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493320" y="29433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241520" y="318132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02720" y="3201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422600" y="3201840"/>
              <a:ext cx="181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z eladóhelyi reklámozá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202800" y="3201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241520" y="344016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302720" y="3460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419720" y="3460680"/>
              <a:ext cx="231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z üzleten belül eladásösztönz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6360" y="3460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241520" y="369900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302720" y="3719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421520" y="3719520"/>
              <a:ext cx="19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vendégek szórakoztatá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88480" y="37195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5640" y="184320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66800" y="1843200"/>
              <a:ext cx="3360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127400" y="184320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137120" y="1843200"/>
              <a:ext cx="3360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497720" y="184320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55640" y="1852560"/>
              <a:ext cx="11160" cy="380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5640" y="5656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5640" y="5656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6800" y="5656320"/>
              <a:ext cx="3360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127400" y="1852560"/>
              <a:ext cx="9720" cy="380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127400" y="5656320"/>
              <a:ext cx="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137120" y="5656320"/>
              <a:ext cx="3360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497720" y="1852560"/>
              <a:ext cx="11160" cy="380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497720" y="5656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97720" y="5656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41680" y="5668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9900"/>
                </a:solidFill>
                <a:latin typeface="Garamond"/>
              </a:rPr>
              <a:t>Az intézményrendszer</a:t>
            </a: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 a következőképp rendszerezhető: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z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zonnali és határidős piaci formá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z azonnali piacok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ncentrált piacok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és a határidős koncentrált piacok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z ún. hibrid intézmények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zerződéses rendszerek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z együttműködés/szövetkezet vagy közös vállalat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z értékesítési csatornán belüli koordináció (minőségbiztosítás és ellenőrzés)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z elosztási lánc menedzsment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ertikális integráció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9900"/>
                </a:solidFill>
                <a:latin typeface="Garamond"/>
              </a:rPr>
              <a:t>A koncentrált piacok típusai a következők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 termelői piacok és vásáro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 nagykereskedelmi piacok, terminálpiaco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z aukciók és árverése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 határidős (mezőgazdasági)árutőzsdé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koncentrált piaci formák hátrányai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ghatározott földrajzi koncentráció nagyszámú vevő szüksége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iaci információ gyűjtése, illetve termelőkhöz való visszajuttatása korlátozott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asak a termékminőséggel kapcsolatos kockázatok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goldatlan a termék-, technológiafejlesztés, a minőség és a kínálatszabályozá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ermékdifferenciálódás erősen korlátozot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marketing koncepció lényeg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külső marketing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örnyezet orientáció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melyen belül kritikus elem a fogyasztói szükségletek és igényekhez való alkalmazkodás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vállalaton belüli , a döntéshozatali rendszer környezet, a vállalati kultúra és funkciók végső cél szerinti szervezése és irányítása, (koordinált marketing)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z aukciós piacok működésével kapcsolatos </a:t>
            </a:r>
            <a:r>
              <a:rPr b="1" i="1" lang="en-US" sz="3200" spc="-1" strike="noStrike">
                <a:solidFill>
                  <a:srgbClr val="999900"/>
                </a:solidFill>
                <a:latin typeface="Garamond"/>
              </a:rPr>
              <a:t>fő problémák</a:t>
            </a: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 a következők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gfelelő létszámú eladó és vevő miatt a földrajzi koncentráció jelentős, a szállítási költségek és veszteségek magasak, (a termelő-feldolgozó kapcsolatokban ezért kevésbé előnyösek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ermékek minősítése sok esetben szubjektív módszerekre épül, (vagy  utólagos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z információk alapvetően rövid távúak és utólagosak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z aukciós piacok működésével kapcsolatos </a:t>
            </a:r>
            <a:r>
              <a:rPr b="1" i="1" lang="en-US" sz="3200" spc="-1" strike="noStrike">
                <a:solidFill>
                  <a:srgbClr val="999900"/>
                </a:solidFill>
                <a:latin typeface="Garamond"/>
              </a:rPr>
              <a:t>fő problémák</a:t>
            </a: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 a következők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jól működő aukciók jelentős infrastrukturális beruházást, fejlett informatikai és logisztikai rendszert igényelnek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ermék minőségi paraméterei és a fogyasztói preferenciák közti kapcsolat jelentős kockázatot jelenth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9900"/>
                </a:solidFill>
                <a:latin typeface="Garamond"/>
              </a:rPr>
              <a:t>A határidős tőzsdék működésének feltételei és következményei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ermelői árak magas ingadozása, viszonylag stabil makrogazdasági feltételek mellet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ól működő azonnali piacok, minimális állami, illetve fél állami beavatkozással és árellenőrzésse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ól működő hitel és finanszírozási rendsz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tékony jogi környez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A határidős tőzsdék működésének feltételei és következményei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szonylag stabil valuta és arra épülő határidős ügylete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zeti és spekulációs ügyletekben érdekeltek széles köre, megfelelő piaci versenystruktúr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határidős kontraktusok létrehozása és piaci bevezetés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piactorzulást és manipulációt hatékonyan akadályozó testülete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99900"/>
                </a:solidFill>
                <a:latin typeface="Garamond"/>
              </a:rPr>
              <a:t>A határidős mezőgazdasági árutőzsdék problémái és akadályai</a:t>
            </a:r>
            <a:endParaRPr b="0" lang="en-US" sz="3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3008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olyamatos kereskedelem, az áruforgalmazás meghatározott koncentrációja szüksé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z árkockázatok csökkentése mellett az output és a báziskockázatok (helyi és tőzsdei ár, bevezetési és határidős ár közötti különbségek változása) felértékelődé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ermékminőség, a termékfejlesztés és a minőségellenőrzési funkciók erőteljes korlátozottsá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iaci belépési korlátok emelése (a kontraktusok mennyisége, illetve a vállalkozás termelési volumen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őzsdecikkek köre a jól raktározható és szállítható, valamint a szabványosítható alacsony differenciáltságú termékek körére korlátozódik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z értékesítési csatorna tipizálása (McCammon (1973) szerint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 hagyományos vertikális értékesítési csatornákat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z adminisztratív értékesítési csatornákat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 közös tulajdonra épülő (vertikális integráció) vertikális értékesítési csatornákat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 szerződéses kapcsolatokra épülő vertikális értékesítési csatornák (vertikális koordináció)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A szerződéses (a fizikai, a határidős ún. forward típusú kapcsolatok fő formái a következők: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ezőgazdasági áruértékesítés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zerződés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z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dásvétel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zerződés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ermelteté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szerződés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és az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tegrációs szerződés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A </a:t>
            </a:r>
            <a:r>
              <a:rPr b="1" i="1" lang="en-US" sz="2600" spc="-1" strike="noStrike">
                <a:solidFill>
                  <a:srgbClr val="999900"/>
                </a:solidFill>
                <a:latin typeface="Garamond"/>
              </a:rPr>
              <a:t>közösségi marketing</a:t>
            </a:r>
            <a:r>
              <a:rPr b="1" lang="en-US" sz="2600" spc="-1" strike="noStrike">
                <a:solidFill>
                  <a:srgbClr val="999900"/>
                </a:solidFill>
                <a:latin typeface="Garamond"/>
              </a:rPr>
              <a:t> szervezetek, intézmények hatékony működésének </a:t>
            </a:r>
            <a:r>
              <a:rPr b="1" i="1" lang="en-US" sz="2600" spc="-1" strike="noStrike">
                <a:solidFill>
                  <a:srgbClr val="999900"/>
                </a:solidFill>
                <a:latin typeface="Garamond"/>
              </a:rPr>
              <a:t>előfeltételei</a:t>
            </a:r>
            <a:r>
              <a:rPr b="1" lang="en-US" sz="2600" spc="-1" strike="noStrike">
                <a:solidFill>
                  <a:srgbClr val="999900"/>
                </a:solidFill>
                <a:latin typeface="Garamond"/>
              </a:rPr>
              <a:t>:</a:t>
            </a:r>
            <a:endParaRPr b="0" lang="en-US" sz="2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acsony differenciáltságú, viszonylag homogén termékek piaci jelenléte (a közös bázi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élpiacok és szegmensek nagy átfedés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iaci viszonyok viszonylag gyors változás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yan marketingfunkciók és tevékenységek léte, amelyek esetében a gazdaságos méret előnyt eredmény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A közösségi marketing </a:t>
            </a:r>
            <a:r>
              <a:rPr b="1" i="1" lang="en-US" sz="2800" spc="-1" strike="noStrike">
                <a:solidFill>
                  <a:srgbClr val="999900"/>
                </a:solidFill>
                <a:latin typeface="Garamond"/>
              </a:rPr>
              <a:t>megvalósíthatóságának összetevői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 a következők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z egyes vállalati és vállalkozási csoportok egyedül nem képesek kezelni a marketing problémákat, melyek elsősorban a piaci struktúra jellemzőiből fakadn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ifferenciálatlan termék a vállalkozások jövedelemtermelő képessége szempontjából domináns. A hazai termék kevéssé különböztethető meg az import termékektő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zektor és a közösségi marketing intézmények - társadalmi céljaik miatt- törvénnyel alapítható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z intézmény formája, illetve funkciói a környezet és a társadalom közti közmegegyezésre épülne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z intézményrendszernek rugalmasnak és adaptívnak kell lenni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rketing szervezeteknek és intézményeknek megfelelő koordinációs jogosítványokkal kell rendelkeznie (pl. a programok finanszírozása, a hozzájárulások kivetése, a kínálat-szabályozási jogosítványok, stb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marketingfunkciók intézményesülési feltételei: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marketing koncepció lényeg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olyamat orientáció: a külső és belső környezet összetevői és feltételei állandó változásban vannak, így a marketing nem állapotok, hanem folyamatok elemzésére, értékelésére és követésre kell, hogy irányuljon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hosszú távú, stratégiai orientáció: a bekövetkező változások közül a meghatározó trendek megállapítása, azokhoz való sikeres alkalmazkodá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yereségre való irányultság, mint vállalati cél, szemben az értékesítési volumen, vagy a piaci részarány hajszolásáv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Szektormarketing intézmények főbb típusai I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anácsadási és eladás-ösztönzési szervezete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iacszabályozási marketingszervezete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ermékmarketing szervezetek, árstabilizációs jogosítványokkal, kereskedelmi jogosítványok nélkü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ermékmarketing szervezetek árstabilizációs jogosítvánnyal, más vállalkozásokkal párhuzamosan működ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onopoljellegű (hazai, illetve export vagy mindkettő) kereskedelmi és árstabilizációs jogosítványokkal rendelkező marketing szervezete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Szektormarketing intézmények főbb típusai II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 marketing board-ok, order-ek lehetséges marketingfunkciói a következők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Export-monopólium, kizárólag kereskedelmi jogosítvánny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Export-engedélyezés, exportőrök akkreditálás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Hazai monopólium, kizárólagos kereskedelmi jogosítvánny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 belföldi és export szállítási és raktározási lehetőségek ellenőrzé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 stabilizációs alapok kezelé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z iparági stratégiai funkciók (az iparági fejlesztések, a marketing és fejlesztési stratégiák kialakítás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Szektormarketing intézmények főbb funkciói I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z iparági stratégiai funkciók (az iparági fejlesztések, a marketing és fejlesztési stratégiák kialakítá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beszerzés, a feldolgozás és a raktározá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minimálárak meghatározása felhasználási irányok szeri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termelők és felvásárlók kijelölé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mennyiségi korlátozások alkalmazása, piacra viteli tilalmak, időszakok meghatározá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Szektormarketing intézmények főbb funkciói II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göngyöleg, a csomagolás, a méret, a típus és a szabványok meghatározá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z ár vagy a tartalék pool-ok működteté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piaci információk gyűjtése és a piackutatá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kutatás és a fejlesztés, a fejlesztési programo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reklám és az eladás-ösztönzési (hazai, az exportpiacoko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Szektormarketing intézmények főbb funkciói III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inőségi minimum-követelmények, a szabványok, a termék érettségi követelmények meghatározás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inőségellenőrzé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ermékválaszték alakítása, a termékfejlesztés (pl. nemesíté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z árpoolok működtetése torzítólag hat a termelők döntései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 kínálatszabályozás illetve az intervenció vagy tartalékpool-ok képzése nemzetközi piacokon és kereskedelemben torzió hatással v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z ún. "weak selling" probléma, a piaci szervezeteken keresztül értékesítés nyomottabb árakat eredményezhet, különösen piaci részarány-növelés eseté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z eladásösztönzéssel párosuló, a hitelben történő értékesítés szintén árcsökkenéshez vezeth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 marketing board-ok keretében működő vállalkozások gazdaságos üzem, illetve ágazati méretének kialakítását a piaci szervezet akadályozhat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400" spc="-1" strike="noStrike">
                <a:solidFill>
                  <a:srgbClr val="999900"/>
                </a:solidFill>
                <a:latin typeface="Garamond"/>
              </a:rPr>
              <a:t>A marketing board-ok és order-ek / leggyakoribb problémái I.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999900"/>
                </a:solidFill>
                <a:latin typeface="Garamond"/>
              </a:rPr>
              <a:t>A marketing board-ok és order-ek </a:t>
            </a:r>
            <a:r>
              <a:rPr b="1" i="1" lang="hu-HU" sz="3200" spc="-1" strike="noStrike">
                <a:solidFill>
                  <a:srgbClr val="999900"/>
                </a:solidFill>
                <a:latin typeface="Garamond"/>
              </a:rPr>
              <a:t>leggyakoribb problémái II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z innovációra való törekvés csökkenhet a termékdifferenciálódás akadályozása miat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tatott a kereskedelmi funkciók együtt szerepelteté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ulajdoni részarányok és a külső tőke a részvétele vitatott kérdé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iaci szervezet, intézmény működése magas társadalmi költségekkel járhat (fogyasztói árak, illetve adók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koncentrált (területileg szétszórt, nagyszámú termelő) termelés keretei között nehezen működtethető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jövedelem és az árbiztosítás, valamint a támogatási eszközök terjedésével párhuzamosan szerepe változ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szövetkezeti árverések és aukció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z alkuszövetkezete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arketing szövetkezetek (értékesítési és beszerzési szövetkezetek)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feldolgozó szövetkezete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00"/>
                </a:solidFill>
                <a:latin typeface="Garamond"/>
              </a:rPr>
              <a:t>A szövetkezeti marketing szervezetek főbb típusai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</a:t>
            </a:r>
            <a:r>
              <a:rPr b="1" i="1" lang="en-US" sz="3200" spc="-1" strike="noStrike">
                <a:solidFill>
                  <a:srgbClr val="999900"/>
                </a:solidFill>
                <a:latin typeface="Garamond"/>
              </a:rPr>
              <a:t>szövetkezeti marketing szervezetek</a:t>
            </a: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, intézmények </a:t>
            </a:r>
            <a:r>
              <a:rPr b="1" i="1" lang="en-US" sz="3200" spc="-1" strike="noStrike">
                <a:solidFill>
                  <a:srgbClr val="999900"/>
                </a:solidFill>
                <a:latin typeface="Garamond"/>
              </a:rPr>
              <a:t>előnyei I</a:t>
            </a: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költségek csökkentés, a ráfordítások hatékonyságának javítás az input árak ellenőrzésse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kereslet növelése a minőségellenőrzés és az eladásösztönzés eszközeinek segítségéve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evételek növelése, az alkuerő, a piaci információ javítása, a marketingcsatorna ellenőrzé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</a:t>
            </a:r>
            <a:r>
              <a:rPr b="1" i="1" lang="en-US" sz="3200" spc="-1" strike="noStrike">
                <a:solidFill>
                  <a:srgbClr val="999900"/>
                </a:solidFill>
                <a:latin typeface="Garamond"/>
              </a:rPr>
              <a:t>szövetkezeti marketing szervezetek</a:t>
            </a: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, intézmények </a:t>
            </a:r>
            <a:r>
              <a:rPr b="1" i="1" lang="en-US" sz="3200" spc="-1" strike="noStrike">
                <a:solidFill>
                  <a:srgbClr val="999900"/>
                </a:solidFill>
                <a:latin typeface="Garamond"/>
              </a:rPr>
              <a:t>előnyei II</a:t>
            </a: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agasabb a piaci részarány elérése az alkuerő növelése révé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kínálatszabályozás alkalmazása (pl. területi kvóták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elhasználási irányok szerinti árdifferenciálá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eldolgozás, a felvásárlás és a forgalmazás tevékenységbe való belépés elősegíté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2016360"/>
          </a:xfrm>
          <a:prstGeom prst="rect">
            <a:avLst/>
          </a:prstGeom>
          <a:solidFill>
            <a:srgbClr val="ffffff">
              <a:alpha val="80000"/>
            </a:srgbClr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PIAC ÉS KATEGÓRIÁI</a:t>
            </a:r>
            <a:br>
              <a:rPr sz="4000"/>
            </a:b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SÁNTHA TAMÁ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03280" y="4654440"/>
            <a:ext cx="1335240" cy="1079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4653000"/>
            <a:ext cx="1389240" cy="1081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05240" y="4653000"/>
            <a:ext cx="1338480" cy="10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623000" y="4653000"/>
            <a:ext cx="1622520" cy="1079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700360" y="4653000"/>
            <a:ext cx="1465200" cy="1081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4145040" y="4654440"/>
            <a:ext cx="1101600" cy="1079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6550200" y="465300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</a:t>
            </a:r>
            <a:r>
              <a:rPr b="1" i="1" lang="en-US" sz="3200" spc="-1" strike="noStrike">
                <a:solidFill>
                  <a:srgbClr val="999900"/>
                </a:solidFill>
                <a:latin typeface="Garamond"/>
              </a:rPr>
              <a:t>szövetkezeti marketing szervezetek</a:t>
            </a: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,  </a:t>
            </a:r>
            <a:r>
              <a:rPr b="1" i="1" lang="en-US" sz="3200" spc="-1" strike="noStrike">
                <a:solidFill>
                  <a:srgbClr val="999900"/>
                </a:solidFill>
                <a:latin typeface="Garamond"/>
              </a:rPr>
              <a:t>hátrányai I</a:t>
            </a: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kínálatszabályozás lehetőségei korlátozottak (a nyitott tagság és a nem kötelező értékesítés miat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résztvevők méretkülönbségeiből fakadó érdekellentéte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őkéhez való hozzájutás problémá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szövetkezeti marketing szervezetek,  hátrányai II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agi támogatottság, a kulturális averzió problémá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m hatékony menedzsment (a tagi visszatérítés és a menedzsment költségek ellentmondás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iaci fegyelem hiánya és a szerződésszegések gyakoriság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sikeres </a:t>
            </a:r>
            <a:r>
              <a:rPr b="1" i="1" lang="en-US" sz="4000" spc="-1" strike="noStrike">
                <a:solidFill>
                  <a:srgbClr val="999900"/>
                </a:solidFill>
                <a:latin typeface="Garamond"/>
              </a:rPr>
              <a:t>szövetkezeti marketing feltételei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rmelők é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iacok összekapcsolása a termelők piaci orientációjána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övelése érdekéb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iaci követelmények szabályozó szerepének elfogadtatása és érvényesíté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zonylag jelentős termelői korlátozások elfogadása a piaci követelmények teljesítése érdekéb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iaci belépés korlátozása, pl. megfelelő termelési méret, alkalmasság alapjá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ermelési szerkezet szűkítése és specializációj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9900"/>
                </a:solidFill>
                <a:latin typeface="Garamond"/>
              </a:rPr>
              <a:t>A vertikális integráció előnyei I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ranzakciós költségek csökkentése következők: (az információgyűjtési, a tárgyalási és a monitor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űszaki és technológiai előnyök (pl. méretgazdaságosság biztosítása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ermékdifferenciálás nagyobb lehetősé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z értékesítési csatornaszintek közti nagyobb belső ellenőrzés és koordináci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satornatagok közti jobb információáramlás és kedvezőbb információellátottsá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</a:t>
            </a:r>
            <a:r>
              <a:rPr b="1" i="1" lang="en-US" sz="4000" spc="-1" strike="noStrike">
                <a:solidFill>
                  <a:srgbClr val="999900"/>
                </a:solidFill>
                <a:latin typeface="Garamond"/>
              </a:rPr>
              <a:t>vertikális integráció előnyei II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csatornatagok közti stabil kapcsoltok kialakítás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belépési korlátok növelé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versenytársak részéről a piaci kizárási, kiszorítási költségek növelé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vevőkkel kapcsolatos árdifferenciálás/árdiszkriminálás növekvő lehetősé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z alkuerő és az input ártorzítások ellensúlyozás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</a:t>
            </a:r>
            <a:r>
              <a:rPr b="1" i="1" lang="en-US" sz="4000" spc="-1" strike="noStrike">
                <a:solidFill>
                  <a:srgbClr val="999900"/>
                </a:solidFill>
                <a:latin typeface="Garamond"/>
              </a:rPr>
              <a:t>vertikális integráció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 hátrányai I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ranzakciós költségek csökkentésével párhuzamosan megnőnek a belső irányítási ún. menedzsment költsége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as a tőkebefektetés igény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fedi a csatornaszintek közti kiegyensúlyozatlan teljesítményeket. (hatékony illetve hatékonyatlan vállalati mérete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tompítja a belső kezdeményezést és a belső bürokratikus torzulásokhoz vezeth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ciálja a menedzseri követelményeket (belső számviteli ismeretek szerepe megnő, a marketing ismereteké csökke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</a:t>
            </a:r>
            <a:r>
              <a:rPr b="1" i="1" lang="en-US" sz="4000" spc="-1" strike="noStrike">
                <a:solidFill>
                  <a:srgbClr val="999900"/>
                </a:solidFill>
                <a:latin typeface="Garamond"/>
              </a:rPr>
              <a:t>vertikális integráció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 hátrányai II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külső lehetőségek (pl. jobb beszállító bekapcsolása) által nyújtott előnyök elszalasztá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sökken a csatornapartnerek választásában és változtatásában a rugalmassá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gnöveli a piaci belépési korlátokat, a potenciális belépők versenyét jelentősen akadályozhatj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eszállító, a vevő kutatáshoz és a know-how-hoz való hozzájutás kizárá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424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000" spc="-1" strike="noStrike">
                <a:solidFill>
                  <a:srgbClr val="999900"/>
                </a:solidFill>
                <a:latin typeface="Garamond"/>
              </a:rPr>
              <a:t>Marketingkommunikáció</a:t>
            </a:r>
            <a:r>
              <a:rPr b="1" lang="hu-HU" sz="5000" spc="-1" strike="noStrike">
                <a:solidFill>
                  <a:srgbClr val="999900"/>
                </a:solidFill>
                <a:latin typeface="Garamond"/>
              </a:rPr>
              <a:t>	</a:t>
            </a:r>
            <a:br>
              <a:rPr sz="5000"/>
            </a:br>
            <a:r>
              <a:rPr b="1" lang="hu-HU" sz="5000" spc="-1" strike="noStrike">
                <a:solidFill>
                  <a:srgbClr val="999900"/>
                </a:solidFill>
                <a:latin typeface="Garamond"/>
              </a:rPr>
              <a:t>Promotion</a:t>
            </a:r>
            <a:br>
              <a:rPr sz="4000"/>
            </a:br>
            <a:br>
              <a:rPr sz="4000"/>
            </a:br>
            <a:r>
              <a:rPr b="1" lang="hu-HU" sz="5200" spc="-1" strike="noStrike">
                <a:solidFill>
                  <a:srgbClr val="999900"/>
                </a:solidFill>
                <a:latin typeface="Garamond"/>
              </a:rPr>
              <a:t>Dr. Tamus Antalné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68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68" fill="hold"/>
                                        <p:tgtEl>
                                          <p:spTgt spid="9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68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68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04280" y="115920"/>
            <a:ext cx="843948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999900"/>
                </a:solidFill>
                <a:latin typeface="Garamond"/>
              </a:rPr>
              <a:t>4P</a:t>
            </a:r>
            <a:br>
              <a:rPr sz="5400"/>
            </a:br>
            <a:r>
              <a:rPr b="1" lang="hu-HU" sz="4400" spc="-1" strike="noStrike">
                <a:solidFill>
                  <a:srgbClr val="999900"/>
                </a:solidFill>
                <a:latin typeface="Garamond"/>
              </a:rPr>
              <a:t>Termékpolitika</a:t>
            </a:r>
            <a:r>
              <a:rPr b="1" lang="hu-HU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hu-HU" sz="4400" spc="-1" strike="noStrike">
                <a:solidFill>
                  <a:srgbClr val="999900"/>
                </a:solidFill>
                <a:latin typeface="Garamond"/>
              </a:rPr>
              <a:t>PRODUCT</a:t>
            </a:r>
            <a:br>
              <a:rPr sz="4400"/>
            </a:br>
            <a:r>
              <a:rPr b="1" lang="hu-HU" sz="4400" spc="-1" strike="noStrike">
                <a:solidFill>
                  <a:srgbClr val="999900"/>
                </a:solidFill>
                <a:latin typeface="Garamond"/>
              </a:rPr>
              <a:t>Árpolitika </a:t>
            </a:r>
            <a:r>
              <a:rPr b="1" lang="hu-HU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hu-HU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hu-HU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hu-HU" sz="4400" spc="-1" strike="noStrike">
                <a:solidFill>
                  <a:srgbClr val="999900"/>
                </a:solidFill>
                <a:latin typeface="Garamond"/>
              </a:rPr>
              <a:t>PRICE</a:t>
            </a:r>
            <a:br>
              <a:rPr sz="4400"/>
            </a:br>
            <a:r>
              <a:rPr b="1" lang="hu-HU" sz="4400" spc="-1" strike="noStrike">
                <a:solidFill>
                  <a:srgbClr val="999900"/>
                </a:solidFill>
                <a:latin typeface="Garamond"/>
              </a:rPr>
              <a:t>Disztribúció </a:t>
            </a:r>
            <a:r>
              <a:rPr b="1" lang="hu-HU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hu-HU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hu-HU" sz="4400" spc="-1" strike="noStrike">
                <a:solidFill>
                  <a:srgbClr val="999900"/>
                </a:solidFill>
                <a:latin typeface="Garamond"/>
              </a:rPr>
              <a:t>PLACE</a:t>
            </a:r>
            <a:br>
              <a:rPr sz="4400"/>
            </a:br>
            <a:r>
              <a:rPr b="1" lang="hu-HU" sz="4400" spc="-1" strike="noStrike">
                <a:solidFill>
                  <a:srgbClr val="ff0066"/>
                </a:solidFill>
                <a:latin typeface="Garamond"/>
              </a:rPr>
              <a:t>Piacbefolyásolás </a:t>
            </a:r>
            <a:r>
              <a:rPr b="1" lang="hu-HU" sz="44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1" lang="hu-HU" sz="4400" spc="-1" strike="noStrike">
                <a:solidFill>
                  <a:srgbClr val="ff0066"/>
                </a:solidFill>
                <a:latin typeface="Garamond"/>
              </a:rPr>
              <a:t>PROMO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162000" y="2390760"/>
            <a:ext cx="1641240" cy="1063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Kibocsá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155680" y="2390760"/>
            <a:ext cx="1387800" cy="1063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Kódol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40120" y="2390760"/>
            <a:ext cx="1254240" cy="1063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Üze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430960" y="2390760"/>
            <a:ext cx="1619280" cy="1063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Dekódol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334280" y="2390760"/>
            <a:ext cx="1581120" cy="1063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Befogad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459400" y="5294160"/>
            <a:ext cx="1631880" cy="1063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Válas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649520" y="5329080"/>
            <a:ext cx="2403360" cy="1063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Visszacsatol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800360" y="286236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552840" y="2862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076720" y="2862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7058160" y="286236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8124840" y="321300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7134120" y="58104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4086360" y="57340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885960" y="573408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885960" y="3246480"/>
            <a:ext cx="0" cy="2487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0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9900"/>
                </a:solidFill>
                <a:latin typeface="Garamond"/>
              </a:rPr>
              <a:t>A marketingkommunikáció folyamata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6" name=""/>
          <p:cNvSpPr/>
          <p:nvPr/>
        </p:nvSpPr>
        <p:spPr>
          <a:xfrm>
            <a:off x="2771640" y="3789360"/>
            <a:ext cx="3600720" cy="1224000"/>
          </a:xfrm>
          <a:prstGeom prst="irregularSeal2">
            <a:avLst/>
          </a:prstGeom>
          <a:solidFill>
            <a:srgbClr val="99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Z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9900"/>
                </a:solidFill>
                <a:latin typeface="Garamond"/>
              </a:rPr>
              <a:t>A kereslet és a kínálat összehangolásának színtere:</a:t>
            </a:r>
            <a:br>
              <a:rPr sz="3000"/>
            </a:br>
            <a:r>
              <a:rPr b="1" i="1" lang="en-US" sz="3200" spc="-1" strike="noStrike">
                <a:solidFill>
                  <a:srgbClr val="999900"/>
                </a:solidFill>
                <a:latin typeface="Garamond"/>
              </a:rPr>
              <a:t>A PIAC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ottó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ég egy papagájt is képzett közgazdásszá tehetünk, mindössze két szót kell megtanulnia: kínálat és kereslet. Ha viszont meg is érti, úgy már marketing-papagájként értékesíthetjük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omcsányi, 1988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kommunikáció hatásmechanizmusa:</a:t>
            </a:r>
            <a:br>
              <a:rPr sz="8000"/>
            </a:br>
            <a:r>
              <a:rPr b="1" lang="en-US" sz="4400" spc="-1" strike="noStrike">
                <a:solidFill>
                  <a:srgbClr val="ed375e"/>
                </a:solidFill>
                <a:latin typeface="Garamond"/>
              </a:rPr>
              <a:t>AIDA model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"/>
          <p:cNvSpPr/>
          <p:nvPr/>
        </p:nvSpPr>
        <p:spPr>
          <a:xfrm>
            <a:off x="179280" y="2819520"/>
            <a:ext cx="2000520" cy="1125360"/>
          </a:xfrm>
          <a:prstGeom prst="roundRect">
            <a:avLst>
              <a:gd name="adj" fmla="val 16667"/>
            </a:avLst>
          </a:prstGeom>
          <a:solidFill>
            <a:srgbClr val="999900"/>
          </a:solidFill>
          <a:ln w="0">
            <a:noFill/>
          </a:ln>
          <a:effectLst>
            <a:outerShdw dist="17819" dir="2700000" blurRad="0" rotWithShape="0">
              <a:srgbClr val="5b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cc00"/>
                </a:solidFill>
                <a:latin typeface="Arial"/>
              </a:rPr>
              <a:t>Figy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cc00"/>
                </a:solidFill>
                <a:latin typeface="Arial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514600" y="2819520"/>
            <a:ext cx="2000160" cy="1125360"/>
          </a:xfrm>
          <a:prstGeom prst="roundRect">
            <a:avLst>
              <a:gd name="adj" fmla="val 16667"/>
            </a:avLst>
          </a:prstGeom>
          <a:solidFill>
            <a:srgbClr val="999900"/>
          </a:solidFill>
          <a:ln w="0">
            <a:noFill/>
          </a:ln>
          <a:effectLst>
            <a:outerShdw dist="17819" dir="2700000" blurRad="0" rotWithShape="0">
              <a:srgbClr val="5b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Érdeklőd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800600" y="2819520"/>
            <a:ext cx="2000160" cy="1125360"/>
          </a:xfrm>
          <a:prstGeom prst="roundRect">
            <a:avLst>
              <a:gd name="adj" fmla="val 16667"/>
            </a:avLst>
          </a:prstGeom>
          <a:solidFill>
            <a:srgbClr val="999900"/>
          </a:solidFill>
          <a:ln w="0">
            <a:noFill/>
          </a:ln>
          <a:effectLst>
            <a:outerShdw dist="17819" dir="2700000" blurRad="0" rotWithShape="0">
              <a:srgbClr val="5b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cc00"/>
                </a:solidFill>
                <a:latin typeface="Arial"/>
              </a:rPr>
              <a:t>Vá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cc00"/>
                </a:solidFill>
                <a:latin typeface="Arial"/>
              </a:rPr>
              <a:t>Des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088040" y="2819520"/>
            <a:ext cx="2000520" cy="1125360"/>
          </a:xfrm>
          <a:prstGeom prst="roundRect">
            <a:avLst>
              <a:gd name="adj" fmla="val 16667"/>
            </a:avLst>
          </a:prstGeom>
          <a:solidFill>
            <a:srgbClr val="999900"/>
          </a:solidFill>
          <a:ln w="0">
            <a:noFill/>
          </a:ln>
          <a:effectLst>
            <a:outerShdw dist="17819" dir="2700000" blurRad="0" rotWithShape="0">
              <a:srgbClr val="5b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selek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124000" y="3284640"/>
            <a:ext cx="432000" cy="144360"/>
          </a:xfrm>
          <a:prstGeom prst="rightArrow">
            <a:avLst>
              <a:gd name="adj1" fmla="val 50000"/>
              <a:gd name="adj2" fmla="val 7481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529160" y="328464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804000" y="3284640"/>
            <a:ext cx="358920" cy="144360"/>
          </a:xfrm>
          <a:prstGeom prst="rightArrow">
            <a:avLst>
              <a:gd name="adj1" fmla="val 50000"/>
              <a:gd name="adj2" fmla="val 6215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179280" y="2421000"/>
            <a:ext cx="3963960" cy="821880"/>
          </a:xfrm>
          <a:prstGeom prst="ellipse">
            <a:avLst/>
          </a:prstGeom>
          <a:solidFill>
            <a:srgbClr val="eb1b34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kl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211640" y="2492280"/>
            <a:ext cx="4716360" cy="735840"/>
          </a:xfrm>
          <a:prstGeom prst="ellipse">
            <a:avLst/>
          </a:prstGeom>
          <a:solidFill>
            <a:srgbClr val="999900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adásösztön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788000" y="4437000"/>
            <a:ext cx="3962160" cy="13388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00"/>
                </a:solidFill>
                <a:latin typeface="Arial"/>
              </a:rPr>
              <a:t>Személyes elad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95280" y="4365720"/>
            <a:ext cx="4095720" cy="1338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Promóciós mix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68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68" fill="hold"/>
                                        <p:tgtEl>
                                          <p:spTgt spid="9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68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68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2411280" y="231840"/>
            <a:ext cx="4176720" cy="994320"/>
          </a:xfrm>
          <a:prstGeom prst="ellipse">
            <a:avLst/>
          </a:prstGeom>
          <a:solidFill>
            <a:srgbClr val="eb1b34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Reklá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920" y="1916280"/>
            <a:ext cx="8892720" cy="3671280"/>
            <a:chOff x="250920" y="1916280"/>
            <a:chExt cx="8892720" cy="3671280"/>
          </a:xfrm>
        </p:grpSpPr>
        <p:sp>
          <p:nvSpPr>
            <p:cNvPr id="943" name=""/>
            <p:cNvSpPr/>
            <p:nvPr/>
          </p:nvSpPr>
          <p:spPr>
            <a:xfrm>
              <a:off x="495360" y="1916280"/>
              <a:ext cx="8403480" cy="3671280"/>
            </a:xfrm>
            <a:prstGeom prst="rect">
              <a:avLst/>
            </a:prstGeom>
            <a:solidFill>
              <a:srgbClr val="eb1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50920" y="2145600"/>
              <a:ext cx="8892720" cy="2806200"/>
            </a:xfrm>
            <a:prstGeom prst="rect">
              <a:avLst/>
            </a:prstGeom>
            <a:solidFill>
              <a:srgbClr val="eb1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cc00"/>
                  </a:solidFill>
                  <a:latin typeface="Arial"/>
                </a:rPr>
                <a:t>személytelen, egyirányú kommunikáció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99cc00"/>
                  </a:solidFill>
                  <a:latin typeface="Arial"/>
                </a:rPr>
                <a:t>melyet a reklámoz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cc00"/>
                  </a:solidFill>
                  <a:latin typeface="Arial"/>
                </a:rPr>
                <a:t>fizetett reklámeszközön, reklámhordoz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99cc00"/>
                  </a:solidFill>
                  <a:latin typeface="Arial"/>
                </a:rPr>
                <a:t>keresztül juttat el a célcsoportho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reklámprogramok tervezése, 5M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1844640"/>
            <a:ext cx="7772400" cy="4632480"/>
          </a:xfrm>
          <a:prstGeom prst="roundRect">
            <a:avLst>
              <a:gd name="adj" fmla="val 16667"/>
            </a:avLst>
          </a:prstGeom>
          <a:solidFill>
            <a:srgbClr val="eb1b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SS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ülde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E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é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SSAG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Üz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I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klámeszközö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ASUREME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éré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-762120">
              <a:buClr>
                <a:srgbClr val="ff0066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Garamond"/>
              </a:rPr>
              <a:t>Mission - küldeté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23920" y="1711080"/>
            <a:ext cx="8686800" cy="4616280"/>
          </a:xfrm>
          <a:prstGeom prst="rect">
            <a:avLst/>
          </a:prstGeom>
          <a:noFill/>
          <a:ln w="9360">
            <a:solidFill>
              <a:srgbClr val="99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Verdana"/>
              </a:rPr>
              <a:t>Reklámozási cél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Verdana"/>
              </a:rPr>
              <a:t>tájékoztat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Verdana"/>
              </a:rPr>
              <a:t>meggyőzé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Verdana"/>
              </a:rPr>
              <a:t>emlékezteté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9152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2. Money - pénz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156520" cy="4464000"/>
          </a:xfrm>
          <a:prstGeom prst="rect">
            <a:avLst/>
          </a:prstGeom>
          <a:noFill/>
          <a:ln w="9360">
            <a:solidFill>
              <a:srgbClr val="99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0066"/>
                </a:solidFill>
                <a:latin typeface="Verdana"/>
              </a:rPr>
              <a:t>A reklámköltségvetés típusa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9900"/>
                </a:solidFill>
                <a:latin typeface="Verdana"/>
              </a:rPr>
              <a:t>Árbevétel százalékáb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9900"/>
                </a:solidFill>
                <a:latin typeface="Verdana"/>
              </a:rPr>
              <a:t>Előző évi </a:t>
            </a:r>
            <a:r>
              <a:rPr b="0" lang="en-US" sz="2800" spc="-1" strike="noStrike">
                <a:solidFill>
                  <a:srgbClr val="999900"/>
                </a:solidFill>
                <a:latin typeface="Verdana"/>
                <a:ea typeface="Arial"/>
              </a:rPr>
              <a:t>+</a:t>
            </a:r>
            <a:r>
              <a:rPr b="0" lang="hu-HU" sz="2800" spc="-1" strike="noStrike">
                <a:solidFill>
                  <a:srgbClr val="999900"/>
                </a:solidFill>
                <a:latin typeface="Verdana"/>
                <a:ea typeface="Arial"/>
              </a:rPr>
              <a:t> infláci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9900"/>
                </a:solidFill>
                <a:latin typeface="Verdana"/>
              </a:rPr>
              <a:t>Lehetőségek módszere (maradványelv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9900"/>
                </a:solidFill>
                <a:latin typeface="Verdana"/>
              </a:rPr>
              <a:t>Versenytársakhoz igazod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9900"/>
                </a:solidFill>
                <a:latin typeface="Verdana"/>
              </a:rPr>
              <a:t>Cél - feladat módsz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768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768" fill="hold"/>
                                        <p:tgtEl>
                                          <p:spTgt spid="9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768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768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9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9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9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Garamond"/>
              </a:rPr>
              <a:t>3. Message - üzene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99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Verdana"/>
              </a:rPr>
              <a:t>Az üzenet tartal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Verdana"/>
              </a:rPr>
              <a:t>racionális  </a:t>
            </a:r>
            <a:r>
              <a:rPr b="0" lang="en-US" sz="3200" spc="-1" strike="noStrike">
                <a:solidFill>
                  <a:srgbClr val="9999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(szervezeti piac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Verdana"/>
              </a:rPr>
              <a:t>emocionális</a:t>
            </a:r>
            <a:r>
              <a:rPr b="0" lang="en-US" sz="3200" spc="-1" strike="noStrike">
                <a:solidFill>
                  <a:srgbClr val="9999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(fogyasztói piac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Verdana"/>
              </a:rPr>
              <a:t>morál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68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768" fill="hold"/>
                                        <p:tgtEl>
                                          <p:spTgt spid="9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768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768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9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9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9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96560" y="404280"/>
            <a:ext cx="8893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Garamond"/>
              </a:rPr>
              <a:t>4. MEDIA 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REKLÁMESZKÖZ,</a:t>
            </a:r>
            <a:r>
              <a:rPr b="1" lang="en-US" sz="3600" spc="-1" strike="noStrike">
                <a:solidFill>
                  <a:srgbClr val="ff0066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REKLÁMHORDOZÓ 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66"/>
                </a:solidFill>
                <a:latin typeface="Verdana"/>
              </a:rPr>
              <a:t>REKLÁMESZKÖZ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99900"/>
                </a:solidFill>
                <a:latin typeface="Verdana"/>
              </a:rPr>
              <a:t>	</a:t>
            </a:r>
            <a:r>
              <a:rPr b="1" lang="hu-HU" sz="2800" spc="-1" strike="noStrike">
                <a:solidFill>
                  <a:srgbClr val="999900"/>
                </a:solidFill>
                <a:latin typeface="Verdana"/>
              </a:rPr>
              <a:t>a</a:t>
            </a:r>
            <a:r>
              <a:rPr b="1" lang="hu-HU" sz="2400" spc="-1" strike="noStrike">
                <a:solidFill>
                  <a:srgbClr val="999900"/>
                </a:solidFill>
                <a:latin typeface="Verdana"/>
              </a:rPr>
              <a:t> reklámüzenet kódolt megfogalmazá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66"/>
                </a:solidFill>
                <a:latin typeface="Verdana"/>
              </a:rPr>
              <a:t>REKLÁMHORDOZÓ</a:t>
            </a:r>
            <a:r>
              <a:rPr b="1" lang="hu-HU" sz="2400" spc="-1" strike="noStrike">
                <a:solidFill>
                  <a:srgbClr val="ff0066"/>
                </a:solidFill>
                <a:latin typeface="Verdana"/>
              </a:rPr>
              <a:t>: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9900"/>
                </a:solidFill>
                <a:latin typeface="Verdana"/>
              </a:rPr>
              <a:t>	</a:t>
            </a:r>
            <a:r>
              <a:rPr b="1" lang="hu-HU" sz="2400" spc="-1" strike="noStrike">
                <a:solidFill>
                  <a:srgbClr val="999900"/>
                </a:solidFill>
                <a:latin typeface="Verdana"/>
              </a:rPr>
              <a:t>kommunikációs csatorna, mely az üzenet továbbítására szolgá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9900"/>
                </a:solidFill>
                <a:latin typeface="Verdana"/>
              </a:rPr>
              <a:t>	</a:t>
            </a:r>
            <a:r>
              <a:rPr b="1" lang="hu-HU" sz="2400" spc="-1" strike="noStrike">
                <a:solidFill>
                  <a:srgbClr val="999900"/>
                </a:solidFill>
                <a:latin typeface="Verdana"/>
              </a:rPr>
              <a:t>	</a:t>
            </a:r>
            <a:r>
              <a:rPr b="1" lang="hu-HU" sz="2400" spc="-1" strike="noStrike">
                <a:solidFill>
                  <a:srgbClr val="999900"/>
                </a:solidFill>
                <a:latin typeface="Verdana"/>
              </a:rPr>
              <a:t>	</a:t>
            </a:r>
            <a:r>
              <a:rPr b="1" lang="hu-HU" sz="2400" spc="-1" strike="noStrike">
                <a:solidFill>
                  <a:srgbClr val="9999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hu-HU" sz="24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hu-HU" sz="2400" spc="-1" strike="noStrike">
                <a:solidFill>
                  <a:srgbClr val="ff0066"/>
                </a:solidFill>
                <a:latin typeface="Verdana"/>
              </a:rPr>
              <a:t>(reklámhordozó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=</a:t>
            </a:r>
            <a:r>
              <a:rPr b="1" lang="hu-HU" sz="2400" spc="-1" strike="noStrike">
                <a:solidFill>
                  <a:srgbClr val="ff0066"/>
                </a:solidFill>
                <a:latin typeface="Verdana"/>
              </a:rPr>
              <a:t> médium,</a:t>
            </a:r>
            <a:r>
              <a:rPr b="1" lang="hu-HU" sz="2400" spc="-1" strike="noStrike">
                <a:solidFill>
                  <a:srgbClr val="999900"/>
                </a:solidFill>
                <a:latin typeface="Verdana"/>
              </a:rPr>
              <a:t>  </a:t>
            </a:r>
            <a:r>
              <a:rPr b="1" lang="hu-HU" sz="2400" spc="-1" strike="noStrike">
                <a:solidFill>
                  <a:srgbClr val="ff0066"/>
                </a:solidFill>
                <a:latin typeface="Verdana"/>
              </a:rPr>
              <a:t>tsz:médi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1" lang="hu-HU" sz="28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1" lang="hu-HU" sz="2800" spc="-1" strike="noStrike">
                <a:solidFill>
                  <a:srgbClr val="ff99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685800" y="2602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klámhordozó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116000" y="1197000"/>
            <a:ext cx="3495600" cy="1687320"/>
          </a:xfrm>
          <a:prstGeom prst="roundRect">
            <a:avLst>
              <a:gd name="adj" fmla="val 16667"/>
            </a:avLst>
          </a:prstGeom>
          <a:solidFill>
            <a:srgbClr val="ed375e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dití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rád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hangosbemond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292720" y="1449360"/>
            <a:ext cx="3276720" cy="3345840"/>
          </a:xfrm>
          <a:prstGeom prst="rect">
            <a:avLst/>
          </a:prstGeom>
          <a:solidFill>
            <a:srgbClr val="6088a6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zuá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saj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plak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köztéri tá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fényrekl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szóró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kataló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3141720"/>
            <a:ext cx="4076640" cy="2324880"/>
          </a:xfrm>
          <a:prstGeom prst="hexagon">
            <a:avLst>
              <a:gd name="adj" fmla="val 43837"/>
              <a:gd name="vf" fmla="val 115470"/>
            </a:avLst>
          </a:prstGeom>
          <a:solidFill>
            <a:srgbClr val="339966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udiovizuá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mo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992240" y="5180040"/>
            <a:ext cx="6161040" cy="1401840"/>
          </a:xfrm>
          <a:prstGeom prst="ellipse">
            <a:avLst/>
          </a:prstGeom>
          <a:solidFill>
            <a:srgbClr val="e4b900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gyéb érzékszervre ha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illatm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4.Media – Reklámhordozók</a:t>
            </a:r>
            <a:br>
              <a:rPr sz="36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Verdana"/>
              </a:rPr>
              <a:t>Melyiket kell igénybe venni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Verdana"/>
              </a:rPr>
              <a:t>Függ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Verdana"/>
              </a:rPr>
              <a:t>A célcsoport szokásai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Verdana"/>
              </a:rPr>
              <a:t>A termék jelleg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Verdana"/>
              </a:rPr>
              <a:t>Mennyibe kerül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A marketing alapja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„marketing olyan társadalmi és vezetési eljárás, amelyek segítségével egyének és csoportok termékeket és értékeket alkotnak és cserélnek egymás közt, miközben szükségleteiket és igényeiket kielégítik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Kotler: 1998. 89. 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52240"/>
            <a:ext cx="8229600" cy="86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piac meghatározás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170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ia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z árutermelési viszonyok gazdasági szervezeti formája, a tömeges és rendszeres árucsere területe, az eladások és vételek összessége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vállalat számára a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ia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folyamatosan változó értékesítési lehetőségeket jelent. A piaci szereplőket – eladókat,vevőket, fogyasztókat – és a közöttük fennálló kapcsolatokat, működési elveket foglalja magában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1844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4.Media – Reklámhordozók</a:t>
            </a:r>
            <a:br>
              <a:rPr sz="36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386560" cy="1439640"/>
          </a:xfrm>
          <a:prstGeom prst="rect">
            <a:avLst/>
          </a:prstGeom>
          <a:solidFill>
            <a:srgbClr val="999900"/>
          </a:solidFill>
          <a:ln w="9360">
            <a:solidFill>
              <a:srgbClr val="99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Verdana"/>
              </a:rPr>
              <a:t>előnyök – hátrányok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768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768" fill="hold"/>
                                        <p:tgtEl>
                                          <p:spTgt spid="9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5" dur="768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7" dur="768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Sajtóhirdeté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3743280" cy="34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53b51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43280" y="2133720"/>
            <a:ext cx="4034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53b51"/>
              </a:solidFill>
              <a:latin typeface="Verdana"/>
            </a:endParaRPr>
          </a:p>
        </p:txBody>
      </p:sp>
      <p:sp>
        <p:nvSpPr>
          <p:cNvPr id="967" name=""/>
          <p:cNvSpPr/>
          <p:nvPr/>
        </p:nvSpPr>
        <p:spPr>
          <a:xfrm>
            <a:off x="2627280" y="1341360"/>
            <a:ext cx="40258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pilap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95280" y="2205000"/>
            <a:ext cx="3809880" cy="381168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53b51"/>
                </a:solidFill>
                <a:latin typeface="Tahoma"/>
              </a:rPr>
              <a:t>Előnyö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cc00"/>
                </a:solidFill>
                <a:latin typeface="Arial"/>
              </a:rPr>
              <a:t>Tömeges eléré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cc00"/>
                </a:solidFill>
                <a:latin typeface="Arial"/>
              </a:rPr>
              <a:t>Helyi irányíthatósá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cc00"/>
                </a:solidFill>
                <a:latin typeface="Arial"/>
              </a:rPr>
              <a:t>Időszerűsé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716360" y="2276640"/>
            <a:ext cx="3888000" cy="367344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53b51"/>
                </a:solidFill>
                <a:latin typeface="Tahoma"/>
              </a:rPr>
              <a:t>Hátrány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cc00"/>
                </a:solidFill>
                <a:latin typeface="Arial"/>
              </a:rPr>
              <a:t>Gyenge reprodukci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cc00"/>
                </a:solidFill>
                <a:latin typeface="Arial"/>
              </a:rPr>
              <a:t>Zsúfoltsá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cc00"/>
                </a:solidFill>
                <a:latin typeface="Arial"/>
              </a:rPr>
              <a:t>Kicsi a „pass along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Sajtóhirdeté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50920" y="2349360"/>
            <a:ext cx="4465440" cy="439272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Verdana"/>
              </a:rPr>
              <a:t>Előnyö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cc00"/>
                </a:solidFill>
                <a:latin typeface="Verdana"/>
              </a:rPr>
              <a:t>Jó minőségű reprodukció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cc00"/>
                </a:solidFill>
                <a:latin typeface="Verdana"/>
              </a:rPr>
              <a:t>„</a:t>
            </a:r>
            <a:r>
              <a:rPr b="1" lang="en-US" sz="2600" spc="-1" strike="noStrike">
                <a:solidFill>
                  <a:srgbClr val="99cc00"/>
                </a:solidFill>
                <a:latin typeface="Verdana"/>
              </a:rPr>
              <a:t>Hosszú élet”, tartóssá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cc00"/>
                </a:solidFill>
                <a:latin typeface="Verdana"/>
              </a:rPr>
              <a:t>Nagy a „pass along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cc00"/>
                </a:solidFill>
                <a:latin typeface="Verdana"/>
              </a:rPr>
              <a:t>Célcsoport-orientál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859280" y="2276640"/>
            <a:ext cx="4105440" cy="4248000"/>
          </a:xfrm>
          <a:prstGeom prst="rect">
            <a:avLst/>
          </a:prstGeom>
          <a:solidFill>
            <a:srgbClr val="999900"/>
          </a:solidFill>
          <a:ln w="9360">
            <a:solidFill>
              <a:srgbClr val="99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Verdana"/>
              </a:rPr>
              <a:t>Hátrányo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cc00"/>
                </a:solidFill>
                <a:latin typeface="Verdana"/>
              </a:rPr>
              <a:t>Költség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cc00"/>
                </a:solidFill>
                <a:latin typeface="Verdana"/>
              </a:rPr>
              <a:t>Hosszú lekötési id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cc00"/>
                </a:solidFill>
                <a:latin typeface="Verdana"/>
              </a:rPr>
              <a:t>Kevésbé rugal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cc00"/>
                </a:solidFill>
                <a:latin typeface="Verdana"/>
              </a:rPr>
              <a:t>Kis példányszá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"/>
          <p:cNvSpPr/>
          <p:nvPr/>
        </p:nvSpPr>
        <p:spPr>
          <a:xfrm>
            <a:off x="1835280" y="1484280"/>
            <a:ext cx="5784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gazinok, folyóirat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04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Televízió reklám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4103640" cy="4680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0066"/>
                </a:solidFill>
                <a:latin typeface="Verdana"/>
              </a:rPr>
              <a:t>Előnyö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99cc00"/>
                </a:solidFill>
                <a:latin typeface="Verdana"/>
              </a:rPr>
              <a:t>Audovizuál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99cc00"/>
                </a:solidFill>
                <a:latin typeface="Verdana"/>
              </a:rPr>
              <a:t>Erős figyelem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99cc00"/>
                </a:solidFill>
                <a:latin typeface="Verdana"/>
              </a:rPr>
              <a:t>   </a:t>
            </a:r>
            <a:r>
              <a:rPr b="1" lang="hu-HU" sz="3000" spc="-1" strike="noStrike">
                <a:solidFill>
                  <a:srgbClr val="99cc00"/>
                </a:solidFill>
                <a:latin typeface="Verdana"/>
              </a:rPr>
              <a:t>felkeltő ha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99cc00"/>
                </a:solidFill>
                <a:latin typeface="Verdana"/>
              </a:rPr>
              <a:t>Tömeges, szelektív eléré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932000" y="1844640"/>
            <a:ext cx="3887640" cy="4680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Verdana"/>
              </a:rPr>
              <a:t>Hátrányo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cc00"/>
                </a:solidFill>
                <a:latin typeface="Verdana"/>
              </a:rPr>
              <a:t>Gyorsasá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cc00"/>
                </a:solidFill>
                <a:latin typeface="Verdana"/>
              </a:rPr>
              <a:t>Zsúfoltsá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cc00"/>
                </a:solidFill>
                <a:latin typeface="Verdana"/>
              </a:rPr>
              <a:t>Magas költsé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cc00"/>
                </a:solidFill>
                <a:latin typeface="Verdana"/>
              </a:rPr>
              <a:t>„</a:t>
            </a:r>
            <a:r>
              <a:rPr b="1" lang="en-US" sz="3000" spc="-1" strike="noStrike">
                <a:solidFill>
                  <a:srgbClr val="99cc00"/>
                </a:solidFill>
                <a:latin typeface="Verdana"/>
              </a:rPr>
              <a:t>Illékony” üzen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b1b34"/>
                </a:solidFill>
                <a:latin typeface="Garamond"/>
              </a:rPr>
              <a:t>5. Measurement - méré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4687920"/>
          </a:xfrm>
          <a:prstGeom prst="rect">
            <a:avLst/>
          </a:prstGeom>
          <a:noFill/>
          <a:ln w="9360">
            <a:solidFill>
              <a:srgbClr val="99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1b34"/>
                </a:solidFill>
                <a:latin typeface="Verdana"/>
              </a:rPr>
              <a:t>Kommunikációs hatás méré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Figyelemfelkel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Emlékez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Márkapreferencia</a:t>
            </a: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1b34"/>
                </a:solidFill>
                <a:latin typeface="Verdana"/>
              </a:rPr>
              <a:t>Forgalmi hatás méré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mennyiségi mutatók alapjá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768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768" fill="hold"/>
                                        <p:tgtEl>
                                          <p:spTgt spid="9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2" dur="768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4" dur="768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9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9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179280" y="2459160"/>
            <a:ext cx="3672000" cy="563760"/>
          </a:xfrm>
          <a:prstGeom prst="ellipse">
            <a:avLst/>
          </a:prstGeom>
          <a:solidFill>
            <a:srgbClr val="eb1b34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k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851280" y="2421000"/>
            <a:ext cx="5292720" cy="821880"/>
          </a:xfrm>
          <a:prstGeom prst="ellipse">
            <a:avLst/>
          </a:prstGeom>
          <a:solidFill>
            <a:srgbClr val="999900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adásösztön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788000" y="4557600"/>
            <a:ext cx="3962160" cy="520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00"/>
                </a:solidFill>
                <a:latin typeface="Arial"/>
              </a:rPr>
              <a:t>Személyes elad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95280" y="4486320"/>
            <a:ext cx="4095720" cy="520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Promóciós mix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993080" cy="3529080"/>
          </a:xfrm>
          <a:prstGeom prst="rect">
            <a:avLst/>
          </a:prstGeom>
          <a:solidFill>
            <a:srgbClr val="999900"/>
          </a:solidFill>
          <a:ln w="9360">
            <a:solidFill>
              <a:srgbClr val="99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Garamond"/>
              </a:rPr>
              <a:t>ELADÁSÖSZTÖNZÉS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Garamond"/>
              </a:rPr>
              <a:t>(SALES PROMOTION)</a:t>
            </a:r>
            <a:br>
              <a:rPr sz="5400"/>
            </a:b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9640" y="620640"/>
            <a:ext cx="716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755640" y="2276640"/>
            <a:ext cx="7620120" cy="2837160"/>
          </a:xfrm>
          <a:prstGeom prst="rect">
            <a:avLst/>
          </a:prstGeom>
          <a:noFill/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Times New Roman"/>
              </a:rPr>
              <a:t>Olyan rövid távú, közvetlen promóciós eszköz, mely valamilyen </a:t>
            </a:r>
            <a:r>
              <a:rPr b="1" lang="en-US" sz="3600" spc="-1" strike="noStrike">
                <a:solidFill>
                  <a:srgbClr val="999900"/>
                </a:solidFill>
                <a:latin typeface="Times New Roman"/>
              </a:rPr>
              <a:t>külön</a:t>
            </a:r>
            <a:r>
              <a:rPr b="1" lang="en-US" sz="3600" spc="-1" strike="noStrike">
                <a:solidFill>
                  <a:srgbClr val="9999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9900"/>
                </a:solidFill>
                <a:latin typeface="Times New Roman"/>
              </a:rPr>
              <a:t>értéket </a:t>
            </a:r>
            <a:r>
              <a:rPr b="1" lang="en-US" sz="3600" spc="-1" strike="noStrike">
                <a:solidFill>
                  <a:srgbClr val="999900"/>
                </a:solidFill>
                <a:latin typeface="Times New Roman"/>
              </a:rPr>
              <a:t>kínál a vevőnek, így képes </a:t>
            </a:r>
            <a:r>
              <a:rPr b="1" lang="en-US" sz="3600" spc="-1" strike="noStrike">
                <a:solidFill>
                  <a:srgbClr val="999900"/>
                </a:solidFill>
                <a:latin typeface="Times New Roman"/>
              </a:rPr>
              <a:t>indító lökést</a:t>
            </a:r>
            <a:r>
              <a:rPr b="1" lang="en-US" sz="3600" spc="-1" strike="noStrike">
                <a:solidFill>
                  <a:srgbClr val="999900"/>
                </a:solidFill>
                <a:latin typeface="Times New Roman"/>
              </a:rPr>
              <a:t> adni a  vásárlásho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18440" cy="1297080"/>
          </a:xfrm>
          <a:prstGeom prst="rect">
            <a:avLst/>
          </a:prstGeom>
          <a:solidFill>
            <a:srgbClr val="999900"/>
          </a:solidFill>
          <a:ln w="9360">
            <a:solidFill>
              <a:srgbClr val="99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9cc00"/>
                </a:solidFill>
                <a:latin typeface="Garamond"/>
              </a:rPr>
              <a:t>ELADÁSÖSZTÖNZÉS</a:t>
            </a:r>
            <a:br>
              <a:rPr sz="3600"/>
            </a:b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4572000" y="3352680"/>
            <a:ext cx="4267080" cy="2895840"/>
          </a:xfrm>
          <a:prstGeom prst="irregularSeal1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364200">
            <a:off x="482400" y="3200040"/>
            <a:ext cx="4165560" cy="2817720"/>
          </a:xfrm>
          <a:prstGeom prst="irregularSeal2">
            <a:avLst/>
          </a:prstGeom>
          <a:solidFill>
            <a:srgbClr val="eb1b34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z eladásösztönzés</a:t>
            </a:r>
            <a:br>
              <a:rPr sz="4000"/>
            </a:b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irányulhat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2101680"/>
            <a:ext cx="8229600" cy="40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2819520" y="1981080"/>
            <a:ext cx="1295280" cy="1524240"/>
          </a:xfrm>
          <a:prstGeom prst="line">
            <a:avLst/>
          </a:prstGeom>
          <a:ln w="38160">
            <a:solidFill>
              <a:srgbClr val="99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4952880" y="1981080"/>
            <a:ext cx="1676520" cy="1524240"/>
          </a:xfrm>
          <a:prstGeom prst="line">
            <a:avLst/>
          </a:prstGeom>
          <a:ln w="38160">
            <a:solidFill>
              <a:srgbClr val="99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900000" y="450864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Times New Roman"/>
              </a:rPr>
              <a:t>fogyasztók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257800" y="4038480"/>
            <a:ext cx="3048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imes New Roman"/>
              </a:rPr>
              <a:t>kereskedők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eb1b34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 fogyasztókra irányuló SP eszközök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7" name=""/>
          <p:cNvSpPr/>
          <p:nvPr/>
        </p:nvSpPr>
        <p:spPr>
          <a:xfrm>
            <a:off x="2195640" y="1628640"/>
            <a:ext cx="4897440" cy="4392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411280" y="1844640"/>
            <a:ext cx="480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Times New Roman"/>
              </a:rPr>
              <a:t>Árumintá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Times New Roman"/>
              </a:rPr>
              <a:t>Kupon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Times New Roman"/>
              </a:rPr>
              <a:t>Jutalm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Times New Roman"/>
              </a:rPr>
              <a:t>Versenyek, sorsolás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Times New Roman"/>
              </a:rPr>
              <a:t>Készpénz visszatérí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Times New Roman"/>
              </a:rPr>
              <a:t>Játék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98560" y="1268280"/>
            <a:ext cx="1440000" cy="3600720"/>
          </a:xfrm>
          <a:prstGeom prst="rect">
            <a:avLst/>
          </a:prstGeom>
          <a:solidFill>
            <a:srgbClr val="339966">
              <a:alpha val="82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8560" y="4867200"/>
            <a:ext cx="1440000" cy="719280"/>
          </a:xfrm>
          <a:prstGeom prst="rect">
            <a:avLst/>
          </a:prstGeom>
          <a:solidFill>
            <a:srgbClr val="993300">
              <a:alpha val="76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32720" y="1268280"/>
            <a:ext cx="1439640" cy="2332080"/>
          </a:xfrm>
          <a:prstGeom prst="rect">
            <a:avLst/>
          </a:prstGeom>
          <a:solidFill>
            <a:srgbClr val="ffcc99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32720" y="4869000"/>
            <a:ext cx="1439640" cy="358560"/>
          </a:xfrm>
          <a:prstGeom prst="rect">
            <a:avLst/>
          </a:prstGeom>
          <a:solidFill>
            <a:srgbClr val="ff6600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32720" y="5227560"/>
            <a:ext cx="1439640" cy="360360"/>
          </a:xfrm>
          <a:prstGeom prst="rect">
            <a:avLst/>
          </a:prstGeom>
          <a:solidFill>
            <a:srgbClr val="ff0000">
              <a:alpha val="9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32720" y="4348080"/>
            <a:ext cx="1439640" cy="520920"/>
          </a:xfrm>
          <a:prstGeom prst="rect">
            <a:avLst/>
          </a:prstGeom>
          <a:solidFill>
            <a:srgbClr val="ff9900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32720" y="3600360"/>
            <a:ext cx="1439640" cy="747720"/>
          </a:xfrm>
          <a:prstGeom prst="rect">
            <a:avLst/>
          </a:prstGeom>
          <a:solidFill>
            <a:srgbClr val="ffcc00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5120" y="100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32160" y="136692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34680" y="50436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7120" y="130644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Tel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lakos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80" y="4727520"/>
            <a:ext cx="17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Potenciá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pi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4880" y="1127160"/>
            <a:ext cx="20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800000"/>
                </a:solidFill>
                <a:latin typeface="Arial"/>
                <a:ea typeface="Arial"/>
              </a:rPr>
              <a:t>Potenciá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800000"/>
                </a:solidFill>
                <a:latin typeface="Arial"/>
                <a:ea typeface="Arial"/>
              </a:rPr>
              <a:t>pi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51360" y="367344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Elérhető pi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51360" y="4227480"/>
            <a:ext cx="188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Korlátozot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elérhető pi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2080" y="48434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Célpi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0280" y="520236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Lefedett pi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51280" y="12682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50920" y="35146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50920" y="41641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50920" y="4775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478000" y="51418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35520" y="583092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a) Teljes pi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32600" y="5830920"/>
            <a:ext cx="28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b) Potenciális pi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274680"/>
            <a:ext cx="8497800" cy="725400"/>
          </a:xfrm>
          <a:prstGeom prst="rect">
            <a:avLst/>
          </a:prstGeom>
          <a:solidFill>
            <a:srgbClr val="99cc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999900"/>
                </a:solidFill>
                <a:latin typeface="Garamond"/>
              </a:rPr>
              <a:t>A piac definíciójának szintj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Garamond"/>
              </a:rPr>
              <a:t>A kereskedőkre irányuló SP eszközök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13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"/>
          <p:cNvSpPr/>
          <p:nvPr/>
        </p:nvSpPr>
        <p:spPr>
          <a:xfrm>
            <a:off x="1187280" y="1628640"/>
            <a:ext cx="5472360" cy="3993480"/>
          </a:xfrm>
          <a:prstGeom prst="rect">
            <a:avLst/>
          </a:prstGeom>
          <a:solidFill>
            <a:srgbClr val="99cc00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088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88a6"/>
                </a:solidFill>
                <a:latin typeface="Times New Roman"/>
              </a:rPr>
              <a:t>Ingyenes termé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88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88a6"/>
                </a:solidFill>
                <a:latin typeface="Times New Roman"/>
              </a:rPr>
              <a:t>Reklámajándék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88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88a6"/>
                </a:solidFill>
                <a:latin typeface="Times New Roman"/>
              </a:rPr>
              <a:t>Sorsolások, jutalm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88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88a6"/>
                </a:solidFill>
                <a:latin typeface="Times New Roman"/>
              </a:rPr>
              <a:t>Eladási vers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88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88a6"/>
                </a:solidFill>
                <a:latin typeface="Times New Roman"/>
              </a:rPr>
              <a:t>Mennyiségi engedmé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88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88a6"/>
                </a:solidFill>
                <a:latin typeface="Times New Roman"/>
              </a:rPr>
              <a:t>Árengedmé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88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88a6"/>
                </a:solidFill>
                <a:latin typeface="Times New Roman"/>
              </a:rPr>
              <a:t>Kereskedelmi bemutat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179280" y="2459160"/>
            <a:ext cx="3963960" cy="563760"/>
          </a:xfrm>
          <a:prstGeom prst="ellipse">
            <a:avLst/>
          </a:prstGeom>
          <a:solidFill>
            <a:srgbClr val="eb1b34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k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213080" y="2517840"/>
            <a:ext cx="4713480" cy="563760"/>
          </a:xfrm>
          <a:prstGeom prst="ellipse">
            <a:avLst/>
          </a:prstGeom>
          <a:solidFill>
            <a:srgbClr val="999900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adásösztön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788000" y="4551480"/>
            <a:ext cx="3962160" cy="563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00"/>
                </a:solidFill>
                <a:latin typeface="Arial"/>
              </a:rPr>
              <a:t>Személyes ela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95280" y="4340160"/>
            <a:ext cx="4095720" cy="15109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blic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Promóciós mix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53964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9966"/>
                </a:solidFill>
                <a:latin typeface="Verdana"/>
              </a:rPr>
              <a:t>közvéleményformál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9966"/>
                </a:solidFill>
                <a:latin typeface="Verdana"/>
              </a:rPr>
              <a:t>közönségkapcsolatok építé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9966"/>
                </a:solidFill>
                <a:latin typeface="Verdana"/>
              </a:rPr>
              <a:t>bizalomépíté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9966"/>
                </a:solidFill>
                <a:latin typeface="Verdana"/>
              </a:rPr>
              <a:t>a bizalomépítés művésze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UBLIC RELATIONS = P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66"/>
                </a:solidFill>
                <a:latin typeface="Garamond"/>
              </a:rPr>
              <a:t>A PR CÉLCSOPORTJAI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1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971640" y="2492280"/>
            <a:ext cx="3240000" cy="201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332000" y="299736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b900"/>
                </a:solidFill>
                <a:latin typeface="Tahoma"/>
              </a:rPr>
              <a:t>BELS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435640" y="292428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KÜLS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Garamond"/>
              </a:rPr>
              <a:t>A PR célcsoportja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30440"/>
            <a:ext cx="40384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b9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e4b900"/>
                </a:solidFill>
                <a:latin typeface="Times New Roman"/>
              </a:rPr>
              <a:t>BELSŐ P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140360" y="2276640"/>
            <a:ext cx="431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ffcc00"/>
                </a:solidFill>
                <a:latin typeface="Times New Roman"/>
              </a:rPr>
              <a:t>feladata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jó vállalati légkör megteremtése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mpany feeling</a:t>
            </a:r>
            <a:r>
              <a:rPr b="0" lang="hu-H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erősíté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"/>
          <p:cNvSpPr/>
          <p:nvPr/>
        </p:nvSpPr>
        <p:spPr>
          <a:xfrm>
            <a:off x="684360" y="2421000"/>
            <a:ext cx="3124080" cy="410220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4102200"/>
              <a:gd name="textAreaBottom" fmla="*/ 3949920 h 4102200"/>
            </a:gdLst>
            <a:ahLst/>
            <a:rect l="textAreaLeft" t="textAreaTop" r="textAreaRight" b="textAreaBottom"/>
            <a:pathLst>
              <a:path w="21600" h="28362">
                <a:moveTo>
                  <a:pt x="3600" y="0"/>
                </a:moveTo>
                <a:arcTo wR="3600" hR="3600" stAng="16200000" swAng="-5400000"/>
                <a:lnTo>
                  <a:pt x="0" y="24762"/>
                </a:lnTo>
                <a:arcTo wR="3600" hR="3600" stAng="10800000" swAng="-5400000"/>
                <a:lnTo>
                  <a:pt x="18000" y="283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755640" y="2637000"/>
            <a:ext cx="3024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alkalmazott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tulajdono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tanácsad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képviselő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8000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008000"/>
                </a:solidFill>
                <a:latin typeface="Garamond"/>
              </a:rPr>
              <a:t>A belső PR eszközei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5579640" y="1484280"/>
            <a:ext cx="3024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-842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hu-HU" sz="4400" spc="-1" strike="noStrike">
                <a:solidFill>
                  <a:srgbClr val="008000"/>
                </a:solidFill>
                <a:latin typeface="Times New Roman"/>
              </a:rPr>
              <a:t>zóbeli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84240" indent="-842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4b900"/>
                </a:solidFill>
                <a:latin typeface="Times New Roman"/>
              </a:rPr>
              <a:t>tanácskozás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4240" indent="-842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4b900"/>
                </a:solidFill>
                <a:latin typeface="Times New Roman"/>
              </a:rPr>
              <a:t>konferenciá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4240" indent="-842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4b900"/>
                </a:solidFill>
                <a:latin typeface="Times New Roman"/>
              </a:rPr>
              <a:t>összejövetel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4240" indent="-842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4b900"/>
                </a:solidFill>
                <a:latin typeface="Times New Roman"/>
              </a:rPr>
              <a:t>rendezvény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4240" indent="-842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539640" y="1484280"/>
            <a:ext cx="29527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1" lang="hu-HU" sz="4400" spc="-1" strike="noStrike">
                <a:solidFill>
                  <a:srgbClr val="008000"/>
                </a:solidFill>
                <a:latin typeface="Times New Roman"/>
              </a:rPr>
              <a:t>írásbeli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4b9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e4b9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e4b900"/>
                </a:solidFill>
                <a:latin typeface="Times New Roman"/>
              </a:rPr>
              <a:t>hí</a:t>
            </a:r>
            <a:r>
              <a:rPr b="1" lang="en-US" sz="2400" spc="-1" strike="noStrike">
                <a:solidFill>
                  <a:srgbClr val="e4b900"/>
                </a:solidFill>
                <a:latin typeface="Times New Roman"/>
              </a:rPr>
              <a:t>rlevel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4b9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e4b9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e4b9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e4b9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e4b900"/>
                </a:solidFill>
                <a:latin typeface="Times New Roman"/>
              </a:rPr>
              <a:t>irdet</a:t>
            </a:r>
            <a:r>
              <a:rPr b="1" lang="hu-HU" sz="2400" spc="-1" strike="noStrike">
                <a:solidFill>
                  <a:srgbClr val="e4b900"/>
                </a:solidFill>
                <a:latin typeface="Times New Roman"/>
              </a:rPr>
              <a:t>őtáblá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4b9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e4b9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e4b900"/>
                </a:solidFill>
                <a:latin typeface="Times New Roman"/>
              </a:rPr>
              <a:t>intra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2916360" y="4076280"/>
            <a:ext cx="28080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egyéb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b900"/>
                </a:solidFill>
                <a:latin typeface="Times New Roman"/>
              </a:rPr>
              <a:t>továbbképz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b900"/>
                </a:solidFill>
                <a:latin typeface="Times New Roman"/>
              </a:rPr>
              <a:t>ötletlá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b900"/>
                </a:solidFill>
                <a:latin typeface="Times New Roman"/>
              </a:rPr>
              <a:t>nyitott ajt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Garamond"/>
              </a:rPr>
              <a:t>A PR CÉLCSOPORTJAI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2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025" name=""/>
          <p:cNvSpPr/>
          <p:nvPr/>
        </p:nvSpPr>
        <p:spPr>
          <a:xfrm>
            <a:off x="971640" y="2492280"/>
            <a:ext cx="3240000" cy="201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332000" y="2997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b900"/>
                </a:solidFill>
                <a:latin typeface="Tahoma"/>
              </a:rPr>
              <a:t>BELS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435640" y="292428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ahoma"/>
              </a:rPr>
              <a:t>KÜLS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Garamond"/>
              </a:rPr>
              <a:t>A PR célcsoportja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39607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FUNKCIONÁ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fogyasztó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zállító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énzintézet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zakmai irányítá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érdekképviselet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859280" y="2421000"/>
            <a:ext cx="403848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ÁLTALÁ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környez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önkormányzat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méd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ársadalmi szervezet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"/>
          <p:cNvSpPr/>
          <p:nvPr/>
        </p:nvSpPr>
        <p:spPr>
          <a:xfrm>
            <a:off x="2340000" y="148428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KÜLSŐ P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Garamond"/>
              </a:rPr>
              <a:t>A külső PR eszközei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324000" y="191592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Személyes kommunikáci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fór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level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4211280" y="1981080"/>
            <a:ext cx="4932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Csoportkommunikáci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konfe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kiállítá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nyomtatvány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-541440" y="422100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Tömegkommunikáci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rádi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ajt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Garamond"/>
              </a:rPr>
              <a:t>A PR torta szeletei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2700360" y="1125360"/>
            <a:ext cx="5616360" cy="5486400"/>
            <a:chOff x="2700360" y="1125360"/>
            <a:chExt cx="5616360" cy="5486400"/>
          </a:xfrm>
        </p:grpSpPr>
        <p:sp>
          <p:nvSpPr>
            <p:cNvPr id="1038" name=""/>
            <p:cNvSpPr/>
            <p:nvPr/>
          </p:nvSpPr>
          <p:spPr>
            <a:xfrm>
              <a:off x="2700360" y="1125360"/>
              <a:ext cx="5320800" cy="54864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360760" y="112536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735000" y="1734840"/>
              <a:ext cx="177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PR filme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>
              <a:off x="3512880" y="1887120"/>
              <a:ext cx="18471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95920" y="2420640"/>
              <a:ext cx="177336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Informatika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eszközö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 flipV="1">
              <a:off x="2774160" y="3106080"/>
              <a:ext cx="25862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48320" y="3411360"/>
              <a:ext cx="199512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imes New Roman"/>
                </a:rPr>
                <a:t>TV és rádió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imes New Roman"/>
                </a:rPr>
                <a:t>produkciók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2921760" y="3868560"/>
              <a:ext cx="24386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143520" y="4722480"/>
              <a:ext cx="221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Road sh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4400280" y="3868560"/>
              <a:ext cx="96048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95480" y="5316480"/>
              <a:ext cx="2143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Nyomtatványo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0760" y="3868560"/>
              <a:ext cx="162576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099840" y="3792240"/>
              <a:ext cx="221688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Rendezvénye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5360760" y="3639600"/>
              <a:ext cx="2660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508720" y="1658880"/>
              <a:ext cx="236448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Sajtó-kapcsolato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80960"/>
            <a:ext cx="8229600" cy="858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Piaci alapmodellek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TOMIZÁLT  PIA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LIGOPÓLI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NOPOLPIA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4360" y="100080"/>
            <a:ext cx="8159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Garamond"/>
              </a:rPr>
              <a:t>Image szerepe </a:t>
            </a:r>
            <a:br>
              <a:rPr sz="3600"/>
            </a:br>
            <a:r>
              <a:rPr b="1" lang="en-US" sz="2800" spc="-1" strike="noStrike">
                <a:solidFill>
                  <a:srgbClr val="008000"/>
                </a:solidFill>
                <a:latin typeface="Garamond"/>
              </a:rPr>
              <a:t>(szervezeti piac)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78920" y="1320480"/>
            <a:ext cx="8394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em ismerem Ö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em ismerem  a cégé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em ismerem a cége terméke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em ismerem a cége eredménye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em ismerem a cége vásárló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em ismerem a cége történeté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em ismerem a cége hírnevé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Nos – mit is ak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eladni nekem?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6588000" y="3500280"/>
            <a:ext cx="2168640" cy="2878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6600"/>
            </a:outerShdw>
          </a:effectLst>
        </p:spPr>
      </p:pic>
      <p:sp>
        <p:nvSpPr>
          <p:cNvPr id="1056" name=""/>
          <p:cNvSpPr/>
          <p:nvPr/>
        </p:nvSpPr>
        <p:spPr>
          <a:xfrm>
            <a:off x="4546440" y="6268320"/>
            <a:ext cx="148968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ahoma"/>
              </a:rPr>
              <a:t>Ogilvy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1" dur="500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179280" y="2446200"/>
            <a:ext cx="3963960" cy="649800"/>
          </a:xfrm>
          <a:prstGeom prst="ellipse">
            <a:avLst/>
          </a:prstGeom>
          <a:solidFill>
            <a:srgbClr val="eb1b34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k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213080" y="2517840"/>
            <a:ext cx="4713480" cy="563760"/>
          </a:xfrm>
          <a:prstGeom prst="ellipse">
            <a:avLst/>
          </a:prstGeom>
          <a:solidFill>
            <a:srgbClr val="999900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adásösztön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788000" y="4411800"/>
            <a:ext cx="3962160" cy="1510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95b0"/>
                </a:solidFill>
                <a:latin typeface="Arial"/>
              </a:rPr>
              <a:t>Személyes elad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95280" y="4479840"/>
            <a:ext cx="4095720" cy="5637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blic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Promóciós mix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94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Személyes eladás</a:t>
            </a:r>
            <a:br>
              <a:rPr sz="3600"/>
            </a:b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Personal Selling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72400" cy="1728720"/>
          </a:xfrm>
          <a:prstGeom prst="rect">
            <a:avLst/>
          </a:prstGeom>
          <a:solidFill>
            <a:srgbClr val="99cc00"/>
          </a:solidFill>
          <a:ln w="9360">
            <a:solidFill>
              <a:srgbClr val="99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00"/>
                </a:solidFill>
                <a:latin typeface="Verdana"/>
              </a:rPr>
              <a:t>egy vagy több vevőt, személyes kommunikáció segítségével ösztönöz, terméke megvételé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"/>
          <p:cNvSpPr/>
          <p:nvPr/>
        </p:nvSpPr>
        <p:spPr>
          <a:xfrm>
            <a:off x="686160" y="4797360"/>
            <a:ext cx="198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agy érték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561400" y="4869000"/>
            <a:ext cx="432432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onyol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95b0"/>
                </a:solidFill>
                <a:latin typeface="Times New Roman"/>
              </a:rPr>
              <a:t>t e r m é k e k  e s e t é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12000" y="479736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zakértelmet igényl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835280" y="3860640"/>
            <a:ext cx="914400" cy="762120"/>
          </a:xfrm>
          <a:prstGeom prst="line">
            <a:avLst/>
          </a:prstGeom>
          <a:ln w="442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4500720" y="3860640"/>
            <a:ext cx="0" cy="99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372360" y="3860640"/>
            <a:ext cx="838080" cy="762120"/>
          </a:xfrm>
          <a:prstGeom prst="line">
            <a:avLst/>
          </a:prstGeom>
          <a:ln w="442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124000" y="328464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00"/>
                </a:solidFill>
                <a:latin typeface="Tahoma"/>
              </a:rPr>
              <a:t>Kiemelkedő jelentőség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250" autoRev="1" fill="hold"/>
                                        <p:tgtEl>
                                          <p:spTgt spid="10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10920" y="380520"/>
            <a:ext cx="8064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A személyes eladás eladó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1b34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3b51"/>
                </a:solidFill>
                <a:latin typeface="Verdana"/>
              </a:rPr>
              <a:t>Belső eladó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1b34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3b51"/>
                </a:solidFill>
                <a:latin typeface="Verdana"/>
              </a:rPr>
              <a:t>Külső eladó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1187280" y="2781360"/>
            <a:ext cx="2095560" cy="142884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/>
          <p:cNvPicPr/>
          <p:nvPr/>
        </p:nvPicPr>
        <p:blipFill>
          <a:blip r:embed="rId2"/>
          <a:stretch/>
        </p:blipFill>
        <p:spPr>
          <a:xfrm>
            <a:off x="826920" y="4941720"/>
            <a:ext cx="2610000" cy="809640"/>
          </a:xfrm>
          <a:prstGeom prst="rect">
            <a:avLst/>
          </a:prstGeom>
          <a:ln w="0">
            <a:noFill/>
          </a:ln>
        </p:spPr>
      </p:pic>
      <p:pic>
        <p:nvPicPr>
          <p:cNvPr id="1076" name="" descr=""/>
          <p:cNvPicPr/>
          <p:nvPr/>
        </p:nvPicPr>
        <p:blipFill>
          <a:blip r:embed="rId3"/>
          <a:stretch/>
        </p:blipFill>
        <p:spPr>
          <a:xfrm>
            <a:off x="4932360" y="2924280"/>
            <a:ext cx="2087640" cy="731880"/>
          </a:xfrm>
          <a:prstGeom prst="rect">
            <a:avLst/>
          </a:prstGeom>
          <a:ln w="0">
            <a:noFill/>
          </a:ln>
        </p:spPr>
      </p:pic>
      <p:pic>
        <p:nvPicPr>
          <p:cNvPr id="1077" name="" descr=""/>
          <p:cNvPicPr/>
          <p:nvPr/>
        </p:nvPicPr>
        <p:blipFill>
          <a:blip r:embed="rId4"/>
          <a:stretch/>
        </p:blipFill>
        <p:spPr>
          <a:xfrm>
            <a:off x="6227640" y="5300640"/>
            <a:ext cx="2303640" cy="942840"/>
          </a:xfrm>
          <a:prstGeom prst="rect">
            <a:avLst/>
          </a:prstGeom>
          <a:ln w="0">
            <a:noFill/>
          </a:ln>
        </p:spPr>
      </p:pic>
      <p:pic>
        <p:nvPicPr>
          <p:cNvPr id="1078" name="" descr=""/>
          <p:cNvPicPr/>
          <p:nvPr/>
        </p:nvPicPr>
        <p:blipFill>
          <a:blip r:embed="rId5"/>
          <a:stretch/>
        </p:blipFill>
        <p:spPr>
          <a:xfrm>
            <a:off x="6012000" y="4076640"/>
            <a:ext cx="2527200" cy="7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Az ügynökök javadalmazás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088a6"/>
                </a:solidFill>
                <a:latin typeface="Verdana"/>
              </a:rPr>
              <a:t>Fix fizeté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088a6"/>
                </a:solidFill>
                <a:latin typeface="Verdana"/>
              </a:rPr>
              <a:t>Tisztán jutalékos rendsz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088a6"/>
                </a:solidFill>
                <a:latin typeface="Verdana"/>
              </a:rPr>
              <a:t>Fix alapbér </a:t>
            </a:r>
            <a:r>
              <a:rPr b="0" lang="en-US" sz="3200" spc="-1" strike="noStrike">
                <a:solidFill>
                  <a:srgbClr val="6088a6"/>
                </a:solidFill>
                <a:latin typeface="Verdana"/>
              </a:rPr>
              <a:t>+</a:t>
            </a:r>
            <a:r>
              <a:rPr b="0" lang="hu-HU" sz="3200" spc="-1" strike="noStrike">
                <a:solidFill>
                  <a:srgbClr val="6088a6"/>
                </a:solidFill>
                <a:latin typeface="Verdana"/>
              </a:rPr>
              <a:t> jutalék (70%+30%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685800" y="1828800"/>
            <a:ext cx="3886200" cy="4038480"/>
          </a:xfrm>
          <a:custGeom>
            <a:avLst/>
            <a:gdLst>
              <a:gd name="textAreaLeft" fmla="*/ 189720 w 3886200"/>
              <a:gd name="textAreaRight" fmla="*/ 3696480 w 3886200"/>
              <a:gd name="textAreaTop" fmla="*/ 189720 h 4038480"/>
              <a:gd name="textAreaBottom" fmla="*/ 3848760 h 4038480"/>
            </a:gdLst>
            <a:ahLst/>
            <a:rect l="textAreaLeft" t="textAreaTop" r="textAreaRight" b="textAreaBottom"/>
            <a:pathLst>
              <a:path w="21600" h="22446">
                <a:moveTo>
                  <a:pt x="3600" y="0"/>
                </a:moveTo>
                <a:arcTo wR="3600" hR="3600" stAng="16200000" swAng="-5400000"/>
                <a:lnTo>
                  <a:pt x="0" y="18846"/>
                </a:lnTo>
                <a:arcTo wR="3600" hR="3600" stAng="10800000" swAng="-5400000"/>
                <a:lnTo>
                  <a:pt x="18000" y="224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9456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zemélyes eladá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10920" y="1733400"/>
            <a:ext cx="4033800" cy="411984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3b51"/>
                </a:solidFill>
                <a:latin typeface="Verdana"/>
              </a:rPr>
              <a:t>ELŐNYÖ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Verdana"/>
              </a:rPr>
              <a:t>Személyes kontakt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Verdana"/>
              </a:rPr>
              <a:t>Primer információk nyerhető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Verdana"/>
              </a:rPr>
              <a:t>Azonnali eredmény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Verdana"/>
              </a:rPr>
              <a:t>Kevesebb bolt, iroda szüksé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802040" y="1741320"/>
            <a:ext cx="3810240" cy="41688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3b51"/>
                </a:solidFill>
                <a:latin typeface="Verdana"/>
              </a:rPr>
              <a:t>HÁTRÁNY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Verdana"/>
              </a:rPr>
              <a:t>Szakképzett munkaerőt igény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Verdana"/>
              </a:rPr>
              <a:t>Időigén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Verdana"/>
              </a:rPr>
              <a:t>Drá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9900"/>
                </a:solidFill>
                <a:latin typeface="Garamond"/>
              </a:rPr>
              <a:t>KÖSZÖNÖM </a:t>
            </a:r>
            <a:br>
              <a:rPr sz="5000"/>
            </a:br>
            <a:r>
              <a:rPr b="1" lang="en-US" sz="5000" spc="-1" strike="noStrike">
                <a:solidFill>
                  <a:srgbClr val="999900"/>
                </a:solidFill>
                <a:latin typeface="Garamond"/>
              </a:rPr>
              <a:t>A FIGYELMET!</a:t>
            </a:r>
            <a:r>
              <a:rPr b="0" lang="en-US" sz="46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4600"/>
            </a:br>
            <a:endParaRPr b="0" lang="en-US" sz="46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piaci szerkezet jellegzetes típusai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628640"/>
          <a:ext cx="8229600" cy="4392360"/>
        </p:xfrm>
        <a:graphic>
          <a:graphicData uri="http://schemas.openxmlformats.org/drawingml/2006/table">
            <a:tbl>
              <a:tblPr/>
              <a:tblGrid>
                <a:gridCol w="1900080"/>
                <a:gridCol w="2135520"/>
                <a:gridCol w="2136600"/>
                <a:gridCol w="2057400"/>
              </a:tblGrid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ÍNÁL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RESL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K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VE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ETL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K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ZAB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VERSE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KORLÁTOZO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(OLIGOPO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KERESL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(OLIGOPSZ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ONOP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KERESL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(MONOPSZ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VE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KORLÁTOZOTT (OLIGOPOL) KÍNÁL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KORLÁTOZOTT KÍNÁLAT MONOPÓL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KORLÁTOZOTT KERESLETI MONOPÓL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ETL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ONOPOL KÍNÁL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KÉTOLDALÚ (BILATERÁLIS) MONOPÓL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20620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GYASZTÁSICIKK-PIA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RMELŐESZKÖZ-PIA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ZOLGÁLTATÁSOK PIA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UNKAERŐPIA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ITEL- ÉS PÉNZPIA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395280" y="274320"/>
            <a:ext cx="8569440" cy="102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piacok csoportosítása a kielégítendő szükségletek alapjá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80960"/>
            <a:ext cx="8229600" cy="936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piaci verseny fő területei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PARÁGON BELÜLI VERSE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ELYETTESÍTŐ TERMÉKEK VERSENY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TENCIÁLIS BELÉPŐK VERSENY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ESZÁLLÍTÓKKAL VALÓ VERSE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EVŐKKEL FOLYTATOTT VERSE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80960"/>
            <a:ext cx="8229600" cy="936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kínálati verseny fő területei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85880" indent="-328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Z ÁRUCIKKEN BELÜLI VERSEN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AZ ÁRUCIKK TÉTELEI (ELADÓI) KÖZÖTTI VERSENY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AZ ÁRUCIKK VÁLASZTÉKA (FAJTÁI, MÁRKÁI,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NŐSÉGI OSZTÁLYAI STB.) KÖZÖTTI VERSEN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85880" indent="-328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HELYETTESÍTŐ ÁRUKKAL FOLYTATOTT   VERSEN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5880" indent="-328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HELYETTE VÁSÁROLT ÁRUKKAL FOLYTATOTT VERSEN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piaci formák csoportosítás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9930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484360" y="1700280"/>
            <a:ext cx="4038840" cy="4038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3429000"/>
            <a:ext cx="2286000" cy="228600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3640" y="2565360"/>
            <a:ext cx="2590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PIACPOTENCIÁ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40766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IACMÉ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7640" y="472428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27640" y="472428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69440" cy="971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Piacpotenciál, piacméret, piaci részesedés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2" name=""/>
          <p:cNvSpPr/>
          <p:nvPr/>
        </p:nvSpPr>
        <p:spPr>
          <a:xfrm>
            <a:off x="4581360" y="4838760"/>
            <a:ext cx="16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PI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RÉSZESED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88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piacrészesedés és a jövedelmezőség összefüggése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1413000"/>
          <a:ext cx="1018872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1018872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971640" y="4508640"/>
            <a:ext cx="7326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999900"/>
                </a:solidFill>
                <a:latin typeface="Arial"/>
                <a:ea typeface="Arial"/>
              </a:rPr>
              <a:t> </a:t>
            </a:r>
            <a:r>
              <a:rPr b="1" lang="hu-HU" sz="2200" spc="-1" strike="noStrike">
                <a:solidFill>
                  <a:srgbClr val="999900"/>
                </a:solidFill>
                <a:latin typeface="Arial"/>
                <a:ea typeface="Arial"/>
              </a:rPr>
              <a:t>Piacrészesedés </a:t>
            </a:r>
            <a:r>
              <a:rPr b="1" lang="hu-HU" sz="2200" spc="-1" strike="noStrike">
                <a:solidFill>
                  <a:srgbClr val="999900"/>
                </a:solidFill>
                <a:latin typeface="Arial"/>
                <a:ea typeface="Arial"/>
              </a:rPr>
              <a:t>	</a:t>
            </a:r>
            <a:r>
              <a:rPr b="1" lang="hu-HU" sz="2200" spc="-1" strike="noStrike">
                <a:solidFill>
                  <a:srgbClr val="999900"/>
                </a:solidFill>
                <a:latin typeface="Arial"/>
                <a:ea typeface="Arial"/>
              </a:rPr>
              <a:t>	</a:t>
            </a:r>
            <a:r>
              <a:rPr b="1" lang="hu-HU" sz="2200" spc="-1" strike="noStrike">
                <a:solidFill>
                  <a:srgbClr val="999900"/>
                </a:solidFill>
                <a:latin typeface="Arial"/>
                <a:ea typeface="Arial"/>
              </a:rPr>
              <a:t>                 jövedelmezősé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999900"/>
                </a:solidFill>
                <a:latin typeface="Arial"/>
                <a:ea typeface="Arial"/>
              </a:rPr>
              <a:t>Lineáris összefüggés a PIMS-tanulmány szerint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marketing keretébe tartozó fő területek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zükségletek, az igények és a kereslet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ermékek, az áruk, a szolgáltatások és az elképzelések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sere, az ügyletek, a piaci szereplők és a köztük lévő kapcsolatok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eljesítménymutatók, mint a költség, a nyereség, az érték, az elégedettség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arketingeszközök, mint a marketing-mix eleme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80960"/>
            <a:ext cx="8229600" cy="936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Piaci versenystruktúra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987640" y="2205000"/>
            <a:ext cx="26640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z új belépő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ámad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3573360"/>
            <a:ext cx="18000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zállító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kupozíció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87640" y="3573360"/>
            <a:ext cx="2664000" cy="93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eny a már létez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állalkozások közö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87640" y="4941720"/>
            <a:ext cx="2664000" cy="93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yettesítő termék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és szolgáltatá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nyege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3573360"/>
            <a:ext cx="201600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vevő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kupozíció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40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3068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56000" y="4508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651640" y="400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424720" cy="115236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Piaci versenyformák az élelmiszergazdaságba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ÖKÉLETE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ERSE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ÖKÉLETLE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ERSE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KADÁLYOZOT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ERSE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EJLESZTÉSI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ERSE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684360" y="4437000"/>
            <a:ext cx="319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4076640"/>
            <a:ext cx="82296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80960"/>
            <a:ext cx="8229600" cy="936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Szervezeti piacok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90800"/>
            <a:ext cx="822960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PARI PIACO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ÖZVETÍTŐI PIACO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ÉZMÉNYI PIACO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ORMÁNYZATI PIACO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772400" cy="2232000"/>
          </a:xfrm>
          <a:prstGeom prst="rect">
            <a:avLst/>
          </a:prstGeom>
          <a:solidFill>
            <a:srgbClr val="99cc00">
              <a:alpha val="80000"/>
            </a:srgbClr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800" spc="-1" strike="noStrike">
                <a:solidFill>
                  <a:srgbClr val="999900"/>
                </a:solidFill>
                <a:latin typeface="Garamond"/>
              </a:rPr>
              <a:t>Köszönöm a figyelmet!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403280" y="4654440"/>
            <a:ext cx="1335240" cy="1079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4653000"/>
            <a:ext cx="1389240" cy="1081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205240" y="4653000"/>
            <a:ext cx="1338480" cy="1081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7623000" y="4653000"/>
            <a:ext cx="1622520" cy="1079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700360" y="4653000"/>
            <a:ext cx="1465200" cy="10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4145040" y="4654440"/>
            <a:ext cx="1101600" cy="1079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6550200" y="465300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999900"/>
                </a:solidFill>
                <a:latin typeface="Garamond"/>
              </a:rPr>
              <a:t>Fogyasztói magatartá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Horváth Ágn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Fürediné Kovács Annamá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z élelmiszerfogyasztói magatartást befolyásoló tényezők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Exogén tényezők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 marketingkörnyezetként (4P és a makrokörnyezet eleme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Endogén tényezők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 fogyasztó saját jellemző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kulturális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társadalmi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közgazdasági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demográfia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biológia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lélektani jellemző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Gazdasági tényezők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Jövedelmek  és ára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z Engel törvény hatásának differenciált érvényesülé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 hozzáadott érték (un. marketing margin) növekedé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Demográfiai tényezők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épesség számának növekedé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sökkenő lélekszá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orösszetételé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ősödő korcsoportok részarányának növekedé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háztartások jellemző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gy ill. kétfős családok fokozódó dominanciáj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z iskolai végzettsé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épesség földrajzi megoszlása, a lakóhely típusa, mére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őteljes urbanizáció, saját termelésű fogyasztás szerepének visszaesé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lási, etnikai hovatartozá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A gazdasági és  demográfiai változások hatása a vevői igényekre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házon kívüli étkezés, (outdoor) szolgáltatások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pl. éttermek, kávézók, szállodák, falusi turizmus, st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kényelmi termékek, szolgáltatások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pl. félkész- és késztermékek, házhoz szállítás stb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kis kiszerelésű (egy/két személyes), fóliázott/dobozos csomagolású terméke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Társadalmi tényezők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 csoporthatás érvényesülése a fogyasztói magatartásb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rmális, informális csoporto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ferenciacsoporto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éleményvezető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átus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 család/háztartás szerepe a fogyasztói magatartásb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A marketing alapja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32000" y="2062080"/>
            <a:ext cx="6626160" cy="2898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956720" y="206064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522936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8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52472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csoporthatás érvényesülése a fogyasztói magatartásba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soporttagok közt folyamatos és kölcsönös kapcsolat v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ális csoportok:a tagsági viszony, működési szabályzat stb. formálisan szabályozott, de a kapcsolat la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l. iskola, munkahely, kamara, pártszervezet stb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ális csoportok - elsődleges csoportok: a tagok között az együvé tartozás érzése erős, annak ellenére, hogy a kapcsolati rendszer formális, hivatalos rögzítése nem szükségszer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l. baráti kör, szomszédság, rokonság, háztartás stb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referenciacsoportok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ális vagy informális közösségek, társadalmi csoportosuláso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z egyé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valamilyen módo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zonosul a csoportt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rmáit, értékeit, szokásai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izonyos esetekbe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igyelembe veszi vásárlásainá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él erősebb egyéniségű a fogyasztó annál kevésbé érvényesül döntéseinél a csoporthatá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véleményvezetők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z egyes csoporttagok véleményének, döntésének alakulásában meghatározó szerepet betöltő személyek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.: táplálkozási szakemberek, orvosok, sportoló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A státusz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z egyénnek a társadalom hierarchikus rendszerében, ill. az egyes csoportokban elfoglalt helyét jelent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tátuszfogyasztás ezen pozíció demonstrálására szolgá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státuszfogyasztá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„magasabb” társadalmi rétegek referencia csoportként jelennek meg az alsóbb társadalmi rétegek tagjai számár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z új élelmiszerek és eljárások elterjedése Magyarországon az elmúlt évszázadokban többnyire az "elit" közvetítésével valósult meg: pl. a kelesztett kenyér, a cukor, a kakaó/csokoládé, a kávé, a déligyümölcsök, egzotikus fűszerek, élelmiszerek fogyasztása)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pjainkra jellemző tendencia, hogy a szórakozáshoz, szabadidőhöz kapcsolódó élelmiszerfogyasztás terén is érvényesül a demonstratív fogyasztá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. kínai, indiai, stb. étter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táplálkozási szokások társadalmi meghatározottság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áplálkozási szokások társadalmilag meghatározottak, azok megnyilatkozási formáiban visszatükröződik az adott társadalom politikai-gazdasági fejlettsége, rétegződése, szokásai, valamint a társadalmi kontroll alapelve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odern társadalom az élelmiszerfogyasztást olyan jelképrendszerként használja, amely nemcsak a konkrét élelmiszerfajtákhoz, hanem bizonyos élethelyzetekhez is kapcsolódik, és kifejezésre juttatja az egyén életmódját i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z egyes társadalmakban azon élelmiszerek rendelkeznek a legnagyobb presztízs értékkel, amelyek a legjobban szimbolizálják az egyén társadalmi struktúrákban elfoglalt helyé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z élelmiszerek egy részét hazánkban is –hagyományosan- szimbólumként is használják. Az ünnepekhez kapcsolódnak a presztízs és bőség szimbólumai (a főtt sonka, a kalács) és a termékenységi szimbólumok (a főtt tojás, az újévi malac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család/háztartás szerepe </a:t>
            </a:r>
            <a:br>
              <a:rPr sz="3200"/>
            </a:b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fogyasztói magatartásban I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salád/háztartás olyan speciális csoport, amely kollektív döntéshozó és gazdálkodó közösség, és ahol a gyermekek legfőbb szocializációja is lezajlik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háztartási/családi döntéshozatalban nagy szerepe van a házastársak közötti hatalmi szerkezetnek, az általuk képviselt szerepeknek, a családfő intézményéne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zerepdominancia azt jelzi, hogy egy-egy termék vásárlása során melyik családtag milyen befolyásoló szereppel rendelkezik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család/háztartás szerepe </a:t>
            </a:r>
            <a:br>
              <a:rPr sz="3200"/>
            </a:b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fogyasztói magatartásban II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„hagyományos családok” által vásárolt termékek jól elkülöníthetők a szerint, hogy azok vásárlásánál a férj vagy a nő jut meghatározó szerephez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hagyományos értelemben vett család, háztartás fogalma átalakul, a gyengülő szerepdominancia érvényesül, a vásárlási-döntéshozatal nagy része közös döntés eredmény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z „árküszöb-effektus” – miszerint a nagy értékű termék vásárlásánál a férfi véleménye a meghatározó, idejétmúlttá vál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z ételválasztási döntések családi tradíciókra épülnek, egész életén keretül döntő hatással lesznek táplálkozási kultúrájár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kulturális/antropológiai </a:t>
            </a:r>
            <a:br>
              <a:rPr sz="3200"/>
            </a:b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tényezők hatása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kultúra az egyének számára meghatározza a követendő magatartás kereteit, az emberi viselkedéssel kapcsolatos elvárásokat, kötelezettségeket, amelyekhez a közösség tagjai alkalmazkodnak i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kultúra alatt általában olyan normák és értékek rendszerét értjük, melyek történelmileg determináltak és az egyén társadalmi beilleszkedésének lehetőségeit biztosítjá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kultúra legfőbb sajátosságai a következők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nulási folyamat eredménye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ációkról, generációkra öröklődik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ársadalmi intézmények rendszer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különböző kultúrákban és szubkultúrákban a szocializáció sajátos formában zajlik, így a fogyasztás szocializációja is különböző jellegzetességeket muta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Az értékrend, életstílus szerep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z értékrend, életstílus nagymértékben meghatározója az emberi magatartásnak, így az annak részét képező fogyasztói magatartásnak i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z értékrendszer befolyásolja a vásárló/fogyasztó információ feldolgozási gyakorlatát, alakítja véleményét a terméktulajdonságok fontossági sorrendjéről, a termékekkel kapcsolatos érintettségét, és a termékválasztásának módjá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gyarországon nemzetközi összehasonlításban kimagasló a materialista értékekhez kötődők arány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unka, az anyagi jólét, és az egyéni teljesítmény szerepe felülértékel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nyugat-európai kultúrákban épp az ellenkező tendencia érvényesül (környezettudatosság, növekvő társadalmi felelősségvállalás, fenntartható fejlődés, egészségtudatosság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A marketing-orientáció a marketingirányzatok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vállalati orientáltság lehe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ermelési orientáció szakasza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ermék-orientáció szakasza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z értékesítési orientáció szakasza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arketing-orientáció szakasza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ársadalmi központú marketingorientáci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biológiai tényezők szerep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z élelmiszerfogyasztás az ember biológiai működésének alapvető elem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áplálkozás kiemelkedő biológiai funkciója az is, hogy az érzékszervekre hatást gyakoro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áplálkozás hasznos és nélkülözhetetlen funkciói mellett azonban veszélyforrást is jelent az emberek számá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táplálkozás, mint biológiai veszélyforrás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 helytelen táplálkozás miatt kialakuló betegsége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Verdana"/>
              </a:rPr>
              <a:t>Szív- és érrendszeri megbetegedések, daganatos megbetegedések, elhízás,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Számos probléma figyelhető meg az elfogyasztott élelmiszerek összetételével kapcsolatba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Verdana"/>
              </a:rPr>
              <a:t>Túl sok káros anyagot (pl. állati eredetű zsiradékot) veszünk magunkhoz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Verdana"/>
              </a:rPr>
              <a:t>A szükségesnél kevesebbet fogyasztunk a létfontosságú vitaminokból és ásványi anyagokból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Verdana"/>
              </a:rPr>
              <a:t>A természetes alapú élelmiszerek helyett az ipari úton előállított félkész-, illetve késztermékek fogyasztása került előtérbe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Ételfertőzések, ételmérgezések, táplálékallergiák, pszeudoallergiá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Pszichológiai tényezők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870200" y="1655280"/>
            <a:ext cx="511488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zemélyisé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ktivizáló tényező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óci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tiváci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itű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ognitív tényező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cepci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nulá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ondolkodá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A személyisé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Carver és Scheier (1998) Gordon Allport 1961-es definíciója alapjá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 személyiség – a személyen belüli – pszichofizikai rendszerek olyan dinamikus szerveződése, amely az egyén jellegzetes viselkedés, gondolat- és érzésmintáit hozza létre.”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Verdana"/>
                <a:ea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Meghatározza, hogy az egyé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hogyan viszonyul a világhoz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Feltételezzük, hogy kapcsolat van egyes személyiségjegyek és a termék-illetve márkaválasztási szokások között. A személyiségjegyek ismerete a marketingaktivitások (pl. reklámüzenetek) kialakítása során is hasznos segítséget nyújt.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Aktivizáló tényezők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3" name=""/>
          <p:cNvSpPr/>
          <p:nvPr/>
        </p:nvSpPr>
        <p:spPr>
          <a:xfrm>
            <a:off x="395280" y="1628640"/>
            <a:ext cx="8532720" cy="10810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óció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fogyasztó kellemes vagy kellemetlen belső feszültsé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ly többé-kevésbé tudatos számára (pl.: aggodalom az egészsége mia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2924280"/>
            <a:ext cx="8713800" cy="115236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váció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fogyasztóban kialakult belső feszültség, amely meghatározo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elekvéssel kapcsolódik össze (pl.: gondoskodni akarunk az egészségünkrő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4292640"/>
            <a:ext cx="8532720" cy="10810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itűd: a fogyasztó hajlandósága, hogy pozitívan vagy negatívan reagálj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ermék által kiváltott ingerekre (pl.: a gyümölcsök egészséges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5661000"/>
            <a:ext cx="8532720" cy="10810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atartás (pl.: gyümölcsvásár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5640" y="2565360"/>
            <a:ext cx="287280" cy="503280"/>
          </a:xfrm>
          <a:custGeom>
            <a:avLst/>
            <a:gdLst>
              <a:gd name="textAreaLeft" fmla="*/ 38520 w 287280"/>
              <a:gd name="textAreaRight" fmla="*/ 248760 w 28728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4360" y="3933720"/>
            <a:ext cx="287280" cy="503280"/>
          </a:xfrm>
          <a:custGeom>
            <a:avLst/>
            <a:gdLst>
              <a:gd name="textAreaLeft" fmla="*/ 38520 w 287280"/>
              <a:gd name="textAreaRight" fmla="*/ 248760 w 28728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1280" y="5157720"/>
            <a:ext cx="287280" cy="503280"/>
          </a:xfrm>
          <a:custGeom>
            <a:avLst/>
            <a:gdLst>
              <a:gd name="textAreaLeft" fmla="*/ 38520 w 287280"/>
              <a:gd name="textAreaRight" fmla="*/ 248760 w 28728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Motiváció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Movere (lat.): mozog, mozdít, indí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Driver (ang.): vezető, hajtó, hajtókerék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Bauer-Berács (1998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motiváció olyan belső állapot, amely meghatározott célok teljesítése irányába mozgatja az embereket, akik ezáltal céltudatos magatartást valósítanak meg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Verdana"/>
                <a:ea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  <a:ea typeface="Arial"/>
              </a:rPr>
              <a:t>Mi adja az erőt a tevékenység megkezdéséhez, fenntartásához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  <a:ea typeface="Arial"/>
              </a:rPr>
              <a:t>Mitől függ, hogy a szükséglet milyen tevékenységre ösztönöz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motiváció típusai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z egyénnek egy időben egyszerre több szükséglete is lehe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zek egy része biológiai eredetű, amely valamilyen fiziológiai szükségletből, például az éhségből vagy a szomjúságból faka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ás részük pszichológiai feszültségből ered, mint az elismerés, a megbecsülés és a valahová tartozás igény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zek az igények akkor válnak motivációvá, amikor elég nagy intenzitást érnek el ahhoz, hogy cselekvésre késztessenek, amellyel csökkenthető ezen belső feszültsé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Motivációs elméletek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378160" y="1655280"/>
            <a:ext cx="474984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Freud és tanítvány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as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Herzbe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cCell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urr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627280" y="1557360"/>
            <a:ext cx="1584360" cy="936720"/>
          </a:xfrm>
          <a:prstGeom prst="ellipse">
            <a:avLst/>
          </a:prstGeom>
          <a:noFill/>
          <a:ln w="2844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Éhségér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32720" y="1844640"/>
            <a:ext cx="2016000" cy="936720"/>
          </a:xfrm>
          <a:prstGeom prst="ellipse">
            <a:avLst/>
          </a:prstGeom>
          <a:noFill/>
          <a:ln w="2844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iztonságkeres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4000" y="3429000"/>
            <a:ext cx="1584000" cy="936720"/>
          </a:xfrm>
          <a:prstGeom prst="ellipse">
            <a:avLst/>
          </a:prstGeom>
          <a:noFill/>
          <a:ln w="2844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zok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4797360"/>
            <a:ext cx="1584000" cy="936720"/>
          </a:xfrm>
          <a:prstGeom prst="ellipse">
            <a:avLst/>
          </a:prstGeom>
          <a:noFill/>
          <a:ln w="2844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radíci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79640" y="5661000"/>
            <a:ext cx="2016000" cy="936720"/>
          </a:xfrm>
          <a:prstGeom prst="ellipse">
            <a:avLst/>
          </a:prstGeom>
          <a:noFill/>
          <a:ln w="2844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zociális igény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16360" y="1557360"/>
            <a:ext cx="1584360" cy="936720"/>
          </a:xfrm>
          <a:prstGeom prst="ellipse">
            <a:avLst/>
          </a:prstGeom>
          <a:noFill/>
          <a:ln w="2844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Arial"/>
              </a:rPr>
              <a:t>Emo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93080" y="4797360"/>
            <a:ext cx="1584360" cy="936720"/>
          </a:xfrm>
          <a:prstGeom prst="ellipse">
            <a:avLst/>
          </a:prstGeom>
          <a:noFill/>
          <a:ln w="2844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Arial"/>
              </a:rPr>
              <a:t>Ízélmé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32720" y="3429000"/>
            <a:ext cx="2160360" cy="936720"/>
          </a:xfrm>
          <a:prstGeom prst="ellipse">
            <a:avLst/>
          </a:prstGeom>
          <a:noFill/>
          <a:ln w="2844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peciális igény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03640" y="2781360"/>
            <a:ext cx="2016360" cy="936720"/>
          </a:xfrm>
          <a:prstGeom prst="ellipse">
            <a:avLst/>
          </a:prstGeom>
          <a:noFill/>
          <a:ln w="2844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z új felfedez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9640" y="2133720"/>
            <a:ext cx="1584360" cy="936360"/>
          </a:xfrm>
          <a:prstGeom prst="ellipse">
            <a:avLst/>
          </a:prstGeom>
          <a:noFill/>
          <a:ln w="2844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Ökonó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00360" y="2708280"/>
            <a:ext cx="1584360" cy="936720"/>
          </a:xfrm>
          <a:prstGeom prst="ellipse">
            <a:avLst/>
          </a:prstGeom>
          <a:noFill/>
          <a:ln w="2844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We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11280" y="4076640"/>
            <a:ext cx="2016360" cy="1224000"/>
          </a:xfrm>
          <a:prstGeom prst="ellipse">
            <a:avLst/>
          </a:prstGeom>
          <a:noFill/>
          <a:ln w="2844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zociál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gkülönbözte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59280" y="4149720"/>
            <a:ext cx="2089080" cy="936720"/>
          </a:xfrm>
          <a:prstGeom prst="ellipse">
            <a:avLst/>
          </a:prstGeom>
          <a:noFill/>
          <a:ln w="2844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tikai szempon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92720" y="5661000"/>
            <a:ext cx="2232000" cy="936720"/>
          </a:xfrm>
          <a:prstGeom prst="ellipse">
            <a:avLst/>
          </a:prstGeom>
          <a:noFill/>
          <a:ln w="2844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Kvázi-mágikus erő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Az élelmiszerfogyasztás motivációi</a:t>
            </a:r>
            <a:br>
              <a:rPr sz="3200"/>
            </a:br>
            <a:br>
              <a:rPr sz="1400"/>
            </a:br>
            <a:r>
              <a:rPr b="0" lang="hu-HU" sz="1800" spc="-1" strike="noStrike">
                <a:solidFill>
                  <a:srgbClr val="000000"/>
                </a:solidFill>
                <a:latin typeface="Garamond"/>
              </a:rPr>
              <a:t>Westenhöfer, 2004)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ttitű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z attitűdök egy adott személlyel, szervezettel vagy tárggyal szemben kialakult beállítódáso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apvetően meghatározzák a fogyasztónak az attitűd tárgyával kapcsolatos viszonyát, magatartását és céljai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Arial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Értékelő beállítódáso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szonyulási mintá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ögzült vélemények egy adott termékkel kapcsolatb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A marketing irányzato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gyoldalú fogyasztó-orientáció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gyoldalú versenytárs-orientáció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z ún. egyensúlyi megközelítés (a fogyasztó és versenytárs-orientáció kiegyensúlyozott követése)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és az ún. integratív megközelítés, amely a fogyasztó, a versenytárs, illetve a vállalat közti kölcsönkapcsolatokra helyezi a fő hangsúly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Az attitűd eleme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ognitív elem: ismeretekre alapozott vélekedések, tudati konstrukciók (pl.: annak tudata, hogy a dohányzás káros az egészségr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Érzelmi elem:az attitűd tárgyához való viszonyból, érzelmi tapasztalatból ered (pl.: a dohányzáshoz fűződő kellemes érzete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atartási szándék: válasz az érzelmi és kognitív vélekedésre – az attitűd következményei (dohányzik vagy nem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z attitűd jellemzői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33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árgya (akire/amire vonatkozi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ránya (pozitív vagy negatív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ka (mennyire pozitív vagy negatív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nzitása (mennyire erős a meggyőződés szintj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gjelenésének területei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lhasználás-fogyasztás: tényleges mit és mennyit használ fel a termékből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őnyben részesítés: két vagy több termék közül melyiket választja? (preferenci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zeretés /kedvelés: az érzelmi reagálás összetevő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Kognitív tényezők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27280" y="21337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Észlel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nulá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ndolkodá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Észlelés (percepció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Érzékelés (fiziológiai folyamat): az ingerek tapasztalása, felfogása - az információfeldolgozás kezdeti szakaszát határozza me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Észlelés (pszichológiai folyamat): Az érzékelés során felvett ingerek feldolgozása és értelmezés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z észlelés hatékonyság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m minden érzékelt ingerből lesz észlelet, mivel az inger külső és belső szűrőkön át jut el az egyénhez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z észlelés hatékonysága füg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z inger sajátosságaitó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ősségétől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környezethez való viszonyátó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környezettő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z észlelő személyiségétől és pillanatnyi állapotátó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Szelektív figyelem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ogyasztók a külvilágból érkező ingerek egy részét kiszűri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gyobb valószínűséggel érzékelik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z éppen aktuális szükségleteikhez kapcsolódókat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z aktuális érzelmi állapotukkal harmonizálókat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zokat, amelyekre előre felkészültek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öbbitől eltérő nagyságúaka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Szelektív torzítá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ogyasztók nem minden esetben tárolják megfelelő módon az általuk felfogott információka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aját maguk számára kódolják az információkat, méghozzá általában úgy, hogy azzal saját vélekedéseiket alátámasszák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.: Egy adott márkát preferáló fogyasztó oly módon torzítja maga számára az adott márka rossz tulajdonságairól tájékoztató információkat, hogy azzal saját jó véleményét megóvhas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Szelektív emlékezet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ogyasztók az elraktározott információk egy részét elfelejtik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ltalában azok az információk rögzülnek erősebben, illetve válnak könnyebben előhívhatóvá, amelyek attitűdjeiknek megfelelőek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.: A fogyasztó az általa kedvelt márka jó tulajdonságait jegyzi meg leginkább, termékválasztási dilemmája során azokat hívja elő gyakrabba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Tanulá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viselkedés viszonylag állandó (hosszú távú) megváltozá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Inger-válasz (S-R) elmélet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Klasszikus kondicionálás: kellemes ingerekkel segítik a fogyasztót a kívánt magatartás eléréséhez. (pl. kellemes zene az üzletb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Operáns kondicionálás. Megerősítik a fogyasztót, ha a kívánt viselkedést tanúsítja. (pl. nyeremények, ajándékok a vásárlásér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Gondolkodá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fogyasztók gondolkodással keresnek választ problémáik megoldásár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gondolkodás három formában működik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hu-HU" sz="2000" spc="-1" strike="noStrike">
                <a:solidFill>
                  <a:srgbClr val="000000"/>
                </a:solidFill>
                <a:latin typeface="Verdana"/>
              </a:rPr>
              <a:t>A propozicionális gondolkodás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 során a „lelki füleinkkel” hallunk mondatok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Verdana"/>
              </a:rPr>
              <a:t>A vizuális gondolkodás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 során a „lelki szemeinkkel” jelenítünk meg vizuális képzetek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hu-HU" sz="2000" spc="-1" strike="noStrike">
                <a:solidFill>
                  <a:srgbClr val="000000"/>
                </a:solidFill>
                <a:latin typeface="Verdana"/>
              </a:rPr>
              <a:t>motoros gondolkodás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, amikor a gondolatok belső cselekvésként jelennek meg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Integratív marketing alapstruktúrája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1341360"/>
            <a:ext cx="151272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yasztók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vő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3284640"/>
            <a:ext cx="16556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álla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35640" y="3141720"/>
            <a:ext cx="1512720" cy="136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enytárs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5084640"/>
            <a:ext cx="1584360" cy="136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zállít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3357720"/>
            <a:ext cx="1441440" cy="12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örnye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4005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916360" y="242100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2349360"/>
            <a:ext cx="647640" cy="79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292720" y="458136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4581360"/>
            <a:ext cx="64764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z élelmiszerekkel kapcsolatban észlelt kockázatok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ink és Hamstra (1994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élelmiszerbiztonsági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észségügyi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rmészeti környezeti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kölcsi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ár illetve minőségi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ársadalmi hasznosság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osztási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áció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választás szabadságának fenntartásához kapcsolódó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őhelyzetben történő döntéshez kapcsolódó kockázato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z élelmiszerfogyasztói magatartást meghatározó trendek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Korunk fogyasztóinak életstílusát egyre magasabb elvárások és a szükségletek gyors kielégítése iránti igény jellemz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 jó minőséget és a megfelelő ár-minőség-viszonyt magától értetődőnek tekinti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Állandóan az optimális többletérték keresésén vanna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Szkeptikusak, és sok időbe illetve munkába kerül bizalmuk és a hűségük megnyerés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Egyre fontosabb az önmegvalósítás, és a döntéshozás szabadsá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Egyre nagyobb az igényük az emocionális megszólításra</a:t>
            </a:r>
            <a:r>
              <a:rPr b="0" i="1" lang="hu-H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 szabadidő felértékelődése a vásárlási és a táplálkozási folyamat egyszerűsítésének igényéhez vezetet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Az „új” fogyasztó jellemzői, </a:t>
            </a:r>
            <a:br>
              <a:rPr sz="2800"/>
            </a:b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törekvései és korlátai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5662800" cy="4225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539640" y="6093000"/>
            <a:ext cx="525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orrás: Lewis és Bridger (200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Trendek és ellentrendek egymásmellettisége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A tradicionális étkezési szokások a hétköznapokban folyamatosan veszítenek a jelentőségükből </a:t>
            </a:r>
            <a:r>
              <a:rPr b="0" i="1" lang="hu-HU" sz="1800" spc="-1" strike="noStrike">
                <a:solidFill>
                  <a:srgbClr val="000000"/>
                </a:solidFill>
                <a:latin typeface="Verdana"/>
              </a:rPr>
              <a:t>(de-ritualizáció)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, és a fogyasztók egy része számára a táplálkozás gyors, formalitások nélküli szükséglet-kielégítéssé válik. Ugyanakkor a hagyományos táplálkozási formákat (pl.: vasárnapi családi ebéd) élményforrásként keresik a fogyasztó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A fogyasztók egy csoportja az étkezés során különleges ételek fogyasztásával és éttermi étkezéssel élvezetekben szeretne részesülni (</a:t>
            </a:r>
            <a:r>
              <a:rPr b="0" i="1" lang="hu-HU" sz="1800" spc="-1" strike="noStrike">
                <a:solidFill>
                  <a:srgbClr val="000000"/>
                </a:solidFill>
                <a:latin typeface="Verdana"/>
              </a:rPr>
              <a:t>gourmet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), míg mások számára a félkész- illetve készételek gyors és kielégítő megoldást jelentenek </a:t>
            </a:r>
            <a:r>
              <a:rPr b="0" i="1" lang="hu-HU" sz="1800" spc="-1" strike="noStrike">
                <a:solidFill>
                  <a:srgbClr val="000000"/>
                </a:solidFill>
                <a:latin typeface="Verdana"/>
              </a:rPr>
              <a:t>(fast-food)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Még a fogyasztók egészségtudatos csoportja két szegmensre bontható. Az egyik a friss és természetes élelmiszerek fogyasztásában keresi az egészséget garantáló megoldást. Ezzel szemben a modern technika hívei a legújabb tudományos eredmények alapján előállított termékek fogyasztásától várják testi jólétüket </a:t>
            </a:r>
            <a:r>
              <a:rPr b="0" i="1" lang="hu-HU" sz="1800" spc="-1" strike="noStrike">
                <a:solidFill>
                  <a:srgbClr val="000000"/>
                </a:solidFill>
                <a:latin typeface="Verdana"/>
              </a:rPr>
              <a:t>(high-tech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999900"/>
                </a:solidFill>
                <a:latin typeface="Garamond"/>
              </a:rPr>
              <a:t>Köszönöm </a:t>
            </a:r>
            <a:br>
              <a:rPr sz="5800"/>
            </a:br>
            <a:r>
              <a:rPr b="1" lang="en-US" sz="5800" spc="-1" strike="noStrike">
                <a:solidFill>
                  <a:srgbClr val="999900"/>
                </a:solidFill>
                <a:latin typeface="Garamond"/>
              </a:rPr>
              <a:t>a figyelmet!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999900"/>
                </a:solidFill>
                <a:latin typeface="Garamond"/>
              </a:rPr>
              <a:t>Agrármarketing</a:t>
            </a:r>
            <a:br>
              <a:rPr sz="4500"/>
            </a:br>
            <a:br>
              <a:rPr sz="4500"/>
            </a:br>
            <a:r>
              <a:rPr b="1" i="1" lang="en-US" sz="4500" spc="-1" strike="noStrike">
                <a:solidFill>
                  <a:srgbClr val="999900"/>
                </a:solidFill>
                <a:latin typeface="Garamond"/>
              </a:rPr>
              <a:t>Szervezeti piacok és a beszerzési magatartás</a:t>
            </a:r>
            <a:br>
              <a:rPr sz="4500"/>
            </a:br>
            <a:br>
              <a:rPr sz="4000"/>
            </a:br>
            <a:r>
              <a:rPr b="1" i="1" lang="en-US" sz="4000" spc="-1" strike="noStrike">
                <a:solidFill>
                  <a:srgbClr val="999900"/>
                </a:solidFill>
                <a:latin typeface="Garamond"/>
              </a:rPr>
              <a:t>Dr. Lehota József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9900"/>
                </a:solidFill>
                <a:latin typeface="Garamond"/>
              </a:rPr>
              <a:t>A szervezeti piacok fogalma és jellemzői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zervezeti piac olyan profit és nonprofit szervezetek és köztük lévő kapcsolatok és viszonyok összessége, amelyek feldolgozási, közvetítői, illetve végső felhasználási céllal vásárolnak, végeznek beszerzések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fogyasztói és szervezeti piacok között jelentős eltérések vannak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sebb a vevők szám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z egyes vevők piaci részesedése nagyobb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evők földrajzilag koncentráltabbak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sere viszonylag nagy értékű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ermék komplexitása általában nagyobb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ásárlásoknál viszonosság jelentkezhet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öntéshozatal formája általában csoporto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eszerzésekben a racionális vásárlási motívumok erősebbe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9900"/>
                </a:solidFill>
                <a:latin typeface="Garamond"/>
              </a:rPr>
              <a:t>A szervezeti piacok típusai és sajátosságai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 szervezeti piacok típusa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pari piacokat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özvetői piacokat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ézményi piacok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és kormányzati piacok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szervezeti piacok típusai és sajátosságai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z intézményi piacok tipizálása alapvetően a következő tényezők alapján történhe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égső felhasználás/nem végső felhasználá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hasznosság típusa szerint (forma, idő, hely, információ, stb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it / nonprofit érdekeltsé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Marketing alapösszefüggése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külső környezet vagy / és piaci orientáció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arketingkoncepció megfogalmazása és adaptálása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kereslet húzó vagy a technológia toló hatás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szervezeti piacok típusai és sajátosságai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Verdana"/>
              </a:rPr>
              <a:t>Az élelmiszeripar legfontosabb szervezeti piaca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z élelmiszeripar nagy- 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kiskereskedelem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z ún. food-service (házon kívüli étkezé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szervezete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kiskereskedelmi trendek a következők: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z élelmiszerkereskedelemben a kis- és nagykereskedelem közti integráció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Tartós, általános trend a koncentráció, centralizáció erősödés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Általános a kiskereskedelemben az új technológiák meghonosodása és elterjedés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hagyományos kiskereskedelmi formák, az új alternatív csatornák és a food-service szektor közötti verseny jelentős erősödé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változó fogyasztói magatartás változá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fontosabb kiskereskedelmi típusok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ipermarkete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őleg önkiszolgál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zéles és mély választék élelmiszerből és nem élelmiszerekbő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000 m2 feletti eladói terül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gyméretű parkolási lehetőségek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általában a városon kívül, illetve a városok peremén helyezkednek 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fontosabb kiskereskedelmi típusok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zuperáruház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őleg önkiszolgáló-rendsz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zéles és mély választék élelmiszerekből és nem élelmiszerekbő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500-5000 m2 közötti eladói terül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gfelelő parkolási lehetőség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általában a város peremén helyezkednek 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fontosabb kiskereskedelmi típusok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zupermarket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őleg önkiszolgáló-rendszer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ély és széles élelmiszerválaszték, friss termékeket is beleért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00-2500 m2 közötti eladói terül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fontosabb kiskereskedelmi típusok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Verdana"/>
              </a:rPr>
              <a:t>Soft, hard-diszkont áruháza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önkiszolgáló rendsz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nagyszámú, gyorsforgási sebességű cikk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(600-100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300-600 m2 eladói terül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inimális szolgáltatás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lacsony ár, (szuperárakhoz képest 10-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20%-kal alacsonyab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fontosabb kiskereskedelmi típusok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ényelmi áruház (AB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észben vagy teljesen önkiszolgáló rendsz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ermék és szolgáltatás választék köze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rlátozott eladói terül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általában lakóterületeken helyezkednek 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fontosabb kiskereskedelmi típusok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peciális élelmiszer-szakbolt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m önkiszolgáló-rendsz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zűk, de mély választé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icsi eladói terül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fontosabb kiskereskedelmi típusok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Verdana"/>
              </a:rPr>
              <a:t>Nem helyhez kötött értékesítési formá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élelmiszer- és ital-automaták (egyesek a catering szektorba sorolják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háztól-házig történő értékesí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csomag- és küldő szolgál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telefonos értékesí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élelmiszer e-comme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9900"/>
                </a:solidFill>
                <a:latin typeface="Garamond"/>
              </a:rPr>
              <a:t>Technológiai trendek a kiskereskedelemben I.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onalkódos rendszer elterjedése, optikai leolvasók alkalmazás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hely- és a polcmenedzsment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ermékcsoportok újraelosztása, polcszegmensek képzés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PP (Direct Product Profitability) a termékek belistázása és kilistázása keretében használt módszer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kategória menedzsment: a termékcsoportok újra fogalmazása, a fogyasztói, felhasználói helyzet és a vásárlói magatartás jellemzők alapján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piaci orientáció fogalma I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Verdana"/>
              </a:rPr>
              <a:t>Kohli-Javorsky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(1993) meghatározása szerint a piaci orientáció a szervezet azon képessége, hogy piaci információkat gyűjtsön és a szervezeten belül szétossza azokat és a szervezet válasza és reagálása a piaci információkr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Technológiai trendek a kiskereskedelemben I. 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z EDI (Elektronikus adatcsere, Electronic Data Interchange) a partnerek között, amely az új termékek és az új beszállítók kiválasztásár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z ECR (Effectíve Consumer Response) a hatékony fogyasztói reagálás módszere, amely alapvetően négy elemből áll: a hatékony termék választék, a hatékony eladásösztönzés, a hatékony termékbevezetés, illetve a hatékony készletfeltölté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Technológiai trendek a kiskereskedelemben II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A logisztikai rendszerek átalakítása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termékek, a termékválaszték standardizálása (a fix költségek csökkentése érdekéb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fizikai áruelosztás, a logisztikai funkciók centralizációja, a beszállítók csoportosítása, a just in time rendszerek alkalmazás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rakománymenedzsment fejlesztés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szerződéses logisztikai rendszerek (a tevékenységek, funkciók kiszervezése /outsourcing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kiskereskedelem jövőbeni trendjei II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kiskereskedelmi egységek száma a jövőben csökkenő trendet mutat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2800" indent="-442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állalati koncentráció tovább erősödik (a szereplők száma csökken), nő a tulajdon/tőke koncentráció, a vállalati méret, a kiskereskedelmi egységek méret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2800" indent="-442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kiskereskedelmi láncok növekvő szerepvállalása a külső piacokon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2800" indent="-442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z átlagos eladói területi méretek minden kiskereskedelmi formában és típusban várhatóan nőnek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kiskereskedelem jövőbeni trendjei II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zupermarketek a nagyobb és szélesebb választék irányába fejlődnek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2800" indent="-442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iszkontok várhatóan szélesítik a választékot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2800" indent="-442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yertesek: a láncok, a nagyobb hiper- és szupermarketek. Vesztesek: a független kisméretű boltok, a kis- és közepes méretű szupermarketek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2800" indent="-442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z önálló nagykereskedelmi vállalkozások szerepének további csökkenése várható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A kiskereskedelem jövőbeni trendjei II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 kereskedelmi márkák szerepe várhatóan tovább növekszik (egyesek telítődéssel számolnak), az Euro márka vagy Pan-európai márka széles körű elterjedése nem várható. Várhatóan a kereskedelmi, a regionális, a nemzeti és a helyi márkák kombinációja lesz a meghatározó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kiskereskedelem jövőbeni trendjei III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beszerzési döntések szintje egyre magasabb szintre kerül, centralizálódik, egyre kevesebb beszerzési szakember dönt, egyre nagyobb értékű beszerzések felett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agyméretű hiper- és szupermarketek és bevásárlóközpontok esetén a nem élelmiszeripari termékek részaránya várhatóan nő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999900"/>
                </a:solidFill>
                <a:latin typeface="Garamond"/>
              </a:rPr>
              <a:t>Food-service típusok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kereskedelmi jellegű egység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szálláshoz kötődő egységek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éttermek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gyorséttermek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kávézók, elvitelre szolgáló (take away) egységek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pub-ok, kocsmák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z utazáshoz kapcsolódó egységek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szabadidő eltöltéséhez kapcsolódó egysége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A kiskereskedelem jövőbeni trendjei IV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m kereskedelmi jellegű egység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nkahelyi étkeztetés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gészségügyi intézmények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ktatási intézmények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gyéb szolgáltatások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zociális intézmény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9900"/>
                </a:solidFill>
                <a:latin typeface="Garamond"/>
              </a:rPr>
              <a:t>A szervezeti piacok beszerzési magatartása I.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57120"/>
                <a:tab algn="l" pos="44784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 beszerzési rendszer legfontosabb alapelemei a következő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0"/>
                <a:tab algn="l" pos="357120"/>
                <a:tab algn="l" pos="44784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beszerzési célok meghatározása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0"/>
                <a:tab algn="l" pos="357120"/>
                <a:tab algn="l" pos="44784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beszerzési folyamat szakaszai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0"/>
                <a:tab algn="l" pos="357120"/>
                <a:tab algn="l" pos="44784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beszerzésben szerepet játszó, ú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57120"/>
                <a:tab algn="l" pos="44784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zerzési központ meghatározása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0"/>
                <a:tab algn="l" pos="357120"/>
                <a:tab algn="l" pos="44784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beszerzési alaptípusok és azok jellemző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9900"/>
                </a:solidFill>
                <a:latin typeface="Garamond"/>
              </a:rPr>
              <a:t>A szervezeti piacok beszerzési magatartása II.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 beszerzés fő sarkpontja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-442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beszerzendő mennyiség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-442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erméktulajdonságok, -jellemzők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-442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ermékminőség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-442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beszerzési ár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-442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eljesítés helye és idej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7:07:32Z</dcterms:created>
  <dc:creator>SZIE</dc:creator>
  <dc:description/>
  <dc:language>en-US</dc:language>
  <cp:lastModifiedBy>SZIE</cp:lastModifiedBy>
  <dcterms:modified xsi:type="dcterms:W3CDTF">2007-12-10T14:15:22Z</dcterms:modified>
  <cp:revision>141</cp:revision>
  <dc:subject/>
  <dc:title>1. dia</dc:title>
</cp:coreProperties>
</file>