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01C-C4F6-495C-A155-56FD8E31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25C-4B93-446D-9D95-3311F70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7D6-069D-4B62-83C6-9E3C7AE4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454-CCC4-437D-B57A-E2139FC1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459-072D-4773-9B77-E3A08BD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DC5-809C-4000-BCBB-2B337F2A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F14-A886-4F20-AFC8-A869679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F15-923A-4229-92FB-84F180EA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4E7-5E25-4F17-92EE-A8D791C9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E25-0264-4C9A-B8A4-96A4B391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23C-7EEA-40B4-AE9C-001A661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BAC-768D-4593-9304-18D5906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D2DF-4E43-428A-A4AA-781CF47AE1E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I.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É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RTELMEZÉS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FÖLDRAJZI TÉR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 a minket körülvevő valós té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TÁRSADALMI TÉR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hol a társadalmi tevékenységek zajlanak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ABSZTRAKT TÉR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 modell tér, bizonyos társadalmi, gazdasági probléma értelmezésé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CTÉR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computer-té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IBERTÉR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 ctérből számítógépes kommunikációval teremtett új té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KÜLSŐ TÉR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: az a földrajzi (fizikai) tér, mely „tartályszerűen” körülves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BELSŐ TÉR: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a különböző társadalmi, gazdasági szereplők kapcsolatrendszeréből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felépült té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.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GYENSÚLY ÉRTELMEZ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ZÁRT RENDSZER     NYÍLT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tatikus egyensúlyi       dinamikus egyensúl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pot                                                     állap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ndósult nyugvó              időről időre új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pot                             rendeződő egyensú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XI.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STRUKTÚRA ÉS FOLYAMAT ÁLTAL MEGHATÁROZOTT TERÜLETI EGYENLŐ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8640" y="2622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6920" y="2565360"/>
          <a:ext cx="7777440" cy="2822400"/>
        </p:xfrm>
        <a:graphic>
          <a:graphicData uri="http://schemas.openxmlformats.org/drawingml/2006/table">
            <a:tbl>
              <a:tblPr/>
              <a:tblGrid>
                <a:gridCol w="2665440"/>
                <a:gridCol w="2735280"/>
                <a:gridCol w="2376720"/>
              </a:tblGrid>
              <a:tr h="85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ya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létrejött területi egyenlőtlenség je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héziparpárti támogatá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s beruházási rendszer az államszocializmusba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bil erőforrások elszívása a nehézipari adottságokkal nem rendelkező területekrő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éki tér leértékelődése a nehézipari adottságú térségek egyidejű felértékelődésével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XII.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ERÜLETI EGYENLŐTLENSÉG ÁLTAL MEGHATÁROZOTT STRUKTÚRA ÉS FOLYA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00000" y="2790720"/>
          <a:ext cx="7632720" cy="1614600"/>
        </p:xfrm>
        <a:graphic>
          <a:graphicData uri="http://schemas.openxmlformats.org/drawingml/2006/table">
            <a:tbl>
              <a:tblPr/>
              <a:tblGrid>
                <a:gridCol w="2303640"/>
                <a:gridCol w="2232000"/>
                <a:gridCol w="309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erületi egyenlőtlen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ya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ros-falu megosztottsá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társadalom térbeli mobilitá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ionálisan összeszerveződő település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I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NÖVEKEDÉS ÉS FEJLŐDÉS KAPCSO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övekedés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benne a mértékek változ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jlődés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benne az értékek változ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jlődés sokféle tartalmat hordozha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azdasági fejlő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rsadalmi fejlő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nntartható fejlő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I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fejlődés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jellemző tényezők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IV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FEJLŐDÉS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JELLEMZŐ TÉNYEZŐK 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Alonso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nyomán (1964:)</a:t>
            </a:r>
            <a:br>
              <a:rPr sz="2800"/>
            </a:b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. gazdasági növekedési rát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. az osztályok, foglalkozások stb. közötti társadalmi egyenlőtlenség színvonal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. a régiók közötti egyenlőtlenség színvonal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. a földrajzi és területi koncentráció színvonal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. a népesség növekedésének aránya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V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JLŐDÉSFORMÁ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NDOGÉN FEJLŐDÉS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elyi, belső erőforrásokra ép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XOGÉN FEJLŐDÉ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kívülről jövő beavatkozásra ép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ENNTARTHATÓ FEJLŐDÉ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a jelen generáció szükségleteinek kielégítése úgy történik, hogy az nem korlátozza a jövőbeli generációk szükségleteinek kielégítés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V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ENTRUM-PERIFÉRIA MODELLEK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I. Wallerste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entrum, mint relatív központ és a periféria, mint peremi helyzet között függőségi  kapcsolat v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üggőség formá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. Fekvésből adódó függő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. Gazdasági potenciálból adódó függő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. Hatalmi erőviszonyokból adódó függő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V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ENTRUM-PERIFÉRIA MODELLEK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G. Myrd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erifériák és a növekedési centrumok közötti viszonyban két különböző előjelű hatás figyelhető m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ackwash h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. Spread h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VI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ENTRUM-PERIFÉRIA MODELLEK 3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üggőségi elméletek „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. Barant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jlett és fejlődő világ közötti fejlettségbeli különbségek kiküszöbölhetetle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A. G. Fran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jlett és fejlődő világ között egy metropolisz-szatellit kapcsolat 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IX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ENTRUM-PERIFÉRIA MODELLEK 4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üggőségi elméletek „B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Gilbert: 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A függőség típusai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reskedelmi függőség, technikai függőség, kulturális függőség, tőkefüggősé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Times New Roman"/>
              </a:rPr>
              <a:t>Foster-Carter: 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A függőségi elmélet ismérve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stagnálást hirdet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bilineár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externalis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diskontinuis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II.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TÉR ÉS IDŐ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ISZON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terű, egyidejű eseménye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egy helyen egyidő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terű, külön idejű eseménye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egy helyen különböző idő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ülön terű, egyidejű eseménye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egyidőben, különböző hel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ülön terű, külön idejű eseménye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különböző helyen és különböző idő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ENTRUM-PERIFÉRIA MODELLEK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I.Wallerste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világgazdasági centrumtér kialakulása hosszú történeti folyamat. A folyamatnak 2 fő állomása v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. Minirendszerek kialaku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. Világrendszerek kialakulása. Ez utóbbi lehet: A. világbirodal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. világgazdasá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I. NÖVEKEDÉSI PÓLUS-ELMÉLETEK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errou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gazdaság növekedési pólusai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otorikus egység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Scitovsky: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otorikus egységek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satlakozási mechanizmusoko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eresztül hatnak más ágazatok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oudevil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övekedési pólusok térbeli elhelyezkedése jellegzetes. Az ágazati polarizáció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érbeli polarizációva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á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II. NÖVEKEDÉSI SZAKASZ-ELMÉLETEK 1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. Barant: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odernizációs elmélete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mondj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radicionális társadalmakból jól megrajzolható az út a modern társadalmak felé. Az út szakasza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 Tradicionális társadalmak szaka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 Nekilendülés előfeltételei kialakulásának szaka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 Gazdasági nekilendülés szaka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 Út az érettség fel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 Magas tömegfogyasztás k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4321080" cy="5256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1628640"/>
            <a:ext cx="331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RÜLETI EGYENLŐTLENSÉGEK XX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ÖVEKEDÉSI SZAKASZ-ELMÉLETEK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riedmann területi növekedés elmé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84200" y="517680"/>
            <a:ext cx="671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83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TERÜLETI EGYENLŐTLENSÉGEK XXI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NÖVEKEDÉSI SZAKASZ-ELMÉLETEK 3.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Friedmann elmélete a területi fejlettségi különbségek összefüggésé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91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RÜLETI EGYENLŐTLENSÉGEK XXV.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NÖVEKEDÉSI SZAKASZ-ELMÉLETEK 4.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Friedmann területi fejlődésének differenciálódással, nivellálódással való összefügg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98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V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területi lépték kiválasz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196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V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MARADOTTSÁG TÉNYEZŐI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2355840"/>
            <a:ext cx="77043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VI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MARADOTTSÁG TÉNYEZŐI 2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demográfiai egyensúly felbom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Jellegzetessége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épzett agilis fiatalok elköltö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lörege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mortizáló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egénység térbeli koncentráció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IX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MARADOTTSÁG TÉNYEZŐI 3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szigetelt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ellemző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dvezőtlen közlekedésföldrajzi hely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jletlen  tömegközleke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zsáktelepülés-jel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írközlés és információáramlás csatornái kiépületlene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III.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ERÜLETI EGYENLŐTLENSÉG ÉRTELMEZÉSE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rületi egyenlőtlenség szükségszerűség, mivel nincs a térnek két olyan pontja, mely minden tulajdonságában azonos lenne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ér kitüntetett pozíciói a következőe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en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erifé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élperifé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MARADOTTSÁG TÉNYEZŐI 4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Gyenge térségi jövedelemtermelő képes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ellemző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őkehiá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azdaság teljesítőképességének alacsony szint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ányzó érdekérvényesítés, fejletlen helyi  menedz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MARADOTTSÁG TÉNYEZŐI 5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szükségletek kielégítésének akadál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ellemző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ládok csekély jövedel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érhető szolgáltatások alacsony színvona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MARADOTTSÁG TÉNYEZŐI 6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környezeti erőforrások alul vagy túlhasznos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lulhasznosítá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jellemzőj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viszonylag jó állapotú természeti környezet feltára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túlhasznosítás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ellemzőj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értékvédelem a környezettudatosság kontrollja nélkül kezdődik meg a területhasznál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iI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EAVATKOZÁS A TERÜLETI FEJLŐDÉSBE 1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Cél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A térségek közötti viszonyban a verseny helyébe a kooperáció lépj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z új értékszemlélet pillérei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1. Az elmaradottság halmozott oksági probléma. Megoldása csak komplexen történh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2. A periféria nem szociálisan megsegítendő tér, hanem olyan értékek birtokosa, melyek hasznosításában a centrumra is szükség v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iV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EAVATKOZÁS A TERÜLETI FEJLŐDÉSB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Az új értékszemlélet pillérei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3. A stratégiai célok megfogalmazásában a centrumok és perifériák eltérő adottságait is figyelembe vevő  eszközöket kell meghatározn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4. A szereplőket fel kell készíteni arra, hogyan élhetnek ezekkel az eszközökkel, hogyan tudják önmaguk is fenntartani a változáshoz vezető folyamatoka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V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ELZÁRKÓZTATÁS FORGATÓKÖNYVEI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A meglevő helyi szereplők ösztönzésére, a belső tartalékok mozgósítására építő fejlesztés forgatókönyv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Kiindulás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csak a helyi erőforrásokra épülő, helyieket bevonni képes fejlesztés lehet hosszútávon életkép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XXXVI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ELZÁRKÓZTATÁS FORGATÓKÖNYVEI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A betelepülő lakosokra és vállalkozásokra, új gazdasági tevékenységekre épülő innovatív területfejlesztési forgatóköny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A kívülről bevitt innovációkat a helyi kezdeményezőkészséggel ötvöző, nem profitorientált vállalkozásokra orientált vállalkozásokra épülő szociális gazdasági forgatókönyv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IV.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CENTRUM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RTELMEZÉSE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ÜLSŐ ÉS A BELSŐ TÉ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SŐ TÉ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entrum a geometriai értelemben vett középponti hely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LSŐ TÉ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entrum a minőségi értelemben vett középponti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V.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PERIFÉRI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RTELMEZÉSE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ÜLSŐ ÉS A BELSŐ TÉ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SŐ TÉ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eriféria a határmenti helyzetet jel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LSŐ TÉ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periféria a szélre szorultságot jelö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I EGYENLŐTLENSÉGEK VI.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ÁLTOZÁSOK A CENTRUM, PERIFÉRIA, FÉLPERIFÉRIA HELYZET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entrum, a periféria és félperiféria térbeli és időbeli helyzete változó. A változás iránya és eredménye kettő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RÁNY                 EREDM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olarizáció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ensúlytalansá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iegyenlítődé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ensúlyi állapot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01920" y="0"/>
            <a:ext cx="6742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356000" y="3440160"/>
          <a:ext cx="228600" cy="20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3440160"/>
                    <a:ext cx="22860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50292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RÜLETI EGYENLŐTLENSÉGEK VII.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NIVELLÁLÓDÁS FOLYA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6764400" cy="547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 rot="10800000">
            <a:off x="250560" y="3951720"/>
            <a:ext cx="50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RÜLETI EGYENLŐTLENSÉGEK VIII.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DIFFERENCIÁLÓDÁS FOLYA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42920" y="765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ÜLETI EGYENLŐTLENSÉGEK IX.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GYENLŐTLENSÉGI MUTAT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842120"/>
            <a:ext cx="100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lepülésrendszer két pólusa a területi egyenlőtlenségi dimenziórendszer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54120" y="2513160"/>
          <a:ext cx="5848560" cy="3082680"/>
        </p:xfrm>
        <a:graphic>
          <a:graphicData uri="http://schemas.openxmlformats.org/drawingml/2006/table">
            <a:tbl>
              <a:tblPr/>
              <a:tblGrid>
                <a:gridCol w="1949400"/>
                <a:gridCol w="1949400"/>
                <a:gridCol w="1949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nlőtlenségi muta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vá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ófa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helyezked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á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emhelyzet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nyi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é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cs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ősé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jle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marado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kez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go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ogé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erepkö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kfunkció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ióhiány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pcsola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pcsolatgaz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zigete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zonyo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ányít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ügg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554120" y="5820480"/>
            <a:ext cx="28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rás (átvéve): Nemes Nagy J. 1998.51.o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6:37:16Z</dcterms:created>
  <dc:creator>Nagy János</dc:creator>
  <dc:description/>
  <dc:language>en-US</dc:language>
  <cp:lastModifiedBy>Káposzta József</cp:lastModifiedBy>
  <dcterms:modified xsi:type="dcterms:W3CDTF">2007-05-02T10:07:44Z</dcterms:modified>
  <cp:revision>23</cp:revision>
  <dc:subject/>
  <dc:title>TERÜLETI EGYENLŐTLENSÉGEKI. A TÉR ÉRTELMEZÉSEI</dc:title>
</cp:coreProperties>
</file>