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34DE0-B7BE-47F9-876A-27A080285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95EDA-5651-40A6-A2E5-969836396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6A31E-E6DC-4CE3-8CDF-958AFCD0C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0684F-0AC7-4244-9FEB-69DAF11D9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19513-5D2C-42CD-8644-B0BA8973B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DDFFC-7CD6-4217-B1D3-F84F68C69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B9221-DFB4-4348-8CE9-EF592836D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FE3D9-710B-4D84-9C40-013030954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718E2-FE49-4CEB-8E74-D40AB6F19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A4AB2-E44A-403D-B14D-B303A989D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CE16D-8334-4922-B3DC-4F533434E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B2B15-289A-4655-82E0-C2D865191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AC65-C01F-46B7-8E0F-7EF31F68244E}" type="slidenum">
              <a:rPr b="0" lang="hu-H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rsenyképesség és az innováció</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a:rPr>
              <a:t>RCC-modell</a:t>
            </a:r>
            <a:br>
              <a:rPr sz="4000"/>
            </a:br>
            <a:r>
              <a:rPr b="1" lang="hu-HU" sz="4000" spc="-1" strike="noStrike">
                <a:solidFill>
                  <a:srgbClr val="000000"/>
                </a:solidFill>
                <a:latin typeface="Arial"/>
              </a:rPr>
              <a:t> </a:t>
            </a:r>
            <a:r>
              <a:rPr b="1" lang="hu-HU" sz="2800" spc="-1" strike="noStrike">
                <a:solidFill>
                  <a:srgbClr val="000000"/>
                </a:solidFill>
                <a:latin typeface="Arial"/>
              </a:rPr>
              <a:t>(RCC: Regional Competitiveness Capacity)</a:t>
            </a:r>
            <a:r>
              <a:rPr b="0" lang="hu-HU" sz="4000" spc="-1" strike="noStrike">
                <a:solidFill>
                  <a:srgbClr val="000000"/>
                </a:solidFill>
                <a:latin typeface="Arial"/>
              </a:rPr>
              <a:t> </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u="sng">
                <a:solidFill>
                  <a:srgbClr val="000000"/>
                </a:solidFill>
                <a:uFillTx/>
                <a:latin typeface="Arial"/>
              </a:rPr>
              <a:t>Komparatív előnyök</a:t>
            </a:r>
            <a:r>
              <a:rPr b="0" lang="hu-HU" sz="1200" spc="-1" strike="noStrike" u="sng">
                <a:solidFill>
                  <a:srgbClr val="000000"/>
                </a:solidFill>
                <a:uFillTx/>
                <a:latin typeface="Arial"/>
              </a:rPr>
              <a:t>:</a:t>
            </a:r>
            <a:r>
              <a:rPr b="0" lang="hu-HU" sz="1200" spc="-1" strike="noStrike">
                <a:solidFill>
                  <a:srgbClr val="000000"/>
                </a:solidFill>
                <a:latin typeface="Arial"/>
              </a:rPr>
              <a:t> a klasszikus közgazdasági elmélet fogalmi viszonyai között „</a:t>
            </a:r>
            <a:r>
              <a:rPr b="0" i="1" lang="hu-HU" sz="1200" spc="-1" strike="noStrike">
                <a:solidFill>
                  <a:srgbClr val="000000"/>
                </a:solidFill>
                <a:latin typeface="Arial"/>
              </a:rPr>
              <a:t>a komparatív előnyök törvénye szerint egy országnak azon árucikkek termelésére kell szakosodnia, amelyeket relatíve alacsonyabb költségen tud előállítani, s azokat az árukat kell importálnia, amelyeket viszonylag magas költséggel termel</a:t>
            </a:r>
            <a:r>
              <a:rPr b="0" lang="hu-HU" sz="1200" spc="-1" strike="noStrike">
                <a:solidFill>
                  <a:srgbClr val="000000"/>
                </a:solidFill>
                <a:latin typeface="Arial"/>
              </a:rPr>
              <a:t>” (Samuelson-Nordhaus 2000).</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u="sng">
                <a:solidFill>
                  <a:srgbClr val="000000"/>
                </a:solidFill>
                <a:uFillTx/>
                <a:latin typeface="Arial"/>
              </a:rPr>
              <a:t>Kompetitív előnyök</a:t>
            </a:r>
            <a:r>
              <a:rPr b="0" lang="hu-HU" sz="1200" spc="-1" strike="noStrike" u="sng">
                <a:solidFill>
                  <a:srgbClr val="000000"/>
                </a:solidFill>
                <a:uFillTx/>
                <a:latin typeface="Arial"/>
              </a:rPr>
              <a:t>:</a:t>
            </a:r>
            <a:r>
              <a:rPr b="0" lang="hu-HU" sz="1200" spc="-1" strike="noStrike">
                <a:solidFill>
                  <a:srgbClr val="000000"/>
                </a:solidFill>
                <a:latin typeface="Arial"/>
              </a:rPr>
              <a:t> Porter felfogása szerint a komparatív előnyök tana nem képes olyan tényezőket figyelembe venni, amelyek a globalizáció természetes velejárói, és a világgazdaságban megkérdőjelezhetetlenül jelen vannak. Ilyenek a méretgazdaságosság, a vállalati hálózatok és stratégiai szövetségek megerősödése, a termelési tényezők országok közötti áramlása, a technológia, technológiatranszfer egyre növekvő jelentősége stb. (Lengyel-Rechnitzer, 2004). A kompetitív előny keletkezése és fenntartása erősen kötődik a lokalitáshoz, hiszen az externáliák döntő szerepet játszanak a vállalati/iparági versenyelőnyökbe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u="sng">
                <a:solidFill>
                  <a:srgbClr val="000000"/>
                </a:solidFill>
                <a:uFillTx/>
                <a:latin typeface="Arial"/>
              </a:rPr>
              <a:t>X-hatékonyság</a:t>
            </a:r>
            <a:r>
              <a:rPr b="0" lang="hu-HU" sz="1200" spc="-1" strike="noStrike" u="sng">
                <a:solidFill>
                  <a:srgbClr val="000000"/>
                </a:solidFill>
                <a:uFillTx/>
                <a:latin typeface="Arial"/>
              </a:rPr>
              <a:t>:</a:t>
            </a:r>
            <a:r>
              <a:rPr b="0" lang="hu-HU" sz="1200" spc="-1" strike="noStrike">
                <a:solidFill>
                  <a:srgbClr val="000000"/>
                </a:solidFill>
                <a:latin typeface="Arial"/>
              </a:rPr>
              <a:t> A modern gazdaságokra jellemző nem tökéletesen versenyző piachoz köthető fogalom, ahol a vállalatok abszolút költséghatékonysága nem igazolható. A hagyományos közgazdasági definíció szerint „</a:t>
            </a:r>
            <a:r>
              <a:rPr b="0" i="1" lang="hu-HU" sz="1200" spc="-1" strike="noStrike">
                <a:solidFill>
                  <a:srgbClr val="000000"/>
                </a:solidFill>
                <a:latin typeface="Arial"/>
              </a:rPr>
              <a:t>olyan szituáció, amikor a cég összköltségét nem minimalizálják, mivel az adott inputokból származó tényleges output kisebb a maximálisan megvalósítható szintnél</a:t>
            </a:r>
            <a:r>
              <a:rPr b="0" lang="hu-HU" sz="1200" spc="-1" strike="noStrike">
                <a:solidFill>
                  <a:srgbClr val="000000"/>
                </a:solidFill>
                <a:latin typeface="Arial"/>
              </a:rPr>
              <a:t>” (Pearce, 1993, 594. o.). A teória szerint a munka és a tőke, mint termelési tényezők kombinációja nem löki a vállalatokat a termelési lehetőségük határára. Lényegében egy vállalat akkor tekinthető X-hatékonynak, ha inputjának minimalizálása közben maximalizálja outputját. Az input tényezők termelékenységének javulása növelni fogja az X-hatékonyságot i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u="sng">
                <a:solidFill>
                  <a:srgbClr val="000000"/>
                </a:solidFill>
                <a:uFillTx/>
                <a:latin typeface="Arial"/>
              </a:rPr>
              <a:t>A lokalizációs előnyök</a:t>
            </a:r>
            <a:r>
              <a:rPr b="0" lang="hu-HU" sz="1200" spc="-1" strike="noStrike">
                <a:solidFill>
                  <a:srgbClr val="000000"/>
                </a:solidFill>
                <a:latin typeface="Arial"/>
              </a:rPr>
              <a:t> egyetlen iparágra vonatkoznak, ezen iparág szempontjából belsőnek, viszont egy vállalat számára külsőnek tekinthetőek. Jellemzően kisvárásokban keletkeznek, ha egy meghatározott iparág térbeli koncentrációja, valamint a gazdasági interakciók erőssége révén nő a hatékonyság, vagy az érintett cégek hasonló inputjaikat alacsonyabb egységköltségen tudják beszerezni (Lengyel-Rechnitzer, 2004).</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u="sng">
                <a:solidFill>
                  <a:srgbClr val="000000"/>
                </a:solidFill>
                <a:uFillTx/>
                <a:latin typeface="Arial"/>
              </a:rPr>
              <a:t>Az urbanizációs előnyök</a:t>
            </a:r>
            <a:r>
              <a:rPr b="0" lang="hu-HU" sz="1200" spc="-1" strike="noStrike">
                <a:solidFill>
                  <a:srgbClr val="000000"/>
                </a:solidFill>
                <a:latin typeface="Arial"/>
              </a:rPr>
              <a:t> ezzel szemben egy térség szempontjából belsőnek, viszont egy szektor, iparág, vállalat szempontjából külsőnek tekinthetőek. Lényeges továbbá, hogy nagyvárosokban figyelhetők meg, ahol általában több iparág/üzletág vállalatai koncentrálódnak. Az urbanizációs előnyök esetében kiemelten fontos a kritikus tömeg elérése, így az urbanizációs előnyök elsősorban a nagyobb aggregációs szinthez (metropolitan régiók, nemzetgazdasági szint) köthetőek. Az urbanizációs előnyök érvényesülése esetén általában költségmegtakarítás jelentkezik a nagy helyi piac és a belőle eredő specializáció, a közszolgáltatások méretgazdaságossága, a pénzintézetek közelsége, a modern infrastruktúra kiépültsége, a színvonalas egyetemek és kutatóintézetek közelsége miatt (Lengyel-Rechnitzer, 200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z RCC modell logikai összefüggései</a:t>
            </a:r>
            <a:endParaRPr b="0" lang="en-US" sz="4000" spc="-1" strike="noStrike">
              <a:solidFill>
                <a:srgbClr val="000000"/>
              </a:solidFill>
              <a:latin typeface="Arial"/>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 name=""/>
          <p:cNvGraphicFramePr/>
          <p:nvPr/>
        </p:nvGraphicFramePr>
        <p:xfrm>
          <a:off x="1042920" y="1657440"/>
          <a:ext cx="7129440" cy="4435560"/>
        </p:xfrm>
        <a:graphic>
          <a:graphicData uri="http://schemas.openxmlformats.org/presentationml/2006/ole">
            <p:oleObj r:id="rId1" spid="">
              <p:embed/>
              <p:pic>
                <p:nvPicPr>
                  <p:cNvPr id="63" name="" descr=""/>
                  <p:cNvPicPr/>
                  <p:nvPr/>
                </p:nvPicPr>
                <p:blipFill>
                  <a:blip r:embed="rId2"/>
                  <a:stretch/>
                </p:blipFill>
                <p:spPr>
                  <a:xfrm>
                    <a:off x="1042920" y="1657440"/>
                    <a:ext cx="7129440" cy="443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rsenyképességi cilinder</a:t>
            </a:r>
            <a:endParaRPr b="0" lang="en-US" sz="4400" spc="-1" strike="noStrike">
              <a:solidFill>
                <a:srgbClr val="000000"/>
              </a:solidFill>
              <a:latin typeface="Arial"/>
            </a:endParaRPr>
          </a:p>
        </p:txBody>
      </p:sp>
      <p:sp>
        <p:nvSpPr>
          <p:cNvPr id="65" name=""/>
          <p:cNvSpPr/>
          <p:nvPr/>
        </p:nvSpPr>
        <p:spPr>
          <a:xfrm>
            <a:off x="0" y="15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6" name=""/>
          <p:cNvGraphicFramePr/>
          <p:nvPr/>
        </p:nvGraphicFramePr>
        <p:xfrm>
          <a:off x="1619280" y="1484280"/>
          <a:ext cx="5904000" cy="4595760"/>
        </p:xfrm>
        <a:graphic>
          <a:graphicData uri="http://schemas.openxmlformats.org/presentationml/2006/ole">
            <p:oleObj r:id="rId1" spid="">
              <p:embed/>
              <p:pic>
                <p:nvPicPr>
                  <p:cNvPr id="67" name="" descr=""/>
                  <p:cNvPicPr/>
                  <p:nvPr/>
                </p:nvPicPr>
                <p:blipFill>
                  <a:blip r:embed="rId2"/>
                  <a:stretch/>
                </p:blipFill>
                <p:spPr>
                  <a:xfrm>
                    <a:off x="1619280" y="1484280"/>
                    <a:ext cx="5904000" cy="459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18864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versenyképességi fa</a:t>
            </a:r>
            <a:endParaRPr b="0" lang="en-US" sz="4400" spc="-1" strike="noStrike">
              <a:solidFill>
                <a:srgbClr val="000000"/>
              </a:solidFill>
              <a:latin typeface="Arial"/>
            </a:endParaRPr>
          </a:p>
        </p:txBody>
      </p:sp>
      <p:sp>
        <p:nvSpPr>
          <p:cNvPr id="6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 name=""/>
          <p:cNvGraphicFramePr/>
          <p:nvPr/>
        </p:nvGraphicFramePr>
        <p:xfrm>
          <a:off x="1835280" y="1125360"/>
          <a:ext cx="5616360" cy="5212080"/>
        </p:xfrm>
        <a:graphic>
          <a:graphicData uri="http://schemas.openxmlformats.org/presentationml/2006/ole">
            <p:oleObj r:id="rId1" spid="">
              <p:embed/>
              <p:pic>
                <p:nvPicPr>
                  <p:cNvPr id="71" name="" descr=""/>
                  <p:cNvPicPr/>
                  <p:nvPr/>
                </p:nvPicPr>
                <p:blipFill>
                  <a:blip r:embed="rId2"/>
                  <a:stretch/>
                </p:blipFill>
                <p:spPr>
                  <a:xfrm>
                    <a:off x="1835280" y="1125360"/>
                    <a:ext cx="5616360" cy="521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a:rPr>
              <a:t>Lengyel-féle piramis modell</a:t>
            </a:r>
            <a:endParaRPr b="0" lang="en-US" sz="4400" spc="-1" strike="noStrike">
              <a:solidFill>
                <a:srgbClr val="000000"/>
              </a:solidFill>
              <a:latin typeface="Arial"/>
            </a:endParaRPr>
          </a:p>
        </p:txBody>
      </p:sp>
      <p:pic>
        <p:nvPicPr>
          <p:cNvPr id="73" name="" descr=""/>
          <p:cNvPicPr/>
          <p:nvPr/>
        </p:nvPicPr>
        <p:blipFill>
          <a:blip r:embed="rId1"/>
          <a:stretch/>
        </p:blipFill>
        <p:spPr>
          <a:xfrm>
            <a:off x="1403280" y="1628640"/>
            <a:ext cx="6553440" cy="473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z innováció</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z </a:t>
            </a:r>
            <a:r>
              <a:rPr b="1" lang="hu-HU" sz="3200" spc="-1" strike="noStrike" u="sng">
                <a:solidFill>
                  <a:srgbClr val="000000"/>
                </a:solidFill>
                <a:uFillTx/>
                <a:latin typeface="Arial"/>
              </a:rPr>
              <a:t>innováció fogalmát</a:t>
            </a:r>
            <a:r>
              <a:rPr b="0" lang="hu-HU" sz="3200" spc="-1" strike="noStrike">
                <a:solidFill>
                  <a:srgbClr val="000000"/>
                </a:solidFill>
                <a:latin typeface="Arial"/>
              </a:rPr>
              <a:t> Schumpeter (1939) vezette be a közgazdaságtanba. Elmélete alapján a termelési tényezők új kombinációjában jelöli meg az innováció lényegét, és abban, hogy az ilyen típusú törekvéseknek van személyes hordozója, mégpedig maga a vállalkoz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z innováció fogalmi áttekintése</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Downs és Mohr</a:t>
            </a:r>
            <a:r>
              <a:rPr b="0" lang="hu-HU" sz="1800" spc="-1" strike="noStrike">
                <a:solidFill>
                  <a:srgbClr val="000000"/>
                </a:solidFill>
                <a:latin typeface="Arial"/>
              </a:rPr>
              <a:t> 1976-ban tovább bővítette a fogalmat: „az innováció bármely olyan eszköz, rendszer, folyamat, probléma, program, termék vagy szolgáltatás adaptációja, amely új a szervezet számá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Dougherty szerint</a:t>
            </a:r>
            <a:r>
              <a:rPr b="0" lang="hu-HU" sz="1800" spc="-1" strike="noStrike">
                <a:solidFill>
                  <a:srgbClr val="000000"/>
                </a:solidFill>
                <a:latin typeface="Arial"/>
              </a:rPr>
              <a:t> (1996) az „innováció egy új termék vagy szolgáltatás koncepciójának megalkotása, fejlesztése, gyártásfejlesztése, gyártása, piacra dobása és folyamatos menedzselé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OECD által megalkotott és használat ajánlásai alapján készült </a:t>
            </a:r>
            <a:r>
              <a:rPr b="1" lang="hu-HU" sz="1800" spc="-1" strike="noStrike">
                <a:solidFill>
                  <a:srgbClr val="000000"/>
                </a:solidFill>
                <a:latin typeface="Arial"/>
              </a:rPr>
              <a:t>Frascati kézikönyvben</a:t>
            </a:r>
            <a:r>
              <a:rPr b="0" lang="hu-HU" sz="1800" spc="-1" strike="noStrike">
                <a:solidFill>
                  <a:srgbClr val="000000"/>
                </a:solidFill>
                <a:latin typeface="Arial"/>
              </a:rPr>
              <a:t> közzétett definíció szerint az innováció (K+F) „az a rendszeresen végzett alkotó munka, amelynek célja az ismeretanyag bővítése, beleértve az emberről, a kultúráról és a társadalomról alkotott ismeretek gyarapítását is, valamint ennek az egész ismeretanyagnak a felhasználását új alkalmazások kidolgozására. Az így értelmezett K+F háromféle tevékenységet ölel fel: az alapkutatást, az alkalmazott kutatást és a kísérleti fejlesztést. Ebből következik, hogy az innováció egy ötlet átalakulása - vagy a piacon bevezetett új, illetve korszerűsített termékké, vagy az iparban és kereskedelemben felhasznált új, illetve továbbfejlesztett műveletté -, vagy valamely társadalmi szolgáltatás újfajta megközelíté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z innováció típusai</a:t>
            </a:r>
            <a:br>
              <a:rPr sz="4000"/>
            </a:br>
            <a:r>
              <a:rPr b="1" lang="en-US" sz="3200" spc="-1" strike="noStrike">
                <a:solidFill>
                  <a:srgbClr val="000000"/>
                </a:solidFill>
                <a:latin typeface="Arial"/>
              </a:rPr>
              <a:t>„vállalatok szempontjából”</a:t>
            </a:r>
            <a:endParaRPr b="0" lang="en-US" sz="3200" spc="-1" strike="noStrike">
              <a:solidFill>
                <a:srgbClr val="000000"/>
              </a:solidFill>
              <a:latin typeface="Arial"/>
            </a:endParaRPr>
          </a:p>
        </p:txBody>
      </p:sp>
      <p:sp>
        <p:nvSpPr>
          <p:cNvPr id="79" name="PlaceHolder 2"/>
          <p:cNvSpPr>
            <a:spLocks noGrp="1"/>
          </p:cNvSpPr>
          <p:nvPr>
            <p:ph/>
          </p:nvPr>
        </p:nvSpPr>
        <p:spPr>
          <a:xfrm>
            <a:off x="468360" y="1773360"/>
            <a:ext cx="8229600" cy="4176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ermék innováció</a:t>
            </a:r>
            <a:r>
              <a:rPr b="0" lang="en-US" sz="2000" spc="-1" strike="noStrike" u="sng">
                <a:solidFill>
                  <a:srgbClr val="000000"/>
                </a:solidFill>
                <a:uFillTx/>
                <a:latin typeface="Arial"/>
              </a:rPr>
              <a:t>:</a:t>
            </a:r>
            <a:r>
              <a:rPr b="0" lang="en-US" sz="2000" spc="-1" strike="noStrike">
                <a:solidFill>
                  <a:srgbClr val="000000"/>
                </a:solidFill>
                <a:latin typeface="Arial"/>
              </a:rPr>
              <a:t> új értékesíthető termékekben jelenik me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ljárás innováció</a:t>
            </a:r>
            <a:r>
              <a:rPr b="0" lang="en-US" sz="2000" spc="-1" strike="noStrike" u="sng">
                <a:solidFill>
                  <a:srgbClr val="000000"/>
                </a:solidFill>
                <a:uFillTx/>
                <a:latin typeface="Arial"/>
              </a:rPr>
              <a:t>:</a:t>
            </a:r>
            <a:r>
              <a:rPr b="0" lang="en-US" sz="2000" spc="-1" strike="noStrike">
                <a:solidFill>
                  <a:srgbClr val="000000"/>
                </a:solidFill>
                <a:latin typeface="Arial"/>
              </a:rPr>
              <a:t> a produktum létrehozása maga, mindazon módszer, mellyel létrehozzák az adott terméket (pl. költségcsökkentés, termelékenység javulás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zociális innováció</a:t>
            </a:r>
            <a:r>
              <a:rPr b="0" lang="en-US" sz="2000" spc="-1" strike="noStrike" u="sng">
                <a:solidFill>
                  <a:srgbClr val="000000"/>
                </a:solidFill>
                <a:uFillTx/>
                <a:latin typeface="Arial"/>
              </a:rPr>
              <a:t>:</a:t>
            </a:r>
            <a:r>
              <a:rPr b="0" lang="en-US" sz="2000" spc="-1" strike="noStrike">
                <a:solidFill>
                  <a:srgbClr val="000000"/>
                </a:solidFill>
                <a:latin typeface="Arial"/>
              </a:rPr>
              <a:t> a humán szférában, a vállalat munkaerő állományában hajtanak végre fejlesztéseket, vagy a vállalat irányításában, vagy új szervezeti forma létrehozásában járulnak hozzá az új termék létrehozásához.</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trukturális innováció</a:t>
            </a:r>
            <a:r>
              <a:rPr b="0" lang="en-US" sz="2000" spc="-1" strike="noStrike" u="sng">
                <a:solidFill>
                  <a:srgbClr val="000000"/>
                </a:solidFill>
                <a:uFillTx/>
                <a:latin typeface="Arial"/>
              </a:rPr>
              <a:t>:</a:t>
            </a:r>
            <a:r>
              <a:rPr b="0" lang="en-US" sz="2000" spc="-1" strike="noStrike">
                <a:solidFill>
                  <a:srgbClr val="000000"/>
                </a:solidFill>
                <a:latin typeface="Arial"/>
              </a:rPr>
              <a:t> az elosztási folyamatra szorítkozik, új piac, új beszerzési források formájában jelenik meg a vállalatná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z innováció típusai</a:t>
            </a:r>
            <a:br>
              <a:rPr sz="4000"/>
            </a:br>
            <a:r>
              <a:rPr b="1" lang="en-US" sz="2800" spc="-1" strike="noStrike">
                <a:solidFill>
                  <a:srgbClr val="000000"/>
                </a:solidFill>
                <a:latin typeface="Arial"/>
              </a:rPr>
              <a:t>„a technológia terjedésének szempontjából”</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olyamatos innovációk,</a:t>
            </a:r>
            <a:r>
              <a:rPr b="0" lang="en-US" sz="2400" spc="-1" strike="noStrike">
                <a:solidFill>
                  <a:srgbClr val="000000"/>
                </a:solidFill>
                <a:latin typeface="Arial"/>
              </a:rPr>
              <a:t> amelyek megújítanak már meglevő termékeket és szolgáltatásokat (pl. egy újabb energiatakarékos mosógé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adikális innovációk,</a:t>
            </a:r>
            <a:r>
              <a:rPr b="0" lang="en-US" sz="2400" spc="-1" strike="noStrike">
                <a:solidFill>
                  <a:srgbClr val="000000"/>
                </a:solidFill>
                <a:latin typeface="Arial"/>
              </a:rPr>
              <a:t> új termékek vagy szolgáltatások megjelenése (pl. a videó), amely egy-egy gazdasági szektort vagy ágazatot átalakí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chnológiai innovációk,</a:t>
            </a:r>
            <a:r>
              <a:rPr b="0" lang="en-US" sz="2400" spc="-1" strike="noStrike">
                <a:solidFill>
                  <a:srgbClr val="000000"/>
                </a:solidFill>
                <a:latin typeface="Arial"/>
              </a:rPr>
              <a:t> az egész gazdaságra kiható változásokat indítanak el (pl. elektromos energia, vasút s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z innováció életciklusa</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kutatásnak és a fejlesztésnek</a:t>
            </a:r>
            <a:r>
              <a:rPr b="0" lang="en-US" sz="2800" spc="-1" strike="noStrike">
                <a:solidFill>
                  <a:srgbClr val="000000"/>
                </a:solidFill>
                <a:latin typeface="Arial"/>
              </a:rPr>
              <a:t> (a termék bevezetésének) időszakábó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z érettség szakaszából</a:t>
            </a:r>
            <a:r>
              <a:rPr b="0" lang="en-US" sz="2800" spc="-1" strike="noStrike">
                <a:solidFill>
                  <a:srgbClr val="000000"/>
                </a:solidFill>
                <a:latin typeface="Arial"/>
              </a:rPr>
              <a:t>, amikor a konkurencia is megjelenik, és a termelés a maximumot éri el, kisebb újításokkal a termék (technológia) tömegtermelésre alkalmassá váli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hanyatlási periódusból</a:t>
            </a:r>
            <a:r>
              <a:rPr b="0" lang="en-US" sz="2800" spc="-1" strike="noStrike">
                <a:solidFill>
                  <a:srgbClr val="000000"/>
                </a:solidFill>
                <a:latin typeface="Arial"/>
              </a:rPr>
              <a:t>, a termék kezd kiszorulni a piacró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rületi verseny fogalma</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Egy olyan folyamat, amely a területi egységek között zajlik és célja a régióban, városban élők jólétének növelése a regionális, helyi gazdaság fejlődésének elősegítésével, amely fejlődést bizonyos csoportok a helyi politikákon keresztül más térségekkel versengve, rivalizálva próbálnak befolyásolni explicit vagy gyakran implicit módon”</a:t>
            </a:r>
            <a:r>
              <a:rPr b="0" lang="en-US" sz="3200" spc="-1" strike="noStrike">
                <a:solidFill>
                  <a:srgbClr val="000000"/>
                </a:solidFill>
                <a:latin typeface="Arial"/>
              </a:rPr>
              <a:t> (Lengyel, 20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novációs folyamatmodellek</a:t>
            </a:r>
            <a:br>
              <a:rPr sz="4000"/>
            </a:br>
            <a:r>
              <a:rPr b="1" lang="en-US" sz="3200" spc="-1" strike="noStrike">
                <a:solidFill>
                  <a:srgbClr val="000000"/>
                </a:solidFill>
                <a:latin typeface="Arial"/>
              </a:rPr>
              <a:t>„lineáris modellek”</a:t>
            </a:r>
            <a:endParaRPr b="0" lang="en-US" sz="3200" spc="-1" strike="noStrike">
              <a:solidFill>
                <a:srgbClr val="000000"/>
              </a:solidFill>
              <a:latin typeface="Arial"/>
            </a:endParaRPr>
          </a:p>
        </p:txBody>
      </p:sp>
      <p:sp>
        <p:nvSpPr>
          <p:cNvPr id="85" name="PlaceHolder 2"/>
          <p:cNvSpPr>
            <a:spLocks noGrp="1"/>
          </p:cNvSpPr>
          <p:nvPr>
            <p:ph/>
          </p:nvPr>
        </p:nvSpPr>
        <p:spPr>
          <a:xfrm>
            <a:off x="468360" y="1412640"/>
            <a:ext cx="8229600" cy="48956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tudományos-műszaki eredmények „nyomása” (technology push) alapjá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z új termékek/eljárások iránt megnyilvánuló kereslet indukáló, szívó hatása (demand pull) alapján.</a:t>
            </a:r>
            <a:endParaRPr b="0" lang="en-US" sz="3200" spc="-1" strike="noStrike">
              <a:solidFill>
                <a:srgbClr val="000000"/>
              </a:solidFill>
              <a:latin typeface="Arial"/>
            </a:endParaRPr>
          </a:p>
        </p:txBody>
      </p:sp>
      <p:pic>
        <p:nvPicPr>
          <p:cNvPr id="86" name="Abra 11a" descr=""/>
          <p:cNvPicPr/>
          <p:nvPr/>
        </p:nvPicPr>
        <p:blipFill>
          <a:blip r:embed="rId1"/>
          <a:stretch/>
        </p:blipFill>
        <p:spPr>
          <a:xfrm>
            <a:off x="1476360" y="2924280"/>
            <a:ext cx="5753160" cy="609480"/>
          </a:xfrm>
          <a:prstGeom prst="rect">
            <a:avLst/>
          </a:prstGeom>
          <a:ln w="0">
            <a:noFill/>
          </a:ln>
        </p:spPr>
      </p:pic>
      <p:pic>
        <p:nvPicPr>
          <p:cNvPr id="87" name="Abra 11b" descr=""/>
          <p:cNvPicPr/>
          <p:nvPr/>
        </p:nvPicPr>
        <p:blipFill>
          <a:blip r:embed="rId2"/>
          <a:stretch/>
        </p:blipFill>
        <p:spPr>
          <a:xfrm>
            <a:off x="1476360" y="5589720"/>
            <a:ext cx="5753160" cy="609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a:rPr>
              <a:t>Rothwell-féle visszacsatolásos modell</a:t>
            </a:r>
            <a:endParaRPr b="0" lang="en-US" sz="4000" spc="-1" strike="noStrike">
              <a:solidFill>
                <a:srgbClr val="000000"/>
              </a:solidFill>
              <a:latin typeface="Arial"/>
            </a:endParaRPr>
          </a:p>
        </p:txBody>
      </p:sp>
      <p:pic>
        <p:nvPicPr>
          <p:cNvPr id="89" name="Abra 12" descr=""/>
          <p:cNvPicPr/>
          <p:nvPr/>
        </p:nvPicPr>
        <p:blipFill>
          <a:blip r:embed="rId1"/>
          <a:stretch/>
        </p:blipFill>
        <p:spPr>
          <a:xfrm>
            <a:off x="468360" y="2060640"/>
            <a:ext cx="8351640" cy="351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z innovációs modellek öt generációja</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 </a:t>
            </a:r>
            <a:r>
              <a:rPr b="1" lang="hu-HU" sz="1600" spc="-1" strike="noStrike">
                <a:solidFill>
                  <a:srgbClr val="000000"/>
                </a:solidFill>
                <a:latin typeface="Arial"/>
              </a:rPr>
              <a:t>különböző generációs folyamatok </a:t>
            </a:r>
            <a:r>
              <a:rPr b="0" lang="hu-HU" sz="1600" spc="-1" strike="noStrike">
                <a:solidFill>
                  <a:srgbClr val="000000"/>
                </a:solidFill>
                <a:latin typeface="Arial"/>
              </a:rPr>
              <a:t>eltérő technológiával és különböző piaci elfogadással rendelkeznek. Az </a:t>
            </a:r>
            <a:r>
              <a:rPr b="1" lang="hu-HU" sz="1600" spc="-1" strike="noStrike">
                <a:solidFill>
                  <a:srgbClr val="000000"/>
                </a:solidFill>
                <a:latin typeface="Arial"/>
              </a:rPr>
              <a:t>első és második generációs modellek</a:t>
            </a:r>
            <a:r>
              <a:rPr b="0" lang="hu-HU" sz="1600" spc="-1" strike="noStrike">
                <a:solidFill>
                  <a:srgbClr val="000000"/>
                </a:solidFill>
                <a:latin typeface="Arial"/>
              </a:rPr>
              <a:t> közé a műszaki-technikai eredmények nyomó-, illetve a kereslet szívó hatására épülő lineáris modellek tartozna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 </a:t>
            </a:r>
            <a:r>
              <a:rPr b="1" lang="hu-HU" sz="1600" spc="-1" strike="noStrike">
                <a:solidFill>
                  <a:srgbClr val="000000"/>
                </a:solidFill>
                <a:latin typeface="Arial"/>
              </a:rPr>
              <a:t>harmadik modellcsalád</a:t>
            </a:r>
            <a:r>
              <a:rPr b="0" lang="hu-HU" sz="1600" spc="-1" strike="noStrike">
                <a:solidFill>
                  <a:srgbClr val="000000"/>
                </a:solidFill>
                <a:latin typeface="Arial"/>
              </a:rPr>
              <a:t> (coupling vagy sequential process modellek) ezekkel szemben összekapcsolja a technológiai kínálatot és keresletet, sőt visszacsatolások is léteznek (Havas, 1998). Az innováció e modelljei már nem tekinthetők a szó szoros értelmében lineárisnak, de az innováció különböző elemei időben elválna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z ún. </a:t>
            </a:r>
            <a:r>
              <a:rPr b="1" lang="hu-HU" sz="1600" spc="-1" strike="noStrike">
                <a:solidFill>
                  <a:srgbClr val="000000"/>
                </a:solidFill>
                <a:latin typeface="Arial"/>
              </a:rPr>
              <a:t>integrált</a:t>
            </a:r>
            <a:r>
              <a:rPr b="0" lang="hu-HU" sz="1600" spc="-1" strike="noStrike">
                <a:solidFill>
                  <a:srgbClr val="000000"/>
                </a:solidFill>
                <a:latin typeface="Arial"/>
              </a:rPr>
              <a:t> (integrated) </a:t>
            </a:r>
            <a:r>
              <a:rPr b="1" lang="hu-HU" sz="1600" spc="-1" strike="noStrike">
                <a:solidFill>
                  <a:srgbClr val="000000"/>
                </a:solidFill>
                <a:latin typeface="Arial"/>
              </a:rPr>
              <a:t>modellekben</a:t>
            </a:r>
            <a:r>
              <a:rPr b="0" lang="hu-HU" sz="1600" spc="-1" strike="noStrike">
                <a:solidFill>
                  <a:srgbClr val="000000"/>
                </a:solidFill>
                <a:latin typeface="Arial"/>
              </a:rPr>
              <a:t> az innovatív tevékenységek egymással párhuzamosan zajlanak. A sikeres vállalatok arra törekszenek, hogy összehangolják az innovatív tevékenységeket mégpedig a beszállítók, a felhasználók és a versenytársak bevonásáv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z </a:t>
            </a:r>
            <a:r>
              <a:rPr b="1" lang="hu-HU" sz="1600" spc="-1" strike="noStrike">
                <a:solidFill>
                  <a:srgbClr val="000000"/>
                </a:solidFill>
                <a:latin typeface="Arial"/>
              </a:rPr>
              <a:t>ötödik generációs innovációs folyamat</a:t>
            </a:r>
            <a:r>
              <a:rPr b="0" lang="hu-HU" sz="1600" spc="-1" strike="noStrike">
                <a:solidFill>
                  <a:srgbClr val="000000"/>
                </a:solidFill>
                <a:latin typeface="Arial"/>
              </a:rPr>
              <a:t> annyiban új az integrált modellekhez képest, hogy az informatika eszközei meghatározó szerepet játszanak a tervezés minősége, gyorsasága érdekében, illetve hogy a gyártás szempontjait a tervezés során is érvényesíthessék ezáltal jelentős időt és kiadásokat megtakarítva. A modell tulajdonságai ismertek, ugyanakkor elterjedése még várat magá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ínálatorientált regionális stratégia</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kínálatorientált regionális stratégia</a:t>
            </a:r>
            <a:r>
              <a:rPr b="0" lang="en-US" sz="2000" spc="-1" strike="noStrike">
                <a:solidFill>
                  <a:srgbClr val="000000"/>
                </a:solidFill>
                <a:latin typeface="Arial"/>
              </a:rPr>
              <a:t> központjában az áll, hogy a „térséget kívülről, a külső hatótényezők felől érkező impulzusok, külső feltételek, lehetőségek és korlátok felől közelítve egyre több belső folyamatra, összefüggésre rávilágítva, kívülről befelé közelítve fejlesztjük” (KOROMPAI, 1995). A területi egység komparatív előnyeit kísérli meg a fejlesztési stratégia bővíteni, amely a kedvező gazdasági környezet alakításával érhető el. </a:t>
            </a:r>
            <a:r>
              <a:rPr b="1" lang="en-US" sz="2000" spc="-1" strike="noStrike" u="sng">
                <a:solidFill>
                  <a:srgbClr val="000000"/>
                </a:solidFill>
                <a:uFillTx/>
                <a:latin typeface="Arial"/>
              </a:rPr>
              <a:t>Ebben domináns szerepe van:</a:t>
            </a:r>
            <a:endParaRPr b="0" lang="en-US" sz="20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ermelői és fogyasztói infrastrukturális fejlesztéseknek</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 elérhetőség biztosításának (közlekedési és kommunikációs kapcsolatok fejlesztésének)</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ermelést kiszolgáló létesítmények telepítésének, azok piaci ár alatt történő értékesítésének</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azdasági egységek letelepedését ösztönző különféle kedvezményeknek (adókedvezmények, támogatások, kedvezményes hitelek, állami és regionális vásárlások s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resletorientált regionális stratégia</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a:t>
            </a:r>
            <a:r>
              <a:rPr b="1" lang="hu-HU" sz="2000" spc="-1" strike="noStrike">
                <a:solidFill>
                  <a:srgbClr val="000000"/>
                </a:solidFill>
                <a:latin typeface="Arial"/>
              </a:rPr>
              <a:t>keresletorientált regionális fejlesztési stratégia</a:t>
            </a:r>
            <a:r>
              <a:rPr b="0" lang="hu-HU" sz="2000" spc="-1" strike="noStrike">
                <a:solidFill>
                  <a:srgbClr val="000000"/>
                </a:solidFill>
                <a:latin typeface="Arial"/>
              </a:rPr>
              <a:t> „a térséget egységes egészként kezelve, annak belső sajátosságaiból, a térségen belülről kiindulva, egyre jobban kifelé haladva, mind több külső tényezőt figyelembe véve” (KOROMPAI, 1995.) kerül meghatározásra és egyben működtetésre. A helyi-területi gazdaság megújításánál nem csupán a külső (exogén) forrásokra támaszkodik, hanem felméri és számba veszi a belső adottságokat, azokat újraértékeli éppen a külső piaci rendszerek által, s így keresi versenyképességük fokozásának lehetősége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belülről kifelé haladás elvében, mint fejlesztési szemléletben és gondolkodásmódban döntő szerepet játszik a helyi-területi vagy regionális együttműködés forrásainak felderítése, annak meglévő és új akciótereinek kialakítása. Az együttműködés azt jelenti, hogy miként lehet a helyi-területi adottságokat a nagyobb rendszerekre rákapcsolni, mind a helyi-területi, mind a nemzetközi hálózatok révé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álózatra épülő regionális stratégia</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ületi egységben - vagy az ahhoz kapcsolódó további egységekben - a belső, újszerű kapcsolatok (nem a hierarchiára, az együttműködésre épülő kapcsolatok) minél több szinten jöjjenek létre, s ezzel a regionális jelleg szélesedjen (hálózat építé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érségben meglévő hálózatok erősödjenek, új mozgástereket nyerjenek, vagy éppen megújuljanak (hálózat fejleszté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örténjen meg a területi egység rákapcsolása egy, vagy több, éppen a hálózati elven működő, vagy azt tükröző régióra, hasznosítva és egyben szélesítve azok hálózati rendszereit (hálózatok összekapcsolá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novációs miliő</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keresletorientált regionális stratégiában a hálózati jelleg szükségszerűen együtt jár az innovációs miliő kialakulásával. Az </a:t>
            </a:r>
            <a:r>
              <a:rPr b="1" lang="en-US" sz="2000" spc="-1" strike="noStrike">
                <a:solidFill>
                  <a:srgbClr val="000000"/>
                </a:solidFill>
                <a:latin typeface="Arial"/>
              </a:rPr>
              <a:t>innovációs miliő</a:t>
            </a:r>
            <a:r>
              <a:rPr b="0" lang="en-US" sz="2000" spc="-1" strike="noStrike">
                <a:solidFill>
                  <a:srgbClr val="000000"/>
                </a:solidFill>
                <a:latin typeface="Arial"/>
              </a:rPr>
              <a:t> alatt egyik oldalról azoknak - az adott földrajzi területen felismerhető - gazdasági, termelési kapcsolatoknak a csoportját lehet tekinteni, amelyek egységességet alakítanak ki a termelési rendszerben a gazdasági szereplők között és termelési kultúrában. A kollektív tanulással - helyileg meghatározott formában - hozzájárulnak az innovációs folyamatok terjesztéséhez, s egyben csökkentik a piaci kapcsolatok bizonytalanságait, növelik a termelő egységek és a területi gazdaság versenyképességé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z innovációs miliőt másik oldalról azok a helyi kultúrában, társadalmi kapcsolatokban és az intézményrendszerben meglévő sajátosságok is képviselik, amelyek mind a gazdaságon keresztül, mind a helyi-területi szereplőkön át, folyamatosan hozzájárulnak az újdonságok kialakításához, azok megtelepedéséhez és részben terjesztéséhe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gglomerációs hatások</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MARSHALL angol közgazdász felismerte, hogy </a:t>
            </a:r>
            <a:r>
              <a:rPr b="1" lang="hu-HU" sz="2400" spc="-1" strike="noStrike">
                <a:solidFill>
                  <a:srgbClr val="000000"/>
                </a:solidFill>
                <a:latin typeface="Arial"/>
              </a:rPr>
              <a:t>egy adott földrajzi térben történő nagyszámú, egyazon ágazathoz tartozó termelők koncentrációja pozitív externáliákat eredményezhet</a:t>
            </a:r>
            <a:r>
              <a:rPr b="0" lang="hu-HU"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Ezek olyan külső, termelésen kívüli megtakarítások, amelyek a széles körű munkamegosztásra épülő, egymást kiegészítő tevékenységekkel és folyamatokkal kapcsolódó vállalkozások egymás mellettiségéből, továbbá az információs és kommunikációs költségek csökkentését eredményező, nem szabvány termékek közös előállításából következn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gglomerációs gazdasági előnyök</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a:t>
            </a:r>
            <a:r>
              <a:rPr b="1" lang="en-US" sz="2800" spc="-1" strike="noStrike">
                <a:solidFill>
                  <a:srgbClr val="000000"/>
                </a:solidFill>
                <a:latin typeface="Arial"/>
              </a:rPr>
              <a:t>urbanizációs előny</a:t>
            </a:r>
            <a:r>
              <a:rPr b="0" lang="en-US" sz="2800" spc="-1" strike="noStrike">
                <a:solidFill>
                  <a:srgbClr val="000000"/>
                </a:solidFill>
                <a:latin typeface="Arial"/>
              </a:rPr>
              <a:t>, amikor is a gazdasági egység telephelyét jelentő város méretéből fakadnak sajátos gazdasági előnyö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lokalizációs előny, </a:t>
            </a:r>
            <a:r>
              <a:rPr b="0" lang="en-US" sz="2800" spc="-1" strike="noStrike">
                <a:solidFill>
                  <a:srgbClr val="000000"/>
                </a:solidFill>
                <a:latin typeface="Arial"/>
              </a:rPr>
              <a:t>amikor</a:t>
            </a:r>
            <a:r>
              <a:rPr b="1" lang="en-US" sz="2800" spc="-1" strike="noStrike">
                <a:solidFill>
                  <a:srgbClr val="000000"/>
                </a:solidFill>
                <a:latin typeface="Arial"/>
              </a:rPr>
              <a:t> </a:t>
            </a:r>
            <a:r>
              <a:rPr b="0" lang="en-US" sz="2800" spc="-1" strike="noStrike">
                <a:solidFill>
                  <a:srgbClr val="000000"/>
                </a:solidFill>
                <a:latin typeface="Arial"/>
              </a:rPr>
              <a:t>nem a település mérete a meghatározó, hanem egyrészt azon ipari és gazdasági egységeknek a földrajzi koncentrációja, amellyel a gazdasági egység szállítási és termelési kapcsolatot létesíthet, másrészt azon szolgáltatások, amik hozzájárulnak a kibocsátás növekedéséhez (akár mennyiségi, akár minőségi szempontbó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rbanizációs előnyök</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kedvező infrastrukturális ellátottság (pl. kikötők, repülőterek, logisztikai központok közelség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korszerű kommunikációs infrastruktúra megléte (pl. számítógépes hálózatok és szolgáltatások, Internet kapcsol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zéleskörű üzleti és piaci szolgáltatások (pl. pénzügyi szolgáltatások bőséges kínálata, technológia és kutatás-fejlesztési tanácsadás, médiák, reklám és marketing szolgáltatások)</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kulturális szolgáltatások, illetve jelentős lokális piac, ami folyamatos keresletet jelent a termékek iránt, egyben azok megújítását is szorgalmazza, illetve új piacokat nyit me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rsenyképesség fogalma</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A vállalatok, iparágak, régiók, nemzetek és nemzetek feletti régiók képessége relatíve magas jövedelem és relatíve magas foglalkoztatottsági szint tartós létrehozására, miközben a nemzetközi (globális) versenynek ki vannak téve”</a:t>
            </a:r>
            <a:r>
              <a:rPr b="0" lang="en-US" sz="3200" spc="-1" strike="noStrike">
                <a:solidFill>
                  <a:srgbClr val="000000"/>
                </a:solidFill>
                <a:latin typeface="Arial"/>
              </a:rPr>
              <a:t> (Lengyel, 200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agyvárosi környezetben jelentős a zsúfoltság (pl. a szállítási idő növekszik, ez veszélyeztetheti a helyi-területi kooperációka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űnözés számottevő (pl. a biztonsági és őrzési ráfordítások emelkednek)</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örnyezeti szennyezés magas (pl. a tiszta környezetet igénylő technológiák védelmi ráfordításai növekszenek)</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asabbak a megélhetési költségek (pl. munkabérekben megjelenik)</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lekárak emelkednek (pl. a fejlesztés, a telephelybővítés költségesebb)</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érköltségek magasabbak, illetve szervezettek a munkavállalók (pl. szakszervezetek aktívak, erőteljesen kívánják a jogokat érvényesíteni).</a:t>
            </a:r>
            <a:endParaRPr b="0" lang="en-US" sz="1800" spc="-1" strike="noStrike">
              <a:solidFill>
                <a:srgbClr val="000000"/>
              </a:solidFill>
              <a:latin typeface="Arial"/>
            </a:endParaRPr>
          </a:p>
        </p:txBody>
      </p:sp>
      <p:sp>
        <p:nvSpPr>
          <p:cNvPr id="1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rbanizációs hátrányo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parági körzetek definíciója</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z iparági körzetek megalakulásának fő motívumai a fizikai feltételek, valamint a véletlen is közre játszhat, azonban a már működő iparágak megerősödése az adott térségben főleg a pozitív lokális externáliákra vezethetők vissza, amelyek által költségcsökkentés érhető el és az adott iparág öngerjesztő fejlődését idézik elő.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parági körzetek 4 dimenziója</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 vállalatok és a helyi termelési rendszer közötti </a:t>
            </a:r>
            <a:r>
              <a:rPr b="1" lang="hu-HU" sz="1600" spc="-1" strike="noStrike" u="sng">
                <a:solidFill>
                  <a:srgbClr val="000000"/>
                </a:solidFill>
                <a:uFillTx/>
                <a:latin typeface="Arial"/>
              </a:rPr>
              <a:t>munkamegosztás</a:t>
            </a:r>
            <a:r>
              <a:rPr b="0" i="1" lang="hu-HU" sz="1600" spc="-1" strike="noStrike">
                <a:solidFill>
                  <a:srgbClr val="000000"/>
                </a:solidFill>
                <a:latin typeface="Arial"/>
              </a:rPr>
              <a:t> </a:t>
            </a:r>
            <a:r>
              <a:rPr b="0" lang="hu-HU" sz="1600" spc="-1" strike="noStrike">
                <a:solidFill>
                  <a:srgbClr val="000000"/>
                </a:solidFill>
                <a:latin typeface="Arial"/>
              </a:rPr>
              <a:t>széleskörű, ami az intra- és inter-szektoriális input-output kapcsolatok zárt</a:t>
            </a:r>
            <a:r>
              <a:rPr b="0" i="1" lang="hu-HU" sz="1600" spc="-1" strike="noStrike">
                <a:solidFill>
                  <a:srgbClr val="000000"/>
                </a:solidFill>
                <a:latin typeface="Arial"/>
              </a:rPr>
              <a:t> </a:t>
            </a:r>
            <a:r>
              <a:rPr b="0" lang="hu-HU" sz="1600" spc="-1" strike="noStrike">
                <a:solidFill>
                  <a:srgbClr val="000000"/>
                </a:solidFill>
                <a:latin typeface="Arial"/>
              </a:rPr>
              <a:t>hálózatának az alapját képez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Nagyon erős </a:t>
            </a:r>
            <a:r>
              <a:rPr b="1" lang="hu-HU" sz="1600" spc="-1" strike="noStrike" u="sng">
                <a:solidFill>
                  <a:srgbClr val="000000"/>
                </a:solidFill>
                <a:uFillTx/>
                <a:latin typeface="Arial"/>
              </a:rPr>
              <a:t>termékdifferenciálást</a:t>
            </a:r>
            <a:r>
              <a:rPr b="0" i="1" lang="hu-HU" sz="1600" spc="-1" strike="noStrike">
                <a:solidFill>
                  <a:srgbClr val="000000"/>
                </a:solidFill>
                <a:latin typeface="Arial"/>
              </a:rPr>
              <a:t> </a:t>
            </a:r>
            <a:r>
              <a:rPr b="0" lang="hu-HU" sz="1600" spc="-1" strike="noStrike">
                <a:solidFill>
                  <a:srgbClr val="000000"/>
                </a:solidFill>
                <a:latin typeface="Arial"/>
              </a:rPr>
              <a:t>figyelhetünk meg vállalati és társasági szinten, ami korlátozza a termelés spektrumát, ösztönzi a speciális szaktudás megszerzését, és lehetővé teszi az új technológiák bevezetését és ily módon nagyon nagy szabadságot biztosít az iparági körzet termelési rendszeréne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Hatékony </a:t>
            </a:r>
            <a:r>
              <a:rPr b="1" lang="hu-HU" sz="1600" spc="-1" strike="noStrike" u="sng">
                <a:solidFill>
                  <a:srgbClr val="000000"/>
                </a:solidFill>
                <a:uFillTx/>
                <a:latin typeface="Arial"/>
              </a:rPr>
              <a:t>információs hálózat</a:t>
            </a:r>
            <a:r>
              <a:rPr b="0" i="1" lang="hu-HU" sz="1600" spc="-1" strike="noStrike">
                <a:solidFill>
                  <a:srgbClr val="000000"/>
                </a:solidFill>
                <a:latin typeface="Arial"/>
              </a:rPr>
              <a:t> </a:t>
            </a:r>
            <a:r>
              <a:rPr b="0" lang="hu-HU" sz="1600" spc="-1" strike="noStrike">
                <a:solidFill>
                  <a:srgbClr val="000000"/>
                </a:solidFill>
                <a:latin typeface="Arial"/>
              </a:rPr>
              <a:t>működik iparági körzet szinten, ami nagyon széles és gyors információáramlást biztosít a piacról, valamint alternatív termelési technikát, új nyersanyagot és input-árut, amelyet felhasználnak a termelési folyamatban, valamint új adminisztrációs módszereket jelent, és mindez hozzájárul az egyén tudásának az átkonvertálásához új közösségi kompetenciákká az iparági körzetek teljes területén. Ezek a folyamatok lehetővé teszik az egyre gyakoribbá váló személyes kapcsolatokat a gyártó és a felhasználó, valamint a különböző termelési szolgáltatók közöt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u="sng">
                <a:solidFill>
                  <a:srgbClr val="000000"/>
                </a:solidFill>
                <a:uFillTx/>
                <a:latin typeface="Arial"/>
              </a:rPr>
              <a:t>A munkaerő magas kompetencia szintje</a:t>
            </a:r>
            <a:r>
              <a:rPr b="0" i="1" lang="hu-HU" sz="1600" spc="-1" strike="noStrike">
                <a:solidFill>
                  <a:srgbClr val="000000"/>
                </a:solidFill>
                <a:latin typeface="Arial"/>
              </a:rPr>
              <a:t>, </a:t>
            </a:r>
            <a:r>
              <a:rPr b="0" lang="hu-HU" sz="1600" spc="-1" strike="noStrike">
                <a:solidFill>
                  <a:srgbClr val="000000"/>
                </a:solidFill>
                <a:latin typeface="Arial"/>
              </a:rPr>
              <a:t>ami a munkafolyamat hallgatólagos tudásának az átvitelét eredményezi a munkafolyamatokról és a termelési technológiákról a generációk között; és mindez a magas kompetenciaszint abból ered, hogy a felkészülés során jó képzést kapnak a szakiskolákba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parági körzetek területi koncentrációja</a:t>
            </a:r>
            <a:endParaRPr b="0" lang="en-US" sz="4000" spc="-1" strike="noStrike">
              <a:solidFill>
                <a:srgbClr val="000000"/>
              </a:solidFill>
              <a:latin typeface="Arial"/>
            </a:endParaRPr>
          </a:p>
        </p:txBody>
      </p:sp>
      <p:pic>
        <p:nvPicPr>
          <p:cNvPr id="113" name="" descr=""/>
          <p:cNvPicPr/>
          <p:nvPr/>
        </p:nvPicPr>
        <p:blipFill>
          <a:blip r:embed="rId1"/>
          <a:stretch/>
        </p:blipFill>
        <p:spPr>
          <a:xfrm>
            <a:off x="1763640" y="1550880"/>
            <a:ext cx="6048360" cy="5146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klaszterek definíciója</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t>
            </a:r>
            <a:r>
              <a:rPr b="0" i="1" lang="hu-HU" sz="3200" spc="-1" strike="noStrike">
                <a:solidFill>
                  <a:srgbClr val="000000"/>
                </a:solidFill>
                <a:latin typeface="Arial"/>
              </a:rPr>
              <a:t>A lokalizált gazdasági előnyök hozzák létre a termelési/tevékenységi klasztereket, amiket „egymástól szervezetileg független (versengő vagy kiegészítő) olyan vállalatok, intézmények alkotják, amelyek egymással sajátos vásárlói, beszállítói, kutatás-fejlesztési stb. kapcsolatban vannak, szimbiózist alkotnak</a:t>
            </a:r>
            <a:r>
              <a:rPr b="0" lang="hu-HU" sz="3200" spc="-1" strike="noStrike">
                <a:solidFill>
                  <a:srgbClr val="000000"/>
                </a:solidFill>
                <a:latin typeface="Arial"/>
              </a:rPr>
              <a:t>”(Faragó, 199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laszterek típusai</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a:t>
            </a:r>
            <a:r>
              <a:rPr b="1" lang="hu-HU" sz="1400" spc="-1" strike="noStrike" u="sng">
                <a:solidFill>
                  <a:srgbClr val="000000"/>
                </a:solidFill>
                <a:uFillTx/>
                <a:latin typeface="Arial"/>
              </a:rPr>
              <a:t>első</a:t>
            </a:r>
            <a:r>
              <a:rPr b="0" lang="hu-HU" sz="1400" spc="-1" strike="noStrike">
                <a:solidFill>
                  <a:srgbClr val="000000"/>
                </a:solidFill>
                <a:latin typeface="Arial"/>
              </a:rPr>
              <a:t> alapvetően a kézművességre épül, a kis és középvárosokban lévő </a:t>
            </a:r>
            <a:r>
              <a:rPr b="1" lang="hu-HU" sz="1400" spc="-1" strike="noStrike">
                <a:solidFill>
                  <a:srgbClr val="000000"/>
                </a:solidFill>
                <a:latin typeface="Arial"/>
              </a:rPr>
              <a:t>tradicionális kézműiparok továbbélését, azok megújítását</a:t>
            </a:r>
            <a:r>
              <a:rPr b="0" lang="hu-HU" sz="1400" spc="-1" strike="noStrike">
                <a:solidFill>
                  <a:srgbClr val="000000"/>
                </a:solidFill>
                <a:latin typeface="Arial"/>
              </a:rPr>
              <a:t> képviselik. Erre jó példa a textil- és ruházati iparban, cipő- és bőriparban, fafeldolgozó és bútoriparban, speciális élelmiszerek gyártásában, vagy éppen a kerámiaiparban kialakult, földrajzilag is körülhatárolható, döntően az élőmunkára alapuló, magas minőségű termékeket előállító térségek. Tipikus területi koncentrációival találkozhatunk a Harmadik Itáliában, de azon kívül egyre több európai országban, sőt az Egyesült Államokban és Japánban is.</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a:t>
            </a:r>
            <a:r>
              <a:rPr b="1" lang="hu-HU" sz="1400" spc="-1" strike="noStrike" u="sng">
                <a:solidFill>
                  <a:srgbClr val="000000"/>
                </a:solidFill>
                <a:uFillTx/>
                <a:latin typeface="Arial"/>
              </a:rPr>
              <a:t>második</a:t>
            </a:r>
            <a:r>
              <a:rPr b="0" i="1" lang="hu-HU" sz="1400" spc="-1" strike="noStrike">
                <a:solidFill>
                  <a:srgbClr val="000000"/>
                </a:solidFill>
                <a:latin typeface="Arial"/>
              </a:rPr>
              <a:t> </a:t>
            </a:r>
            <a:r>
              <a:rPr b="0" lang="hu-HU" sz="1400" spc="-1" strike="noStrike">
                <a:solidFill>
                  <a:srgbClr val="000000"/>
                </a:solidFill>
                <a:latin typeface="Arial"/>
              </a:rPr>
              <a:t>csoportba sorolhatók azok a </a:t>
            </a:r>
            <a:r>
              <a:rPr b="1" lang="hu-HU" sz="1400" spc="-1" strike="noStrike">
                <a:solidFill>
                  <a:srgbClr val="000000"/>
                </a:solidFill>
                <a:latin typeface="Arial"/>
              </a:rPr>
              <a:t>termelés/tevékenység koncentrációk</a:t>
            </a:r>
            <a:r>
              <a:rPr b="0" lang="hu-HU" sz="1400" spc="-1" strike="noStrike">
                <a:solidFill>
                  <a:srgbClr val="000000"/>
                </a:solidFill>
                <a:latin typeface="Arial"/>
              </a:rPr>
              <a:t>, amik magas szaktudásra és technológiai ismeretekre (high tech) épülnek, így az elektronikára, az űrtechnológiára (Los Angeles), a biotechnológiára (San Francisco), a műszergyártásra (Cambridge), a számítógépgyártásra (Boston mellett 128-as út környéke), a repülőgépiparra, az ipari automatizálásra.</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a:t>
            </a:r>
            <a:r>
              <a:rPr b="1" lang="hu-HU" sz="1400" spc="-1" strike="noStrike" u="sng">
                <a:solidFill>
                  <a:srgbClr val="000000"/>
                </a:solidFill>
                <a:uFillTx/>
                <a:latin typeface="Arial"/>
              </a:rPr>
              <a:t>harmadik</a:t>
            </a:r>
            <a:r>
              <a:rPr b="0" lang="hu-HU" sz="1400" spc="-1" strike="noStrike">
                <a:solidFill>
                  <a:srgbClr val="000000"/>
                </a:solidFill>
                <a:latin typeface="Arial"/>
              </a:rPr>
              <a:t> csoportot a </a:t>
            </a:r>
            <a:r>
              <a:rPr b="1" lang="hu-HU" sz="1400" spc="-1" strike="noStrike">
                <a:solidFill>
                  <a:srgbClr val="000000"/>
                </a:solidFill>
                <a:latin typeface="Arial"/>
              </a:rPr>
              <a:t>szolgáltató szektorra épülő tevékenység koncentrációk</a:t>
            </a:r>
            <a:r>
              <a:rPr b="0" lang="hu-HU" sz="1400" spc="-1" strike="noStrike">
                <a:solidFill>
                  <a:srgbClr val="000000"/>
                </a:solidFill>
                <a:latin typeface="Arial"/>
              </a:rPr>
              <a:t> képviselik, melyek az előzőkkel ellentétben nem a nagyvárosokon kívül, hanem éppen jellegük következtében a nagyvárosokban összpontosulnak. Ezek döntően egy-egy világvároshoz kötődnek, például a pénzvilág központja New York, London és Frankfurt, vagy a reklámipar újdonságai Londonból és New Yorkból származnak, a divatvilág meghatározó egységei Párizsban és Milánóban találhatók, illetve a képzőművészeti és régiségpiacot a londoni árverések határozzák meg. A szolgáltatások köre természetesen egyre szélesebb, s ezek között kell megemlíteni a turizmust, mint klaszter képző és szervező tevékenységi rendszer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klaszterek alakulásának</a:t>
            </a:r>
            <a:br>
              <a:rPr sz="4000"/>
            </a:br>
            <a:r>
              <a:rPr b="1" lang="en-US" sz="4000" spc="-1" strike="noStrike">
                <a:solidFill>
                  <a:srgbClr val="000000"/>
                </a:solidFill>
                <a:latin typeface="Arial"/>
              </a:rPr>
              <a:t>9 lépcsője</a:t>
            </a:r>
            <a:endParaRPr b="0" lang="en-US" sz="4000" spc="-1" strike="noStrike">
              <a:solidFill>
                <a:srgbClr val="000000"/>
              </a:solidFill>
              <a:latin typeface="Arial"/>
            </a:endParaRPr>
          </a:p>
        </p:txBody>
      </p:sp>
      <p:pic>
        <p:nvPicPr>
          <p:cNvPr id="119" name="" descr=""/>
          <p:cNvPicPr/>
          <p:nvPr/>
        </p:nvPicPr>
        <p:blipFill>
          <a:blip r:embed="rId1"/>
          <a:stretch/>
        </p:blipFill>
        <p:spPr>
          <a:xfrm>
            <a:off x="324000" y="2276640"/>
            <a:ext cx="8208720" cy="3165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klaszterek általános felépítése</a:t>
            </a:r>
            <a:endParaRPr b="0" lang="en-US" sz="4000" spc="-1" strike="noStrike">
              <a:solidFill>
                <a:srgbClr val="000000"/>
              </a:solidFill>
              <a:latin typeface="Arial"/>
            </a:endParaRPr>
          </a:p>
        </p:txBody>
      </p:sp>
      <p:pic>
        <p:nvPicPr>
          <p:cNvPr id="121" name="" descr=""/>
          <p:cNvPicPr/>
          <p:nvPr/>
        </p:nvPicPr>
        <p:blipFill>
          <a:blip r:embed="rId1"/>
          <a:stretch/>
        </p:blipFill>
        <p:spPr>
          <a:xfrm>
            <a:off x="1187280" y="1635120"/>
            <a:ext cx="6624720" cy="4767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parági klaszterek általános modellje</a:t>
            </a:r>
            <a:endParaRPr b="0" lang="en-US" sz="4000" spc="-1" strike="noStrike">
              <a:solidFill>
                <a:srgbClr val="000000"/>
              </a:solidFill>
              <a:latin typeface="Arial"/>
            </a:endParaRPr>
          </a:p>
        </p:txBody>
      </p:sp>
      <p:pic>
        <p:nvPicPr>
          <p:cNvPr id="123" name="" descr=""/>
          <p:cNvPicPr/>
          <p:nvPr/>
        </p:nvPicPr>
        <p:blipFill>
          <a:blip r:embed="rId1"/>
          <a:stretch/>
        </p:blipFill>
        <p:spPr>
          <a:xfrm>
            <a:off x="1763640" y="1557360"/>
            <a:ext cx="5473800" cy="4830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laszterek tipizálása</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u="sng">
                <a:solidFill>
                  <a:srgbClr val="000000"/>
                </a:solidFill>
                <a:uFillTx/>
                <a:latin typeface="Arial"/>
              </a:rPr>
              <a:t>Vertikális termelési lánc</a:t>
            </a:r>
            <a:r>
              <a:rPr b="1" lang="hu-HU" sz="1400" spc="-1" strike="noStrike">
                <a:solidFill>
                  <a:srgbClr val="000000"/>
                </a:solidFill>
                <a:latin typeface="Arial"/>
              </a:rPr>
              <a:t>: </a:t>
            </a:r>
            <a:r>
              <a:rPr b="0" lang="hu-HU" sz="1400" spc="-1" strike="noStrike">
                <a:solidFill>
                  <a:srgbClr val="000000"/>
                </a:solidFill>
                <a:latin typeface="Arial"/>
              </a:rPr>
              <a:t>ugyanazon iparágban/üzletágban egy vagy több nagyvállalat beszállítói hálózata, amely input-output analízis segítségével térképezhető fe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u="sng">
                <a:solidFill>
                  <a:srgbClr val="000000"/>
                </a:solidFill>
                <a:uFillTx/>
                <a:latin typeface="Arial"/>
              </a:rPr>
              <a:t>Kapcsolódó szektorok aggregációja</a:t>
            </a:r>
            <a:r>
              <a:rPr b="1" lang="hu-HU" sz="1400" spc="-1" strike="noStrike">
                <a:solidFill>
                  <a:srgbClr val="000000"/>
                </a:solidFill>
                <a:latin typeface="Arial"/>
              </a:rPr>
              <a:t>: </a:t>
            </a:r>
            <a:r>
              <a:rPr b="0" lang="hu-HU" sz="1400" spc="-1" strike="noStrike">
                <a:solidFill>
                  <a:srgbClr val="000000"/>
                </a:solidFill>
                <a:latin typeface="Arial"/>
              </a:rPr>
              <a:t>általában globális nagyvállalatok, vagy kiemelkedő szektorok, amelyek jelentős exportot bonyolítanak le. Egy-egy nemzetgazdaság stratégiai húzóágazatai, amelyek sok esetben nem vizsgálhatók a hagyományos statisztikai tevékenységek osztályozásával (így a NACE, az ISIC, avagy a TEÁOR nem megfelelő kimutatásukra). Pl. egy egészségügyi klaszterben a gyógyszergyártók mellett orvosi berendezések gyártói, egészségügyi szalonok, konferenciaközpontok stb. is szerepelne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u="sng">
                <a:solidFill>
                  <a:srgbClr val="000000"/>
                </a:solidFill>
                <a:uFillTx/>
                <a:latin typeface="Arial"/>
              </a:rPr>
              <a:t>Regionális klaszter:</a:t>
            </a:r>
            <a:r>
              <a:rPr b="1" lang="hu-HU" sz="1400" spc="-1" strike="noStrike">
                <a:solidFill>
                  <a:srgbClr val="000000"/>
                </a:solidFill>
                <a:latin typeface="Arial"/>
              </a:rPr>
              <a:t> </a:t>
            </a:r>
            <a:r>
              <a:rPr b="0" lang="hu-HU" sz="1400" spc="-1" strike="noStrike">
                <a:solidFill>
                  <a:srgbClr val="000000"/>
                </a:solidFill>
                <a:latin typeface="Arial"/>
              </a:rPr>
              <a:t>a kapcsolódó szektorok földrajzi koncentrációja egy adott régión belül, amelyek hasznosítják a lokális technológiai externáliák számtalan variánsát a tudás megosztásától és a tudás túlcsordulásától (spillover) a kezdő cégek (start-up) magas arányái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u="sng">
                <a:solidFill>
                  <a:srgbClr val="000000"/>
                </a:solidFill>
                <a:uFillTx/>
                <a:latin typeface="Arial"/>
              </a:rPr>
              <a:t>Iparági körzet:</a:t>
            </a:r>
            <a:r>
              <a:rPr b="1" lang="hu-HU" sz="1400" spc="-1" strike="noStrike">
                <a:solidFill>
                  <a:srgbClr val="000000"/>
                </a:solidFill>
                <a:latin typeface="Arial"/>
              </a:rPr>
              <a:t> </a:t>
            </a:r>
            <a:r>
              <a:rPr b="0" lang="hu-HU" sz="1400" spc="-1" strike="noStrike">
                <a:solidFill>
                  <a:srgbClr val="000000"/>
                </a:solidFill>
                <a:latin typeface="Arial"/>
              </a:rPr>
              <a:t>a termelési folyamat egy-egy lépésére specializálódott KKV-k lokális koncentrációja. Egy helyileg beágyazódott (embedded), a helyi társadalom magatartásmintáin, a bizalmon és informális kapcsolaton alapuló rugalmas helyi specializáció, melynek eredményeként a cégek együttesen exportképes termékeket állítanak elő.</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u="sng">
                <a:solidFill>
                  <a:srgbClr val="000000"/>
                </a:solidFill>
                <a:uFillTx/>
                <a:latin typeface="Arial"/>
              </a:rPr>
              <a:t>Lokális hálózat:</a:t>
            </a:r>
            <a:r>
              <a:rPr b="1" lang="hu-HU" sz="1400" spc="-1" strike="noStrike">
                <a:solidFill>
                  <a:srgbClr val="000000"/>
                </a:solidFill>
                <a:latin typeface="Arial"/>
              </a:rPr>
              <a:t> </a:t>
            </a:r>
            <a:r>
              <a:rPr b="0" lang="hu-HU" sz="1400" spc="-1" strike="noStrike">
                <a:solidFill>
                  <a:srgbClr val="000000"/>
                </a:solidFill>
                <a:latin typeface="Arial"/>
              </a:rPr>
              <a:t>speciális kapcsolatrendszer a gazdasági szereplők között, amely nemcsak üzleti és hierarchikus, hanem gyakran a kölcsönös függőségen, bizalmon és együttműködési készségen alapszik (hasonlít a KKV-k iparági körzetéhez). A hálózatra jellemző, hogy tagjainak köre pontosan megadható, egymással szerződéses kapcsolatban állna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u="sng">
                <a:solidFill>
                  <a:srgbClr val="000000"/>
                </a:solidFill>
                <a:uFillTx/>
                <a:latin typeface="Arial"/>
              </a:rPr>
              <a:t>Innovációs miliő:</a:t>
            </a:r>
            <a:r>
              <a:rPr b="1" lang="hu-HU" sz="1400" spc="-1" strike="noStrike">
                <a:solidFill>
                  <a:srgbClr val="000000"/>
                </a:solidFill>
                <a:latin typeface="Arial"/>
              </a:rPr>
              <a:t> </a:t>
            </a:r>
            <a:r>
              <a:rPr b="0" lang="hu-HU" sz="1400" spc="-1" strike="noStrike">
                <a:solidFill>
                  <a:srgbClr val="000000"/>
                </a:solidFill>
                <a:latin typeface="Arial"/>
              </a:rPr>
              <a:t>high-tech iparágak helyi koncentrációja, amely a gazdasági és intézményi szereplők egymás közötti szinergikus hatásain alapszik; a tudás diffúziójának és a tanulásnak, a teljesítmények összehasonlításának és a legjobb gyakorlat elterjedésének (benchmarking), valamint az innovációnak alapvető szerepe van, és a rejtett tudás kiemelt fontossága miatt a földrajzi koncentráció elsőrendű szemponttá vá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gionális versenyképesség fogalma</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gionális versenyképesség olyan </a:t>
            </a:r>
            <a:r>
              <a:rPr b="1" lang="en-US" sz="2800" spc="-1" strike="noStrike">
                <a:solidFill>
                  <a:srgbClr val="000000"/>
                </a:solidFill>
                <a:latin typeface="Arial"/>
              </a:rPr>
              <a:t>fenntartható regionális gazdasági növekedést </a:t>
            </a:r>
            <a:r>
              <a:rPr b="0" lang="en-US" sz="2800" spc="-1" strike="noStrike">
                <a:solidFill>
                  <a:srgbClr val="000000"/>
                </a:solidFill>
                <a:latin typeface="Arial"/>
              </a:rPr>
              <a:t>jelent, amelyik magas foglalkoztatottsági ráta melletti magas termelékenységből származik, amelyben nemcsak az egyes kategóriák abszolút szintje, hanem </a:t>
            </a:r>
            <a:r>
              <a:rPr b="1" lang="en-US" sz="2800" spc="-1" strike="noStrike">
                <a:solidFill>
                  <a:srgbClr val="000000"/>
                </a:solidFill>
                <a:latin typeface="Arial"/>
              </a:rPr>
              <a:t>növekedési ütemük</a:t>
            </a:r>
            <a:r>
              <a:rPr b="0" lang="en-US" sz="2800" spc="-1" strike="noStrike">
                <a:solidFill>
                  <a:srgbClr val="000000"/>
                </a:solidFill>
                <a:latin typeface="Arial"/>
              </a:rPr>
              <a:t> is fontos. Ez alapján szoros kapcsolat van az egy lakosra jutó GDP-vel mért regionális gazdasági növekedés, a munkatermelékenység és a foglalkoztatottság közö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a:rPr>
              <a:t>Porter-féle rombuszmodell</a:t>
            </a:r>
            <a:br>
              <a:rPr sz="4000"/>
            </a:br>
            <a:r>
              <a:rPr b="1" lang="hu-HU" sz="3200" spc="-1" strike="noStrike">
                <a:solidFill>
                  <a:srgbClr val="000000"/>
                </a:solidFill>
                <a:latin typeface="Arial"/>
              </a:rPr>
              <a:t>„erőforrások”</a:t>
            </a: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u="sng">
                <a:solidFill>
                  <a:srgbClr val="000000"/>
                </a:solidFill>
                <a:uFillTx/>
                <a:latin typeface="Arial"/>
              </a:rPr>
              <a:t>Természeti erőforrások:</a:t>
            </a:r>
            <a:r>
              <a:rPr b="0" lang="hu-HU" sz="2000" spc="-1" strike="noStrike">
                <a:solidFill>
                  <a:srgbClr val="000000"/>
                </a:solidFill>
                <a:latin typeface="Arial"/>
              </a:rPr>
              <a:t> a természeti erőforrások bősége, minősége, elérhetősége, a termőföldek, a víz ára, a vízenergia, a klimatikus viszonyok, földrajzi elhelyezkedé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u="sng">
                <a:solidFill>
                  <a:srgbClr val="000000"/>
                </a:solidFill>
                <a:uFillTx/>
                <a:latin typeface="Arial"/>
              </a:rPr>
              <a:t>Humán erőforrások</a:t>
            </a:r>
            <a:r>
              <a:rPr b="0" i="1" lang="hu-HU" sz="2000" spc="-1" strike="noStrike">
                <a:solidFill>
                  <a:srgbClr val="000000"/>
                </a:solidFill>
                <a:latin typeface="Arial"/>
              </a:rPr>
              <a:t>:</a:t>
            </a:r>
            <a:r>
              <a:rPr b="0" lang="hu-HU" sz="2000" spc="-1" strike="noStrike">
                <a:solidFill>
                  <a:srgbClr val="000000"/>
                </a:solidFill>
                <a:latin typeface="Arial"/>
              </a:rPr>
              <a:t> a régió humán erőforrásainak mennyisége, szakképzettsége, szakértelme, a bérek színvonala. A humán erőforrás számtalan apró tényezőre bontható, amit a speciális iparágak esetében egyedileg kell mérlegeln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u="sng">
                <a:solidFill>
                  <a:srgbClr val="000000"/>
                </a:solidFill>
                <a:uFillTx/>
                <a:latin typeface="Arial"/>
              </a:rPr>
              <a:t>Tőke (pénzügyi) források:</a:t>
            </a:r>
            <a:r>
              <a:rPr b="0" lang="hu-HU" sz="2000" spc="-1" strike="noStrike">
                <a:solidFill>
                  <a:srgbClr val="000000"/>
                </a:solidFill>
                <a:latin typeface="Arial"/>
              </a:rPr>
              <a:t> az összege és költsége az iparágak finanszírozására, rendelkezésre álló tőkének, ez nem homogén, hanem, kötvényekből, kockázati tőkéből, részvényekből áll. A tőketömeg nemcsak az ország lakosságának megtakarítási hajlandóságától és a nemzeti tőkepiac szerkezetétől függ, mivel a globalizáció egyre inkább lehetővé teszi a nemzetközi tőkeáramlá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a:rPr>
              <a:t>Porter-féle rombuszmodell</a:t>
            </a:r>
            <a:br>
              <a:rPr sz="4000"/>
            </a:br>
            <a:r>
              <a:rPr b="1" lang="hu-HU" sz="3200" spc="-1" strike="noStrike">
                <a:solidFill>
                  <a:srgbClr val="000000"/>
                </a:solidFill>
                <a:latin typeface="Arial"/>
              </a:rPr>
              <a:t>„infrastruktúrák”</a:t>
            </a: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űszaki infrastruktúra</a:t>
            </a:r>
            <a:r>
              <a:rPr b="0" i="1" lang="en-US" sz="1600" spc="-1" strike="noStrike">
                <a:solidFill>
                  <a:srgbClr val="000000"/>
                </a:solidFill>
                <a:latin typeface="Arial"/>
              </a:rPr>
              <a:t>:</a:t>
            </a:r>
            <a:r>
              <a:rPr b="0" lang="en-US" sz="1600" spc="-1" strike="noStrike">
                <a:solidFill>
                  <a:srgbClr val="000000"/>
                </a:solidFill>
                <a:latin typeface="Arial"/>
              </a:rPr>
              <a:t> a versenyben felhasználható műszaki infrastruktúra költsége, ára, típusa, mennyisége, mint a közlekedési hálózat, hírközlési rendszer, posta és csomagküldő szolgálatok, fizetési átutalások, az egészségügyi rendszer, a lakásállomány és kulturális intézménye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özigazgatási (adminisztratív) infrastruktúra:</a:t>
            </a:r>
            <a:r>
              <a:rPr b="0" lang="en-US" sz="1600" spc="-1" strike="noStrike">
                <a:solidFill>
                  <a:srgbClr val="000000"/>
                </a:solidFill>
                <a:latin typeface="Arial"/>
              </a:rPr>
              <a:t> a központi jogszabályok, helyi rendeletek elősegítik-e a vállalati versenyelőnyök fenntartását, avagy gátolják, ezeket az előírásokat betartják-e, továbbá a központi és helyi intézmények kiépültsége, működésük hatékonyság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formatikai infrastruktúra:</a:t>
            </a:r>
            <a:r>
              <a:rPr b="0" i="1" lang="en-US" sz="1600" spc="-1" strike="noStrike">
                <a:solidFill>
                  <a:srgbClr val="000000"/>
                </a:solidFill>
                <a:latin typeface="Arial"/>
              </a:rPr>
              <a:t> </a:t>
            </a:r>
            <a:r>
              <a:rPr b="0" lang="en-US" sz="1600" spc="-1" strike="noStrike">
                <a:solidFill>
                  <a:srgbClr val="000000"/>
                </a:solidFill>
                <a:latin typeface="Arial"/>
              </a:rPr>
              <a:t>napjainkban az informatikai hálózatok kiépültsége, az adat- és információ gyorsasága és megbízhatósága, az adatbázisok elérhetősége alapvető, mivel hiányuk komoly versenyhátrányt jel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udományos és technológia infrastruktúra:</a:t>
            </a:r>
            <a:r>
              <a:rPr b="0" i="1" lang="en-US" sz="1600" spc="-1" strike="noStrike">
                <a:solidFill>
                  <a:srgbClr val="000000"/>
                </a:solidFill>
                <a:latin typeface="Arial"/>
              </a:rPr>
              <a:t> </a:t>
            </a:r>
            <a:r>
              <a:rPr b="0" lang="en-US" sz="1600" spc="-1" strike="noStrike">
                <a:solidFill>
                  <a:srgbClr val="000000"/>
                </a:solidFill>
                <a:latin typeface="Arial"/>
              </a:rPr>
              <a:t>a tudományos, technikai és üzleti ismeretek, amelyek a termékek előállításához és a szolgáltatásokhoz kellenek. Ez a tudásszint felhalmozódott az egyetemeken, állami kutatóintézetekben, magán kutatási lehetőségekben, adatgyűjtő ügynökségekben, gazdasági kamarákban, az üzleti és tudományos irodalomban, üzleti jelentésekb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a:rPr>
              <a:t>Porter-féle rombuszmodell</a:t>
            </a:r>
            <a:br>
              <a:rPr sz="4000"/>
            </a:br>
            <a:r>
              <a:rPr b="1" lang="hu-HU" sz="3200" spc="-1" strike="noStrike">
                <a:solidFill>
                  <a:srgbClr val="000000"/>
                </a:solidFill>
                <a:latin typeface="Arial"/>
              </a:rPr>
              <a:t>„keresleti tényezők”</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u="sng">
                <a:solidFill>
                  <a:srgbClr val="000000"/>
                </a:solidFill>
                <a:uFillTx/>
                <a:latin typeface="Arial"/>
              </a:rPr>
              <a:t>A hazai kereslet összetétele</a:t>
            </a:r>
            <a:r>
              <a:rPr b="0" i="1" lang="hu-HU" sz="1600" spc="-1" strike="noStrike">
                <a:solidFill>
                  <a:srgbClr val="000000"/>
                </a:solidFill>
                <a:latin typeface="Arial"/>
              </a:rPr>
              <a:t>:</a:t>
            </a:r>
            <a:r>
              <a:rPr b="0" lang="hu-HU" sz="1600" spc="-1" strike="noStrike">
                <a:solidFill>
                  <a:srgbClr val="000000"/>
                </a:solidFill>
                <a:latin typeface="Arial"/>
              </a:rPr>
              <a:t> azokban az iparágakban és ipari szegmensekbe jutnak a vállalatok versenyelőnyhöz, ahol a hazai fogyasztói igények jelzik előre a fogyasztási szokások várható változását, ahol a hazai kereslet szerkezete a vállalatokat versenyre és innovációra készteti. A globalizáció korában sem csökkent a hazai kereslet szerepe, egyrészt a hazai vállalatok kisebb költséggel tudják felmérni a belföldi igények változását, hamarabb észlelik, és pontosabban megértik, mint külföldi vetélytársa, másrészt a külföldi vásárlók igényeinek változását jóval nehezebben lehet követni.</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u="sng">
                <a:solidFill>
                  <a:srgbClr val="000000"/>
                </a:solidFill>
                <a:uFillTx/>
                <a:latin typeface="Arial"/>
              </a:rPr>
              <a:t>A hazai kereslet növekedésének a nagysága és alakulása:</a:t>
            </a:r>
            <a:r>
              <a:rPr b="0" lang="hu-HU" sz="1600" spc="-1" strike="noStrike">
                <a:solidFill>
                  <a:srgbClr val="000000"/>
                </a:solidFill>
                <a:latin typeface="Arial"/>
              </a:rPr>
              <a:t> a hazai vállalatok által jól ismert hazai kereslet növekedése javítja a méretgazdaságosságból adódó verseny előnyöket. A javuló termelékenység általában új innovációk kifejlesztését is ösztönzi. Az egyedi iparági sajátosságoktól függ, hogy a korlátozott hazai piac mennyiben serkent az exportra.</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u="sng">
                <a:solidFill>
                  <a:srgbClr val="000000"/>
                </a:solidFill>
                <a:uFillTx/>
                <a:latin typeface="Arial"/>
              </a:rPr>
              <a:t>A belföldi kereslet nemzetközivé tétele</a:t>
            </a:r>
            <a:r>
              <a:rPr b="0" i="1" lang="hu-HU" sz="1600" spc="-1" strike="noStrike">
                <a:solidFill>
                  <a:srgbClr val="000000"/>
                </a:solidFill>
                <a:latin typeface="Arial"/>
              </a:rPr>
              <a:t>:</a:t>
            </a:r>
            <a:r>
              <a:rPr b="0" lang="hu-HU" sz="1600" spc="-1" strike="noStrike">
                <a:solidFill>
                  <a:srgbClr val="000000"/>
                </a:solidFill>
                <a:latin typeface="Arial"/>
              </a:rPr>
              <a:t> nem lehet egy iparág tartósan sikeres nemzetközileg, ha otthon alig fogyasztják termékeit, mivel a hazai presztízs, hírnév, elismertség kell ahhoz, hogy a legjobb képességű fiatalok ebbe az iparágba menjenek dolgozni, az egyetemek odafigyeljenek az utánpótlásra és az iparág témáival foglalkozzanak kutatásaikban, állami és önkormányzati infrastrukturális fejlesztések ezen iparág speciális igényei szerint alakuljanak. Hazai bázis nélkül a nemzetközi versenyben hosszabb távon nem lehet megőrizni a versenyelőnyöket, kivéve a természeti erőforrásokra alapozódó néhány iparág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a:rPr>
              <a:t>Porter-féle rombuszmodell</a:t>
            </a:r>
            <a:br>
              <a:rPr sz="4000"/>
            </a:br>
            <a:r>
              <a:rPr b="1" lang="hu-HU" sz="2800" spc="-1" strike="noStrike">
                <a:solidFill>
                  <a:srgbClr val="000000"/>
                </a:solidFill>
                <a:latin typeface="Arial"/>
              </a:rPr>
              <a:t>„támogató és kapcsolódó iparágak tényezői”</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ámogató (kiszolgáló) iparágak:</a:t>
            </a:r>
            <a:r>
              <a:rPr b="0" lang="en-US" sz="2000" spc="-1" strike="noStrike">
                <a:solidFill>
                  <a:srgbClr val="000000"/>
                </a:solidFill>
                <a:latin typeface="Arial"/>
              </a:rPr>
              <a:t> az adott vállalatnak azok a partnerei, akiktől inputját: állóeszközeit, fogyóeszközeit, alapanyagait vásárolja, a szolgáltatásokat igénybe veszi. A személyes kapcsolatok kiépülésével a vállalkozók üzleti tapasztalataikat és egyéb információkat is kicserélik, gyors és állandó kommunikáció jöhet létre, hajlandók a kölcsönösen előnyös együttműködésre, sőt kölcsönösen befektetnek egymás vállalkozásaiba. A támogató iparágak nem versenytársai a támogatott iparágnak, ezért általában hajlandók tapasztalataik átadására.</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Kapcsolódó iparágak:</a:t>
            </a:r>
            <a:r>
              <a:rPr b="0" i="1" lang="en-US" sz="2000" spc="-1" strike="noStrike">
                <a:solidFill>
                  <a:srgbClr val="000000"/>
                </a:solidFill>
                <a:latin typeface="Arial"/>
              </a:rPr>
              <a:t> </a:t>
            </a:r>
            <a:r>
              <a:rPr b="0" lang="en-US" sz="2000" spc="-1" strike="noStrike">
                <a:solidFill>
                  <a:srgbClr val="000000"/>
                </a:solidFill>
                <a:latin typeface="Arial"/>
              </a:rPr>
              <a:t>az adott iparággal üzleti kapcsolatban álló azon iparágak, amelyekben a vállalatok képesek megosztani vagy koordinálni a tevékenységeket az értéklánc-rendszerben, illetve azok a cégek, amelyek termékei kiegészítik egymást. A lényeg, hogy ezek az iparágak más-más termékpiacon versenyeznek, azaz nem egymás versenytársai, viszont egyeztetve egymást tudják erősíten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a:rPr>
              <a:t>Porter-féle rombuszmodell</a:t>
            </a:r>
            <a:br>
              <a:rPr sz="4000"/>
            </a:br>
            <a:r>
              <a:rPr b="1" lang="hu-HU" sz="3200" spc="-1" strike="noStrike">
                <a:solidFill>
                  <a:srgbClr val="000000"/>
                </a:solidFill>
                <a:latin typeface="Arial"/>
              </a:rPr>
              <a:t>„a vállalati stratégia és verseny tényezői”</a:t>
            </a:r>
            <a:endParaRPr b="0" lang="en-US" sz="3200" spc="-1" strike="noStrike">
              <a:solidFill>
                <a:srgbClr val="000000"/>
              </a:solidFill>
              <a:latin typeface="Arial"/>
            </a:endParaRPr>
          </a:p>
        </p:txBody>
      </p:sp>
      <p:sp>
        <p:nvSpPr>
          <p:cNvPr id="5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 belföldi vállalatok stratégiája és szerkezete:</a:t>
            </a:r>
            <a:r>
              <a:rPr b="0" i="1" lang="en-US" sz="1800" spc="-1" strike="noStrike">
                <a:solidFill>
                  <a:srgbClr val="000000"/>
                </a:solidFill>
                <a:latin typeface="Arial"/>
              </a:rPr>
              <a:t> </a:t>
            </a:r>
            <a:r>
              <a:rPr b="0" lang="en-US" sz="1800" spc="-1" strike="noStrike">
                <a:solidFill>
                  <a:srgbClr val="000000"/>
                </a:solidFill>
                <a:latin typeface="Arial"/>
              </a:rPr>
              <a:t>nincs mindenütt érvényes általános vállalati stratégia és szerkezet, a vállalatok többféle stratégiával és szervezeti megoldással lehetnek sikeresek, döntő, hogy a nemzeti jellemzőkhöz igazodjon a vezetési és szervezeti struktú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élok</a:t>
            </a:r>
            <a:r>
              <a:rPr b="0" i="1" lang="en-US" sz="1800" spc="-1" strike="noStrike">
                <a:solidFill>
                  <a:srgbClr val="000000"/>
                </a:solidFill>
                <a:latin typeface="Arial"/>
              </a:rPr>
              <a:t>:</a:t>
            </a:r>
            <a:r>
              <a:rPr b="0" lang="en-US" sz="1800" spc="-1" strike="noStrike">
                <a:solidFill>
                  <a:srgbClr val="000000"/>
                </a:solidFill>
                <a:latin typeface="Arial"/>
              </a:rPr>
              <a:t> a nemzetek között, nemzeteken belül és a vállalatok körében is éles különbségek figyelhetők meg a kitűzött célokat tekintve, valamint abban, hogyan próbálják motiválni a menedzsereket és foglalkoztatottakat e célok elérésé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 belföldi (hazai) versengés:</a:t>
            </a:r>
            <a:r>
              <a:rPr b="0" lang="en-US" sz="1800" spc="-1" strike="noStrike">
                <a:solidFill>
                  <a:srgbClr val="000000"/>
                </a:solidFill>
                <a:latin typeface="Arial"/>
              </a:rPr>
              <a:t> a vállalati versenyelőnyök az erős iparágon belüli versenyből erednek, azokban az iparágakban sikeresek az országok, ahol erős  és többszereplős a belföldi piac. Az erős belföldi verseny készteti a vállalatokat az innovációra, a fejlesztésekre és a nemzetközi piacra történő kilépésre, az exportra, így szűk belföldi piac esetén sem lehet méretgazdaságossági problé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06:10:02Z</dcterms:created>
  <dc:creator>Káposzta József</dc:creator>
  <dc:description/>
  <dc:language>en-US</dc:language>
  <cp:lastModifiedBy>Káposzta József</cp:lastModifiedBy>
  <dcterms:modified xsi:type="dcterms:W3CDTF">2007-05-08T08:34:32Z</dcterms:modified>
  <cp:revision>24</cp:revision>
  <dc:subject/>
  <dc:title>Versenyképesség és az innováció</dc:title>
</cp:coreProperties>
</file>