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AC8-6BCB-4F54-89DE-33E7CBD7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C69-940C-4679-8AB5-B8779B51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2C7-C604-4B9A-9A9D-8B56F176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FAE-6084-4A62-BCBD-EFDCD328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990-40AD-439F-BB35-6B350B7C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A19-5D5C-4DEE-978D-C943B52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19E-0F07-44A0-B370-B9B246BC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FA6-4D74-45B2-8A5A-8DCEA6C4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B0C-97B6-4AD3-A31C-BE26155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780-80AD-48D2-80C0-29FC1136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0C6-6F2E-4632-AEC1-06D46CE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DC9-C371-4509-A165-FA8F7711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57A9-4953-4926-B255-B3949B81D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gionális gazdaságtan tárgy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azdaság általános törvényszerűség térbeni érvényesülésének, a térben létező gazdaság mozgástörvényeinek feltárá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zállítási költségek különböző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0       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537372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443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443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3789360"/>
            <a:ext cx="1800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411280" y="3357720"/>
            <a:ext cx="53294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924360" y="3357720"/>
            <a:ext cx="1295280" cy="10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19640" y="3357720"/>
            <a:ext cx="136836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4005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3645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gazdasági tér tagolódá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3141720"/>
            <a:ext cx="1656000" cy="1295280"/>
          </a:xfrm>
          <a:prstGeom prst="hexagon">
            <a:avLst>
              <a:gd name="adj" fmla="val 3196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2492280"/>
            <a:ext cx="1655640" cy="1295640"/>
          </a:xfrm>
          <a:prstGeom prst="hexagon">
            <a:avLst>
              <a:gd name="adj" fmla="val 319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141720"/>
            <a:ext cx="1655640" cy="1295280"/>
          </a:xfrm>
          <a:prstGeom prst="hexagon">
            <a:avLst>
              <a:gd name="adj" fmla="val 3195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844640"/>
            <a:ext cx="1655640" cy="1295280"/>
          </a:xfrm>
          <a:prstGeom prst="hexagon">
            <a:avLst>
              <a:gd name="adj" fmla="val 3195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46440"/>
            <a:ext cx="1656000" cy="1295280"/>
          </a:xfrm>
          <a:prstGeom prst="hexagon">
            <a:avLst>
              <a:gd name="adj" fmla="val 3196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4438800"/>
            <a:ext cx="1656000" cy="1295280"/>
          </a:xfrm>
          <a:prstGeom prst="hexagon">
            <a:avLst>
              <a:gd name="adj" fmla="val 3196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3789360"/>
            <a:ext cx="1655640" cy="1295280"/>
          </a:xfrm>
          <a:prstGeom prst="hexagon">
            <a:avLst>
              <a:gd name="adj" fmla="val 3195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2494080"/>
            <a:ext cx="1655640" cy="1295280"/>
          </a:xfrm>
          <a:prstGeom prst="hexagon">
            <a:avLst>
              <a:gd name="adj" fmla="val 3195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437000"/>
            <a:ext cx="1655640" cy="1295640"/>
          </a:xfrm>
          <a:prstGeom prst="hexagon">
            <a:avLst>
              <a:gd name="adj" fmla="val 319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0" y="3789360"/>
            <a:ext cx="1655640" cy="1295280"/>
          </a:xfrm>
          <a:prstGeom prst="hexagon">
            <a:avLst>
              <a:gd name="adj" fmla="val 3195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3789360"/>
            <a:ext cx="1656000" cy="1295280"/>
          </a:xfrm>
          <a:prstGeom prst="hexagon">
            <a:avLst>
              <a:gd name="adj" fmla="val 3196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494080"/>
            <a:ext cx="1656000" cy="1295280"/>
          </a:xfrm>
          <a:prstGeom prst="hexagon">
            <a:avLst>
              <a:gd name="adj" fmla="val 3196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349360"/>
            <a:ext cx="7164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4365720"/>
            <a:ext cx="7164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3068640"/>
            <a:ext cx="7164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5013360"/>
            <a:ext cx="712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716280"/>
            <a:ext cx="712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4365720"/>
            <a:ext cx="712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3068640"/>
            <a:ext cx="712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5086440"/>
            <a:ext cx="7164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3716280"/>
            <a:ext cx="712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421000"/>
            <a:ext cx="712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4437000"/>
            <a:ext cx="712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3068640"/>
            <a:ext cx="712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a-számlálá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1989000"/>
            <a:ext cx="2089440" cy="410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989000"/>
            <a:ext cx="2089080" cy="410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1989000"/>
            <a:ext cx="2089080" cy="410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276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28544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3502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076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58136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51577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2276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502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40784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852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458136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285264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3500280"/>
            <a:ext cx="287640" cy="28764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51577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407664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66100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566100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4581360"/>
            <a:ext cx="287640" cy="28764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5662440"/>
            <a:ext cx="287640" cy="28764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515772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2276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4292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486900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24922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0" y="4005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278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5013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5516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5084640"/>
            <a:ext cx="287640" cy="28764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37162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2276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35640" y="234936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364500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4797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5516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530064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4797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3139920"/>
            <a:ext cx="287280" cy="287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797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4360" y="3429000"/>
            <a:ext cx="863640" cy="934920"/>
          </a:xfrm>
          <a:custGeom>
            <a:avLst/>
            <a:gdLst>
              <a:gd name="textAreaLeft" fmla="*/ 355680 w 863640"/>
              <a:gd name="textAreaRight" fmla="*/ 507960 w 86364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Logisztikus görbe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átottsági sz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Ellátottsági sz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őpont (év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umtól való távolság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2637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5661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5661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2637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58680" y="3213000"/>
            <a:ext cx="1828440" cy="302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64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640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083040" y="3190680"/>
            <a:ext cx="1828080" cy="302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03520" y="3860640"/>
            <a:ext cx="3431880" cy="17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64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640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641000">
            <a:off x="6927480" y="3759840"/>
            <a:ext cx="3431880" cy="170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64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640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tozások gyorsaság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resletnöveked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 keresletnöveked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dőpont (év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ntrumtól való távolság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4292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4920" y="4292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2637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2637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 rot="21568200">
            <a:off x="2262960" y="3380040"/>
            <a:ext cx="1296720" cy="184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" y="11203"/>
                </a:moveTo>
                <a:arcTo wR="10800" hR="10800" stAng="10671536" swAng="10928464"/>
                <a:lnTo>
                  <a:pt x="10800" y="10800"/>
                </a:lnTo>
                <a:close/>
              </a:path>
              <a:path fill="none" w="21600" h="21600">
                <a:moveTo>
                  <a:pt x="8" y="11203"/>
                </a:moveTo>
                <a:arcTo wR="10800" hR="10800" stAng="10671536" swAng="109284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0780800">
            <a:off x="974520" y="3356640"/>
            <a:ext cx="1296000" cy="184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" y="11203"/>
                </a:moveTo>
                <a:arcTo wR="10800" hR="10800" stAng="10671536" swAng="10928464"/>
                <a:lnTo>
                  <a:pt x="10800" y="10800"/>
                </a:lnTo>
                <a:close/>
              </a:path>
              <a:path fill="none" w="21600" h="21600">
                <a:moveTo>
                  <a:pt x="8" y="11203"/>
                </a:moveTo>
                <a:arcTo wR="10800" hR="10800" stAng="10671536" swAng="109284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 rot="10825800">
            <a:off x="6369480" y="3357000"/>
            <a:ext cx="1296000" cy="184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" y="11203"/>
                </a:moveTo>
                <a:arcTo wR="10800" hR="10800" stAng="10671536" swAng="10928464"/>
                <a:lnTo>
                  <a:pt x="10800" y="10800"/>
                </a:lnTo>
                <a:close/>
              </a:path>
              <a:path fill="none" w="21600" h="21600">
                <a:moveTo>
                  <a:pt x="8" y="11203"/>
                </a:moveTo>
                <a:arcTo wR="10800" hR="10800" stAng="10671536" swAng="109284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 rot="21568200">
            <a:off x="5072760" y="3380040"/>
            <a:ext cx="1296720" cy="184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" y="11203"/>
                </a:moveTo>
                <a:arcTo wR="10800" hR="10800" stAng="10671536" swAng="10928464"/>
                <a:lnTo>
                  <a:pt x="10800" y="10800"/>
                </a:lnTo>
                <a:close/>
              </a:path>
              <a:path fill="none" w="21600" h="21600">
                <a:moveTo>
                  <a:pt x="8" y="11203"/>
                </a:moveTo>
                <a:arcTo wR="10800" hR="10800" stAng="10671536" swAng="109284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ÜNEN mezőgazdasági telephelyelméle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ülpiactól elszigetelt, önellátó (autark) államot vizsgál, középen az egyetlen piacot alkotó váross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ros körüli földek minősége mindenütt azo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rosi piacra történő szállítás lehetőségei és fajlagos költségei azonos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BER ipari telephelyelméle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abad versenyes kapitalizmust feltétel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ersanyagokból tetszés szerinti mennyiséget lehet beszerezni adott á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nkaerő ad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etlen pontszerű piacot vizsgá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ÖSCH térgazdasági elméle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egyik telephelyen a gazdasági tevékenység a termelő számára jövedelmező, a fogyasztók számára pedig hasz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lephelyek olyan „sűrűn” helyezkednek el a térben, hogy piackörzeteikkel a teljes teret kitölt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ármilyen gazdasági tevékenységet bárki és bárhol végez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rmelés és a kereskedelem térbeli kiterjedése (piackörzetei) a lehető legkiseb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iackörzetek határánál a fogyasztók „közömbösek”, a két szomszédos termelő közül bármelyik kínálatából választhat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ARD optimalizáláson alapuló telephelyelméle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lepítési tényezők köre nem állandó, hanem folytonos mozgásba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nyezők helyettesíthető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csak a területi árak befolyásolják a termelés nagyság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ltérő termékvolumenekhez más-más optimális telephely is tartoz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z alkalmazott gazdaságtudományokat két fő csoportj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gazati gazdaságtudomá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pargazdaságtan, agrárgazdaságtan, kereskedelem gazdaságtan, stb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kcionális gazdaságtudomá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énzügytan, munkagazdaságtan, marketing stb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gy pont gazdaság” mode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ac egységes, bármely vásárló azonos árszínvonal mellett bármelyik eladótól azonos eséllyel vásárolh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azdasági viszonyok elsősorban az egységes piacon keresztül realizálódn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ereplők a gazdasági intézkedésekre, folyamatokra azonosan, vagy közel azonosan reagáln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ottságok és a költség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5300640"/>
            <a:ext cx="64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924360" y="3213000"/>
            <a:ext cx="0" cy="20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438280" y="2069640"/>
            <a:ext cx="1486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930480" y="1999800"/>
            <a:ext cx="157824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234936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497400"/>
            <a:ext cx="4158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9640" y="1339920"/>
            <a:ext cx="4537080" cy="44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1916280"/>
            <a:ext cx="3240000" cy="32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492280"/>
            <a:ext cx="2087640" cy="20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2924280"/>
            <a:ext cx="11527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öltségek alaku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6     7       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öltségfelszín alakulá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42920" y="1557360"/>
          <a:ext cx="6919920" cy="47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691992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öltségfelszín töréspont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00000" y="1341360"/>
          <a:ext cx="734400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34400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öltségfelszín alakulá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x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 rot="10754400">
            <a:off x="4711680" y="2799720"/>
            <a:ext cx="5030280" cy="288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150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1502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költségek azonosa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50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44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3645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3645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3645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3500280"/>
            <a:ext cx="1297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124000" y="3573000"/>
            <a:ext cx="1943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2708280"/>
            <a:ext cx="1297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348000" y="321300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653080" y="2708280"/>
            <a:ext cx="187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48360" y="2708280"/>
            <a:ext cx="187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2924280"/>
            <a:ext cx="1008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1640" y="2708280"/>
            <a:ext cx="1296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9:25:08Z</dcterms:created>
  <dc:creator>GTK-INFORMATIKA</dc:creator>
  <dc:description/>
  <dc:language>en-US</dc:language>
  <cp:lastModifiedBy>GTK-INFORMATIKA</cp:lastModifiedBy>
  <dcterms:modified xsi:type="dcterms:W3CDTF">2007-05-08T10:48:58Z</dcterms:modified>
  <cp:revision>9</cp:revision>
  <dc:subject/>
  <dc:title>A regionális gazdaságtan tárgya </dc:title>
</cp:coreProperties>
</file>