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88CD-656F-4929-BDD0-3A7C2B2F2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371600" y="60865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C5D8-A6E2-4835-844F-0A18145BC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5156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EC5B-DFC9-4C92-8A65-14E5C71A3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3556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69988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37160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3556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69988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B3BB-A575-473A-B563-E05F9BD24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0CAEE-F218-47BC-A94D-F7102EA8E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27F8E-B5AA-4EF3-8A06-A43155943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4D88C-DD07-4CF1-9E61-AFD7B4267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AA83B-A86D-4B70-A865-331AFFD5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C1834-1475-47DD-9C5B-8EF47B0BC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3885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08DDA-0FFD-4ADE-ACCF-521B77BB8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A4C3F-3D6B-44E5-97B7-6F3A08C2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F01D-AFC4-4EEC-ABF6-D36B7B943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5156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D37D3-2BBE-41B1-AD36-4209349D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0D4CB-0E05-4DB2-A306-4925C45F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371600" y="60865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6C262-72C6-4ADD-9D84-FAFB5B115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5156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8FD46-D9B9-471F-9094-67603C222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53556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69988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37160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53556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69988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728A1-6693-428A-8091-05353F431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C553-E8BC-4392-9393-727669EB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50F6-DE4F-4801-84E7-03D161EBF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A43C-8F94-4CF9-9544-2FEF9BD12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3885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4101-D450-4118-A90E-F9F5A7764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FA0A-477C-48C7-8B9E-4501BE92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5156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E062-8D83-413A-8A66-C22369D9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33BF-CFCD-459D-A8A6-98BFE41F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65c6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1428"/>
              </a:gs>
              <a:gs pos="50000">
                <a:srgbClr val="336699"/>
              </a:gs>
              <a:gs pos="100000">
                <a:srgbClr val="00142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00142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1428"/>
                </a:gs>
                <a:gs pos="100000">
                  <a:srgbClr val="33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1428"/>
                </a:gs>
                <a:gs pos="50000">
                  <a:srgbClr val="699bcd"/>
                </a:gs>
                <a:gs pos="100000">
                  <a:srgbClr val="00142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FE5AF-823D-4675-AC5A-48E2FFC3D9CA}" type="slidenum">
              <a:rPr b="0" lang="hu-HU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65c6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1428"/>
              </a:gs>
              <a:gs pos="50000">
                <a:srgbClr val="336699"/>
              </a:gs>
              <a:gs pos="100000">
                <a:srgbClr val="00142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1428"/>
                </a:gs>
                <a:gs pos="100000">
                  <a:srgbClr val="33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00142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1428"/>
                </a:gs>
                <a:gs pos="50000">
                  <a:srgbClr val="699bcd"/>
                </a:gs>
                <a:gs pos="100000">
                  <a:srgbClr val="00142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311FC-D94F-4A1F-812D-4FB39C9B26E2}" type="slidenum">
              <a:rPr b="0" lang="hu-HU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dddddd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dddddd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65c6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3645000"/>
            <a:ext cx="79250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ffcc"/>
                </a:solidFill>
                <a:latin typeface="Times New Roman"/>
              </a:rPr>
              <a:t>Új termék bevezetése az ásványvíz piacra</a:t>
            </a:r>
            <a:endParaRPr b="0" lang="en-US" sz="44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792520" y="6000840"/>
            <a:ext cx="3595680" cy="28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dddddd"/>
                </a:solidFill>
                <a:latin typeface="Times New Roman"/>
              </a:rPr>
              <a:t>Készítette: Szigethy Balázs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38280" y="685800"/>
            <a:ext cx="44197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ddddd"/>
                </a:solidFill>
                <a:latin typeface="Times New Roman"/>
                <a:ea typeface="SimSun"/>
              </a:rPr>
              <a:t>Szent István Egyetem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ddddd"/>
                </a:solidFill>
                <a:latin typeface="Times New Roman"/>
                <a:ea typeface="SimSun"/>
              </a:rPr>
              <a:t>Gazdaság- és Társadalomtudományi Kar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dddddd"/>
                </a:solidFill>
                <a:latin typeface="Times New Roman"/>
                <a:ea typeface="SimSun"/>
              </a:rPr>
              <a:t>Tudományos Diákköri Konferencia</a:t>
            </a:r>
            <a:r>
              <a:rPr b="0" lang="en-GB" sz="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dddddd"/>
                </a:solidFill>
                <a:latin typeface="Times New Roman"/>
              </a:rPr>
              <a:t>2007. december 6.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769120" y="5445000"/>
            <a:ext cx="36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dddddd"/>
                </a:solidFill>
                <a:latin typeface="Times New Roman"/>
              </a:rPr>
              <a:t>Konzulens: Dr. Pitlik László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65c6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ffcc"/>
                </a:solidFill>
                <a:latin typeface="Times New Roman"/>
              </a:rPr>
              <a:t>Ármeghatározás „COCO”-val</a:t>
            </a:r>
            <a:endParaRPr b="0" lang="en-US" sz="44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09320" y="1295280"/>
            <a:ext cx="655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„</a:t>
            </a:r>
            <a:r>
              <a:rPr b="0" i="1" lang="hu-HU" sz="2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Component-based Object Comparison for Objectivity”</a:t>
            </a:r>
            <a:r>
              <a:rPr b="0" i="1" lang="hu-HU" sz="2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5101560" y="2590920"/>
            <a:ext cx="3860280" cy="3278880"/>
            <a:chOff x="5101560" y="2590920"/>
            <a:chExt cx="3860280" cy="3278880"/>
          </a:xfrm>
        </p:grpSpPr>
        <p:sp>
          <p:nvSpPr>
            <p:cNvPr id="189" name=""/>
            <p:cNvSpPr/>
            <p:nvPr/>
          </p:nvSpPr>
          <p:spPr>
            <a:xfrm>
              <a:off x="5101560" y="2590920"/>
              <a:ext cx="375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dddddd"/>
                  </a:solidFill>
                  <a:latin typeface="Times New Roman"/>
                </a:rPr>
                <a:t>Korrekt adatok, attribútumok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105520" y="2590920"/>
              <a:ext cx="3733560" cy="457200"/>
            </a:xfrm>
            <a:prstGeom prst="rect">
              <a:avLst/>
            </a:pr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941080" y="3581280"/>
              <a:ext cx="222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dddddd"/>
                  </a:solidFill>
                  <a:latin typeface="Times New Roman"/>
                </a:rPr>
                <a:t>Adatok tisztítása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943600" y="3581280"/>
              <a:ext cx="2209680" cy="457200"/>
            </a:xfrm>
            <a:prstGeom prst="rect">
              <a:avLst/>
            </a:pr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103720" y="4495680"/>
              <a:ext cx="385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dddddd"/>
                  </a:solidFill>
                  <a:latin typeface="Times New Roman"/>
                </a:rPr>
                <a:t>Adatok feltöltése „COCO”-ba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05520" y="4495680"/>
              <a:ext cx="3809880" cy="457200"/>
            </a:xfrm>
            <a:prstGeom prst="rect">
              <a:avLst/>
            </a:pr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708600" y="5410080"/>
              <a:ext cx="61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99"/>
                  </a:solidFill>
                  <a:latin typeface="Times New Roman"/>
                </a:rPr>
                <a:t>ÁR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705720" y="5410080"/>
              <a:ext cx="609480" cy="457200"/>
            </a:xfrm>
            <a:prstGeom prst="rect">
              <a:avLst/>
            </a:pr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010280" y="3048120"/>
              <a:ext cx="0" cy="533160"/>
            </a:xfrm>
            <a:prstGeom prst="line">
              <a:avLst/>
            </a:prstGeom>
            <a:ln cap="sq" w="12600">
              <a:solidFill>
                <a:srgbClr val="dddddd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010280" y="4038480"/>
              <a:ext cx="0" cy="457200"/>
            </a:xfrm>
            <a:prstGeom prst="line">
              <a:avLst/>
            </a:prstGeom>
            <a:ln cap="sq" w="12600">
              <a:solidFill>
                <a:srgbClr val="dddddd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010280" y="4952880"/>
              <a:ext cx="0" cy="457200"/>
            </a:xfrm>
            <a:prstGeom prst="line">
              <a:avLst/>
            </a:prstGeom>
            <a:ln cap="sq" w="12600">
              <a:solidFill>
                <a:srgbClr val="dddddd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2209680" y="19051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dddddd"/>
                </a:solidFill>
                <a:latin typeface="Times New Roman"/>
              </a:rPr>
              <a:t>Hipotézis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324120" y="190512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dddddd"/>
                </a:solidFill>
                <a:latin typeface="Times New Roman"/>
              </a:rPr>
              <a:t>Folyama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887120" y="2556000"/>
            <a:ext cx="3836880" cy="3466440"/>
            <a:chOff x="1887120" y="2556000"/>
            <a:chExt cx="3836880" cy="3466440"/>
          </a:xfrm>
        </p:grpSpPr>
        <p:sp>
          <p:nvSpPr>
            <p:cNvPr id="203" name=""/>
            <p:cNvSpPr/>
            <p:nvPr/>
          </p:nvSpPr>
          <p:spPr>
            <a:xfrm>
              <a:off x="1887120" y="2556000"/>
              <a:ext cx="252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dddddd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dddddd"/>
                  </a:solidFill>
                  <a:latin typeface="Times New Roman"/>
                </a:rPr>
                <a:t> </a:t>
              </a:r>
              <a:r>
                <a:rPr b="0" lang="hu-HU" sz="2400" spc="-1" strike="noStrike">
                  <a:solidFill>
                    <a:srgbClr val="dddddd"/>
                  </a:solidFill>
                  <a:latin typeface="Times New Roman"/>
                </a:rPr>
                <a:t>Ár-érték számítás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905120" y="3124080"/>
              <a:ext cx="14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dddddd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dddddd"/>
                  </a:solidFill>
                  <a:latin typeface="Times New Roman"/>
                </a:rPr>
                <a:t> </a:t>
              </a:r>
              <a:r>
                <a:rPr b="0" lang="hu-HU" sz="2400" spc="-1" strike="noStrike">
                  <a:solidFill>
                    <a:srgbClr val="dddddd"/>
                  </a:solidFill>
                  <a:latin typeface="Times New Roman"/>
                </a:rPr>
                <a:t>Objektív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905120" y="3733920"/>
              <a:ext cx="14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dddddd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dddddd"/>
                  </a:solidFill>
                  <a:latin typeface="Times New Roman"/>
                </a:rPr>
                <a:t> </a:t>
              </a:r>
              <a:r>
                <a:rPr b="0" lang="hu-HU" sz="2400" spc="-1" strike="noStrike">
                  <a:solidFill>
                    <a:srgbClr val="dddddd"/>
                  </a:solidFill>
                  <a:latin typeface="Times New Roman"/>
                </a:rPr>
                <a:t>Operatív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900080" y="4343400"/>
              <a:ext cx="305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dddddd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dddddd"/>
                  </a:solidFill>
                  <a:latin typeface="Times New Roman"/>
                </a:rPr>
                <a:t> </a:t>
              </a:r>
              <a:r>
                <a:rPr b="0" lang="hu-HU" sz="2400" spc="-1" strike="noStrike">
                  <a:solidFill>
                    <a:srgbClr val="dddddd"/>
                  </a:solidFill>
                  <a:latin typeface="Times New Roman"/>
                </a:rPr>
                <a:t>Termékek beltartalma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03680" y="4952880"/>
              <a:ext cx="264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dddddd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dddddd"/>
                  </a:solidFill>
                  <a:latin typeface="Times New Roman"/>
                </a:rPr>
                <a:t> </a:t>
              </a:r>
              <a:r>
                <a:rPr b="0" lang="hu-HU" sz="2400" spc="-1" strike="noStrike">
                  <a:solidFill>
                    <a:srgbClr val="dddddd"/>
                  </a:solidFill>
                  <a:latin typeface="Times New Roman"/>
                </a:rPr>
                <a:t>Versenytársak árai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902960" y="5562720"/>
              <a:ext cx="382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dddddd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dddddd"/>
                  </a:solidFill>
                  <a:latin typeface="Times New Roman"/>
                </a:rPr>
                <a:t> </a:t>
              </a:r>
              <a:r>
                <a:rPr b="0" lang="hu-HU" sz="2400" spc="-1" strike="noStrike">
                  <a:solidFill>
                    <a:srgbClr val="dddddd"/>
                  </a:solidFill>
                  <a:latin typeface="Times New Roman"/>
                </a:rPr>
                <a:t>Egyéb befolyásoló tényezők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zigethy Balázs, TDK Konferenc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79CF-CE3D-414E-A420-30F2AF99FAE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.12.06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65c6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ffcc"/>
                </a:solidFill>
                <a:latin typeface="Times New Roman"/>
              </a:rPr>
              <a:t>Eredmények, következtetések</a:t>
            </a:r>
            <a:endParaRPr b="0" lang="en-US" sz="44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09680" y="1828800"/>
            <a:ext cx="588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dddddd"/>
                </a:solidFill>
                <a:latin typeface="Times New Roman"/>
              </a:rPr>
              <a:t>A „COCO” online elemzés szerinti ionmentes víz értéke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1000" y="2209680"/>
            <a:ext cx="507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dddddd"/>
                </a:solidFill>
                <a:latin typeface="Times New Roman"/>
              </a:rPr>
              <a:t>346,17 Ft/palack 17 versenytárs esetén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828800" y="28954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dddddd"/>
                </a:solidFill>
                <a:latin typeface="Times New Roman"/>
              </a:rPr>
              <a:t>Á</a:t>
            </a:r>
            <a:r>
              <a:rPr b="0" lang="hu-HU" sz="2400" spc="-1" strike="noStrike">
                <a:solidFill>
                  <a:srgbClr val="dddddd"/>
                </a:solidFill>
                <a:latin typeface="Times New Roman"/>
                <a:ea typeface="SimSun"/>
              </a:rPr>
              <a:t>r-érték aránynak matematikailag legközelebbi megfelelő értéke.</a:t>
            </a:r>
            <a:r>
              <a:rPr b="0" lang="en-GB" sz="20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43480" y="3809880"/>
            <a:ext cx="61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dddddd"/>
                </a:solidFill>
                <a:latin typeface="Times New Roman"/>
              </a:rPr>
              <a:t>A jövőben tényleges tartalommal való számítás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752480" y="4419720"/>
            <a:ext cx="706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dddddd"/>
                </a:solidFill>
                <a:latin typeface="Times New Roman"/>
              </a:rPr>
              <a:t>Árkalkulációk forradalmasítása, termékek reális értékeinek meghatározás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738080" y="5249880"/>
            <a:ext cx="57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dddddd"/>
                </a:solidFill>
                <a:latin typeface="Times New Roman"/>
              </a:rPr>
              <a:t>Gyors, költségtakarékos, szakember mentes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zigethy Balázs, TDK Konferenc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81C5-E668-432D-81B4-C2DB5FE63B7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.12.06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65c6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160" y="388620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ffcc"/>
                </a:solidFill>
                <a:latin typeface="Times New Roman"/>
              </a:rPr>
              <a:t>Új termék bevezetése az ásványvíz piacra</a:t>
            </a:r>
            <a:endParaRPr b="0" lang="en-US" sz="44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3352680" y="6019560"/>
            <a:ext cx="243864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dddddd"/>
                </a:solidFill>
                <a:latin typeface="Times New Roman"/>
              </a:rPr>
              <a:t>Szigethy Balázs</a:t>
            </a:r>
            <a:endParaRPr b="0" lang="en-US" sz="2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438280" y="685800"/>
            <a:ext cx="4419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ddddd"/>
                </a:solidFill>
                <a:latin typeface="Times New Roman"/>
                <a:ea typeface="SimSun"/>
              </a:rPr>
              <a:t>Szent István Egyetem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ddddd"/>
                </a:solidFill>
                <a:latin typeface="Times New Roman"/>
                <a:ea typeface="SimSun"/>
              </a:rPr>
              <a:t>Gazdaság- és Társadalomtudományi Kar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dddddd"/>
                </a:solidFill>
                <a:latin typeface="Times New Roman"/>
                <a:ea typeface="SimSun"/>
              </a:rPr>
              <a:t>Tudományos Diákköri Konferencia</a:t>
            </a:r>
            <a:r>
              <a:rPr b="0" lang="en-GB" sz="20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dddddd"/>
                </a:solidFill>
                <a:latin typeface="Times New Roman"/>
              </a:rPr>
              <a:t>2007. december 6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551320" y="2565360"/>
            <a:ext cx="40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dddddd"/>
                </a:solidFill>
                <a:latin typeface="Times New Roman"/>
              </a:rPr>
              <a:t>Köszönöm a figyelmet!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65c6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ffcc"/>
                </a:solidFill>
                <a:latin typeface="Times New Roman"/>
              </a:rPr>
              <a:t>Célkitűzések</a:t>
            </a:r>
            <a:endParaRPr b="0" lang="en-US" sz="44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600" y="1523880"/>
            <a:ext cx="4191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cc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dddddd"/>
                </a:solidFill>
                <a:latin typeface="Times New Roman"/>
              </a:rPr>
              <a:t>Új termék bevezetése: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122560" y="2057400"/>
            <a:ext cx="6845040" cy="4434480"/>
            <a:chOff x="2122560" y="2057400"/>
            <a:chExt cx="6845040" cy="4434480"/>
          </a:xfrm>
        </p:grpSpPr>
        <p:sp>
          <p:nvSpPr>
            <p:cNvPr id="109" name=""/>
            <p:cNvSpPr/>
            <p:nvPr/>
          </p:nvSpPr>
          <p:spPr>
            <a:xfrm>
              <a:off x="2122560" y="3962520"/>
              <a:ext cx="68450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700"/>
                </a:spcBef>
                <a:buClr>
                  <a:srgbClr val="dddddd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800" spc="-1" strike="noStrike">
                  <a:solidFill>
                    <a:srgbClr val="dddddd"/>
                  </a:solidFill>
                  <a:latin typeface="Times New Roman"/>
                </a:rPr>
                <a:t> </a:t>
              </a:r>
              <a:r>
                <a:rPr b="0" lang="hu-HU" sz="2800" spc="-1" strike="noStrike">
                  <a:solidFill>
                    <a:srgbClr val="dddddd"/>
                  </a:solidFill>
                  <a:latin typeface="Times New Roman"/>
                </a:rPr>
                <a:t>Kockázatok, veszélyek, bizonytalanságok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133720" y="5029200"/>
              <a:ext cx="4467600" cy="146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700"/>
                </a:spcBef>
                <a:buClr>
                  <a:srgbClr val="dddddd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800" spc="-1" strike="noStrike">
                  <a:solidFill>
                    <a:srgbClr val="dddddd"/>
                  </a:solidFill>
                  <a:latin typeface="Times New Roman"/>
                </a:rPr>
                <a:t> </a:t>
              </a:r>
              <a:r>
                <a:rPr b="0" lang="hu-HU" sz="2800" spc="-1" strike="noStrike">
                  <a:solidFill>
                    <a:srgbClr val="dddddd"/>
                  </a:solidFill>
                  <a:latin typeface="Times New Roman"/>
                </a:rPr>
                <a:t>Szakértők szükségessége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700"/>
                </a:spcBef>
                <a:buClr>
                  <a:srgbClr val="dddddd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800" spc="-1" strike="noStrike">
                  <a:solidFill>
                    <a:srgbClr val="dddddd"/>
                  </a:solidFill>
                  <a:latin typeface="Times New Roman"/>
                </a:rPr>
                <a:t> </a:t>
              </a:r>
              <a:r>
                <a:rPr b="0" lang="hu-HU" sz="2800" spc="-1" strike="noStrike">
                  <a:solidFill>
                    <a:srgbClr val="dddddd"/>
                  </a:solidFill>
                  <a:latin typeface="Times New Roman"/>
                </a:rPr>
                <a:t>Stb.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2133720" y="2057400"/>
              <a:ext cx="3979080" cy="2958840"/>
              <a:chOff x="2133720" y="2057400"/>
              <a:chExt cx="3979080" cy="2958840"/>
            </a:xfrm>
          </p:grpSpPr>
          <p:sp>
            <p:nvSpPr>
              <p:cNvPr id="112" name=""/>
              <p:cNvSpPr/>
              <p:nvPr/>
            </p:nvSpPr>
            <p:spPr>
              <a:xfrm>
                <a:off x="2133720" y="2514600"/>
                <a:ext cx="3200400" cy="90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lvl="1" marL="457200">
                  <a:lnSpc>
                    <a:spcPct val="90000"/>
                  </a:lnSpc>
                  <a:spcBef>
                    <a:spcPts val="700"/>
                  </a:spcBef>
                  <a:buClr>
                    <a:srgbClr val="dddddd"/>
                  </a:buClr>
                  <a:buFont typeface="Times New Roman"/>
                  <a:buChar char="–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2800" spc="-1" strike="noStrike">
                    <a:solidFill>
                      <a:srgbClr val="dddddd"/>
                    </a:solidFill>
                    <a:latin typeface="Times New Roman"/>
                  </a:rPr>
                  <a:t> </a:t>
                </a:r>
                <a:r>
                  <a:rPr b="0" lang="hu-HU" sz="2800" spc="-1" strike="noStrike">
                    <a:solidFill>
                      <a:srgbClr val="dddddd"/>
                    </a:solidFill>
                    <a:latin typeface="Times New Roman"/>
                  </a:rPr>
                  <a:t>Piac elemzése</a:t>
                </a:r>
                <a:endParaRPr b="0" lang="en-US" sz="2800" spc="-1" strike="noStrike">
                  <a:solidFill>
                    <a:srgbClr val="dddddd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133720" y="2971800"/>
                <a:ext cx="35049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lvl="1" marL="457200">
                  <a:lnSpc>
                    <a:spcPct val="100000"/>
                  </a:lnSpc>
                  <a:spcBef>
                    <a:spcPts val="700"/>
                  </a:spcBef>
                  <a:buClr>
                    <a:srgbClr val="dddddd"/>
                  </a:buClr>
                  <a:buFont typeface="Times New Roman"/>
                  <a:buChar char="–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hu-HU" sz="2800" spc="-1" strike="noStrike">
                    <a:solidFill>
                      <a:srgbClr val="dddddd"/>
                    </a:solidFill>
                    <a:latin typeface="Times New Roman"/>
                  </a:rPr>
                  <a:t> </a:t>
                </a:r>
                <a:r>
                  <a:rPr b="0" i="1" lang="hu-HU" sz="2800" spc="-1" strike="noStrike">
                    <a:solidFill>
                      <a:srgbClr val="dddddd"/>
                    </a:solidFill>
                    <a:latin typeface="Times New Roman"/>
                  </a:rPr>
                  <a:t>Ármeghatározás</a:t>
                </a:r>
                <a:r>
                  <a:rPr b="0" lang="hu-HU" sz="2800" spc="-1" strike="noStrike">
                    <a:solidFill>
                      <a:srgbClr val="dddddd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dddddd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134440" y="3505320"/>
                <a:ext cx="39783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lvl="1" marL="457200">
                  <a:lnSpc>
                    <a:spcPct val="100000"/>
                  </a:lnSpc>
                  <a:spcBef>
                    <a:spcPts val="700"/>
                  </a:spcBef>
                  <a:buClr>
                    <a:srgbClr val="dddddd"/>
                  </a:buClr>
                  <a:buFont typeface="Times New Roman"/>
                  <a:buChar char="–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hu-HU" sz="2800" spc="-1" strike="noStrike">
                    <a:solidFill>
                      <a:srgbClr val="dddddd"/>
                    </a:solidFill>
                    <a:latin typeface="Times New Roman"/>
                  </a:rPr>
                  <a:t> </a:t>
                </a:r>
                <a:r>
                  <a:rPr b="0" i="1" lang="hu-HU" sz="2800" spc="-1" strike="noStrike">
                    <a:solidFill>
                      <a:srgbClr val="dddddd"/>
                    </a:solidFill>
                    <a:latin typeface="Times New Roman"/>
                  </a:rPr>
                  <a:t>Ár előzetes levezetése</a:t>
                </a:r>
                <a:endParaRPr b="0" lang="en-US" sz="2800" spc="-1" strike="noStrike">
                  <a:solidFill>
                    <a:srgbClr val="dddddd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133720" y="4495680"/>
                <a:ext cx="2895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lvl="1" marL="457200">
                  <a:lnSpc>
                    <a:spcPct val="100000"/>
                  </a:lnSpc>
                  <a:spcBef>
                    <a:spcPts val="700"/>
                  </a:spcBef>
                  <a:buClr>
                    <a:srgbClr val="dddddd"/>
                  </a:buClr>
                  <a:buFont typeface="Times New Roman"/>
                  <a:buChar char="–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2800" spc="-1" strike="noStrike">
                    <a:solidFill>
                      <a:srgbClr val="dddddd"/>
                    </a:solidFill>
                    <a:latin typeface="Times New Roman"/>
                  </a:rPr>
                  <a:t> </a:t>
                </a:r>
                <a:r>
                  <a:rPr b="0" lang="hu-HU" sz="2800" spc="-1" strike="noStrike">
                    <a:solidFill>
                      <a:srgbClr val="dddddd"/>
                    </a:solidFill>
                    <a:latin typeface="Times New Roman"/>
                  </a:rPr>
                  <a:t>Költségek</a:t>
                </a:r>
                <a:endParaRPr b="0" lang="en-US" sz="2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133720" y="2057400"/>
                <a:ext cx="3886200" cy="47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lvl="1" marL="457200">
                  <a:lnSpc>
                    <a:spcPct val="90000"/>
                  </a:lnSpc>
                  <a:spcBef>
                    <a:spcPts val="700"/>
                  </a:spcBef>
                  <a:buClr>
                    <a:srgbClr val="dddddd"/>
                  </a:buClr>
                  <a:buFont typeface="Times New Roman"/>
                  <a:buChar char="–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2800" spc="-1" strike="noStrike">
                    <a:solidFill>
                      <a:srgbClr val="dddddd"/>
                    </a:solidFill>
                    <a:latin typeface="Times New Roman"/>
                  </a:rPr>
                  <a:t> </a:t>
                </a:r>
                <a:r>
                  <a:rPr b="0" lang="hu-HU" sz="2800" spc="-1" strike="noStrike">
                    <a:solidFill>
                      <a:srgbClr val="dddddd"/>
                    </a:solidFill>
                    <a:latin typeface="Times New Roman"/>
                  </a:rPr>
                  <a:t>Termék definíciója</a:t>
                </a:r>
                <a:endParaRPr b="0" lang="en-US" sz="2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zigethy Balázs, TDK Konferenc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AE5E-3DE7-4275-AB1A-5A4BD8A8D24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.12.06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65c6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ffcc"/>
                </a:solidFill>
                <a:latin typeface="Times New Roman"/>
              </a:rPr>
              <a:t>Új módszer „COCO”-val</a:t>
            </a:r>
            <a:endParaRPr b="0" lang="en-US" sz="44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cc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dddddd"/>
                </a:solidFill>
                <a:latin typeface="Times New Roman"/>
              </a:rPr>
              <a:t>O</a:t>
            </a:r>
            <a:r>
              <a:rPr b="0" lang="hu-HU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lyan megoldás</a:t>
            </a:r>
            <a:r>
              <a:rPr b="0" lang="hu-HU" sz="3200" spc="-1" strike="noStrike">
                <a:solidFill>
                  <a:srgbClr val="dddddd"/>
                </a:solidFill>
                <a:latin typeface="Times New Roman"/>
              </a:rPr>
              <a:t>,</a:t>
            </a:r>
            <a:r>
              <a:rPr b="0" lang="hu-HU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hu-HU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hu-HU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mely a piacon lévő termékek</a:t>
            </a:r>
            <a:r>
              <a:rPr b="0" lang="hu-HU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hu-HU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eltartalmi adataihoz, áraihoz hasonlítva az új terméket, objektív (online) levezetés keretében határozza meg a várható átlagos árat.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Ezzel jelentős mértékben felgyorsítva, költség- és kockázat-mentesítve a bevezetés körüli folyamatokat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zigethy Balázs, TDK Konferenc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1467-F834-42CA-975C-D5B191B20AB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.12.06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65c6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10920" y="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ffcc"/>
                </a:solidFill>
                <a:latin typeface="Times New Roman"/>
              </a:rPr>
              <a:t>Ásványvíz definíció</a:t>
            </a:r>
            <a:endParaRPr b="0" lang="en-US" sz="44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0920" y="1628640"/>
            <a:ext cx="3622680" cy="130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cc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dddddd"/>
                </a:solidFill>
                <a:latin typeface="Times New Roman"/>
              </a:rPr>
              <a:t>Tolnai Világlexikona (1926) szerint:</a:t>
            </a:r>
            <a:r>
              <a:rPr b="0" lang="hu-HU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hu-HU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6145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hu-HU" sz="16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27640" y="1628640"/>
            <a:ext cx="0" cy="4032360"/>
          </a:xfrm>
          <a:prstGeom prst="line">
            <a:avLst/>
          </a:prstGeom>
          <a:ln cap="sq"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1484280"/>
            <a:ext cx="457200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65/2004. (IV. 27.) FVM-ESZCSM-GKM</a:t>
            </a:r>
            <a:r>
              <a:rPr b="0" lang="hu-HU" sz="2600" spc="-1" strike="noStrike">
                <a:solidFill>
                  <a:srgbClr val="dddddd"/>
                </a:solidFill>
                <a:latin typeface="Times New Roman"/>
              </a:rPr>
              <a:t>*</a:t>
            </a:r>
            <a:r>
              <a:rPr b="0" lang="hu-HU" sz="2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együttes rendelet</a:t>
            </a:r>
            <a:r>
              <a:rPr b="0" lang="hu-HU" sz="2600" spc="-1" strike="noStrike">
                <a:solidFill>
                  <a:srgbClr val="dddddd"/>
                </a:solidFill>
                <a:latin typeface="Times New Roman"/>
              </a:rPr>
              <a:t> 2. </a:t>
            </a:r>
            <a:r>
              <a:rPr b="0" lang="hu-HU" sz="2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§</a:t>
            </a:r>
            <a:endParaRPr b="0" lang="en-US" sz="2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5280" y="3068640"/>
            <a:ext cx="3960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dddddd"/>
                </a:solidFill>
                <a:latin typeface="Times New Roman"/>
              </a:rPr>
              <a:t>„</a:t>
            </a:r>
            <a:r>
              <a:rPr b="0" lang="hu-HU" sz="2000" spc="-1" strike="noStrike">
                <a:solidFill>
                  <a:srgbClr val="dddddd"/>
                </a:solidFill>
                <a:latin typeface="Times New Roman"/>
              </a:rPr>
              <a:t>Azokat a forrásvizeket, melyek a bennük feloldott szilárd vagy gáznemű alkotórészeknél vagy nagyobb melegségüknél fogva a beteg szervezetre gyógyítón hatnak, ásványvizeknek mondjuk.”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752480" y="5867280"/>
            <a:ext cx="6858000" cy="631440"/>
            <a:chOff x="1752480" y="5867280"/>
            <a:chExt cx="6858000" cy="631440"/>
          </a:xfrm>
        </p:grpSpPr>
        <p:sp>
          <p:nvSpPr>
            <p:cNvPr id="125" name=""/>
            <p:cNvSpPr/>
            <p:nvPr/>
          </p:nvSpPr>
          <p:spPr>
            <a:xfrm>
              <a:off x="1763280" y="5867280"/>
              <a:ext cx="66715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u-HU" sz="1600" spc="-1" strike="noStrike">
                  <a:solidFill>
                    <a:srgbClr val="dddddd"/>
                  </a:solidFill>
                  <a:latin typeface="Times New Roman"/>
                </a:rPr>
                <a:t>* </a:t>
              </a:r>
              <a:r>
                <a:rPr b="0" i="1" lang="hu-HU" sz="16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A földművelésügyi és vidékfejlesztési miniszter, az egészségügyi, szociális</a:t>
              </a:r>
              <a:r>
                <a:rPr b="0" i="1" lang="hu-HU" sz="1600" spc="-1" strike="noStrike">
                  <a:solidFill>
                    <a:srgbClr val="dddddd"/>
                  </a:solidFill>
                  <a:latin typeface="Times New Roman"/>
                </a:rPr>
                <a:t> </a:t>
              </a:r>
              <a:r>
                <a:rPr b="0" i="1" lang="hu-HU" sz="16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és</a:t>
              </a:r>
              <a:endParaRPr b="0" lang="en-US" sz="1600" spc="-1" strike="noStrike">
                <a:solidFill>
                  <a:srgbClr val="dddddd"/>
                </a:solidFill>
                <a:latin typeface="Times New Roman"/>
              </a:endParaRPr>
            </a:p>
            <a:p>
              <a:pPr algn="just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u-HU" sz="1600" spc="-1" strike="noStrike">
                  <a:solidFill>
                    <a:srgbClr val="dddddd"/>
                  </a:solidFill>
                  <a:latin typeface="Times New Roman"/>
                </a:rPr>
                <a:t> </a:t>
              </a:r>
              <a:r>
                <a:rPr b="0" i="1" lang="hu-HU" sz="16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családügyi</a:t>
              </a:r>
              <a:r>
                <a:rPr b="0" i="1" lang="hu-HU" sz="1600" spc="-1" strike="noStrike">
                  <a:solidFill>
                    <a:srgbClr val="dddddd"/>
                  </a:solidFill>
                  <a:latin typeface="Times New Roman"/>
                </a:rPr>
                <a:t> </a:t>
              </a:r>
              <a:r>
                <a:rPr b="0" i="1" lang="hu-HU" sz="16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miniszter és a gazdasági és közlekedési miniszter</a:t>
              </a:r>
              <a:r>
                <a:rPr b="0" i="1" lang="hu-HU" sz="1600" spc="-1" strike="noStrike">
                  <a:solidFill>
                    <a:srgbClr val="dddddd"/>
                  </a:solidFill>
                  <a:latin typeface="Times New Roman"/>
                </a:rPr>
                <a:t> együttes rendelete</a:t>
              </a:r>
              <a:endParaRPr b="0" lang="en-US" sz="16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752480" y="5867280"/>
              <a:ext cx="6858000" cy="0"/>
            </a:xfrm>
            <a:prstGeom prst="line">
              <a:avLst/>
            </a:prstGeom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4565520" y="2995560"/>
            <a:ext cx="5618160" cy="2526480"/>
            <a:chOff x="4565520" y="2995560"/>
            <a:chExt cx="5618160" cy="2526480"/>
          </a:xfrm>
        </p:grpSpPr>
        <p:sp>
          <p:nvSpPr>
            <p:cNvPr id="128" name=""/>
            <p:cNvSpPr/>
            <p:nvPr/>
          </p:nvSpPr>
          <p:spPr>
            <a:xfrm>
              <a:off x="4565520" y="2995560"/>
              <a:ext cx="374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dddddd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dddddd"/>
                  </a:solidFill>
                  <a:latin typeface="Times New Roman"/>
                </a:rPr>
                <a:t> </a:t>
              </a:r>
              <a:r>
                <a:rPr b="0" lang="hu-HU" sz="20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Védett vízadó rétegből </a:t>
              </a:r>
              <a:r>
                <a:rPr b="0" lang="hu-HU" sz="2000" spc="-1" strike="noStrike">
                  <a:solidFill>
                    <a:srgbClr val="dddddd"/>
                  </a:solidFill>
                  <a:latin typeface="Times New Roman"/>
                </a:rPr>
                <a:t>származik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72000" y="3351240"/>
              <a:ext cx="396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dddddd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dddddd"/>
                  </a:solidFill>
                  <a:latin typeface="Times New Roman"/>
                </a:rPr>
                <a:t> </a:t>
              </a:r>
              <a:r>
                <a:rPr b="0" lang="hu-HU" sz="20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Eredendően szennyeződés mentes</a:t>
              </a:r>
              <a:r>
                <a:rPr b="0" lang="hu-HU" sz="2000" spc="-1" strike="noStrike">
                  <a:solidFill>
                    <a:srgbClr val="dddddd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72000" y="3732120"/>
              <a:ext cx="5334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dddddd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dddddd"/>
                  </a:solidFill>
                  <a:latin typeface="Times New Roman"/>
                </a:rPr>
                <a:t> </a:t>
              </a:r>
              <a:r>
                <a:rPr b="0" lang="hu-HU" sz="2000" spc="-1" strike="noStrike">
                  <a:solidFill>
                    <a:srgbClr val="dddddd"/>
                  </a:solidFill>
                  <a:latin typeface="Times New Roman"/>
                </a:rPr>
                <a:t>E</a:t>
              </a:r>
              <a:r>
                <a:rPr b="0" lang="hu-HU" sz="2000" spc="-1" strike="noStrike">
                  <a:solidFill>
                    <a:srgbClr val="dddddd"/>
                  </a:solidFill>
                  <a:latin typeface="Times New Roman"/>
                  <a:ea typeface="SimSun"/>
                </a:rPr>
                <a:t>gészségügyi szempontból előnyös </a:t>
              </a:r>
              <a:r>
                <a:rPr b="0" lang="hu-HU" sz="2000" spc="-1" strike="noStrike">
                  <a:solidFill>
                    <a:srgbClr val="dddddd"/>
                  </a:solidFill>
                  <a:latin typeface="Times New Roman"/>
                </a:rPr>
                <a:t>tulajdon</a:t>
              </a:r>
              <a:r>
                <a:rPr b="0" lang="hu-HU" sz="2000" spc="-1" strike="noStrike">
                  <a:solidFill>
                    <a:srgbClr val="dddddd"/>
                  </a:solidFill>
                  <a:latin typeface="Times New Roman"/>
                  <a:ea typeface="SimSun"/>
                </a:rPr>
                <a:t>ságokkal</a:t>
              </a:r>
              <a:r>
                <a:rPr b="0" lang="hu-HU" sz="2000" spc="-1" strike="noStrike">
                  <a:solidFill>
                    <a:srgbClr val="dddddd"/>
                  </a:solidFill>
                  <a:latin typeface="Times New Roman"/>
                </a:rPr>
                <a:t> </a:t>
              </a:r>
              <a:r>
                <a:rPr b="0" lang="hu-HU" sz="2000" spc="-1" strike="noStrike">
                  <a:solidFill>
                    <a:srgbClr val="dddddd"/>
                  </a:solidFill>
                  <a:latin typeface="Times New Roman"/>
                  <a:ea typeface="SimSun"/>
                </a:rPr>
                <a:t>rendelkezik</a:t>
              </a:r>
              <a:r>
                <a:rPr b="0" lang="hu-HU" sz="2000" spc="-1" strike="noStrike">
                  <a:solidFill>
                    <a:srgbClr val="dddddd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0" y="4437000"/>
              <a:ext cx="561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dddddd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dddddd"/>
                  </a:solidFill>
                  <a:latin typeface="Times New Roman"/>
                </a:rPr>
                <a:t> </a:t>
              </a:r>
              <a:r>
                <a:rPr b="0" lang="hu-HU" sz="2000" spc="-1" strike="noStrike">
                  <a:solidFill>
                    <a:srgbClr val="dddddd"/>
                  </a:solidFill>
                  <a:latin typeface="Times New Roman"/>
                </a:rPr>
                <a:t>Ö</a:t>
              </a:r>
              <a:r>
                <a:rPr b="0" lang="hu-HU" sz="20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sszetétele és hőmérséklete közel állandó</a:t>
              </a:r>
              <a:r>
                <a:rPr b="0" lang="hu-HU" sz="2000" spc="-1" strike="noStrike">
                  <a:solidFill>
                    <a:srgbClr val="dddddd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0" y="4818240"/>
              <a:ext cx="4248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dddddd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dddddd"/>
                  </a:solidFill>
                  <a:latin typeface="Times New Roman"/>
                </a:rPr>
                <a:t> </a:t>
              </a:r>
              <a:r>
                <a:rPr b="0" lang="hu-HU" sz="2000" spc="-1" strike="noStrike">
                  <a:solidFill>
                    <a:srgbClr val="dddddd"/>
                  </a:solidFill>
                  <a:latin typeface="Times New Roman"/>
                </a:rPr>
                <a:t>Beltartalmilag és mikrobiológiailag megfelel az előírásoknak 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zigethy Balázs, TDK Konferenc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81BF-F5E6-4DF2-ADF0-1929DF975D1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.12.06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65c6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ffcc"/>
                </a:solidFill>
                <a:latin typeface="Times New Roman"/>
              </a:rPr>
              <a:t>Aktualitások</a:t>
            </a:r>
            <a:endParaRPr b="0" lang="en-US" sz="44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7640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52280" y="1268280"/>
            <a:ext cx="9159840" cy="5257080"/>
            <a:chOff x="152280" y="1268280"/>
            <a:chExt cx="9159840" cy="5257080"/>
          </a:xfrm>
        </p:grpSpPr>
        <p:sp>
          <p:nvSpPr>
            <p:cNvPr id="136" name=""/>
            <p:cNvSpPr/>
            <p:nvPr/>
          </p:nvSpPr>
          <p:spPr>
            <a:xfrm>
              <a:off x="5486400" y="6065640"/>
              <a:ext cx="382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dddddd"/>
                  </a:solidFill>
                  <a:latin typeface="Times New Roman"/>
                </a:rPr>
                <a:t>Forrás: </a:t>
              </a:r>
              <a:r>
                <a:rPr b="0" lang="hu-HU" sz="1200" spc="-1" strike="noStrike">
                  <a:solidFill>
                    <a:srgbClr val="dddddd"/>
                  </a:solidFill>
                  <a:latin typeface="Times New Roman"/>
                  <a:ea typeface="SimSun"/>
                </a:rPr>
                <a:t>Magyar Ásványvíz Szövetség és Terméktanács</a:t>
              </a:r>
              <a:r>
                <a:rPr b="0" lang="hu-HU" sz="2400" spc="-1" strike="noStrike">
                  <a:solidFill>
                    <a:srgbClr val="dddddd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aphicFrame>
          <p:nvGraphicFramePr>
            <p:cNvPr id="137" name=""/>
            <p:cNvGraphicFramePr/>
            <p:nvPr/>
          </p:nvGraphicFramePr>
          <p:xfrm>
            <a:off x="152280" y="1268280"/>
            <a:ext cx="8848800" cy="49089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3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280" y="1268280"/>
                      <a:ext cx="8848800" cy="490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zigethy Balázs, TDK Konferenc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79F2-85A3-49D7-A0BF-B9130A1141B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.12.06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65c6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ccffcc"/>
                </a:solidFill>
                <a:latin typeface="Times New Roman"/>
              </a:rPr>
              <a:t>Alkoholmentes üdítőitalok piaca</a:t>
            </a:r>
            <a:endParaRPr b="0" lang="en-US" sz="40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895480" y="1523520"/>
            <a:ext cx="3810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dddddd"/>
                </a:solidFill>
                <a:latin typeface="Times New Roman"/>
              </a:rPr>
              <a:t>Szegmentumok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685800" y="4495680"/>
            <a:ext cx="3673440" cy="1968480"/>
            <a:chOff x="685800" y="4495680"/>
            <a:chExt cx="3673440" cy="1968480"/>
          </a:xfrm>
        </p:grpSpPr>
        <p:sp>
          <p:nvSpPr>
            <p:cNvPr id="142" name=""/>
            <p:cNvSpPr/>
            <p:nvPr/>
          </p:nvSpPr>
          <p:spPr>
            <a:xfrm>
              <a:off x="685800" y="4495680"/>
              <a:ext cx="313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 u="sng">
                  <a:solidFill>
                    <a:srgbClr val="dddddd"/>
                  </a:solidFill>
                  <a:uFillTx/>
                  <a:latin typeface="Times New Roman"/>
                </a:rPr>
                <a:t>- Szénsavas üdítőitalok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990720" y="4876920"/>
              <a:ext cx="313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dddddd"/>
                  </a:solidFill>
                  <a:latin typeface="Times New Roman"/>
                </a:rPr>
                <a:t>- Vezető íz a „Cola”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988560" y="5257800"/>
              <a:ext cx="273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dddddd"/>
                  </a:solidFill>
                  <a:latin typeface="Times New Roman"/>
                </a:rPr>
                <a:t>- 2002-ig vezető volt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90720" y="5638680"/>
              <a:ext cx="3368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dddddd"/>
                  </a:solidFill>
                  <a:latin typeface="Times New Roman"/>
                </a:rPr>
                <a:t>- Mérete 700 millió liter/év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85800" y="4495680"/>
              <a:ext cx="3429000" cy="1905120"/>
            </a:xfrm>
            <a:prstGeom prst="rect">
              <a:avLst/>
            </a:pr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4648320" y="4495680"/>
            <a:ext cx="3886200" cy="1905120"/>
            <a:chOff x="4648320" y="4495680"/>
            <a:chExt cx="3886200" cy="1905120"/>
          </a:xfrm>
        </p:grpSpPr>
        <p:sp>
          <p:nvSpPr>
            <p:cNvPr id="148" name=""/>
            <p:cNvSpPr/>
            <p:nvPr/>
          </p:nvSpPr>
          <p:spPr>
            <a:xfrm>
              <a:off x="4724280" y="4495680"/>
              <a:ext cx="268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 u="sng">
                  <a:solidFill>
                    <a:srgbClr val="dddddd"/>
                  </a:solidFill>
                  <a:uFillTx/>
                  <a:latin typeface="Times New Roman"/>
                </a:rPr>
                <a:t>- Gyümölcslevek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648320" y="4495680"/>
              <a:ext cx="3886200" cy="1905120"/>
            </a:xfrm>
            <a:prstGeom prst="rect">
              <a:avLst/>
            </a:pr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5520" y="4876920"/>
              <a:ext cx="313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dddddd"/>
                  </a:solidFill>
                  <a:latin typeface="Times New Roman"/>
                </a:rPr>
                <a:t>- 35 liter / év / fő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105520" y="5257800"/>
              <a:ext cx="313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dddddd"/>
                  </a:solidFill>
                  <a:latin typeface="Times New Roman"/>
                </a:rPr>
                <a:t>- Jelentős szegmentum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105520" y="563868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dddddd"/>
                  </a:solidFill>
                  <a:latin typeface="Times New Roman"/>
                </a:rPr>
                <a:t>- Piaci átrendeződés (EU)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2209680" y="2209680"/>
            <a:ext cx="5181840" cy="2133720"/>
            <a:chOff x="2209680" y="2209680"/>
            <a:chExt cx="5181840" cy="2133720"/>
          </a:xfrm>
        </p:grpSpPr>
        <p:sp>
          <p:nvSpPr>
            <p:cNvPr id="154" name=""/>
            <p:cNvSpPr/>
            <p:nvPr/>
          </p:nvSpPr>
          <p:spPr>
            <a:xfrm>
              <a:off x="2286000" y="2209680"/>
              <a:ext cx="321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 u="sng">
                  <a:solidFill>
                    <a:srgbClr val="dddddd"/>
                  </a:solidFill>
                  <a:uFillTx/>
                  <a:latin typeface="Times New Roman"/>
                </a:rPr>
                <a:t>- Ásványvizek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209680" y="2209680"/>
              <a:ext cx="4876920" cy="2133720"/>
            </a:xfrm>
            <a:prstGeom prst="rect">
              <a:avLst/>
            </a:pr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514600" y="2590920"/>
              <a:ext cx="457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dddddd"/>
                  </a:solidFill>
                  <a:latin typeface="Times New Roman"/>
                </a:rPr>
                <a:t>- 2007: 1 milliárd litert meghaladja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14600" y="3048120"/>
              <a:ext cx="313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dddddd"/>
                  </a:solidFill>
                  <a:latin typeface="Times New Roman"/>
                </a:rPr>
                <a:t>- Vezető szegmentum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514600" y="3505320"/>
              <a:ext cx="4876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dddddd"/>
                  </a:solidFill>
                  <a:latin typeface="Times New Roman"/>
                </a:rPr>
                <a:t>- Erős verseny (cca. 100 kút, 30-nál palackoznak is)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zigethy Balázs, TDK Konferenc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5897-3997-4911-AFF8-E972BB91EC8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.12.06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65c6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ffcc"/>
                </a:solidFill>
                <a:latin typeface="Times New Roman"/>
              </a:rPr>
              <a:t>Ásványvíz piac</a:t>
            </a:r>
            <a:endParaRPr b="0" lang="en-US" sz="44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000" y="1916280"/>
            <a:ext cx="39099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dddddd"/>
                </a:solidFill>
                <a:latin typeface="Times New Roman"/>
              </a:rPr>
              <a:t>Jellemzői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88000" y="1844640"/>
            <a:ext cx="390996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dddddd"/>
                </a:solidFill>
                <a:latin typeface="Times New Roman"/>
              </a:rPr>
              <a:t>Szerkezete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00720" y="1773360"/>
            <a:ext cx="0" cy="4392360"/>
          </a:xfrm>
          <a:prstGeom prst="line">
            <a:avLst/>
          </a:prstGeom>
          <a:ln cap="sq"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76200" y="2657520"/>
            <a:ext cx="390852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dddddd"/>
                </a:solidFill>
                <a:latin typeface="Times New Roman"/>
              </a:rPr>
              <a:t>Dinamikusan növekszik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dddddd"/>
                </a:solidFill>
                <a:latin typeface="Times New Roman"/>
              </a:rPr>
              <a:t>Piac folyamatos felosztódás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dddddd"/>
                </a:solidFill>
                <a:latin typeface="Times New Roman"/>
              </a:rPr>
              <a:t>Erős verseny (nagyszámú belépők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dddddd"/>
                </a:solidFill>
                <a:latin typeface="Times New Roman"/>
              </a:rPr>
              <a:t>Innováció kényszer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dddddd"/>
                </a:solidFill>
                <a:latin typeface="Times New Roman"/>
              </a:rPr>
              <a:t>Probléma: alacsony árrés, homogén termék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12400" y="2637000"/>
            <a:ext cx="358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dddddd"/>
                </a:solidFill>
                <a:latin typeface="Times New Roman"/>
              </a:rPr>
              <a:t>Kétpólusú piaci szerkezet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71680" y="3284640"/>
            <a:ext cx="23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ddddd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dddddd"/>
                </a:solidFill>
                <a:latin typeface="Times New Roman"/>
              </a:rPr>
              <a:t>Prémiumvizek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076720" y="4005360"/>
            <a:ext cx="31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dddd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dddddd"/>
                </a:solidFill>
                <a:latin typeface="Times New Roman"/>
              </a:rPr>
              <a:t>„</a:t>
            </a:r>
            <a:r>
              <a:rPr b="0" lang="hu-HU" sz="2400" spc="-1" strike="noStrike">
                <a:solidFill>
                  <a:srgbClr val="dddddd"/>
                </a:solidFill>
                <a:latin typeface="Times New Roman"/>
              </a:rPr>
              <a:t>Private Label” vagy saját márkás vizek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zigethy Balázs, TDK Konferenc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1194-4A1C-4B80-A1F1-0A83827719B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.12.06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65c6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ffcc"/>
                </a:solidFill>
                <a:latin typeface="Times New Roman"/>
              </a:rPr>
              <a:t>Piaci részesedések (2007)</a:t>
            </a:r>
            <a:endParaRPr b="0" lang="en-US" sz="4400" spc="-1" strike="noStrike">
              <a:solidFill>
                <a:srgbClr val="ccff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785960" y="16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666880" y="1600200"/>
          <a:ext cx="5572080" cy="3571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600200"/>
                    <a:ext cx="557208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5784840" y="5257800"/>
            <a:ext cx="324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dddddd"/>
                </a:solidFill>
                <a:latin typeface="Times New Roman"/>
              </a:rPr>
              <a:t>Forrás: saját ábrázolás, adatok MÁSZT-tól</a:t>
            </a:r>
            <a:endParaRPr b="0" lang="en-US" sz="1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zigethy Balázs, TDK Konferenc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29B0-FFC9-4EF1-B237-006BD80D9DE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.12.06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65c6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ffcc"/>
                </a:solidFill>
                <a:latin typeface="Times New Roman"/>
              </a:rPr>
              <a:t>Árkalkulációs módszerek</a:t>
            </a:r>
            <a:endParaRPr b="0" lang="en-US" sz="4400" spc="-1" strike="noStrike">
              <a:solidFill>
                <a:srgbClr val="ccffcc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674720" y="1752480"/>
            <a:ext cx="7357680" cy="459720"/>
            <a:chOff x="1674720" y="1752480"/>
            <a:chExt cx="7357680" cy="459720"/>
          </a:xfrm>
        </p:grpSpPr>
        <p:sp>
          <p:nvSpPr>
            <p:cNvPr id="174" name=""/>
            <p:cNvSpPr/>
            <p:nvPr/>
          </p:nvSpPr>
          <p:spPr>
            <a:xfrm>
              <a:off x="1674720" y="1752480"/>
              <a:ext cx="311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dddddd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dddddd"/>
                  </a:solidFill>
                  <a:latin typeface="Times New Roman"/>
                </a:rPr>
                <a:t> </a:t>
              </a:r>
              <a:r>
                <a:rPr b="0" lang="hu-HU" sz="2400" spc="-1" strike="noStrike">
                  <a:solidFill>
                    <a:srgbClr val="dddddd"/>
                  </a:solidFill>
                  <a:latin typeface="Times New Roman"/>
                </a:rPr>
                <a:t>Költségalapú árképzés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253480" y="1752480"/>
              <a:ext cx="377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dddddd"/>
                  </a:solidFill>
                  <a:latin typeface="Times New Roman"/>
                </a:rPr>
                <a:t>„</a:t>
              </a:r>
              <a:r>
                <a:rPr b="0" lang="hu-HU" sz="2400" spc="-1" strike="noStrike">
                  <a:solidFill>
                    <a:srgbClr val="dddddd"/>
                  </a:solidFill>
                  <a:latin typeface="Times New Roman"/>
                </a:rPr>
                <a:t>Teljes költség + haszon” elv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952880" y="1981080"/>
              <a:ext cx="228600" cy="0"/>
            </a:xfrm>
            <a:prstGeom prst="line">
              <a:avLst/>
            </a:prstGeom>
            <a:ln cap="sq" w="12600">
              <a:solidFill>
                <a:srgbClr val="dddddd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205740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672920" y="2936880"/>
            <a:ext cx="7166160" cy="825480"/>
            <a:chOff x="1672920" y="2936880"/>
            <a:chExt cx="7166160" cy="825480"/>
          </a:xfrm>
        </p:grpSpPr>
        <p:sp>
          <p:nvSpPr>
            <p:cNvPr id="179" name=""/>
            <p:cNvSpPr/>
            <p:nvPr/>
          </p:nvSpPr>
          <p:spPr>
            <a:xfrm>
              <a:off x="1672920" y="2971800"/>
              <a:ext cx="300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dddddd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dddddd"/>
                  </a:solidFill>
                  <a:latin typeface="Times New Roman"/>
                </a:rPr>
                <a:t> </a:t>
              </a:r>
              <a:r>
                <a:rPr b="0" lang="hu-HU" sz="2400" spc="-1" strike="noStrike">
                  <a:solidFill>
                    <a:srgbClr val="dddddd"/>
                  </a:solidFill>
                  <a:latin typeface="Times New Roman"/>
                </a:rPr>
                <a:t>Piacvezérelt árképzés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952880" y="3200400"/>
              <a:ext cx="228600" cy="0"/>
            </a:xfrm>
            <a:prstGeom prst="line">
              <a:avLst/>
            </a:prstGeom>
            <a:ln cap="sq" w="12600">
              <a:solidFill>
                <a:srgbClr val="dddddd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18280" y="2936880"/>
              <a:ext cx="3520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dddddd"/>
                  </a:solidFill>
                  <a:latin typeface="Times New Roman"/>
                </a:rPr>
                <a:t>Domináns cég ármozgását követik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1658520" y="4156200"/>
            <a:ext cx="6746400" cy="535680"/>
            <a:chOff x="1658520" y="4156200"/>
            <a:chExt cx="6746400" cy="535680"/>
          </a:xfrm>
        </p:grpSpPr>
        <p:sp>
          <p:nvSpPr>
            <p:cNvPr id="183" name=""/>
            <p:cNvSpPr/>
            <p:nvPr/>
          </p:nvSpPr>
          <p:spPr>
            <a:xfrm>
              <a:off x="1658520" y="4156200"/>
              <a:ext cx="272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dddddd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dddddd"/>
                  </a:solidFill>
                  <a:latin typeface="Times New Roman"/>
                </a:rPr>
                <a:t> </a:t>
              </a:r>
              <a:r>
                <a:rPr b="0" lang="hu-HU" sz="2400" spc="-1" strike="noStrike">
                  <a:solidFill>
                    <a:srgbClr val="dddddd"/>
                  </a:solidFill>
                  <a:latin typeface="Times New Roman"/>
                </a:rPr>
                <a:t>Egyéb árkalkuláció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952880" y="4419720"/>
              <a:ext cx="228600" cy="0"/>
            </a:xfrm>
            <a:prstGeom prst="line">
              <a:avLst/>
            </a:prstGeom>
            <a:ln cap="sq" w="12600">
              <a:solidFill>
                <a:srgbClr val="dddddd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240160" y="4232160"/>
              <a:ext cx="316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dddddd"/>
                  </a:solidFill>
                  <a:latin typeface="Times New Roman"/>
                </a:rPr>
                <a:t>Van Westendrop modell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zigethy Balázs, TDK Konferenc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FB33-4DD6-4F75-A465-DE6A93ACBB1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.12.06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acher</cp:lastModifiedBy>
  <dcterms:modified xsi:type="dcterms:W3CDTF">2007-12-05T14:15:42Z</dcterms:modified>
  <cp:revision>55</cp:revision>
  <dc:subject/>
  <dc:title>Új termék bevezetése az ásványvíz piacra</dc:title>
</cp:coreProperties>
</file>