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BDC-2E42-413E-AE6D-68FF3E2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647-8F73-4118-BCB0-CA9416D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CB6-D7EE-4AE1-BAF5-D303BA32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7F4-D73E-45EC-BE43-7BA16C65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DC7-824F-432F-A63E-0B54B90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9D4-C902-4543-8E75-1FCF9BBB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596-1FB0-4413-B8CE-14CA0A1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A74-91ED-4C07-8B87-8C835E3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181-A22D-4BC5-8332-597A415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82F-9CC1-43BE-965C-50B6FF9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975-CC6F-477C-89B1-065F0E1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7CC-1095-457D-A5B1-5F97B8E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E6CB-6710-44DE-885B-4254A359EB7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l&#225;gium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ágium-kontr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t vagy több dokumentum egymással való összehasonlít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zövegdoboz 3"/>
          <p:cNvSpPr/>
          <p:nvPr/>
        </p:nvSpPr>
        <p:spPr>
          <a:xfrm>
            <a:off x="1357200" y="4786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rm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akirodalmi formai ellen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is 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akirodalmi bizonyíték kontro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séges hibafajtá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ált teljes eg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ált részleges eg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gozat elvetése + egyéb jogkövetke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cs hi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vábbítás a következő munkakör részé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6:09Z</dcterms:created>
  <dc:creator>LaCae</dc:creator>
  <dc:description/>
  <dc:language>en-US</dc:language>
  <cp:lastModifiedBy>LaCae</cp:lastModifiedBy>
  <dcterms:modified xsi:type="dcterms:W3CDTF">2008-04-11T14:56:37Z</dcterms:modified>
  <cp:revision>2</cp:revision>
  <dc:subject/>
  <dc:title>Plágium-kontroll</dc:title>
</cp:coreProperties>
</file>