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A16-C9E3-4D1E-8045-773DB4E3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5C8-1291-4D3E-BB85-24F678EA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C89-90A8-442A-B49B-BABD478C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149-3A98-4A01-9E95-063B9F59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722-7DAF-40CE-9206-5F601A3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E14-0645-4712-B113-2B0DFC9A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D58-1BDF-4444-9172-1D283102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447-5431-42D8-9662-4C4292A9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825-CDC0-4207-82A2-6679459D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005-8E15-415C-A2BE-34252D10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CF0-4F1A-4D3F-8E03-C2B48F2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67F-97B3-4AF2-B51F-709E26D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7FA9-1FF4-478D-9F22-2AA1C7C9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ommunikációs szakértő, aki azért felel, hogy a potenciális érintettek képben legyenek a folyamat a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munikációs szakértő jelenté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ügyfelek tájékoztatása a következők alapján: az 1. munkakörben az ügyfelek tájékoztatása pont részletes kifejté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 kell gondolni, hogy megkapják-e az ügyfelek a kész követelményrendsz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y csak a linkeket, hogy mit hol találna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valamelyik értékelési szintről visszadobják a dolgozatot akk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telező legyen-e a 2.-munkakör igénybevé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gy opcion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. bizonyos esetekben kötelező(durva hibáknál), más esetekben pedig opcion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érdeklődő személyek kérdéseire válaszad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ommunikáció szakértőnek az alábbi pont szerint értelmezhető a meghallga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gyfelek panaszai és egyéb problémáinak a meghallgatása és minél előbb ezekre megoldás megtalá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11:21Z</dcterms:created>
  <dc:creator>LaCae</dc:creator>
  <dc:description/>
  <dc:language>en-US</dc:language>
  <cp:lastModifiedBy>LaCae</cp:lastModifiedBy>
  <dcterms:modified xsi:type="dcterms:W3CDTF">2008-04-11T20:11:25Z</dcterms:modified>
  <cp:revision>1</cp:revision>
  <dc:subject/>
  <dc:title>Kommunikációs szakértő, aki azért felel, hogy a potenciális érintettek képben legyenek a folyamat alatt</dc:title>
</cp:coreProperties>
</file>