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FE18-8120-4D36-9BB5-34C51E92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658C-A934-4A24-B4DA-A0E16438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9E0A-8555-445D-99E1-874219AC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2C60-BB67-4FD7-9848-B5EE95CD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4A52-E2A1-4811-8932-A78C5C21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2AB4-76BE-43FA-BA8C-5CC30DF8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5139-22E5-4FF5-BD3C-C99DB22E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4273-24E5-4137-939B-A5D51422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55BA-C688-4F8F-AABD-36D31691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55D5-258A-41D6-B6E5-E0A8D5B1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A523-8F6A-4D16-A9FF-3B7AB1C9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3A6E-330B-434D-8B35-8DC94550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F275-45BE-4492-A928-71B0041A7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Kommunikációs szakértő, aki azért felel, hogy a potenciális érintettek képben legyenek a folyamat elő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i is legyen a cél valójába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ismerhető legy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olgozat célcsoport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várt hasznossá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ív azonosságok miként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kirodalom kritikai feldolgoz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lvállalt feladat miben lé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talmaznia kell a dolgozatnak önálló munk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olgozatnak rá kell vezetnie az alábbi értékelési pontko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 vagy mik a dolgozat központi kérdése vagy kérdése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 vagy kik a dolgozat célcsoportja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nyiben tekinthető vagy tekinthetők a központi kérdés vagy kérdésekre adott hallgatói válasz vagy válaszok a hallgató saját alkotásána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yen hasznosság várható el a kijelölt célcsoport esetében a dolgozat által preferált és egyéb, alternatív (szakirodalmi) megoldásai alapjá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ing (a lehetőség közzététe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 ehhez szükséges anyagi háttér jogi szabályozásának kezelé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rások  előteremté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rásokkal való elszámol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ráshiány esetén mi a teendő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z ügyfelek tájékoztatása az alábbiakró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yen díjat, eredményt, esetleg büntetést(a jogi cuccos be nem tartása esetén) lehet elérni v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ányan dolgozhatnak egy munká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általában milyen követelményeknek kell a dolgozatot megfeleltetn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táridő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isztik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dalomjegyzé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léklet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élcsoport helyes megválasztá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znossá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mmunikációs készsé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gen nyelve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yomonkövethetősé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yen eséllyel indulhatnak a fogyatékosok, milyen lehetőségek léteznek számuk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  jogosult alapesetben díjmentesen megírni a dolgozato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ki nem jogosult alapesetben díjmentességre annak mennyit kell fizetnie ér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enti két csoport milyen különeljárási díjakra számíth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Értesí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ba következése esetén a potenciális személy értesítése levélben, e-mail-ben, telefonon vagy esetleg szób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amilyen adat hiány esetén való szólás az előzőekben írt mó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ácsad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ülönböző formátumú tanácsadások, felvilágosítások ( mint például papíron történő vagy interneten, e-mail-ben ( elektronikus levél útján), televízióban, szóban történő felvilágosítások, tudósítás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érdeklődő személyek kérdéseire válaszad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ghallga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ommunikáció szakértőnek az alábbi pont szerint értelmezhető a meghallgatá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ügyfelek panaszai és egyéb problémáinak a meghallgatása és minél előbb ezekre megoldás megtalál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zultá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zakértőknek néha( főleg egy dologban való változásoknál) konzultációkat más néven megbeszéléseket szoktak tartani egy bizonyos témában ( annak változásaiban, bővítéseiben, problémáiban és ilyen dolgaib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50920" y="184464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munikációs szakértő jelenté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 a személy vagy illető kinek az a foglalkozása, hogy a potenciális érintetteket felvilágosítsa egy adott téma körön belül. Szakértő a saját témáján belül mindent tud, és segítséggel illetve tanácsadással szolgálhat a leginkáb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68000" y="162828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 dolgozatnak az alábbiakat kell tartalmazn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íml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zerzőt + címet kell tartalmaz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rtalomjegyzé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ejezetcímek az oldalszámok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vezeté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t felvázolni a téma jelentőségé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ivona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vezetés összefoglaló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rodalmi áttekintés, elméleti felvezetés, helyzetfelméré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t ismertetjük a témában korábban született megállapításo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yag és módsze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t kell bemutatni, hogy milyen anyagokból dolgoztunk a vizsgálat folyam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redménye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t leírni, hogy mire jutottu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övetkeztetések és javaslato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 kell írni, hogy mit tanácsolsz, illetve az eredményről levonható következtetés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Összefoglalá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őző részek tartalmának összefoglal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lléklete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 sorolhatóak azok az anyagok miket meg szeretne a dolgozat felmondója bemutatni, de nem célszerű azokat dolgozat közben bemutatn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plomadolgozatnak meg kell felelni a szak és a szakirány tudományterülete sajátosságainak, továbbá tartalmaznia kell a feldolgozott szakirodalom, valamint az alkalmazott vizsgálati módszer leírását, és a saját vizsgálatok eredményei alapján a téma érdemi feldolgozásá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plomamunka tükrözze a hallgató önálló állásfoglalását a vizsgált témakörb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mai követelmények tekintetében az alábbiakra kell oda figyelni szakmai dolgozatná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zakmai dolgozat általános tipográfiai jellemzőit (lapméret, szedéstükör, betűtípus és –betűméret stb.) a legtöbb esetben a befogadó intézmény, szervezet, szerkesztőség adja me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os a megfelelő tagoltsá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jezetcímek kapcsán az elfogadott/elvárt gyakorlat a többszintű decimális számozás alkalmazása (1. Fejezet; 1.1 Alfejezet stb.), így a szövegen belül az egyes fejezetekre könnyedén tudunk ezekkel hivatkoz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zakmai dolgozat egyik kulcseleme a hivatkozás. Hivatkozások által érintett elemek a következők: felhasznált szakirodalom, ábrák, táblázatok és egyenlet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erepelnie kell ábráknak és táblázatok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zeknél a következőket kell tenni: fel kell tüntetni az ábra vagy táblázat sorszámát, címét és forrás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os dolo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den felhasznált nem saját forrást irodalomként kell kezelni, és szerepeltetni kell az irodalomjegyzékben és erre a publikáció szövegében kell hivatkoz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lyószövegben történő hivatkozásnak az alapja, hogy szerző (általában a vezetéknév) és évszám szerint kell hivatkozni. Főbb esetei a következő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apeset, egy szerző által jegyzett mű: (Vezetéknév, Évszá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 egy szerzőnek több művére is hivatkozunk, melyek azonos évben születtek, az egyes műveket a, b, c… jelöléssel különítjük el: (Vezetéknév, Évszám/a), (Vezetéknév, Évszám/b) st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ét szerző esetén: (Vezetéknév_1 – Vezetéknév_2, Évszá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öbb szerző esetében: (Vezetéknév_1 et.al., Évszám) Az „et.al.” rövidítés az „és mások”, „és társai” kifejezésnek felel meg. Az irodalomjegyzékben ugyanakkor az összes szerzőt fel kell tüntet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erkesztővel rendelkező mű esetén: (Vezetéknév szerk., Évszám), illetve ha idegen nyelvű a mű: (Vezetéknév ed., Évszám), ahol az „ed.” az „editor” rövidíté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64216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 irodalomjegyzék-elemek kapcsán a következő információk adhatók me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zerző(k) vagy szerkesztő neve, általában a vezetéknév és a keresztnév első betű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rrás cí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kiadás helye (város) és é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kiadó vagy a közreadó szerve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öbb kötetes mű, illetve folyóirat esetén a kötet száma, illetve az évfolyam és a lapszá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rrás terjedelme (xxx p. – pagina – vagy xxx o. –oldal – formáb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a teljes mű egy részére hivatkozunk (pl. egy tanulmánykötet vagy folyóirat esetén), a teljes mű címét (In: a_mű_címe) és konkrét hivatkozott rész helyét (xxx-yyy. p.) is adjuk me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-line források esetén fontos a teljes(!) elérési út és a letöltés dátumának megad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orrások könnyebb beazonosíthatóságát szolgálhatja az, ha az irodalomjegyzékben sorszámozzuk a forrásokat és a folyó szövegben egy nem szó szerinti hosszabb gondolatsor végén az adott forrás sorszámát is leírjuk pl. szögletes zárójelbe zárva: [14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mai követelmények tekintetében az alábbiakra kell oda figyelni diploma dolgozatná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plomadolgozatnak mind tartalmi, mind helyesírási, alaki és stilisztikai szempontból kifogástalannak, betűelütés mentesnek kell lennie, amelyet A/4-es papíron, szövegszerkesztővel írva (13-14-es betűméret, baloldalon (kötésoldalon) 3 cm-es, a többi szélein 2,5 cm-es margó, normál sortávolság, sorkizárás) két példányban fekete műbőrben bekötve kell elkészíten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ő fejezeteknek új oldalon kell kezdődniü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ímek, alcímek betűiről (nagy és kis betűk, betűméret), esetleges aláhúzásából vagy vastagításából és a sorban való elhelyezéséből (középre, oldalt) tűnjön ki azok fontossága, és azok az egész dolgozatban következetesek, decimális számozásúak legyen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zövegben lévő címek előtt és után – azok fontosságától függően, a jobb áttekinthetőség végett – üres sort kell kihagyn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plomadolgozat terjedelme – szóközök nélkül – 70-140 ezer, a szakdolgozat terjedelme – szóközök nélkül – 50-100 ezer karakter lehet, amelybe a szövegközi táblázatok és ábrák is beletartozna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plomadolgozat végén mellékletben alaptáblázatok és egyéb, a dolgozat eredményeinek megértéséhez tartozó adatok, információk közölhetőe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plomadolgozat kötelező függelékei az esetleges mellékletek után következn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22:36:18Z</dcterms:created>
  <dc:creator>Bogyay Gábor</dc:creator>
  <dc:description/>
  <dc:language>en-US</dc:language>
  <cp:lastModifiedBy>LaCae</cp:lastModifiedBy>
  <dcterms:modified xsi:type="dcterms:W3CDTF">2008-04-11T20:54:45Z</dcterms:modified>
  <cp:revision>12</cp:revision>
  <dc:subject/>
  <dc:title>Kommunikációs szakértő, aki azért felel, hogy a potenciális érintettek képben legyenek a folyamat előtt, és folyamat alatt</dc:title>
</cp:coreProperties>
</file>