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0BD-FA1A-4FAE-BF12-F12D8B3F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206-7DA7-4394-BAEB-00D2FB8B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DA3-2B5C-4FEC-9C07-4593BD09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8BE-608C-4EA7-930B-B32778B2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2EE-5D43-43C6-9C86-23CAB4BB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853-569B-4193-877A-3F548F1C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76F-17E5-4048-A662-0876237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835-BD66-4C2E-828D-A66844E0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BF5-CD83-4D05-873E-D6203D0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C7E-AD8D-47CC-B581-CE22DF5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421-7EAA-49C0-A825-484FA90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CF7-E8B5-463C-B337-28E844DB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716-D5F6-44DB-941C-8BF3A70F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YEN JOGOKKAL KINEK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bbe0e3"/>
                </a:solidFill>
                <a:latin typeface="Arial"/>
              </a:rPr>
              <a:t>Pdf-konverzi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az a PD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le Document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z Adobe Systems által kifejlesztett bináris fájlformátum. Ebben a formátumban dokumentumok tárolhatók, amelyek különböző szoftverekkel, hardverekkel és operációs rendszerekkel olvashatók és létrehozhatók. A PDF alkalmas szöveget, ábrát és képeket tartalmazó dokumentum leírására eszközfüggetlen és felbontásfüggetlen formában. A dokumentum lehet egyoldalas, és több ezer oldalas is, egyszerű vagy összetett: sokféle betűtípussal, ábrával, színnel és képpel, továbbá tartalmazhat interaktív beviteli mezőket, nyomógombokat stb., lehetőséget teremtve arra, hogy üres űrlapokat hozzunk létre, amit a felhasználók később elektronikus formában is ki tudnak tölte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ért kell TDK-t PDF-b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DF formátummal a bevitt szakdolgozat vagy egyéb írásos anyag könyvszerű formában tárolható, olvasható, de nem módosítható és látványosabb formájú. Segítségével dokumentumunkat kulturáltabb formában tárhatjuk a világ elé, és egyben megakadályozzuk, hogy illetéktelenek módosíthassák azt. Jelszóval való védelmére is lehetőségünk van, így megtekintetni is csak az illetékesek tudjá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 a jogokat illet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zakdolgozatba való betekintésbe legfőbb joga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a szerzőn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és annak, akinek a szerző szá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 érdekünkben áll, hogy más ne férjen hozzá a jelszóval való titkosítást célszerű használ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llékesen jegyezném meg, hogy a jelszóval való védelem egy módja a szellemi termék írásos részének bevédésére is. Ez áruba is bocsátható. Ilyen esetben az állomány ingyenesen letölthető és csupán a kulcsért kell fizet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zerző felhatalmazhat külső embereket is a dokumentum megtekintésére, ilyen lehe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a korrek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a kritik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egy segít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egy érdeklőd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jelenési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észetesen lehetőségünk van a munka kinyomtatására is, így könyvként kezelhetjük azt. Ez az off-line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formában szükség van egy számítógépre és egy pdf-et kezelő alkalmazása, amilyen pl. az Acrobat Rea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ális esetben a szerző on-line és off-line formában is elérhetővé teszi anyag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17:29Z</dcterms:created>
  <dc:creator>PGab</dc:creator>
  <dc:description/>
  <dc:language>en-US</dc:language>
  <cp:lastModifiedBy>LaCae</cp:lastModifiedBy>
  <dcterms:modified xsi:type="dcterms:W3CDTF">2008-04-11T21:00:42Z</dcterms:modified>
  <cp:revision>12</cp:revision>
  <dc:subject/>
  <dc:title>27. Pdf-konverzió</dc:title>
</cp:coreProperties>
</file>