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2C903-60DD-4BE8-8991-5DEC103A1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0918F-0D65-40AB-BF4B-074C20CA8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2984B-CDBF-47DD-9A9A-2890627F6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695E7-B96B-43F2-84C5-6D7166C75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B700-BB15-4D00-AD13-B9A6DD366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2BDF2-24AC-498A-A4EE-9A0A228C2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E0694-FCF8-4819-BBFF-B75724BD2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4C16-09E6-484C-B827-ACEC9502A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B186E-B628-4051-A036-2FE8FB579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AADF-6907-4B4C-8C9F-554278BB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08B8-B681-4AF8-89EE-D850CFB78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D0D9-01FB-4A71-ABBA-CD6ADC80F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027B-945E-42C5-A543-3701F585223D}"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Korrektúra-ellenőr</a:t>
            </a:r>
            <a:endParaRPr b="0" lang="en-US" sz="5500" spc="-1" strike="noStrike">
              <a:solidFill>
                <a:srgbClr val="000000"/>
              </a:solidFill>
              <a:latin typeface="Arial"/>
            </a:endParaRPr>
          </a:p>
        </p:txBody>
      </p:sp>
      <p:sp>
        <p:nvSpPr>
          <p:cNvPr id="42" name="PlaceHolder 2"/>
          <p:cNvSpPr>
            <a:spLocks noGrp="1"/>
          </p:cNvSpPr>
          <p:nvPr>
            <p:ph type="subTitle"/>
          </p:nvPr>
        </p:nvSpPr>
        <p:spPr>
          <a:xfrm>
            <a:off x="722160" y="3684600"/>
            <a:ext cx="7772400" cy="2030400"/>
          </a:xfrm>
          <a:prstGeom prst="rect">
            <a:avLst/>
          </a:prstGeom>
          <a:noFill/>
          <a:ln w="0">
            <a:noFill/>
          </a:ln>
        </p:spPr>
        <p:txBody>
          <a:bodyPr lIns="182880" rIns="90000" tIns="0" bIns="4680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9766f"/>
                </a:solidFill>
                <a:latin typeface="Arial"/>
              </a:rPr>
              <a:t>A korrektor munkája annyiban különbözik a szerkesztőétől, hogy ő a szövegen tartalmi javításokat már nem tehet, kizárólag a szerkesztő által észre nem vett nyelvhelyességi, helyesírási hibákat, a szedés vagy a számítógépes rögzítés során keletkezett elgépelési hibákat javíthatja, és a fent felsorolt egységesítési feladatokat hajthatja végre. Ha tartalmi hibát, tévedést, következetlenséget észlel, arra fel kell hívnia a szerző figyelmé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i fontos ilyenkor…</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182880" rIns="90000" tIns="91440" bIns="46800" anchor="t">
            <a:normAutofit fontScale="93000"/>
          </a:bodyPr>
          <a:p>
            <a:pPr marL="318960" indent="-31896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yesírási hiba</a:t>
            </a:r>
            <a:endParaRPr b="0" lang="en-US" sz="3000" spc="-1" strike="noStrike">
              <a:solidFill>
                <a:srgbClr val="000000"/>
              </a:solidFill>
              <a:latin typeface="Arial"/>
            </a:endParaRPr>
          </a:p>
          <a:p>
            <a:pPr marL="318960" indent="-31896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sszők</a:t>
            </a:r>
            <a:endParaRPr b="0" lang="en-US" sz="3000" spc="-1" strike="noStrike">
              <a:solidFill>
                <a:srgbClr val="000000"/>
              </a:solidFill>
              <a:latin typeface="Arial"/>
            </a:endParaRPr>
          </a:p>
          <a:p>
            <a:pPr marL="318960" indent="-31896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kezetek</a:t>
            </a:r>
            <a:endParaRPr b="0" lang="en-US" sz="3000" spc="-1" strike="noStrike">
              <a:solidFill>
                <a:srgbClr val="000000"/>
              </a:solidFill>
              <a:latin typeface="Arial"/>
            </a:endParaRPr>
          </a:p>
          <a:p>
            <a:pPr marL="318960" indent="-31896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zóközök</a:t>
            </a:r>
            <a:endParaRPr b="0" lang="en-US" sz="3000" spc="-1" strike="noStrike">
              <a:solidFill>
                <a:srgbClr val="000000"/>
              </a:solidFill>
              <a:latin typeface="Arial"/>
            </a:endParaRPr>
          </a:p>
          <a:p>
            <a:pPr marL="318960" indent="-31896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írás</a:t>
            </a:r>
            <a:endParaRPr b="0" lang="en-US" sz="3000" spc="-1" strike="noStrike">
              <a:solidFill>
                <a:srgbClr val="000000"/>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yesírási hiba</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lIns="182880" rIns="90000" tIns="91440" bIns="46800" anchor="t">
            <a:normAutofit fontScale="98000"/>
          </a:bodyPr>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korrektor egyik legfőbb feladata, hogy tüzetesen átolvassa az adott szöveget, ha kell többször is. Ugyan az MS Word-ben szerkesztett szövegekben a program aláhúzza a hibás szavakat, de ez nem megbízható teljes mértékben. </a:t>
            </a:r>
            <a:endParaRPr b="0" lang="en-US" sz="3000" spc="-1" strike="noStrike">
              <a:solidFill>
                <a:srgbClr val="000000"/>
              </a:solidFill>
              <a:latin typeface="Arial"/>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ökéletes javításhoz ezért legalább egyszer el kell olvasni az egész szöveget és kijavítani a helyesírási hibákat, ide értve a „j” és „ly”-t, a tulajdonneveket, a nagybetűs-kisbetűs hibákat és a többi nyelvtani szabályt megszegő szó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sszők</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lIns="182880" rIns="90000" tIns="91440" bIns="46800"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orrektorral szemben nem csak a nyelvtani tudás és annak tökéletes alkalmazása az elvárás, a vesszőket is tudnia kell megfelelően alkalmazni.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y-egy rossz helyre illesztett vessző ugyanis megváltoztathatja a mondat teljes jelentését és ezzel nagyobb gondot tud okozni, mint azt elsőre gondolnánk.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m árt azonban, ha odafigyel a vesszők esetén, mert lehet, hogy a szerző direkt rakott az adott helyre vesszőt és, noha vessző nélkül is értelmes a mondat, mégis annak törlése (vagy épp odahelyezése) a szerző mondandóját módosítja. Ezt pedig kerülni kel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kezetek</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182880" rIns="90000" tIns="9144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ékezeteket akár a helyesíráshoz is sorolhattam volna, ennek mégis külön jelentősége van. Az ékezeteket ritkán szokás lefelejteni, mégis előfordulhat és méretéből adódóan nehezebb észrevenni hiányát. Növeli a korrektor munkáját, ha a cikk vagy tanulmány angol billentyűzeten lett begépel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zóközök</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lIns="182880" rIns="90000" tIns="9144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óközök esetén azon evidens tényezőn túl, miszerint minden szót szóköz követ, fontos figyelni arra, hogy a mondat vége – pont, kérdőjel, felkiáltójel – után mindenképpen szóköz k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írások</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182880" rIns="90000" tIns="9144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t nem csak a félreütött billentyűkre kell gondolni, hanem a szerző által írt, de oda nem illő szavakra is. Ilyen esetben viszont a legtöbb esetben ki kell kérni a szerző véleményét a javítást illető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övethető-e a dolgozat finomodásának folyamata kívülállók számára?</a:t>
            </a:r>
            <a:endParaRPr b="0" lang="en-US" sz="28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182880" rIns="90000" tIns="91440" bIns="46800" anchor="t">
            <a:normAutofit fontScale="99000"/>
          </a:bodyPr>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gy követhető-e a folyamat egy kívülálló számára csakis a korrektoron múlik. </a:t>
            </a:r>
            <a:endParaRPr b="0" lang="en-US" sz="2600" spc="-1" strike="noStrike">
              <a:solidFill>
                <a:srgbClr val="000000"/>
              </a:solidFill>
              <a:latin typeface="Arial"/>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ét esetben lehet követhetővé tenni:</a:t>
            </a:r>
            <a:endParaRPr b="0" lang="en-US" sz="2600" spc="-1" strike="noStrike">
              <a:solidFill>
                <a:srgbClr val="000000"/>
              </a:solidFill>
              <a:latin typeface="Arial"/>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ha nem egy menetben történik a javítás és a korrektor minden szünetben feltölti pl. weboldalára a javított, de még el nem készült teljes szöveget</a:t>
            </a:r>
            <a:endParaRPr b="0" lang="en-US" sz="2600" spc="-1" strike="noStrike">
              <a:solidFill>
                <a:srgbClr val="000000"/>
              </a:solidFill>
              <a:latin typeface="Arial"/>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ha olyan programmal történik a szerkesztés, melybe bizonyos engedéllyel betekintést nyerhetünk. Hasonló program az MS Office Groove, mellyel interneten keresztül több felhasználó egy adott munkán egyidejűleg dolgozhat. Ennek egy korlátozott, szimplex verziója lehet, ha csak egy ember dolgozhat és ennek adott szemlélője lehe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4:58:54Z</dcterms:created>
  <dc:creator>PGab</dc:creator>
  <dc:description/>
  <dc:language>en-US</dc:language>
  <cp:lastModifiedBy>LaCae</cp:lastModifiedBy>
  <dcterms:modified xsi:type="dcterms:W3CDTF">2008-04-11T20:59:52Z</dcterms:modified>
  <cp:revision>11</cp:revision>
  <dc:subject/>
  <dc:title>26. Korrektúra-ellenőr</dc:title>
</cp:coreProperties>
</file>