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368-10DE-41FA-A20D-50895064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941-2A50-4723-A9CE-67CD6808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437-9815-46CA-9D86-74EFCF95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6A5-1532-469D-A8AF-8B69642B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E3E-2607-4F59-9F05-E2CFB91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933-520A-4FE5-9EDA-01F5582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861-F96E-44D3-9A14-7941ACEB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EF5-22DD-465C-94A3-C2FAB69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2E5-6E04-4493-AE90-D610AB0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1CA-A605-44F2-9C8F-FDD091C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103-49F8-4235-9A3F-9B5118F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152-DA95-4565-880E-F03E54B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4D77-606D-4CD2-9AD2-01CAA2F1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yomdai előkészt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177336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DK munkák készítésénél fontos állomás a nyomdai előkész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K munkáknál általában vannak bizonyos formai követelmények a leadás előtt mielőtt nyomdába kerül az anyag. A következő részei vann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dalmi áttekin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ag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edmény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vetkeztet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dalom jegyzé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árhuzamos munkakörök katalóg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7705800" cy="38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rmátum             átfutási id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émaválasztás konzultálás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omtatvány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3 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kirodalmi formai ellenőr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omtatv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3 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ágium-kontroll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omtatvány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3 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rrektura-ellenőr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omtatvány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3 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ogi kockázat-ellenőrzés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omtatv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 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ukturális ellenőrzés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omtatv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3 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ejezetek, alfejezetek, helyes irodalmi tagolás megvan e )     3 ó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edmények fogad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1640" y="2492280"/>
            <a:ext cx="712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omdába megérkeznek a dolgozat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igazolás a nyomda részé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omda elvégzi a szakmai munkállatok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Áttérés 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kező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elada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omdába küldés előtt meghatározzák, hogy külalakilag milyen legyen a TDK-dolgozat (tipográfiailg egyénre szabv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atalogiz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7048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ott dolgozatok a nyomdai leadás előtt katalogizálják így meggyorsítva a nyomdaipari munkálatot. A TDK dolgozatokat egyszerre adják le így megkönnyítik a nyomda dolgá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628640"/>
            <a:ext cx="6912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tte meg kell győzödni,hogy megfelelően és a A nyomdai leadás kívánalmainak eleget tesz e terjedelmileg is a dolgoza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hetséges hiba ha például nem a megfelelő betűtípust ,vagy nem a megadott elrendezésben készül a tdk dolgozat.  Hiba lehet a konzultáció során ha  a tartalom nem megfelelő . Ha nem a megfelelő információkat tartalmazza. Esetleg nem teljesen részletes.Iyenkor nem halad tovább a nyomdai előkészítő munkakörbe az anyag hanem visszakerül az előző munkakörhö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ssza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yomdából megtörténik a visszaigazolás hogy a dolgozattal kapcsolatban végrehajtották a szükséges nyomdaipari munkálat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eladatteljesítési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2565000"/>
            <a:ext cx="723276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tal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nkakörk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gozatk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érkeztek az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ad küldöt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redmény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á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kalmazott n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unkakör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gaz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yomdaipari munkálatok lezajlottak az előírásoknak megfelelően a dolgozat beadásra kés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5:17:55Z</dcterms:created>
  <dc:creator>xxx</dc:creator>
  <dc:description/>
  <dc:language>en-US</dc:language>
  <cp:lastModifiedBy>LaCae</cp:lastModifiedBy>
  <dcterms:modified xsi:type="dcterms:W3CDTF">2008-04-11T15:12:55Z</dcterms:modified>
  <cp:revision>8</cp:revision>
  <dc:subject/>
  <dc:title>Nyomdai előkészitő</dc:title>
</cp:coreProperties>
</file>