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9F6-21CB-4BD0-A4EC-8EE6C102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C4C-EE2B-4CD2-9056-6C0816C2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523E-18DE-44B2-A517-260897FF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0A6-F570-463F-9E36-64DF5F6E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8D42-62F6-49E3-82F7-1B1011AF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B77D-72A7-4029-BFAA-246EB1CC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6D13-473B-4882-8600-48272BF2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D08-BA60-4AEB-ADDF-F549F5FB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496-7FC0-4ED0-ADF1-DB5140C5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F03E-709D-4A63-B2B0-96636B5E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4053-8C02-4720-9D93-40545FCF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DFC4-7C8C-4A97-9813-3D604530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EE63-6E86-4EC3-9715-40C1442EDB4E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700280"/>
            <a:ext cx="73436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 Mellékletb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áblázatok, ábrá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yé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lyan dokumentumok szerepeltethetők, amelye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dolgozat mondanivalójának illusztrálásá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zolgálnak, de nem képezik a dolgozat érd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szé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lléklet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alszámozni nem k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zt végül is nem is fontos ellenőrizni, mert ha van van, ha nincs ninc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llékletek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rszámoz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lletve a dokumentum főszövegéb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vatkoz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ell feltüntet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 melléklet(ek)et az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odalomjegyzék utá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ómai számokkal jelölt oldal-számozással ellátva kell elhelyezn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476280"/>
            <a:ext cx="37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llékletekről általáb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00000" y="1125360"/>
            <a:ext cx="712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49360"/>
            <a:ext cx="7632720" cy="54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sődleges ellenőr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lléklet-e egyáltalá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beadott nyomtatván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ovábbi vizsgálódásra, elemzésre meh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yen típus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lléklet a beadott nyomtatván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X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on-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ülön elbírálás az egyes típusokná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8920" y="2204280"/>
            <a:ext cx="67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mai értékelés XLS melléklet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retek, fejlé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ndben vannak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 adat és mi n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ghatározott betűméret,     betűtípus stb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általános formai 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éplet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érvényesek e, megfelelőt használt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vatkoz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ós érték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z adatoknál, azok esetleges kiszűr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nkaköri igazo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kakörkó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0 (XLS), ill. 11(on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gozatkó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XLS/on-line nyomtatványok formai követelményeinek megfelelt/nem felelt meg és további értékelésre alkalmas/jelen formájában nem értékelhető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á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kakör vezető aláír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4:45:58Z</dcterms:created>
  <dc:creator>LaCae</dc:creator>
  <dc:description/>
  <dc:language>en-US</dc:language>
  <cp:lastModifiedBy>LaCae</cp:lastModifiedBy>
  <dcterms:modified xsi:type="dcterms:W3CDTF">2008-04-11T20:56:23Z</dcterms:modified>
  <cp:revision>3</cp:revision>
  <dc:subject/>
  <dc:title>1. dia</dc:title>
</cp:coreProperties>
</file>