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27D1-9274-4C98-B73B-8AAB62F91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F876-1E0A-42BF-96A2-3B7DF78B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C128-483B-4D67-B435-F6F16D319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01B8-50DD-471C-85AD-624371DE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27C3-84E3-4A6A-840C-7294E530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D124-341E-4EDD-B00E-1084BE85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7BF6-FF59-440A-9694-668C1AFD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AB45-C6C7-4A79-8000-72AC67BD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1EAA-2088-4EF3-9C0C-466ED8E8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189F-C929-4961-9795-28FAA837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BEDF-153A-43BD-9D97-CD41DD50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943D-768A-4C4B-A752-B4CF83A2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B436-7C00-4525-84E9-AF67261E6BBE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plomamunka és TDK készítése a hasznosság tükré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00000" y="3500280"/>
            <a:ext cx="64008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. Kiindulási helyzetek feltártságának ellenőrzése (vagyis lehet-e ennek alapján majd hasznosságról beszéln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. Hasznosság-kontroll (a kiindulási helyzethez képest javasoltak valóban üzletileg fenntarthatóak-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16000" y="213372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méleti és gyakorlati munkafázisokk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znosság a tanulmány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plomamunka témájának kiválasztásakor a legfontosabb, hogy az íróban körvonalazódjon,  a  munkája milyen gazdasági hasznot hajthat, ill. mely társadalmi csoportot érinth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író által megfogalmazott hasznosság egyrészt gazdaságilag fontos, másrészt a saját kutató munkáját könnyíti meg, ha előre tudja, melyeknek kell lenni a fő csapásirányoknak, melyekre a munka épülni fo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z adott témában már korábban elvégzett kutatások eredményeit felhasználó cégek megkeres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50240" y="1893240"/>
            <a:ext cx="7643520" cy="39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cégekkel történő kapcsolatfelvétel legcélszerűbb módja a személyes megkeresés a bizalmasabb információk és a pontosabb tájékozódás miat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gfontosabb kérdések a gazdasági hasznossággal kapcsolatb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állalat mely területén kerültek felhasználásra a tanulmány eredmény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nyibe került a beszerzése (nagyságrendile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 érzik hiányosnak, vagy hibásnak (indokláss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gvásárolnának-e egy precízebb, hiányosságok nélküli munká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 az adott témában még nem született munka, akkor arra a kérdésre, hogy mi lesz a diplomamunkában a hasznosság, a választ, a  szerzőnek a már említett módon tudni kell és ezzel olyan cégeket, vagy magánszemélyeket megkeresni, akik véleményünk szerint tudják hasznosítani változtatásokkal, vagy változatlan formában az elkészült munká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vázi piackutatást végzünk, hogy mekkora érdeklődés mutatkozik a leendő munkánk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Kiindulási helyzetek feltártságának ellenőrzése definíci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adott témakörben publikált munkák lekövetése a hasznosság és a benne rejlő még feltáratlan, vagy nem teljes egészében feltárt lehetőségek tükré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nkakör elő követelmények katalógu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2276640"/>
            <a:ext cx="83026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ommunikációs szakértő                               nyomtatvány                                      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zemélyazonosság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gállapítása                                                               okirat                                                  0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onzultációra való jogosultsá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gállapítása                                                             nyomtatvány                                       0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émaválasztás konzultálása 1. kör                nyomtatvány                                       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émaválasztás konzultálása 2. kör                nyomtatvány                                        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mai értékelés (DOC)                                 nyomtatvány                                      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mai értékelés (PPT)                                  nyomtatvány                                      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mai értékelés XLS                                     nyomtatvány                                      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mai értékelés on-line                                 nyomtatvány                                       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árhuzamosítható feladato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putjai közötti konfliktusok feloldása                      nyomtatvány                                        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zakirodalmi formai ellenőr                           nyomtatvány                                         2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ágium-kontroll                                             nyomtatvány                                        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ukturális ellenőrzés                                   nyomtatvány                                        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llébeszélés-kontroll                                   nyomtatvány                                        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zakirodalmi bizonyíték-kontroll                    nyomtatvány                                        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1628640"/>
            <a:ext cx="8569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nkakör megnevezése                              Formátum                     Átfutási idő(ó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nkakör elő követelmények katalógu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278100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1628640"/>
            <a:ext cx="813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unkakör megnevezése                         Formátum                  Átfutási idő(ó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249228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2708280"/>
            <a:ext cx="748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rrektura-ellenőr                             nyomtatvány             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tvagyon minőségének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enőrzése                                            nyomtatvány      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ódszertani ellenőrzés                         nyomtatvány                3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kálhatósági kontroll                 nyomtatvány           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ját következtetés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yessége                                            nyomtatvány      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élcsoport helyes kezelése                  nyomtatvány          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redmények fogadása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elő követelményként megállapított munkakörök outputjainak fogad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szajelzés a megérkezett eredményekről, amely egyben azt jelenti, hogy az adott munkakör átvette kompetenciája erejéig a dolgozat feletti felügyeletet A visszajelzés lehet pozitív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etve negatí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edmények fogadás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eredmények fogadása nevű munkafolyamat fogja kvázi tudatni az adatokat küldő munkakörrel (szükség esetén többel is), hogy a munkakörünk meg tudta kezdeni a munkát a kapott adatokkal. Ebben az esetben pozitív visszajelz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 az adatok egyszerűen nem érkeznek meg időre, akkor a visszajelzésünk negatí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 véleményünk szerint a kapott adatok hibásak, visszaküldjük az előző munkakörnek újbóli ellenőrzés céljá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edmények fogadása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 a kapott eredmények megfelelnek a további feldolgozás részére, akkor áttérés a következő munkafolyama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yakorlati lépéseleme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indulási helyzetek feltártságának ellenőrzése (vagyis lehet-e ennek alapján majd hasznosságról beszélni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 kiválasztott témakörről olyan információk ellenőrzése és gyűjtése mi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i-vagy kik végeztek kutatásokat, ill. hoztak létre szolgáltatásokat a leendő diplomamunkához kapcsolódó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kkora volumenű érdeklődés kísérte az eddigi kutatásokat (on-line folyóiratok, szakfolyóiratok, fórumo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lyen eredményekre jutott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blémafelvetés mely területeire nem születtek válaszok, illetve az adott válaszok, vagy szolgáltatás esetén szerintünk a valóságot nem igazán fedő eredményekre jutott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6:45:16Z</dcterms:created>
  <dc:creator>Palatinus Miklós</dc:creator>
  <dc:description/>
  <dc:language>en-US</dc:language>
  <cp:lastModifiedBy>LaCae</cp:lastModifiedBy>
  <dcterms:modified xsi:type="dcterms:W3CDTF">2008-04-11T20:58:18Z</dcterms:modified>
  <cp:revision>67</cp:revision>
  <dc:subject/>
  <dc:title>TDK</dc:title>
</cp:coreProperties>
</file>