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A03-780B-4089-A08F-0F6DCC50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986-771A-4B5A-AA2B-DA5C0F48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292-26B8-4280-BB58-AB7A42A3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327-FF57-4668-929D-E266FC2F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0064-744C-40D1-9F02-209A7B77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D85-38B6-4852-93E2-5A64AEBF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C7E-6C72-40CC-8CA5-CA8987D7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2A7-D7FA-4FC6-BDBC-89167A82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54A-1A87-48EF-A9C9-5D5871C3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2132-BEB7-4B54-84F6-4DA68E0B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339-4B79-4CF9-95D4-82727E15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D0D-3640-42B5-9824-69CAA447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AAD9-7CB6-4B77-831E-7210695EABF0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lgozat-közi kooperációk jogi kérdései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kooperáció olyan együttműködést jelent a hallgató számára, melyek segítik őt a dolgozat írása közb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 a hallgató dolgozatot kíván készíteni, akkor lehetősége van kooperációk kötésé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operációk jöhetnek létre hallgató-konzulens, hallgató-külső konzulens, valamint hallgató és hallgató közöt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zzá kell minden félnek járulnia a kooperáció létrejöttéhe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olgozat írás alatt folyamatos a kapcsolattartás a két fél közöt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konzultációk alkalmával kerülnek megfogalmazásra és megoldásra a felmerült problémá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ennyiben nincs belső konzulense a készítőnek, akkor külső konzulens aláírása szükség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operáció jöhet létre két hallgató között, melyben együttesen készítik el dolgozatukat és mutatják be a TDK-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ülső konzulens lehet például egy vállalat dolgozója, ki az adott témában jár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lgozat készítése során kell készíteni egy nyilatkozatokat konzulens részérő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onzulensi jogi nyilatkozatban, az alulírott konzulens jelenti ki azt, hogy az alulírott hallgató az ő irányítása révén készítette el az adott című dolgozatot és ajánlja ezt a Tudományos Diákköri Konferencián történő bemutatás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lgozat leadásának feltétele, hogy az előlapján fel kell tüntetni a konzulens adatait (név, beosztás, intézmény, intézet, osztály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4:57:11Z</dcterms:created>
  <dc:creator>bag</dc:creator>
  <dc:description/>
  <dc:language>en-US</dc:language>
  <cp:lastModifiedBy>LaCae</cp:lastModifiedBy>
  <dcterms:modified xsi:type="dcterms:W3CDTF">2008-04-11T21:01:05Z</dcterms:modified>
  <cp:revision>13</cp:revision>
  <dc:subject/>
  <dc:title>Szerzői jogdíjak kezelése </dc:title>
</cp:coreProperties>
</file>