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CC72-57B9-4893-A574-FCB7ADD92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FC2E-B82D-4A89-A8AF-C05D2CBC3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CA9B-6509-4984-AC23-8D5FB65B8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41B3-BFEC-44EB-A2C5-86BE4D24D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7552-5FC9-4784-B70F-C61D8700B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4C57-1BB9-4FA1-8A72-3EDEAE70E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0C2D-5023-4B9F-9576-BF73C1A93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851B-D7B1-46FA-91E1-AAC7601F8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12D3-4F83-4FEE-9D1A-4DFA8DF28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6D1C-16BE-47C7-9A97-56929E7CD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D075-C3D0-47B7-BEE2-5865E726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55ED-3785-44C8-B460-733C92731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813E3-5D5A-41FD-88F0-8B5867F92C6C}" type="slidenum">
              <a:rPr b="0" lang="nb-N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Statisztikára gyakorolt hat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Kezelés lebonyolítá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DK dolgozatok egységes elektronikus tárolás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Informatikai infrastruktúra kialakítá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özhozzáférés biztosítá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Megjegyz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Olyan rendszer kialakítása amely témakörök, vagy bármilyen tetszőleges szempont szerint tudná besorolni a leadott dolgozatok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21:28:23Z</dcterms:created>
  <dc:creator>Gyuri</dc:creator>
  <dc:description/>
  <dc:language>en-US</dc:language>
  <cp:lastModifiedBy>LaCae</cp:lastModifiedBy>
  <dcterms:modified xsi:type="dcterms:W3CDTF">2008-04-11T21:01:19Z</dcterms:modified>
  <cp:revision>2</cp:revision>
  <dc:subject/>
  <dc:title>Statisztikára gyakorolt hatás</dc:title>
</cp:coreProperties>
</file>