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FD2-60E5-4D43-963D-544575A8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635-8D43-4582-9B98-75C17BE9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DBB-B956-4BE6-BF04-E61A00C2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34B-8F67-4150-B369-7BB373A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040-48A5-44F2-8530-2372AE7E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8A9-C077-4DC1-B20C-9491C379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6E2-060B-4775-A215-19F043D3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3D5-410D-4553-8445-CBEEF2B6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F63-CBDD-403C-BC51-74CE825C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BEA-EED7-43B9-8F3D-0B6EEE0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3B5-FDF5-49D3-BCF6-C3E110EB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2AE-7DF5-4D07-9E6B-4500D95D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449A-C2F1-492E-B4AF-8E1C4D99B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a későbbi publikációkb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íci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 a későbbi publikációba létrehozott formatervezé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fogadá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árhuzamosan futó munkakörök outputjainak fog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szajelz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adat elvégzését követően igazolás kiállítása a Eredményt ellenőrző szám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ttérés a következő felada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adat megfelel e az adott formai és technikai követelmények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pt tükrözi-e az adott feladat lényeg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nyegretör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tekinthet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kus, jól követ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ját vélemé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séges hibá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megfelelő formá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esetleg nem nyitható meg a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yesí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pelési h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felel meg a formai követelmények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ttér ne ütközzön a betűszí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álljon túl sok diából (kb10d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ógok helyes haszn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atkozások megjelen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lgozat megfelel e a szabályzatban előírtaknak. 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en: továbbküldésre ker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: javításra kerül sor, vagy visszaküldés a hibázó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vábbkül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az értékelés nem talált hibát, akkor az eredményeket továbbküldi a következő munkafolyamath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56:05Z</dcterms:created>
  <dc:creator>VIOLA</dc:creator>
  <dc:description/>
  <dc:language>en-US</dc:language>
  <cp:lastModifiedBy>LaCae</cp:lastModifiedBy>
  <dcterms:modified xsi:type="dcterms:W3CDTF">2008-04-11T21:02:30Z</dcterms:modified>
  <cp:revision>10</cp:revision>
  <dc:subject/>
  <dc:title>Design a későbbi publikációkban </dc:title>
</cp:coreProperties>
</file>