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8BE-78F2-465D-A1F4-95F96583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870-F0F8-4E41-B08D-0D86937B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5A5-F169-4098-8C49-77AD0020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4E7-D92D-432A-9AAB-0EA1DC5E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5DF-7FA8-48B3-93F8-7D6A3276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BC1-2AF3-49A3-A906-465EA356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FAB-D338-48B5-AA67-170BF1C6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A51-46F0-4B8B-87AB-74A7F7F0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D83-91D2-44FA-8695-316C1D1D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D43-ABE7-41DD-8DE8-FE97276A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BF1-CBC6-4E9B-A1B0-E22E78D5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D4B-8553-4078-A2BC-B2AD7B6F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833C-351B-47C2-B14C-5716BD581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2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maválasztás konzultálása 1.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allgató év közben összesen legalább három alkalommal köteles a konzulenssel konzultálni a szakdolgozatáról, a hallgató által választott időpontokban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lső konzultációt a témaválasztáskor, a második konzultációt a szakirodalom áttanulmányozása után, a harmadik konzultációt pedig a dolgozat vázlatának elkészítését követően célszerű megtartan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onzulens a konzultációk során különö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 segítséget nyújt a hallgatónak a témához kapcsolódó szakirodalom és jogszabályanyag (forrásmunkák) összegyűjtéséhez, megismeréséhe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533520"/>
            <a:ext cx="8763120" cy="58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íti az összegyűjtött forrásmunkákból kiválasztani a témához kapcsolódó legjobb anyagokat, irányítja a szelekció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ácsot ad a bemutatott vázlat alapján a dolgozat szerkezetének kialakításáh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idolgozás során gyakorlati tapasztalatainak átadásával ösztönzi a hallgatót a problémafelvető és –megoldó, valamint az elemző munká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allgató által bemutatott nyers szakdolgozat alapján útbaigazítást ad az esetleges szükséges átdolgozáshoz, az elkövetett hibák kijavításáh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914400"/>
            <a:ext cx="8763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nyiben a hallgató nem veszi figyelembe a konzulens dolgozattal kapcsolatos formai észrevételeit, az oktató írásban rögzíti ennek tényét a szakdolgozati igazoló lap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akdolgozatot készítő hallgató (a konzulens kérése esetén) köteles egy bespirálozott példányt a konzulensnek adni a dolgozatából. Kéréstől függetlenül köteles azonban elektronikus formában is a szakdolgozat védését megelőzően azt benyújtani, melynek hiányában a védést nem kezdheti me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akdolgozat bírálója körülbelül egy oldal terjedelemben, az alábbi szempontok alapján értékeli a szakdolgozato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85800"/>
            <a:ext cx="8915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maválasztás megfelelősége (mennyiben illeszkedik a téma az egyetemi tananyagba, illetőleg mennyiben nyúlik túl azon. A szakdolgozatnak az egyetemi kötelező tananyagot jelentősen meghaladó mélységűnek kell lennie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olgozat szerkezete, belső arányai, logikája, az egyes részek tartalmi súlyuknak megfelelő mértékben kaptak-e helyet ben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olgozat stílus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akirodalom-feldolgozás mennyisége és minősége, az idegen nyelvű és internetes szakirodalom jelenléte és mélysé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29528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hivatkozási rendszer megfelelősége, etikusság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egyértelműen elhatárolhatók-e a más szerzőktől származó megállapítások, kutatási eredmények és a dolgozat szerzőjének megállapítás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eredeti, alkotó jellegű megállapítások, megindokolt de lege ferenda javaslato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a dolgozat külalakja, megfelel-e az előírt formának, mennyiségne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éb formai és tartalmi észrevétel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20:12:56Z</dcterms:created>
  <dc:creator>Kelemen Lilla</dc:creator>
  <dc:description/>
  <dc:language>en-US</dc:language>
  <cp:lastModifiedBy>LaCae</cp:lastModifiedBy>
  <dcterms:modified xsi:type="dcterms:W3CDTF">2008-04-11T20:55:13Z</dcterms:modified>
  <cp:revision>2</cp:revision>
  <dc:subject/>
  <dc:title>PowerPoint bemutató</dc:title>
</cp:coreProperties>
</file>