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459-96C9-4663-BC07-2ACE98F0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128-25B1-4619-9EC1-90CC8FF2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7B3-C609-4ABE-870F-3ED7649B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346-525F-4365-B336-34053D0B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5CF-8D97-4B31-838B-EC57A2D6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347-CBCF-436E-A4B2-CD8EA4A5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FAA-0A16-45CF-886F-516A76FF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69E-A528-4B2F-8F20-EFA3A4C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F0E-570C-40A6-AFBC-F87B822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2B0-97CA-4E89-B09A-2FC231E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DCD-C2AF-4751-8E65-4E04E88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8E0-708E-4D6E-9BA6-617DED0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2B7B-9996-4883-A83F-40AC4A40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S&#225;pi%20Andr&#225;s/Mire%20terjed%20ki%20a%20szerz&#337;i%20jogi%20v&#233;delem.doc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S&#225;pi%20Andr&#225;s/Hogyan%20t&#246;rt&#233;nik%20a%20jogd&#237;jak%20meg&#225;llap&#237;t&#225;sa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S&#225;pi%20Andr&#225;s/Mi%20a%20szerz&#337;i%20jogd&#237;j.doc" TargetMode="External"/><Relationship Id="rId2" Type="http://schemas.openxmlformats.org/officeDocument/2006/relationships/hyperlink" Target="file:///../S&#225;pi%20Andr&#225;s/Mit%20szab&#225;lyoz%20a%20szerz&#337;i%20jog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S&#225;pi%20Andr&#225;s/szerz&#337;i%20jogi%20v&#233;delem%20hat&#225;rai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S&#225;pi%20Andr&#225;s/Kire%20terjed%20ki%20a%20szerz&#337;i%20jogi%20v&#233;delem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zerzői jogdíjak kezelé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tételek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re terjed ki a szerzői jog védel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an az esetben ha egy dolgozat írásánál nem használunk fel más műveket, akkor a munkakör outputja az hogy nincsen szerzői jogdí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pedig az vitatott, hogy egy alkotás rendelkezik-e egyáltalán egyéni, eredeti jelleggel, akkor a bíróság döntése az irányadó. Az alkotás ebben az esetben kiterjed a dolgozatunkra valamint a külső forrásra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ismeretlen író alkotásából merítünk a dolgozat írása közben, akkor nincs szükség jogdíj kezelésé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bekerült a dolgozatba egy más alkotásokból származó említés (ismert író esetén) melyből információt merített a dolgozat írója akkor szerzői jogi védelem illeti meg az alkot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tételek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dig tart a szerzői jogi véde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erzői művek védelmi ideje a szerző életében és a halálát követő év első napjától számított hetven évig tart,ha ezt nincs e intervallum közt a a jogdíjak kezelése munkakör kihagyhat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 beadott dolgozatban tett említésekhez hozzájárul az író,akitől származnak akkor nyilvánosságra kerülhet a m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yilvánosságra kerülés és a hozzájárulás előtt még egy felhasználói szerződést kell kiállítani,melyben a szerző engedélyt ad művének a felhasználásá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tételek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gyan történik a jogdíjak megállapítás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 felhasználói szerződést megkötötték és az ellenértéket kifizették,akkor hozható nyilvánosságra a dolgoz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elhasználási szerződés megkötését követően jelentősen megnövekszik a dolgozat felhasználása iránti igény akkor a bíróság a szerző kérésére megfelelően módosíthatja (felemelheti) az eredeti díjazá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tételek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a jogdíjak kezelés megtörtént, akkor a dolgozat a következő munkafolyamatra kerülh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minden folyamat jogilag akadály mentesen zajlott le és az elkészült dolgozatban található egyéni eredeti „ötletet” kívánja valaki felhasználni, akkor ugyanaz a folyamat fog végigmenni a dolgozat írója és felhasználó személy között, mint ami a dolgozat írása közben zajl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kakör outpu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azolás, a továbblépés engedély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használói nyilatko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mlák a felhasználás térítési díjai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intettek kö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ső mű tulajdonos(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használó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íróság, mely akkor szerepel, ha vitatott az eredetiség és egyénisé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díj defin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 a szerzői jogdí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zerzői jogdíj, a mű felhasználására adott engedély ellenében a szerzőt megillető díjaz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t szabályoz a szerzői j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zerzői jogi védelem hatá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 szerzőt bármilyen módon megsértik, akkor az Szjt.-ben biztosított jogérvényesítési lehetőségekkel él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csak átdolgozásra, feldolgozásra vagy fordításra használnánk a művet már akkor is szerzői jogi védelem alatt áll, ha annak egyéni, eredeti jellege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valamely ötlet, elv, elgondolás, eljárás, működési módszer vagy matematikai műveletről beszélünk, az nem lehet tárgya a szerzői jogi védelem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rzői jog hatá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elhasználnak jogszabályokat, állami irányítás egyéb jogi eszközeit, a bírósági vagy hatósági határozatokat, hatósági vagy más hivatalos közleményeket és az ügyiratokat, valamint a jogszabállyal kötelezővé tett szabványokat és más hasonló rendelkezéseket akkor nem tartoznak a szerzői jogi védelem al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amint ha folklór kifejeződés elemeit tartalmazza a felhasználni kívánt mű, akkor az nem tartozik a szerzői jogi védelem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re terjed ki a szerzői jogi véde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több szerző közös művét kívánjuk felhasználni a dolgozatban (ha részei nem használhatók fel önállóan) akkor a szerzői jog a szerzőtársakat együttesen illeti meg egyenlő arány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több szerző közös művét kívánjuk felhasználni a dolgozatban melyben a közös mű részei egymástól elválaszthatók akkor minden szerző önállóan gyakorolhatja szerzői joga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rzői jog ala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egy gyűjtemény tartalmának összeválogatása, elrendezése vagy szerkesztése egyéni, eredeti jelleget ölt, akkor önálló szerzői műként részesül védelemben (gyűjteményes művek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haszn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lgozatunk írásánál egy mű felhasználásának minősül a többszörözés, a terjesztés, a nyilvános előadás joga, a nyilvánossághoz közvetítés sugárzással vagy másként, a sugárzott műnek az eredetihez képest más szervezet közbeiktatásával a nyilvánossághoz történő továbbközvetítése, az átdolgozás, valamint a kiállítás jo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yen jogok illetik meg a szerző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használ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rzői jogi értelemben felhasználó az, aki ha a művek, illetve szomszédos jogi teljesítmények felhasználására a szerzőtől vagy a szerzői jog más jogosultjától jogot szere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 tekint a szerzői jog felhasználón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használási szerz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yek a felhasználási szerződés tartalmi eleme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erződés megkötésekor ha az ellenérték megállapításakor nem arányos részesedést kötnek a felek a bevételekből vagy éppen nem a példányszám vagy a felhasználás egyéb terjedelmétől függően kapna juttatást a szerző akkor az a jogdíj megállapítása nem megfel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nem tartalmazza a szerződés a következőket: a felhasználni kívánt mű pontos megjelölését, a felhasználás módját, időbeli, területi és más terjedelmének pontos meghatározását, valamint a felhasználás ellenértékét akkor nem tölti be a felhasználói szerződés a rendeltetés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07:54Z</dcterms:created>
  <dc:creator>bag</dc:creator>
  <dc:description/>
  <dc:language>en-US</dc:language>
  <cp:lastModifiedBy>LaCae</cp:lastModifiedBy>
  <dcterms:modified xsi:type="dcterms:W3CDTF">2008-04-11T21:00:55Z</dcterms:modified>
  <cp:revision>30</cp:revision>
  <dc:subject/>
  <dc:title>Szerzői jogdíjak kezelése</dc:title>
</cp:coreProperties>
</file>