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DC0-9F05-4FFF-937E-0C9A76BF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D9F-3F0D-4D2D-AB0A-7DBCFE0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14B-6BB2-438D-ADBC-E40FB5F5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C5F-8775-4E85-88DB-9B482416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201-06BF-41CB-9A19-3185A132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767-D628-4579-A6BF-959063C9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D1C-428D-4FE4-9328-56C61E3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A22-49BB-44F0-AD02-F795156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913-D791-469E-BB1B-856EFEC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F9E-0AE5-401B-9BE0-F6A901B6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073-B9B9-4B51-8DEB-E2CD918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3D6-119E-49BA-A625-BAB9185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F68-2D5C-486D-ABF0-B62F4BA7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kturális ellenőr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dvány helyes, előírások szerinti szerkezeti felépítéssel való egyezésének ellenőr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ja a megfelelő formai követelmények betartásá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gym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megengedett karakterek, felesleges szóközök, bekezdések mel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betűméret, betűtípus alk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égséges szövegterjedelem betar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ngedhetetlen szövegrészek meglé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iakb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oldalszám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ilatkozatok és mellékletek meglé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vetelményben foglalt részeket (tartalomjegyzék, fejezetek, alfejezetek, pontok, összefoglaló, irodalomjegyzék) tartalma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küldés előző állomáshoz, vagy szerzőhöz a hibák javítása vé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 továbbküldése a következő állomáshoz, amennyiben a feladat megfelel a követelményeknek, illetve ha a hibák már javításra kerül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3:28Z</dcterms:created>
  <dc:creator>Balázs</dc:creator>
  <dc:description/>
  <dc:language>en-US</dc:language>
  <cp:lastModifiedBy>LaCae</cp:lastModifiedBy>
  <dcterms:modified xsi:type="dcterms:W3CDTF">2008-04-11T20:57:21Z</dcterms:modified>
  <cp:revision>12</cp:revision>
  <dc:subject/>
  <dc:title>Strukturális ellenőrzés</dc:title>
</cp:coreProperties>
</file>