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BA32-4C0A-417E-94E3-606011F25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11B3-EC7E-4F3A-B149-6181C6D4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A355-30DB-45F1-9220-34EC5F37D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D82F-5DAD-465A-B419-4D0D111BA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3263-A7A2-4DFB-96DE-50252F6B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BBE8-409E-423A-ACB3-588F60F3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BA8F-D7CD-405D-94C0-F3936D62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2084-B8A7-4E1D-856D-16B60113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D5A3-4D79-482E-8123-4BCA6088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21AB-B9FC-4D51-80D8-528B3B82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AAFE-9272-4386-9786-1DE24A55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1452-7A3E-4B35-967B-A64DB96C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42AD-FF2E-49AF-A9EC-3587A475D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ját következtetések helyesség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 helyes következtetés helyessége nem csupán az együttes kielégíthetetlenséget jelenti, azt hogy a premisszáknak és a konklúzió tagadásának nincs együttes interpretációja? Ez pedig könnyen lehet, hogy egy fizikai tény, még ha nem is érzékelhető, mármint ha feltételezzük, hogy a referencia valamilyen fizikai reláci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ályamunka bírálatát a következő szempontok szerint célszerű végezni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kai felépítés, irodalmi áttekintés: világos témafelvetés, a vizsgálatok indoklása, világos szerkesztés, irodalmi megalapozottság,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övetkeztetése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yessé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övetkeztetése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és az irodalmi adatok összevetésének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yessé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ályamunka bírálatát a következő szempontok szerint célszerű végez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ódszerek: módszerek nehézségi foka, sokoldalúsága, leírásának pontossága, adekvát volta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já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unka mérté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redmények: az ismertetés mennyire pontos, alapos, részletes, világos, a dokumentáció mennyire adekvát, szemléltet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i kivitelezés: az elkészítés gondossága, esztétikuma, irodalomjegyzék összeállítása, ábrák, táblázatok szerkesztése, íráshibák, gépelési hibá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0:24:01Z</dcterms:created>
  <dc:creator>Ralf</dc:creator>
  <dc:description/>
  <dc:language>en-US</dc:language>
  <cp:lastModifiedBy>LaCae</cp:lastModifiedBy>
  <dcterms:modified xsi:type="dcterms:W3CDTF">2008-04-11T20:58:01Z</dcterms:modified>
  <cp:revision>3</cp:revision>
  <dc:subject/>
  <dc:title>Saját következtetések helyessége </dc:title>
</cp:coreProperties>
</file>