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125-275F-4F4C-8372-C1F350F6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E79-5BA0-4CA3-A110-854D13E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294-6BC1-4A79-8113-7E3CCFD2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F4D-DCDC-4DC7-BA7D-2516A23C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665-4523-4CDC-BE36-6DEFF435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618-D053-4CB7-8F78-27AF888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C87-9CDF-42D1-BF17-A7C90B2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215-F264-4B9B-8A2D-210A318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ADF-C302-4524-A18E-EB463D1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F70-E6E1-4C41-9674-A28A19B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9CA-0B99-4ACF-A5BF-BF23150C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0EF-F255-4DC1-9EB8-349ABF8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F9EE-6948-4C67-A03D-43A5DB960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néletrajzi említések mikén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unkak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kör célja, hogy az összes többi munkakör elkészültének folyamatáról adjon képet. Valamennyi, a munkakörök kialakításához fűződő információ dokumentálásra kerül 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unkakör cé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kör célja (vélhetőleg) az, hogy a szervezetről, ahol sok-sok munkakört látnak el, átfogó képet kapjon egy, a szervezethez újonnan csatlakozó munkavállal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erarchiá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körnek a hierarchia többi eleméhez egyenként kapcsolódnia kell, és naplóznia kell az egyes munkakörökhöz kapcsolódó történése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7:55:24Z</dcterms:created>
  <dc:creator>Viktor Varga</dc:creator>
  <dc:description/>
  <dc:language>en-US</dc:language>
  <cp:lastModifiedBy>LaCae</cp:lastModifiedBy>
  <dcterms:modified xsi:type="dcterms:W3CDTF">2008-04-11T15:19:18Z</dcterms:modified>
  <cp:revision>3</cp:revision>
  <dc:subject/>
  <dc:title>Önéletrajzi említések mikéntje</dc:title>
</cp:coreProperties>
</file>