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AE7-1C8A-474B-9D52-60702007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227-8475-48BC-8D4B-60A277A5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7CB-F002-4202-8896-7959C103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AA2-58E2-433C-B0E9-EF616974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F86-23FF-44C5-ABC0-6CCBA038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EFF-CA27-4E41-BD2D-533A1C94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3E9-4B8F-4B58-89F3-14E8D333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E9B-B455-4D91-B438-6E0BABA3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78F-BCAA-4A03-933F-28BB75F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876-3A0D-484B-9B18-29970408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2DD-7850-4E7E-B179-87D12D9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D19-A567-401F-8198-933C86E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B5A5-5847-4382-8535-CA517CBA533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plomamunka és TDK készítése a hasznosság tükré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350028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 Kiindulási helyzetek feltártságának ellenőrzése (vagyis lehet-e ennek alapján majd hasznosságról beszél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. Hasznosság-kontroll (a kiindulási helyzethez képest javasoltak valóban üzletileg fenntarthatóak-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2133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méleti és gyakorlati munkafázis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rténh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lektronikus formában történő továbbítás (alapértelmezett) esetén a munka elküldésekor visszaigazolás kérése a címzettő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yomtatott formában, ha elektronikusan nem tudjuk technikai, vagy egyéb okból továbbítani. Ebben az esetben ajánlott küldeményként kezelj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sza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tal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 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zövegrész: „Megérkeztek az ön által küldött dokumentumo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á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mazott neve, beosztása, elérésének mód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 tulajdonosának neve, 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ta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ad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adatot teljesítő(k) aláí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 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zövegrész: „Az általam ellenőrzött feladatkör feltételeinek megfelel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egyik munkafolyamat külön-külön is dátumozandó, majd az utolsó munkafolyamat dátuma lesz látható a következő munkakör számára az igazolá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gazolás kiállításának előfeltétele, hogy minden munkafolyamaton keresztül menjen pozitív eredménny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tal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zövegrész: „A hasznosság kontroll rendben lezajlott, a dolgozat jelenlegi állapota további értékelésre alkalma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á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 vezető aláírása, vagy on-line formátumban az azt helyettesítő hiteles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znosság-kontrol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í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adott munka valóban tartalmaz-e olyan gazdasági, vagy közszolgálati hasznosságot, amelyért adott esetben hajlandóak lennének fizetni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nkakör elő követelmények katalógus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mmunikációs szakértő                             nyomtatvány                        1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emélyazonosság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gállapítása                                                     okmány                               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zultációra való jogosultsá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gállapítása                                                   nyomtatvány                         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émaválasztás konzultálása 1. kör              nyomtatvány                   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émaválasztás konzultálása 2. kör              nyomtatvány                   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i értékelés (DOC)                               nyomtatvány                        1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i értékelés (PPT)                                nyomtatvány                      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i értékelés XLS                                   nyomtatvány                      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i értékelés on-line                              nyomtatvány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árhuzamosítható fel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jai közötti konfliktusok feloldása               nyomtatvány                        3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akirodalmi formai ellenőr                           nyomtatvány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ágium-kontroll                                           nyomtatvány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ális ellenőrzés                                  nyomtatvány         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llébeszélés-kontroll                                  nyomtatvány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akirodalmi bizonyíték-kontroll                   nyomtatvány         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341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nkakör megnevezése                           Formátum               Átfutási idő(ó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kakör megnevezé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á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tfutási id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2349360"/>
            <a:ext cx="727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rrektura-ellenőr                          nyomtatvány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tvagyon minőségének             nyomtatvány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lenőrz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ódszertani ellenőrzés                  nyomtatvány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rodukálhatósági kontroll          nyomtatvány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ját következtet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lyessége                                      nyomtatvány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élcsoport helyes kezelése           nyomtatvány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indulási helyzete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ltártságának ellenőrzése               nyomtatvány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edmények fogadása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lő követelményként megállapított munkakörök outputjainak fog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szajelzés a megérkezett eredményekről, amely egyben azt jelenti, hogy az adott munkakör átvette kompetenciája erejéig a dolgozat feletti felügyeletet A visszajelzés lehet pozití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etve negatí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fogadás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redmények fogadása nevű munkafolyamat fogja kvázi tudatni az adatokat küldő munkakörrel (szükség esetén többel is), hogy a munkakörünk meg tudta kezdeni a munkát a kapott adatokkal. Ebben az esetben pozitív visszajel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az adatok egyszerűen nem érkeznek meg időre, akkor a visszajelzésünk negatí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véleményünk szerint a kapott adatok hibásak, visszaküldjük az előző munkakörnek újbóli ellenőrzés célj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znosság-kontroll (a kiindulási helyzethez képest javasoltak valóban üzletileg fenntarthatóak-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 a leendő üzleti partnerekkel való konzultáció nem járt sikerrel, tehát nem találtunk olyan céget, magánszemélyeket, ill. szakmai folyóiratokat, akik hajlandóak lennének akár fizetni is a szolgáltatásunkért, akkor az alábbiakat tehetjü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áltoztatásokat hajtunk végre a diplomamunka témájában, ha a piackutatásunk eredményei alapján a módosított munkánkra mutatkozik érdekl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ban az esetben, ha nem mutatkozik érdeklődés a módosításokkal sem, érdemes egy új, az igényeknek jobban megfelelő témát választa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fogadás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a kapott eredmények megfelelnek a további feldolgozás részére, akkor áttérés a következő munkafolyama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akorlati lépéselem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asznosság „kihasználása”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nyiben találtunk érdeklődőket leendő munkánkra, érdemes megpróbálni közülük támogatóra szert te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mindenképpen közvetlen anyagi támogatásra kell gondolni, hanem pl.: kapcsolati tőkéjé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ilyen jellegű segítségek megkönnyítik a dolgunkat, így az eredmények is hamarabb jelentkezhet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asznosság „kihasználása”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az az eset fordul elő, hogy érdeklődő van, de semmilyen támogatásra nem hajlandó, érdemes megfontolni másik leendő partner felkutatás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 nem olyan nehéz munka, hisz ha volt legalább egy érdeklődőnk, akkor biztosan akad másik is, aki tisztán látja benne a jövőbeli profitj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övedelem realizálás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gszületett munka eredményeit gazdaságilag többféle módon használhatjuk f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t a munkánkat támogató partnerekkel kötött megállapodások korlátozhatják. (pl.: a segítségért cserébe elsőként, vagy egyedüliként használhatják az elkészült szolgáltatás, ill. kutatás eredményei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övedelem realizálás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 nem vagyunk korlátozva megállapodásokkal, az alábbi módokon válthatjuk munkánkat jövedelem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egpraktikusabb módozat, ha munkánkat, a minket személyesen megkereső vállalatoknak, ill. magánszemélyeknek adjuk 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helyezhetjük, egy mi általunk készített honlapon, ahonnan bárki letöltheti a megfelelő ellenszolgáltatás mellet, vagy fizetett hirdetéseket helyezünk a weblapra, és ingyen hozzáférhet bár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képzelhető ezen módozatok kombinációja, illetve egyéb, az adott területre jellemző speciális „értékesítési” megoldáso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gazolások és a folyamat irányításának átvé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bázis létrehozása xls, vagy mdb formátumban, amely tartalmazza a diplomamunkát készítő adatait és a hozzá tartozó dolgozat adott munkakörben elkészült eredményeit, valamint a munkakörkódot és a dolgozatkó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letkezett eredmények rögzítése a számítógépen + adathordozón, valamint on-line, vagy off-line formátumban a dolgozat készítőjének kerül elküldés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azolás kiállítása az értékelés részé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lgozathoz, az adott munkakörben keletkezett eredmények on-line közzététele a többi munkakör szám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dmények formai (dátum, formátum) és technikai (pl.: valóban az e a hasznosság a dolgozatban, amire a dolgozatíró gondolt ) ellenőr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zsgálat lehetséges kimenetelei: Esetleges hibák észlelése, és lehetőleg a munkafolyamaton, vagy munkakörön belüli javítása, vagy az azonnali elfog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sgálat lehetséges kimenetel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elmerült hibák észlelése és lehetőleg a munkafolyamaton, vagy munkakörön belüli jav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zonnali elfog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gazolások és a folyamat irányításának átvé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bázis létrehozása xls, vagy mdb formátumban, amely tartalmazza a diplomamunkát készítő adatait és a hozzá tartozó dolgozat adott munkakörben elkészült eredményeit, valamint a munkakörkódot és a dolgozatkó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atípus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táridő lejá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zonyos munkafázis(ok) kimaradt(ak), vagy hibásan lettek teljesí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z esetleges számítási eredmények visszaellenőrzésénél tapasztalt eltérés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elytelen formá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a esetén külön keltezés szükséges, amelynek időpontja a hiba észlelésének id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a hibajavítás megtörtént, visszaküldés az értékelés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több hiba nem található, a munkakört lezáró igazolás kiállítása (nyomtatvá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dmények továbbküldése a következő munkafolyamatnak (elektronikus, vagy nyomtatott formáb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rténh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lektronikus formában történő továbbítás (alapértelmezett) esetén a munka elküldésekor visszaigazolás kérése a címzettő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yomtatott formában, ha elektronikusan nem tudjuk technikai, vagy egyéb okból továbbítani. Ebben az esetben ajánlott küldeményként kezelj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sza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tal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 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zövegrész: „Megérkeztek az ön által küldött dokumentumo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á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mazott neve, beosztása, elérésének mód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 tulajdonosának neve, 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ta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ad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adatot teljesítő(k) aláí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 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zövegrész: „Az általam ellenőrzött feladatkör feltételeinek megfelel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egyik munkafolyamat külön-külön is dátumozandó, majd az utolsó munkafolyamat dátuma lesz látható a következő munkakör számára az igazolá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gazolás kiállításának előfeltétele, hogy minden munkafolyamaton keresztül menjen pozitív eredménny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tal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zövegrész: „A hasznosság kontroll rendben lezajlott, a dolgozat jelenlegi állapota további értékelésre alkalma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á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 vezető aláírása, vagy on-line formátumban az azt helyettesítő hiteles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letkezett eredmények rögzítése a számítógépen + adathordozón, valamint on-line, vagy off-line formátumban a dolgozat készítőjének kerül elküldés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azolás kiállítása az értékelés részé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lgozathoz, az adott munkakörben keletkezett eredmények on-line közzététele a többi munkakör szám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dmények formai (dátum, formátum) és technikai (pl.: valóban az e a hasznosság a dolgozatban, amire a dolgozatíró gondolt ) ellenőr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zsgálat lehetséges kimenetelei: Esetleges hibák észlelése, és lehetőleg a munkafolyamaton, vagy munkakörön belüli javítása, vagy az azonnali elfog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sgálat lehetséges kimenetel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elmerült hibák észlelése és lehetőleg a munkafolyamaton, vagy munkakörön belüli jav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zonnali elfog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atípus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táridő lejá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zonyos munkafázis(ok) kimaradt(ak), vagy hibásan lettek teljesí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z esetleges számítási eredmények visszaellenőrzésénél tapasztalt eltérés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elytelen formá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a esetén külön keltezés szükséges, amelynek időpontja a hiba észlelésének id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a hibajavítás megtörtént, visszaküldés az értékelés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több hiba nem található, a munkakört lezáró igazolás kiállítása (nyomtatvá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dmények továbbküldése a következő munkafolyamatnak (elektronikus, vagy nyomtatott formáb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06:26Z</dcterms:created>
  <dc:creator>LaCae</dc:creator>
  <dc:description/>
  <dc:language>en-US</dc:language>
  <cp:lastModifiedBy>LaCae</cp:lastModifiedBy>
  <dcterms:modified xsi:type="dcterms:W3CDTF">2008-04-11T20:59:02Z</dcterms:modified>
  <cp:revision>2</cp:revision>
  <dc:subject/>
  <dc:title>Diplomamunka és TDK készítése a hasznosság tükrében</dc:title>
</cp:coreProperties>
</file>