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B16-CE6F-47E3-AB7C-40EA006A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D16-64B9-463F-9331-A1997F82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F83-E79B-463D-AA33-BCDAA5CD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9F4-9792-40DE-BC9B-B279D91A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537-8D13-4FEC-96FB-C3D31DB8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9BF-4914-44E0-94F5-CF2364B8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525-0C2A-44FF-B03D-38829FC1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597-E664-42CE-934F-16A97535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A40-9316-4609-8C44-1CD8FFF2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9DE-49A6-4E25-9F44-F970157F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0BB-96DB-473C-A6B3-C0C5938B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60C-EEA2-4512-AFDD-66C822D8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F48B-E1C6-4E59-A110-2C2D0B14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700280"/>
            <a:ext cx="73436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Mellékletb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áblázatok, ábrá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yé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lyan dokumentumok szerepeltethetők, amelye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olgozat mondanivalójának illusztrálásá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zolgálnak, de nem képezik a dolgozat érd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zé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lléklet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alszámozni nem k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zt végül is nem is fontos ellenőrizni, mert ha van van, ha nincs ninc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llékletek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számoz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lletve a dokumentum főszövegéb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vatkoz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ll feltüntet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melléklet(ek)et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odalomjegyzék utá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ómai számokkal jelölt oldal-számozással ellátva kell elhelyez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4762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llékletekről általáb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125360"/>
            <a:ext cx="71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49360"/>
            <a:ext cx="7632720" cy="54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sődleges ellenőr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léklet-e egyáltalá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beadott nyomtatván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ovábbi vizsgálódásra, elemzésre me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yen típus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lléklet a beadott nyomtatván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on-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ülön elbírálás az egyes típusokná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4560" y="2132640"/>
            <a:ext cx="72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mai értékelés on-line melléklet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források esetén fonto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jes(!) elérési ú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s a letölté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át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nak megad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yes-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vatkozások kezelé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-line hivatkozások, frissesség, szerzők megadása, megjelentetés módja, …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yből elérhető legy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hivatkozott ol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körkó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 (XLS), ill. 11(on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XLS/online nyomtatványok formai követelményeinek megfelelt/nem felelt meg és további értékelésre alkalmas/jelen formájában nem értékelhető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á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kör vezető aláír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5:21:19Z</dcterms:created>
  <dc:creator>norbii</dc:creator>
  <dc:description/>
  <dc:language>en-US</dc:language>
  <cp:lastModifiedBy>LaCae</cp:lastModifiedBy>
  <dcterms:modified xsi:type="dcterms:W3CDTF">2008-04-11T20:56:52Z</dcterms:modified>
  <cp:revision>50</cp:revision>
  <dc:subject/>
  <dc:title>1. dia</dc:title>
</cp:coreProperties>
</file>