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CD1E-2E82-4867-94C5-46AAA94F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3EFA-12AC-4703-9116-2805D32E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5178-2765-4742-9D89-30DD8DC8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B2F0-4099-4EC8-B61B-E7D42011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AB19-2AD2-4770-BAD5-899B76DD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1CA0-0449-4D08-856B-EBF0CA22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0A7-C34B-4B8F-9EEE-7925EAF0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3B04-4DF7-4664-8BC7-2D28CCE9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578-D55F-4208-80D9-7F1F0B73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EFE8-F30D-41C4-852B-FA635CBA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3796-3B74-48DE-B23C-1BAE341C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917A-1462-4081-B65B-012DEC48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C494-EAFD-43F1-81B4-416C1AFFF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atvagyon minőségének ellenőrzé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71320" y="1499760"/>
            <a:ext cx="81435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z adatvagyon minőségének ellenőrzéséh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merni kell az adatok származásának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őkészítésének és esetleges feldolgozá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yamatainak és feldolgozottságának kérdései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lyek az adatok értelmezéséhez adn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gítséget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edmény fogadása és ellenőrzés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olgozat átvétele az előző munkakört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olgozat ellenőrzé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 a metaadatbázisban hibát találnak, akkor kijavításra kerül ill. Visszaküldik a dolgozat készítőjének javítás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 a metaadatbázis hibátlan akkor továbbküldik a következő munkakörn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28760" y="14256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 vizsgálat során fel kell tárni a lehetséges problémák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konzisztencia vagy kódok nem megfelelő használ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m dokumentált mezők használ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ódrendszerek túlterheltsé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jlődő adatok, rendszere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ányos, inkorrekt, vagy duplikált érték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lyesírási hibá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undancia (ugyanaz az adat többször található me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átum eltérés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forrás hibás megjelöl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viteli hibá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vábbküldé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2857320"/>
            <a:ext cx="8229600" cy="12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ibátlan illetve a javított dolgozat jóváhagyás után továbbküldésre kerü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2:26:26Z</dcterms:created>
  <dc:creator>Kurucz Eszter</dc:creator>
  <dc:description/>
  <dc:language>en-US</dc:language>
  <cp:lastModifiedBy>LaCae</cp:lastModifiedBy>
  <dcterms:modified xsi:type="dcterms:W3CDTF">2008-04-11T20:57:48Z</dcterms:modified>
  <cp:revision>28</cp:revision>
  <dc:subject/>
  <dc:title>Szakirodalmi bizonyíték-kontroll </dc:title>
</cp:coreProperties>
</file>