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C5B0E-5B9E-4031-BEE7-0BB1900FC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A377-3600-48B7-8281-46D21A08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CE036-477B-420B-A757-95BFA54E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0FA7-129E-4EF9-A38D-F46CCA4FD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CF36-D44A-4312-827A-85058F28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FB7AF-319B-422D-9D85-07E7265C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F62B-32D1-42C0-8A91-D515A8EC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E21F-B840-4D98-A82F-EFE09774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7928E-5313-4EED-A37B-9E9B035B5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305B-39B8-463D-9F0B-531307E8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A2FD-3534-4207-8DC6-E09EFAC5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7B51C-16F2-4020-B949-47B52679F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83D5-D92A-40CD-93FC-4C98DA6E5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hyperlink" Target="file:///Mi%20a%20szerz&#337;i%20jogd&#237;j.doc" TargetMode="External"/><Relationship Id="rId2" Type="http://schemas.openxmlformats.org/officeDocument/2006/relationships/hyperlink" Target="file:///Mit%20szab&#225;lyoz%20a%20szerz&#337;i%20jog.doc" TargetMode="External"/><Relationship Id="rId3"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hyperlink" Target="file:///szerz&#337;i%20jogi%20v&#233;delem%20hat&#225;rai.doc"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hyperlink" Target="file:///Kire%20terjed%20ki%20a%20szerz&#337;i%20jogi%20v&#233;delem.doc" TargetMode="External"/><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hyperlink" Target="file:///Milyen%20jogok%20illetik%20meg%20a%20szerz&#337;t.doc" TargetMode="External"/><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hyperlink" Target="file:///Kit%20tekint%20a%20szerz&#337;i%20jog%20felhaszn&#225;l&#243;nak.doc" TargetMode="External"/><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hyperlink" Target="file:///Melyek%20a%20felhaszn&#225;l&#225;si%20szerz&#337;d&#233;s%20tartalmi%20elemei.doc" TargetMode="External"/><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hyperlink" Target="file:///Mire%20terjed%20ki%20a%20szerz&#337;i%20jogi%20v&#233;delem.doc" TargetMode="External"/><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hyperlink" Target="file:///Meddig%20tart%20a%20szerz&#337;i%20jogi%20v&#233;delem.doc" TargetMode="External"/><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hyperlink" Target="file:///Hogyan%20t&#246;rt&#233;nik%20a%20jogd&#237;jak%20meg&#225;llap&#237;t&#225;sa.doc" TargetMode="External"/><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hyperlink" Target="http://www.idegen-szavak.hu/" TargetMode="External"/><Relationship Id="rId2" Type="http://schemas.openxmlformats.org/officeDocument/2006/relationships/hyperlink" Target="http://tmt.omikk.bme.hu/show_news.html?id=4282&amp;issue_id=468"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hu.wikipedia.org/wiki/Stilisztika"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K&#252;ls&#337;%20bor&#237;t&#243;lap.doc" TargetMode="External"/><Relationship Id="rId2" Type="http://schemas.openxmlformats.org/officeDocument/2006/relationships/hyperlink" Target="file:///form&#225;tum.doc" TargetMode="External"/><Relationship Id="rId3" Type="http://schemas.openxmlformats.org/officeDocument/2006/relationships/hyperlink" Target="file:///C&#237;m.doc" TargetMode="External"/><Relationship Id="rId4" Type="http://schemas.openxmlformats.org/officeDocument/2006/relationships/hyperlink" Target="file:///1.doc" TargetMode="Externa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225;bra.doc"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file:///Szakirodalmi%20formai%20ellen&#337;r.ppt"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Pl&#225;gium-kontroll.ppt"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file:///Az%20irodalmi%20hivatkoz&#225;sok%20formai%20k&#246;vetelm&#233;nye.doc"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764640"/>
            <a:ext cx="8229600" cy="258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ommunikációs szakértő, aki azért felel, hogy a potenciális érintettek képben legyenek a folyamat előtt, és folyamat al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i is legyen a cél valójáb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ismerhető legyen:</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lgozat célcsoportj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várt hasznossá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ív azonosságok mikéntj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zakirodalom kritikai feldolgozás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vállalt feladat miben lét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talmaznia kell a dolgozatnak önálló munká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lgozatnak rá kell vezetnie az alábbi értékelési pontkor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 vagy mik a dolgozat központi kérdése vagy kérdése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 vagy kik a dolgozat célcsoportja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nyiben tekinthető vagy tekinthetők a központi kérdés vagy kérdésekre adott hallgatói válasz vagy válaszok a hallgató saját alkotásána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yen hasznosság várható el a kijelölt célcsoport esetében a dolgozat által preferált és egyéb, alternatív (szakirodalmi) megoldásai alapj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74320"/>
            <a:ext cx="86868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dmények: az ismertetés mennyire pontos, alapos, részletes, világos, a dokumentáció mennyire adekvát, szemléltető</a:t>
            </a:r>
            <a:endParaRPr b="0" lang="en-US" sz="36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i kivitelezés: az elkészítés gondossága, esztétikuma, irodalomjegyzék összeállítása, ábrák, táblázatok szerkesztése, íráshibák, gépelési hibá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plomamunka és TDK készítése a hasznosság tükrében</a:t>
            </a:r>
            <a:endParaRPr b="0" lang="en-US" sz="2400" spc="-1" strike="noStrike">
              <a:solidFill>
                <a:srgbClr val="000000"/>
              </a:solidFill>
              <a:latin typeface="Arial"/>
            </a:endParaRPr>
          </a:p>
        </p:txBody>
      </p:sp>
      <p:sp>
        <p:nvSpPr>
          <p:cNvPr id="211" name="PlaceHolder 2"/>
          <p:cNvSpPr>
            <a:spLocks noGrp="1"/>
          </p:cNvSpPr>
          <p:nvPr>
            <p:ph type="subTitle"/>
          </p:nvPr>
        </p:nvSpPr>
        <p:spPr>
          <a:xfrm>
            <a:off x="900000" y="3500280"/>
            <a:ext cx="6400800" cy="259272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Kiindulási helyzetek feltártságának ellenőrzése (vagyis lehet-e ennek alapján majd hasznosságról beszélni)</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Hasznosság-kontroll (a kiindulási helyzethez képest javasoltak valóban üzletileg fenntarthatóak-e)</a:t>
            </a:r>
            <a:endParaRPr b="0" lang="en-US" sz="2400" spc="-1" strike="noStrike">
              <a:solidFill>
                <a:srgbClr val="000000"/>
              </a:solidFill>
              <a:latin typeface="Arial"/>
            </a:endParaRPr>
          </a:p>
        </p:txBody>
      </p:sp>
      <p:sp>
        <p:nvSpPr>
          <p:cNvPr id="212" name=""/>
          <p:cNvSpPr/>
          <p:nvPr/>
        </p:nvSpPr>
        <p:spPr>
          <a:xfrm>
            <a:off x="1116000" y="2133720"/>
            <a:ext cx="75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lméleti és gyakorlati munkafázisokk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Kiindulási helyzetek feltártságának ellenőrzése definíció</a:t>
            </a:r>
            <a:endParaRPr b="0"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adott témakörben publikált munkák lekövetése a hasznosság és a benne rejlő még feltáratlan, vagy nem teljes egészében feltárt lehetőségek tükréb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nkakör elő követelmények katalógusa</a:t>
            </a:r>
            <a:endParaRPr b="0" lang="en-US" sz="3600" spc="-1" strike="noStrike">
              <a:solidFill>
                <a:srgbClr val="000000"/>
              </a:solidFill>
              <a:latin typeface="Arial"/>
            </a:endParaRPr>
          </a:p>
        </p:txBody>
      </p:sp>
      <p:sp>
        <p:nvSpPr>
          <p:cNvPr id="216" name="PlaceHolder 2"/>
          <p:cNvSpPr>
            <a:spLocks noGrp="1"/>
          </p:cNvSpPr>
          <p:nvPr>
            <p:ph/>
          </p:nvPr>
        </p:nvSpPr>
        <p:spPr>
          <a:xfrm>
            <a:off x="250560" y="2276640"/>
            <a:ext cx="8302680" cy="41767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mmunikációs szakértő                               nyomtatvány                                        1</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zemélyazonosság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állapítása                                                               okirat                                                  0,2</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zultációra való jogosultság</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gállapítása                                                             nyomtatvány                                       0,2</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maválasztás konzultálása 1. kör                nyomtatvány                                        5</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maválasztás konzultálása 2. kör                nyomtatvány                                        5 </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i értékelés (DOC)                                 nyomtatvány                                        1</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i értékelés (PPT)                                  nyomtatvány                                        1</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i értékelés XLS                                     nyomtatvány                                        1</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i értékelés on-line                                 nyomtatvány                                        2</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árhuzamosítható feladatok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utputjai közötti konfliktusok feloldása                      nyomtatvány                                         3</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zakirodalmi formai ellenőr                           nyomtatvány                                         2  </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ágium-kontroll                                             nyomtatvány                                         3</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ális ellenőrzés                                   nyomtatvány                                         4</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lébeszélés-kontroll                                   nyomtatvány                                         2</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zakirodalmi bizonyíték-kontroll                    nyomtatvány                                         4</a:t>
            </a:r>
            <a:endParaRPr b="0" lang="en-US" sz="1400" spc="-1" strike="noStrike">
              <a:solidFill>
                <a:srgbClr val="000000"/>
              </a:solidFill>
              <a:latin typeface="Arial"/>
            </a:endParaRPr>
          </a:p>
        </p:txBody>
      </p:sp>
      <p:sp>
        <p:nvSpPr>
          <p:cNvPr id="217" name=""/>
          <p:cNvSpPr/>
          <p:nvPr/>
        </p:nvSpPr>
        <p:spPr>
          <a:xfrm>
            <a:off x="179280" y="162864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nkakör megnevezése                              Formátum                     Átfutási idő(ó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nkakör elő követelmények katalógusa</a:t>
            </a:r>
            <a:endParaRPr b="0" lang="en-US" sz="3600" spc="-1" strike="noStrike">
              <a:solidFill>
                <a:srgbClr val="000000"/>
              </a:solidFill>
              <a:latin typeface="Arial"/>
            </a:endParaRPr>
          </a:p>
        </p:txBody>
      </p:sp>
      <p:sp>
        <p:nvSpPr>
          <p:cNvPr id="219" name="PlaceHolder 2"/>
          <p:cNvSpPr>
            <a:spLocks noGrp="1"/>
          </p:cNvSpPr>
          <p:nvPr>
            <p:ph/>
          </p:nvPr>
        </p:nvSpPr>
        <p:spPr>
          <a:xfrm>
            <a:off x="324000" y="2781000"/>
            <a:ext cx="8229600" cy="38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611280" y="1628640"/>
            <a:ext cx="813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nkakör megnevezése                         Formátum                  Átfutási idő(ó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611280" y="249228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5640" y="2708280"/>
            <a:ext cx="7488360" cy="338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rektura-ellenőr                             nyomtatvány                    2</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atvagyon minőségének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enőrzése                                            nyomtatvány                     3</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ódszertani ellenőrzés                         nyomtatvány                3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odukálhatósági kontroll                 nyomtatvány                 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ját következtetése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elyessége                                            nyomtatvány                     3</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élcsoport helyes kezelése                  nyomtatvány                 2</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edmények fogadása 1</a:t>
            </a:r>
            <a:br>
              <a:rPr sz="4000"/>
            </a:br>
            <a:endParaRPr b="0" lang="en-US" sz="40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elő követelményként megállapított munkakörök outputjainak fogad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jelzés a megérkezett eredményekről, amely egyben azt jelenti, hogy az adott munkakör átvette kompetenciája erejéig a dolgozat feletti felügyeletet A visszajelzés lehet pozitív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tve negatí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 2</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redmények fogadása nevű munkafolyamat fogja kvázi tudatni az adatokat küldő munkakörrel (szükség esetén többel is), hogy a munkakörünk meg tudta kezdeni a munkát a kapott adatokkal. Ebben az esetben pozitív visszajelz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az adatok egyszerűen nem érkeznek meg időre, akkor a visszajelzésünk negatí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véleményünk szerint a kapott adatok hibásak, visszaküldjük az előző munkakörnek újbóli ellenőrzés céljá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 3</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kapott eredmények megfelelnek a további feldolgozás részére, akkor áttérés a következő munkafolyama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yakorlati lépéselemek</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munkakö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a lehetőség közzététele)</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 ehhez szükséges anyagi háttér jogi szabályozásának kezelés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rások  előteremtés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rásokkal való elszámolá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ráshiány esetén mi a teendő?</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z ügyfelek tájékoztatása az alábbiakró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yen díjat, eredményt, esetleg büntetést(a jogi cuccos be nem tartása esetén) lehet elérni ve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ányan dolgozhatnak egy munká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ltalában milyen követelményeknek kell a dolgozatot megfeleltetni?</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áridők</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i</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isztikai</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dalomjegyzék</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lékletek</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élcsoport helyes megválasztás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znossá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munikációs készsé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gen nyelven i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omonkövethetőség</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yen eséllyel indulhatnak a fogyatékosok, milyen lehetőségek léteznek számukr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  jogosult alapesetben díjmentesen megírni a dolgozato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i nem jogosult alapesetben díjmentességre annak mennyit kell fizetnie é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nti két csoport milyen különeljárási díjakra számíth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33360"/>
            <a:ext cx="8229600" cy="12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iindulási helyzetek feltártságának ellenőrzése (vagyis lehet-e ennek alapján majd hasznosságról beszélni)</a:t>
            </a:r>
            <a:br>
              <a:rPr sz="2800"/>
            </a:br>
            <a:endParaRPr b="0" lang="en-US" sz="28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kiválasztott témakörről olyan információk ellenőrzése és gyűjtése m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i-vagy kik végeztek kutatásokat, ill. hoztak létre szolgáltatásokat a leendő diplomamunkához kapcsolódó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kkora volumenű érdeklődés kísérte az eddigi kutatásokat (on-line folyóiratok, szakfolyóiratok, fórumok)</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yen eredményekre jutottak</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blémafelvetés mely területeire nem születtek válaszok, illetve az adott válaszok, vagy szolgáltatás esetén szerintünk a valóságot nem igazán fedő eredményekre jutottak</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znosság a tanulmányban</a:t>
            </a:r>
            <a:endParaRPr b="0" lang="en-US" sz="32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plomamunka témájának kiválasztásakor a legfontosabb, hogy az íróban körvonalazódjon,  a  munkája milyen gazdasági hasznot hajthat, ill. mely társadalmi csoportot érinth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író által megfogalmazott hasznosság egyrészt gazdaságilag fontos, másrészt a saját kutató munkáját könnyíti meg, ha előre tudja, melyeknek kell lenni a fő csapásirányoknak, melyekre a munka épülni fo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adott témában már korábban elvégzett kutatások eredményeit felhasználó cégek megkeresése</a:t>
            </a:r>
            <a:endParaRPr b="0" lang="en-US" sz="2400" spc="-1" strike="noStrike">
              <a:solidFill>
                <a:srgbClr val="000000"/>
              </a:solidFill>
              <a:latin typeface="Arial"/>
            </a:endParaRPr>
          </a:p>
        </p:txBody>
      </p:sp>
      <p:sp>
        <p:nvSpPr>
          <p:cNvPr id="235" name=""/>
          <p:cNvSpPr txBox="1"/>
          <p:nvPr/>
        </p:nvSpPr>
        <p:spPr>
          <a:xfrm>
            <a:off x="750240" y="1893240"/>
            <a:ext cx="7643520" cy="393984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cégekkel történő kapcsolatfelvétel legcélszerűbb módja a személyes megkeresés a bizalmasabb információk és a pontosabb tájékozódás miat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fontosabb kérdések a gazdasági hasznossággal kapcsolatba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állalat mely területén kerültek felhasználásra a tanulmány eredménye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nyibe került a beszerzése (nagyságrendile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 érzik hiányosnak, vagy hibásnak (indokláss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gvásárolnának-e egy precízebb, hiányosságok nélküli munká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az adott témában még nem született munka, akkor arra a kérdésre, hogy mi lesz a diplomamunkában a hasznosság, a választ, a  szerzőnek a már említett módon tudni kell és ezzel olyan cégeket, vagy magánszemélyeket megkeresni, akik véleményünk szerint tudják hasznosítani változtatásokkal, vagy változatlan formában az elkészült munká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vázi piackutatást végzünk, hogy mekkora érdeklődés mutatkozik a leendő munkánk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znosság-kontroll (a kiindulási helyzethez képest javasoltak valóban üzletileg fenntarthatóak-e)</a:t>
            </a:r>
            <a:br>
              <a:rPr sz="2800"/>
            </a:br>
            <a:endParaRPr b="0" lang="en-US" sz="2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 a leendő üzleti partnerekkel való konzultáció nem járt sikerrel, tehát nem találtunk olyan céget, magánszemélyeket, ill. szakmai folyóiratokat, akik hajlandóak lennének akár fizetni is a szolgáltatásunkért, akkor az alábbiakat tehetjü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áltoztatásokat hajtunk végre a diplomamunka témájában, ha a piackutatásunk eredményei alapján a módosított munkánkra mutatkozik érdeklődé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ban az esetben, ha nem mutatkozik érdeklődés a módosításokkal sem, érdemes egy új, az igényeknek jobban megfelelő témát választa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talogizálás</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gazolások és a folyamat irányításának átvét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tbázis létrehozása xls, vagy mdb formátumban, amely tartalmazza a diplomamunkát készítő adatait és a hozzá tartozó dolgozat adott munkakörben elkészült eredményeit, valamint a munkakörkódot és a dolgozatkód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talogizálás</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letkezett eredmények rögzítése a számítógépen + adathordozón, valamint on-line, vagy off-line formátumban a dolgozat készítőjének kerül elküldés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azolás kiállítása az értékelés részé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ékelés</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lgozathoz, az adott munkakörben keletkezett eredmények on-line közzététele a többi munkakör számá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edmények formai (dátum, formátum) és technikai (pl.: valóban az e a hasznosság a dolgozatban, amire a dolgozatíró gondolt ) ellenőrzé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sgálat lehetséges kimenetelei: Esetleges hibák észlelése, és lehetőleg a munkafolyamaton, vagy munkakörön belüli javítása, vagy az azonnali elfogadá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ékelés</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at lehetséges kimenetele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elmerült hibák észlelése és lehetőleg a munkafolyamaton, vagy munkakörön belüli javítás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zonnali elfogadá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típus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áridő lejá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izonyos munkafázis(ok) kimaradt(ak), vagy hibásan lettek teljesít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z esetleges számítási eredmények visszaellenőrzésénél tapasztalt eltérés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elytelen formát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es munkakö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ügyfelek tájékoztatása a következők alapján: az 1. munkakörben az ügyfelek tájékoztatása pont részletes kifejtés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 kell gondolni, hogy megkapják-e az ügyfelek a kész követelményrendszer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gy csak a linkeket, hogy mit hol találnak me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valamelyik értékelési szintről visszadobják a dolgozatot akko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ötelező legyen-e a 2.-munkakör igénybevétel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gy opcionáli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 bizonyos esetekben kötelező(durva hibáknál), más esetekben pedig opcioná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 esetén külön keltezés szükséges, amelynek időpontja a hiba észlelésének ide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hibajavítás megtörtént, visszaküldés az értékelésn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több hiba nem található, a munkakört lezáró igazolás kiállítása (nyomtatvá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edmények továbbküldése a következő munkafolyamatnak (elektronikus, vagy nyomtatott formáb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25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örténh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lektronikus formában történő továbbítás (alapértelmezett) esetén a munka elküldésekor visszaigazolás kérése a címzettő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yomtatott formában, ha elektronikusan nem tudjuk technikai, vagy egyéb okból továbbítani. Ebben az esetben ajánlott küldeményként kezeljü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szaigazolá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tal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kó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cí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Megérkeztek az ön által küldött dokumentum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át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mazott neve, beosztása, elérésének módj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tulajdonosának neve, cí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teljesítési igazolá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tal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adatkó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adatot teljesítő(k) aláírá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cí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Az általam ellenőrzött feladatkör feltételeinek megfel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teljesítési igazolás</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egyik munkafolyamat külön-külön is dátumozandó, majd az utolsó munkafolyamat dátuma lesz látható a következő munkakör számára az igazolás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gazolás kiállításának előfeltétele, hogy minden munkafolyamaton keresztül menjen pozitív eredménnye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nkaköri igazolás</a:t>
            </a:r>
            <a:endParaRPr b="0" lang="en-US" sz="4400" spc="-1" strike="noStrike">
              <a:solidFill>
                <a:srgbClr val="000000"/>
              </a:solidFill>
              <a:latin typeface="Arial"/>
            </a:endParaRPr>
          </a:p>
        </p:txBody>
      </p:sp>
      <p:sp>
        <p:nvSpPr>
          <p:cNvPr id="262" name="PlaceHolder 2"/>
          <p:cNvSpPr>
            <a:spLocks noGrp="1"/>
          </p:cNvSpPr>
          <p:nvPr>
            <p:ph/>
          </p:nvPr>
        </p:nvSpPr>
        <p:spPr>
          <a:xfrm>
            <a:off x="468000" y="1268280"/>
            <a:ext cx="82184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tal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kó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A hasznosság kontroll rendben lezajlott, a dolgozat jelenlegi állapota további értékelésre alkalm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át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 vezető aláírása, vagy on-line formátumban az azt helyettesítő hitelesíté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znosság-kontroll </a:t>
            </a:r>
            <a:br>
              <a:rPr sz="4000"/>
            </a:br>
            <a:r>
              <a:rPr b="0" lang="en-US" sz="4000" spc="-1" strike="noStrike">
                <a:solidFill>
                  <a:srgbClr val="000000"/>
                </a:solidFill>
                <a:latin typeface="Arial"/>
              </a:rPr>
              <a:t>definíció</a:t>
            </a:r>
            <a:endParaRPr b="0" lang="en-US" sz="40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adott munka valóban tartalmaz-e olyan gazdasági, vagy közszolgálati hasznosságot, amelyért adott esetben hajlandóak lennének fizetni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360"/>
            <a:ext cx="813744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nkakör elő követelmények katalógusa</a:t>
            </a:r>
            <a:br>
              <a:rPr sz="3600"/>
            </a:br>
            <a:endParaRPr b="0" lang="en-US" sz="3600" spc="-1" strike="noStrike">
              <a:solidFill>
                <a:srgbClr val="000000"/>
              </a:solidFill>
              <a:latin typeface="Arial"/>
            </a:endParaRPr>
          </a:p>
        </p:txBody>
      </p:sp>
      <p:sp>
        <p:nvSpPr>
          <p:cNvPr id="266" name="PlaceHolder 2"/>
          <p:cNvSpPr>
            <a:spLocks noGrp="1"/>
          </p:cNvSpPr>
          <p:nvPr>
            <p:ph/>
          </p:nvPr>
        </p:nvSpPr>
        <p:spPr>
          <a:xfrm>
            <a:off x="539280" y="2332080"/>
            <a:ext cx="8425080" cy="45259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mmunikációs szakértő                             nyomtatvány                        1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zemélyazonosság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gállapítása                                                     okmány                               0,2</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zultációra való jogosultság</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gállapítása                                                   nyomtatvány                         0,2</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émaválasztás konzultálása 1. kör              nyomtatvány                        5</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émaválasztás konzultálása 2. kör              nyomtatvány                        5</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i értékelés (DOC)                               nyomtatvány                        1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i értékelés (PPT)                                nyomtatvány                        1</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i értékelés XLS                                   nyomtatvány                        1</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i értékelés on-line                              nyomtatvány                         2</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árhuzamosítható feladatok</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jai közötti konfliktusok feloldása               nyomtatvány                        3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zakirodalmi formai ellenőr                           nyomtatvány                        2</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ágium-kontroll                                           nyomtatvány                         3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kturális ellenőrzés                                  nyomtatvány                         4</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llébeszélés-kontroll                                  nyomtatvány                         2</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zakirodalmi bizonyíték-kontroll                   nyomtatvány                         4</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
          <p:cNvSpPr/>
          <p:nvPr/>
        </p:nvSpPr>
        <p:spPr>
          <a:xfrm>
            <a:off x="395280" y="1341360"/>
            <a:ext cx="806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nkakör megnevezése                           Formátum               Átfutási idő(ó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árhuzamos munkakörök katalógusa</a:t>
            </a:r>
            <a:endParaRPr b="0" lang="en-US" sz="3600" spc="-1" strike="noStrike">
              <a:solidFill>
                <a:srgbClr val="000000"/>
              </a:solidFill>
              <a:latin typeface="Arial"/>
            </a:endParaRPr>
          </a:p>
        </p:txBody>
      </p:sp>
      <p:sp>
        <p:nvSpPr>
          <p:cNvPr id="269"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Munkakör megnevezése</a:t>
            </a:r>
            <a:r>
              <a:rPr b="0" lang="en-US" sz="1800" spc="-1" strike="noStrike">
                <a:solidFill>
                  <a:srgbClr val="000000"/>
                </a:solidFill>
                <a:latin typeface="Arial"/>
              </a:rPr>
              <a:t>	</a:t>
            </a:r>
            <a:r>
              <a:rPr b="0" lang="en-US" sz="1800" spc="-1" strike="noStrike">
                <a:solidFill>
                  <a:srgbClr val="000000"/>
                </a:solidFill>
                <a:latin typeface="Arial"/>
              </a:rPr>
              <a:t>Formátum</a:t>
            </a:r>
            <a:r>
              <a:rPr b="0" lang="en-US" sz="1800" spc="-1" strike="noStrike">
                <a:solidFill>
                  <a:srgbClr val="000000"/>
                </a:solidFill>
                <a:latin typeface="Arial"/>
              </a:rPr>
              <a:t>	</a:t>
            </a:r>
            <a:r>
              <a:rPr b="0" lang="en-US" sz="1800" spc="-1" strike="noStrike">
                <a:solidFill>
                  <a:srgbClr val="000000"/>
                </a:solidFill>
                <a:latin typeface="Arial"/>
              </a:rPr>
              <a:t>Átfutási idő</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11280" y="2349360"/>
            <a:ext cx="72738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rektura-ellenőr                          nyomtatvány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atvagyon minőségének             nyomtatvány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enőrzé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ódszertani ellenőrzés                  nyomtatvány                3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odukálhatósági kontroll          nyomtatvány                1</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ját következteté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lyessége                                      nyomtatvány               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élcsoport helyes kezelése           nyomtatvány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iindulási helyzet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ltártságának ellenőrzése               nyomtatvány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esíté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 következése esetén a potenciális személy értesítése levélben, e-mail-ben, telefonon vagy esetleg szób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amilyen adat hiány esetén való szólás az előzőekben írt mód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edmények fogadása 1</a:t>
            </a:r>
            <a:br>
              <a:rPr sz="4000"/>
            </a:br>
            <a:endParaRPr b="0" lang="en-US" sz="40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elő követelményként megállapított munkakörök outputjainak fogad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jelzés a megérkezett eredményekről, amely egyben azt jelenti, hogy az adott munkakör átvette kompetenciája erejéig a dolgozat feletti felügyeletet A visszajelzés lehet pozitív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etve negatí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 2</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redmények fogadása nevű munkafolyamat fogja kvázi tudatni az adatokat küldő munkakörrel (szükség esetén többel is), hogy a munkakörünk meg tudta kezdeni a munkát a kapott adatokkal. Ebben az esetben pozitív visszajelz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az adatok egyszerűen nem érkeznek meg időre, akkor a visszajelzésünk negatí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véleményünk szerint a kapott adatok hibásak, visszaküldjük az előző munkakörnek újbóli ellenőrzés céljá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 3</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kapott eredmények megfelelnek a további feldolgozás részére, akkor áttérés a következő munkafolyama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yakorlati lépéselem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sznosság „kihasználása” 1</a:t>
            </a:r>
            <a:endParaRPr b="0" lang="en-US" sz="32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nyiben találtunk érdeklődőket leendő munkánkra, érdemes megpróbálni közülük támogatóra szert ten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 mindenképpen közvetlen anyagi támogatásra kell gondolni, hanem pl.: kapcsolati tőkéjé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ilyen jellegű segítségek megkönnyítik a dolgunkat, így az eredmények is hamarabb jelentkezhetne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sznosság „kihasználása” 2</a:t>
            </a:r>
            <a:endParaRPr b="0" lang="en-US" sz="32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az az eset fordul elő, hogy érdeklődő van, de semmilyen támogatásra nem hajlandó, érdemes megfontolni másik leendő partner felkutatásá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z nem olyan nehéz munka, hisz ha volt legalább egy érdeklődőnk, akkor biztosan akad másik is, aki tisztán látja benne a jövőbeli profitjá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övedelem realizálása 1</a:t>
            </a:r>
            <a:endParaRPr b="0" lang="en-US" sz="2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gszületett munka eredményeit gazdaságilag többféle módon használhatjuk f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zt a munkánkat támogató partnerekkel kötött megállapodások korlátozhatják. (pl.: a segítségért cserébe elsőként, vagy egyedüliként használhatják az elkészült szolgáltatás, ill. kutatás eredménye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övedelem realizálása 2</a:t>
            </a:r>
            <a:endParaRPr b="0" lang="en-US" sz="2400" spc="-1" strike="noStrike">
              <a:solidFill>
                <a:srgbClr val="000000"/>
              </a:solidFill>
              <a:latin typeface="Arial"/>
            </a:endParaRPr>
          </a:p>
        </p:txBody>
      </p:sp>
      <p:sp>
        <p:nvSpPr>
          <p:cNvPr id="285" name="PlaceHolder 2"/>
          <p:cNvSpPr>
            <a:spLocks noGrp="1"/>
          </p:cNvSpPr>
          <p:nvPr>
            <p:ph/>
          </p:nvPr>
        </p:nvSpPr>
        <p:spPr>
          <a:xfrm>
            <a:off x="611280" y="981000"/>
            <a:ext cx="8229600" cy="45259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 nem vagyunk korlátozva megállapodásokkal, az alábbi módokon válthatjuk munkánkat jövedelemre:</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egpraktikusabb módozat, ha munkánkat, a minket személyesen megkereső vállalatoknak, ill. magánszemélyeknek adjuk el.</a:t>
            </a:r>
            <a:endParaRPr b="0" lang="en-US" sz="2200" spc="-1" strike="noStrike">
              <a:solidFill>
                <a:srgbClr val="000000"/>
              </a:solidFill>
              <a:latin typeface="Arial"/>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lhelyezhetjük, egy mi általunk készített honlapon, ahonnan bárki letöltheti a megfelelő ellenszolgáltatás mellet, vagy fizetett hirdetéseket helyezünk a weblapra, és ingyen hozzáférhet bárki</a:t>
            </a:r>
            <a:endParaRPr b="0" lang="en-US" sz="2200" spc="-1" strike="noStrike">
              <a:solidFill>
                <a:srgbClr val="000000"/>
              </a:solidFill>
              <a:latin typeface="Arial"/>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képzelhető ezen módozatok kombinációja, illetve egyéb, az adott területre jellemző speciális „értékesítési” megoldások.</a:t>
            </a:r>
            <a:endParaRPr b="0" lang="en-US" sz="2200" spc="-1" strike="noStrike">
              <a:solidFill>
                <a:srgbClr val="000000"/>
              </a:solidFill>
              <a:latin typeface="Arial"/>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talogizálás</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gazolások és a folyamat irányításának átvét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tbázis létrehozása xls, vagy mdb formátumban, amely tartalmazza a diplomamunkát készítő adatait és a hozzá tartozó dolgozat adott munkakörben elkészült eredményeit, valamint a munkakörkódot és a dolgozatkód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talogizálás</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letkezett eredmények rögzítése a számítógépen + adathordozón, valamint online, vagy offline formátumban a dolgozat készítőjének kerül elküldés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azolás kiállítása az értékelés részé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nácsadá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önböző formátumú tanácsadások, felvilágosítások ( mint például papíron történő vagy interneten, e-mail-ben ( elektronikus levél útján), televízióban, szóban történő felvilágosítások, tudósítás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érdeklődő személyek kérdéseire válaszadá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ékelés</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lgozathoz, az adott munkakörben keletkezett eredmények on-line közzététele a többi munkakör számá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edmények formai (dátum, formátum) és technikai (pl.: valóban az e a hasznosság a dolgozatban, amire a dolgozatíró gondolt ) ellenőrzé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sgálat lehetséges kimenetelei: Esetleges hibák észlelése, és lehetőleg a munkafolyamaton, vagy munkakörön belüli javítása, vagy az azonnali elfogadá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ékelés</a:t>
            </a: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at lehetséges kimenetele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elmerült hibák észlelése és lehetőleg a munkafolyamaton, vagy munkakörön belüli javítás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zonnali elfogadá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típus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áridő lejá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izonyos munkafázis(ok) kimaradt(ak), vagy hibásan lettek teljesít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z esetleges számítási eredmények visszaellenőrzésénél tapasztalt eltérés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elytelen formát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 esetén külön keltezés szükséges, amelynek időpontja a hiba észlelésének ide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hibajavítás megtörtént, visszaküldés az értékelésn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több hiba nem található, a munkakört lezáró igazolás kiállítása (nyomtatvá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edmények továbbküldése a következő munkafolyamatnak (elektronikus, vagy nyomtatott formáb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30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örténh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lektronikus formában történő továbbítás (alapértelmezett) esetén a munka elküldésekor visszaigazolás kérése a címzettő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yomtatott formában, ha elektronikusan nem tudjuk technikai, vagy egyéb okból továbbítani. Ebben az esetben ajánlott küldeményként kezeljü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szaigazolás</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tal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kó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cí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Megérkeztek az ön által küldött dokumentum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át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mazott neve, beosztása, elérésének módj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tulajdonosának neve, cí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teljesítési igazolás</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tal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adatkó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adatot teljesítő(k) aláírá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 cí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Az általam ellenőrzött feladatkör feltételeinek megfel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teljesítési igazolás</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egyik munkafolyamat külön-külön is dátumozandó, majd az utolsó munkafolyamat dátuma lesz látható a következő munkakör számára az igazolás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gazolás kiállításának előfeltétele, hogy minden munkafolyamaton keresztül menjen pozitív eredménnye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nkaköri igazolás</a:t>
            </a:r>
            <a:endParaRPr b="0" lang="en-US" sz="4400" spc="-1" strike="noStrike">
              <a:solidFill>
                <a:srgbClr val="000000"/>
              </a:solidFill>
              <a:latin typeface="Arial"/>
            </a:endParaRPr>
          </a:p>
        </p:txBody>
      </p:sp>
      <p:sp>
        <p:nvSpPr>
          <p:cNvPr id="309" name="PlaceHolder 2"/>
          <p:cNvSpPr>
            <a:spLocks noGrp="1"/>
          </p:cNvSpPr>
          <p:nvPr>
            <p:ph/>
          </p:nvPr>
        </p:nvSpPr>
        <p:spPr>
          <a:xfrm>
            <a:off x="468000" y="1268280"/>
            <a:ext cx="82184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tal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kó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zövegrész: „A hasznosság kontroll rendben lezajlott, a dolgozat jelenlegi állapota további értékelésre alkalm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át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 vezető aláírása, vagy on-line formátumban az azt helyettesítő hitelesíté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hallgatá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ommunikáció szakértőnek az alábbi pont szerint értelmezhető a meghallga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ügyfelek panaszai és egyéb problémáinak a meghallgatása és minél előbb ezekre megoldás megtalálá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gi kockázat elemzés</a:t>
            </a:r>
            <a:br>
              <a:rPr sz="4400"/>
            </a:br>
            <a:endParaRPr b="0" lang="en-US" sz="4400" spc="-1" strike="noStrike">
              <a:solidFill>
                <a:srgbClr val="000000"/>
              </a:solidFill>
              <a:latin typeface="Arial"/>
            </a:endParaRPr>
          </a:p>
        </p:txBody>
      </p:sp>
      <p:sp>
        <p:nvSpPr>
          <p:cNvPr id="311" name="PlaceHolder 2"/>
          <p:cNvSpPr>
            <a:spLocks noGrp="1"/>
          </p:cNvSpPr>
          <p:nvPr>
            <p:ph type="subTitle"/>
          </p:nvPr>
        </p:nvSpPr>
        <p:spPr>
          <a:xfrm>
            <a:off x="4427280" y="6308640"/>
            <a:ext cx="4716360" cy="549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eczki Mihá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95280" y="691920"/>
            <a:ext cx="8229600" cy="5761080"/>
          </a:xfrm>
          <a:prstGeom prst="rect">
            <a:avLst/>
          </a:prstGeom>
          <a:noFill/>
          <a:ln w="0">
            <a:noFill/>
          </a:ln>
        </p:spPr>
        <p:txBody>
          <a:bodyPr lIns="90000" rIns="90000" tIns="46800" bIns="46800" anchor="t">
            <a:normAutofit/>
          </a:bodyPr>
          <a:p>
            <a:pPr lvl="4" marL="2057400" indent="-228600">
              <a:lnSpc>
                <a:spcPct val="8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SZEMÉLYES ADATOK VÉDEL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n-US" sz="2000" spc="-1" strike="noStrike">
                <a:solidFill>
                  <a:srgbClr val="000000"/>
                </a:solidFill>
                <a:latin typeface="Arial"/>
              </a:rPr>
              <a:t>Adatkezelés</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1) Személyes adat akkor kezelhető, ha: </a:t>
            </a:r>
            <a:br>
              <a:rPr sz="2000"/>
            </a:br>
            <a:r>
              <a:rPr b="0" lang="en-US" sz="2000" spc="-1" strike="noStrike">
                <a:solidFill>
                  <a:srgbClr val="000000"/>
                </a:solidFill>
                <a:latin typeface="Arial"/>
              </a:rPr>
              <a:t>    - ahhoz az érintett hozzájárul, vagy </a:t>
            </a:r>
            <a:br>
              <a:rPr sz="2000"/>
            </a:br>
            <a:r>
              <a:rPr b="0" lang="en-US" sz="2000" spc="-1" strike="noStrike">
                <a:solidFill>
                  <a:srgbClr val="000000"/>
                </a:solidFill>
                <a:latin typeface="Arial"/>
              </a:rPr>
              <a:t>    - azt törvény vagy - törvény felhatalmazása alapján, az abban  </a:t>
            </a:r>
            <a:r>
              <a:rPr b="0" lang="en-US" sz="2000" spc="-1" strike="noStrike">
                <a:solidFill>
                  <a:srgbClr val="000000"/>
                </a:solidFill>
                <a:latin typeface="Arial"/>
              </a:rPr>
              <a:t>	</a:t>
            </a:r>
            <a:r>
              <a:rPr b="0" lang="en-US" sz="2000" spc="-1" strike="noStrike">
                <a:solidFill>
                  <a:srgbClr val="000000"/>
                </a:solidFill>
                <a:latin typeface="Arial"/>
              </a:rPr>
              <a:t>meghatározott körben - helyi önkormányzat rendelete </a:t>
            </a:r>
            <a:r>
              <a:rPr b="0" lang="en-US" sz="2000" spc="-1" strike="noStrike">
                <a:solidFill>
                  <a:srgbClr val="000000"/>
                </a:solidFill>
                <a:latin typeface="Arial"/>
              </a:rPr>
              <a:t>	</a:t>
            </a:r>
            <a:r>
              <a:rPr b="0" lang="en-US" sz="2000" spc="-1" strike="noStrike">
                <a:solidFill>
                  <a:srgbClr val="000000"/>
                </a:solidFill>
                <a:latin typeface="Arial"/>
              </a:rPr>
              <a:t>elrendeli. </a:t>
            </a:r>
            <a:br>
              <a:rPr sz="2000"/>
            </a:br>
            <a:r>
              <a:rPr b="0" lang="en-US" sz="2000" spc="-1" strike="noStrike">
                <a:solidFill>
                  <a:srgbClr val="000000"/>
                </a:solidFill>
                <a:latin typeface="Arial"/>
              </a:rPr>
              <a:t>(2) Különleges adat akkor kezelhető, ha: </a:t>
            </a:r>
            <a:br>
              <a:rPr sz="2000"/>
            </a:br>
            <a:r>
              <a:rPr b="0" lang="en-US" sz="2000" spc="-1" strike="noStrike">
                <a:solidFill>
                  <a:srgbClr val="000000"/>
                </a:solidFill>
                <a:latin typeface="Arial"/>
              </a:rPr>
              <a:t>    - az adatkezeléshez az érintett írásban hozzájárul, vagy </a:t>
            </a:r>
            <a:br>
              <a:rPr sz="2000"/>
            </a:br>
            <a:r>
              <a:rPr b="0" lang="en-US" sz="2000" spc="-1" strike="noStrike">
                <a:solidFill>
                  <a:srgbClr val="000000"/>
                </a:solidFill>
                <a:latin typeface="Arial"/>
              </a:rPr>
              <a:t>    - az nemzetközi egyezményen alapul, vagy Alkotmányban biztosított alapvető jog érvényesítése, továbbá a nemzetbiztonság, a bűnmegelőzés vagy a bűnüldözés érdekében törvény elrend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z érintett hozzájárulását megadottnak kell tekinteni az érintett </a:t>
            </a:r>
            <a:r>
              <a:rPr b="0" lang="en-US" sz="2000" spc="-1" strike="noStrike">
                <a:solidFill>
                  <a:srgbClr val="000000"/>
                </a:solidFill>
                <a:latin typeface="Arial"/>
              </a:rPr>
              <a:t>	</a:t>
            </a:r>
            <a:r>
              <a:rPr b="0" lang="en-US" sz="2000" spc="-1" strike="noStrike">
                <a:solidFill>
                  <a:srgbClr val="000000"/>
                </a:solidFill>
                <a:latin typeface="Arial"/>
              </a:rPr>
              <a:t>közszereplése során általa közölt vagy a nyilvánosságra hozatal  </a:t>
            </a:r>
            <a:r>
              <a:rPr b="0" lang="en-US" sz="2000" spc="-1" strike="noStrike">
                <a:solidFill>
                  <a:srgbClr val="000000"/>
                </a:solidFill>
                <a:latin typeface="Arial"/>
              </a:rPr>
              <a:t>	</a:t>
            </a:r>
            <a:r>
              <a:rPr b="0" lang="en-US" sz="2000" spc="-1" strike="noStrike">
                <a:solidFill>
                  <a:srgbClr val="000000"/>
                </a:solidFill>
                <a:latin typeface="Arial"/>
              </a:rPr>
              <a:t>céljából általa átadott adatok tekintetében. </a:t>
            </a:r>
            <a:br>
              <a:rPr sz="2000"/>
            </a:br>
            <a:r>
              <a:rPr b="0" lang="en-US" sz="2000" spc="-1" strike="noStrike">
                <a:solidFill>
                  <a:srgbClr val="000000"/>
                </a:solidFill>
                <a:latin typeface="Arial"/>
              </a:rPr>
              <a:t>(5) Az érintett kérelmére indult eljárásban a szükséges adatainak </a:t>
            </a:r>
            <a:r>
              <a:rPr b="0" lang="en-US" sz="2000" spc="-1" strike="noStrike">
                <a:solidFill>
                  <a:srgbClr val="000000"/>
                </a:solidFill>
                <a:latin typeface="Arial"/>
              </a:rPr>
              <a:t>	</a:t>
            </a:r>
            <a:r>
              <a:rPr b="0" lang="en-US" sz="2000" spc="-1" strike="noStrike">
                <a:solidFill>
                  <a:srgbClr val="000000"/>
                </a:solidFill>
                <a:latin typeface="Arial"/>
              </a:rPr>
              <a:t>kezeléséhez való hozzájárulását vélelmezni kell. Erre a tényre </a:t>
            </a:r>
            <a:r>
              <a:rPr b="0" lang="en-US" sz="2000" spc="-1" strike="noStrike">
                <a:solidFill>
                  <a:srgbClr val="000000"/>
                </a:solidFill>
                <a:latin typeface="Arial"/>
              </a:rPr>
              <a:t>	</a:t>
            </a:r>
            <a:r>
              <a:rPr b="0" lang="en-US" sz="2000" spc="-1" strike="noStrike">
                <a:solidFill>
                  <a:srgbClr val="000000"/>
                </a:solidFill>
                <a:latin typeface="Arial"/>
              </a:rPr>
              <a:t>az érintett figyelmét fel kell hív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Az adatok minősé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ezelt személyes adatoknak meg kell felelniük az alábbi követelményeknek: </a:t>
            </a:r>
            <a:br>
              <a:rPr sz="2400"/>
            </a:br>
            <a:r>
              <a:rPr b="0" lang="en-US" sz="2400" spc="-1" strike="noStrike">
                <a:solidFill>
                  <a:srgbClr val="000000"/>
                </a:solidFill>
                <a:latin typeface="Arial"/>
              </a:rPr>
              <a:t>    - felvételük és kezelésük tisztességes és törvényes; </a:t>
            </a:r>
            <a:br>
              <a:rPr sz="2400"/>
            </a:br>
            <a:r>
              <a:rPr b="0" lang="en-US" sz="2400" spc="-1" strike="noStrike">
                <a:solidFill>
                  <a:srgbClr val="000000"/>
                </a:solidFill>
                <a:latin typeface="Arial"/>
              </a:rPr>
              <a:t>    - pontosak, teljesek és ha szükséges időszerűek; </a:t>
            </a:r>
            <a:br>
              <a:rPr sz="2400"/>
            </a:br>
            <a:r>
              <a:rPr b="0" lang="en-US" sz="2400" spc="-1" strike="noStrike">
                <a:solidFill>
                  <a:srgbClr val="000000"/>
                </a:solidFill>
                <a:latin typeface="Arial"/>
              </a:rPr>
              <a:t>    - tárolásuk módja alkalmas arra, hogy az érintettet csak a tárolás céljához szükséges ideig lehessen azonosítan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rlátozás nélkül használható, általános és egységes személyazonosító jel alkalmazása tilos.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Az érintettek jogai</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érintett: </a:t>
            </a:r>
            <a:br>
              <a:rPr sz="2800"/>
            </a:br>
            <a:r>
              <a:rPr b="0" lang="en-US" sz="2800" spc="-1" strike="noStrike">
                <a:solidFill>
                  <a:srgbClr val="000000"/>
                </a:solidFill>
                <a:latin typeface="Arial"/>
              </a:rPr>
              <a:t>  - tájékoztatást kérhet személyes adatai </a:t>
            </a:r>
            <a:r>
              <a:rPr b="0" lang="en-US" sz="2800" spc="-1" strike="noStrike">
                <a:solidFill>
                  <a:srgbClr val="000000"/>
                </a:solidFill>
                <a:latin typeface="Arial"/>
              </a:rPr>
              <a:t>	</a:t>
            </a:r>
            <a:r>
              <a:rPr b="0" lang="en-US" sz="2800" spc="-1" strike="noStrike">
                <a:solidFill>
                  <a:srgbClr val="000000"/>
                </a:solidFill>
                <a:latin typeface="Arial"/>
              </a:rPr>
              <a:t>kezeléséről (12. és 13. §), valamint </a:t>
            </a:r>
            <a:br>
              <a:rPr sz="2800"/>
            </a:br>
            <a:r>
              <a:rPr b="0" lang="en-US" sz="2800" spc="-1" strike="noStrike">
                <a:solidFill>
                  <a:srgbClr val="000000"/>
                </a:solidFill>
                <a:latin typeface="Arial"/>
              </a:rPr>
              <a:t> - kérheti személyes adatainak helyesbítését, </a:t>
            </a:r>
            <a:r>
              <a:rPr b="0" lang="en-US" sz="2800" spc="-1" strike="noStrike">
                <a:solidFill>
                  <a:srgbClr val="000000"/>
                </a:solidFill>
                <a:latin typeface="Arial"/>
              </a:rPr>
              <a:t>	</a:t>
            </a:r>
            <a:r>
              <a:rPr b="0" lang="en-US" sz="2800" spc="-1" strike="noStrike">
                <a:solidFill>
                  <a:srgbClr val="000000"/>
                </a:solidFill>
                <a:latin typeface="Arial"/>
              </a:rPr>
              <a:t>illetve - a jogszabályban elrendelt </a:t>
            </a:r>
            <a:r>
              <a:rPr b="0" lang="en-US" sz="2800" spc="-1" strike="noStrike">
                <a:solidFill>
                  <a:srgbClr val="000000"/>
                </a:solidFill>
                <a:latin typeface="Arial"/>
              </a:rPr>
              <a:t>	</a:t>
            </a:r>
            <a:r>
              <a:rPr b="0" lang="en-US" sz="2800" spc="-1" strike="noStrike">
                <a:solidFill>
                  <a:srgbClr val="000000"/>
                </a:solidFill>
                <a:latin typeface="Arial"/>
              </a:rPr>
              <a:t>adatkezelések kivételével - törlését (14-16. </a:t>
            </a:r>
            <a:r>
              <a:rPr b="0" lang="en-US" sz="2800" spc="-1" strike="noStrike">
                <a:solidFill>
                  <a:srgbClr val="000000"/>
                </a:solidFill>
                <a:latin typeface="Arial"/>
              </a:rPr>
              <a:t>	</a:t>
            </a:r>
            <a:r>
              <a:rPr b="0" lang="en-US" sz="2800" spc="-1" strike="noStrike">
                <a:solidFill>
                  <a:srgbClr val="000000"/>
                </a:solidFill>
                <a:latin typeface="Arial"/>
              </a:rPr>
              <a:t>§). </a:t>
            </a:r>
            <a:br>
              <a:rPr sz="2800"/>
            </a:br>
            <a:r>
              <a:rPr b="0" lang="en-US" sz="2800" spc="-1" strike="noStrike">
                <a:solidFill>
                  <a:srgbClr val="000000"/>
                </a:solidFill>
                <a:latin typeface="Arial"/>
              </a:rPr>
              <a:t>- Az adatvédelmi nyilvántartásba [28. § (1) bek.] </a:t>
            </a:r>
            <a:r>
              <a:rPr b="0" lang="en-US" sz="2800" spc="-1" strike="noStrike">
                <a:solidFill>
                  <a:srgbClr val="000000"/>
                </a:solidFill>
                <a:latin typeface="Arial"/>
              </a:rPr>
              <a:t>	</a:t>
            </a:r>
            <a:r>
              <a:rPr b="0" lang="en-US" sz="2800" spc="-1" strike="noStrike">
                <a:solidFill>
                  <a:srgbClr val="000000"/>
                </a:solidFill>
                <a:latin typeface="Arial"/>
              </a:rPr>
              <a:t>bárki betekinthet, az abban foglaltakról </a:t>
            </a:r>
            <a:r>
              <a:rPr b="0" lang="en-US" sz="2800" spc="-1" strike="noStrike">
                <a:solidFill>
                  <a:srgbClr val="000000"/>
                </a:solidFill>
                <a:latin typeface="Arial"/>
              </a:rPr>
              <a:t>	</a:t>
            </a:r>
            <a:r>
              <a:rPr b="0" lang="en-US" sz="2800" spc="-1" strike="noStrike">
                <a:solidFill>
                  <a:srgbClr val="000000"/>
                </a:solidFill>
                <a:latin typeface="Arial"/>
              </a:rPr>
              <a:t>feljegyzést készíthet és kivonatot kérhet. A </a:t>
            </a:r>
            <a:r>
              <a:rPr b="0" lang="en-US" sz="2800" spc="-1" strike="noStrike">
                <a:solidFill>
                  <a:srgbClr val="000000"/>
                </a:solidFill>
                <a:latin typeface="Arial"/>
              </a:rPr>
              <a:t>	</a:t>
            </a:r>
            <a:r>
              <a:rPr b="0" lang="en-US" sz="2800" spc="-1" strike="noStrike">
                <a:solidFill>
                  <a:srgbClr val="000000"/>
                </a:solidFill>
                <a:latin typeface="Arial"/>
              </a:rPr>
              <a:t>kivonatért díjat kell fizetn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z érintettek jogai II.</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érintett kérelmére az adatkezelő tájékoztatást ad az általa kezelt, illetőleg az általa megbízott feldolgozó által feldolgozott adatairól, az adatkezelés céljáról, jogalapjáról időtartamáról, az adatfeldolgozó nevéről, címéről (székhelyéről) és az adatkezeléssel összefüggő tevékenységéről, továbbá arról, hogy kik és milyen célból kapják vagy kapták meg az adatokat. Az adattovábbításra vonatkozó nyilvántartás - és ennek alapján a tájékoztatási kötelezettség - időtartamát az adatkezelést szabályozó jogszabály korlátozhatja. A korlátozás időtartama személyes adatok esetében öt évnél, különleges adatok esetében pedig húsz évnél rövidebb nem leh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írósági jogérvényesítés</a:t>
            </a: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z érintett, jogainak megsértése esetén, az adatkezelő ellen a bírósághoz fordulhat. </a:t>
            </a:r>
            <a:br>
              <a:rPr sz="2400"/>
            </a:br>
            <a:br>
              <a:rPr sz="2400"/>
            </a:br>
            <a:r>
              <a:rPr b="0" i="1" lang="en-US" sz="2400" spc="-1" strike="noStrike">
                <a:solidFill>
                  <a:srgbClr val="000000"/>
                </a:solidFill>
                <a:latin typeface="Arial"/>
              </a:rPr>
              <a:t>Kártéríté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adatkezelő az érintett adatainak jogellenes kezelésével vagy a technikai adatvédelem követelményeinek megszegésével másnak okozott kárt köteles megtéríteni. Az érintettel szemben az adatkezelő felel az adatfeldolgozó által okozott kárért is. Az adatkezelő mentesül a felelősség alól, ha bizonyítja, hogy a kárt az adatkezelés körén kívül eső elháríthatatlan ok idézte elő.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Korrektúra-ellenőr</a:t>
            </a:r>
            <a:endParaRPr b="0" lang="en-US" sz="5500" spc="-1" strike="noStrike">
              <a:solidFill>
                <a:srgbClr val="000000"/>
              </a:solidFill>
              <a:latin typeface="Arial"/>
            </a:endParaRPr>
          </a:p>
        </p:txBody>
      </p:sp>
      <p:sp>
        <p:nvSpPr>
          <p:cNvPr id="322" name="PlaceHolder 2"/>
          <p:cNvSpPr>
            <a:spLocks noGrp="1"/>
          </p:cNvSpPr>
          <p:nvPr>
            <p:ph type="subTitle"/>
          </p:nvPr>
        </p:nvSpPr>
        <p:spPr>
          <a:xfrm>
            <a:off x="722160" y="3684600"/>
            <a:ext cx="7772400" cy="2030400"/>
          </a:xfrm>
          <a:prstGeom prst="rect">
            <a:avLst/>
          </a:prstGeom>
          <a:noFill/>
          <a:ln w="0">
            <a:noFill/>
          </a:ln>
        </p:spPr>
        <p:txBody>
          <a:bodyPr lIns="182880" rIns="90000" tIns="0" bIns="4680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9766f"/>
                </a:solidFill>
                <a:latin typeface="Arial"/>
              </a:rPr>
              <a:t>A korrektor munkája annyiban különbözik a szerkesztőétől, hogy ő a szövegen tartalmi javításokat már nem tehet, kizárólag a szerkesztő által észre nem vett nyelvhelyességi, helyesírási hibákat, a szedés vagy a számítógépes rögzítés során keletkezett elgépelési hibákat javíthatja, és a fent felsorolt egységesítési feladatokat hajthatja végre. Ha tartalmi hibát, tévedést, következetlenséget észlel, arra fel kell hívnia a szerző figyelmé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i fontos ilyenkor…</a:t>
            </a:r>
            <a:endParaRPr b="0" lang="en-US"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182880" rIns="90000" tIns="91440" bIns="46800" anchor="t">
            <a:normAutofit fontScale="93000"/>
          </a:bodyPr>
          <a:p>
            <a:pPr marL="246240" indent="-24624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yesírási hiba</a:t>
            </a:r>
            <a:endParaRPr b="0" lang="en-US" sz="3000" spc="-1" strike="noStrike">
              <a:solidFill>
                <a:srgbClr val="000000"/>
              </a:solidFill>
              <a:latin typeface="Arial"/>
            </a:endParaRPr>
          </a:p>
          <a:p>
            <a:pPr marL="246240" indent="-24624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szők</a:t>
            </a:r>
            <a:endParaRPr b="0" lang="en-US" sz="3000" spc="-1" strike="noStrike">
              <a:solidFill>
                <a:srgbClr val="000000"/>
              </a:solidFill>
              <a:latin typeface="Arial"/>
            </a:endParaRPr>
          </a:p>
          <a:p>
            <a:pPr marL="246240" indent="-24624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kezetek</a:t>
            </a:r>
            <a:endParaRPr b="0" lang="en-US" sz="3000" spc="-1" strike="noStrike">
              <a:solidFill>
                <a:srgbClr val="000000"/>
              </a:solidFill>
              <a:latin typeface="Arial"/>
            </a:endParaRPr>
          </a:p>
          <a:p>
            <a:pPr marL="246240" indent="-24624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zóközök</a:t>
            </a:r>
            <a:endParaRPr b="0" lang="en-US" sz="3000" spc="-1" strike="noStrike">
              <a:solidFill>
                <a:srgbClr val="000000"/>
              </a:solidFill>
              <a:latin typeface="Arial"/>
            </a:endParaRPr>
          </a:p>
          <a:p>
            <a:pPr marL="246240" indent="-246240">
              <a:lnSpc>
                <a:spcPct val="1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írás</a:t>
            </a:r>
            <a:endParaRPr b="0" lang="en-US" sz="3000" spc="-1" strike="noStrike">
              <a:solidFill>
                <a:srgbClr val="000000"/>
              </a:solidFill>
              <a:latin typeface="Arial"/>
            </a:endParaRPr>
          </a:p>
          <a:p>
            <a:pPr marL="246240" indent="-2462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46240" indent="-246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yesírási hiba</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182880" rIns="90000" tIns="91440" bIns="46800" anchor="t">
            <a:normAutofit fontScale="98000"/>
          </a:bodyPr>
          <a:p>
            <a:pPr marL="259560" indent="-2595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korrektor egyik legfőbb feladata, hogy tüzetesen átolvassa az adott szöveget, ha kell többször is. Ugyan az MS Word-benn szerkesztett szövegekben a program aláhúzza a hibás szavakat, de ez nem megbízható teljes mértékben. </a:t>
            </a:r>
            <a:endParaRPr b="0" lang="en-US" sz="3000" spc="-1" strike="noStrike">
              <a:solidFill>
                <a:srgbClr val="000000"/>
              </a:solidFill>
              <a:latin typeface="Arial"/>
            </a:endParaRPr>
          </a:p>
          <a:p>
            <a:pPr marL="259560" indent="-2595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ökéletes javításhoz ezért legalább egyszer el kell olvasni az egész szöveget és kijavítani a helyesírási hibákat, ide értve a „j” és „ly”-t, a tulajdonneveket, a nagybetűs-kisbetűs hibákat és a többi nyelvtani szabályt megszegő szó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sszők</a:t>
            </a:r>
            <a:endParaRPr b="0" lang="en-US"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182880" rIns="90000" tIns="91440" bIns="46800" anchor="t">
            <a:normAutofit/>
          </a:bodyPr>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orrektorral szemben nem csak a nyelvtani tudás és annak tökéletes alkalmazása az elvárás, a vesszőket is tudnia kell megfelelően alkalmazni. </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y-egy rossz helyre illesztett vessző ugyanis megváltoztathatja a mondat teljes jelentését és ezzel nagyobb gondot tud okozni, mint azt elsőre gondolnánk. </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m árt azonban, ha odafigyel a vesszők esetén, mert lehet, hogy a szerző direkt rakott az adott helyre vesszőt és, noha vessző nélkül is értelmes a mondat, mégis annak törlése (vagy épp odahelyezése) a szerző mondandóját módosítja. Ezt pedig kerülni ke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ultáció</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zakértőknek néha( főleg egy dologban való változásoknál) konzultációkat más néven megbeszéléseket szoktak tartani egy bizonyos témában ( annak változásaiban, bővítéseiben, problémáiban és ilyen dolgaib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kezetek</a:t>
            </a:r>
            <a:endParaRPr b="0" lang="en-US"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182880" rIns="90000" tIns="91440" bIns="46800" anchor="t">
            <a:normAutofit/>
          </a:bodyPr>
          <a:p>
            <a:pPr marL="264960" indent="-26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ékezeteket akár a helyesíráshoz is sorolhattam volna, ennek mégis külön jelentősége van. Az ékezeteket ritkán szokás lefelejteni, mégis előfordulhat és méretéből adódóan nehezebb észrevenni hiányát. Növeli a korrektor munkáját, ha a cikk vagy tanulmány angol billentyűzeten lett begépel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óközök</a:t>
            </a:r>
            <a:endParaRPr b="0" lang="en-US"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182880" rIns="90000" tIns="91440" bIns="46800" anchor="t">
            <a:normAutofit/>
          </a:bodyPr>
          <a:p>
            <a:pPr marL="264960" indent="-26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óközök esetén azon evidens tényezőn túl, miszerint minden szót szóköz követ, fontos figyelni arra, hogy a mondat vége – pont, kérdőjel, felkiáltójel – után mindenképpen szóköz k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írások</a:t>
            </a:r>
            <a:endParaRPr b="0" lang="en-US"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182880" rIns="90000" tIns="91440" bIns="46800" anchor="t">
            <a:normAutofit/>
          </a:bodyPr>
          <a:p>
            <a:pPr marL="264960" indent="-26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t nem csak a félreütött billentyűkre kell gondolni, hanem a szerző által írt, de oda nem illő szavakra is. Ilyen esetben viszont a legtöbb esetben ki kell kérni a szerző véleményét a javítást illető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1080"/>
            <a:ext cx="8229600" cy="114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övethető-e a dolgozat finomodásának folyamata kívülállók számára?</a:t>
            </a:r>
            <a:endParaRPr b="0" lang="en-US" sz="2800" spc="-1" strike="noStrike">
              <a:solidFill>
                <a:srgbClr val="000000"/>
              </a:solidFill>
              <a:latin typeface="Arial"/>
            </a:endParaRPr>
          </a:p>
        </p:txBody>
      </p:sp>
      <p:sp>
        <p:nvSpPr>
          <p:cNvPr id="336" name=""/>
          <p:cNvSpPr txBox="1"/>
          <p:nvPr/>
        </p:nvSpPr>
        <p:spPr>
          <a:xfrm>
            <a:off x="457200" y="1600200"/>
            <a:ext cx="8229600" cy="4525920"/>
          </a:xfrm>
          <a:prstGeom prst="rect">
            <a:avLst/>
          </a:prstGeom>
          <a:noFill/>
          <a:ln w="0">
            <a:noFill/>
          </a:ln>
        </p:spPr>
        <p:txBody>
          <a:bodyPr lIns="182880" rIns="90000" tIns="91440" bIns="46800" anchor="t">
            <a:normAutofit/>
          </a:bodyPr>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gy követhető-e a folyamat egy kívülálló számára csakis a korrektoron múlik. </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ét esetben lehet követhetővé tenni:</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ha nem egy menetben történik a javítás és a korrektor minden szünetben feltölti pl. weboldalára a javított, de még el nem készült teljes szöveget</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ha olyan programmal történik a szerkesztés, melybe bizonyos engedéllyel betekintést nyerhetünk. Hasonló program az MS Office Groove, mellyel interneten keresztül több felhasználó egy adott munkán egyidejűleg dolgozhat. Ennek egy korlátozott, szimplex verziója lehet, ha csak egy ember dolgozhat és ennek adott szemlélője leh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88600" y="2874600"/>
            <a:ext cx="6172200" cy="17254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ILYEN JOGOKKAL KINEK?”</a:t>
            </a:r>
            <a:endParaRPr b="0" lang="en-US" sz="1800" spc="-1" strike="noStrike">
              <a:solidFill>
                <a:srgbClr val="000000"/>
              </a:solidFill>
              <a:latin typeface="Arial"/>
            </a:endParaRPr>
          </a:p>
        </p:txBody>
      </p:sp>
      <p:sp>
        <p:nvSpPr>
          <p:cNvPr id="338"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bbe0e3"/>
                </a:solidFill>
                <a:latin typeface="Arial"/>
              </a:rPr>
              <a:t>Pdf-konverzió</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 az a PDF?</a:t>
            </a:r>
            <a:endParaRPr b="0" lang="en-US" sz="4400" spc="-1" strike="noStrike">
              <a:solidFill>
                <a:srgbClr val="000000"/>
              </a:solidFill>
              <a:latin typeface="Arial"/>
            </a:endParaRPr>
          </a:p>
        </p:txBody>
      </p:sp>
      <p:sp>
        <p:nvSpPr>
          <p:cNvPr id="340" name=""/>
          <p:cNvSpPr txBox="1"/>
          <p:nvPr/>
        </p:nvSpPr>
        <p:spPr>
          <a:xfrm>
            <a:off x="456840" y="1603080"/>
            <a:ext cx="8201160" cy="449892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ortable Document Format</a:t>
            </a:r>
            <a:r>
              <a:rPr b="0" lang="en-US" sz="2400" spc="-1" strike="noStrike">
                <a:solidFill>
                  <a:srgbClr val="000000"/>
                </a:solidFill>
                <a:latin typeface="Arial"/>
              </a:rPr>
              <a:t> (</a:t>
            </a:r>
            <a:r>
              <a:rPr b="1" lang="en-US" sz="2400" spc="-1" strike="noStrike">
                <a:solidFill>
                  <a:srgbClr val="000000"/>
                </a:solidFill>
                <a:latin typeface="Arial"/>
              </a:rPr>
              <a:t>PDF</a:t>
            </a:r>
            <a:r>
              <a:rPr b="0" lang="en-US" sz="2400" spc="-1" strike="noStrike">
                <a:solidFill>
                  <a:srgbClr val="000000"/>
                </a:solidFill>
                <a:latin typeface="Arial"/>
              </a:rPr>
              <a:t>) az Adobe Systems által kifejlesztett bináris fájlformátum. Ebben a formátumban dokumentumok tárolhatók, amelyek különböző szoftverekkel, hardverekkel és operációs rendszerekkel olvashatók és létrehozhatók. A PDF alkalmas szöveget, ábrát és képeket tartalmazó dokumentum leírására eszközfüggetlen és felbontásfüggetlen formában. A dokumentum lehet egyoldalas, és több ezer oldalas is, egyszerű vagy összetett: sokféle betűtípussal, ábrával, színnel és képpel, továbbá tartalmazhat interaktív beviteli mezőket, nyomógombokat stb., lehetőséget teremtve arra, hogy üres űrlapokat hozzunk létre, amit a felhasználók később elektronikus formában is ki tudnak töl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ért kell TDK-t PDF-be…?</a:t>
            </a:r>
            <a:endParaRPr b="0" lang="en-US" sz="4400" spc="-1" strike="noStrike">
              <a:solidFill>
                <a:srgbClr val="000000"/>
              </a:solidFill>
              <a:latin typeface="Arial"/>
            </a:endParaRPr>
          </a:p>
        </p:txBody>
      </p:sp>
      <p:sp>
        <p:nvSpPr>
          <p:cNvPr id="342" name=""/>
          <p:cNvSpPr txBox="1"/>
          <p:nvPr/>
        </p:nvSpPr>
        <p:spPr>
          <a:xfrm>
            <a:off x="456840" y="1603080"/>
            <a:ext cx="8201160" cy="4498920"/>
          </a:xfrm>
          <a:prstGeom prst="rect">
            <a:avLst/>
          </a:prstGeom>
          <a:noFill/>
          <a:ln w="0">
            <a:noFill/>
          </a:ln>
        </p:spPr>
        <p:txBody>
          <a:bodyPr lIns="90000" rIns="90000" tIns="46800" bIns="46800" anchor="t">
            <a:normAutofit fontScale="90000"/>
          </a:bodyPr>
          <a:p>
            <a:pPr marL="245520" indent="-245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DF formátummal a bevitt szakdolgozat vagy egyéb írásos anyag könyvszerű formában tárolható, olvasható, de nem módosítható és látványosabb formájú. Segítségével dokumentumunkat kulturáltabb formában tárhatjuk a világ elé, és egyben megakadályozzuk, hogy illetéktelenek módosíthassák azt. Jelszóval való védelmére is lehetőségünk van, így megtekintetni is csak az illetékesek tudjá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i a jogokat illeti…</a:t>
            </a:r>
            <a:endParaRPr b="0" lang="en-US" sz="4400" spc="-1" strike="noStrike">
              <a:solidFill>
                <a:srgbClr val="000000"/>
              </a:solidFill>
              <a:latin typeface="Arial"/>
            </a:endParaRPr>
          </a:p>
        </p:txBody>
      </p:sp>
      <p:sp>
        <p:nvSpPr>
          <p:cNvPr id="344" name=""/>
          <p:cNvSpPr txBox="1"/>
          <p:nvPr/>
        </p:nvSpPr>
        <p:spPr>
          <a:xfrm>
            <a:off x="456840" y="1603080"/>
            <a:ext cx="8201160" cy="4498920"/>
          </a:xfrm>
          <a:prstGeom prst="rect">
            <a:avLst/>
          </a:prstGeom>
          <a:noFill/>
          <a:ln w="0">
            <a:noFill/>
          </a:ln>
        </p:spPr>
        <p:txBody>
          <a:bodyPr lIns="90000" rIns="90000" tIns="46800" bIns="46800" anchor="t">
            <a:normAutofit fontScale="92000"/>
          </a:bodyPr>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zakdolgozatba való betekintésbe legfőbb joga van:</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 szerzőnek</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és annak, akinek a szerző szánja</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 érdekünkben áll, hogy más ne férjen hozzá a jelszóval való titkosítást célszerű használni. </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llékesen jegyezném meg, hogy a jelszóval való védelem egy módja a szellemi termék írásos részének bevédésére is. Ez áruba is bocsátható. Ilyen esetben az állomány ingyenesen letölthető és csupán a kulcsért kell fizetni. </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zerző felhatalmazhat külső embereket is a dokumentum megtekintésére, ilyen lehet:</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 korrektor</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 kritikus</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egy segítő</a:t>
            </a:r>
            <a:endParaRPr b="0" lang="en-US" sz="2100" spc="-1" strike="noStrike">
              <a:solidFill>
                <a:srgbClr val="000000"/>
              </a:solidFill>
              <a:latin typeface="Arial"/>
            </a:endParaRPr>
          </a:p>
          <a:p>
            <a:pPr marL="250920" indent="-250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egy érdeklődő</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jelenési forma</a:t>
            </a:r>
            <a:endParaRPr b="0" lang="en-US" sz="4400" spc="-1" strike="noStrike">
              <a:solidFill>
                <a:srgbClr val="000000"/>
              </a:solidFill>
              <a:latin typeface="Arial"/>
            </a:endParaRPr>
          </a:p>
        </p:txBody>
      </p:sp>
      <p:sp>
        <p:nvSpPr>
          <p:cNvPr id="346" name=""/>
          <p:cNvSpPr txBox="1"/>
          <p:nvPr/>
        </p:nvSpPr>
        <p:spPr>
          <a:xfrm>
            <a:off x="456840" y="1603080"/>
            <a:ext cx="8201160" cy="4498920"/>
          </a:xfrm>
          <a:prstGeom prst="rect">
            <a:avLst/>
          </a:prstGeom>
          <a:noFill/>
          <a:ln w="0">
            <a:noFill/>
          </a:ln>
        </p:spPr>
        <p:txBody>
          <a:bodyPr lIns="90000" rIns="90000" tIns="46800" bIns="46800" anchor="t">
            <a:normAutofit fontScale="96000"/>
          </a:bodyPr>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észetesen lehetőségünk van a munka kinyomtatására is, így könyvként kezelhetjük azt. Ez az off-line forma.</a:t>
            </a:r>
            <a:endParaRPr b="0" lang="en-US" sz="3200" spc="-1" strike="noStrike">
              <a:solidFill>
                <a:srgbClr val="000000"/>
              </a:solidFill>
              <a:latin typeface="Arial"/>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formában szükség van egy számítógépre és egy pdf-et kezelő alkalmazása, amilyen pl. az Acrobat Reader. </a:t>
            </a:r>
            <a:endParaRPr b="0" lang="en-US" sz="3200" spc="-1" strike="noStrike">
              <a:solidFill>
                <a:srgbClr val="000000"/>
              </a:solidFill>
              <a:latin typeface="Arial"/>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ális esetben a szerző on-line és off-line formában is elérhetővé teszi anyagá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yomdai előkésztő</a:t>
            </a:r>
            <a:endParaRPr b="0" lang="en-US" sz="4400" spc="-1" strike="noStrike">
              <a:solidFill>
                <a:srgbClr val="000000"/>
              </a:solidFill>
              <a:latin typeface="Arial"/>
            </a:endParaRPr>
          </a:p>
        </p:txBody>
      </p:sp>
      <p:sp>
        <p:nvSpPr>
          <p:cNvPr id="348" name="PlaceHolder 2"/>
          <p:cNvSpPr>
            <a:spLocks noGrp="1"/>
          </p:cNvSpPr>
          <p:nvPr>
            <p:ph type="subTitle"/>
          </p:nvPr>
        </p:nvSpPr>
        <p:spPr>
          <a:xfrm>
            <a:off x="539280" y="1773360"/>
            <a:ext cx="8209080" cy="4751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DK munkák készítésénél fontos állomás a nyomdai előkészté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DK munkáknál általában vannak bizonyos formai követelmények a leadás előtt mielőtt nyomdába kerül az anyag. A következő részei vanna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ezeté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dalmi áttekintés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ag módszer</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edmények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övetkeztetések</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sszefoglalá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dalom jegyzék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Kommunikációs szakértő, aki azért felel, hogy a potenciális érintettek képben legyenek a folyamat utá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árhuzamos munkakörök katalógusa</a:t>
            </a:r>
            <a:endParaRPr b="0" lang="en-US" sz="2400" spc="-1" strike="noStrike">
              <a:solidFill>
                <a:srgbClr val="000000"/>
              </a:solidFill>
              <a:latin typeface="Arial"/>
            </a:endParaRPr>
          </a:p>
        </p:txBody>
      </p:sp>
      <p:sp>
        <p:nvSpPr>
          <p:cNvPr id="350" name="PlaceHolder 2"/>
          <p:cNvSpPr>
            <a:spLocks noGrp="1"/>
          </p:cNvSpPr>
          <p:nvPr>
            <p:ph type="subTitle"/>
          </p:nvPr>
        </p:nvSpPr>
        <p:spPr>
          <a:xfrm>
            <a:off x="826560" y="2133360"/>
            <a:ext cx="7705800" cy="3887640"/>
          </a:xfrm>
          <a:prstGeom prst="rect">
            <a:avLst/>
          </a:prstGeom>
          <a:solidFill>
            <a:srgbClr val="bbe0e3"/>
          </a:solidFill>
          <a:ln w="0">
            <a:noFill/>
          </a:ln>
        </p:spPr>
        <p:txBody>
          <a:bodyPr lIns="90000" rIns="90000" tIns="46800" bIns="46800"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formátum             átfutási idő</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émaválasztás konzultálása</a:t>
            </a:r>
            <a:r>
              <a:rPr b="0" lang="hu-HU" sz="3200" spc="-1" strike="noStrike">
                <a:solidFill>
                  <a:srgbClr val="000000"/>
                </a:solidFill>
                <a:latin typeface="Arial"/>
              </a:rPr>
              <a:t>      </a:t>
            </a:r>
            <a:r>
              <a:rPr b="0" lang="en-GB" sz="1800" spc="-1" strike="noStrike">
                <a:solidFill>
                  <a:srgbClr val="000000"/>
                </a:solidFill>
                <a:latin typeface="Arial"/>
              </a:rPr>
              <a:t>nyomtatvány </a:t>
            </a:r>
            <a:r>
              <a:rPr b="0" lang="hu-HU" sz="1800" spc="-1" strike="noStrike">
                <a:solidFill>
                  <a:srgbClr val="000000"/>
                </a:solidFill>
                <a:latin typeface="Arial"/>
              </a:rPr>
              <a:t>            3 óra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kirodalmi formai ellenőr            </a:t>
            </a:r>
            <a:r>
              <a:rPr b="0" lang="en-GB" sz="1800" spc="-1" strike="noStrike">
                <a:solidFill>
                  <a:srgbClr val="000000"/>
                </a:solidFill>
                <a:latin typeface="Arial"/>
              </a:rPr>
              <a:t>nyomtatvány</a:t>
            </a:r>
            <a:r>
              <a:rPr b="0" lang="hu-HU" sz="1800" spc="-1" strike="noStrike">
                <a:solidFill>
                  <a:srgbClr val="000000"/>
                </a:solidFill>
                <a:latin typeface="Arial"/>
              </a:rPr>
              <a:t>             3 óra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lágium-kontroll                              </a:t>
            </a:r>
            <a:r>
              <a:rPr b="0" lang="en-GB" sz="1800" spc="-1" strike="noStrike">
                <a:solidFill>
                  <a:srgbClr val="000000"/>
                </a:solidFill>
                <a:latin typeface="Arial"/>
              </a:rPr>
              <a:t>nyomtatvány </a:t>
            </a:r>
            <a:r>
              <a:rPr b="0" lang="hu-HU" sz="1800" spc="-1" strike="noStrike">
                <a:solidFill>
                  <a:srgbClr val="000000"/>
                </a:solidFill>
                <a:latin typeface="Arial"/>
              </a:rPr>
              <a:t>            3 óra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orrektura-ellenőr                           </a:t>
            </a:r>
            <a:r>
              <a:rPr b="0" lang="en-GB" sz="1800" spc="-1" strike="noStrike">
                <a:solidFill>
                  <a:srgbClr val="000000"/>
                </a:solidFill>
                <a:latin typeface="Arial"/>
              </a:rPr>
              <a:t>nyomtatvány </a:t>
            </a:r>
            <a:r>
              <a:rPr b="0" lang="hu-HU" sz="1800" spc="-1" strike="noStrike">
                <a:solidFill>
                  <a:srgbClr val="000000"/>
                </a:solidFill>
                <a:latin typeface="Arial"/>
              </a:rPr>
              <a:t>            3 óra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Jogi kockázat-ellenőrzés                </a:t>
            </a:r>
            <a:r>
              <a:rPr b="0" lang="en-GB" sz="1800" spc="-1" strike="noStrike">
                <a:solidFill>
                  <a:srgbClr val="000000"/>
                </a:solidFill>
                <a:latin typeface="Arial"/>
              </a:rPr>
              <a:t>nyomtatvány</a:t>
            </a:r>
            <a:r>
              <a:rPr b="0" lang="hu-HU" sz="1800" spc="-1" strike="noStrike">
                <a:solidFill>
                  <a:srgbClr val="000000"/>
                </a:solidFill>
                <a:latin typeface="Arial"/>
              </a:rPr>
              <a:t>            </a:t>
            </a:r>
            <a:r>
              <a:rPr b="0" lang="en-GB" sz="1800" spc="-1" strike="noStrike">
                <a:solidFill>
                  <a:srgbClr val="000000"/>
                </a:solidFill>
                <a:latin typeface="Arial"/>
              </a:rPr>
              <a:t> </a:t>
            </a:r>
            <a:r>
              <a:rPr b="0" lang="hu-HU" sz="1800" spc="-1" strike="noStrike">
                <a:solidFill>
                  <a:srgbClr val="000000"/>
                </a:solidFill>
                <a:latin typeface="Arial"/>
              </a:rPr>
              <a:t>3 óra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trukturális ellenőrzés                    </a:t>
            </a:r>
            <a:r>
              <a:rPr b="0" lang="en-GB" sz="1800" spc="-1" strike="noStrike">
                <a:solidFill>
                  <a:srgbClr val="000000"/>
                </a:solidFill>
                <a:latin typeface="Arial"/>
              </a:rPr>
              <a:t>nyomtatvány</a:t>
            </a:r>
            <a:r>
              <a:rPr b="0" lang="hu-HU" sz="1800" spc="-1" strike="noStrike">
                <a:solidFill>
                  <a:srgbClr val="000000"/>
                </a:solidFill>
                <a:latin typeface="Arial"/>
              </a:rPr>
              <a:t>           </a:t>
            </a:r>
            <a:r>
              <a:rPr b="0" lang="en-GB" sz="1800" spc="-1" strike="noStrike">
                <a:solidFill>
                  <a:srgbClr val="000000"/>
                </a:solidFill>
                <a:latin typeface="Arial"/>
              </a:rPr>
              <a:t> </a:t>
            </a:r>
            <a:r>
              <a:rPr b="0" lang="hu-HU" sz="1800" spc="-1" strike="noStrike">
                <a:solidFill>
                  <a:srgbClr val="000000"/>
                </a:solidFill>
                <a:latin typeface="Arial"/>
              </a:rPr>
              <a:t> 3 óra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fejezetek, alfejezetek, helyes irodalmi tagolás megvan e )     3 ó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71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a:t>
            </a:r>
            <a:endParaRPr b="0" lang="en-US" sz="4400" spc="-1" strike="noStrike">
              <a:solidFill>
                <a:srgbClr val="000000"/>
              </a:solidFill>
              <a:latin typeface="Arial"/>
            </a:endParaRPr>
          </a:p>
        </p:txBody>
      </p:sp>
      <p:sp>
        <p:nvSpPr>
          <p:cNvPr id="352" name="PlaceHolder 2"/>
          <p:cNvSpPr>
            <a:spLocks noGrp="1"/>
          </p:cNvSpPr>
          <p:nvPr>
            <p:ph type="subTitle"/>
          </p:nvPr>
        </p:nvSpPr>
        <p:spPr>
          <a:xfrm>
            <a:off x="1331640" y="2492280"/>
            <a:ext cx="7127640" cy="338472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nyomdába megérkeznek a dolgozatok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isszaigazolás a nyomda részéről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nyomda elvégzi a szakmai munkállatokat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Áttérés a </a:t>
            </a:r>
            <a:r>
              <a:rPr b="0" lang="hu-HU" sz="2400" spc="-1" strike="noStrike">
                <a:solidFill>
                  <a:srgbClr val="000000"/>
                </a:solidFill>
                <a:latin typeface="Arial"/>
              </a:rPr>
              <a:t>következő</a:t>
            </a:r>
            <a:r>
              <a:rPr b="0" lang="en-GB" sz="2400" spc="-1" strike="noStrike">
                <a:solidFill>
                  <a:srgbClr val="000000"/>
                </a:solidFill>
                <a:latin typeface="Arial"/>
              </a:rPr>
              <a:t> feladatra</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nyomdába küldés előtt meghatározzák, hogy külalakilag milyen legyen a TDK-dolgozat (tipográfiailg egyénre szabva)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2692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atalogizálás</a:t>
            </a:r>
            <a:endParaRPr b="0" lang="en-US" sz="4400" spc="-1" strike="noStrike">
              <a:solidFill>
                <a:srgbClr val="000000"/>
              </a:solidFill>
              <a:latin typeface="Arial"/>
            </a:endParaRPr>
          </a:p>
        </p:txBody>
      </p:sp>
      <p:sp>
        <p:nvSpPr>
          <p:cNvPr id="354" name="PlaceHolder 2"/>
          <p:cNvSpPr>
            <a:spLocks noGrp="1"/>
          </p:cNvSpPr>
          <p:nvPr>
            <p:ph type="subTitle"/>
          </p:nvPr>
        </p:nvSpPr>
        <p:spPr>
          <a:xfrm>
            <a:off x="899640" y="2276280"/>
            <a:ext cx="7048440" cy="2160360"/>
          </a:xfrm>
          <a:prstGeom prst="rect">
            <a:avLst/>
          </a:prstGeom>
          <a:noFill/>
          <a:ln w="0">
            <a:noFill/>
          </a:ln>
        </p:spPr>
        <p:txBody>
          <a:bodyPr lIns="90000" rIns="90000" tIns="46800" bIns="46800" anchor="t">
            <a:noAutofit/>
          </a:bodyPr>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leadott dolgozatok a nyomdai leadás előtt katalogizálják így meggyorsítva a nyomdaipari munkálatot. A TDK dolgozatokat egyszerre adják le így megkönnyítik a nyomda dolgá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55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bakezelés</a:t>
            </a:r>
            <a:endParaRPr b="0" lang="en-US" sz="4400" spc="-1" strike="noStrike">
              <a:solidFill>
                <a:srgbClr val="000000"/>
              </a:solidFill>
              <a:latin typeface="Arial"/>
            </a:endParaRPr>
          </a:p>
        </p:txBody>
      </p:sp>
      <p:sp>
        <p:nvSpPr>
          <p:cNvPr id="356" name="PlaceHolder 2"/>
          <p:cNvSpPr>
            <a:spLocks noGrp="1"/>
          </p:cNvSpPr>
          <p:nvPr>
            <p:ph type="subTitle"/>
          </p:nvPr>
        </p:nvSpPr>
        <p:spPr>
          <a:xfrm>
            <a:off x="1332000" y="1628640"/>
            <a:ext cx="6912000" cy="3673440"/>
          </a:xfrm>
          <a:prstGeom prst="rect">
            <a:avLst/>
          </a:prstGeom>
          <a:noFill/>
          <a:ln w="0">
            <a:noFill/>
          </a:ln>
        </p:spPr>
        <p:txBody>
          <a:bodyPr lIns="90000" rIns="90000" tIns="46800" bIns="46800" anchor="t">
            <a:noAutofit/>
          </a:bodyPr>
          <a:p>
            <a:pPr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őtte meg kell győzödni,hogy megfelelően és a A nyomdai leadás kívánalmainak eleget tesz e terjedelmileg is a dolgozat.   </a:t>
            </a:r>
            <a:endParaRPr b="0" lang="en-US" sz="2400" spc="-1" strike="noStrike">
              <a:solidFill>
                <a:srgbClr val="000000"/>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hetséges hiba ha például nem a megfelelő betűtípust ,vagy nem a megadott elrendezésben készül a tdk dolgozat.  Hiba lehet a konzultáció során ha  a tartalom nem megfelelő . Ha nem a megfelelő információkat tartalmazza. Esetleg nem teljesen részletes.Iyenkor nem halad tovább a nyomdai előkészítő munkakörbe az anyag hanem visszakerül az előző munkakörhöz.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5564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sszaigazolás</a:t>
            </a:r>
            <a:endParaRPr b="0" lang="en-US" sz="4400" spc="-1" strike="noStrike">
              <a:solidFill>
                <a:srgbClr val="000000"/>
              </a:solidFill>
              <a:latin typeface="Arial"/>
            </a:endParaRPr>
          </a:p>
        </p:txBody>
      </p:sp>
      <p:sp>
        <p:nvSpPr>
          <p:cNvPr id="358"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yomdából megtörténik a visszaigazolás hogy a dolgozattal kapcsolatban végrehajtották a szükséges nyomdaipari munkálato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ladatteljesítési </a:t>
            </a:r>
            <a:r>
              <a:rPr b="0" lang="hu-HU" sz="4400" spc="-1" strike="noStrike">
                <a:solidFill>
                  <a:srgbClr val="000000"/>
                </a:solidFill>
                <a:latin typeface="Arial"/>
              </a:rPr>
              <a:t>igazolás</a:t>
            </a:r>
            <a:endParaRPr b="0" lang="en-US" sz="4400" spc="-1" strike="noStrike">
              <a:solidFill>
                <a:srgbClr val="000000"/>
              </a:solidFill>
              <a:latin typeface="Arial"/>
            </a:endParaRPr>
          </a:p>
        </p:txBody>
      </p:sp>
      <p:sp>
        <p:nvSpPr>
          <p:cNvPr id="360" name="PlaceHolder 2"/>
          <p:cNvSpPr>
            <a:spLocks noGrp="1"/>
          </p:cNvSpPr>
          <p:nvPr>
            <p:ph type="subTitle"/>
          </p:nvPr>
        </p:nvSpPr>
        <p:spPr>
          <a:xfrm>
            <a:off x="539280" y="2565000"/>
            <a:ext cx="7232760" cy="307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rtalma:</a:t>
            </a:r>
            <a:endParaRPr b="0" lang="en-US" sz="2800" spc="-1" strike="noStrike">
              <a:solidFill>
                <a:srgbClr val="000000"/>
              </a:solidFill>
              <a:latin typeface="Arial"/>
            </a:endParaRPr>
          </a:p>
          <a:p>
            <a:pPr lvl="1"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nkakörkód</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lgozatkód</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gérkeztek az </a:t>
            </a:r>
            <a:r>
              <a:rPr b="0" lang="hu-HU" sz="2400" spc="-1" strike="noStrike">
                <a:solidFill>
                  <a:srgbClr val="000000"/>
                </a:solidFill>
                <a:latin typeface="Arial"/>
              </a:rPr>
              <a:t>általad küldött </a:t>
            </a:r>
            <a:r>
              <a:rPr b="0" lang="en-GB" sz="2400" spc="-1" strike="noStrike">
                <a:solidFill>
                  <a:srgbClr val="000000"/>
                </a:solidFill>
                <a:latin typeface="Arial"/>
              </a:rPr>
              <a:t> eredmények.</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átum</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kalmazott nev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unkaköri</a:t>
            </a:r>
            <a:r>
              <a:rPr b="0" lang="en-GB" sz="4400" spc="-1" strike="noStrike">
                <a:solidFill>
                  <a:srgbClr val="000000"/>
                </a:solidFill>
                <a:latin typeface="Arial"/>
              </a:rPr>
              <a:t> igazolás</a:t>
            </a:r>
            <a:endParaRPr b="0" lang="en-US" sz="4400" spc="-1" strike="noStrike">
              <a:solidFill>
                <a:srgbClr val="000000"/>
              </a:solidFill>
              <a:latin typeface="Arial"/>
            </a:endParaRPr>
          </a:p>
        </p:txBody>
      </p:sp>
      <p:sp>
        <p:nvSpPr>
          <p:cNvPr id="362" name="PlaceHolder 2"/>
          <p:cNvSpPr>
            <a:spLocks noGrp="1"/>
          </p:cNvSpPr>
          <p:nvPr>
            <p:ph type="subTitle"/>
          </p:nvPr>
        </p:nvSpPr>
        <p:spPr>
          <a:xfrm>
            <a:off x="1403280" y="27082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yomdaipari munkálatok lezajlottak az előírásoknak megfelelően a dolgozat beadásra kés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191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zerzői jogdíjak kezelés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gdíj definíció</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i a szerzői jogdíj?</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zerzői jogdíj, a mű felhasználására adott engedély ellenében a szerzőt megillető díjazá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Arial"/>
                <a:hlinkClick r:id="rId2"/>
              </a:rPr>
              <a:t>Mit szabályoz a szerzői jo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erzői jog határai</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zerzői jogi védelem határ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a szerzőt bármilyen módon megsértik, akkor az Szjt.-ben biztosított jogérvényesítési lehetőségekkel élh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csak átdolgozásra, feldolgozásra vagy fordításra használnánk a művet már akkor is szerzői jogi védelem alatt áll, ha annak egyéni, eredeti jellege v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valamely ötlet, elv, elgondolás, eljárás, működési módszer vagy matematikai műveletről beszélünk, az nem lehet tárgya a szerzői jogi védelem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égső fázisra tanács:</a:t>
            </a:r>
            <a:endParaRPr b="0" lang="en-US" sz="20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dolgozat teljes újbóli átolvasása, átnézése, hogy ne merüljenek fel esetleges helyesírási hibák, vagy értelmetlen mondatok.</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g kell nézni, hogy mindenhol megtalálható-e ahol kell az utalás, és annak helyes használta,</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diploma dolgozat végén, a bekezdés  l) pontjában hivatkozott, a dolgozat rövid bemutatását kell besorolni.</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zen az oldalon fel kell tüntetni a dolgozat szerzőjének a nevét, a dolgozat címét, a belső és a külső (ha van) konzulens nevét, a dolgozat témájára utaló 4-5 kulcskifejezést, valamint meg kell adni a dolgozat 8-10 soros leírását.</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erzői jog határai</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felhasználnak jogszabályokat, állami irányítás egyéb jogi eszközeit, a bírósági vagy hatósági határozatokat, hatósági vagy más hivatalos közleményeket és az ügyiratokat, valamint a jogszabállyal kötelezővé tett szabványokat és más hasonló rendelkezéseket akkor nem tartoznak a szerzői jogi védelem al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amint ha folklór kifejeződés elemeit tartalmazza a felhasználni kívánt mű, akkor az nem tartozik a szerzői jogi védelem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erzői jog alanyai</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Kire terjed ki a szerzői jogi véde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több szerző közös művét kívánjuk felhasználni a dolgozatban (ha részei nem használhatók fel önállóan) akkor a szerzői jog a szerzőtársakat együttesen illeti meg egyenlő arányb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több szerző közös művét kívánjuk felhasználni a dolgozatban melyben a közös mű részei egymástól elválaszthatók akkor minden szerző önállóan gyakorolhatja szerzői joga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erzői jog alanyai</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egy gyűjtemény tartalmának összeválogatása, elrendezése vagy szerkesztése egyéni, eredeti jelleget ölt, akkor önálló szerzői műként részesül védelemben (gyűjteményes műve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használás</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lgozatunk írásánál egy mű felhasználásának minősül a többszörözés, a terjesztés, a nyilvános előadás joga, a nyilvánossághoz közvetítés sugárzással vagy másként, a sugárzott műnek az eredetihez képest más szervezet közbeiktatásával a nyilvánossághoz történő továbbközvetítése, az átdolgozás, valamint a kiállítás jog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Milyen jogok illetik meg a szerző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használó</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erzői jogi értelemben felhasználó az, aki ha a művek, illetve szomszédos jogi teljesítmények felhasználására a szerzőtől vagy a szerzői jog más jogosultjától jogot szerez.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Kit tekint a szerzői jog felhasználón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használási szerződés</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Melyek a felhasználási szerződés tartalmi eleme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zerződés megkötésekor ha az ellenérték megállapításakor nem arányos részesedést kötnek a felek a bevételekből vagy éppen nem a példányszám vagy a felhasználás egyéb terjedelmétől függően kapna juttatást a szerző akkor az a jogdíj megállapítása nem megfelel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nem tartalmazza a szerződés a következőket: a felhasználni kívánt mű pontos megjelölését, a felhasználás módját, időbeli, területi és más terjedelmének pontos meghatározását, valamint a felhasználás ellenértékét akkor nem tölti be a felhasználói szerződés a rendeltetésé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tételek1</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Mire terjed ki a szerzői jog védel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an az esetben ha egy dolgozat írásánál nem használunk fel más műveket, akkor a munkakör outputja az hogy nincsen szerzői jogdíj.</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pedig az vitatott, hogy egy alkotás rendelkezik-e egyáltalán egyéni, eredeti jelleggel, akkor a bíróság döntése az irányadó. Az alkotás ebben az esetben kiterjed a dolgozatunkra valamint a külső forrásra i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ismeretlen író alkotásából merítünk a dolgozat írása közben, akkor nincs szükség jogdíj kezelésé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bekerült a dolgozatba egy más alkotásokból származó említés (ismert író esetén) melyből információt merített a dolgozat írója akkor szerzői jogi védelem illeti meg az alkotá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tételek2</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Meddig tart a szerzői jogi védel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zerzői művek védelmi ideje a szerző életében és a halálát követő év első napjától számított hetven évig tart,ha ezt nincs e intervallum közt a a jogdíjak kezelése munkakör kihagyható.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a beadott dolgozatban tett említésekhez hozzájárul az író,akitől származnak akkor nyilvánosságra kerülhet a m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yilvánosságra kerülés és a hozzájárulás előtt még egy felhasználói szerződést kell kiállítani,melyben a szerző engedélyt ad művének a felhasználásá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tételek4</a:t>
            </a: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ogyan történik a jogdíjak megállapítás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a felhasználói szerződést megkötötték és az ellenértéket kifizették,akkor hozható nyilvánosságra a dolgoz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 felhasználási szerződés megkötését követően jelentősen megnövekszik a dolgozat felhasználása iránti igény akkor a bíróság a szerző kérésére megfelelően módosíthatja (felemelheti) az eredeti díjazás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tételek5</a:t>
            </a: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jogdíjak kezelés megtörtént, akkor a dolgozat a következő munkafolyamatra kerülh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549360"/>
            <a:ext cx="8362800" cy="568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nézni az irodalomjegyzéket, hogy minden helyesen, hibátlanul van leírv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lléklet rovatban ( ha esetleg van) megnézni, hogy minden kép, tábla mellé van-e rakva, írva sorszám melyet a dolgozatunk anyagában is megtalálunk és ez által tudunk rá hivatkozni.</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 ezekre ügyelünk és odafigyelünk akkor sikeres szakmai illetve diploma dolgozatot tudunk írn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minden folyamat jogilag akadály mentesen zajlott le és az elkészült dolgozatban található egyéni eredeti „ötletet” kívánja valaki felhasználni, akkor ugyanaz a folyamat fog végigmenni a dolgozat írója és felhasználó személy között, mint ami a dolgozat írása közben zajlo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nkakör outputok</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azolás, a továbblépés engedélyérő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használói nyilatkoz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ámlák a felhasználás térítési díjairó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intettek köre</a:t>
            </a: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ülső mű tulajdonos(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használó(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íróság, mely akkor szerepel, ha vitatott az eredetiség és egyéni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lgozat-közi kooperációk jogi kérdései </a:t>
            </a:r>
            <a:endParaRPr b="0" lang="en-US" sz="3800" spc="-1" strike="noStrike">
              <a:solidFill>
                <a:srgbClr val="000000"/>
              </a:solidFill>
              <a:latin typeface="Arial"/>
            </a:endParaRPr>
          </a:p>
        </p:txBody>
      </p:sp>
      <p:sp>
        <p:nvSpPr>
          <p:cNvPr id="394" name="PlaceHolder 2"/>
          <p:cNvSpPr>
            <a:spLocks noGrp="1"/>
          </p:cNvSpPr>
          <p:nvPr>
            <p:ph/>
          </p:nvPr>
        </p:nvSpPr>
        <p:spPr>
          <a:xfrm>
            <a:off x="468360" y="1557000"/>
            <a:ext cx="8229600" cy="47466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kooperáció olyan együttműködést jelent a hallgató számára, melyek segítik őt a dolgozat írása közbe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 a hallgató dolgozatot kíván készíteni, akkor lehetősége van kooperációk kötésér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ooperációk jöhetnek létre hallgató-konzulens, hallgató-külső konzulens, valamint hallgató és hallgató közöt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zzá kell minden félnek járulnia a kooperáció létrejöttéhez</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olgozat írás alatt folyamatos a kapcsolattartás a két fél közöt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onzultációk alkalmával kerülnek megfogalmazásra és megoldásra a felmerült problémák.</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ennyiben nincs belső konzulense a készítőnek, akkor külső konzulens aláírása szükség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operáció jöhet létre két hallgató között, melyben együttesen készítik el dolgozatukat és mutatják be a TDK-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ülső konzulens lehet például egy vállalat dolgozója, ki az adott témában járt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 készítése során kell készíteni egy nyilatkozatokat konzulens részérő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onzulensi jogi nyilatkozatban, az alulírott konzulens jelenti ki azt, hogy az alulírott hallgató az ő irányítása révén készítette el az adott című dolgozatot és ajánlja ezt a Tudományos Diákköri Konferencián történő bemutatásr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 leadásának feltétele, hogy az előlapján fel kell tüntetni a konzulens adatait (név, beosztás, intézmény, intézet, osztá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tatisztikára gyakorolt hatás</a:t>
            </a:r>
            <a:endParaRPr b="0" lang="en-US" sz="4400" spc="-1" strike="noStrike">
              <a:solidFill>
                <a:srgbClr val="000000"/>
              </a:solidFill>
              <a:latin typeface="Arial"/>
            </a:endParaRPr>
          </a:p>
        </p:txBody>
      </p:sp>
      <p:sp>
        <p:nvSpPr>
          <p:cNvPr id="3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üzes Gyö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Kezelés lebonyolítása</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DK dolgozatok egységes elektronikus tárolás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formatikai infrastruktúra kialakí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özhozzáférés biztosítá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egjegyzés</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Olyan rendszer kialakítása amely témakörök, vagy bármilyen tetszőleges szempont szerint tudná besorolni a leadott dolgozatok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Impakt Faktor</a:t>
            </a:r>
            <a:endParaRPr b="0" lang="en-US" sz="4400" spc="-1" strike="noStrike">
              <a:solidFill>
                <a:srgbClr val="000000"/>
              </a:solidFill>
              <a:latin typeface="Arial"/>
            </a:endParaRPr>
          </a:p>
        </p:txBody>
      </p:sp>
      <p:sp>
        <p:nvSpPr>
          <p:cNvPr id="4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üzes Gyö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250920" y="1844640"/>
            <a:ext cx="8424720" cy="4105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mmunikációs szakértő jelentése:</a:t>
            </a:r>
            <a:endParaRPr b="0" lang="en-US" sz="3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 a személy vagy illető kinek az a foglalkozása, hogy a potenciális érintetteket felvilágosítsa egy adott téma körön belül. Szakértő a saját témáján belül mindent tud, és segítséggel illetve tanácsadással szolgálhat a leginkáb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esíté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 következése esetén a potenciális személy értesítése levélben, e-mail-ben, telefonon vagy esetleg szób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amilyen adat hiány esetén való szólás az előzőekben írt mód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Ismertetés</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mpakt faktornak nevezzük azt a mértékegységet, ami arra szolgál hogy egy bizonyos kiadvány fontosságát mérni tudj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izárólag teljes kiadványokra alkalmazzák, külön cikkekre n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értékegysége IF. 1 IF = legalább egyszer idéztek a kiadványbó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Lehetséges Automatizálása</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Egy témakörön vagy társadalmi csoporton belüli kiadványok rendszerezése és kategorizálása, hogy a későbbiekben ha hivatkozás történik a kiadványra, akkor azt tárolni illetve nyomon követni tudju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egjegyzés</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Mivel a szövegben található információ értéke évről évre csökkenhet illetve nőhet, érdemes lenne évente felülvizsgálni a kapott IF értéket, vagyis éves szinten lebontott kalkulációk tűnnek ésszerű megoldásn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ámítás x= a kiadványból való idézések száma a jelen évb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y= az idézhető elemek száma amiket az elmúlt két évben adtak k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Jelen évi impakt faktor érték = x/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ációk követése</a:t>
            </a:r>
            <a:endParaRPr b="0" lang="en-US" sz="4400" spc="-1" strike="noStrike">
              <a:solidFill>
                <a:srgbClr val="000000"/>
              </a:solidFill>
              <a:latin typeface="Arial"/>
            </a:endParaRPr>
          </a:p>
        </p:txBody>
      </p:sp>
      <p:sp>
        <p:nvSpPr>
          <p:cNvPr id="412" name=""/>
          <p:cNvSpPr/>
          <p:nvPr/>
        </p:nvSpPr>
        <p:spPr>
          <a:xfrm>
            <a:off x="685800" y="342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ációs kartellek figyelé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galmak tisztázása</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Citáció</a:t>
            </a:r>
            <a:r>
              <a:rPr b="0" lang="en-US" sz="2800" spc="-1" strike="noStrike">
                <a:solidFill>
                  <a:srgbClr val="000000"/>
                </a:solidFill>
                <a:latin typeface="Comic Sans MS"/>
              </a:rPr>
              <a:t>: idézés/idézettsé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Kartell</a:t>
            </a:r>
            <a:r>
              <a:rPr b="0" lang="en-US" sz="2800" spc="-1" strike="noStrike">
                <a:solidFill>
                  <a:srgbClr val="000000"/>
                </a:solidFill>
                <a:latin typeface="Comic Sans MS"/>
              </a:rPr>
              <a:t>: Több vállalat kísérlete arra, hogy együtt uralkodó pozícióba jussanak. Kartellnek nevezünk minden versenytársak közötti megállapodást, ha az a gazdasági versenyt korlátozz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Összefoglalva a </a:t>
            </a:r>
            <a:r>
              <a:rPr b="0" i="1" lang="en-US" sz="2800" spc="-1" strike="noStrike">
                <a:solidFill>
                  <a:srgbClr val="000000"/>
                </a:solidFill>
                <a:latin typeface="Comic Sans MS"/>
              </a:rPr>
              <a:t>citációs kartell</a:t>
            </a:r>
            <a:r>
              <a:rPr b="0" lang="en-US" sz="2800" spc="-1" strike="noStrike">
                <a:solidFill>
                  <a:srgbClr val="000000"/>
                </a:solidFill>
                <a:latin typeface="Comic Sans MS"/>
              </a:rPr>
              <a:t> néhány szerző összefogását jelenti, akik rendszeresen egymást hivatkozzák meg műveik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z idézettség követése rendkívül fontos a kutatók számára, a tudományos minősítési rendszer követelménye miatt. A kiemelt pályázatok és a tudományos minősítések elbírálásánál döntõ tudományos teljesítményt a kutatók idézettségével mérik.</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2"/>
          <p:cNvSpPr>
            <a:spLocks noGrp="1"/>
          </p:cNvSpPr>
          <p:nvPr>
            <p:ph type="title"/>
          </p:nvPr>
        </p:nvSpPr>
        <p:spPr>
          <a:xfrm>
            <a:off x="609120" y="609120"/>
            <a:ext cx="8001000" cy="606600"/>
          </a:xfrm>
          <a:prstGeom prst="rect">
            <a:avLst/>
          </a:prstGeom>
          <a:noFill/>
          <a:ln w="0">
            <a:noFill/>
          </a:ln>
        </p:spPr>
        <p:txBody>
          <a:bodyPr anchor="b">
            <a:noAutofit/>
          </a:bodyPr>
          <a:p>
            <a:pPr indent="0" algn="ctr">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mic Sans MS"/>
              </a:rPr>
              <a:t>Citációk követés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mic Sans MS"/>
              </a:rPr>
              <a:t>Citációk követése</a:t>
            </a:r>
            <a:endParaRPr b="0" lang="en-US" sz="33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y publikáció jelentőségét azzal is becsülhetjük, ha megszámoljuk a forrásmunkaként rá hivatkozó más publikációkat. Hasonlóképpen, egy kutató munkájának jelentőségét kifejezheti az, hogy műveire összesen hány mások által írott hivatkozást (citációt) kap. Az önhivatkozásoknak (vagyis mikor a szerző egyik művében saját másik művére utal) e szempontból általában nem tulajdonítanak jelentőséget. Több helyen csak a független idézetek számát elemzik, ez esetben a citált mű szerzői és a citáló mű szerzői között egyetlen azonos személy sinc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ivatkozások száma természetesen csak a formálisan is publikált hivatkozó művek esetében értelmezhető. A nem publikált művekben, pl. kéziratokban, szakdolgozatokban fellelt hivatkozások száma e szempontból lényegtel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világ rangosabb nemzetközi szakfolyóiratainak hivatkozási listáit feldolgozza pl. az </a:t>
            </a:r>
            <a:r>
              <a:rPr b="0" i="1" lang="en-US" sz="2400" spc="-1" strike="noStrike">
                <a:solidFill>
                  <a:srgbClr val="000000"/>
                </a:solidFill>
                <a:latin typeface="Comic Sans MS"/>
              </a:rPr>
              <a:t>ISI Web of Science</a:t>
            </a:r>
            <a:r>
              <a:rPr b="0" lang="en-US" sz="2400" spc="-1" strike="noStrike">
                <a:solidFill>
                  <a:srgbClr val="000000"/>
                </a:solidFill>
                <a:latin typeface="Comic Sans MS"/>
              </a:rPr>
              <a:t>, vagy a </a:t>
            </a:r>
            <a:r>
              <a:rPr b="0" i="1" lang="en-US" sz="2400" spc="-1" strike="noStrike">
                <a:solidFill>
                  <a:srgbClr val="000000"/>
                </a:solidFill>
                <a:latin typeface="Comic Sans MS"/>
              </a:rPr>
              <a:t>Scopus</a:t>
            </a:r>
            <a:r>
              <a:rPr b="0" lang="en-US" sz="2400" spc="-1" strike="noStrike">
                <a:solidFill>
                  <a:srgbClr val="000000"/>
                </a:solidFill>
                <a:latin typeface="Comic Sans MS"/>
              </a:rPr>
              <a:t> adatbank. Ezeket használva a különböző kutatók idézettsége az adott indexelő szolgáltatás körén belül vizsgálható. </a:t>
            </a:r>
            <a:endParaRPr b="0" lang="en-US" sz="2400" spc="-1" strike="noStrike">
              <a:solidFill>
                <a:srgbClr val="000000"/>
              </a:solidFill>
              <a:latin typeface="Arial"/>
            </a:endParaRPr>
          </a:p>
        </p:txBody>
      </p:sp>
      <p:sp>
        <p:nvSpPr>
          <p:cNvPr id="420" name="PlaceHolder 2"/>
          <p:cNvSpPr>
            <a:spLocks noGrp="1"/>
          </p:cNvSpPr>
          <p:nvPr>
            <p:ph type="title"/>
          </p:nvPr>
        </p:nvSpPr>
        <p:spPr>
          <a:xfrm>
            <a:off x="533160" y="456840"/>
            <a:ext cx="80010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mic Sans MS"/>
              </a:rPr>
              <a:t>Citációk követés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ószínűleg nem közismert, hogy éppen Magyarországon vezették be legelőször az idézettség figyelését és ezt a hatástényezőt a tudományos teljesítmények mérésére, olyannyira, hogy egyes tudományágakban és kutatóintézetekben meghatározóvá vált az idézettségi mutató és az impakt faktor növelése utáni hajsza </a:t>
            </a:r>
            <a:endParaRPr b="0" lang="en-US" sz="2800" spc="-1" strike="noStrike">
              <a:solidFill>
                <a:srgbClr val="000000"/>
              </a:solidFill>
              <a:latin typeface="Arial"/>
            </a:endParaRPr>
          </a:p>
        </p:txBody>
      </p:sp>
      <p:sp>
        <p:nvSpPr>
          <p:cNvPr id="422" name=""/>
          <p:cNvSpPr/>
          <p:nvPr/>
        </p:nvSpPr>
        <p:spPr>
          <a:xfrm>
            <a:off x="914400" y="685800"/>
            <a:ext cx="7620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itációk követé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ttp://</a:t>
            </a:r>
            <a:r>
              <a:rPr b="0" lang="en-US" sz="2800" spc="-1" strike="noStrike" u="sng">
                <a:solidFill>
                  <a:srgbClr val="009999"/>
                </a:solidFill>
                <a:uFillTx/>
                <a:latin typeface="Arial"/>
                <a:hlinkClick r:id="rId1"/>
              </a:rPr>
              <a:t>www.idegen-szavak.h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tmt.omikk.bme.hu/show_news.html?id=4282&amp;issue_id=468</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ttp://hu.wikipedia.or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ráso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nácsadá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önböző formátumú tanácsadások, felvilágosítások ( mint például papíron történő vagy interneten, e-mail-ben ( elektronikus levél útján), televízióban, szóban történő felvilágosítások, tudósítás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érdeklődő személyek kérdéseire válaszadá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néletrajzi említések mikéntj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unkakör</a:t>
            </a: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unkakör célja, hogy az összes többi munkakör elkészültének folyamatáról adjon képet. Valamennyi, a munkakörök kialakításához fűződő információ dokumentálásra kerül it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unkakör célja</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unkakör célja (vélhetőleg) az, hogy a szervezetről, ahol sok-sok munkakört látnak el, átfogó képet kapjon egy, a szervezethez újonnan csatlakozó munkavállal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ierarchiáról</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unkakörnek a hierarchia többi eleméhez egyenként kapcsolódnia kell, és naplóznia kell az egyes munkakörökhöz kapcsolódó történése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gen nyelvű változatok kezelé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unkakör</a:t>
            </a: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dk/diploma dolgozatok idegen nyelvű változatainak kezelésének legalább kétféle szempontja lehetsé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egy dolgozat értékelése kapcsán nem várható el az értékelőktől, hogy azzal nyelvvel tisztában legyenek, amelyen a dolgozat íródott. Ez a munkakör ezt a problémát oldja me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unkakör</a:t>
            </a: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unkakörnek az előzőekből következően vagy a hierarchia legtetején lévő munkakörhöz kell kapcsolódnia, vagy pedig önmagának kell lennie a hierarchia legtetején lévő munkakörn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émák a hierarchiával?</a:t>
            </a: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kintettel arra, hogy a hierarchia teteje a témaválasztási konzulens munkaköre, ami még nem az elkészült dolgozatok értékelésével foglalkozik, ezért vissza kell vonnunk előző kijelentésün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nkakörnek tehát a dolgozat értékelésével foglalkozó első munkakörhöz kell kapcsolódnia, vagy önmagának kell lennie az első ilyen munkakör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gen nyelv</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degen nyelvű változatok kezelésének feladata magában foglalhatja dolgozatok idegen nyelvű változatainak nyelvhelyességi szempontú vizsgálatát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a későbbi publikációkb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ítségadá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zakértő segítséget nyújthat a potenciális személyek kérdéseire válaszadás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 esetleg olyan témában van a probléma mi el lett rontva és visszafordíthatatlan akkor a szakértő segítséget nyújthat egy másik téma keresésében vagy felnyújtásában (pl.: ha valakit nem vettek fel az egyetemre akkor a szakértő segítséget nyújt, hogy hova menjen el, azzal a tudással mi az illetőnek van meg, ki az egyetemre jelentkezett, de nem vették f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íció</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 a későbbi publikációba létrehozott formatervezé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árhuzamosan futó munkakörök outputjainak fogad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jelz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ladat elvégzését követően igazolás kiállítása a Eredményt ellenőrző számá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ttérés a következő felada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rtékelé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ladat megfelel e az adott formai és technikai követelményekn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pt tükrözi-e az adott feladat lényegé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nyegretörő</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tekinthető</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kus, jól követhető</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ját vélemény </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hetséges hibá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megfelelő formátum</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esetleg nem nyitható meg a dokumentum</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yesírá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pelési hib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felel meg a formai követelményeknek</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áttér ne ütközzön a betűszínne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álljon túl sok diából (kb10dia)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ógok helyes használat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atkozások megjelenítés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lgozat megfelel e a szabályzatban előírtaknak. H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gen: továbbküldésre kerü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m: javításra kerül sor, vagy visszaküldés a hibázóna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z értékelés nem talált hibát, akkor az eredményeket továbbküldi a következő munkafolyamath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dalomjegyzékbe kerülés stratégiáj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árhuzamosan futó munkakörök outputjainak fogad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jelz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ladat elvégzését követően igazolás kiállítása a Eredményt ellenőrző számá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ttérés a következő felada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a:t>
            </a: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adott formai és technikai követelmények ellenőrzé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sorolásszer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lgozatban a hallgató minden pontjára hivatkoz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zerzőkők neve szerint abc sorr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számmal kell ellátni</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zakirodalmak, egyéb irodalmak csoportosítás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ak olyan munka kerülhet amibe a szövegbe hivatkozás v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lgozat megfelel e a szabályzatban előírtaknak. H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gen: továbbküldésre kerü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m: megkeresik a hibákat és visszaküldik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avításr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228600"/>
            <a:ext cx="9144000" cy="72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émaválasztás konzultálása 1.kör</a:t>
            </a:r>
            <a:endParaRPr b="0" lang="en-US" sz="4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hallgató év közben összesen legalább három alkalommal köteles a konzulenssel konzultálni a szakdolgozatáról, a hallgató által választott időpontokban.</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z első konzultációt a témaválasztáskor, a második konzultációt a szakirodalom áttanulmányozása után, a harmadik konzultációt pedig a dolgozat vázlatának elkészítését követően célszerű megtartani.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konzulens a konzultációk során különös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egítséget nyújt a hallgatónak a témához kapcsolódó szakirodalom és jogszabályanyag (forrásmunkák) összegyűjtéséhez, megismeréséhez;</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brák és grafikonok indokoltsága</a:t>
            </a: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i követelménye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ábrákat és grafikonokat minden esetben folytatólagos számozással kell ellátni, amit a tartalomjegyzékben fel kell tűntet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rtalmát jól kifejező, rövid címet fel kell tűntet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os, hogy a mérete ne legyen se túl nagy, se túl kic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brák és grafikonok indokoltsága</a:t>
            </a: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ért kellenek ábrák és grafikono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ábrák és grafikonok segítségével a dolgozatot szemléletesebbé tudjuk ten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ábrák és grafikonok segítenek a tények vizuális úton történő bemutatásához, alátámasztásáho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brák és grafikonok indokoltsága</a:t>
            </a:r>
            <a:endParaRPr b="0" lang="en-US" sz="4400" spc="-1" strike="noStrike">
              <a:solidFill>
                <a:srgbClr val="000000"/>
              </a:solidFill>
              <a:latin typeface="Arial"/>
            </a:endParaRPr>
          </a:p>
        </p:txBody>
      </p:sp>
      <p:sp>
        <p:nvSpPr>
          <p:cNvPr id="4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éma könnyebben felfogható, értelmezhető, feldolgozható les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ülönböző gazdasági folyamatok, trendek és statisztikai adatok bemutatását megkönnyíti, fogyaszthatóvá teszi a hallgatóság számá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brák és grafikonok indokoltsága</a:t>
            </a:r>
            <a:endParaRPr b="0" lang="en-US" sz="4400" spc="-1" strike="noStrike">
              <a:solidFill>
                <a:srgbClr val="000000"/>
              </a:solidFill>
              <a:latin typeface="Arial"/>
            </a:endParaRPr>
          </a:p>
        </p:txBody>
      </p:sp>
      <p:sp>
        <p:nvSpPr>
          <p:cNvPr id="4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ínesebbé teszi a dolgozat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éma sokkal magyarázhatóbbá válik, és ebből következően az előadás könnyebb les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533520"/>
            <a:ext cx="8763120" cy="58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gíti az összegyűjtött forrásmunkákból kiválasztani a témához kapcsolódó legjobb anyagokat, irányítja a szelekció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anácsot ad a bemutatott vázlat alapján a dolgozat szerkezetének kialakításához</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 kidolgozás során gyakorlati tapasztalatainak átadásával ösztönzi a hallgatót a problémafelvető és –megoldó, valamint az elemző munkára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hallgató által bemutatott nyers szakdolgozat alapján útbaigazítást ad az esetleges szükséges átdolgozáshoz, az elkövetett hibák kijavításához</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914400"/>
            <a:ext cx="876312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nyiben a hallgató nem veszi figyelembe a konzulens dolgozattal kapcsolatos formai észrevételeit, az oktató írásban rögzíti ennek tényét a szakdolgozati igazoló lapon.</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zakdolgozatot készítő hallgató (a konzulens kérése esetén) köteles egy bespirálozott példányt a konzulensnek adni a dolgozatából. Kéréstől függetlenül köteles azonban elektronikus formában is a szakdolgozat védését megelőzően azt benyújtani, melynek hiányában a védést nem kezdheti meg.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zakdolgozat bírálója körülbelül egy oldal terjedelemben, az alábbi szempontok alapján értékeli a szakdolgozato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685800"/>
            <a:ext cx="89154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émaválasztás megfelelősége (mennyiben illeszkedik a téma az egyetemi tananyagba, illetőleg mennyiben nyúlik túl azon. A szakdolgozatnak az egyetemi kötelező tananyagot jelentősen meghaladó mélységűnek kell lennie.);</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dolgozat szerkezete, belső arányai, logikája, az egyes részek tartalmi súlyuknak megfelelő mértékben kaptak-e helyet benne;</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olgozat stílus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zakirodalom-feldolgozás mennyisége és minősége, az idegen nyelvű és internetes szakirodalom jelenléte és mélység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12952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hivatkozási rendszer megfelelősége, etikusság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egyértelműen elhatárolhatók-e a más szerzőktől származó megállapítások, kutatási eredmények és a dolgozat szerzőjének megállapítás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eredeti, alkotó jellegű megállapítások, megindokolt de lege ferenda javaslato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 dolgozat külalakja, megfelel-e az előírt formának, mennyiségn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yéb formai és tartalmi észrevételek</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i értékelés(do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llemzés:</a:t>
            </a:r>
            <a:endParaRPr b="0" lang="en-US" sz="4400" spc="-1" strike="noStrike">
              <a:solidFill>
                <a:srgbClr val="000000"/>
              </a:solidFill>
              <a:latin typeface="Arial"/>
            </a:endParaRPr>
          </a:p>
        </p:txBody>
      </p:sp>
      <p:sp>
        <p:nvSpPr>
          <p:cNvPr id="77" name="PlaceHolder 2"/>
          <p:cNvSpPr>
            <a:spLocks noGrp="1"/>
          </p:cNvSpPr>
          <p:nvPr>
            <p:ph/>
          </p:nvPr>
        </p:nvSpPr>
        <p:spPr>
          <a:xfrm>
            <a:off x="323640" y="2060640"/>
            <a:ext cx="2879640" cy="2736720"/>
          </a:xfrm>
          <a:prstGeom prst="rect">
            <a:avLst/>
          </a:prstGeom>
          <a:noFill/>
          <a:ln w="0">
            <a:noFill/>
          </a:ln>
        </p:spPr>
        <p:txBody>
          <a:bodyPr lIns="90000" rIns="90000" tIns="46800" bIns="46800" anchor="t">
            <a:normAutofit fontScale="81000"/>
          </a:bodyPr>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talmi                                               </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ki  </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yesírási</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isztikai</a:t>
            </a:r>
            <a:r>
              <a:rPr b="0" lang="en-US" sz="3200" spc="-1" strike="noStrike" u="sng">
                <a:solidFill>
                  <a:srgbClr val="009999"/>
                </a:solidFill>
                <a:uFillTx/>
                <a:latin typeface="Arial"/>
                <a:hlinkClick r:id="rId1"/>
              </a:rPr>
              <a:t> *</a:t>
            </a: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3708360" y="2276640"/>
            <a:ext cx="792360" cy="2016000"/>
          </a:xfrm>
          <a:custGeom>
            <a:avLst/>
            <a:gdLst>
              <a:gd name="textAreaLeft" fmla="*/ 0 w 792360"/>
              <a:gd name="textAreaRight" fmla="*/ 286200 w 792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4643280" y="3068640"/>
            <a:ext cx="302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zempontból meg kell, hogy feleljen a szabályzatban előírtakn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468000" y="1628280"/>
            <a:ext cx="8351640" cy="5040360"/>
          </a:xfrm>
          <a:prstGeom prst="rect">
            <a:avLst/>
          </a:prstGeom>
          <a:noFill/>
          <a:ln w="0">
            <a:noFill/>
          </a:ln>
        </p:spPr>
        <p:txBody>
          <a:bodyPr lIns="90000" rIns="90000" tIns="46800" bIns="46800" anchor="t">
            <a:no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dolgozatnak az alábbiakat kell tartalmaznia:</a:t>
            </a:r>
            <a:endParaRPr b="0" lang="en-US" sz="20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ímlap</a:t>
            </a:r>
            <a:r>
              <a:rPr b="0" lang="en-US" sz="1800" spc="-1" strike="noStrike">
                <a:solidFill>
                  <a:srgbClr val="000000"/>
                </a:solidFill>
                <a:latin typeface="Arial"/>
              </a:rPr>
              <a:t>: szerzőt + címet kell tartalmaznia.</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talomjegyzék:</a:t>
            </a:r>
            <a:r>
              <a:rPr b="0" lang="en-US" sz="1800" spc="-1" strike="noStrike">
                <a:solidFill>
                  <a:srgbClr val="000000"/>
                </a:solidFill>
                <a:latin typeface="Arial"/>
              </a:rPr>
              <a:t> fejezetcímek az oldalszámokkal</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vezetés:</a:t>
            </a:r>
            <a:r>
              <a:rPr b="0" lang="en-US" sz="1800" spc="-1" strike="noStrike">
                <a:solidFill>
                  <a:srgbClr val="000000"/>
                </a:solidFill>
                <a:latin typeface="Arial"/>
              </a:rPr>
              <a:t> itt felvázolni a téma jelentőségé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vonat:</a:t>
            </a:r>
            <a:r>
              <a:rPr b="0" lang="en-US" sz="1800" spc="-1" strike="noStrike">
                <a:solidFill>
                  <a:srgbClr val="000000"/>
                </a:solidFill>
                <a:latin typeface="Arial"/>
              </a:rPr>
              <a:t> bevezetés összefoglalója</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rodalmi áttekintés, elméleti felvezetés, helyzetfelmérés:</a:t>
            </a:r>
            <a:r>
              <a:rPr b="0" lang="en-US" sz="1800" spc="-1" strike="noStrike">
                <a:solidFill>
                  <a:srgbClr val="000000"/>
                </a:solidFill>
                <a:latin typeface="Arial"/>
              </a:rPr>
              <a:t> Itt ismertetjük a témában korábban született megállapításoka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yag és módszer:</a:t>
            </a:r>
            <a:r>
              <a:rPr b="0" lang="en-US" sz="1800" spc="-1" strike="noStrike">
                <a:solidFill>
                  <a:srgbClr val="000000"/>
                </a:solidFill>
                <a:latin typeface="Arial"/>
              </a:rPr>
              <a:t> itt kell bemutatni, hogy milyen anyagokból dolgoztunk a vizsgálat folyamán</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edmények:</a:t>
            </a:r>
            <a:r>
              <a:rPr b="0" lang="en-US" sz="1800" spc="-1" strike="noStrike">
                <a:solidFill>
                  <a:srgbClr val="000000"/>
                </a:solidFill>
                <a:latin typeface="Arial"/>
              </a:rPr>
              <a:t> itt leírni, hogy mire jutottunk.</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övetkeztetések és javaslatok:</a:t>
            </a:r>
            <a:r>
              <a:rPr b="0" lang="en-US" sz="1800" spc="-1" strike="noStrike">
                <a:solidFill>
                  <a:srgbClr val="000000"/>
                </a:solidFill>
                <a:latin typeface="Arial"/>
              </a:rPr>
              <a:t> le kell írni, hogy mit tanácsolsz, illetve az eredményről levonható következtetések</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Összefoglalás: </a:t>
            </a:r>
            <a:r>
              <a:rPr b="0" lang="en-US" sz="1800" spc="-1" strike="noStrike">
                <a:solidFill>
                  <a:srgbClr val="000000"/>
                </a:solidFill>
                <a:latin typeface="Arial"/>
              </a:rPr>
              <a:t>előző részek tartalmának összefoglalása</a:t>
            </a:r>
            <a:endParaRPr b="0" lang="en-US" sz="18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llékletek: </a:t>
            </a:r>
            <a:r>
              <a:rPr b="0" lang="en-US" sz="1800" spc="-1" strike="noStrike">
                <a:solidFill>
                  <a:srgbClr val="000000"/>
                </a:solidFill>
                <a:latin typeface="Arial"/>
              </a:rPr>
              <a:t>ide sorolhatóak azok az anyagok miket meg szeretne a dolgozat felmondója bemutatni, de nem célszerű azokat dolgozat közben bemutatni</a:t>
            </a:r>
            <a:r>
              <a:rPr b="0" lang="en-US" sz="1600" spc="-1" strike="noStrike">
                <a:solidFill>
                  <a:srgbClr val="000000"/>
                </a:solidFill>
                <a:latin typeface="Arial"/>
              </a:rPr>
              <a: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 A dolgozat szerkezeti felépítés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rítólapok kivitele és felirata </a:t>
            </a:r>
            <a:r>
              <a:rPr b="0" lang="en-US" sz="1500" spc="-1" strike="noStrike" u="sng">
                <a:solidFill>
                  <a:srgbClr val="009999"/>
                </a:solidFill>
                <a:uFillTx/>
                <a:latin typeface="Arial"/>
                <a:hlinkClick r:id="rId1"/>
              </a:rPr>
              <a:t>1</a:t>
            </a:r>
            <a:endParaRPr b="0" lang="en-US" sz="1500" spc="-1" strike="noStrike">
              <a:solidFill>
                <a:srgbClr val="000000"/>
              </a:solidFill>
              <a:latin typeface="Arial"/>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um </a:t>
            </a:r>
            <a:r>
              <a:rPr b="0" lang="en-US" sz="1500" spc="-1" strike="noStrike" u="sng">
                <a:solidFill>
                  <a:srgbClr val="009999"/>
                </a:solidFill>
                <a:uFillTx/>
                <a:latin typeface="Arial"/>
                <a:hlinkClick r:id="rId2"/>
              </a:rPr>
              <a:t>2</a:t>
            </a:r>
            <a:endParaRPr b="0" lang="en-US" sz="1500" spc="-1" strike="noStrike">
              <a:solidFill>
                <a:srgbClr val="000000"/>
              </a:solidFill>
              <a:latin typeface="Arial"/>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olgozat ajánlott tagolása pl. agrár és természettudományi témák esetében </a:t>
            </a:r>
            <a:r>
              <a:rPr b="0" lang="en-US" sz="1500" spc="-1" strike="noStrike" u="sng">
                <a:solidFill>
                  <a:srgbClr val="009999"/>
                </a:solidFill>
                <a:uFillTx/>
                <a:latin typeface="Arial"/>
                <a:hlinkClick r:id="rId3"/>
              </a:rPr>
              <a:t>3</a:t>
            </a:r>
            <a:endParaRPr b="0" lang="en-US" sz="1500" spc="-1" strike="noStrike">
              <a:solidFill>
                <a:srgbClr val="000000"/>
              </a:solidFill>
              <a:latin typeface="Arial"/>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zakirodalmi áttekintés </a:t>
            </a:r>
            <a:r>
              <a:rPr b="0" lang="en-US" sz="1500" spc="-1" strike="noStrike" u="sng">
                <a:solidFill>
                  <a:srgbClr val="009999"/>
                </a:solidFill>
                <a:uFillTx/>
                <a:latin typeface="Arial"/>
                <a:hlinkClick r:id="rId4"/>
              </a:rPr>
              <a:t>4</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2. </a:t>
            </a:r>
            <a:r>
              <a:rPr b="1" lang="en-US" sz="4400" spc="-1" strike="noStrike" u="sng">
                <a:solidFill>
                  <a:srgbClr val="000000"/>
                </a:solidFill>
                <a:uFillTx/>
                <a:latin typeface="Arial"/>
              </a:rPr>
              <a:t>Anyag és módszer</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t objektumoknak valamint a vizsgálatok módszertanának értelemszerű jellemzé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atok hol, mikor, hogyan, milyen módszerekkel történt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3.Vizsgálati eredmények</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sgálatok, elemzések eredményeit tartalmazza ez a rés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ját eredmények ismerteté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eredményeket célszerű táblázatokban is összefoglalni, ábrákkal szemléltetni és megbízhatóságukat a tudományterület sajátosságait figyelembe véve statisztikai módszerekkel igazol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4.Értékelések, következtetések, javaslatok</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ben a fejezetben kell ismertetni az eredményekből levont legfontosabb következtetéseket. Itt kell megtenni az összevetést más szerzők eredményeivel (itt ismét lehet hivatkozni). A téma jellegétől függően javaslatot kell tenni azok gyakorlati alkalmazására, illetve továbbfejlesztésére. (maximum 15 old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5. Jegyzetek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ülhetnek folyamatos sorszámozással a lábjegyzetbe vagy a befejező rész után. A szövegben a jegyzetekre felső állásba tett számokkal kell hivatkoz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7. Táblázatok, ábrák, grafikonok</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áblázatok készíté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brák készítése</a:t>
            </a:r>
            <a:r>
              <a:rPr b="0" lang="en-US" sz="3200" spc="-1" strike="noStrike" u="sng">
                <a:solidFill>
                  <a:srgbClr val="009999"/>
                </a:solidFill>
                <a:uFillTx/>
                <a:latin typeface="Arial"/>
                <a:hlinkClick r:id="rId1"/>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ikon készítése: ábrázolása koordináta-rendszerben, pontosan szüksé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8. Hivatkozások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ban háromfajta hivatkozást lehet alkalmazn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zószerinti hivatkozá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talmi hivatkozá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ztikai adatok, táblázatok, diagrammok hivatkozá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10. Irodalmi jegyzék</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lgozat végén legyen, a szerzők szoros abc-szerinti felsorolásával.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 szerző több munkája esetén a sorrendet a megjelenés éve szerint kell megállapítani, a korábbival kezdv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onos szerző ugyanazon évben megjelent műveit az abc kisbetűivel kiegészítve kell megjelentetni (pl. Howarth [1999a], Howarth [1999b]).</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Wide Web-ről származó információ esetén a szervezet neve, zárójelben az évszám, amely jelzi, hogy mely évben ellenőriztük az adatot, majd a pontos lin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yóiratok esetében az oldalszámot is fel kell tüntetni. A magyar és külföldi szerzők eseté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öbbszerzős munkákra történő hivatkozásnál az előírtak szerint kell eljárn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11. Mellékl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rodalomjegyzék után, római számokkal jelölt oldalszámozással ellátva kell elhelyezni.</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ellékletben táblázatok, ábrák, egyéb olyan dokumentumok szerepeltethetők, amelyek a dolgozat mondanivalójának illusztrálására szolgálnak, de nem képezik a dolgozat érdemi részé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12. Helyesírá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lyesírást illetően az MTA által kiadott, legújabb „A magyar helyesírás szabályai” című kiadvány az irányadó.</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07560"/>
            <a:ext cx="8229600" cy="5257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plomadolgozatnak meg kell felelni a szak és a szakirány tudományterülete sajátosságainak, továbbá tartalmaznia kell a feldolgozott szakirodalom, valamint az alkalmazott vizsgálati módszer leírását, és a saját vizsgálatok eredményei alapján a téma érdemi feldolgozását.</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plomamunka tükrözze a hallgató önálló állásfoglalását a vizsgált témakörb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 beérkezik               megkezdődik a vizsgálódá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4788000" y="306864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lenőrzés</a:t>
            </a: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felel-e a dolgozat a szabályzatban előírtakna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en: Hibamentes                           megfelelt a szabályzatban leírtaknak</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sza a feladónak</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kus javítá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entmondások kiküszöbölése</a:t>
            </a:r>
            <a:endParaRPr b="0" lang="en-US" sz="2400" spc="-1" strike="noStrike">
              <a:solidFill>
                <a:srgbClr val="000000"/>
              </a:solidFill>
              <a:latin typeface="Arial"/>
            </a:endParaRPr>
          </a:p>
        </p:txBody>
      </p:sp>
      <p:sp>
        <p:nvSpPr>
          <p:cNvPr id="105" name=""/>
          <p:cNvSpPr/>
          <p:nvPr/>
        </p:nvSpPr>
        <p:spPr>
          <a:xfrm>
            <a:off x="4500720" y="3357720"/>
            <a:ext cx="1728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resé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hetséges hibafajtá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z formát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megfelelő külala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ncs pontos forrás megjelölé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yelvi hibá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 eseté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ás dokumentumok esetén visszaküldjük a hallgatóho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 javítja ki a hibákat :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gató által történik a javítá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zmu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lált hibák kijavítása és hiányosságok pótlá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bázó kijavítja a hibát, visszaküldi és Értékelésre kerü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z értékelés nem talált hibát, akkor az eredményeket továbbküldi a következő munkafolyamatho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i értékelés(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llemzés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os a szakszerű, pontos előadásmó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ját vélemény, következtetések megfogalmaz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adott időkeret betar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os a tartalmi hitelesség, a téma kezelé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árhuzamosan futó munkakörök outputjainak fogad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jelzés a megérkezett eredményekről (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ladat elvégzését követően igazolás kiállítása a Eredményt ellenőrző számá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ttérés a következő felada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lenőrzé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felel-e a dolgozat a szabályzatban előírtakn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en: további vizsgálódásra mehe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a kijelölt bírák megkeresik a szabálynak nem megfelelő hibák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resé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hetséges hibafajtá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felel-e az előadáshoz szükséges dokumentum formátu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felel-e a formai követelmények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mai követelmények tekintetében az alábbiakra kell oda figyelni szakmai dolgozatná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zakmai dolgozat általános tipográfiai jellemzőit (lapméret, szedéstükör, betűtípus és –betűméret stb.) a legtöbb esetben a befogadó intézmény, szervezet, szerkesztőség adja meg.</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os a megfelelő tagoltsá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jezetcímek kapcsán az elfogadott/elvárt gyakorlat a többszintű decimális számozás alkalmazása (1. Fejezet; 1.1 Alfejezet stb.), így a szövegen belül az egyes fejezetekre könnyedén tudunk ezekkel hivatkozn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zakmai dolgozat egyik kulcseleme a hivatkozás. Hivatkozások által érintett elemek a következők: felhasznált szakirodalom, ábrák, táblázatok és egyenlet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 eseté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ás dokumentumok esetén visszaküldjük az előző munkakörökhö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lált hibák kijavítása és hiányosságok pótl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bázó munkakör kijavítja a hibát, visszaküldi és Értékelésre kerü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z értékelés nem talált hibát, akkor az eredményeket továbbküldi a következő munkafolyamatho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11280" y="1700280"/>
            <a:ext cx="734364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Mellékletben </a:t>
            </a:r>
            <a:r>
              <a:rPr b="1" lang="en-US" sz="1800" spc="-1" strike="noStrike">
                <a:solidFill>
                  <a:srgbClr val="000000"/>
                </a:solidFill>
                <a:latin typeface="Arial"/>
              </a:rPr>
              <a:t>táblázatok, ábrák</a:t>
            </a:r>
            <a:r>
              <a:rPr b="0" lang="en-US" sz="1800" spc="-1" strike="noStrike">
                <a:solidFill>
                  <a:srgbClr val="000000"/>
                </a:solidFill>
                <a:latin typeface="Arial"/>
              </a:rPr>
              <a:t>, </a:t>
            </a:r>
            <a:r>
              <a:rPr b="1" lang="en-US" sz="1800" spc="-1" strike="noStrike">
                <a:solidFill>
                  <a:srgbClr val="000000"/>
                </a:solidFill>
                <a:latin typeface="Arial"/>
              </a:rPr>
              <a:t>egyéb</a:t>
            </a:r>
            <a:r>
              <a:rPr b="0" lang="en-US" sz="1800" spc="-1" strike="noStrike">
                <a:solidFill>
                  <a:srgbClr val="000000"/>
                </a:solidFill>
                <a:latin typeface="Arial"/>
              </a:rPr>
              <a:t> olyan dokumentumok szerepeltethetők, amelyek </a:t>
            </a:r>
            <a:r>
              <a:rPr b="1" lang="en-US" sz="1800" spc="-1" strike="noStrike">
                <a:solidFill>
                  <a:srgbClr val="000000"/>
                </a:solidFill>
                <a:latin typeface="Arial"/>
              </a:rPr>
              <a:t>a dolgozat mondanivalójának illusztrálására</a:t>
            </a:r>
            <a:r>
              <a:rPr b="0" lang="en-US" sz="1800" spc="-1" strike="noStrike">
                <a:solidFill>
                  <a:srgbClr val="000000"/>
                </a:solidFill>
                <a:latin typeface="Arial"/>
              </a:rPr>
              <a:t> szolgálnak, de nem képezik a dolgozat érde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szé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llékletet </a:t>
            </a:r>
            <a:r>
              <a:rPr b="1" lang="en-US" sz="1800" spc="-1" strike="noStrike">
                <a:solidFill>
                  <a:srgbClr val="000000"/>
                </a:solidFill>
                <a:latin typeface="Arial"/>
              </a:rPr>
              <a:t>oldalszámozni nem kell</a:t>
            </a:r>
            <a:r>
              <a:rPr b="0" lang="en-US" sz="1800" spc="-1" strike="noStrike">
                <a:solidFill>
                  <a:srgbClr val="000000"/>
                </a:solidFill>
                <a:latin typeface="Arial"/>
              </a:rPr>
              <a:t> (ezt végül is nem is fontos ellenőrizni, mert ha van van, ha nincs ninc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ellékleteket </a:t>
            </a:r>
            <a:r>
              <a:rPr b="1" lang="en-US" sz="1800" spc="-1" strike="noStrike">
                <a:solidFill>
                  <a:srgbClr val="000000"/>
                </a:solidFill>
                <a:latin typeface="Arial"/>
              </a:rPr>
              <a:t>sorszámozva</a:t>
            </a:r>
            <a:r>
              <a:rPr b="0" lang="en-US" sz="1800" spc="-1" strike="noStrike">
                <a:solidFill>
                  <a:srgbClr val="000000"/>
                </a:solidFill>
                <a:latin typeface="Arial"/>
              </a:rPr>
              <a:t>, illetve a dokumentum főszövegében </a:t>
            </a:r>
            <a:r>
              <a:rPr b="1" lang="en-US" sz="1800" spc="-1" strike="noStrike">
                <a:solidFill>
                  <a:srgbClr val="000000"/>
                </a:solidFill>
                <a:latin typeface="Arial"/>
              </a:rPr>
              <a:t>hivatkozva</a:t>
            </a:r>
            <a:r>
              <a:rPr b="0" lang="en-US" sz="1800" spc="-1" strike="noStrike">
                <a:solidFill>
                  <a:srgbClr val="000000"/>
                </a:solidFill>
                <a:latin typeface="Arial"/>
              </a:rPr>
              <a:t> kell feltüntet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melléklet(ek)et az </a:t>
            </a:r>
            <a:r>
              <a:rPr b="1" lang="en-US" sz="1800" spc="-1" strike="noStrike">
                <a:solidFill>
                  <a:srgbClr val="000000"/>
                </a:solidFill>
                <a:latin typeface="Arial"/>
              </a:rPr>
              <a:t>Irodalomjegyzék után</a:t>
            </a:r>
            <a:r>
              <a:rPr b="0" lang="en-US" sz="1800" spc="-1" strike="noStrike">
                <a:solidFill>
                  <a:srgbClr val="000000"/>
                </a:solidFill>
                <a:latin typeface="Arial"/>
              </a:rPr>
              <a:t>, római számokkal jelölt oldal-számozással ellátva kell elhelyezn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55640" y="476280"/>
            <a:ext cx="37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llékletekről általá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00000" y="1125360"/>
            <a:ext cx="71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11280" y="549360"/>
            <a:ext cx="7632720" cy="549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lsődleges ellenőrzé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lléklet-e egyáltalán</a:t>
            </a:r>
            <a:r>
              <a:rPr b="0" lang="en-US" sz="1800" spc="-1" strike="noStrike">
                <a:solidFill>
                  <a:srgbClr val="000000"/>
                </a:solidFill>
                <a:latin typeface="Arial"/>
              </a:rPr>
              <a:t> a beadott nyomtatván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Igen</a:t>
            </a:r>
            <a:r>
              <a:rPr b="0" lang="en-US" sz="1800" spc="-1" strike="noStrike">
                <a:solidFill>
                  <a:srgbClr val="000000"/>
                </a:solidFill>
                <a:latin typeface="Arial"/>
              </a:rPr>
              <a:t>: további vizsgálódásra, elemzésre mehe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e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Milyen típusú</a:t>
            </a:r>
            <a:r>
              <a:rPr b="0" lang="en-US" sz="1800" spc="-1" strike="noStrike">
                <a:solidFill>
                  <a:srgbClr val="000000"/>
                </a:solidFill>
                <a:latin typeface="Arial"/>
              </a:rPr>
              <a:t> melléklet a beadott nyomtatván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DO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PP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X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onli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2000" spc="-1" strike="noStrike">
                <a:solidFill>
                  <a:srgbClr val="000000"/>
                </a:solidFill>
                <a:latin typeface="Arial"/>
              </a:rPr>
              <a:t>külön elbírálás az egyes típusokná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58920" y="2204280"/>
            <a:ext cx="67262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ormai értékelés XLS melléklet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9640" y="764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eretek, fejléc</a:t>
            </a:r>
            <a:r>
              <a:rPr b="0" lang="en-US" sz="2400" spc="-1" strike="noStrike">
                <a:solidFill>
                  <a:srgbClr val="000000"/>
                </a:solidFill>
                <a:latin typeface="Arial"/>
              </a:rPr>
              <a:t> rendben vannak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i adat és mi nem</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ghatározott betűméret,     betűtípus stb. </a:t>
            </a:r>
            <a:r>
              <a:rPr b="0" lang="en-US" sz="2400" spc="-1" strike="noStrike">
                <a:solidFill>
                  <a:srgbClr val="000000"/>
                </a:solidFill>
                <a:latin typeface="Wingdings"/>
                <a:ea typeface="Wingdings"/>
              </a:rPr>
              <a:t></a:t>
            </a:r>
            <a:r>
              <a:rPr b="0" lang="en-US" sz="2400" spc="-1" strike="noStrike">
                <a:solidFill>
                  <a:srgbClr val="000000"/>
                </a:solidFill>
                <a:latin typeface="Arial"/>
              </a:rPr>
              <a:t> általános formai követelmény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épletek</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érvényesek e, megfelelőt használt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ivatkozáso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alós értékek</a:t>
            </a:r>
            <a:r>
              <a:rPr b="0" lang="en-US" sz="2400" spc="-1" strike="noStrike">
                <a:solidFill>
                  <a:srgbClr val="000000"/>
                </a:solidFill>
                <a:latin typeface="Arial"/>
              </a:rPr>
              <a:t> az adatoknál, azok esetleges kiszűrése</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14560" y="2132640"/>
            <a:ext cx="726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ormai értékelés on-line melléklet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1280" y="1052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források esetén fontos a </a:t>
            </a:r>
            <a:r>
              <a:rPr b="1" lang="en-US" sz="2400" spc="-1" strike="noStrike">
                <a:solidFill>
                  <a:srgbClr val="000000"/>
                </a:solidFill>
                <a:latin typeface="Arial"/>
              </a:rPr>
              <a:t>teljes(!) elérési út</a:t>
            </a:r>
            <a:r>
              <a:rPr b="0" lang="en-US" sz="2400" spc="-1" strike="noStrike">
                <a:solidFill>
                  <a:srgbClr val="000000"/>
                </a:solidFill>
                <a:latin typeface="Arial"/>
              </a:rPr>
              <a:t> és a letöltés </a:t>
            </a:r>
            <a:r>
              <a:rPr b="1" lang="en-US" sz="2400" spc="-1" strike="noStrike">
                <a:solidFill>
                  <a:srgbClr val="000000"/>
                </a:solidFill>
                <a:latin typeface="Arial"/>
              </a:rPr>
              <a:t>dátum</a:t>
            </a:r>
            <a:r>
              <a:rPr b="0" lang="en-US" sz="2400" spc="-1" strike="noStrike">
                <a:solidFill>
                  <a:srgbClr val="000000"/>
                </a:solidFill>
                <a:latin typeface="Arial"/>
              </a:rPr>
              <a:t>ának megadás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yes-e a </a:t>
            </a:r>
            <a:r>
              <a:rPr b="1" lang="en-US" sz="2400" spc="-1" strike="noStrike">
                <a:solidFill>
                  <a:srgbClr val="000000"/>
                </a:solidFill>
                <a:latin typeface="Arial"/>
              </a:rPr>
              <a:t>hivatkozások kezelése</a:t>
            </a:r>
            <a:r>
              <a:rPr b="0" lang="en-US" sz="2400" spc="-1" strike="noStrike">
                <a:solidFill>
                  <a:srgbClr val="000000"/>
                </a:solidFill>
                <a:latin typeface="Arial"/>
              </a:rPr>
              <a:t> (online hivatkozások, frissesség, szerzők megadása, megjelentetés módj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yből elérhető legyen</a:t>
            </a:r>
            <a:r>
              <a:rPr b="0" lang="en-US" sz="2400" spc="-1" strike="noStrike">
                <a:solidFill>
                  <a:srgbClr val="000000"/>
                </a:solidFill>
                <a:latin typeface="Arial"/>
              </a:rPr>
              <a:t> a hivatkozott old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nkaköri igazolá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kód </a:t>
            </a:r>
            <a:r>
              <a:rPr b="0" lang="en-US" sz="2800" spc="-1" strike="noStrike">
                <a:solidFill>
                  <a:srgbClr val="000000"/>
                </a:solidFill>
                <a:latin typeface="Wingdings"/>
                <a:ea typeface="Wingdings"/>
              </a:rPr>
              <a:t></a:t>
            </a:r>
            <a:r>
              <a:rPr b="0" lang="en-US" sz="2800" spc="-1" strike="noStrike">
                <a:solidFill>
                  <a:srgbClr val="000000"/>
                </a:solidFill>
                <a:latin typeface="Arial"/>
              </a:rPr>
              <a:t> 10 (XLS), ill. 11(on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gozatkó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z XLS/on-line nyomtatványok formai követelményeinek megfelelt/nem felelt meg és további értékelésre alkalmas/jelen formájában nem értékelhető.”</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át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kakör vezető aláírá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zakirodalmi formai ellenő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5920"/>
            <a:ext cx="822960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erepelnie kell ábráknak és táblázatokna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knél a következőket kell tenni: fel kell tüntetni az ábra vagy táblázat sorszámát, címét és forrásá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ontos dol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Minden felhasznált nem saját forrást irodalomként kell kezelni, és szerepeltetni kell az irodalomjegyzékben és erre a publikáció szövegében kell hivatkozn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olyószövegben történő hivatkozásnak az alapja, hogy szerző (általában a vezetéknév) és évszám szerint kell hivatkozni. Főbb esetei a következő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lapeset, egy szerző által jegyzett mű: (Vezetéknév, Évszá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egy szerzőnek több művére is hivatkozunk, melyek azonos évben születtek, az egyes műveket a, b, c… jelöléssel különítjük el: (Vezetéknév, Évszám/a), (Vezetéknév, Évszám/b) st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ét szerző esetén: (Vezetéknév_1 – Vezetéknév_2, Évszá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bb szerző esetében: (Vezetéknév_1 et.al., Évszám) Az „et.al.” rövidítés az „és mások”, „és társai” kifejezésnek felel meg. Az irodalomjegyzékben ugyanakkor az összes szerzőt fel kell tüntetn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erkesztővel rendelkező mű esetén: (Vezetéknév szerk., Évszám), illetve ha idegen nyelvű a mű: (Vezetéknév ed., Évszám), ahol az „ed.” az „editor” rövidíté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íció</a:t>
            </a:r>
            <a:endParaRPr b="0" lang="en-US" sz="4400" spc="-1" strike="noStrike">
              <a:solidFill>
                <a:srgbClr val="000000"/>
              </a:solidFill>
              <a:latin typeface="Arial"/>
            </a:endParaRPr>
          </a:p>
        </p:txBody>
      </p:sp>
      <p:sp>
        <p:nvSpPr>
          <p:cNvPr id="137" name="PlaceHolder 2"/>
          <p:cNvSpPr>
            <a:spLocks noGrp="1"/>
          </p:cNvSpPr>
          <p:nvPr>
            <p:ph/>
          </p:nvPr>
        </p:nvSpPr>
        <p:spPr>
          <a:xfrm>
            <a:off x="457200" y="2060640"/>
            <a:ext cx="8229600" cy="222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talmi jellegű utalás, hivatkozás, idézet esetében a felhasznált gondolat helyes megjelenítésének ellenőrzése.</a:t>
            </a:r>
            <a:endParaRPr b="0" lang="en-US" sz="3200" spc="-1" strike="noStrike">
              <a:solidFill>
                <a:srgbClr val="000000"/>
              </a:solidFill>
              <a:latin typeface="Arial"/>
            </a:endParaRPr>
          </a:p>
        </p:txBody>
      </p:sp>
      <p:sp>
        <p:nvSpPr>
          <p:cNvPr id="138" name="Szövegdoboz 4"/>
          <p:cNvSpPr/>
          <p:nvPr/>
        </p:nvSpPr>
        <p:spPr>
          <a:xfrm>
            <a:off x="1500120" y="485784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eltéte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árhuzamos munkakörök katalógusa</a:t>
            </a:r>
            <a:endParaRPr b="0" lang="en-US" sz="3600" spc="-1" strike="noStrike">
              <a:solidFill>
                <a:srgbClr val="000000"/>
              </a:solidFill>
              <a:latin typeface="Arial"/>
            </a:endParaRPr>
          </a:p>
        </p:txBody>
      </p:sp>
      <p:sp>
        <p:nvSpPr>
          <p:cNvPr id="140" name="PlaceHolder 2"/>
          <p:cNvSpPr>
            <a:spLocks noGrp="1"/>
          </p:cNvSpPr>
          <p:nvPr>
            <p:ph/>
          </p:nvPr>
        </p:nvSpPr>
        <p:spPr>
          <a:xfrm>
            <a:off x="457200" y="1052640"/>
            <a:ext cx="8229600" cy="5472000"/>
          </a:xfrm>
          <a:prstGeom prst="rect">
            <a:avLst/>
          </a:prstGeom>
          <a:noFill/>
          <a:ln w="0">
            <a:noFill/>
          </a:ln>
        </p:spPr>
        <p:txBody>
          <a:bodyPr anchor="t">
            <a:normAutofit/>
          </a:bodyPr>
          <a:p>
            <a:pPr marL="363600" indent="0">
              <a:spcBef>
                <a:spcPts val="499"/>
              </a:spcBef>
              <a:buNone/>
              <a:tabLst>
                <a:tab algn="l" pos="0"/>
                <a:tab algn="ctr" pos="1700280"/>
                <a:tab algn="ctr" pos="5111640"/>
                <a:tab algn="ctr" pos="6999120"/>
                <a:tab algn="l" pos="7315200"/>
                <a:tab algn="l" pos="8229600"/>
                <a:tab algn="l" pos="9144000"/>
                <a:tab algn="l" pos="10058400"/>
              </a:tabLst>
            </a:pPr>
            <a:endParaRPr b="0" lang="en-US" sz="20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plágium-kontrol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strukturális ellenőrzés</a:t>
            </a:r>
            <a:endParaRPr b="0" lang="en-US" sz="24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szakirodalmi bizonyíték kontro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142" name="PlaceHolder 2"/>
          <p:cNvSpPr>
            <a:spLocks noGrp="1"/>
          </p:cNvSpPr>
          <p:nvPr>
            <p:ph/>
          </p:nvPr>
        </p:nvSpPr>
        <p:spPr>
          <a:xfrm>
            <a:off x="539640" y="170028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hetséges hibafajták:</a:t>
            </a:r>
            <a:endParaRPr b="0" lang="en-US" sz="3200" spc="-1" strike="noStrike">
              <a:solidFill>
                <a:srgbClr val="000000"/>
              </a:solidFill>
              <a:latin typeface="Arial"/>
            </a:endParaRPr>
          </a:p>
          <a:p>
            <a:pPr lvl="1" marL="17928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z formátum</a:t>
            </a:r>
            <a:endParaRPr b="0" lang="en-US" sz="2800" spc="-1" strike="noStrike">
              <a:solidFill>
                <a:srgbClr val="000000"/>
              </a:solidFill>
              <a:latin typeface="Arial"/>
            </a:endParaRPr>
          </a:p>
          <a:p>
            <a:pPr lvl="1" marL="17928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z sorrend</a:t>
            </a:r>
            <a:endParaRPr b="0" lang="en-US" sz="2800" spc="-1" strike="noStrike">
              <a:solidFill>
                <a:srgbClr val="000000"/>
              </a:solidFill>
              <a:latin typeface="Arial"/>
            </a:endParaRPr>
          </a:p>
          <a:p>
            <a:pPr lvl="1" marL="17928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létező forrásra való hivatkozás</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ba javítá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edmények datálása: dolgozat szerzője, ellenőrző, dátum, eredmén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vábbküldés a soron következő munkafolyamatn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ágium-kontrol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íció</a:t>
            </a:r>
            <a:endParaRPr b="0" lang="en-US" sz="4400" spc="-1" strike="noStrike">
              <a:solidFill>
                <a:srgbClr val="000000"/>
              </a:solidFill>
              <a:latin typeface="Arial"/>
            </a:endParaRPr>
          </a:p>
        </p:txBody>
      </p:sp>
      <p:sp>
        <p:nvSpPr>
          <p:cNvPr id="147" name="PlaceHolder 2"/>
          <p:cNvSpPr>
            <a:spLocks noGrp="1"/>
          </p:cNvSpPr>
          <p:nvPr>
            <p:ph/>
          </p:nvPr>
        </p:nvSpPr>
        <p:spPr>
          <a:xfrm>
            <a:off x="457200" y="2060280"/>
            <a:ext cx="8229600" cy="208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ét vagy több dokumentum egymással való összehasonlítása.</a:t>
            </a:r>
            <a:endParaRPr b="0" lang="en-US" sz="3200" spc="-1" strike="noStrike">
              <a:solidFill>
                <a:srgbClr val="000000"/>
              </a:solidFill>
              <a:latin typeface="Arial"/>
            </a:endParaRPr>
          </a:p>
        </p:txBody>
      </p:sp>
      <p:sp>
        <p:nvSpPr>
          <p:cNvPr id="148" name="Szövegdoboz 3"/>
          <p:cNvSpPr/>
          <p:nvPr/>
        </p:nvSpPr>
        <p:spPr>
          <a:xfrm>
            <a:off x="1357200" y="4786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Informáci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árhuzamos munkakörök katalógusa</a:t>
            </a:r>
            <a:endParaRPr b="0" lang="en-US" sz="3600" spc="-1" strike="noStrike">
              <a:solidFill>
                <a:srgbClr val="000000"/>
              </a:solidFill>
              <a:latin typeface="Arial"/>
            </a:endParaRPr>
          </a:p>
        </p:txBody>
      </p:sp>
      <p:sp>
        <p:nvSpPr>
          <p:cNvPr id="150" name="PlaceHolder 2"/>
          <p:cNvSpPr>
            <a:spLocks noGrp="1"/>
          </p:cNvSpPr>
          <p:nvPr>
            <p:ph/>
          </p:nvPr>
        </p:nvSpPr>
        <p:spPr>
          <a:xfrm>
            <a:off x="457200" y="1052640"/>
            <a:ext cx="8229600" cy="5472000"/>
          </a:xfrm>
          <a:prstGeom prst="rect">
            <a:avLst/>
          </a:prstGeom>
          <a:noFill/>
          <a:ln w="0">
            <a:noFill/>
          </a:ln>
        </p:spPr>
        <p:txBody>
          <a:bodyPr anchor="t">
            <a:normAutofit/>
          </a:bodyPr>
          <a:p>
            <a:pPr marL="363600" indent="0">
              <a:spcBef>
                <a:spcPts val="499"/>
              </a:spcBef>
              <a:buNone/>
              <a:tabLst>
                <a:tab algn="l" pos="0"/>
                <a:tab algn="ctr" pos="1700280"/>
                <a:tab algn="ctr" pos="5111640"/>
                <a:tab algn="ctr" pos="699912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Szakirodalmi formai ellenőr</a:t>
            </a:r>
            <a:endParaRPr b="0" lang="en-US" sz="24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Strukturális ellenőrzés</a:t>
            </a:r>
            <a:endParaRPr b="0" lang="en-US" sz="2400" spc="-1" strike="noStrike">
              <a:solidFill>
                <a:srgbClr val="000000"/>
              </a:solidFill>
              <a:latin typeface="Arial"/>
            </a:endParaRPr>
          </a:p>
          <a:p>
            <a:pPr marL="363600" indent="0">
              <a:spcBef>
                <a:spcPts val="601"/>
              </a:spcBef>
              <a:buNone/>
              <a:tabLst>
                <a:tab algn="l" pos="0"/>
                <a:tab algn="ctr" pos="1700280"/>
                <a:tab algn="ctr" pos="5111640"/>
                <a:tab algn="ctr" pos="6999120"/>
                <a:tab algn="l" pos="7315200"/>
                <a:tab algn="l" pos="8229600"/>
                <a:tab algn="l" pos="9144000"/>
                <a:tab algn="l" pos="10058400"/>
              </a:tabLst>
            </a:pPr>
            <a:r>
              <a:rPr b="0" lang="en-US" sz="2400" spc="-1" strike="noStrike">
                <a:solidFill>
                  <a:srgbClr val="000000"/>
                </a:solidFill>
                <a:latin typeface="Arial"/>
              </a:rPr>
              <a:t>Szakirodalmi bizonyíték kontrol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kezelé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hetséges hibafajtá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ált teljes egyezé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ált részleges egyezé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lgozat elvetése + egyéb jogkövetkezmény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cs hiba</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vábbítás a következő munkakör részé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ális ellenőrzés</a:t>
            </a:r>
            <a:endParaRPr b="0" lang="en-US" sz="4400" spc="-1" strike="noStrike">
              <a:solidFill>
                <a:srgbClr val="000000"/>
              </a:solidFill>
              <a:latin typeface="Arial"/>
            </a:endParaRPr>
          </a:p>
        </p:txBody>
      </p:sp>
      <p:sp>
        <p:nvSpPr>
          <p:cNvPr id="156" name=""/>
          <p:cNvSpPr/>
          <p:nvPr/>
        </p:nvSpPr>
        <p:spPr>
          <a:xfrm>
            <a:off x="7093080" y="6340320"/>
            <a:ext cx="205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Arial"/>
              </a:rPr>
              <a:t>Készítette: Kovács Balázs ISZ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404640"/>
            <a:ext cx="8642160" cy="6120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rodalomjegyzék-elemek kapcsán a következő információk adhatók me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szerző(k) vagy szerkesztő neve, általában a vezetéknév és a keresztnév első betűj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orrás cí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iadás helye (város) és é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iadó vagy a közreadó szervez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öbb kötetes mű, illetve folyóirat esetén a kötet száma, illetve az évfolyam és a lapszá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orrás terjedelme (xxx p. – pagina – vagy xxx o. –oldal – formáb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a a teljes mű egy részére hivatkozunk (pl. egy tanulmánykötet vagy folyóirat esetén), a teljes mű címét (In: a_mű_címe) és konkrét hivatkozott rész helyét (xxx-yyy. p.) is adjuk me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nline források esetén fontos a teljes(!) elérési út és a letöltés dátumának megadása</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orrások könnyebb beazonosíthatóságát szolgálhatja az, ha az irodalomjegyzékben sorszámozzuk a forrásokat és a folyó szövegben egy nem szó szerinti hosszabb gondolatsor végén az adott forrás sorszámát is leírjuk pl. szögletes zárójelbe zárva: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a, hibakeresé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advány helyes, előírások szerinti szerkezeti felépítéssel való egyezésének ellenőrz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ja a megfelelő formai követelmények betartásá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úgymint:</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m megengedett karakterek, felesleges szóközök, bekezdések mellőz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felelő betűméret, betűtípus alkalmaz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égséges szövegterjedelem betar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ngedhetetlen szövegrészek meglé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iakba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felelő oldalszámoz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ilatkozatok és mellékletek meglé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övetelményben foglalt részeket (tartalomjegyzék, fejezetek, alfejezetek, pontok, összefoglaló, irodalomjegyzék) tartalmaz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 esetén</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küldés előző állomáshoz, vagy szerzőhöz a hibák javítása vég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ladat továbbküldése a következő állomáshoz, amennyiben a feladat megfelel a követelményeknek, illetve ha a hibák már javításra került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llébeszélés-kontroll</a:t>
            </a:r>
            <a:endParaRPr b="0" lang="en-US" sz="4400" spc="-1" strike="noStrike">
              <a:solidFill>
                <a:srgbClr val="000000"/>
              </a:solidFill>
              <a:latin typeface="Arial"/>
            </a:endParaRPr>
          </a:p>
        </p:txBody>
      </p:sp>
      <p:sp>
        <p:nvSpPr>
          <p:cNvPr id="168" name=""/>
          <p:cNvSpPr/>
          <p:nvPr/>
        </p:nvSpPr>
        <p:spPr>
          <a:xfrm>
            <a:off x="7093080" y="6340320"/>
            <a:ext cx="205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Arial"/>
              </a:rPr>
              <a:t>Készítette: Kovács Balázs ISZ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ladata, hibakeresé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ja, hogy a beadvány tartalma eleget tesz-e a vizsgálat tárgyának, illetve a címben foglaltakn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enőrzi, hogy a szöveg tartalmazza-e a témához megfelelő alapvető információk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sgálati lépések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tv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m közöl-e hamis, nem helytálló ténye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esleges tények közlésének –melyeknek nincs jelentőségük a problémafelvetéshez kapcsolódóan- mellőzé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a eseté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küldés a hiba javítása vége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esleges tartalom törl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ányzó tartalom esetén kiegészít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ytálló feladat esetén továbbküldés a következő állomásh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mai követelmények tekintetében az alábbiakra kell oda figyelni diploma dolgozatná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plomadolgozatnak mind tartalmi, mind helyesírási, alaki és stilisztikai szempontból kifogástalannak, betűelütés mentesnek kell lennie, amelyet A/4-es papíron, szövegszerkesztővel írva (13-14-es betűméret, baloldalon (kötésoldalon) 3 cm-es, a többi szélein 2,5 cm-es margó, normál sortávolság, sorkizárás) két példányban fekete műbőrben bekötve kell elkészíteni,</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ő fejezeteknek új oldalon kell kezdődniü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ímek, alcímek betűiről (nagy és kis betűk, betűméret), esetleges aláhúzásából vagy vastagításából és a sorban való elhelyezéséből (középre, oldalt) tűnjön ki azok fontossága, és azok az egész dolgozatban következetesek, decimális számozásúak legyen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akirodalmi bizonyíték-kontroll</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íció</a:t>
            </a:r>
            <a:endParaRPr b="0" lang="en-US" sz="4400" spc="-1" strike="noStrike">
              <a:solidFill>
                <a:srgbClr val="000000"/>
              </a:solidFill>
              <a:latin typeface="Arial"/>
            </a:endParaRPr>
          </a:p>
        </p:txBody>
      </p:sp>
      <p:sp>
        <p:nvSpPr>
          <p:cNvPr id="179" name=""/>
          <p:cNvSpPr txBox="1"/>
          <p:nvPr/>
        </p:nvSpPr>
        <p:spPr>
          <a:xfrm>
            <a:off x="428760" y="2285640"/>
            <a:ext cx="8229600" cy="19717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zakirodalmi bizonyíték-kontroll a dolgozatban</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ereplő állításokhoz felhasznált irodalmak</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enőrzésére szolgá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fogadása</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érkező anyag fogadása a párhuzamosan futó szekciókbó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szaigazolás elkészítése, majd küld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anyag továbbküldése vizsgála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ek vizsgálata</a:t>
            </a:r>
            <a:endParaRPr b="0" lang="en-US" sz="4400" spc="-1" strike="noStrike">
              <a:solidFill>
                <a:srgbClr val="000000"/>
              </a:solidFill>
              <a:latin typeface="Arial"/>
            </a:endParaRPr>
          </a:p>
        </p:txBody>
      </p:sp>
      <p:sp>
        <p:nvSpPr>
          <p:cNvPr id="183" name=""/>
          <p:cNvSpPr txBox="1"/>
          <p:nvPr/>
        </p:nvSpPr>
        <p:spPr>
          <a:xfrm>
            <a:off x="457200" y="1600200"/>
            <a:ext cx="8229600" cy="48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izsgálandó anyag átvétele, majd vizsgál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érkező dolgozat szakirodalmi hivatkozása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gfelelnek e a szabályzatnak?</a:t>
            </a:r>
            <a:endParaRPr b="0" lang="en-US" sz="24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Az irodalmi hivatkozások formai követelménye</a:t>
            </a: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gen, a dolgozat továbbküldésre kerü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m, a dolgozatban lévő hibák feltárásra </a:t>
            </a:r>
            <a:r>
              <a:rPr b="0" lang="en-US" sz="2400" spc="-1" strike="noStrike">
                <a:solidFill>
                  <a:srgbClr val="000000"/>
                </a:solidFill>
                <a:latin typeface="Arial"/>
              </a:rPr>
              <a:t>	</a:t>
            </a:r>
            <a:r>
              <a:rPr b="0" lang="en-US" sz="2400" spc="-1" strike="noStrike">
                <a:solidFill>
                  <a:srgbClr val="000000"/>
                </a:solidFill>
                <a:latin typeface="Arial"/>
              </a:rPr>
              <a:t>kerüln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hetséges hibák:</a:t>
            </a:r>
            <a:endParaRPr b="0" lang="en-US" sz="4400" spc="-1" strike="noStrike">
              <a:solidFill>
                <a:srgbClr val="000000"/>
              </a:solidFill>
              <a:latin typeface="Arial"/>
            </a:endParaRPr>
          </a:p>
        </p:txBody>
      </p:sp>
      <p:sp>
        <p:nvSpPr>
          <p:cNvPr id="185" name=""/>
          <p:cNvSpPr txBox="1"/>
          <p:nvPr/>
        </p:nvSpPr>
        <p:spPr>
          <a:xfrm>
            <a:off x="500040" y="1928880"/>
            <a:ext cx="8229600" cy="3757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vatkozás formailag nem megfelelően van feltüntetv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 állítás mögött nem áll szakirodalo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akirodalomban lévő állítást a sajátjaként tünteti fel a dolgozat szerzőj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ülföldi folyóiratokból,könyvekből nem az eredeti nyelven történt a hivatkoz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z Eredmény vizsgáló nem talált hibát akkor, igazolást állít k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zt követően továbbküldi az eredményeket a soron következő munkafolyamatna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428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tvagyon minőségének ellenőrzé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71320" y="1499760"/>
            <a:ext cx="8143560" cy="4714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adatvagyon minőségének ellenőrzéséhe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merni kell az adatok származásának,</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őkészítésének és esetleges feldolgozási</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yamatainak és feldolgozottságának kérdései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yek az adatok értelmezéséhez adnak</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ítséget, </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edmény fogadása és ellenőrzése:</a:t>
            </a:r>
            <a:endParaRPr b="0" lang="en-US" sz="44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 átvétele az előző munkakörtő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lgozat ellenőrzés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metaadatbázisban hibát találnak, akkor kijavításra kerül ill. Visszaküldik a dolgozat készítőjének javításr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a metaadatbázis hibátlan akkor továbbküldik a következő munkakörn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428760" y="142560"/>
            <a:ext cx="8229600" cy="635796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vizsgálat során fel kell tárni a lehetséges problémákat:</a:t>
            </a:r>
            <a:endParaRPr b="0" lang="en-US" sz="2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konzisztencia vagy kódok nem megfelelő használata</a:t>
            </a:r>
            <a:endParaRPr b="0" lang="en-US" sz="2800" spc="-1" strike="noStrike">
              <a:solidFill>
                <a:srgbClr val="000000"/>
              </a:solidFill>
              <a:latin typeface="Arial"/>
            </a:endParaRPr>
          </a:p>
          <a:p>
            <a:pPr lvl="1" marL="743040" indent="-28584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m dokumentált mezők használata</a:t>
            </a:r>
            <a:endParaRPr b="0" lang="en-US" sz="2800" spc="-1" strike="noStrike">
              <a:solidFill>
                <a:srgbClr val="000000"/>
              </a:solidFill>
              <a:latin typeface="Arial"/>
            </a:endParaRPr>
          </a:p>
          <a:p>
            <a:pPr lvl="1" marL="743040" indent="-28584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ódrendszerek túlterheltsége</a:t>
            </a:r>
            <a:endParaRPr b="0" lang="en-US" sz="2800" spc="-1" strike="noStrike">
              <a:solidFill>
                <a:srgbClr val="000000"/>
              </a:solidFill>
              <a:latin typeface="Arial"/>
            </a:endParaRPr>
          </a:p>
          <a:p>
            <a:pPr lvl="1" marL="743040" indent="-28584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jlődő adatok, rendszerek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ányos, inkorrekt, vagy duplikált értékek</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zövegben lévő címek előtt és után – azok fontosságától függően, a jobb áttekinthetőség végett – üres sort kell kihagyni,</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plomadolgozat terjedelme – szóközök nélkül – 70-140 ezer, a szakdolgozat terjedelme – szóközök nélkül – 50-100 ezer karakter lehet, amelybe a szövegközi táblázatok és ábrák is beletartozna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plomadolgozat végén mellékletben alaptáblázatok és egyéb, a dolgozat eredményeinek megértéséhez tartozó adatok, információk közölhetőe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plomadolgozat kötelező függelékei az esetleges mellékletek után következne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00040" y="785880"/>
            <a:ext cx="8229600" cy="45259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yesírási hibá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dundancia (ugyanaz az adat többször található me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átum eltérés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forrás hibás megjelölé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viteli hibá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vábbküldés</a:t>
            </a:r>
            <a:endParaRPr b="0" lang="en-US" sz="4400" spc="-1" strike="noStrike">
              <a:solidFill>
                <a:srgbClr val="000000"/>
              </a:solidFill>
              <a:latin typeface="Arial"/>
            </a:endParaRPr>
          </a:p>
        </p:txBody>
      </p:sp>
      <p:sp>
        <p:nvSpPr>
          <p:cNvPr id="195" name=""/>
          <p:cNvSpPr txBox="1"/>
          <p:nvPr/>
        </p:nvSpPr>
        <p:spPr>
          <a:xfrm>
            <a:off x="428760" y="2857320"/>
            <a:ext cx="8229600" cy="1239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bátlan illetve a javított dolgozat jóváhagyás után továbbküldésre kerü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élcsoportok helyes kezelése</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lcsoport</a:t>
            </a:r>
            <a:r>
              <a:rPr b="0" lang="en-US" sz="3200" spc="-1" strike="noStrike">
                <a:solidFill>
                  <a:srgbClr val="000000"/>
                </a:solidFill>
                <a:latin typeface="Arial"/>
              </a:rPr>
              <a:t>. </a:t>
            </a:r>
            <a:br>
              <a:rPr sz="3200"/>
            </a:br>
            <a:r>
              <a:rPr b="0" lang="en-US" sz="3200" spc="-1" strike="noStrike">
                <a:solidFill>
                  <a:srgbClr val="000000"/>
                </a:solidFill>
                <a:latin typeface="Arial"/>
              </a:rPr>
              <a:t>A célcsoport meghatározásánál azt a piaci szegmentumot kell meghatároznunk, akiket a termékkel megcélzunk. Ez lehet kor szerint (2-4 éves gyerekek), foglalkozás szerint, lakóhely szerint, st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ználói célcsoport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 A célcsoport fogalma,jelentősé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 A célcsoport megérté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élcsoport fogalma, jelentősége:  célcsoport,pl. foglalkozás, életkor, használói készség szerinti csoportosít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egyes célcsoportok véleményének megismerése megfelelő vizsgálati módszerek tervezését,kidolgozását alkalmazását igény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élcsoport megért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yen célcsoportok vann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 a használói igény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k az eredmények használó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ért használják az eredménye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várnak tő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ját következtetések helyessége </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helyes következtetés helyessége nem csupán az együttes kielégíthetetlenséget jelenti, azt hogy a premisszáknak és a konklúzió tagadásának nincs együttes interpretációja? Ez pedig könnyen lehet, hogy egy fizikai tény, még ha nem is érzékelhető, mármint ha feltételezzük, hogy a referencia valamilyen fizikai reláci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ályamunka bírálatát a következő szempontok szerint célszerű végezni: </a:t>
            </a:r>
            <a:endParaRPr b="0" lang="en-US" sz="4000" spc="-1" strike="noStrike">
              <a:solidFill>
                <a:srgbClr val="000000"/>
              </a:solidFill>
              <a:latin typeface="Arial"/>
            </a:endParaRPr>
          </a:p>
        </p:txBody>
      </p:sp>
      <p:sp>
        <p:nvSpPr>
          <p:cNvPr id="204"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kai felépítés, irodalmi áttekintés: világos témafelvetés, a vizsgálatok indoklása, világos szerkesztés, irodalmi megalapozottság, a </a:t>
            </a:r>
            <a:r>
              <a:rPr b="1" lang="en-US" sz="3200" spc="-1" strike="noStrike">
                <a:solidFill>
                  <a:srgbClr val="000000"/>
                </a:solidFill>
                <a:latin typeface="Arial"/>
              </a:rPr>
              <a:t>következtetések</a:t>
            </a:r>
            <a:r>
              <a:rPr b="0" lang="en-US" sz="3200" spc="-1" strike="noStrike">
                <a:solidFill>
                  <a:srgbClr val="000000"/>
                </a:solidFill>
                <a:latin typeface="Arial"/>
              </a:rPr>
              <a:t> </a:t>
            </a:r>
            <a:r>
              <a:rPr b="1" lang="en-US" sz="3200" spc="-1" strike="noStrike">
                <a:solidFill>
                  <a:srgbClr val="000000"/>
                </a:solidFill>
                <a:latin typeface="Arial"/>
              </a:rPr>
              <a:t>helyessége</a:t>
            </a:r>
            <a:r>
              <a:rPr b="0" lang="en-US" sz="3200" spc="-1" strike="noStrike">
                <a:solidFill>
                  <a:srgbClr val="000000"/>
                </a:solidFill>
                <a:latin typeface="Arial"/>
              </a:rPr>
              <a:t>, a </a:t>
            </a:r>
            <a:r>
              <a:rPr b="1" lang="en-US" sz="3200" spc="-1" strike="noStrike">
                <a:solidFill>
                  <a:srgbClr val="000000"/>
                </a:solidFill>
                <a:latin typeface="Arial"/>
              </a:rPr>
              <a:t>következtetések</a:t>
            </a:r>
            <a:r>
              <a:rPr b="0" lang="en-US" sz="3200" spc="-1" strike="noStrike">
                <a:solidFill>
                  <a:srgbClr val="000000"/>
                </a:solidFill>
                <a:latin typeface="Arial"/>
              </a:rPr>
              <a:t> és az irodalmi adatok összevetésének </a:t>
            </a:r>
            <a:r>
              <a:rPr b="1" lang="en-US" sz="3200" spc="-1" strike="noStrike">
                <a:solidFill>
                  <a:srgbClr val="000000"/>
                </a:solidFill>
                <a:latin typeface="Arial"/>
              </a:rPr>
              <a:t>helyessé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ályamunka bírálatát a következő szempontok szerint célszerű végezni</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ódszerek: módszerek nehézségi foka, sokoldalúsága, leírásának pontossága, adekvát volta, </a:t>
            </a:r>
            <a:r>
              <a:rPr b="1" lang="en-US" sz="3200" spc="-1" strike="noStrike">
                <a:solidFill>
                  <a:srgbClr val="000000"/>
                </a:solidFill>
                <a:latin typeface="Arial"/>
              </a:rPr>
              <a:t>saját</a:t>
            </a:r>
            <a:r>
              <a:rPr b="0" lang="en-US" sz="3200" spc="-1" strike="noStrike">
                <a:solidFill>
                  <a:srgbClr val="000000"/>
                </a:solidFill>
                <a:latin typeface="Arial"/>
              </a:rPr>
              <a:t> munka mérté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1T13:59:53Z</dcterms:created>
  <dc:creator>LaCae</dc:creator>
  <dc:description/>
  <dc:language>en-US</dc:language>
  <cp:lastModifiedBy>LaCae</cp:lastModifiedBy>
  <dcterms:modified xsi:type="dcterms:W3CDTF">2008-04-11T20:08:59Z</dcterms:modified>
  <cp:revision>18</cp:revision>
  <dc:subject/>
  <dc:title>1. dia</dc:title>
</cp:coreProperties>
</file>