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382-4FE7-406F-A0D9-31FACDCD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9D1-5828-41E3-BFC8-94380A5B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C9E-F727-4F2A-8F41-46B5721F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F7C-0BE0-4A27-ACDA-5908B866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B48-984D-43CD-9592-DE973B8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B8D-7ABB-4012-9031-D968D00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0A8-BBF7-4F5A-AC7F-3650CA06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688-CEA7-4807-95DB-59F0677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A04-443A-4DB2-A46C-C1181A80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84A-BDC0-4F80-837C-8A80E1C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392-42FE-42A0-9AD8-A197C5A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B7E-ED32-4881-AE9F-9773A88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F05-7229-403E-8A6F-A8269C145DA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i értékelés(pp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emzé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os a szakszerű, pontos előadásmó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ját vélemény, következtetések megfog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adott időkeret betar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os a tartalmi hitelesség, a téma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árhuzamosan futó munkakörök outputjainak fo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jelzés a megérkezett eredményekről (e-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ttérés a következő felad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-e a dolgozat a szabályzatban előírtakn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en: további vizsgálódásra me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: a kijelölt bírák megkeresik a szabálynak nem megfelelő hibá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séges hibafajtá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felel-e az előadáshoz szükséges dokumentum formát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felel-e a formai követelmények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ás dokumentumok esetén visszaküldjük az előző munkakörökhö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ált hibák kijavítása és hiányosságok pót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bázó munkakör kijavítja a hibát, visszaküldi és Értékelésre ker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0:46:17Z</dcterms:created>
  <dc:creator>eXPerience</dc:creator>
  <dc:description/>
  <dc:language>en-US</dc:language>
  <cp:lastModifiedBy>LaCae</cp:lastModifiedBy>
  <dcterms:modified xsi:type="dcterms:W3CDTF">2008-04-11T20:55:42Z</dcterms:modified>
  <cp:revision>12</cp:revision>
  <dc:subject/>
  <dc:title>Formai értékelés(doc)</dc:title>
</cp:coreProperties>
</file>