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0DF-9767-4884-B449-B7F506B6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AAC-4CAC-46FE-A859-321E363C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ACE-B5FB-4A21-AE41-44AAAD1E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7A3-5944-4B97-B99C-ECDD9FBE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A83-D88A-4138-A6A3-C5AE218C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D79-30E6-45FD-B753-3555A678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2D3-D66B-4239-8B9D-4750EC2E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D29-BD35-4BAF-81CE-075C844B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DE8-D99D-4ED4-B6AE-78D3876B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989-FECD-49BD-9593-7C814BA0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3AD-6335-40D2-9034-D66F0D61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0EA3-8E55-4CD2-93A1-161C1CC2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E160-3950-47D3-9F78-C433A0227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gen nyelvű változatok kezel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unkakö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dk/diploma dolgozatok idegen nyelvű változatainak kezelésének legalább kétféle szempontja lehetsé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-egy dolgozat értékelése kapcsán nem várható el az értékelőktől, hogy azzal nyelvvel tisztában legyenek, amelyen a dolgozat íródott. Ez a munkakör ezt a problémát oldja m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unkakö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nkakörnek az előzőekből következően vagy a hierarchia legtetején lévő munkakörhöz kell kapcsolódnia, vagy pedig önmagának kell lennie a hierarchia legtetején lévő munkakörn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émák a hierarchiáv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intettel arra, hogy a hierarchia teteje a témaválasztási konzulens munkaköre, ami még nem az elkészült dolgozatok értékelésével foglalkozik, ezért vissza kell vonnunk előző kijelentésün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unkakörnek tehát a dolgozat értékelésével foglalkozó első munkakörhöz kell kapcsolódnia, vagy önmagának kell lennie az első ilyen munkakör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gen nye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idegen nyelvű változatok kezelésének feladata magában foglalhatja dolgozatok idegen nyelvű változatainak nyelvhelyességi szempontú vizsgálatá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6:25:48Z</dcterms:created>
  <dc:creator>Viktor Varga</dc:creator>
  <dc:description/>
  <dc:language>en-US</dc:language>
  <cp:lastModifiedBy>LaCae</cp:lastModifiedBy>
  <dcterms:modified xsi:type="dcterms:W3CDTF">2008-04-11T21:02:15Z</dcterms:modified>
  <cp:revision>5</cp:revision>
  <dc:subject/>
  <dc:title>1. dia</dc:title>
</cp:coreProperties>
</file>