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B741-2125-415F-A1DC-CAB68B5C8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1779-3FE8-41B8-9C49-A5A5050F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C6B9-8745-4E2C-A99D-BF5CC9C1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1D23-8A48-47F7-9ECC-63F7E9B0E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328B-AF11-48DF-A157-86E06EA5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3159-EA81-4CDE-B77B-91169D5C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0B03-08DB-4CAC-80E5-6B386F5B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DCC4-37C8-4B7C-A87B-1EE5858B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09B5-621F-4D27-90F5-26CDC990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7C99-8BF2-45F0-AB48-5CA7E342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55D7-27FC-40C2-9D02-138DA650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C6E8-9516-49D5-B597-526FCA7D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CF25-7BBF-453F-846A-5824DB640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K&#252;ls&#337;%20bor&#237;t&#243;lap.doc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i értékelés(do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10. Irodalmi jegyzé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olgozat végén legyen, a szerzők szoros abc-szerinti felsorolásáv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y szerző több munkája esetén a sorrendet a megjelenés éve szerint kell megállapítani, a korábbival kezdv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onos szerző ugyanazon évben megjelent műveit az abc kisbetűivel kiegészítve kell megjelentetni (pl. Howarth [1999a], Howarth [1999b]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ld Wide Web-ről származó információ esetén a szervezet neve, zárójelben az évszám, amely jelzi, hogy mely évben ellenőriztük az adatot, majd a pontos l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yóiratok esetében az oldalszámot is fel kell tüntetni. A magyar és külföldi szerzők eseté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öbbszerzős munkákra történő hivatkozásnál az előírtak szerint kell eljárni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11. Mellék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Irodalomjegyzék után, római számokkal jelölt oldalszámozással ellátva kell elhelyez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llékletben táblázatok, ábrák, egyéb olyan dokumentumok szerepeltethetők, amelyek a dolgozat mondanivalójának illusztrálására szolgálnak, de nem képezik a dolgozat érdemi részé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12. Helyesír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elyesírást illetően az MTA által kiadott, legújabb „A magyar helyesírás szabályai” című kiadvány az irányad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olgozat beérkezik               megkezdődik a vizsgálód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306864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lenőr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gfelel-e a dolgozat a szabályzatban előírtakna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en: Hibamentes                           megfelelt a szabályzatban leírtak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sza a feladó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kus jav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entmondások kiküszöböl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3357720"/>
            <a:ext cx="172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bakeres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hetséges hibafajtá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ssz formá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m megfelelő küla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ncs pontos forrás megjelöl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elvi hibá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ba eseté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bás dokumentumok esetén visszaküldjük a hallgatóh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 javítja ki a hibákat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lgató által történik a jav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z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alált hibák kijavítása és hiányosságok pótl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ibázó kijavítja a hibát, visszaküldi és Értékelésre kerü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 az értékelés nem talált hibát, akkor az eredményeket továbbküldi a következő munkafolyamath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llemzé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23640" y="2060640"/>
            <a:ext cx="28796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talmi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ak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yesírá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isztikai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08360" y="2276640"/>
            <a:ext cx="792360" cy="2016000"/>
          </a:xfrm>
          <a:custGeom>
            <a:avLst/>
            <a:gdLst>
              <a:gd name="textAreaLeft" fmla="*/ 0 w 792360"/>
              <a:gd name="textAreaRight" fmla="*/ 286200 w 79236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3068640"/>
            <a:ext cx="30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empontból meg kell, hogy feleljen a szabályzatban előírtakn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1. A dolgozat szerkezeti felépíté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ítólapok kivitele és felirata 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átum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olgozat ajánlott tagolása pl. agrár és természettudományi témák esetében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zakirodalmi áttekintés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2.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nyag és módsz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zsgált objektumoknak valamint a vizsgálatok módszertanának értelemszerű jellemz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zsgálatok hol, mikor, hogyan, milyen módszerekkel történ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3.Vizsgálati eredmény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zsgálatok, elemzések eredményeit tartalmazza ez a rés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ját eredmények ismerte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eredményeket célszerű táblázatokban is összefoglalni, ábrákkal szemléltetni és megbízhatóságukat a tudományterület sajátosságait figyelembe véve statisztikai módszerekkel igazol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4.Értékelések, következtetések, javaslat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ben a fejezetben kell ismertetni az eredményekből levont legfontosabb következtetéseket. Itt kell megtenni az összevetést más szerzők eredményeivel (itt ismét lehet hivatkozni). A téma jellegétől függően javaslatot kell tenni azok gyakorlati alkalmazására, illetve továbbfejlesztésére. (maximum 15 old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5. Jegyzete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ülhetnek folyamatos sorszámozással a lábjegyzetbe vagy a befejező rész után. A szövegben a jegyzetekre felső állásba tett számokkal kell hivatkoz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7. Táblázatok, ábrák, grafikon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áblázatok készítése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Ábrák készítése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fikon készítése: ábrázolása koordináta-rendszerben, pontosan szüksé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8. Hivatkozások 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olgozatban háromfajta hivatkozást lehet alkalmaz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zószerinti hivatkozás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talmi hivatkozás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ztikai adatok, táblázatok, diagrammok hivatkozása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4:43:42Z</dcterms:created>
  <dc:creator>LaCae</dc:creator>
  <dc:description/>
  <dc:language>en-US</dc:language>
  <cp:lastModifiedBy>LaCae</cp:lastModifiedBy>
  <dcterms:modified xsi:type="dcterms:W3CDTF">2008-04-11T21:03:39Z</dcterms:modified>
  <cp:revision>3</cp:revision>
  <dc:subject/>
  <dc:title>Formai értékelés(doc)</dc:title>
</cp:coreProperties>
</file>