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606-4BAB-4F55-BD5C-3BF70F0E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FFF-97BC-42F5-9573-CBD67DB5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A59-27D3-42F6-AC23-33165F4C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869-BACA-435A-ADF8-120FC1E1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355-0A2C-4D88-B4A2-B5AF5146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E81-7AC1-4AD7-BD46-850B4491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467-797C-4761-85EE-4BB4078C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379-CFF2-4C03-A62A-3B4171C6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19A-B289-444C-A310-0FFE0839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9F7-9A03-46A5-AB0C-BE926046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03E-87DD-4DC6-95CA-0469E64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A04-7AED-41AF-8D0B-BB2746B1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E05-5977-44F9-B897-AD38280F55B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lébeszélés-kont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sgálja, hogy a beadvány tartalma eleget tesz-e a vizsgálat tárgyának, illetve a címben foglaltak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nőrzi, hogy a szöveg tartalmazza-e a témához megfelelő alapvető információk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sgálati lépése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etv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 közöl-e hamis, nem helytálló ténye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esleges tények közlésének –melyeknek nincs jelentőségük a problémafelvetéshez kapcsolódóan- mellő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küldés a hiba javítása vé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esleges tartalom tör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ányzó tartalom esetén kiegész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ytálló feladat esetén továbbküldés a következő állomás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34:12Z</dcterms:created>
  <dc:creator>Balázs</dc:creator>
  <dc:description/>
  <dc:language>en-US</dc:language>
  <cp:lastModifiedBy>LaCae</cp:lastModifiedBy>
  <dcterms:modified xsi:type="dcterms:W3CDTF">2008-04-11T20:57:29Z</dcterms:modified>
  <cp:revision>11</cp:revision>
  <dc:subject/>
  <dc:title>Mellébeszélés-kontroll</dc:title>
</cp:coreProperties>
</file>