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29D-F33D-4F5D-A14F-E3003870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45A-5948-49A0-B96F-02C2DFD4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010-F29B-4B21-977F-BCE81533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434-F441-4B2D-A616-64A4B11C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737-54B0-47E3-AC96-9112EEA0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8E1-593A-4B68-BC11-2872FAAF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31A-48ED-4B54-811E-D738DFEA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B86-FC41-41E2-8822-DBBB9201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C43-C177-44B8-9068-453FC6DF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5CA-68B6-4A39-93EF-E0BBA325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B70-1387-4A3B-89E3-4A1CAC4E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F94-C03D-4D4B-BBDB-08FA9738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AE4F-B7FB-4AAF-BF47-181A2A51C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brák és grafikonok indokoltsá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i követelmény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ábrákat és grafikonokat minden esetben folytatólagos számozással kell ellátni, amit a tartalomjegyzékben fel kell tűnte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rtalmát jól kifejező, rövid címet fel kell tűnte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tos, hogy a mérete ne legyen se túl nagy, se túl kic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brák és grafikonok indokoltsá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ért kellenek ábrák és grafikon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ábrák és grafikonok segítségével a dolgozatot szemléletesebbé tudjuk te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ábrák és grafikonok segítenek a tények vizuális úton történő bemutatásához, alátámasztásáh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brák és grafikonok indokoltsá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éma könnyebben felfogható, értelmezhető, feldolgozható les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ülönböző gazdasági folyamatok, trendek és statisztikai adatok bemutatását megkönnyíti, fogyaszthatóvá teszi a hallgatóság számá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brák és grafikonok indokoltsá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ínesebbé teszi a dolgozat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éma sokkal magyarázhatóbbá válik, és ebből következően az előadás könnyebb le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8:22:58Z</dcterms:created>
  <dc:creator>Oldschool</dc:creator>
  <dc:description/>
  <dc:language>en-US</dc:language>
  <cp:lastModifiedBy>LaCae</cp:lastModifiedBy>
  <dcterms:modified xsi:type="dcterms:W3CDTF">2008-04-11T21:02:48Z</dcterms:modified>
  <cp:revision>4</cp:revision>
  <dc:subject/>
  <dc:title>Ábrák és grafikonok indokoltsága</dc:title>
</cp:coreProperties>
</file>