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DE4F-767D-4331-90D2-0850616C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AD8B-B077-4C3F-BECB-9E000D88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5D29-915C-4F99-8700-B0427D551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8EE1-5FD4-434D-AE62-F3EB06061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0D4F-C24D-4AFB-9466-EA0FF5E8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24E5-838F-404D-9EDA-12441476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4633-4AEF-4AED-B7BC-CFB68B82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7504-B31B-472B-97BE-E17E77ED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BEB0-0F78-4FAB-AE84-A8249212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5E35-22A1-4852-9A1D-4627903E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48FB-8D3B-4B3A-9FD4-A2A37B14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FF38-75F6-4CF4-9E73-A107E3A3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652E-9A25-4E95-8F08-4B7A6EADD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Az%20irodalmi%20hivatkoz&#225;sok%20formai%20k&#246;vetelm&#233;nye.doc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zakirodalmi bizonyíték-kontrol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íc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28760" y="228564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zakirodalmi bizonyíték-kontroll a dolgozat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ereplő állításokhoz felhasznált irodalm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enőrzésére szolgá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edmények fogad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eérkező anyag fogadása a párhuzamosan futó szekciókbó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szaigazolás elkészítése, majd küld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anyag továbbküldése vizsgála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edmények vizsgál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vizsgálandó anyag átvétele, majd vizsgál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beérkező dolgozat szakirodalmi hivatkozás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felelnek e a szabályzatna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z irodalmi hivatkozások formai követelmén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gen, a dolgozat továbbküldésre kerü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m, a dolgozatban lévő hibák feltárásra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erüln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hetséges hibá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00040" y="1928880"/>
            <a:ext cx="822960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ivatkozás formailag nem megfelelően van feltüntet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y állítás mögött nem áll szakirodal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akirodalomban lévő állítást a sajátjaként tünteti fel a dolgozat szerző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ülföldi folyóiratokból,könyvekből nem az eredeti nyelven történt a hivatkozá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 az Eredmény vizsgáló nem talált hibát akkor, igazolást állít 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zt követően továbbküldi az eredményeket a soron következő munkafolyamatna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5:00:25Z</dcterms:created>
  <dc:creator>LaCae</dc:creator>
  <dc:description/>
  <dc:language>en-US</dc:language>
  <cp:lastModifiedBy>LaCae</cp:lastModifiedBy>
  <dcterms:modified xsi:type="dcterms:W3CDTF">2008-04-11T15:02:17Z</dcterms:modified>
  <cp:revision>2</cp:revision>
  <dc:subject/>
  <dc:title>Szakirodalmi bizonyíték-kontroll </dc:title>
</cp:coreProperties>
</file>