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D20-D2AD-4E07-84AF-81054E9D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FF54-D312-4A8A-835F-887E64A5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1E05-ED50-4A6C-8F30-AEF2E7E2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171-4474-42F8-B48D-633256DA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40A7-647D-4D1A-8C7D-96917E7A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D46-42C2-4466-9E12-B8A31467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6B0-02FE-4459-8545-7DC40785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619-6461-4381-B7B6-387060B4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28B-4134-4513-BDDA-3F79F362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DC3-1A28-4DFE-B7B0-A8950E89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371-ED86-433F-B6D2-9C636DE4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CCB-7DFE-4616-A5A7-78737BDC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7159-D597-40AE-BC78-B7A037F7B4B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Kommunikációs szakértő, aki azért felel, hogy a potenciális érintettek képben legyenek a folyamat ut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égső fázisra taná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dolgozat teljes újbóli átolvasása, átnézése, hogy ne merüljenek fel esetleges helyesírási hibák, vagy értelmetlen mondato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g kell nézni, hogy mindenhol megtalálható-e ahol kell az utalás, és annak helyes használta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diploma dolgozat végén, a bekezdés  l) pontjában hivatkozott, a dolgozat rövid bemutatását kell besoroln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zen az oldalon fel kell tüntetni a dolgozat szerzőjének a nevét, a dolgozat címét, a belső és a külső (ha van) konzulens nevét, a dolgozat témájára utaló 4-5 kulcskifejezést, valamint meg kell adni a dolgozat 8-10 soros leírásá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tnézni az irodalomjegyzéket, hogy minden helyesen, hibátlanul van leír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lléklet rovatban ( ha esetleg van) megnézni, hogy minden kép, tábla mellé van-e rakva, írva sorszám melyet a dolgozatunk anyagában is megtalálunk és ez által tudunk rá hivatkoz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a ezekre ügyelünk és odafigyelünk akkor sikeres szakmai illetve diploma dolgozatot tudunk ír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rtes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ba következése esetén a potenciális személy értesítése levélben, e-mail-ben, telefonon vagy esetleg szób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amilyen adat hiány esetén való szólás az előzőekben írt mó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ácsad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ülönböző formátumú tanácsadások, felvilágosítások ( mint például papíron történő vagy interneten, e-mail-ben ( elektronikus levél útján), televízióban, szóban történő felvilágosítások, tudósítás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érdeklődő személyek kérdéseire válaszad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ítségad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zakértő segítséget nyújthat a potenciális személyek kérdéseire válaszadás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esetleg olyan témában van a probléma mi el lett rontva és visszafordíthatatlan akkor a szakértő segítséget nyújthat egy másik téma keresésében vagy felnyújtásában (pl.: ha valakit nem vettek fel az egyetemre akkor a szakértő segítséget nyújt, hogy hova menjen el, azzal a tudással mi az illetőnek van meg, ki az egyetemre jelentkezett, de nem vették f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20:07:35Z</dcterms:created>
  <dc:creator>LaCae</dc:creator>
  <dc:description/>
  <dc:language>en-US</dc:language>
  <cp:lastModifiedBy>LaCae</cp:lastModifiedBy>
  <dcterms:modified xsi:type="dcterms:W3CDTF">2008-04-11T20:08:09Z</dcterms:modified>
  <cp:revision>1</cp:revision>
  <dc:subject/>
  <dc:title>1. dia</dc:title>
</cp:coreProperties>
</file>