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F55-0843-41A5-A312-48EE3316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801-6E4C-4400-8099-0D3C1ACE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27F-4627-41E2-BB54-0A3153C4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B53-DC60-4F17-8C46-53C262CF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A34-7534-4D03-8842-FB410396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72C-B0B0-462B-AD11-65FDC523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D19-926C-41E4-9E34-B2CA13B1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347-9843-4667-85C3-8FCFBD3E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149-D75F-4970-A649-7A374B50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204-30D4-4F99-B87C-FB5D4C8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198-086C-4BC0-B69C-7F469D3C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78E-B556-4E71-A006-EB38737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AC11-90B0-4DFD-A955-305E39D56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gen-szavak.hu/" TargetMode="External"/><Relationship Id="rId2" Type="http://schemas.openxmlformats.org/officeDocument/2006/relationships/hyperlink" Target="http://tmt.omikk.bme.hu/show_news.html?id=4282&amp;issue_id=468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ációk köve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ációs kartellek figye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galmak tisztá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itáci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dézés/idézett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Karte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Több vállalat kísérlete arra, hogy együtt uralkodó pozícióba jussanak. Kartellnek nevezünk minden versenytársak közötti megállapodást, ha az a gazdasági versenyt korlátoz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Összefoglalva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itációs karte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éhány szerző összefogását jelenti, akik rendszeresen egymást hivatkozzák meg műveik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z idézettség követése rendkívül fontos a kutatók számára, a tudományos minősítési rendszer követelménye miatt. A kiemelt pályázatok és a tudományos minősítések elbírálásánál döntõ tudományos teljesítményt a kutatók idézettségével mér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y publikáció jelentőségét azzal is becsülhetjük, ha megszámoljuk a forrásmunkaként rá hivatkozó más publikációkat. Hasonlóképpen, egy kutató munkájának jelentőségét kifejezheti az, hogy műveire összesen hány mások által írott hivatkozást (citációt) kap. Az önhivatkozásoknak (vagyis mikor a szerző egyik művében saját másik művére utal) e szempontból általában nem tulajdonítanak jelentőséget. Több helyen csak a független idézetek számát elemzik, ez esetben a citált mű szerzői és a citáló mű szerzői között egyetlen azonos személy sin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ivatkozások száma természetesen csak a formálisan is publikált hivatkozó művek esetében értelmezhető. A nem publikált művekben, pl. kéziratokban, szakdolgozatokban fellelt hivatkozások száma e szempontból lényegt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ilág rangosabb nemzetközi szakfolyóiratainak hivatkozási listáit feldolgozza pl. az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SI Web of Sci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vagy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cop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datbank. Ezeket használva a különböző kutatók idézettsége az adott indexelő szolgáltatás körén belül vizsgálhat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Citációk követés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ószínűleg nem közismert, hogy éppen Magyarországon vezették be legelőször az idézettség figyelését és ezt a hatástényezőt a tudományos teljesítmények mérésére, olyannyira, hogy egyes tudományágakban és kutatóintézetekben meghatározóvá vált az idézettségi mutató és az impakt faktor növelése utáni hajs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8580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itációk követ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degen-szavak.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mt.omikk.bme.hu/show_news.html?id=4282&amp;issue_id=4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ttp://hu.wikipedi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r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9:41:52Z</dcterms:created>
  <dc:creator>Windows XP Pro SP2a</dc:creator>
  <dc:description/>
  <dc:language>en-US</dc:language>
  <cp:lastModifiedBy>LaCae</cp:lastModifiedBy>
  <dcterms:modified xsi:type="dcterms:W3CDTF">2008-04-11T21:01:51Z</dcterms:modified>
  <cp:revision>9</cp:revision>
  <dc:subject/>
  <dc:title>Citációk követése</dc:title>
</cp:coreProperties>
</file>