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EC3-59E4-4D93-986A-FB00D1B2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5A5-B7BF-4DD0-9BAA-2A9DB416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D5C-EAD8-4B9D-B142-0559DC2C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38F-5F57-4262-9B45-B948BC9B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F16-AF86-4FBA-9BD8-193A4BDE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BF7-6332-4F37-8075-9C899FE1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6EE-1386-42D4-99C1-ED91CFD2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78B-1528-47B2-90C9-D3A9C9ED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00C-034C-4F50-B298-955372FC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DED-A418-4A4C-B034-1C7C9DE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38E-49C2-47D2-9DD6-FD0EF453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D9E-736F-4B02-AECF-888686A8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50E2-FD9E-4530-BDEC-4E4288BA3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élcsoportok helyes kezelé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élcso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élcsoport meghatározásánál azt a piaci szegmentumot kell meghatároznunk, akiket a termékkel megcélzunk. Ez lehet kor szerint (2-4 éves gyerekek), foglalkozás szerint, lakóhely szerint, st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ználói célcsopor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A célcsoport fogalma,jelentő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A célcsoport megér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élcsoport fogalma, jelentősége:  célcsoport,pl. foglalkozás, életkor, használói készség szerinti csoporto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gyes célcsoportok véleményének megismerése megfelelő vizsgálati módszerek tervezését,kidolgozását alkalmazását igény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élcsoport megérté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yen célcsoportok vann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 a használói igény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k az eredmények használó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ért használják az eredménye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 várnak tő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59:22Z</dcterms:created>
  <dc:creator>Kiss Eszter</dc:creator>
  <dc:description/>
  <dc:language>en-US</dc:language>
  <cp:lastModifiedBy>LaCae</cp:lastModifiedBy>
  <dcterms:modified xsi:type="dcterms:W3CDTF">2008-04-11T15:03:45Z</dcterms:modified>
  <cp:revision>3</cp:revision>
  <dc:subject/>
  <dc:title>Célcsoportok helyes kezelése </dc:title>
</cp:coreProperties>
</file>