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6BD-0B32-422B-B778-386F360D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A30-CBF6-44C7-86D6-9DB0909F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398-62D9-4722-B0EE-231AE7C6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7EA-84DE-4F68-8D62-26F4744B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A8A-C901-43D0-8AF6-8807D58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05C-4198-44A7-BDF9-C35BCCF5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C23-81AF-4B2D-9F33-AA559F26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C9F-CE95-4E65-AA54-7DE8C15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EFB-D914-45ED-A7B4-2DBDE70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A3-0FFE-4600-8510-A2496E3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75B-EAC6-47A8-AED1-784CF9C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BBB-6AA3-4AB3-9DDA-17587240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F4B2-5734-48DB-A4F8-584C041B4677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mpakt Fa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ert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mpakt faktornak nevezzük azt a mértékegységet, ami arra szolgál hogy egy bizonyos kiadvány fontosságát mérni tud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zárólag teljes kiadványokra alkalmazzák, külön cikkekre n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rtékegysége IF. 1 IF = legalább egyszer idéztek a kiadványbó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ehetséges Automatiz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témakörön vagy társadalmi csoporton belüli kiadványok rendszerezése és kategorizálása, hogy a későbbiekben ha hivatkozás történik a kiadványra, akkor azt tárolni illetve nyomon követni tudj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vel a szövegben található információ értéke évről évre csökkenhet illetve nőhet, érdemes lenne évente felülvizsgálni a kapott IF értéket, vagyis éves szinten lebontott kalkulációk tűnnek ésszerű megoldás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ás x= a kiadványból való idézések száma a jelen év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y= az idézhető elemek száma amiket az elmúlt két évben adtak 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 évi impakt faktor érték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10:11Z</dcterms:created>
  <dc:creator>Gyuri</dc:creator>
  <dc:description/>
  <dc:language>en-US</dc:language>
  <cp:lastModifiedBy>LaCae</cp:lastModifiedBy>
  <dcterms:modified xsi:type="dcterms:W3CDTF">2008-04-11T21:02:04Z</dcterms:modified>
  <cp:revision>3</cp:revision>
  <dc:subject/>
  <dc:title>Impakt Faktor Hatás</dc:title>
</cp:coreProperties>
</file>