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9CA-B3AC-4B64-BE9B-E310D8F2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442-3657-4DB2-BED4-B470F485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379-F483-4FDD-AEDA-A9340D9B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7CB-4501-4468-A9E3-0BD91B51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77D-CA20-4CFF-B35B-0C1E58A2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335-503E-402A-9C64-D334FACA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7C7-DA05-48F0-ADE0-3EAB6C03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906-6DB5-44B8-9FC2-F767FCAF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DEF-17FC-4821-AC79-FFFE3349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1E0-8523-4EB8-B059-E8576CA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34D-F76A-4C5A-8C58-3A9F31AE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3CB-67B7-437E-A9F3-83578034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C746-1293-475C-8197-4EDB1751A319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zakirodalmi%20formai%20ellen&#337;r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zakirodalmi formai ellenő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talmi jellegű utalás, hivatkozás, idézet esetében a felhasznált gondolat helyes megjelenítésének ellenőrzé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zövegdoboz 4"/>
          <p:cNvSpPr/>
          <p:nvPr/>
        </p:nvSpPr>
        <p:spPr>
          <a:xfrm>
            <a:off x="1500120" y="48578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eltéte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gium-kontro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is ellenőr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akirodalmi bizonyíték kont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hetséges hibafajtá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sz formá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sz sor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létező forrásra való hivatko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a javítá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dmények datálása: dolgozat szerzője, ellenőrző, dátum, eredmé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vábbküldés a soron következő munkafolyamatn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3:14:05Z</dcterms:created>
  <dc:creator>LaCae</dc:creator>
  <dc:description/>
  <dc:language>en-US</dc:language>
  <cp:lastModifiedBy>LaCae</cp:lastModifiedBy>
  <dcterms:modified xsi:type="dcterms:W3CDTF">2008-04-11T14:56:43Z</dcterms:modified>
  <cp:revision>21</cp:revision>
  <dc:subject/>
  <dc:title>Párhuzamosítható feladatok outputjai közötti konfliktusok feloldása</dc:title>
</cp:coreProperties>
</file>