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0C3-CAFF-4362-806F-C103E914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6BF-8F39-4F7E-B0BA-AFDC1108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E25-E9D1-40CF-8B3D-5FD1BE5F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6A0-BC7E-4BB6-9296-67DB91FE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733-7664-42EF-B39C-764BA1FC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6E1-B5AE-4F54-A631-57E3069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423-4271-4A8F-9766-C44B639E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7E6-864F-4CA3-9692-E7C9444E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31F-7FB8-4475-AD98-6109FF15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67D-9CEE-476E-AF21-4DA5FD5D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E5AE-DA77-4FF9-970A-370E783D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8CA-248A-48F2-AD88-92788639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D41F-A54A-421D-8FC3-EF48DB325D6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odalomjegyzékbe kerülés stratégiá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edmények fogadá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árhuzamosan futó munkakörök outputjainak fog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szajelz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ladat elvégzését követően igazolás kiállítása a Eredményt ellenőrző szám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ttérés a következő felada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ed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adott formai és technikai követelmények ellenőr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sorolásszer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lgozatban a hallgató minden pontjára hivatk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erzőkők neve szerint abc sor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számmal kell ellát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akirodalmak, egyéb irodalmak csoportos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ak olyan munka kerülhet amibe a szövegbe hivatkozás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lgozat megfelel e a szabályzatban előírtaknak. H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en: továbbküldésre ker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: megkeresik a hibákat és visszaküldi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ítás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20:04Z</dcterms:created>
  <dc:creator>LaCae</dc:creator>
  <dc:description/>
  <dc:language>en-US</dc:language>
  <cp:lastModifiedBy>LaCae</cp:lastModifiedBy>
  <dcterms:modified xsi:type="dcterms:W3CDTF">2008-04-11T15:20:33Z</dcterms:modified>
  <cp:revision>1</cp:revision>
  <dc:subject/>
  <dc:title>Irodalomjegyzékbe kerülés stratégiája </dc:title>
</cp:coreProperties>
</file>