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EA1-C52A-4188-8469-5885265F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0E6-DAA6-48E6-A9E7-C0BA2C0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542-9EC4-4BBE-9AF8-F7FD12D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9CD-38EF-4576-B9C0-9B86330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66EB-00EE-4461-8B4C-1627901E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CEC8-FE10-43DD-8667-05375D67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6A8-C382-462B-8B82-327DBB3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30BA-BF49-422F-BAB1-A70A69C2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DDB-4A79-4F3B-847C-D7C5440F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A6E-E3B5-4711-A057-53F92F1C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7D3-2A23-4793-8EFB-D729779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2DA-EB9B-44F3-9303-235E710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89A-2DC3-4CC2-8CEB-2C9817A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394-9141-4B8D-B689-9137551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61CC-8820-4B27-B53D-8DC1E37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93A-2503-467A-B770-DA537061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D59C-9F6E-4DEB-B2A1-AC42435B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1B-4EEA-4A79-A725-26FC0E8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CBF-3F4C-404F-B076-E9A3C1B0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5D8-228C-47F1-BCB9-78925B0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A26-BA49-4006-AE83-848EFF6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721-E6E1-45B0-9472-35CFF57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A06-9B9B-4709-8CDF-625B9C61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443-8DF1-4516-9340-44EE511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7C3-CAC2-49E4-BC10-B6DBAFD1AB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844-E305-4383-9922-AFB817D7AB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i%20a%20szerz&#337;i%20jogd&#237;j.doc" TargetMode="External"/><Relationship Id="rId2" Type="http://schemas.openxmlformats.org/officeDocument/2006/relationships/hyperlink" Target="file:///Mit%20szab&#225;lyoz%20a%20szerz&#337;i%20jog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zerz&#337;i%20jogi%20v&#233;delem%20hat&#225;rai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Szerzői jogdíjak kezelése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re terjed ki a szerzői jog védel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ban az esetben ha egy dolgozat írásánál nem használunk fel más műveket, akkor a munkakör outputja az hogy nincsen szerzői jogdíj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pedig az vitatott, hogy egy alkotás rendelkezik-e egyáltalán egyéni, eredeti jelleggel, akkor a bíróság döntése az irányadó. Az alkotás ebben az esetben kiterjed a dolgozatunkra valamint a külső forrásra i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ismeretlen író alkotásából merítünk a dolgozat írása közben, akkor nincs szükség jogdíj kezelésé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bekerült a dolgozatba egy más alkotásokból származó említés (ismert író esetén) melyből információt merített a dolgozat írója akkor szerzői jogi védelem illeti meg az alkotá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dig tart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zerzői művek védelmi ideje a szerző életében és a halálát követő év első napjától számított hetven évig tart,ha ezt nincs e intervallum közt a a jogdíjak kezelése munkakör kihagyhat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beadott dolgozatban tett említésekhez hozzájárul az író,akitől származnak akkor nyilvánosságra kerülhet a m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ilvánosságra kerülés és a hozzájárulás előtt még egy felhasználói szerződést kell kiállítani,melyben a szerző engedélyt ad művének a felhasználásá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gyan történik a jogdíjak megállapítása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felhasználói szerződést megkötötték és az ellenértéket kifizették,akkor hozható nyilvánosságra a dolgoz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ási szerződés megkötését követően jelentősen megnövekszik a dolgozat felhasználása iránti igény akkor a bíróság a szerző kérésére megfelelően módosíthatja (felemelheti) az eredeti díjazás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jogdíjak kezelés megtörtént, akkor a dolgozat a következő munkafolyamatra kerülh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minden folyamat jogilag akadály mentesen zajlott le és az elkészült dolgozatban található egyéni eredeti „ötletet” kívánja valaki felhasználni, akkor ugyanaz a folyamat fog végigmenni a dolgozat írója és felhasználó személy között, mint ami a dolgozat írása közben zajlot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épződő dokumentumok a munkakör és a dolgozat írója felő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entárok, egyezségkötési lehetőségek a dolgozat írója és a külső szerző közöt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, a továbblépés engedélyérő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i nyilatk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ámlák a felhasználás térítési díjairó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intettek kö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ülső mű tulajdonos(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(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Bíróság, mely akkor szerepel, ha vitatott az eredetiség és egyénisé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llgató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llgató köteles elindítani a szerzői jogdíja folyamatát amennyiben dolgozata megköveteli ez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ndításához fel kell vennie a kapcsolatot azzal a külső szerzővel(vagy annak képviselőjével), akitől a dolgozatba szánt említések származ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engedélyezik a mű felhasználását a dolgozatban, és a felhasználási szerződést tartalmaz minden lényeges elemet, valamint a hallgató kifizette a szerzői jogdíjat, akkor szabadon használhatja azokat dolgozatá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átvételét követően a benne említett források jogi kérdéseinek helyességének ellenőr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 kapta e az engedélyt a dolgozat készítője a forrás felhasználás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készült felhasználói szerződés tartalmi helyessé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i jogdíjak térítése meg e törté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lenőrzések lefutása után, igazolás kiállítása, hogy a szerzői jogdíjak kezelése terület a dolgozat készítője helyesen járt 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gdíj 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i a szerzői jogdí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szerzői jogdíj, a mű felhasználására adott engedély ellenében a szerzőt megillető díjazá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it szabályoz a szerzői jo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zerzői jogi védelem határ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szerzőt bármilyen módon megsértik, akkor az Szjt.-ben biztosított jogérvényesítési lehetőségekkel élh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csak átdolgozásra, feldolgozásra vagy fordításra használnánk a művet már akkor is szerzői jogi védelem alatt áll, ha annak egyéni, eredeti jellege v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valamely ötlet, elv, elgondolás, eljárás, működési módszer vagy matematikai műveletről beszélünk, az nem lehet tárgya a szerzői jogi védelem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nak jogszabályokat, állami irányítás egyéb jogi eszközeit, a bírósági vagy hatósági határozatokat, hatósági vagy más hivatalos közleményeket és az ügyiratokat, valamint a jogszabállyal kötelezővé tett szabványokat és más hasonló rendelkezéseket akkor nem tartoznak a szerzői jogi védelem alá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amint ha folklór kifejeződés elemeit tartalmazza a felhasználni kívánt mű, akkor az nem tartozik a szerzői jogi védelemb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re terjed ki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(ha részei nem használhatók fel önállóan) akkor a szerzői jog a szerzőtársakat együttesen illeti meg egyenlő arány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melyben a közös mű részei egymástól elválaszthatók akkor minden szerző önállóan gyakorolhatja szerzői jogai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egy gyűjtemény tartalmának összeválogatása, elrendezése vagy szerkesztése egyéni, eredeti jelleget ölt, akkor önálló szerzői műként részesül védelemben (gyűjteményes művek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unk írásánál egy mű felhasználásának minősül a többszörözés, a terjesztés, a nyilvános előadás joga, a nyilvánossághoz közvetítés sugárzással vagy másként, a sugárzott műnek az eredetihez képest más szervezet közbeiktatásával a nyilvánossághoz történő továbbközvetítése, az átdolgozás, valamint a kiállítás jo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jogok illetik meg a szerző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zői jogi értelemben felhasználó az, aki ha a művek, illetve szomszédos jogi teljesítmények felhasználására a szerzőtől vagy a szerzői jog más jogosultjától jogot szere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t tekint a szerzői jog felhasználó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i szerző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yek a felhasználási szerződés tartalmi elemei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dés megkötésekor ha az ellenérték megállapításakor nem arányos részesedést kötnek a felek a bevételekből vagy éppen nem a példányszám vagy a felhasználás egyéb terjedelmétől függően kapna juttatást a szerző akkor az a jogdíj megállapítása nem megfelelő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nem tartalmazza a szerződés a következőket: a felhasználni kívánt mű pontos megjelölését, a felhasználás módját, időbeli, területi és más terjedelmének pontos meghatározását, valamint a felhasználás ellenértékét akkor nem tölti be a felhasználói szerződés a rendeltetésé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07:54Z</dcterms:created>
  <dc:creator>bag</dc:creator>
  <dc:description/>
  <dc:language>en-US</dc:language>
  <cp:lastModifiedBy>LaCae</cp:lastModifiedBy>
  <dcterms:modified xsi:type="dcterms:W3CDTF">2008-05-04T21:45:09Z</dcterms:modified>
  <cp:revision>32</cp:revision>
  <dc:subject/>
  <dc:title>Szerzői jogdíjak kezelése</dc:title>
</cp:coreProperties>
</file>