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7D6-2B49-45AC-9259-6EC6DC15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5F1-A481-4316-8F82-87C0907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263-6A83-4CAB-BBDA-CF225CC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9DA-EB13-46FA-885D-178AB6DB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B3AF-1133-48B7-A20E-0731AEF3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75C-47C5-470A-9080-1CF8863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72F-DEED-4AC7-86ED-0F89BC0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6F3-DA3B-4E63-BFE8-934FCA7B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ECF-9016-4246-952F-B780FBA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07C-66AB-451E-B22F-D3B1F09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806B-A5F6-4D07-907A-6A6BC92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197-25EE-446E-82F3-FDB0994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FD6-C622-4A18-A1EC-632106B6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B8E-DD9F-4093-BD4F-CCDCBAFC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8A70-85CD-4598-B5B0-A0EC4D25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EC60-1841-4D96-99D2-F19345D7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D860-EA62-4108-B7E9-A34C0613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C34-16BC-4CDE-9C65-ED05EE61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337-8C2F-4879-8756-627D9E04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B33-1E02-4027-8138-8D47C0B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2A4-D826-41BC-890E-E2D4B41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F21-83E7-4D13-BBD2-4861C89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C49-A2D0-49C2-9B5A-7A6531C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770-4ACC-4858-A65A-4D5064F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3BD-F278-42F5-873B-2CF8B582E86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49B-DD71-474E-8027-F15BA049D03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rukturális ellenőrz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advány helyes, előírások szerinti szerkezeti felépítéssel való egyezésének ellenőr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 a megfelelő formai követelmények betartását a fejezetekkel, alfejezetekkel kapcsolatban támasztott követelés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fej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Cím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gyen rövid, érthető és tartalmat jól kifejez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evezetés (max. 2 oldal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éma elméleti és gyakorlati jelentőségével foglalkoz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émafelvetés és célkitűzés (dolgozat 15-20%-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zakirodalmi áttekintés (dolgozat 15-20%-a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vatkozások, kr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nyag és módszer (max. 10-15%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ísérletezés, vizsgálat körülménye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redmények és azok értékelése (40-50%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á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golás: könyvek,cikkek, tanulmányok, statisztikai adatforrások, jogszabályok, internetes adatgyűj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léklete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, ábrák, matematikai számítások, rövidebb szöveges dokumentumok (pl. jogszabály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előző állomáshoz, a kommunikációs szakért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szerzőhöz a hibák javítása végett, a szövegforma megőrzésére töreked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továbbküldése a következő állomáshoz a mellébeszélés-kontroll végett, amennyiben a feladat megfelel a követelményeknek, illetve ha a hibák már javításra került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3:28Z</dcterms:created>
  <dc:creator>Balázs</dc:creator>
  <dc:description/>
  <dc:language>en-US</dc:language>
  <cp:lastModifiedBy>LaCae</cp:lastModifiedBy>
  <dcterms:modified xsi:type="dcterms:W3CDTF">2008-06-02T11:27:03Z</dcterms:modified>
  <cp:revision>15</cp:revision>
  <dc:subject/>
  <dc:title>Strukturális ellenőrzés</dc:title>
</cp:coreProperties>
</file>