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707-8E4B-41A3-9C8D-D4B96AF7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B32-1182-441E-9629-6200F052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06C-FAC0-4126-AD8A-23A8C18C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CA5-CCBC-4928-9391-53A5065C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2DAF-343B-4C6F-9720-BFFCAF8F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DF8B-5474-40C2-AFA3-14CDA44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D4A4-CE80-457C-94CD-0EA05352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CC4-9A61-4BFA-9906-1615F748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044-921B-48C2-BCD9-BC80F4E2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7078-F064-43E4-8990-ED7A334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7A8C-5677-4157-BB2F-9030D6C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B65-6A54-4BA2-BC85-52E5520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B0FB-9E83-4857-8179-3A061AA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2C82-2660-4874-8C67-AC8A826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1AD-B1DB-4D32-A93D-56D0D7A4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0BC7-AEC3-49D8-A4FE-C8F587C6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B2C2-E4EE-459C-89E3-F88D1167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452-1154-4ACB-B775-2F30083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351-FCF5-431B-83E7-E294614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F95-4AAE-49E1-A322-174381FD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6FC-1040-48DC-83EC-5B0005A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8CE-ABAB-4632-AC0B-1B1B883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2BA-3699-4DFD-B0E5-BF1531B7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F03-DD39-46F6-8EBF-12C9BBD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446-8FE8-4EC1-82CA-CAC9872137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3F8E-4FE0-414C-9142-49FFEEFAF7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z%20irodalmi%20hivatkoz&#225;sok%20formai%20k&#246;vetelm&#233;nye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zakirodalmi bizonyíték-kontroll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irodalmi bizonyíték-kontroll a dolgozatb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ereplő állításokhoz felhasznált irodalm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ésére szolgá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eérkező anyag fogadása a párhuzamosan futó szekciókbó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trukturális ellenőrzés, mellébeszélés-kontro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igazolás elkészítése, majd küld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nyag továbbküldése vizsgála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z eredmény vizsgáló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vizsg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vizsgálandó anyag átvétele, majd vizsg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beérkező dolgozat szakirodalmi hivatkozása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felelnek e a szabályzatna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Az irodalmi hivatkozások formai követelmény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gen, a dolgozat továbbküldésre kerü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, a dolgozatban lévő hibák feltárásr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rül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hetséges hibák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gozat szerzőjének megállapítása nem fedi a valóságot(igazságot) ,vagyis téves megállapításokat, állításokat tesz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gozat szerzője által hivatkozott forrás álláspontját átformá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bizonyításának módjai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jelölt forrás- és a dolgozat szerzőjének álláspontjainak az összehasonlítása.(eltérések esetén hib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zerző helytelen állítása(i) bizonyíthatóak a megfelelő szakember megkérdezésével, illetve szakkönyvek állításaiv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Eredmény vizsgáló nem talált hibát akkor, igazolást állít 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zt követően továbbküldi az eredményeket a soron következő munkafolyamatn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datvagyon ellenőrzés munkakörne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0:25Z</dcterms:created>
  <dc:creator>LaCae</dc:creator>
  <dc:description/>
  <dc:language>en-US</dc:language>
  <cp:lastModifiedBy>LaCae</cp:lastModifiedBy>
  <dcterms:modified xsi:type="dcterms:W3CDTF">2008-06-02T11:49:18Z</dcterms:modified>
  <cp:revision>6</cp:revision>
  <dc:subject/>
  <dc:title>Szakirodalmi bizonyíték-kontroll </dc:title>
</cp:coreProperties>
</file>