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FB2E-49D7-4069-AF95-A715D812E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2551-BBAF-49FF-93D9-BE4DF2D0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CC67-A893-464D-BC9F-4256711AC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0ECE-FB50-4256-9E35-013A85A2E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8923-706A-4E60-96B0-860B51D8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560C-E06C-40ED-9E25-3A18B384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957E-4D2A-443E-ACB6-FA2DE5C8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8FF7-B243-45EB-A40F-00286B4A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0A30-0A70-4B50-8FE9-4A1B3CE2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A685-A3C2-40ED-86DB-8DE3A2BA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4BFD-A00B-4911-B7E7-66FE9D32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56D0-66F4-4550-9EBC-E46C8D57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95E3-EBCD-43D5-BF3B-E8C1D6C8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D5DB-5C1B-4E71-8A9D-6A789B00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2844-C5D8-41F5-8C1F-B2DF6C52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78B5-5C71-4EDA-814C-12AB69753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B1E4-DCA8-4F50-9F07-9F29AEEA8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0C8F-38AF-46C3-A195-FFBC65EC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7FBB-F395-482F-BE24-1D28235F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17EC-BA77-4BAB-81D3-F092A883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C4C7-311D-4A42-BFD9-C17CD514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2407-5801-4C15-B433-FC6B6C98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674D-0AF2-421B-BEF7-D70B5D64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2AE6-7656-44F3-8DB4-10625D0B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F6AE-58FD-4FE3-8F2D-83EE199E6C8D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3CFF-6619-48E1-A2F0-A6B2D31CA653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Dolgozat-közi kooperációk jogi kérdései 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 kooperáció olyan együttműködést jelent a hallgató számára, melyek segítik őt a dolgozat írása közben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Ha a hallgató dolgozatot kíván készíteni, akkor lehetősége van kooperációk kötésére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Kooperációk jöhetnek létre hallgató-konzulens, hallgató-külső konzulens, valamint hallgató és hallgató között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Hozzá kell minden félnek járulnia a kooperáció létrejöttéhez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zabályozandó kérdés a kooperációk területén, hogy a dolgozatból esetlegesen befolyt pénzből milyen arányban részesedjenek a kooperációt kötött tagok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dolgozat írása előtt, fontos hogy kikötni a kooperáló felek között, hogy a dolgozatban említett részeket ki írja, és ki felel ért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bből az is következhet a részesedések területén, hogy a dolgozat egy bizony részét használná fel egy külső személy, és a dolgozat írója tudja bizonyítani, hogy azt a  fejezet az ő munkája akkor egyedüli részesedő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A dolgozat írás alatt folyamatos a kapcsolattartás a két fél között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A konzultációk alkalmával kerülnek megfogalmazásra és a későbbiekben megoldásra az adott problémák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A konzultációkon való rendszeres részvételt a konzulens aláírásával igazolja, amit mellékletként csatolni kell a diplomadolgozathoz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Amennyiben nincs belső konzulense a készítőnek, akkor külső konzulens választása és aláírása szükség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Kooperáció jöhet létre két hallgató között, melyben együttesen készítik el dolgozatukat és mutatják be a TDK-n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Külső konzulens lehet például egy vállalat dolgozója, ki az adott témában járta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A dolgozat készítése során kell készíteni egy nyilatkozatokat konzulens részéről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A konzulensi jogi nyilatkozatban, az alulírott konzulens jelenti ki azt, hogy az alulírott hallgató az ő irányítása révén készítette el az adott című dolgozatot és ajánlja ezt a Tudományos Diákköri Konferencián történő bemutatásra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A dolgozat leadásának feltétele, hogy az előlapján fel kell tüntetni a konzulens adatait (név, beosztás, intézmény, intézet, osztály )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unkakör felada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 dolgozat létrejöttéhez szükséges kooperációk jogilag szabályosak 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 kooperációkat jogilag megfelelően és korrekten kötötték 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Minden tag említé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Részesedések arányos kezelé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Konzulensi konzultációk rendszeres részvételének ellenőrzé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4:57:11Z</dcterms:created>
  <dc:creator>bag</dc:creator>
  <dc:description/>
  <dc:language>en-US</dc:language>
  <cp:lastModifiedBy>LaCae</cp:lastModifiedBy>
  <dcterms:modified xsi:type="dcterms:W3CDTF">2008-05-04T21:46:09Z</dcterms:modified>
  <cp:revision>15</cp:revision>
  <dc:subject/>
  <dc:title>Szerzői jogdíjak kezelése </dc:title>
</cp:coreProperties>
</file>