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C0C-D401-4D77-9CF8-2261583F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8AB-F4AA-46CB-B9BC-2CF66BE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D27-49EF-4F62-BA55-EA2CB2D0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85D-35DE-4D04-92BF-75A8F96F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7AE4-D4F6-4D9D-9D22-DBD3863C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78EB-DCBE-4F81-BD51-FB313E10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C50-5425-426A-98B3-C14269C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BD6C-8C39-4332-9B7A-BBB7F91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3963-963F-4CC7-A364-BB34ED4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87C-EC17-4DE2-93CE-7E4D94F8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A0B-0B54-48D1-8E45-EDA9FF4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E6D-E4C0-4CD5-8D54-C93C1BB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7D1-E65B-4871-965D-9552DA0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0FDC-0387-4ED9-84F4-EFD9D69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4891-BCD5-45DA-B84A-45977789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2AF3-A362-4C75-BB28-68A28545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838A-1095-4B28-9796-3D2B6E4B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B7C-1C44-4B35-B82B-16C96E9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E77-EF15-4002-AD34-FB64137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B91-F1CB-434A-A899-C200FA2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CAE-F147-48A2-9498-EB6DFDAC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E12-E0B5-4137-BDE0-F866EFC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528-0EB3-43E6-AFE1-55FC5C9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757-4DD7-415F-B416-AB2F0E6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8CE9-3117-4B4A-9B65-53033347AF9E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3D17-FC45-4D82-B37F-10AA6A61A782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Impakt Fak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smerte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Impakt faktornak nevezzük azt a mértékegységet, ami arra szolgál hogy egy bizonyos kiadvány fontosságát mérni tudj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zárólag teljes kiadványokra alkalmazzák, külön cikkekre ne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értékegysége IF. 1 IF = legalább egyszer idéztek a kiadványbó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Lehetséges Automatiz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y témakörön vagy társadalmi csoporton belüli kiadványok rendszerezése és kategorizálása, hogy a későbbiekben ha hivatkozás történik a kiadványra, akkor azt tárolni illetve nyomon követni tudju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vel a szövegben található információ értéke évről évre csökkenhet illetve nőhet, érdemes lenne évente felülvizsgálni a kapott IF értéket, vagyis éves szinten lebontott kalkulációk tűnnek ésszerű megoldás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zámítás x= a kiadványból való idézések száma a jelen év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y= az idézhető elemek száma amiket az elmúlt két évben adtak 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Jelen évi impakt faktor érték = x/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unkakör pontos feladata kétféle lehet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egyik: Erről kizárólag szakdolgozat elkészülése után beszélhetünk.  Ebben az esetben azt vizsgáljuk hogy az adott szakterületen és témában a dolgozat mennyire lett sikeres, elismert, hogy szakmailag mennyire hiteles és megbízható, ezt a következetést abból vonjuk le hogy a dolgozatból hányszor idéztek tudományos folyóiratok illetve cikkek és dokumentációk. 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TEHÁT, HOGY A DOLGOZATNAK MEKKORA AZ IMPAKT FAKTOR ÉRTÉK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másik: Ebben az azt vizsgáljuk, hogy a dolgozat készítője a készítéskor olyan forrásokat használt fel a munkája során amelynek (Ha egyáltalán volt) a többi forráshoz képest nagyobb volt az impakt faktor értéke. Hiszen (ha megbízható a az IF formula) akkor ebből az következik(-ne) hogy a dolgozat ’értéke’ is jobb-tö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10:11Z</dcterms:created>
  <dc:creator>Gyuri</dc:creator>
  <dc:description/>
  <dc:language>en-US</dc:language>
  <cp:lastModifiedBy>LaCae</cp:lastModifiedBy>
  <dcterms:modified xsi:type="dcterms:W3CDTF">2008-05-04T21:47:59Z</dcterms:modified>
  <cp:revision>5</cp:revision>
  <dc:subject/>
  <dc:title>Impakt Faktor Hatás</dc:title>
</cp:coreProperties>
</file>