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D2D-F312-4D7E-B056-8BFBBFAC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D86-860A-4BB7-9357-2AFE72BC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B7A-4C0C-4631-8734-A72DD654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34A-09EC-47B4-9587-FE988068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5035-C4AE-4221-BA40-1D253951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DDF5-C0EE-496D-8932-4764A32B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81F3-3460-489B-A3AD-993D0D1B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D5A0-3502-49A2-BE16-DE4676C7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3EC2-F4AD-4394-B2C3-31C77611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0910-ABE4-4D03-A1F7-59B549EB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7C51-A64F-45DE-A045-D78AF6E9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032-172F-4DBE-99C9-872D257E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BF77-253D-4E81-9560-086614B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80A2-48CF-483E-8865-A035B454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6FD6-A71B-4CEA-ABDA-45FFA444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D215-B774-4EDB-87B7-43BC774B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364B-EA44-42D7-AD2A-5E09B912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6BF-D34C-4FCD-A85D-0AA478B1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57C-22D7-4010-B080-28539A8B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AD8-92A3-427D-99A4-D1AB7D51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321-E0B6-49F9-96FF-4057BB80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5DC-69ED-422C-B111-CCA4D31B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679-EE35-4DAB-9BDC-2F570E27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C87-8E1A-4666-8A8F-52E88474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9070-161C-4D3A-8278-D19213CA6B0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C5B2-BA51-4B2C-86E2-94490EBAEE3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ellébeszélés-kontroll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93080" y="634032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Készítette: Kovács Balázs ISZ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a, hibakeresé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zsgálja, hogy a beadvány tartalma eleget tesz-e a vizsgálat tárgyának, illetve a címben foglaltakna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lenőrzi, hogy a szöveg tartalmazza-e a témához megfelelő alapvető információkat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zsgálati lépéseket, vagyis megvan-e a bizonyítás helyes módszertana- alapadata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llet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m közöl-e hamis, nem helytálló tények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lesleges tények közlésének –melyeknek nincs jelentőségük a problémafelvetéshez kapcsolódóan- mellőz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 eseté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küldés a hiba javítása végett szintén a kommunikációs szakértőhöz, illetve a szerzőhö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lesleges tartalom törlése (fontos, hogy megmaradjon a szöveg struktúrája, stílus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ányzó tartalom esetén kiegészít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ytálló feladat esetén továbbküldés a következő állomáshoz, a könyvtáros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2:34:12Z</dcterms:created>
  <dc:creator>Balázs</dc:creator>
  <dc:description/>
  <dc:language>en-US</dc:language>
  <cp:lastModifiedBy>LaCae</cp:lastModifiedBy>
  <dcterms:modified xsi:type="dcterms:W3CDTF">2008-06-02T11:39:48Z</dcterms:modified>
  <cp:revision>14</cp:revision>
  <dc:subject/>
  <dc:title>Mellébeszélés-kontroll</dc:title>
</cp:coreProperties>
</file>