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ABC-E580-4EBA-8409-89795417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F55-91EA-4BAE-9C3C-091DED98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F5F-A11F-4A1C-B866-45B1735B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6BD-EC2E-4096-B2A5-95381257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D84B-5A04-4583-9F66-EEEDDC10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D515-C7E9-4659-AF93-7D52EF80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F870-14E7-4E1A-90C6-CFC2AC2F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D34A-645E-4C19-90E4-F55490DF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715B-0771-43D5-AE1A-4FE923B3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90F8-2F6F-44F6-8B31-3187A318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A53D-DCE7-41A4-83F7-8B0CB7A9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E26-8F59-42A0-8D8D-84FCD7FF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20DB-E6A9-4B3E-831F-04A8F19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0697-0646-44C9-A7E3-2D7B6110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0F8B-BE4B-47A3-9B4A-BFE110AA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320A-5E0B-4D27-B7D5-1B67BEEB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4240-BB3A-4EC1-BDAF-628312CD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184-5217-4BE0-8F33-947EB83A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52E-F919-454C-A4EC-B887AB60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05D-BB52-4494-BDA3-D92D38DA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005-CC2B-4D0F-AE1F-46FCCA40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D8F-44C7-4541-9570-5BD38624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846-EDC2-4718-ABA5-E29B5F67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40A-6F1B-4415-8B86-6A26E9ED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CBB6-4731-4A1C-BA40-A1218A7649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7965-C1EF-48BD-9EC9-04C80B2CAA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Kiindulási helyzetek feltártságának ellenőrzése definíció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adott témakörben publikált munkák lekövetése a hasznosság és a benne rejlő még feltáratlan, vagy nem teljes egészében feltárt lehetőségek tükréb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z adott témában már korábban elvégzett kutatások eredményeit felhasználó cégek megkeresés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0600" y="1893240"/>
            <a:ext cx="7642800" cy="39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A cégekkel történő kapcsolatfelvétel legcélszerűbb módja a személyes megkeresés a bizalmasabb információk és a pontosabb tájékozódás miat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gfontosabb kérdések a gazdasági hasznossággal kapcsolatb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vállalat mely területén kerültek felhasználásra a tanulmány eredménye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nnyibe került a beszerzése (nagyságrendile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l érzik hiányosnak, vagy hibásnak (indokláss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gvásárolnának-e egy precízebb, hiányosságok nélküli munká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az adott témában még nem született munka, akkor arra a kérdésre, hogy mi lesz a diplomamunkában a hasznosság, a választ, a  szerzőnek a már említett módon tudni kell és ezzel olyan cégeket, vagy magánszemélyeket megkeresni, akik véleményünk szerint tudják hasznosítani változtatásokkal, vagy változatlan formában az elkészült munká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vázi piackutatást végzünk, hogy mekkora érdeklődés mutatkozik a leendő munkánk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gazolások és a folyamat irányításának átvé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atbázis létrehozása xls, vagy mdb formátumban, amely tartalmazza a diplomamunkát készítő adatait és a hozzá tartozó dolgozat adott munkakörben elkészült eredményeit, valamint a munkakörkódot és a dolgozatkód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eletkezett eredmények rögzítése a számítógépen + adathordozón, valamint on-line, vagy off-line formátumban a dolgozat készítőjének kerül elküldés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gazolás kiállítása az értékelés részé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hoz, az adott munkakörben keletkezett eredmények on-line közzététele a többi munkakör szám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edmények formai (dátum, formátum) és technikai (pl.: valóban az e a hasznosság a dolgozatban, amire a dolgozatíró gondolt )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zsgálat lehetséges kimenetelei: Esetleges hibák észlelése, és lehetőleg a munkafolyamaton, vagy munkakörön belüli javítása, vagy az azonnali elfogad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at lehetséges kimenetele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Felmerült hibák észlelése és lehetőleg a munkafolyamaton, vagy munkakörön belüli javít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zonnali elfogad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típuso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Határidő lejá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Bizonyos munkafázis(ok) kimaradt(ak), vagy hibásan lettek teljesít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Az esetleges számítási eredmények visszaellenőrzésénél tapasztalt eltérése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Helytelen formát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 esetén külön keltezés szükséges, amelynek időpontja a hiba észlelésének ide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hibajavítás megtörtént, visszaküldés az értékelés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több hiba nem található, a munkakört lezáró igazolás kiállítása (nyomtatvá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edmények továbbküldése a következő munkafolyamatnak (elektronikus, vagy nyomtatott formáb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örténhet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Elektronikus formában történő továbbítás (alapértelmezett) esetén a munka elküldésekor visszaigazolás kérése a címzettő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Nyomtatott formában, ha elektronikusan nem tudjuk technikai, vagy egyéb okból továbbítani. Ebben az esetben ajánlott küldeményként kezeljü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unkakör elő követelménye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3026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Kommunikációs szakértő                               nyomtatvány                                       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zemélyazonosság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egállapítása                                                               okirat                                                  0,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Konzultációra való jogosultsá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egállapítása                                                             nyomtatvány                                       0,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émaválasztás konzultálása 1. kör                nyomtatvány                                        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émaválasztás konzultálása 2. kör                nyomtatvány                                        5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mai értékelés (DOC)                                 nyomtatvány                                       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mai értékelés (PPT)                                  nyomtatvány                                       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mai értékelés XLS                                     nyomtatvány                                       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mai értékelés on-line                                 nyomtatvány                                        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árhuzamosítható feladatok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tputjai közötti konfliktusok feloldása                      nyomtatvány                                         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zakirodalmi formai ellenőr                           nyomtatvány                                         2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ágium-kontroll                                             nyomtatvány                                         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trukturális ellenőrzés                                   nyomtatvány                                         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ellébeszélés-kontroll                                   nyomtatvány                                         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zakirodalmi bizonyíték-kontroll                    nyomtatvány                                         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628640"/>
            <a:ext cx="856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nkakör megnevezése                              Formátum                     Átfutási idő(ó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ssza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Megérkeztek az ön által küldött dokumentumok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kalmazott neve, beosztása, elérésének módja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tulajdonosának neve,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lad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ladatot teljesítő(k) aláír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Az általam ellenőrzött feladatkör feltételeinek megfelelt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degyik munkafolyamat külön-külön is dátumozandó, majd az utolsó munkafolyamat dátuma lesz látható a következő munkakör számára az igazolá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gazolás kiállításának előfeltétele, hogy minden munkafolyamaton keresztül menjen pozitív eredménny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A hasznosság kontroll rendben lezajlott, a dolgozat jelenlegi állapota további értékelésre alkalmas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 vezető aláírása, vagy on-line formátumban az azt helyettesítő hitelesít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unkakör elő követelménye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orrektura-ellenőr                             nyomtatvány                    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atvagyon minőségének                   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llenőrzése                                            nyomtatvány                     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ódszertani ellenőrzés                         nyomtatvány                3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produkálhatósági kontroll                 nyomtatvány                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aját következtetése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elyessége                                            nyomtatvány                     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élcsoport helyes kezelése                  nyomtatvány                 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628640"/>
            <a:ext cx="81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nkakör megnevezése                         Formátum                  Átfutási idő(ó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24922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redmények fogadása 1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elő követelményként megállapított munkakörök outputjainak fogad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jelzés a megérkezett eredményekről, amely egyben azt jelenti, hogy az adott munkakör átvette kompetenciája erejéig a dolgozat feletti felügyeletet A visszajelzés lehet pozitív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lletve negatí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eredmények fogadása nevű munkafolyamat fogja kvázi tudatni az adatokat küldő munkakörrel (szükség esetén többel is), hogy a munkakörünk meg tudta kezdeni a munkát a kapott adatokkal. Ebben az esetben pozitív visszajelz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az adatok egyszerűen nem érkeznek meg időre, akkor a visszajelzésünk negatí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véleményünk szerint a kapott adatok hibásak, visszaküldjük az előző munkakörnek újbóli ellenőrzés célj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kapott eredmények megfelelnek a további feldolgozás részére, akkor áttérés a következő munkafolyamat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yakorlati lépéselemek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Kiindulási helyzetek feltártságának ellenőrzése (vagyis lehet-e ennek alapján majd hasznosságról beszélni)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  kiválasztott témakörről olyan információk ellenőrzése és gyűjtése mint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Ki-vagy kik végeztek kutatásokat, ill. hoztak létre szolgáltatásokat a leendő diplomamunkához kapcsolódó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kkora volumenű érdeklődés kísérte az eddigi kutatásokat (on-line folyóiratok, szakfolyóiratok, fórumok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ilyen eredményekre jutotta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 problémafelvetés mely területeire nem születtek válaszok, illetve az adott válaszok, vagy szolgáltatás esetén szerintünk a valóságot nem igazán fedő eredményekre jutotta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asznosság a tanulmányba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iplomamunka témájának kiválasztásakor a legfontosabb, hogy az íróban körvonalazódjon,  a  munkája milyen gazdasági hasznot hajthat, ill. mely társadalmi csoportot érinth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író által megfogalmazott hasznosság egyrészt gazdaságilag fontos, másrészt a saját kutató munkáját könnyíti meg, ha előre tudja, melyeknek kell lenni a fő csapásirányoknak, melyekre a munka épülni fo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6:45:16Z</dcterms:created>
  <dc:creator>Palatinus Miklós</dc:creator>
  <dc:description/>
  <dc:language>en-US</dc:language>
  <cp:lastModifiedBy>LaCae</cp:lastModifiedBy>
  <dcterms:modified xsi:type="dcterms:W3CDTF">2008-05-04T21:36:45Z</dcterms:modified>
  <cp:revision>69</cp:revision>
  <dc:subject/>
  <dc:title>TDK</dc:title>
</cp:coreProperties>
</file>