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E62-C3C1-4D61-A9C0-A38BF978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4CB-E78F-4405-90C1-3495A26A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EF5-3445-497D-9366-98F520EC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FBF-6FF5-4E64-9630-9E80ABBD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6B03-C1A9-432B-ABFD-224FD06B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127B-B0B8-4411-BF21-17DEB58F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7F29-F85C-4CCA-B509-AB744AAD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6345-6D68-4D79-A0D0-A5994F94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360-0A10-449C-9D3A-A5888016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C2C1-8CCB-4EC9-B4A8-7569EF09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F420-D532-46F2-AE0E-41E3FD4D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FAC-D4BE-4E4A-8A6E-AAC8D14E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9942-1325-4C50-94B4-D779F8D7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1AAE-D965-450B-933C-0DC450C1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8225-21B8-45A0-AD1B-20362880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1C24-7660-4247-B0E8-01B1E59D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6BB2-4FC1-4DC7-B495-2467C569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4AD-431E-4C3F-A236-7D29A615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C6A-DB71-450D-A477-62BF8961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E73-37D0-4B73-806F-3545AA5A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E1D-69FF-429B-8A8F-E32F699B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4E0-541C-4EA9-87DA-4C3C57C3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7DC-9927-464A-9355-AD06962A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DDA-7DD2-4A32-92AB-675A3CCF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B1A7-8D4A-42E8-BD36-1D96DB88D0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CCEE-0680-4802-99CA-E3F99155E4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asznosság-kontro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finíci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adott munka valóban tartalmaz-e olyan gazdasági, vagy közszolgálati hasznosságot, amelyért adott esetben hajlandóak lennének akár fizetni is a témában gazdaságilag érintette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 jövedelem realizálása 1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megszületett munka eredményeit gazdaságilag többféle módon használhatjuk fe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zt a munkánkat támogató partnerekkel kötött megállapodások korlátozhatják. (pl.: a segítségért cserébe elsőként, vagy egyedüliként használhatják az elkészült szolgáltatás, ill. kutatás eredményeit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 jövedelem realizálása 2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a nem vagyunk korlátozva megállapodásokkal, az alábbi módokon válthatjuk munkánkat jövedelemr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 legpraktikusabb módozat, ha munkánkat, a minket személyesen megkereső vállalatoknak, ill. magánszemélyeknek adjuk 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lhelyezhetjük, egy mi általunk készített honlapon, ahonnan bárki letöltheti a megfelelő ellenszolgáltatás mellet, vagy fizetett hirdetéseket helyezünk a weblapra, és ingyen hozzáférhet bárk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lképzelhető ezen módozatok kombinációja, illetve egyéb, az adott területre jellemző speciális „értékesítési” megoldások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gazolások és a folyamat irányításának átvé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atbázis létrehozása xls, vagy mdb formátumban, amely tartalmazza a diplomamunkát készítő adatait és a hozzá tartozó dolgozat adott munkakörben elkészült eredményeit, valamint a munkakörkódot és a dolgozatkód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eletkezett eredmények rögzítése a számítógépen + adathordozón, valamint on-line, vagy off-line formátumban a dolgozat készítőjének kerül elküldés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gazolás kiállítása az értékelés részé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hoz, az adott munkakörben keletkezett eredmények on-line közzététele a többi munkakör szám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edmények formai (dátum, formátum) és technikai (pl.: valóban az e a hasznosság a dolgozatban, amire a dolgozatíró gondolt )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zsgálat lehetséges kimenetelei: Esetleges hibák észlelése, és lehetőleg a munkafolyamaton, vagy munkakörön belüli javítása, vagy az azonnali elfogad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at lehetséges kimenetele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Felmerült hibák észlelése és lehetőleg a munkafolyamaton, vagy munkakörön belüli javít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zonnali elfogad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típuso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Határidő lejá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Bizonyos munkafázis(ok) kimaradt(ak), vagy hibásan lettek teljesít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Az esetleges számítási eredmények visszaellenőrzésénél tapasztalt eltérése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Helytelen formát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 esetén külön keltezés szükséges, amelynek időpontja a hiba észlelésének ide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hibajavítás megtörtént, visszaküldés az értékelés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több hiba nem található, a munkakört lezáró igazolás kiállítása (nyomtatvá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edmények továbbküldése a következő munkafolyamatnak (elektronikus, vagy nyomtatott formáb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örténhet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Elektronikus formában történő továbbítás (alapértelmezett) esetén a munka elküldésekor visszaigazolás kérése a címzettő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Nyomtatott formában, ha elektronikusan nem tudjuk technikai, vagy egyéb okból továbbítani. Ebben az esetben ajánlott küldeményként kezeljü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374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unkakör elő követelmények katalógusa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233208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ommunikációs szakértő                             nyomtatvány                        1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zemélyazonosság          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gállapítása                                                     okmány                               0,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onzultációra való jogosultsá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gállapítása                                                   nyomtatvány                         0,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émaválasztás konzultálása 1. kör              nyomtatvány                        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émaválasztás konzultálása 2. kör              nyomtatvány                        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mai értékelés (DOC)                               nyomtatvány                        1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mai értékelés (PPT)                                nyomtatvány                       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mai értékelés XLS                                   nyomtatvány                       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mai értékelés on-line                              nyomtatvány                        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árhuzamosítható feladato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utputjai közötti konfliktusok feloldása               nyomtatvány                        3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zakirodalmi formai ellenőr                           nyomtatvány                       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lágium-kontroll                                           nyomtatvány                         3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rukturális ellenőrzés                                  nyomtatvány                         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llébeszélés-kontroll                                  nyomtatvány                        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zakirodalmi bizonyíték-kontroll                   nyomtatvány                         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341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unkakör megnevezése                           Formátum               Átfutási idő(ó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ssza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Megérkeztek az ön által küldött dokumentumok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kalmazott neve, beosztása, elérésének módja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tulajdonosának neve,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lad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ladatot teljesítő(k) aláír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Az általam ellenőrzött feladatkör feltételeinek megfelelt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degyik munkafolyamat külön-külön is dátumozandó, majd az utolsó munkafolyamat dátuma lesz látható a következő munkakör számára az igazolá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gazolás kiállításának előfeltétele, hogy minden munkafolyamaton keresztül menjen pozitív eredménny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A hasznosság kontroll rendben lezajlott, a dolgozat jelenlegi állapota további értékelésre alkalmas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 vezető aláírása, vagy on-line formátumban az azt helyettesítő hitelesít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árhuzamos munkakörö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nkakör megnevezé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mát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Átfutási idő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orrektura-ellenőr                          nyomtatvány               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atvagyon minőségének             nyomtatvány                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lenőrzés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ódszertani ellenőrzés                  nyomtatvány                3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produkálhatósági kontroll          nyomtatvány               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aját következtetés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lyessége                                      nyomtatvány               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élcsoport helyes kezelése           nyomtatvány              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iindulási helyzetek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eltártságának ellenőrzése               nyomtatvány             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234936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redmények fogadása 1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elő követelményként megállapított munkakörök outputjainak fogad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jelzés a megérkezett eredményekről, amely egyben azt jelenti, hogy az adott munkakör átvette kompetenciája erejéig a dolgozat feletti felügyeletet A visszajelzés lehet pozitív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lletve negatí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eredmények fogadása nevű munkafolyamat fogja kvázi tudatni az adatokat küldő munkakörrel (szükség esetén többel is), hogy a munkakörünk meg tudta kezdeni a munkát a kapott adatokkal. Ebben az esetben pozitív visszajelz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az adatok egyszerűen nem érkeznek meg időre, akkor a visszajelzésünk negatí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véleményünk szerint a kapott adatok hibásak, visszaküldjük az előző munkakörnek újbóli ellenőrzés célj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kapott eredmények megfelelnek a további feldolgozás részére, akkor áttérés a következő munkafolyamat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yakorlati lépéselem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 hasznosság „kihasználása” 1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ennyiben találtunk érdeklődőket leendő munkánkra, érdemes megpróbálni közülük legalább egy támogatóra szert tenn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sősorban nem anyagi támogatásra kell gondolni (pl.: a cég- vagy magánszemély kapcsolati tőkéjére, illetve az adott területen szerzett tapasztalatainak megosztásár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a leendőbeli üzletfelünk munkánkban felfedezi a számára elődleges „hasznosságot”, és a minél gyorsabb eredmény érdekében anyagilag is támogatja a munkát, ez nekünk sem tesz rosszat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ilyen jellegű segítségek megkönnyítik a dolgunkat, így az eredmények is hamarabb jelentkezhet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 hasznosság „kihasználása” 2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az az eset fordul elő, hogy érdeklődő van, de semmilyen támogatásra nem hajlandó, érdemes megfontolni másik leendő partner felkutatásá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z nem olyan nehéz munka, hisz ha volt legalább egy érdeklődőnk, akkor biztosan akad másik is, aki tisztán látja benne a jövőbeli profitjá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06:26Z</dcterms:created>
  <dc:creator>LaCae</dc:creator>
  <dc:description/>
  <dc:language>en-US</dc:language>
  <cp:lastModifiedBy>LaCae</cp:lastModifiedBy>
  <dcterms:modified xsi:type="dcterms:W3CDTF">2008-05-04T21:39:47Z</dcterms:modified>
  <cp:revision>4</cp:revision>
  <dc:subject/>
  <dc:title>Diplomamunka és TDK készítése a hasznosság tükrében</dc:title>
</cp:coreProperties>
</file>