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BF8-EF08-4B9C-BE4F-7C70406E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31ED-EA5F-4609-9384-6F657175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8A0-AA99-4193-A767-FD55746A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878-5E99-474D-A52A-1398A9D6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3B31-8DEC-4C5F-825A-829F2595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0FD9-E85F-4AC4-A3F5-8A008563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B5B1-E42A-49BD-9C80-019C471E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50A4-2609-413B-83AA-9A911DC3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C9B9-06E2-4D1A-8226-0D5C577B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2D0F-13FC-4252-8BE8-37E6E66B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71B1-BD12-4A9D-B01B-E4A8465B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2365-534E-4E6E-9CAC-35291970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2184-48A2-4DB6-8804-5EF03FC8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78C5-BA75-4C31-B8C1-B199B7D4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754C-856F-4108-8B28-C0E2FD4F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B0F5-1F09-40D4-BC87-DDECD5B4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7A0D-C5D8-472B-A4D3-7BF90864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06A2-D2DA-46FF-9D4C-88C9E082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BFC0-C266-4A1D-8065-2A069B31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53D7-4598-4011-8F28-9B871F36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7A7-D14A-4B48-B5CB-007CE332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3F7-3746-4C29-B435-8E635B43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853F-FCA1-4ED0-AAD1-EFFA2F98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B5D-332F-4054-8643-F286B861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EC98-B5EF-48EF-920C-6E1BBA071304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875F-5A1F-45D9-B334-8D5DB6DD35FD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ebforditas.hu/index.php" TargetMode="External"/><Relationship Id="rId2" Type="http://schemas.openxmlformats.org/officeDocument/2006/relationships/hyperlink" Target="http://www.webforditas.hu/index.php" TargetMode="External"/><Relationship Id="rId3" Type="http://schemas.openxmlformats.org/officeDocument/2006/relationships/hyperlink" Target="http://www.webforditas.hu/index.php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degen nyelvű változatok kezelés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munkakö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tdk/diploma dolgozatok idegen nyelvű változatainak kezelésének legalább kétféle szempontja lehetség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gy-egy dolgozat értékelése kapcsán nem várható el az értékelőktől, hogy azzal nyelvvel tisztában legyenek, amelyen a dolgozat íródott. Ez a munkakör ezt a problémát oldja me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munkakö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unkakörnek az előzőekből következően vagy a hierarchia legtetején lévő munkakörhöz kell kapcsolódnia, vagy pedig önmagának kell lennie a hierarchia legtetején lévő munkakörne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blémák a hierarchiáva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kintettel arra, hogy a hierarchia teteje a témaválasztási konzulens munkaköre, ami még nem az elkészült dolgozatok értékelésével foglalkozik, ezért vissza kell vonnunk előző kijelentésünk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munkakörnek tehát a dolgozat értékelésével foglalkozó első munkakörhöz kell kapcsolódnia, vagy önmagának kell lennie az első ilyen munkakörne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IÉRT van szükség idegen nyelvű változatok kezelésére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zért, mert az EU-ba való belépés, valamint a felsőoktatás standardizálása miatt (bolognai folyamat) az intézmények egyre inkább ki vannak téve annak, hogy nem csak magyar nyelvű dolgozatokkal találkozna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lyen nyelven és mennyit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ndig a dolgozat értékelőinek anyanyelvére kell lefordítani az idegen nyelvű dolgozatokat, és a dolgozat egészét le kell fordítan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gyan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Léteznek olyan weboldalak, amelyek segítségével le lehet fordítani szövegeket, vagy weboldalakat (</a:t>
            </a:r>
            <a:r>
              <a:rPr b="0" lang="hu-HU" sz="2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webforditas.hu</a:t>
            </a:r>
            <a:r>
              <a:rPr b="0" lang="hu-HU" sz="2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/</a:t>
            </a:r>
            <a:r>
              <a:rPr b="0" lang="hu-HU" sz="24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index.php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). Az ott alkalmazott módszerek alkalmasak lehetnek idegen nyelvű dolgozatok fordítására némi további fejlesztés után, ugyanis ezek a programok még csak tükörfordítást tudnak végezni.</a:t>
            </a:r>
            <a:br>
              <a:rPr sz="2400"/>
            </a:b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program jelen formájában is megkönnyítheti a fordítók munkáját, de egyenlőre önmagában nem nyújt kielégítő megoldást. Mindenképpen alkalmazni kell valakit, aki az idegen nyelvű szövegeket lefordítj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degen nyel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idegen nyelvű változatok kezelésének feladata magában foglalhatja dolgozatok idegen nyelvű változatainak nyelvhelyességi szempontú vizsgálatát i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6:25:48Z</dcterms:created>
  <dc:creator>Viktor Varga</dc:creator>
  <dc:description/>
  <dc:language>en-US</dc:language>
  <cp:lastModifiedBy>LaCae</cp:lastModifiedBy>
  <dcterms:modified xsi:type="dcterms:W3CDTF">2008-06-02T12:34:50Z</dcterms:modified>
  <cp:revision>7</cp:revision>
  <dc:subject/>
  <dc:title>1. dia</dc:title>
</cp:coreProperties>
</file>