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1FB-FE30-4369-A5D6-77D26344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023-26E1-4EEA-9C7A-C8A9C756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26F9-78A3-4CC7-9561-1A09ECB1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BF0D-3BCB-4A4B-AD8E-541E1C1C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27B8-C816-4D85-B1C7-DABD3D84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42AE-C5F4-4383-8015-FD2FA265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2280-669C-4B64-8174-30613E6C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6658-1E7B-4150-99DE-2CE4A5E2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87A1-D1F9-401F-AD26-B3143C41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2B3C-3452-4AD2-8BA5-AB16BB59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4C05-3EF6-403B-BA95-00CFCC43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E90-0B86-4D68-B8F2-6601579D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B706-4184-420D-93D8-D58B550F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87DC-835E-43F2-81EC-14A0B040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D5D7-B660-4557-BB16-775D68CA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0C16-37B5-49D7-B5B5-34A894B0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C9A9-2249-4BED-AF96-BB329906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9DF7-8685-40D2-B46F-8CC4C067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016-C586-49BB-B25D-4B585ED0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8F27-FC37-47C3-9892-22B250ED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9AB5-0ABA-401F-9000-95966FEC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A47-CD7C-444E-B7EB-40704D81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3166-CC88-4443-9F5D-DA057B83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705D-0D53-47B7-B34F-3D38DC4D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E4E1-6928-4421-B9D8-9DB48AD4189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924A-A97B-4A23-B1FC-2862E3150AA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Ábrák és grafikonok indokoltsá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rmai követelmény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ábrákat és grafikonokat minden esetben folytatólagos számozással kell ellátni, amit a tartalomjegyzékben fel kell tűntet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tartalmát jól kifejező, rövid címet fel kell tűntet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ntos, hogy a mérete ne legyen se túl nagy, se túl kics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Ábrák és grafikonok indokoltsá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iért kellenek ábrák és grafikonok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ábrák és grafikonok segítségével a dolgozatot szemléletesebbé tudjuk ten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ábrák és grafikonok segítenek a tények vizuális úton történő bemutatásához, alátámasztásáho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Ábrák és grafikonok indokoltsá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téma könnyebben felfogható, értelmezhető, feldolgozható lesz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különböző gazdasági folyamatok, trendek és statisztikai adatok bemutatását megkönnyíti, fogyaszthatóvá teszi a hallgatóság számá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Ábrák és grafikonok indokoltsá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zínesebbé teszi a dolgozato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téma sokkal magyarázhatóbbá válik, és ebből következően az előadás könnyebb les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Mire kell odafigyelni az ábrák és grafikonok kapcsán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Fontos a szinek megfelelő használata, ez segiti az átláthatóságo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különböző jelöléseket külön fel kell tűntetni, ami magyarázatot ad arra, hogy a grafikon mit is ábráz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Fontos, hogy jól látható legyen az ábra vagy grafik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z ábrához tartozó szöveget, jól láthatóan és a megfelelő helyre kell helyezn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8:22:58Z</dcterms:created>
  <dc:creator>Oldschool</dc:creator>
  <dc:description/>
  <dc:language>en-US</dc:language>
  <cp:lastModifiedBy>Vrabély Balázs</cp:lastModifiedBy>
  <dcterms:modified xsi:type="dcterms:W3CDTF">2008-06-02T19:24:49Z</dcterms:modified>
  <cp:revision>6</cp:revision>
  <dc:subject/>
  <dc:title>Ábrák és grafikonok indokoltsága</dc:title>
</cp:coreProperties>
</file>