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7B2-ED81-434A-8DD7-6C3BCEF6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C75-ADF9-49F0-A236-493FD09F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1E2-F167-41F7-84E6-E4C5B247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D54-8699-4D19-91A8-8E834052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2706-153E-4AC2-B930-CB37DE8A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6FEC-B74D-4D67-9125-C582897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0F13-7C01-4943-829B-E1A28B1B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C40D-FDC1-4616-AD46-32742870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407A-4487-4EE8-BF84-B8CEE642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1172-D888-4EEC-AF7D-96FAAD6E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E1A1-264F-4350-A097-7C1A744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96D-CCEA-4A04-8C40-BF0C6E6A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DAFF-2ACA-4DB9-85C3-66330EFC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439B-79C5-43A1-B0CF-1F6C597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AB9-2776-4040-84D8-CB4DE52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4A1F-E2C5-421F-9938-3D2BBB37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0759-4C94-4A6C-9345-8E3CFDE2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58D-842C-4723-8FA7-E3D8A59B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81C-973C-44D6-B51D-96472017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B27-45CA-4C0F-885B-3B848B1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094-BD8B-4D66-8D2A-38537A9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D2A-747D-44FF-A453-3B4A566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AE4-67C4-4E8A-BA28-637BB7B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75A-56D4-4E66-9A54-D3DD5D7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ACBC-A0D8-464B-92AA-89FA0883590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058-4B98-4347-A87F-9102164C3B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Verdana"/>
              </a:rPr>
              <a:t>Kommunikációs szakértő, aki azért felel, hogy a potenciális érintettek képben legyenek a folyamat utá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Végső fázisra tanác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 dolgozat teljes újbóli átolvasása, átnézése, hogy ne merüljenek fel esetleges helyesírási hibák, vagy értelmetlen mondatok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eg kell nézni, hogy mindenhol megtalálható-e ahol kell az utalás, és annak helyes használta,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 diploma dolgozat végén, a bekezdés  l) pontjában hivatkozott, a dolgozat rövid bemutatását kell besorolni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Ezen az oldalon fel kell tüntetni a dolgozat szerzőjének a nevét, a dolgozat címét, a belső és a külső (ha van) konzulens nevét, a dolgozat témájára utaló 4-5 kulcskifejezést, valamint meg kell adni a dolgozat 8-10 soros leírását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tnézni az irodalomjegyzéket, hogy minden helyesen, hibátlanul van leír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elléklet rovatban ( ha esetleg van) megnézni, hogy minden kép, tábla mellé van-e rakva, írva sorszám melyet a dolgozatunk anyagában is megtalálunk és ez által tudunk rá hivatkozn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Ha ezekre ügyelünk és odafigyelünk akkor sikeres szakmai illetve diploma dolgozatot tudunk írn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ítség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értő segítséget nyújthat a potenciális személyek kérdéseire válaszadáss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setleg olyan témában van a probléma mi el lett rontva és visszafordíthatatlan akkor a szakértő segítséget nyújthat egy másik téma keresésében vagy felnyújtásában (pl.: ha valakit nem vettek fel az egyetemre akkor a szakértő segítséget nyújt, hogy hova menjen el, azzal a tudással mi az illetőnek van meg, ki az egyetemre jelentkezett, de nem vették f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07:35Z</dcterms:created>
  <dc:creator>LaCae</dc:creator>
  <dc:description/>
  <dc:language>en-US</dc:language>
  <cp:lastModifiedBy>LaCae</cp:lastModifiedBy>
  <dcterms:modified xsi:type="dcterms:W3CDTF">2008-05-04T21:25:53Z</dcterms:modified>
  <cp:revision>2</cp:revision>
  <dc:subject/>
  <dc:title>1. dia</dc:title>
</cp:coreProperties>
</file>