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67D-6A43-48E9-8C3C-66B04804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3CA-A11F-49DF-95F1-879DED2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B0E-43B1-4D80-93C6-4972FF0E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16D-4809-4C30-9981-C7EE4949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E47E-387C-40A2-A098-4B1D5CAE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842F-4DCA-46DE-8E73-6CD3FDD5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FF64-D8D1-4487-BA01-A07FAF16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0438-0066-401E-BEBA-2ECA32DA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3018-92FA-4B38-824E-622274F4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3B27-8032-4CF3-B1F3-01DAC4E7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25FE-7168-4637-977D-C489A7BA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6DF-157F-42DE-8ABA-4B07D1DE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CC72-C569-4841-B3DD-6DE770FB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3415-91DF-4F4F-B3FE-5EA4767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A440-485A-45FE-BB02-A9FD2D1F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8203-B6FA-42E0-BDDD-EFE64B1F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1788-AD66-47F2-9199-BE4377F1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0AF-0243-4C1D-AC3B-7717823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356-C258-42D5-9216-22330C6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9CA-92EE-4BF6-A74D-7B76ADEC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ADA-EE50-4ABF-AF66-7775E06D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90D-B540-42B4-83B1-52A3F140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116-DA15-4743-928C-C6774440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EC4-B82F-48D9-87E4-B098354E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F727-F8EF-40C2-97DC-653A34E6F4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A45D-5EA1-420A-825B-E1BA163804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sign a későbbi publikációkban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ccecff"/>
                </a:solidFill>
                <a:latin typeface="Arial"/>
              </a:rPr>
              <a:t>Azok számára akik a későbbiekben az adott dolgozatra kívánnak hivatkozni:</a:t>
            </a:r>
            <a:r>
              <a:rPr b="0" lang="hu-H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rendelkezésükre kell bocsátan az alkalmazott logok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meg kell adni a kapcsolattartókat és elérhetőségü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egadni a </a:t>
            </a: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template-állományoka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akár a ppt rendelkezésre bocsáta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értékelés nem talált hibát, akkor az eredményeket továbbküldi a következő munkafolyamat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finíció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esign a későbbi publikációba létrehozott formatervezé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nb-NO" sz="4400" spc="-1" strike="noStrike">
                <a:solidFill>
                  <a:srgbClr val="ccecff"/>
                </a:solidFill>
                <a:latin typeface="Arial"/>
              </a:rPr>
              <a:t> munkakör pontos feladata</a:t>
            </a: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i a beérkező feladatot, hogy megfelel e a következő előírásoknak és szempontok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ák jelzése és dokumentá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kumentum minősít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árhuzamosan futó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 elvégzését követően igazolás kiállítása a Eredményt ellenőrző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Áttérés a következő felad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i a beérkező feladatot, hogy megfelel e a következő előírásoknak és szempontok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ák jelzése és dokumentá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kumentum minősít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feladat megfelel e az adott formai és technikai követelmények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 tükrözi-e az adott feladat lényegé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Lényegretör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Áttekinthető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Logikus, jól követhet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aját vélemén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megfelelő form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setleg nem nyitható meg a dokumen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yesír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épelési hib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felel meg a formai követelményekn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áttér ne ütközzön a betűszínn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 álljon túl sok diából (kb10dia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ógok helyes használ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vatkozások megjelení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-ben használt logok megfelelő és jogtiszta  használ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szerint, a logokat a tulajdonos tudtával használta fel az adott publikációba és ezzel nem sért meg semmilyen jogot, amiből később esetleg bármiféle hátránya származ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Kapcsolattartók és elérhetőségeik megad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megfelel e a szabályzatban előírtaknak. H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továbbküldésre kerü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javításra kerül sor, vagy visszaküldés a hibázó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56:05Z</dcterms:created>
  <dc:creator>VIOLA</dc:creator>
  <dc:description/>
  <dc:language>en-US</dc:language>
  <cp:lastModifiedBy>LaCae</cp:lastModifiedBy>
  <dcterms:modified xsi:type="dcterms:W3CDTF">2008-06-02T12:43:52Z</dcterms:modified>
  <cp:revision>13</cp:revision>
  <dc:subject/>
  <dc:title>Design a későbbi publikációkban </dc:title>
</cp:coreProperties>
</file>