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3DD-7A79-4BB1-B9F1-1786811F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F0A-653F-4C60-87A6-E5EB026B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B7D-D021-463A-8A2A-A14F27D9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3C0-F87B-412A-B2A3-5FEEB876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34B7-1481-4449-A66E-E5CB279E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B6A8-1E5B-479E-ADB5-AA09AFB7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60B4-6051-4D8C-AF8D-D33FCD9B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3C23-3BE8-4461-A274-A341FD84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2A24-F46B-442C-8ECE-EC7E4B82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AB7E-7A4B-4D82-9ACE-A5EAE8FE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9825-D4D8-4DBB-BE80-1CA1443A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90D-DB4E-4408-A31B-7681E982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3B7E-3BB8-4AD1-8ACF-0EDA8EAE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3C20-2BAE-43E2-821A-3DC0F9DC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7FFA-6EB3-4A70-BCB1-1D62C808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1499-6808-482D-8E0C-4620E624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36E9-669D-44DE-A5F3-10EA1CEE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F03-B5D5-44B8-A413-156A4A05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9DB-ACFD-4C8C-8731-CA2918E6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5E4-3716-4FEC-9153-B3E98E26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A38-003C-4471-BF7B-B9700309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82D-248C-4B52-BC91-C9FDDFA5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AF1-858A-43C2-86EB-73CD19A3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3894-06B3-40A4-A5D4-162DB255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3C32-6600-40F9-8F79-995A85008017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3FBC-60D9-4937-86CE-CE622D8EBB1A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ffffff"/>
                </a:solidFill>
                <a:uFillTx/>
                <a:latin typeface="Verdana"/>
              </a:rPr>
              <a:t>Mellékletekről általába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ben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táblázatok, ábrák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és olyan dokumentumok szerepeltethetők, amelyek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a dolgozat mondanivalójának részletes megértésére szolgálnak,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mindamellett a mellékletek a reprodukálhatóságot is támogatják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Ide kerülnek azok a nagyobb méretű táblázatok, ábrák, amelyek szövegközi elhelyezése gondot okozott volna. Ide helyezhető el továbbá a kérdőíves felmérés alapjául szolgáló dokumentumok, továbbá a statisztikai és matematikai számítások alaptáblái is. Egyes esetekben rövidebb szöveges dokumentumok (pl. szerződések, jogszabály részletek, stb.) is helyet kaphatnak itt. 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et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oldalszámozni nem kell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(ezt végül is nem is fontos ellenőrizni, mert ha van van, ha nincs nincs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eket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sorszámozva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illetve a dokumentum főszövegében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hivatkozva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kell feltüntetn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(ek)et az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Irodalomjegyzék után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római számokkal jelölt oldal-számozással ellátva kell elhelyezni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z utolsó 3 melléklet az alábbi: rezümé, hallgatói nyilatkozat, konzulensi nyilatkozat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- Köszönöm a figyelmet!" szöveg nagy betűkkel. (Ez csak PPT-bemutatónál kel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ffffff"/>
                </a:solidFill>
                <a:uFillTx/>
                <a:latin typeface="Verdana"/>
              </a:rPr>
              <a:t>Elsődleges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elléklet-e egyáltalán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a beadott nyomtatvány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Igen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: további vizsgálódásra, elemzésre meh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Nem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: visszaküld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ilyen típusú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melléklet a beadott nyomtatvány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DO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P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X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online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ülön elbírálás az egyes típusoknál (részletezés az előző, ill. a következő diákba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ffffff"/>
                </a:solidFill>
                <a:uFillTx/>
                <a:latin typeface="Arial"/>
              </a:rPr>
              <a:t>Formai értékelés on-line (internetes) melléklete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Online források esetén fontos a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teljes(!) elérési út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keletkezés, érvényesség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és a letöltés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dátum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ának megadása, hitelessé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Helyes-e a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hivatkozások kezelése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(online hivatkozások, frissesség, szerzők megadása, megjelentetés módja, …)? Részletes lista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hivatkozott oldal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, ha nem hibás az elérési út,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egyből elérhető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hivatkozásokat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dokumentum mélységig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kell megadni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internetes oldal használatának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dátumát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is közölni kel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az internetes hivatkozásokat a tartalomjegyzékben elkülönítetten kell kezelni, a rájuk történő hivatkozás az Internetre utaló „I” betűvel, sorszámozással történik (pl.: I1, I2, I3, ….. In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Pl: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Kiss Endre: A globalizáció és a belátható jövő. In: INCO [online].4.évf.2002.1.sz. [2003.01.31.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&lt;http://www.inco.hu/inco7/global/ovocikk0.htm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Munkakörkód 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11(onlin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Dolgozatkó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„Az XLS/online nyomtatványok formai követelményeinek megfelelt/nem felelt meg és további értékelésre alkalmas/jelen formájában nem értékelhető.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Meg nem felelés esetén részletes hibalista KELL, ami egy előre legyártott listából a megfelelő elemek kiválasztását jelenti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Dát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Munkakör vezető aláír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5:21:19Z</dcterms:created>
  <dc:creator>norbii</dc:creator>
  <dc:description/>
  <dc:language>en-US</dc:language>
  <cp:lastModifiedBy>LaCae</cp:lastModifiedBy>
  <dcterms:modified xsi:type="dcterms:W3CDTF">2008-05-04T21:28:57Z</dcterms:modified>
  <cp:revision>52</cp:revision>
  <dc:subject/>
  <dc:title>1. dia</dc:title>
</cp:coreProperties>
</file>