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0E28-2430-4A18-A941-F9302B8EF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6FE7-C702-4111-835B-37AEB6C6C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CE3B-32B4-4E48-B862-C541FDFE1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B3F9-3BD3-4C5D-8AF2-566F48DCF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122BE-52C5-49A1-8DD1-F7ED6A665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CA30D-E8D0-4B78-AC6F-643DB27C9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566A2-E8AD-4DB8-B35B-B7D3A5C42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2F5D0-3376-476C-91BE-8CC08D2D8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400B1-1CC5-449B-B9E5-5C48FF73A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3645E-EB1C-4A14-962F-B46BD298C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35747-6FF0-4AD7-8F85-CE5EB9B2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DBA3-D4D0-43AE-94D1-6667A05E7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DF3EF-A326-4F8E-A684-984D37466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BDF27-4C0D-4DC4-8421-4D983C46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B851E-E271-44B8-90D3-7A6A20732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330BA-C01F-4C6F-BF45-DF6780874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28638-B332-4B0F-A3E5-4C9C2BA63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714E-4CEC-4775-BFC6-DA9FFA38B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EAB7-F701-419A-B153-45A7449A6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9F97-9DD7-4FED-8A37-2FB0A97F2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6061-480B-4C9A-AA2B-357E1F16B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00A2-4845-4A7B-9DC1-325504D7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934E-F21B-4A65-ABFF-28AE6DA0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F2B1-41A0-479C-9872-CE839EEED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C2D62-7766-476D-AC00-CEABA438679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6C2B9-41A0-4C30-84E0-157BE436238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aját következtetések helyessége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 pályamunka bírálatát a következő szempontok szerint célszerű végezni: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ogikai felépítés, irodalmi áttekintés: világos témafelvetés, a vizsgálatok indoklása, világos szerkesztés, irodalmi megalapozottság, a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következtetések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elyesség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a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következtetések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és az irodalmi adatok összevetésének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elyesség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 pályamunka bírálatát a következő szempontok szerint célszerű végezni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Módszerek: módszerek nehézségi foka, sokoldalúsága, leírásának pontossága, adekvát volta, </a:t>
            </a:r>
            <a:r>
              <a:rPr b="1" lang="hu-HU" sz="3200" spc="-1" strike="noStrike">
                <a:solidFill>
                  <a:srgbClr val="ffffff"/>
                </a:solidFill>
                <a:latin typeface="Verdana"/>
              </a:rPr>
              <a:t>saját</a:t>
            </a: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 munka mérték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rmai kivitelezés: az elkészítés gondossága, esztétikuma, irodalomjegyzék összeállítása, ábrák, táblázatok szerkesztése, íráshibák, gépelési hibák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59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redmények: az ismertetés mennyire pontos, alapos, részletes, világos, a dokumentáció mennyire adekvát, szemléltető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20:24:01Z</dcterms:created>
  <dc:creator>Ralf</dc:creator>
  <dc:description/>
  <dc:language>en-US</dc:language>
  <cp:lastModifiedBy>LaCae</cp:lastModifiedBy>
  <dcterms:modified xsi:type="dcterms:W3CDTF">2008-05-04T21:31:31Z</dcterms:modified>
  <cp:revision>5</cp:revision>
  <dc:subject/>
  <dc:title>Saját következtetések helyessége </dc:title>
</cp:coreProperties>
</file>