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D3E-00E1-439A-A0EF-58AD5DDA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7AB-4580-4523-AF7B-A0A8FBC4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6AC-AB49-46CD-8ED1-8941D53E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14B-E0F2-47FC-815A-FD7A3CE9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9F3-ECA8-4FA3-B085-EBFDDB67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0DFE-3409-4640-9D8A-3B4E82F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4F5-F556-4BFE-A9C5-4F93D273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22B8-6C16-4520-89AF-2DF27FD4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632B-BA60-407A-A67C-FAFE7FC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724C-BE54-4C32-8DE5-0AA187E4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43E2-3DA8-4580-AEAC-98217FB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E88-F073-48EB-A666-728DE5E5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F46B-11DC-4CC4-BD3D-5F2A574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BB7F-C54F-43C3-BD1F-4FEFE1AD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9FDC-83D4-4344-B738-EAAD8EA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CB1D-F0C6-4832-95C9-5AC277BA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D1C-8F72-4E56-B887-C7F7287E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F25-8CF1-40F1-81F8-4E02BAA5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016-64C8-42D9-B787-8521E182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80E-AAB5-488F-9CB6-5C73966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75B-B3AA-4B0F-B1D7-96912753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19E-4F28-46A8-B46D-E5EB024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099-E56D-4276-B634-C37F9E0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DD5-53D7-4D74-9436-456F9B39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6A04-22F1-499A-904A-262E44F56403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4631-94B7-4F9A-8335-6FC5CC560CA7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ítható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eladatok outputjai közötti konfliktusok feloldása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Munkaköri Leír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 tevékenységek koordinátora munkakör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Főtevékenységek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gy időben futó munkakörök számára szétosztani az őket megelőző tevékenység kimeneti anyagából a rájuk vonatkozó részletek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inputok határidős csúszásainak megelőzése, kezelé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árhuzamos feladatkörök egymásnak ellentmondó outputjainak harmonizálás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gymásnak mellérendelt feladatok kimeneteinek összekapcsolása, s továbbítása a következő állomás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végzett műveletek s az események naplózás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dolgozatok írását segítő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unkakörök között felmerült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-központilag nem szabályozott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kérdés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problémá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konfliktuso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ezelése,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goldása a feladat(például: ha egy nem szabályozott kérdésben az egyik munkakör azt javasolja az ügyfélnek, hogy a máshonnan idézett szöveget feketével és állóbetűkkel jelenítse meg, de a másik munkakör azt mondja, hogy ezt pedig mindig is zöld betűszínnel dőlten szedve szokták, akkor saját belátása szerint dönt az ügyben , előtte esetleg vitafórumot tart az érintettekkel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eseményeket is mindig rögzítenie kell vitafórum formáb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 munkakör az alábbi kompetenciákat igényli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umánerőforrás menedz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észség/képesség csapatmunka teré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z tűr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ó problémamegoldó készsé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Minden input beérkezésétől számított 3 munkanapon belül továbbítania kell a megfelelő anyagot az illetékes munkakörnek/munkaköröknek/ügyfél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egyes tevékenységet naplóznia kell!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beérkezett anyag továbbításakor igazolást állít ki, melyen szerepelnie kell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honnan jött az dokumentum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mikor érkezett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mikor lett továbbítv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13:11Z</dcterms:created>
  <dc:creator>LaCae</dc:creator>
  <dc:description/>
  <dc:language>en-US</dc:language>
  <cp:lastModifiedBy>LaCae</cp:lastModifiedBy>
  <dcterms:modified xsi:type="dcterms:W3CDTF">2008-06-02T13:13:46Z</dcterms:modified>
  <cp:revision>1</cp:revision>
  <dc:subject/>
  <dc:title>Párhuzamosítható feladatok outputjai közötti konfliktusok feloldása </dc:title>
</cp:coreProperties>
</file>