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3FF-D28D-4E36-9027-88FED242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4D3-1BF9-4EFE-A51A-7F1477DA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D07-3D7A-4350-83FE-DFD6D17F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4F0-A435-438D-B7AE-16B5BECA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3308-7005-4C3B-A943-BB26F229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CFF5-9237-47C8-AAE6-D492DC71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926B-8519-437C-AD8C-6EAE45B3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8B14-15C9-489A-8772-F470E7B2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5D2E-F28F-49FD-BBDB-FAD0976A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FC3B-AEC1-4098-BB7E-6C694D05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0FF9-E797-4037-B791-B831DC11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6D6A-A26A-4C62-B147-B923FABE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3286-534D-4F67-A78E-B6FD354A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6FE9-A90F-4E7C-8517-EFFFF72F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8BE6-A2DD-4C52-8968-135942B5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4EA6-7EC7-4E61-BBCD-9E06EFCA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666E-DC9F-4E6F-ACD2-8240560C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876-5BD3-4C83-9D8B-0241F64A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892-49EE-431E-9B1C-78CFE13D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C9E-6405-42BE-B419-1B8BCA53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72C-7B3B-498D-BAF3-2E30618D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6F8-FB53-4752-A787-524977AE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B34-5868-4B87-A0D6-EBFA11AD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77B-EDD5-410C-A1FD-0571D981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A3C7-CED3-4D74-9195-B6D03BDF670C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ABF6-5C25-4253-A61F-1130C30273A6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rodalomjegyzékbe kerülés stratégiája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efiníció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ibliográfia: Könyvtártudomány, könyvész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gy adott témáról szóló vagy rá vonatkozó könyvek, cikkek címeinek és könyvészeti adatainak listáj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párhuzamosan futó munkakörök outputjainak fogad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jelzé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feladat elvégzését követően igazolás kiállítása a Eredményt ellenőrző számá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Áttérés a következő feladat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 feladat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gadja az ellenőrizendő dokumentum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előírt szempontokon pontról pontra végigmegy és ellenőrzi, hogy a dokumentum megfelel- e az előírt követelmények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kumentum minősít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adott formai és technikai követelmények ellenőrz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lsorolásszer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olgozatban a hallgató minden pontjára hivatkoz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erzőkők neve szerint abc sorre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rszámmal kell ellátn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akirodalmak, egyéb irodalmak csoportosít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sak olyan munka kerülhet amibe a szövegbe hivatkozás v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K</a:t>
            </a:r>
            <a:r>
              <a:rPr b="0" lang="nb-NO" sz="4000" spc="-1" strike="noStrike">
                <a:solidFill>
                  <a:srgbClr val="ccecff"/>
                </a:solidFill>
                <a:latin typeface="Arial"/>
              </a:rPr>
              <a:t>onzulensek kapcsolódó dokumentumai</a:t>
            </a: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plomadolgozati téma választása (1sz függelé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onzultációkon való részvétel igazolása (2sz függelé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rodalmi hivatkozás (5sz függelék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rások lehetséges megad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önyvből való idézés eseté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zerző ne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könyv cí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iadó ne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iadás hely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iadás é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könyv oldalszá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Cikk, tanulmány eseté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szerző ne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cikk, tanulmány cí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folyóirat ne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Megjelenés éve és hónapja (szám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Oldalszám (-tól-i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 megfelel e a szabályzatban előírtaknak. H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gen: továbbküldésre kerü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: megkeresik a hibákat és visszaküldik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vítás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5:20:04Z</dcterms:created>
  <dc:creator>LaCae</dc:creator>
  <dc:description/>
  <dc:language>en-US</dc:language>
  <cp:lastModifiedBy>LaCae</cp:lastModifiedBy>
  <dcterms:modified xsi:type="dcterms:W3CDTF">2008-06-02T12:49:57Z</dcterms:modified>
  <cp:revision>4</cp:revision>
  <dc:subject/>
  <dc:title>Irodalomjegyzékbe kerülés stratégiája </dc:title>
</cp:coreProperties>
</file>