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743-7766-4480-B9F6-06B6F314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18A-A2ED-47AE-B6B1-26C8A95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622-688C-41A3-B2AE-D9A242C7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83F-E745-4F20-AC85-B2EBB10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578-0E5B-41A3-AC18-5A7E7CA2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B10-E83C-4735-9C82-E539F2A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309A-D986-4A34-A887-641872C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B02-F88A-4BCA-A2A6-323D7269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F4E0-43CB-4863-8A8C-B68EECD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2700-275B-4AF0-8C8A-3DFEEB95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6A68-7045-461C-A52C-4E2441D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F9B-7B43-45F0-A511-21995A3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634-43EE-4244-BFB7-C9D1EF7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223-3586-45E4-91F9-25D2C97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FA6F-88E7-4E79-9523-5E323D6D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148-E675-47A6-A700-4CB09E07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C49-A2BD-41BE-91DE-A35A7C97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345-4711-4E43-BC02-60B8AF9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7C5-4FA9-462F-B1C5-2E0B2EE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DD7-359E-4CEE-BDFB-7165D70A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86C-0B80-4CE8-BF49-A676DC1F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F08-8D48-4375-AC41-708AF647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CAD-6FCA-487E-8F62-B493749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26E-0ED1-40C6-8F60-19E963B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B6D-FDD4-47B7-AEFF-11D0AF582F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1AF-FBB2-42BF-86C3-841737051F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XLS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általános formai követelmény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mes New Roman, 13 vagy 14-es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(a nagyobb, 14-16 pontos betűk a címlap készítésekor és a fejezetcímek írásakor használhatók), (bal oldalon 3 cm-es, a többin 2,5 cm-es margó, ha szükséges), normál sortávolság, sorkizárá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A címek, alcímek betűiről (nagy és kis betűk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), esetleges aláhúzásából vagy vastagításából, és a sorban való elhelyezéséből (középre, oldalt) tűnjön ki azok fontossága, és azok az egész dolgozatban következetesek, decimális számozásúak legyenek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képlet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érvényesek-e, megfelelően használta-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olyan cellára mutasson (képleten belül), ahol van ért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hivatkozás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a hivatkozott oldal, ha nem hibás az elérési út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!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XLS-en belüli hivatkozások: ha üres cellára hivatkozik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hibale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másik dokumentumra, mellékletre hivatkozás: ez is egyből elérhető legye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valós érték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az adatoknál (mindenhol friss adatok, ha lehetséges),  azok esetleges kiszűré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egy XLS ne várja egy, a létrehozó lokális meghajtóján valaha létezett állomány lété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De például ide tartozik még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számok ezres csoportosítása mindenhol egyezzen (áttekinthetőség, mint fő szempon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zedesvessző vagy pont alkalmazása nem egész számoknál a melléklet során egyforma legyen, ne hol ez vagy hol a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10 (x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 egy előre legyártott listából a megfelelő elemek kiválasztását jelenti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unkakör vezető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5:58Z</dcterms:created>
  <dc:creator>LaCae</dc:creator>
  <dc:description/>
  <dc:language>en-US</dc:language>
  <cp:lastModifiedBy>LaCae</cp:lastModifiedBy>
  <dcterms:modified xsi:type="dcterms:W3CDTF">2008-05-04T21:28:28Z</dcterms:modified>
  <cp:revision>5</cp:revision>
  <dc:subject/>
  <dc:title>1. dia</dc:title>
</cp:coreProperties>
</file>