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F06-CAAF-4886-8D72-1E3EF338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174-6DB8-4203-A64B-B389BE65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807-4CD5-4A1E-A4E9-B3DA9731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50E-73B5-4746-8E5A-41D58CB8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6830-ED3B-4BFA-A937-A51D264D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BF8F-E3A6-4E14-BC1C-CCC70F76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F671-38C2-4647-A051-5459E72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2F6E-3562-4FD4-9C72-185114E9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8906-461B-4C84-9580-3AD81FF3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C18A-2A23-4BA3-B689-52352DF0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3DB5-0791-47EC-B6DB-1156979B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083-A061-4460-BF02-AA16FB22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A70A-D092-4DC4-886F-8E089326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7C01-E95C-411C-A576-A7A90D3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0B9E-A4A6-452A-9314-E6603A5E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8C7D-0655-400F-8E18-1402DC0A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FD5E-913C-4FD6-B6A0-2E3A4C4D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21F-15A3-4969-86E4-3832657D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B57-183D-4212-A7F6-9294A15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E01-EA5F-4305-B471-8B3A49B0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46F-6E5C-4B65-9BE8-5C80E6BA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8D9-94F9-47F1-B070-9CCEEB4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B77-C5B0-4ADD-85DB-555AD0A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CDE-1090-48D3-93CE-510F6381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1638-3EF1-4812-96C2-54BC5DB3CEFD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D86A-0B48-47FA-BD40-92C6EFBD1EAB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Önéletrajzi említések mikéntj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 célja, hogy az összes többi munkakör elkészültének folyamatáról adjon képet. Valamennyi, a munkakörök kialakításához fűződő információ dokumentálásra kerül it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 cél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 célja (vélhetőleg) az, hogy a szervezetről, ahol sok-sok munkakört látnak el, átfogó képet kapjon egy, a szervezethez újonnan csatlakozó munkavállal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 fela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 feladata, hogy az összes többi munkakörhöz kapcsolható információt, tapasztalatot egybegyűjtse, és ezáltal átfogó képet nyújtson a munka irányítóinak a munka menetérő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hierarchiáró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nek a hierarchia többi eleméhez egyenként kapcsolódnia kell, és naplóznia kell az egyes munkakörökhöz kapcsolódó történések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7:55:24Z</dcterms:created>
  <dc:creator>Viktor Varga</dc:creator>
  <dc:description/>
  <dc:language>en-US</dc:language>
  <cp:lastModifiedBy>LaCae</cp:lastModifiedBy>
  <dcterms:modified xsi:type="dcterms:W3CDTF">2008-06-02T12:25:45Z</dcterms:modified>
  <cp:revision>5</cp:revision>
  <dc:subject/>
  <dc:title>Önéletrajzi említések mikéntje</dc:title>
</cp:coreProperties>
</file>