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705-85BD-45B4-8ACB-C29D7773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B62-5377-400C-B015-97722EC3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CD2-A73C-46F7-B58F-F77DB61B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309-1F37-4873-89BB-C8EE68D9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B28D-A76F-4F20-969E-7D9BB54E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5454-EA19-4C15-9686-161B3EB1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2355-BC26-4943-8C5A-66548588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0DB2-A0AF-4672-951B-29E638C8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267C-52CA-4B5C-A151-0ABB20A1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733C-D079-4112-A6C9-5C32CB8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44F5-4B65-47D8-9A61-63BB9B87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BFA-D2E9-4A5A-A963-B9054FDC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2389-1D23-45D3-BABB-61D7607D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C095-07A1-4E1B-A24D-22E3740B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9D82-60CD-40F4-8378-15DD699D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431-D477-4F45-B3C7-2AFCB30B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CEC8-5858-4D63-9ED0-58349AF6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2FD-4848-4DA2-9661-9DB0D452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4CA-E8A2-4D33-B40A-47A4DC2F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BF6-0E65-4C5F-B996-BBF24DBF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ABB-2211-441C-92A1-8A6529CE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576-425C-4959-BA23-74651C9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EB9-774B-4430-83BE-ECEC488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0DA-FADC-41B7-B383-B6F7A0C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F556-3D27-41F6-96B0-EC396FD5FE6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9F2D-4EB1-4F2F-AA20-2B966F86D56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émaválasztás konzultálása 1.kö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hallgató év közben összesen legalább három alkalommal köteles a konzulenssel konzultálni a szakdolgozatáról, a hallgató által választott időpontokban. Az első konzultációt a témaválasztáskor, a második konzultációt a szakirodalom áttanulmányozása után, a harmadik konzultációt pedig a dolgozat vázlatának elkészítését követően célszerű megtartani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konzulens a konzultációk során különös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    segítséget nyújt a hallgatónak a témához kapcsolódó szakirodalom és jogszabályanyag (forrásmunkák) összegyűjtéséhez, megismeréséhez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íti az összegyűjtött forrásmunkákból kiválasztani a témához kapcsolódó legjobb anyagokat, irányítja a szelekció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nácsot ad a bemutatott vázlat alapján a dolgozat szerkezetének kialakításáho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      a kidolgozás során gyakorlati tapasztalatainak átadásával ösztönzi a hallgatót a problémafelvető és –megoldó, valamint az elemző munkár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hallgató által bemutatott nyers szakdolgozat alapján útbaigazítást ad az esetleges szükséges átdolgozáshoz, az elkövetett hibák kijavításáho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nyiben a hallgató nem veszi figyelembe a konzulens dolgozattal kapcsolatos formai észrevételeit, az oktató írásban rögzíti ennek tényét a szakdolgozati igazoló lap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dolgozatot készítő hallgató (a konzulens kérése esetén) köteles egy bespirálozott példányt a konzulensnek adni a dolgozatából. Kéréstől függetlenül köteles azonban elektronikus formában is a szakdolgozat védését megelőzően azt benyújtani, melynek hiányában a védést nem kezdheti meg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dolgozat bírálója körülbelül egy oldal terjedelemben, az alábbi szempontok alapján értékeli a szakdolgozato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émaválasztás megfelelősége (mennyiben illeszkedik a téma az egyetemi tananyagba, illetőleg mennyiben nyúlik túl azon. A szakdolgozatnak az egyetemi kötelező tananyagot jelentősen meghaladó mélységűnek kell lennie.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 szerkezete, belső arányai, logikája, az egyes részek tartalmi súlyuknak megfelelő mértékben kaptak-e helyet benn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 stílus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om-feldolgozás mennyisége és minősége, az idegen nyelvű és internetes szakirodalom jelenléte és mélysé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ivatkozási rendszer megfelelősége, etikusság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gyértelműen elhatárolhatók-e a más szerzőktől származó megállapítások, kutatási eredmények és a dolgozat szerzőjének megállapítása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redeti, alkotó jellegű megállapítások, megindokolt de lege ferenda javaslatok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külalakja, megfelel-e az előírt formának, mennyiségnek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gyéb formai és tartalmi észrevétel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3:48:09Z</dcterms:created>
  <dc:creator>LaCae</dc:creator>
  <dc:description/>
  <dc:language>en-US</dc:language>
  <cp:lastModifiedBy>LaCae</cp:lastModifiedBy>
  <dcterms:modified xsi:type="dcterms:W3CDTF">2008-05-04T21:26:19Z</dcterms:modified>
  <cp:revision>2</cp:revision>
  <dc:subject/>
  <dc:title>Témaválasztás konzultálása 1.kör</dc:title>
</cp:coreProperties>
</file>