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908-B679-4A2D-9203-0023F794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6AD-FF73-4BCF-A8FD-DA562E8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DF8-1961-47EA-B0EA-B5BDB298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C9A-C505-4D4F-AC69-1D488218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9EA-683D-4DA4-9504-94CF6CE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31F-28D4-44E0-95C2-9CE7E0BF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D27C-5CD7-4B34-B5C7-DA3E7DE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0950-63AD-467C-84A1-8AE2BD9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E108-7C7D-4DFC-9351-76BE934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032-6CBB-4FC8-A59B-5C6812C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FD2-E945-44BD-8DFA-6008DBA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8C0-600B-411D-B077-E791AA71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AFAD-8073-4270-95F1-ECAFBF2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6B55-1BE1-4C15-B0A3-858E2F0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162B-7388-482C-8D37-749BB3C4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C34-0FF9-4C3F-9588-D2F53888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3C18-0CDE-452F-BB4C-A792D928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C3C-3A6A-403F-984C-30848BCE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30C-C451-4476-9B90-0360CD51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166-DD26-489F-A41C-07B21800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E6C-A9C8-4996-BC6C-7B782985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792-9B09-4BF3-BADD-F855DB6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201-9FB4-4BE3-AD81-8DC844F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D59-E0C7-44CF-89BA-8F3E427C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C50E-D50F-4634-9B62-9BE729E28E6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760B-50EA-4CE3-92C2-E2DBE6348BEF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88600" y="2876400"/>
            <a:ext cx="61722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MILYEN JOGOKKAL KINEK?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700" spc="-1" strike="noStrike">
                <a:solidFill>
                  <a:srgbClr val="33cccc"/>
                </a:solidFill>
                <a:latin typeface="Arial"/>
              </a:rPr>
              <a:t>27. Pdf-konverzió</a:t>
            </a:r>
            <a:endParaRPr b="0" lang="en-US" sz="6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az a PD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100" spc="-1" strike="noStrike">
                <a:solidFill>
                  <a:srgbClr val="ffffff"/>
                </a:solidFill>
                <a:latin typeface="Verdana"/>
              </a:rPr>
              <a:t>Portable Document Format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hu-HU" sz="2100" spc="-1" strike="noStrike">
                <a:solidFill>
                  <a:srgbClr val="ffffff"/>
                </a:solidFill>
                <a:latin typeface="Verdana"/>
              </a:rPr>
              <a:t>PDF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) az Adobe Systems által kifejlesztett bináris fájlformátum. Ebben a formátumban dokumentumok tárolhatók, amelyek különböző szoftverekkel, hardverekkel és operációs rendszerekkel olvashatók és létrehozhatók. A PDF alkalmas szöveget, ábrát és képeket tartalmazó dokumentum leírására eszközfüggetlen és felbontásfüggetlen formában. A dokumentum lehet egyoldalas, és többezer oldalas is, egyszerű vagy összetett: sokféle betűtípussal, ábrával, színnel és képpel, továbbá tartalmazhat interaktív beviteli mezőket, nyomógombokat stb., lehetőséget teremtve arra, hogy üres űrlapokat hozzunk létre, amit a felhasználók később elektronikus formában is ki tudnak tölteni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iért kell TDK-t PDF-b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DF formátummal a bevitt szakdolgozat vagy egyéb írásos anyag könyvszerű formában tárolható, olvasható, de nem módosítható és látványosabb formájú. Segítségével dokumentumunkat kulturáltabb formában tárhatjuk a világ elé, és egyben megakadályozzuk, hogy illetéktelenek módosíthassák azt. Jelszóval való védelmére is lehetőségünk van, így megtekintetni is csak az illetékesek tudjá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i a jogokat illeti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Szakdolgozatba való betekintésbe legfőbb joga van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szerzőnek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és annak, akinek a szerző szánj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Ha érdekünkben áll, hogy más ne férjen hozzá a jelszóval való titkosítást célszerű használni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Mellékesen jegyezném meg, hogy a jelszóval való védelem egy módja a szellemi termék írásos részének bevédésére is. Ez áruba is bocsájtható. Ilyen esetben az állomány ingyenesen letölthető és csupán a kulcsért kell fizetni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A szerző felhatalmazhat külső embereket is a dokumentum megtekintésére, ilyen lehet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korrektor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kritiku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egy segítő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egy érdeklődő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jelenési for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ermészetesen lehetőségünk van a munka kinyomtatására is, így könyvként kezelhetjük azt. Ez az offline for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nline formában szükség van egy számítógépre és egy pdf-et kezelő alkalmazása, amilyen pl. az Acrobat Read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ptimális esetben a szerző online és offline formában is elérhetővé teszi anyagá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17:29Z</dcterms:created>
  <dc:creator>PGab</dc:creator>
  <dc:description/>
  <dc:language>en-US</dc:language>
  <cp:lastModifiedBy>LaCae</cp:lastModifiedBy>
  <dcterms:modified xsi:type="dcterms:W3CDTF">2008-05-04T21:41:59Z</dcterms:modified>
  <cp:revision>14</cp:revision>
  <dc:subject/>
  <dc:title>27. Pdf-konverzió</dc:title>
</cp:coreProperties>
</file>