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E77-2277-40BF-A85E-20675258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212-AD94-4DDB-8403-A3571162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1C5-291A-4DA5-8EF6-FDF68773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069-4D12-4494-BCD1-C8462898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1996-BA06-4629-A97E-5ADFF1E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85B-C4AD-442C-A968-74F84675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42E3-5165-424E-A029-DE27AD5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6456-C782-45AC-A3AB-140E01B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500-E23F-42C0-9206-96CDDC3D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B0E3-6FA2-46E4-9A8C-B1E3327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19A-0728-41A6-B404-DC9E48C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C69-9E0F-4F7D-83FE-019F666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BF14-7A74-4E69-BF3D-8283225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37A-59CF-41C8-9E80-33E2EA7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98FB-1AED-4FF4-9D1D-C0E670F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14E-43E8-47CE-8A68-B7371628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1294-01A3-4EBC-8FB7-D4D9FE4B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192-7497-46B3-A344-2395D73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893-BBF0-48AC-9651-B4C8A1D6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933-FF03-43DC-8DD5-DD903EE0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902-C57D-44CA-9308-0923226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DDD-D9EE-4CAE-A15E-A38F727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D28-9FAB-43F9-B155-128CAE0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806-6D9F-4650-9BE4-BA67A81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CC4-F6CE-429C-A433-17005509C19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464-3447-4082-ABB5-58DFAB31E44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Kommunikációs szakértő, aki azért felel, hogy a potenciális érintettek képben legyenek a folyamat előt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 is legyen a cél valójában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lismerhető legy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dolgozat célcsoport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várt hasznossá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ternatív azonosságok miként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zakirodalom kritikai feldolgoz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lvállalt feladat miben lé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talmaznia kell a dolgozatnak önálló munk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olgozatnak rá kell vezetnie az alábbi értékelési pontkor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 vagy mik a dolgozat központi kérdése vagy kérdései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i vagy kik a dolgozat célcsoportjai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nyiben tekinthető vagy tekinthetők a központi kérdés vagy kérdésekre adott hallgatói válasz vagy válaszok a hallgató saját alkotásának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lyen hasznosság várható el a kijelölt célcsoport esetében a dolgozat által preferált és egyéb, alternatív (szakirodalmi) megoldásai alapjá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arketing (a lehetőség közzététel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ehhez szükséges anyagi háttér jogi szabályozásának kezelé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orrások  előteremté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orrásokkal való elszámolá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ráshiány esetén mi a teendő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Verdana"/>
              </a:rPr>
              <a:t>Az ügyfelek tájékoztatása az alábbiakró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milyen díjat, eredményt, esetleg büntetést(a jogi normák be nem tartása esetén) lehet elérni ve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Konkrét feladatai: a kérdező személyek kérdéseire választ adni, információt nyújtani, időpontot adni a kérdező személyek részére az ő kérdéseik feltevése érdekébe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Lényeg, hogy a kérdező személyek értelmes, konkrét, megfogalmazott kérdéseket tegyenek fel a kommunikációs szakértőknek. Kérdésekben bármennyi kérdést fel tehetnek csak egy határ van az az időhatár mit a kommunikációs szakértő ad meg, hogy hány perc jut egy személy kérdései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Létre hoztak a kommunikációs szakértők egy olyan oldalt, melyen gyakori kérdésekre ott találhatják a hallgatók a választ, illetve egyéb hasznos információval is értesülhetnek (pl.: mennyibe kerül egy vizsga vagy esetleg a kommunikációs szakértő elérési lehetősége, fogadási ideje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ányan dolgozhatnak egy munká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általában milyen követelményeknek kell a dolgozatot megfeleltetni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határidő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forma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stilisztika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melléklete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célcsoport helyes megválasztás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hasznossá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kommunikációs kész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idegen nyelven i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nyomonkövethető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lyen eséllyel indulhatnak a fogyatékosok, milyen lehetőségek léteznek számukr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i  jogosult alapesetben díjmentesen megírni a dolgozato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ki nem jogosult alapesetben díjmentességre annak mennyit kell fizetnie ér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enti két csoport milyen különeljárási díjakra számítha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ponta 2 kommunikációs szakértő áll rendelkezésre. Az első kommunikációs szakértő reggel 8:00 – 12-ig dolgozik, míg a másik reggel 10:30 – 14:30-ig dolgozik. Ebben az időben lehet őket megkeresni és két heti rendszerességgel ( tehát ha valaki fel tesz egy kérdést,mire választ / segítséget vár akkor annak csak két hét múlva van lehetősége visszajönni,szóval jobb ha egy alkalommal több kérdést tesz fel a kérdező fél. 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öbb csatornán keresztül érkezhetnek a kérdése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Érkezhet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1. telefonon kersztü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2. elektronikus levél útj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3. postai levél útj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4. szóban is megtörténh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5. Interneten keresztüli beszélgetés útján (skyp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Olyan kérdésekre nem kell válaszolni, mik alapvető kérdések és ezekre a válasz vagy hirdető plakátra/táblára vagy interneten, vagy televíziós reklámban vagy újság reklámban, szórólapokon fel van tüntet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Általában a kommunikációs szakértők azonnal képesek válaszolni a kérdésekre, de ha esetleg még sem lennének képesek azonnal válaszolni, akkor egy kis türelemmel, vagy 1-2 napos határidővel elküldik a feltett kérdésre a választ vagy eletronikus levélen keresztül vagy visszahívják az illetőt vagy behívják egy megbeszélésre, vagy interneten keresztül válaszolna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Olyan kérdés és válasz publikus mely nem sérti a kérdező személyiségét, melyből nem lehet kikövetkeztetni a kérdező személyét, mely nem sérti a személyes dolgokat. Illetve azok a válaszok és kérdések publikusak melyek elég közérdekű kérdés lehet,és nagy valószínűséggel sokan megkérdeznék, vagy már többen meg is kérdezté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rivát levelezési tartalomnak azok a kérdések és válaszok számítanak melyeket a kérdező személy külön megkér,hogy ne hozzanak nyilvánosságra, illetve azok a kérdések melyekkel tudják a kommunikációs szakértők,hogy a kérdező személy  személyiségét lelepleznék illetve azzal vissza élhetnének más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Úgy kell megoldani, hogy csak az az illető kapja meg a kérdésre a választ ki a kérdést feltette. Ez megoldható úgy is, hogy azt a személyt behívja a kommunikációs szakértő vagy, neki küldi el emailben a választ illetve telefonon válaszol nek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ele kerül a hallgató neve mellé a születési dátuma, azonósító kódja, személyigazolvány kódja, iskolájának neve és adatai, a hallgató elérhetősége (telefonszám, email cím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kommunikációs szakértőnek teljes joga van bele tekinteni a hallgatók  aktáiba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ommunikáció szakértőnek az alábbi pont szerint értelmezhető a meghallgatás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ügyfelek panaszai és egyéb problémáinak a meghallgatása és minél előbb ezekre megoldás megtalál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ogadóórák vannak,nem csak on-line kommunikáció van. Fogadóórák 1 alkalommal ingyenesek viszont a második alkalommal már költséggel jár, így megéri kommunikációs szakértőt bevállalni egy rendszernek. Két kommunikációs szakértő általában elég egy rendszerne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unikációs szakértő jelen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000" y="162828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 dolgozatnak az alábbiakat kell tartalmazn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ímla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szerzőt + címet kell tartalmazni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artalomjegyzé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ejezetcímek az oldalszámokk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evezeté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felvázolni a téma jelentőségé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Kivona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evezetés összefoglaló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rodalmi áttekintés, elméleti felvezetés, helyzetfelméré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ismertetjük a témában korábban született megállapítások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yag és módszer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kell bemutatni, hogy milyen anyagokból dolgoztunk a vizsgálat folyam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redménye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leírni, hogy mire jutottun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Következtetések és javaslato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 kell írni, hogy mit tanácsolsz, illetve az eredményről levonható következtetés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Összefoglalás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őző részek tartalmának összefoglal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Mellékletek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 sorolhatóak azok az anyagok miket meg szeretne a dolgozat felmondója bemutatni, de nem célszerű azokat dolgozat közben bemutatni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iplomadolgozatnak meg kell felelni a szak és a szakirány tudományterülete sajátosságainak, továbbá tartalmaznia kell a feldolgozott szakirodalom, valamint az alkalmazott vizsgálati módszer leírását, és a saját vizsgálatok eredményei alapján a téma érdemi feldolgozás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iplomamunka tükrözze a hallgató önálló állásfoglalását a vizsgált témakörb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ormai követelmények tekintetében az alábbiakra kell oda figyelni szakmai dolgozatná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akmai dolgozat általános tipográfiai jellemzőit (lapméret, szedéstükör, betűtípus és –betűméret stb.) a legtöbb esetben a befogadó intézmény, szervezet, szerkesztőség adja me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ntos a megfelelő tagoltság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ejezetcímek kapcsán az elfogadott/elvárt gyakorlat a többszintű decimális számozás alkalmazása (1. Fejezet; 1.1 Alfejezet stb.), így a szövegen belül az egyes fejezetekre könnyedén tudunk ezekkel hivatkoz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akmai dolgozat egyik kulcseleme a hivatkozás. Hivatkozások által érintett elemek a következők: felhasznált szakirodalom, ábrák, táblázatok és egyenlet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zerepelnie kell ábráknak és táblázatokna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zeknél a következőket kell tenni: fel kell tüntetni az ábra vagy táblázat sorszámát, címét és forrás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ntos dolo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den felhasznált nem saját forrást irodalomként kell kezelni, és szerepeltetni kell az irodalomjegyzékben és erre a publikáció szövegében kell hivatkoz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olyószövegben történő hivatkozásnak az alapja, hogy szerző (általában a vezetéknév) és évszám szerint kell hivatkozni. Főbb esetei a következő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apeset, egy szerző által jegyzett mű: (Vezetéknév, Évszá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 egy szerzőnek több művére is hivatkozunk, melyek azonos évben születtek, az egyes műveket a, b, c… jelöléssel különítjük el: (Vezetéknév, Évszám/a), (Vezetéknév, Évszám/b) st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ét szerző esetén: (Vezetéknév_1 – Vezetéknév_2, Évszá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öbb szerző esetében: (Vezetéknév_1 et.al., Évszám) Az „et.al.” rövidítés az „és mások”, „és társai” kifejezésnek felel meg. Az irodalomjegyzékben ugyanakkor az összes szerzőt fel kell tüntet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zerkesztővel rendelkező mű esetén: (Vezetéknév szerk., Évszám), illetve ha idegen nyelvű a mű: (Vezetéknév ed., Évszám), ahol az „ed.” az „editor” rövidíté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irodalomjegyzék-elemek kapcsán a következő információk adhatók me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szerző(k) vagy szerkesztő neve, általában a vezetéknév és a keresztnév első betű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rrás cí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kiadás helye (város) és é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kiadó vagy a közreadó szervez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öbb kötetes mű, illetve folyóirat esetén a kötet száma, illetve az évfolyam és a lapszá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rrás terjedelme (xxx p. – pagina – vagy xxx o. –oldal – formába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 a teljes mű egy részére hivatkozunk (pl. egy tanulmánykötet vagy folyóirat esetén), a teljes mű címét (In: a_mű_címe) és konkrét hivatkozott rész helyét (xxx-yyy. p.) is adjuk me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-line források esetén fontos a teljes(!) elérési út és a letöltés dátumának megad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rások könnyebb beazonosíthatóságát szolgálhatja az, ha az irodalomjegyzékben sorszámozzuk a forrásokat és a folyó szövegben egy nem szó szerinti hosszabb gondolatsor végén az adott forrás sorszámát is leírjuk pl. szögletes zárójelbe zárva: [14]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ormai követelmények tekintetében az alábbiakra kell oda figyelni diploma dolgozatná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plomadolgozatnak mind tartalmi, mind helyesírási, alaki és stilisztikai szempontból kifogástalannak, betűelütés mentesnek kell lennie, amelyet A/4-es papíron, szövegszerkesztővel írva (13-14-es betűméret, baloldalon (kötésoldalon) 3 cm-es, a többi szélein 2,5 cm-es margó, normál sortávolság, sorkizárás) két példányban fekete műbőrben bekötve kell elkészíteni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ő fejezeteknek új oldalon kell kezdődniü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ímek, alcímek betűiről (nagy és kis betűk, betűméret), esetleges aláhúzásából vagy vastagításából és a sorban való elhelyezéséből (középre, oldalt) tűnjön ki azok fontossága, és azok az egész dolgozatban következetesek, decimális számozásúak legyen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övegben lévő címek előtt és után – azok fontosságától függően, a jobb áttekinthetőség végett – üres sort kell kihagyni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terjedelme – szóközök nélkül – 70-140 ezer, a szakdolgozat terjedelme – szóközök nélkül – 50-100 ezer karakter lehet, amelybe a szövegközi táblázatok és ábrák is beletartozna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végén mellékletben alaptáblázatok és egyéb, a dolgozat eredményeinek megértéséhez tartozó adatok, információk közölhetőe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kötelező függelékei az esetleges mellékletek után következnek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2:36:18Z</dcterms:created>
  <dc:creator>Bogyay Gábor</dc:creator>
  <dc:description/>
  <dc:language>en-US</dc:language>
  <cp:lastModifiedBy>LaCae</cp:lastModifiedBy>
  <dcterms:modified xsi:type="dcterms:W3CDTF">2008-05-04T21:24:59Z</dcterms:modified>
  <cp:revision>14</cp:revision>
  <dc:subject/>
  <dc:title>Kommunikációs szakértő, aki azért felel, hogy a potenciális érintettek képben legyenek a folyamat előtt, és folyamat alatt</dc:title>
</cp:coreProperties>
</file>