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779-7965-4671-A121-08640D99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303-A816-49F5-AF48-6455BD26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08C-AD24-4F2F-A8DD-12568F80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F24-2854-4BC4-B670-64CA6B5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4BE7-4540-4A5E-8A8B-D0466B76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9CA-6837-4165-A371-4A5CBA69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50DD-0966-426B-BE95-7999D697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C8D-AB91-4E68-AF2B-319152A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2F0F-AA20-455E-B1F8-F39131DD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B69-8544-462C-829E-B31A69A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092-2B97-4B29-B35B-A3738E7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E0A-09D7-4B40-B129-4A3CEC9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760-B292-485C-B9CF-83E414F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9B3-7A31-47CE-BA54-E865BAB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755C-70F4-42ED-BB03-62584282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4C40-EE6B-4891-9531-9F9BA588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9D2-8497-4BD9-A037-7CE7FAB5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F5C-9F75-44C0-9180-F3BB5D4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9F4-FC56-438D-86EA-E1DD8695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9F6-30AC-42A8-9CD2-F1F9EE9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25C-CD71-420D-9212-81107D27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18B-F8AF-4515-81C4-9D16E72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B01-53C1-4B4D-90C2-C0EA3C3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3AD-2E77-4A3B-B565-1AC028F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F61-8CD2-4F27-B122-DB90C10EFBB7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460-4521-4129-B584-5A701352B93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gen-szavak.hu/" TargetMode="External"/><Relationship Id="rId2" Type="http://schemas.openxmlformats.org/officeDocument/2006/relationships/hyperlink" Target="http://tmt.omikk.bme.hu/show_news.html?id=4282&amp;issue_id=468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Citációk követése</a:t>
            </a:r>
            <a:br>
              <a:rPr sz="5400"/>
            </a:b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 Citációs kartellek figy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Fogalmak tiszt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idézés/idézettsé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Több vállalat kísérlete arra, hogy együtt uralkodó pozícióba jussanak. Kartellnek nevezünk minden versenytársak közötti megállapodást, ha az a gazdasági versenyt korlátoz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Összefoglalva a </a:t>
            </a: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s 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néhány szerző összefogását jelenti, akik rendszeresen egymást hivatkozzák meg műveikb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z idézettség követése rendkívül fontos a kutatók számára, a tudományos minősítési rendszer követelménye miatt. A kiemelt pályázatok és a tudományos minősítések elbírálásánál döntõ tudományos teljesítményt a kutatók idézettségével méri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120" y="61128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Egy publikáció jelentőségét azzal is becsülhetjük, ha megszámoljuk a forrásmunkaként rá hivatkozó más publikációkat. Hasonlóképpen, egy kutató munkájának jelentőségét kifejezheti az, hogy műveire összesen hány mások által írott hivatkozást (citációt) kap. Az önhivatkozásoknak (vagyis mikor a szerző egyik művében saját másik művére utal) e szempontból általában nem tulajdonítanak jelentőséget. Több helyen csak a független idézetek számát elemzik, ez esetben a citált mű szerzői és a citáló mű szerzői között egyetlen azonos személy sinc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hivatkozások száma természetesen csak a formálisan is publikált hivatkozó művek esetében értelmezhető. A nem publikált művekben, pl. kéziratokban, szakdolgozatokban fellelt hivatkozások száma e szempontból lényegtel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világ rangosabb nemzetközi szakfolyóiratainak hivatkozási listáit feldolgozza pl. az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ISI Web of Scienc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, vagy a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Scopus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adatbank. Ezeket használva a különböző kutatók idézettsége az adott indexelő szolgáltatás körén belül vizsgálhat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533160" y="46044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Valószínűleg nem közismert, hogy éppen Magyarországon vezették be legelőször az idézettség figyelését és ezt a hatástényezőt a tudományos teljesítmények mérésére, olyannyira, hogy egyes tudományágakban és kutatóintézetekben meghatározóvá vált az idézettségi mutató és az impakt faktor növelése utáni hajs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685800"/>
            <a:ext cx="762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ffffff"/>
                </a:solidFill>
                <a:latin typeface="Comic Sans MS"/>
              </a:rPr>
              <a:t>Citációk követése</a:t>
            </a:r>
            <a:br>
              <a:rPr sz="3300"/>
            </a:b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</a:t>
            </a: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idegen-szavak.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tmt.omikk.bme.hu/show_news.html?id=4282&amp;issue_id=46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hu.wikipedia.or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41:52Z</dcterms:created>
  <dc:creator>Windows XP Pro SP2a</dc:creator>
  <dc:description/>
  <dc:language>en-US</dc:language>
  <cp:lastModifiedBy>LaCae</cp:lastModifiedBy>
  <dcterms:modified xsi:type="dcterms:W3CDTF">2008-05-04T21:46:58Z</dcterms:modified>
  <cp:revision>11</cp:revision>
  <dc:subject/>
  <dc:title>Citációk követése</dc:title>
</cp:coreProperties>
</file>