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530-809B-40D0-A3C0-2DC5AFDB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CC1-3339-4CE4-9E6A-F2003713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567-21AA-4A6F-8CE1-6799C9BE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A9C-1B67-447F-9CE2-01BA9870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143-C121-4CFF-AF7A-895DF7F7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B174-4DFA-4493-A85B-4FC9041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A6CB-6A00-447A-BC59-D21C316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BFB5-4F68-4287-A9AC-DDF20E0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6650-085C-41C7-828A-FBFB6A5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D7F-8059-4684-BC5D-8B3D2ADA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F0A-457A-4E75-B24C-DA19A12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9E6-9BE0-4A7E-B2FB-EA6B541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E13-2F71-42C8-9F05-158C0E9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A4A-C545-4808-851B-43300135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8255-2CFF-4A38-A724-7C609BD3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DCB4-32C1-4DFF-A17B-07E7B463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BAB-AEBE-4CC6-BD6A-B2041BD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AC3-A1A3-4CB5-A719-A714E16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629-8AD7-480D-BE3D-AF02DE99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5D7-AAE1-4BB6-A41E-CB5B680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739-5D78-482D-824C-BF26DB9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B5E-BE5B-4A13-A4EF-79A296D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F77-3B91-4DDF-948C-6723C69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53F-BEFC-4806-8616-3830E457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1FD-619D-4EA1-87ED-B5CC026C4D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AF6-56BA-4AE6-8DF2-F07C0B10B4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ala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gyfelek tájékoztatása a következők alapján: az 1. munkakörben az ügyfelek tájékoztatása pont részletes kifejté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t kell gondolni, hogy megkapják-e az ügyfelek a kész követelményrendsz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gy csak a linkeket, hogy mit hol találnak me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valamelyik értékelési szintről visszadobják a dolgozatot akk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ötelező legyen-e a 2.-munkakör igénybevéte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gy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ll. bizonyos esetekben kötelező(durva hibáknál), más esetekben pedig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a bekövetkezése esetén a potenciális személy értesítése levélben, e-mail-ben, telefonon vagy esetleg szób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ának minősíthetjük: ha a hallgató azonosító kódja vagy személyigazolvány száma, személyes adatai el vannak gépelve, vagy rossz időpont lett megadva nekik a megbeszélésé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thiánynak minősül: ha a hallgató azonosító kódja vagy személyigazolvány száma, személyes adatai el vannak gépel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11:21Z</dcterms:created>
  <dc:creator>LaCae</dc:creator>
  <dc:description/>
  <dc:language>en-US</dc:language>
  <cp:lastModifiedBy>LaCae</cp:lastModifiedBy>
  <dcterms:modified xsi:type="dcterms:W3CDTF">2008-05-04T21:25:25Z</dcterms:modified>
  <cp:revision>3</cp:revision>
  <dc:subject/>
  <dc:title>Kommunikációs szakértő, aki azért felel, hogy a potenciális érintettek képben legyenek a folyamat alatt</dc:title>
</cp:coreProperties>
</file>