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6FC-4546-4E00-95FF-CD3D0575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965-1565-4BDA-85C8-F6B30375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96A-98DA-4F23-A7E6-C625F22D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7F9-726C-4D45-B5E3-C87549F1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1B84-1409-4927-BF25-AC921187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E97A-FE28-4BCB-98BB-5B02883F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6E09-3423-4DC6-8734-35F7B6A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640-1B6F-4840-BA7A-D0805424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AB0-B08B-4F48-971F-D130660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8399-1C57-4051-93B4-E050A6F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F524-AE39-42A0-82C7-BAC5DDC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43A-1CD9-42C8-8CE2-359BFE24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E49-43DB-4ADF-BDA1-28540FB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3EB2-93A7-47DE-9F60-6D4E543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5C58-91D4-4910-99FA-C071372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F802-1A9F-46B5-9F2F-49AA2C11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9C8-45D3-4AD7-9C09-E537F7BB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232-A4F9-4AE6-AC88-2C3F720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C42-B3CA-424B-9409-53A5093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A86-DBA6-4813-83D2-7DB2303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F3D-5FDB-4667-88E1-EED725B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D2E-E568-4015-9FD0-F25AC1D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EE6-17D1-4823-9DA7-524894A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E23-E214-4B2D-A5B6-93FADBF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9A72-A97E-4985-BC62-EEA54677F0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32D-3EB7-4E90-A7D7-62DE7687F5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u.wikipedia.org/wiki/Stilisztika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K&#252;ls&#337; bor&#237;t&#243;lap.doc" TargetMode="External"/><Relationship Id="rId2" Type="http://schemas.openxmlformats.org/officeDocument/2006/relationships/hyperlink" Target="form&#225;tum.doc" TargetMode="External"/><Relationship Id="rId3" Type="http://schemas.openxmlformats.org/officeDocument/2006/relationships/hyperlink" Target="C&#237;m.doc" TargetMode="External"/><Relationship Id="rId4" Type="http://schemas.openxmlformats.org/officeDocument/2006/relationships/hyperlink" Target="1.doc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225;bra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ormai értékelés(doc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TDK dolgozat elején, a belső borítólap után következik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omjegyzékben felsorolt fő- és alfejezetcímek szó szerint egyezzenek meg a szövegben találhatókkal, s a beosztásból tűnjön ki a címek alatti részek fontosság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hez be kell írni az oldalszámot. A tartalomjegyzés- az oldalszámok megadása mellett- az alábbiakat foglalja mag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ő 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Összefoglaló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irodalomjegyzéket a szerzők nevének kezdőbetűi alapján alfabetikus sorrendben kell összeállíta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 csak olyan munka vehető fel, amelyre a szövegben hivatkozás történik és azok mindegyikének szerepelniük kell itt. (irodalmi hivatkozás formai követelménye a 4. sz. mellékletben megtalálható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9. A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hivatkozott irodalmak jegyzékét a hivatalosan elfogadott módszer szerint kell összeállítan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szerző(k) neve (a keresztnév első betűjéve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vány cím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ás helye és év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ó vagy közreadó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öbb kötetes mű esetén a kötet szám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erjedelem (p.) (pagina) vagy (o.) (olda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vatkozás esetén az oldalszám (konkrét oldal, vagy -tól-ig oldalak) ismegadhat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0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) könyvek esetébe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uszky P.(1999): Magyarország telepulésföldrajza. Budapest-Pécs, Dialóg Campus Kiadó, 567 p., 148-216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b) könyvrészletek esetében pl.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urján A. (1984): A mezőgazdasági vállalatok irányítása. In: Dobos K. Tóth M. (szerk.): A A mezőgazdasági vállalati gazdálkodás alapjai és szervezése. Budapest, Mezőgazdasági Kiadó, 370 p., 241-328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c) kiadványok (konferencia kiadvány, gyűjteményes kötet, tanulmánykötet, intézeti kiadvány, esetében, pl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app J. – Komáromi N. (1998): Hatásos promóciós eszközök fiatalok körében. In: Mezőgazdaság és Vidékfejlesztés. VI. Nemzetközi Agrárökonómiai Tudományos Napok. Gödöllői Agrártudományi Egyetem Mezőgazdasági Főiskolai Kar Gyöngyös, 3. kötet 223-228.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1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d) folyóirat eseté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évenkénti (ilyenkor a kettőspont előtti szám az évfolyamot, az utána lé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bóné Medgyes É. (1988): A vállalati gazdálkodás néhány problémája a mezőgazdaságban. Statisztikai Szemle. 64:1065-1076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számonkénti (ilyenkor a kettőspont előtti töt szám számlálója az évfolyamot, nevezője az évfolyamon belüli számot, az utána le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űcs I. et al. (2001): A kedvezőtlen adottságú területek EU-konform behatárolása. Gazdálkodás. XLV. Évf. 3. sz. 67-76. p. (vagy  XLV/3:67-76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) A külföldi folyóiratokból, könyvekből az eredeti nyelven kell hivatkozni, a magyar nyelvű hivatkozással megegyező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2. Mellékl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rodalomjegyzék után, római számokkal jelölt oldalszámozással ellátva kell elhelye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ellékletben táblázatok, ábrák, egyéb olyan dokumentumok szerepeltethetők, amelyek a dolgozat mondanivalójának illusztrálására szolgálnak, de nem képezik a dolgozat érdemi részé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3. Helyes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elyesírást illetően az MTA által kiadott, legújabb „A magyar helyesírás szabályai” című kiadvány az irányad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 dolgozat a szabályzatban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írás ellenőrző lefuttat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ssz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dolgozat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ncs pontos forrás megjelölése az irodalomjegyzék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vatkozási problém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2879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aki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írá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isztikai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276640"/>
            <a:ext cx="792360" cy="2016000"/>
          </a:xfrm>
          <a:custGeom>
            <a:avLst/>
            <a:gdLst>
              <a:gd name="textAreaLeft" fmla="*/ 0 w 792360"/>
              <a:gd name="textAreaRight" fmla="*/ 286200 w 792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3068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empontból meg kell, hogy feleljen a szabályzatban előírtak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rodalmi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enet Iván [1994]: A földkérdés és az agrárstruktúra átalakítása Magyarországon. In: A magy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ezőgazdaság helye Európában 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AT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Keszthe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owarth, W. R. [1990]: Farming for farmers? (2nd ed.)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Institute of Economic Affair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Lond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ajdú Zoltán [2001]: Magyarország közigazgatási földrajza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Dialóg Campus Kiadó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éc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vács Árpád [2002]: Az Állami Számvevőszék megújult stratégiájáró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énzügyi 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udapest, 2-5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ajtor Erzsébet [2001]: Európai színvonalú kórház magyar gondokka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Egészségügyi Gazdaság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19-22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weezy, P. M. – Magdoff, H. [1992]: Globalisation – To What End? I-I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Monthly Review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ebruary, March, New York, 34-37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sztikai Évkönyv [1999]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Központi Statisztikai Hivata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8-11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. A dolgozat szerkezeti felépít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rítólapok kivitele és felirata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átum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ajánlott tagolása pl. agrár és természettudományi témák esetében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Szakirodalmi áttekintés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. Forma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ot A/4-es méretű fehér lapra, 1,5 sortávolsággal, bal oldalán 3 cm-es, jobb oldalán 2 cm-es, fent és lent 3-3 cm-es margóval kell elkészíte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egadott betűtípus: Times New Roman 12-es betűmér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táblázatok és ábrák maximum A/4-es méretű, vagy annak egész számú többszörösét kitevő nagyságúak lehetn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iplomamunka tartalmi és esztétikai értékeit növelik a jól áttekinthető táblázatok, ábrák, grafikonok, diagrammok és fénykép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 terjedelme lehetőség szerint 35-50 terjedelmű legy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3.Vizsgálati 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sgálatok, elemzések eredményeit tartalmazza ez a rés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ját eredmények ismerte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redményeket célszerű táblázatokban is összefoglalni, ábrákkal szemléltetni és megbízhatóságukat a tudományterület sajátosságait figyelembe véve statisztikai módszerekkel igazoln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4.Értékelések, következtetések, javaslat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ben a fejezetben kell ismertetni az eredményekből levont legfontosabb következtetéseket. Itt kell megtenni az összevetést más szerzők eredményeivel (itt ismét lehet hivatkozni). A téma jellegétől függően javaslatot kell tenni azok gyakorlati alkalmazására, illetve továbbfejlesztésére. (maximum 15 old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5. Jegyzet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rülhetnek folyamatos sorszámozással a lábjegyzetbe vagy a befejező rész után. A szövegben a jegyzetekre felső állásba tett számokkal kell hivatko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6. Táblázatok, ábrák, grafikon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 készíté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brák készítés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fikon készítése: ábrázolása koordináta-rendszerben, pontosan szüksé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7. Hivatkozás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ban háromfajta hivatkozást lehet alkalmazn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ószerint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isztikai adatok, táblázatok, diagrammok hivatkozá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3:42Z</dcterms:created>
  <dc:creator>LaCae</dc:creator>
  <dc:description/>
  <dc:language>en-US</dc:language>
  <cp:lastModifiedBy>LaCae</cp:lastModifiedBy>
  <dcterms:modified xsi:type="dcterms:W3CDTF">2008-06-02T11:04:35Z</dcterms:modified>
  <cp:revision>7</cp:revision>
  <dc:subject/>
  <dc:title>Formai értékelés(doc)</dc:title>
</cp:coreProperties>
</file>