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082-7317-4BA3-B368-AAAA483B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DFE-A585-45E1-95F6-B225B9C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757-FC45-4715-A896-3E91F3A0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982-DE53-4D8C-841F-6B509069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084B-A737-47D6-AE4A-0442B630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1B19-CB2A-4D48-8130-DD7CB86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AAC-1C8A-4D88-BA97-E563164B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90D7-4D03-4108-AC6B-5D9BB79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53F-D4D5-4EFB-9CA5-7CD18CF7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5564-2EB4-4FF7-9640-1F95C7A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8FE9-C796-4230-9A57-05B74CD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D8D-B2F6-4706-A7E0-D87622E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240B-9299-447B-BF20-CE58299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1B9-6D6D-475E-A7BE-6160E35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D5B-6F56-4E17-A22B-9EB594C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A8A-456F-409A-8AE8-6E048415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A424-B625-4971-A95F-E3DBA7CD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D68-F228-4042-B174-C8460C1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C6F-4CDF-4DE5-A1B8-2CBDB66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468-3A52-491F-B5BE-6496992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237-9399-4435-A2BB-F8A74BD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87B-B561-4EAA-BA99-E67752A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E7D-8678-4730-AEBA-973D914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966-D1D8-45CD-ACFF-110BFE9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5D1-0175-439C-BEA6-8C085AD978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3FA-081E-4CF7-8887-299087426B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élcsoport helyes kezelé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élcsopor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élcsoport meghatározásánál azt a piaci szegmentumot kell meghatároznunk, akiket a termékkel megcélzunk. Ez lehet kor szerint foglalkozás szerint, lakóhely szerint, stb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z egyes célcsoportok véleményének megismerése megfelelő vizsgálati módszerek tervezését,kidolgozását alkalmazását igény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üze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üzenetnek pontosnak és jól érthetőnek kell lennie a külvilág felé és az előre meghatározott célt kell, hogy szolgá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élcsoport megér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yen célcsoportok van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k a használói igénye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k az eredmények használói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ért használják az eredményeke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t várnak től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ogyan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üzenet közlésének módja nagyban meghatározhatja a sikerét. Először a figyelmet kell felkelteni, aztán megteremtjük az érdeklődést, majd a termékünk/szolgáltatásunk iránti vágyat kell az érdeklődőben feléleszteni, s végül a vásárlásra késztet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59:22Z</dcterms:created>
  <dc:creator>Kiss Eszter</dc:creator>
  <dc:description/>
  <dc:language>en-US</dc:language>
  <cp:lastModifiedBy>LaCae</cp:lastModifiedBy>
  <dcterms:modified xsi:type="dcterms:W3CDTF">2008-05-04T21:32:00Z</dcterms:modified>
  <cp:revision>5</cp:revision>
  <dc:subject/>
  <dc:title>Célcsoportok helyes kezelése </dc:title>
</cp:coreProperties>
</file>