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6A93-69D7-4F70-981D-6FC3CD139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0DA0-5200-4869-AB88-5324F13FF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E185-F286-45E3-AF13-1D790E4FC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F6FF-289E-4660-8093-6CD283C92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B9621-5906-48E8-B420-AC8F845F4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83E28-8D1F-42B0-B29B-567E4E346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3E0FA-0056-4D64-A4B1-DC2197BDE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02D8B-55B7-4DE1-AD74-D1DA08685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FEBD2-E718-44DC-9A8C-B83EDE668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EA197-4FCC-46BE-925D-06145F0FA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A09EC-315D-4C03-B0D9-9446EC33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B709-13C7-4E19-B585-D5C4D7EB3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5BA74-56D2-4F1B-A1E7-4505C554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4FBFD-13F4-4EEA-A972-D60D6086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98726-E7A8-4053-A9C0-891957ECE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9F6F1-717D-4BA8-A3DF-698A0D91B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D6BA9-7425-474C-952C-336EC479C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6781-A919-4962-BF82-A12B87B55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EF15-36AC-4954-B4A9-C1FEA2DAF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98D2-BF4A-4D86-B409-9C432C398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8ED0-3553-4055-B4DC-DF2F75EC8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CCEB-1DC5-4C1F-9119-B908EC5C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ED5A-85C7-4370-B5BA-8AB0F1BD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053F-5704-40E3-954F-0AA18334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DBEBD-E063-4C3D-979A-89DE7F59BACB}" type="slidenum">
              <a:rPr b="0" lang="hu-H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DB15A-F51E-43C2-8757-E28321BE7A31}" type="slidenum">
              <a:rPr b="0" lang="hu-H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400" spc="-1" strike="noStrike">
                <a:solidFill>
                  <a:srgbClr val="ccecff"/>
                </a:solidFill>
                <a:latin typeface="Arial"/>
              </a:rPr>
              <a:t>Formai értékelés(ppt)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llenőrz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egfelel-e az előírtaknak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gen: Hibamentes                           megfelelt a szabályzatban leírtakna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m: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issza a feladóna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utomatikus javítás     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llentmondások kiküszöbölé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4500720" y="3357720"/>
            <a:ext cx="17287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27640" y="5516640"/>
            <a:ext cx="86364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ibakeres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hetséges hibafajták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m konziszte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m megfelelő a felépíté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artalmilag nem lényegre tör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yelvhelyességi hibá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iba esetén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Hibás dokumentumok esetén visszaküldjük a hallgatóhoz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Ki javitja ki a hibákat? 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hallgató által történik a javítá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automatizmu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A talált hibák kijavítása és hiányosságok pótlás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A hibázó kijavítja a hibát, visszaküldi és Értékelésre kerü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vábbküld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 az értékelés nem talált hibát, akkor az eredményeket továbbküld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ellemzése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dolgozat rövid, tömör, lényegre törő vázlat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dolgozat előadásának megkönnyítésére szolgá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1. Dolgozat szerkezet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812880" indent="-812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A ppt-nek konzisztensnek kell lenn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5238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523880" indent="-609480">
              <a:spcBef>
                <a:spcPts val="601"/>
              </a:spcBef>
              <a:buClr>
                <a:srgbClr val="ffffff"/>
              </a:buClr>
              <a:buSzPct val="60000"/>
              <a:buFont typeface="Verdana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Betütípus, betüméret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5238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523880" indent="-609480">
              <a:spcBef>
                <a:spcPts val="601"/>
              </a:spcBef>
              <a:buClr>
                <a:srgbClr val="ffffff"/>
              </a:buClr>
              <a:buSzPct val="60000"/>
              <a:buFont typeface="Verdana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Bekezdések igazítás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5238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5238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2. Tartalmi felépít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A ppt lényegre törő, tömör legy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Áttekinthet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Ne legyen sűrítv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3. Felépít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Cí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egyen rövid, érthető és a tartalmat jól kifejező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Bevezeté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glalkozik a téma elméleti és gyakorlati jelentőségével (maximum 2 oldal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Témafelvetés és célkitűzé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dokolja a saját vizsgálatokat és célkitűzéseket (1-2 oldal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4. Felépít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ffffff"/>
                </a:solidFill>
                <a:latin typeface="Verdana"/>
              </a:rPr>
              <a:t>Szakirodalmi áttekinté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A témával összefüggő irodalom feldolgozása szorosan kapcsolódjék a témához. Az irodalomban ismertetett eredményeket kritikailag elemezni, értékelni kell. Terjedelme a ppt 15-20%-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5. Felépít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Anyag és módsz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 vizsgálatokkal, monografikus elemzésekkel kapcsolatos anyagok és módszerek ismertetésénél a kísérletezés, vizsgálat körülményeit, elemzés módszereit kell leírni. A fejezet ne haladja meg az összes terjedelem 10-15%-á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Eredmények és azok értékelé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 fejezet a vizsgálatok és az elemzések eredményeit tartalmazza. Az eredményeket célszerű táblázatokban összefoglalni, ábrákkal szemléltetni és megbízhatóságukat a tudományterület sajátosságait figyelembe véve matematikai – statisztikai módszerekkel igazolni. Fontos, hogy a hallgató az eredményeit pontosan és áttekinthetően rögzítse, magyarázza és más vizsgálati eredményekkel is hasonlítsa össze. Itt ne szerepeljen más szerzőkre való hivatkozás. E fejezet az összes terjedelemnek 40-50%-át képezz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6. Felépít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ffffff"/>
                </a:solidFill>
                <a:latin typeface="Verdana"/>
              </a:rPr>
              <a:t>Következtetések és javaslato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Ismertetni kell az eredményekből levont legfontosabb következtetéseket, és javaslatot tenni azok gyakorlati alkalmazására, illetve továbbfejlesztésére. Ennek a fejezetnek a terjedelme max. 20%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ffffff"/>
                </a:solidFill>
                <a:latin typeface="Verdana"/>
              </a:rPr>
              <a:t>Összefoglalá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Az összefoglalás ne legyen hosszabb 2 oldalnál. Röviden ismertetni kell, hogy milyen körülmények között folytak a vizsgálatok és milyen kérdésekre terjedtek ki. Ismertetni kell a fontosabb eredményeket, megállapításokat és a levont következtetéseket. Törekedni kell a tömör és világos megfogalmazásra. Hivatkozások itt ne szerepeljenek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dolgozat tömör változata beérkezik               megkezdődik a vizsgálódá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3068640"/>
            <a:ext cx="7207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20:46:17Z</dcterms:created>
  <dc:creator>eXPerience</dc:creator>
  <dc:description/>
  <dc:language>en-US</dc:language>
  <cp:lastModifiedBy>LaCae</cp:lastModifiedBy>
  <dcterms:modified xsi:type="dcterms:W3CDTF">2008-05-04T21:27:43Z</dcterms:modified>
  <cp:revision>14</cp:revision>
  <dc:subject/>
  <dc:title>Formai értékelés(doc)</dc:title>
</cp:coreProperties>
</file>