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823-89BD-4C8B-BB79-BA308813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F51-22CA-4AF8-961D-361D591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6E7-709F-4DD0-B62E-5D3D92EC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756-1F94-4F62-A2EB-FD8EAF54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C1F4-3A73-4754-97D7-80810BD5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9AE4-67EB-4C8B-AEF9-07791E27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05A1-755A-40B9-9E97-E011C045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5676-C1DD-4AB0-90AF-92F06FBF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50CF-501A-4CD5-BABA-D2871F18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4F70-9DE1-4404-A835-B0136AE6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346D-BEEF-4D5A-92BE-BD6F23AB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BA6-632A-4488-A82E-2DB0F39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784D-5A9B-414A-B901-E7D08E7C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89C9-F517-4F48-91D7-E9CF11A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456F-8AB5-407E-9961-C3674CB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929A-E6D5-48DD-A59D-F09B596E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9C33-B1F6-4B31-8C5A-CBDD5204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A17-84BA-48EF-92FC-8B942C4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C0C-1185-4686-85BC-8A00FA32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710-230C-40C4-AB71-77C6B729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377-99DF-498F-8E5E-DBB422A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F0B-4CF7-41B1-89E1-40B8A86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F88-CDDD-4616-93F8-F55397D5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C0B-B246-408E-B8BF-5EC7A02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64E-DA7D-4A37-AB7B-9C1664DD3168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D5F5-FE74-4965-97D8-FEB0E442C72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datvagyon minőségének ellenőrz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atvagyon minőségének ellenőrzéséhe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merni kell az adatok származásának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őkészítésének és esetleges feldolgozá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yamatainak és feldolgozottságának kérdéseit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lyek az adatok értelmezéséhez ad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gítséget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 fogadása és ellenőrzés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átvétele az előző munkakörtő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 Szakirodalmi bizonyíték kontrol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metaadatbázisban hibát találnak, akkor kijavításra kerül ill. Visszaküldik a dolgozat készítőjének javítás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metaadatbázis hibátlan akkor továbbküldik a következő munkakörnek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Saját következtetések helyessége munkakörn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ecff"/>
                </a:solidFill>
                <a:latin typeface="Arial"/>
              </a:rPr>
              <a:t>A vizsgálat során fel kell tárni a lehetséges problémákat:</a:t>
            </a:r>
            <a:br>
              <a:rPr sz="3500"/>
            </a:b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konzisztencia vag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onosító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nem megfelelő használ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llentmondások) Hiba esetén az ellentmondás feltárására valamint javítására van szüksé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 dokumentált mezők haszn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jlődő adatok, rendszere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igyelembe kell venni, hogy milyen szoftver képes az adott dokumentumot kezelni pl. úgy kell menteni a dokumentumot, hogy egy régebbi típusú szoftverrel is kompatibilis legyen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004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iányos, inkorrekt, vagy duplikált érték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 az értékek hiányosan ,rosszul illetve duplán vannak feltüntet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Redundancia (ugyanaz az adat többször található meg kivéve, ha ugyanazt az adatot többször fel kell használn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Formátum eltérések (Nem a megadott formátumba készül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A forrás hibás megjelölése (Helyes megjelölés:készítő nevének, a felhasznált dok. címének valamint a megjelenés évének feltüntetése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Beviteli hibá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09360"/>
            <a:ext cx="82296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hibátlan illetve a javított dolgoz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óváhagyás után továbbküld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2:26:26Z</dcterms:created>
  <dc:creator>Kurucz Eszter</dc:creator>
  <dc:description/>
  <dc:language>en-US</dc:language>
  <cp:lastModifiedBy>LaCae</cp:lastModifiedBy>
  <dcterms:modified xsi:type="dcterms:W3CDTF">2008-06-02T11:45:46Z</dcterms:modified>
  <cp:revision>30</cp:revision>
  <dc:subject/>
  <dc:title>Szakirodalmi bizonyíték-kontroll </dc:title>
</cp:coreProperties>
</file>