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61F-5767-46C8-875E-E7B66F8F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457-7C34-448F-BF1E-41A9572C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D9C-166E-44AB-976F-0FC41269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2AA-C2B4-4054-8D87-685F81BF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CD1F-0EA3-42DF-A04A-A7554F26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ADAE-5E41-42D2-BA7A-5C25DF73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E285-1027-4B32-85FC-523BB5F3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CFF4-E7EA-42B3-8C1F-6AFF899B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CA47-8341-40E9-9DAC-C6B12473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CC11-4960-41AC-87B6-0EE6D799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EEDD-4070-46F5-868F-5E51145E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F5B-701B-4225-8EB1-48395610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0EDE-A77A-4BF1-AFF4-19DE615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C094-FD36-4138-B609-E961ECC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A673-59DB-439C-A6FF-9A406C3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D939-4A1B-4EC3-BAC5-75515838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DAE7-0B1C-498F-8BE3-6E7E3AEE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AE5-E5CC-4CDA-A0A1-1B286341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FA6-BF92-461B-8149-E159779A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A9C-53DD-493E-A2DE-CC8A6B9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1DA-B8AF-4AA9-BC38-59E23A32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D58-F259-494D-AA82-E450D6B7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235-A7E5-42B3-BC19-56C67039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E33-8CD9-494F-B22C-1B21B95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B6EF-47AD-40F9-9766-36C9D849A0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BBF7-82DD-4B0D-A307-603498D1E6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zakirodalmi%20formai%20ellen&#337;r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zakirodalmi formai ellenő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2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i jellegű utalás, hivatkozás, idézet esetében a felhasznált gondolat helyes megjelenítésének ellenőrzé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zövegdoboz 4"/>
          <p:cNvSpPr/>
          <p:nvPr/>
        </p:nvSpPr>
        <p:spPr>
          <a:xfrm>
            <a:off x="1500120" y="4857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Feltétel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ágium-kontrol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kturáli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bizonyíték kontro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28556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ssz formátum (hivatkozás helytelen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jeleníté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ssz sorrend (pl. évszám hamarabb szerepe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t a szerző ne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 létező forrásra való hivatkozás (pl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erzők nevének összetéveszté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ba javítása: pl. hiányzó pont, zárójel, stb. pótlása, szerző nevének helyesbítése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datálása: dolgozat szerzője, ellenőrző, dátum, eredmé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vábbküldés a Plágium-kontroll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3:14:05Z</dcterms:created>
  <dc:creator>LaCae</dc:creator>
  <dc:description/>
  <dc:language>en-US</dc:language>
  <cp:lastModifiedBy>LaCae</cp:lastModifiedBy>
  <dcterms:modified xsi:type="dcterms:W3CDTF">2008-05-04T21:29:32Z</dcterms:modified>
  <cp:revision>23</cp:revision>
  <dc:subject/>
  <dc:title>Párhuzamosítható feladatok outputjai közötti konfliktusok feloldása</dc:title>
</cp:coreProperties>
</file>