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09A-AFD9-46AF-8F27-DED6BAA6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ED5-A4EC-429C-8817-F884954F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664C-4AAF-4613-BF58-D14C3123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7F6E-BDAB-4FDD-B8A2-2D921AB6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0802-3964-4B02-8906-2437A13C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D6AD-DF73-46FB-8B3A-700E58F0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1802-8496-454F-8BA7-98DC9FA9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6941-0A7B-417A-84B1-A3042227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16B9-AC17-480B-80D3-F24D1296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1E95-8A1D-448B-9D1E-67B2D07C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1781-79A5-4132-ABB4-BAC9FA43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0185-46B6-4847-AA0E-C116CFC0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B825-ED3C-4447-B288-1B1CF98F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F369-290C-4E75-A5B7-90F7A93E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4147-3BD1-4C1B-9608-A003FB28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6EA5-4A78-4280-A274-F4F290FE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1760-00A3-44BF-8FBE-0DE41F7E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6892-3645-439F-B3B4-CDB3008D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FD5-3A4D-45C9-BE7F-F215F4C4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8E7-6D14-47F6-AD52-BC329AEC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26CE-D161-4829-8ABF-0190133A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AE3-E166-4CC8-9FB1-FDED485B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FC2-8C8E-43D8-A621-FE92BA98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8F1-58D4-41F3-A0E5-BC178C6F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61E5-A956-43C6-A7B8-921AC9A9D483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14CA-B5D8-4C80-98F7-C304E119067C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l&#225;gium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Plágium-kontrol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finíci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20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ét vagy több dokumentum egymással való összehasonlítás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Szövegdoboz 3"/>
          <p:cNvSpPr/>
          <p:nvPr/>
        </p:nvSpPr>
        <p:spPr>
          <a:xfrm>
            <a:off x="1357200" y="478620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Informáci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árhuzamos munkakörök katalógus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499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zakirodalmi formai ellenő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ukturális ellenőrz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zakirodalmi bizonyíték kontrol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Lehetséges hibafajták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Talált teljes egyez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Talált részleges egyezés (pl. csak a szórend megváltoztatása szinonimák alkalmazásával, e hiba gyakori előfordulása esetében szintén nem kerülhet a dolgozat elfogadásr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Dolgozat elvetése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(a hallgató nem vizsgázhat/indulhat az adott záróvizsga időszakban/TDK-n + egyéb jogkövetkezmények (büntetőjogi felelősségre vonási igények érvényesítése)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incs hib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vábbítás a Strukturális ellenőrzés számár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4:56:09Z</dcterms:created>
  <dc:creator>LaCae</dc:creator>
  <dc:description/>
  <dc:language>en-US</dc:language>
  <cp:lastModifiedBy>LaCae</cp:lastModifiedBy>
  <dcterms:modified xsi:type="dcterms:W3CDTF">2008-05-04T21:29:49Z</dcterms:modified>
  <cp:revision>4</cp:revision>
  <dc:subject/>
  <dc:title>Plágium-kontroll</dc:title>
</cp:coreProperties>
</file>