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4D5-3798-417D-9162-3D8D49EC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87F-77E5-4437-B943-CCB0A2DB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A9A-FCB5-4571-92C0-08B3682E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4AEE-E769-4EF8-B78C-D577D79E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70D3-F068-458D-AB5D-F4EF5EA1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0396-D771-4AFA-8D8D-E3E92933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3C6B-F6F1-41EA-98CE-3BE65FE9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EFD1-B403-4EFF-91AF-C6A17F27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A29B-20D7-46A0-8AFA-76F53BF7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5BA5-6A80-4A3B-A124-30C4FF83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C8DB-8110-417B-9F57-823943CE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152-F718-4D0B-A848-3F361242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824C-6317-4B6F-A562-8BDE03FD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DEB0-F440-4104-AF24-CF85EEE6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3E9A-547B-46C3-AC66-AC2F8F41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4201-87EB-4C8B-9B8D-54F52DF3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958A-0B74-47D6-8E27-49515373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6EEC-E0B5-4C2E-92D4-77C0E6BC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045-0177-4F28-AE07-6FA1E4E2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013-5D94-481C-8222-C23F5DBE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685-9CE2-4F71-92DA-0527837B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5B94-88BA-4730-ACE2-7B635399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200-7C2F-48E2-8FBD-99E362E1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404-F1A6-4206-BF08-7ED02518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0450-BD7D-4026-8E46-BF0AD9C561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733A-C615-4C64-BD09-23284C50BFF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aser.sztaki.hu/ctptech.html" TargetMode="External"/><Relationship Id="rId2" Type="http://schemas.openxmlformats.org/officeDocument/2006/relationships/hyperlink" Target="http://www.laser.sztaki.hu/pages.html" TargetMode="External"/><Relationship Id="rId3" Type="http://schemas.openxmlformats.org/officeDocument/2006/relationships/hyperlink" Target="http://www.laser.sztaki.hu/pages.ht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2030040"/>
            <a:ext cx="85104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yomdai előkészítő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készítette: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Renczes Gergely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-228600"/>
            <a:ext cx="77724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yomdai előkésztő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50560" y="1269720"/>
            <a:ext cx="8569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880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DK munkák készítésénél fontos állomás a nyomdai előkésztés. A TDK beadásakor előírnak bizonyos formai követelményeket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DK dolgozatnak mint tartalmilag mint stilisztikailag megfelelőnek kell lennie. A/4-es papíron ,szövegszerkesztővel kell megirni,13 vagy 14-es betűmérettel, bal oldalon 3-cm-es  a többin 2,5-cm-es margóval. Egyes részek és fő fejezetek, beleértve a bevezetést és értékelést, új oldalon kell, hogy  kezdődjen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ímek alcímek betűiről (kis betűk, betűméret), esetleges aláhúzásából vagy vastagításából, és a sorban való elhelyezéséből (középre, oldalt) tűnjön ki azok fontossága, és azok az egész dolgozatban következetesek, nagy és decimális számozásúak legyenek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zövegben lévő címek előtt és után -azok fontosságától függően, a jobb áttekinthetőség végett- üres sort kell kihagyni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agolódása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4360" y="83628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vezet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rodalmi áttekinté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yag módsz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edmények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övetkeztetés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Összefoglalá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rodalom jegyzé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ezeknek mind megfelel akkor elkezdhetjük megvizsgálni ,hogy a nyomdába adásnál mivel kell tisztába lenni, mert  a nyomda abból fog dolgozni amit megkapott. Az egyes nyomdaipari folyamatok során több különböző képen is elkészülhet a munkánk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nyomdák általában előírják, illetve meghatározzák azt, hogy milyen felbontásban illetve fájlformátumban adják le náluk az egyes anyagokat. Meghatározzák, hogy az  adat Pendrive-on,Cd,DVD,-n vagy FTP-ben legyen leadv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DK munka nyomdaipari előkészitésél a párhuzamos munkakörök katalógus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26560" y="2133360"/>
            <a:ext cx="7705800" cy="3887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formátum             átfutási idő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Témaválasztás konzultálása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zakirodalmi formai ellenőr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 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Plágium-kontroll    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Korrektura-ellenőr 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Jogi kockázat-ellenőrzés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trukturális ellenőrzés   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(fejezetek, alfejezetek, helyes irodalmi tagolás megvan e )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6920" y="-387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redmények fogadás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187280" y="1628640"/>
            <a:ext cx="7128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nyomdába küldés előtt meghatározzák, hogy külalakilag milyen legyen a TDK-dolgozat (tipográfiailg egyénre szabva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nyomdába megérkeznek a dolgozatok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Visszaigazolás történik a nyomda részéről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nyomda elvégzi a szakmai munkállatoka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Áttérés a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övetkező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feladat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leadott dolgozatok a nyomdai leadás előtt katalogizálják így meggyorsítva a nyomdaipari munkálatot. A TDK dolgozatokat egyszerre adják általában  le így megkönnyítik a nyomda dolgát.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200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őtte meg kell győződni, hogy megfelelően és az a nyomdai leadás kívánalmainak eleget tesz e terjedelmileg is a dolgozat.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hetséges hiba, ha például nem a megfelelő betűtípust, vagy nem a megadott elrendezésben készül a tdk dolgozat.  Hiba lehet a konzultáció során, ha a tartalom nem megfelelő. Ha nem a megfelelő információkat tartalmazza. Esetleg nem teljesen részletes. Ilyenkor nem halad tovább a nyomdai előkészítő munkakörbe az anyag, hanem visszakerül az előző munkakörhöz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Visszaigazolá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403280" y="907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nyomdából megtörténik a visszaigazolás hogy a dolgozattal kapcsolatban végrehajtották a szükséges nyomdaipari munkálatoka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2421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Feladatteljesítési </a:t>
            </a: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igazolá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3784680"/>
            <a:ext cx="723276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egérkeztek az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általad küldött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eredmény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lkalmazott n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Feladatteljesítési </a:t>
            </a: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egérkeztek az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általad küldött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eredmény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lkalmazott ne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yomdai előkészíté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yomdai előkésztés előtt a TDK tartalmilag már össze van állítva a nyomdai munkálatok ezeket követik majd előre meghatározott léptékekben. Az így elkészült TDK dolgozat majd ezek után kerül a következő munkafázisb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84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Könyvtár, katalógus adatai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plomadolgozatok elektronikus úton való tárolás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5415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könyvtári katalógus elektronikus felhasználása során lehetőség nyílik bárhonnan hogy a könyvtár anyagai szakirodalmai között kereshessen az érdeklődő. Speciális integrált rendszer, és kereső segítségével olyan dokumentumokra is rá lehet bukanni,ami eddig nem volt megtalálhat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hazai könyvtárak közös elektronikus úton működő katalógusa lehetővé teszi, hogy bármely nyilvános és nem nyilvános könyvtár katalógusában is kereshessen a kívülálló.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Könyvtári munkát katalógusba foglalást megelőző folyamatok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. kör (szakterület és problématípus, ill. konzulens és célcsoport lehatárolása) pl. agrármeteorológiai előrejelzések, OMSZ média-tortarészének csökkentése, (referenciákkal rendelkező) konzulens = X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émaválasztás konzultálása 2. kör (konkrét kérdés és szükséges erőforrások lehatárolása) pl. OMSZ-megállapodással és saját hatáskörben gyűjtött adatok COCO, CART módszerrel történő feldolgoz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DK megszerkesztése az adott formai követelmények figyelembevételé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lenőrizni a helyes formai tartalmi követelmények meg vannak –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yomdai előkészítő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21708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yomdai munkálatok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DK leadása , TDK előadás , értékelés ebben benne va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i értékelés (DOC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i értékelés (PP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i értékelés XLS melléklet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i értékelés on-line melléklet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llébeszélés-kontroll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sznosság-kontroll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edményhirdet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edményhirdető/archivá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intézkedik a díjak, felöl, eredményes diplomamunkánál ellenőrzi az előírt nyelvvizsga meglétét, egy példányt kiad, egyet elhelyez az iratmegőrzőb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helyezés a könyvtárban esetleg  egy elektronikus könyvtárba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88423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apság a TDK-kat dolgozatokat név szerint nyilvántartják elektronikus programsegítségével majd ezeket a  TDK-kat, dolgozatokat  könyvtárban tárolják. Azonban lehetőség nyílhat ezen programok fejlesztésére is ami megkönnyítheti azoknak a dolgát akik később szintén TDK-kat és dolgozatokat akarnak írni.TDK készítésénél gondot okozhat ha a dolgozathoz nem talál az ember elég anyagot. Ilyenkor jön jól a könyvtári katalógus amely segítségével több információt hamarabb össze tudunk gyűjteni.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Elektronikus úton sokkal könnyebbé válhat ezen dolgozatok,TDK-munkák áttekinthetősége, nyilvántartása. Lehetőséget adva arra, hogy ezek a  munkák gyorsan hozzáférhetővé váljan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Elektronikus könyvtár továbbfejlesztésénél lehetőség nyílhat például arra, hogy egy dolgozat megírásánál elkerülhetővé váljon az egyes témák hosszas utánjárása ezért  hasznos lehet egy egyszerű kereső alkalmazása egy erre alkalmas programba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Egy  ilyen elektronikus könyvtár továbbfejleszthető folyamatosan.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Például a keresők továbbfejlesztésével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Ötleteket lehetne felkínálni a program segítségével a felhasználónak milyen témákban érdemes az adott dolog után kutatn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gram segítségével nyomon követhetővé válhat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yen munkát érdemes megnézn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yen munkának mekkora volt a látogatottság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etleges visszajelzések lehetőségének elhelyezé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yen munkákat érdemes megnézni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156360" y="2205000"/>
            <a:ext cx="19940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5191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0202"/>
                </a:solidFill>
                <a:latin typeface="Arial"/>
              </a:rPr>
              <a:t>Javítás az előző hátterében</a:t>
            </a:r>
            <a:br>
              <a:rPr sz="2400"/>
            </a:br>
            <a:r>
              <a:rPr b="0" lang="en-US" sz="2400" spc="-1" strike="noStrike">
                <a:solidFill>
                  <a:srgbClr val="ea0202"/>
                </a:solidFill>
                <a:latin typeface="Arial"/>
              </a:rPr>
              <a:t>Reális kérdések: a nyomdai változat és a normál (kötött) változat közötti eltérések kezelése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7240" y="2441160"/>
            <a:ext cx="756144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nyomdai változat és a normál változat közti  eltérések problémájának kezeléséhez segítséget nyújthat egyrészt az egyetem honlapján a TDK bejegyzéseknél leírtak. A nyomdák általában, de az egyetem nyomdájában is hasznos tanácsokkal láthatják el a TDK késztőjét.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ví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oldaltörések és a nyomtatási beálltások (színes, szürkeárnyalatos) nagyban befolyásolják az anyag érthetőségét és nyomon követhetőségét.  A nyomdai kialakítás befolyásolhatja a későbbi bírálatot is (színek használata stb.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Javítás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DK formai követelményei a DTK kiírásban szerepelnek. a nyomdai változat és a normál kötött változat közötti eltérések kezelésében a hallgatókat  a konzulensek segitik. A DTk formai kialakításánál általában az a lényeg, hogy a tartalom és a forma összhangban legyen, ugyanakkor megfeleljenek a szükséges feltételekn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76248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DK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137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eldöntöttük, hogy elkészül a TDK akkor a nyomdába való leadás előtt nem árt ha a következőket előtte eldöntjük.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t kell megválasztani a készülőben lévő TDK formai jellemzői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Nyomtatás színesben, vagy feketében történjen, a kivitel szerint is lehet sztendert kivitel, (göbölytett gerinc,lekerekitett sarkok), egyszerű kivitel stb. Ezenkívül még meg kell határozni hogy spirálozva legyen e vagy sem és az aranyozás is ide tartozi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az a nyomdai előkészítés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676160"/>
            <a:ext cx="8663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nyomdai előkészítésnél digitális anyagot viszünk fel a nyomóformá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z négy folyamatból áll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zínre bontá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aszterizálá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világítá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tírozá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Színre bontá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(színes anyagok esetén). A nyomtatandó anyagot RGB színekre bontjá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Raszterizálá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. A vektoros állományokból,állitják elő amiket áttalakitanak raszterressé.Ilyenkor figyelembe kell venni az adott levilágitó gép felbontását,teljesitményét,valamint az épen alkalmazott nyomdaipari eljárást, és még az adott nyomdatechnológiai körülményeket. Ezek alapján a nyomtatási rácsot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Levilágítá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. A színre bontott és raszterizált anyagot levilágítással a filmre viszik. </a:t>
            </a:r>
            <a:r>
              <a:rPr b="0" lang="hu-HU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TP technológia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alkalmazása esetén a levilágítandó anyagot közvetlenül az ofszetnyomógépben használható nyomólemezre világítják l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Montírozá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. Ilyenkor állítják össze  a „montirozóasztalon” a rendelkezésre álló képeket,   Ez a lépés napjainkban sokszor kimarad a folyamatból, mert a nyomdai előkészítést végző programcsomagok (pl. </a:t>
            </a:r>
            <a:r>
              <a:rPr b="0" lang="hu-HU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age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) lehetővé teszik az adott anyagok igényszerinti elrendezését. Természetesen CTP technológiát használva a montírozás szoftver úton történik (pl. a </a:t>
            </a:r>
            <a:r>
              <a:rPr b="0" lang="hu-HU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Page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programcsomag segítségével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Forrás: http://www.laser.sztaki.hu/ctptech.htm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898560" y="1052640"/>
            <a:ext cx="7634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mezkészíté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A folyamat legutolsó lépésében a montírozott filmet átmásolják az ofszetlemezre (kontaktolás), majd a lemezt beégetik. Ezután a lemez készen áll a nyomtatásra. Raszterezés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lyes nyomdai előkészítés alapja a  megfelelő grafikai előkészíté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 előkészítési munkák  során általában már egy helyen el tudják intézni a tördelést szkennelést ,és a design kialakítását is. A garantált minőségi munkák kialakításánál (ide értve TDK, is) célszerű olyan nyomdát választani ahol mindezt egyszerre elvégzik 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5:17:55Z</dcterms:created>
  <dc:creator>xxx</dc:creator>
  <dc:description/>
  <dc:language>en-US</dc:language>
  <cp:lastModifiedBy>LaCae</cp:lastModifiedBy>
  <dcterms:modified xsi:type="dcterms:W3CDTF">2008-06-02T12:13:36Z</dcterms:modified>
  <cp:revision>11</cp:revision>
  <dc:subject/>
  <dc:title>Nyomdai előkészitő</dc:title>
</cp:coreProperties>
</file>