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8B1E-9827-40E0-B3C4-496713BE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8B59-2768-4999-A9B2-D9879C4A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9AAC-D22A-4D2E-982E-42EDA2C7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D0E6-EA1C-4C5C-BA47-F205D261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B369-A6D8-4CA2-BC09-B311357C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99B2-2052-44FE-97F6-72475F73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6309-ECD1-4BE9-9FED-47F46813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C65B-67AA-4EEE-8096-C7A9E235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6CFA-BDF8-4AAA-9856-2A0738F1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C0CE-8F35-446A-9F95-7FFAC482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BD65-C879-405B-A6C7-865AAFE2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0BD4-6E4B-47A3-90D9-3B3B3E5D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92AB-3416-44BB-A4E2-BB998AE4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8452-91FA-4E90-A180-998D4B61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36E2-2E88-4207-A1D4-614DAC4B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3C9B-3EFB-4B88-A9F8-488873E2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2517-192E-46DB-9286-32FDDDB17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36DA-4EE2-446B-96A2-DC736695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3371-8078-433E-A57C-529FC4B7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80AE-F973-4A32-BE06-41747821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79EC-30DB-49D7-B9C3-B2BCC806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426B-CDF8-4096-81BD-7180D794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9C4E-93AF-4B9F-BA19-F57AFCD1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C4AB-E9DA-4CB7-8C5F-BCD75936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B506-FA1B-4453-AEC1-7228001C20AA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694D-74A3-4470-8744-E78AE1A873A3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Kommunikációs szakértő, aki azért felel, hogy a potenciális érintettek képben legyenek a folyamat előt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Mi is legyen a cél valójában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lismerhető legye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dolgozat célcsoportj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lvárt hasznossá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lternatív azonosságok mikéntj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zakirodalom kritikai feldolgozás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elvállalt feladat miben lé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rtalmaznia kell a dolgozatnak önálló munká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dolgozatnak rá kell vezetnie az alábbi értékelési pontkor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i vagy mik a dolgozat központi kérdése vagy kérdései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i vagy kik a dolgozat célcsoportjai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ennyiben tekinthető vagy tekinthetők a központi kérdés vagy kérdésekre adott hallgatói válasz vagy válaszok a hallgató saját alkotásának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ilyen hasznosság várható el a kijelölt célcsoport esetében a dolgozat által preferált és egyéb, alternatív (szakirodalmi) megoldásai alapjá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marketing (a lehetőség közzététel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z ehhez szükséges anyagi háttér jogi szabályozásának kezelé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források  előteremté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forrásokkal való elszámolá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forráshiány esetén mi a teendő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ffffff"/>
                </a:solidFill>
                <a:uFillTx/>
                <a:latin typeface="Verdana"/>
              </a:rPr>
              <a:t>Az ügyfelek tájékoztatása az alábbiakról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milyen díjat, eredményt, esetleg büntetést(a jogi normák be nem tartása esetén) lehet elérni vel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Konkrét feladatai: a kérdező személyek kérdéseire választ adni, információt nyújtani, időpontot adni a kérdező személyek részére az ő kérdéseik feltevése érdekében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Lényeg, hogy a kérdező személyek értelmes, konkrét, megfogalmazott kérdéseket tegyenek fel a kommunikációs szakértőknek. Kérdésekben bármennyi kérdést fel tehetnek csak egy határ van az az időhatár mit a kommunikációs szakértő ad meg, hogy hány perc jut egy személy kérdéseir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Létre hoztak a kommunikációs szakértők egy olyan oldalt, melyen gyakori kérdésekre ott találhatják a hallgatók a választ, illetve egyéb hasznos információval is értesülhetnek (pl.: mennyibe kerül egy vizsga vagy esetleg a kommunikációs szakértő elérési lehetősége, fogadási ideje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hányan dolgozhatnak egy munkán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általában milyen követelményeknek kell a dolgozatot megfeleltetni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határidők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formai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stilisztikai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irodalomjegyzék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mellékletek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desig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célcsoport helyes megválasztás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hasznossá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kommunikációs készsé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idegen nyelven i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nyomonkövethetősé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milyen eséllyel indulhatnak a fogyatékosok, milyen lehetőségek léteznek számukra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ki  jogosult alapesetben díjmentesen megírni a dolgozatot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ki nem jogosult alapesetben díjmentességre annak mennyit kell fizetnie ért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a fenti két csoport milyen különeljárási díjakra számíthat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Értesí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ba következése esetén a potenciális személy értesítése levélben, e-mail-ben, telefonon vagy esetleg szóba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alamilyen adat hiány esetén való szólás az előzőekben írt mód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nácsad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ülönböző formátumú tanácsadások, felvilágosítások ( mint például papíron történő vagy interneten, e-mail-ben ( elektronikus levél útján), televízióban, szóban történő felvilágosítások, tudósítások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z érdeklődő személyek kérdéseire válaszadá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ponta 2 kommunikációs szakértő áll rendelkezésre. Az első kommunikációs szakértő reggel 8:00 – 12-ig dolgozik, míg a másik reggel 10:30 – 14:30-ig dolgozik. Ebben az időben lehet őket megkeresni és két heti rendszerességgel ( tehát ha valaki fel tesz egy kérdést,mire választ / segítséget vár akkor annak csak két hét múlva van lehetősége visszajönni,szóval jobb ha egy alkalommal több kérdést tesz fel a kérdező fél. 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Több csatornán keresztül érkezhetnek a kérdések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Érkezhet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1. telefonon kersztü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2. elektronikus levél útjá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3. postai levél útjá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4. szóban is megtörténh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5. Interneten keresztüli beszélgetés útján (skyp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Olyan kérdésekre nem kell válaszolni, mik alapvető kérdések és ezekre a válasz vagy hirdető plakátra/táblára vagy interneten, vagy televíziós reklámban vagy újság reklámban, szórólapokon fel van tüntetv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Általában a kommunikációs szakértők azonnal képesek válaszolni a kérdésekre, de ha esetleg még sem lennének képesek azonnal válaszolni, akkor egy kis türelemmel, vagy 1-2 napos határidővel elküldik a feltett kérdésre a választ vagy eletronikus levélen keresztül vagy visszahívják az illetőt vagy behívják egy megbeszélésre, vagy interneten keresztül válaszolnak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Olyan kérdés és válasz publikus mely nem sérti a kérdező személyiségét, melyből nem lehet kikövetkeztetni a kérdező személyét, mely nem sérti a személyes dolgokat. Illetve azok a válaszok és kérdések publikusak melyek elég közérdekű kérdés lehet,és nagy valószínűséggel sokan megkérdeznék, vagy már többen meg is kérdezté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Privát levelezési tartalomnak azok a kérdések és válaszok számítanak melyeket a kérdező személy külön megkér,hogy ne hozzanak nyilvánosságra, illetve azok a kérdések melyekkel tudják a kommunikációs szakértők,hogy a kérdező személy  személyiségét lelepleznék illetve azzal vissza élhetnének máso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Úgy kell megoldani, hogy csak az az illető kapja meg a kérdésre a választ ki a kérdést feltette. Ez megoldható úgy is, hogy azt a személyt behívja a kommunikációs szakértő vagy, neki küldi el emailben a választ illetve telefonon válaszol nek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Bele kerül a hallgató neve mellé a születési dátuma, azonósító kódja, személyigazolvány kódja, iskolájának neve és adatai, a hallgató elérhetősége (telefonszám, email cím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A kommunikációs szakértőnek teljes joga van bele tekinteni a hallgatók  aktáiba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ghallgat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kommunikáció szakértőnek az alábbi pont szerint értelmezhető a meghallgatása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z ügyfelek panaszai és egyéb problémáinak a meghallgatása és minél előbb ezekre megoldás megtalálás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Fogadóórák vannak,nem csak on-line kommunikáció van. Fogadóórák 1 alkalommal ingyenesek viszont a második alkalommal már költséggel jár, így megéri kommunikációs szakértőt bevállalni egy rendszernek. Két kommunikációs szakértő általában elég egy rendszernek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onzultáci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zakértőknek néha( főleg egy dologban való változásoknál) konzultációkat más néven megbeszéléseket szoktak tartani egy bizonyos témában ( annak változásaiban, bővítéseiben, problémáiban és ilyen dolgaiba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250920" y="184464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ommunikációs szakértő jelentés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z a személy vagy illető kinek az a foglalkozása, hogy a potenciális érintetteket felvilágosítsa egy adott téma körön belül. Szakértő a saját témáján belül mindent tud, és segítséggel illetve tanácsadással szolgálhat a leginkáb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68000" y="162828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 dolgozatnak az alábbiakat kell tartalmazni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Címlap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szerzőt + címet kell tartalmazni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Tartalomjegyzék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fejezetcímek az oldalszámokk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Bevezetés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tt felvázolni a téma jelentőségét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Kivonat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bevezetés összefoglalój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Irodalmi áttekintés, elméleti felvezetés, helyzetfelmérés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tt ismertetjük a témában korábban született megállapítások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nyag és módszer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tt kell bemutatni, hogy milyen anyagokból dolgoztunk a vizsgálat folyamá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Eredmények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tt leírni, hogy mire jutottun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Következtetések és javaslatok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le kell írni, hogy mit tanácsolsz, illetve az eredményről levonható következtetés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Összefoglalás: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lőző részek tartalmának összefoglalás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Mellékletek: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de sorolhatóak azok az anyagok miket meg szeretne a dolgozat felmondója bemutatni, de nem célszerű azokat dolgozat közben bemutatni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diplomadolgozatnak meg kell felelni a szak és a szakirány tudományterülete sajátosságainak, továbbá tartalmaznia kell a feldolgozott szakirodalom, valamint az alkalmazott vizsgálati módszer leírását, és a saját vizsgálatok eredményei alapján a téma érdemi feldolgozásá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diplomamunka tükrözze a hallgató önálló állásfoglalását a vizsgált témakörben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Formai követelmények tekintetében az alábbiakra kell oda figyelni szakmai dolgozatná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szakmai dolgozat általános tipográfiai jellemzőit (lapméret, szedéstükör, betűtípus és –betűméret stb.) a legtöbb esetben a befogadó intézmény, szervezet, szerkesztőség adja meg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ntos a megfelelő tagoltság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fejezetcímek kapcsán az elfogadott/elvárt gyakorlat a többszintű decimális számozás alkalmazása (1. Fejezet; 1.1 Alfejezet stb.), így a szövegen belül az egyes fejezetekre könnyedén tudunk ezekkel hivatkozni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szakmai dolgozat egyik kulcseleme a hivatkozás. Hivatkozások által érintett elemek a következők: felhasznált szakirodalom, ábrák, táblázatok és egyenletek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zerepelnie kell ábráknak és táblázatokna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zeknél a következőket kell tenni: fel kell tüntetni az ábra vagy táblázat sorszámát, címét és forrásá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ntos dolog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inden felhasznált nem saját forrást irodalomként kell kezelni, és szerepeltetni kell az irodalomjegyzékben és erre a publikáció szövegében kell hivatkozni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folyószövegben történő hivatkozásnak az alapja, hogy szerző (általában a vezetéknév) és évszám szerint kell hivatkozni. Főbb esetei a következők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apeset, egy szerző által jegyzett mű: (Vezetéknév, Évszám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a egy szerzőnek több művére is hivatkozunk, melyek azonos évben születtek, az egyes műveket a, b, c… jelöléssel különítjük el: (Vezetéknév, Évszám/a), (Vezetéknév, Évszám/b) st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ét szerző esetén: (Vezetéknév_1 – Vezetéknév_2, Évszám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öbb szerző esetében: (Vezetéknév_1 et.al., Évszám) Az „et.al.” rövidítés az „és mások”, „és társai” kifejezésnek felel meg. Az irodalomjegyzékben ugyanakkor az összes szerzőt fel kell tüntetni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zerkesztővel rendelkező mű esetén: (Vezetéknév szerk., Évszám), illetve ha idegen nyelvű a mű: (Vezetéknév ed., Évszám), ahol az „ed.” az „editor” rövidítés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64216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z irodalomjegyzék-elemek kapcsán a következő információk adhatók meg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szerző(k) vagy szerkesztő neve, általában a vezetéknév és a keresztnév első betűj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forrás cí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kiadás helye (város) és é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kiadó vagy a közreadó szervez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öbb kötetes mű, illetve folyóirat esetén a kötet száma, illetve az évfolyam és a lapszá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forrás terjedelme (xxx p. – pagina – vagy xxx o. –oldal – formában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a a teljes mű egy részére hivatkozunk (pl. egy tanulmánykötet vagy folyóirat esetén), a teljes mű címét (In: a_mű_címe) és konkrét hivatkozott rész helyét (xxx-yyy. p.) is adjuk me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n-line források esetén fontos a teljes(!) elérési út és a letöltés dátumának megadás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források könnyebb beazonosíthatóságát szolgálhatja az, ha az irodalomjegyzékben sorszámozzuk a forrásokat és a folyó szövegben egy nem szó szerinti hosszabb gondolatsor végén az adott forrás sorszámát is leírjuk pl. szögletes zárójelbe zárva: [14]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Formai követelmények tekintetében az alábbiakra kell oda figyelni diploma dolgozatná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diplomadolgozatnak mind tartalmi, mind helyesírási, alaki és stilisztikai szempontból kifogástalannak, betűelütés mentesnek kell lennie, amelyet A/4-es papíron, szövegszerkesztővel írva (13-14-es betűméret, baloldalon (kötésoldalon) 3 cm-es, a többi szélein 2,5 cm-es margó, normál sortávolság, sorkizárás) két példányban fekete műbőrben bekötve kell elkészíteni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fő fejezeteknek új oldalon kell kezdődniük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címek, alcímek betűiről (nagy és kis betűk, betűméret), esetleges aláhúzásából vagy vastagításából és a sorban való elhelyezéséből (középre, oldalt) tűnjön ki azok fontossága, és azok az egész dolgozatban következetesek, decimális számozásúak legyenek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szövegben lévő címek előtt és után – azok fontosságától függően, a jobb áttekinthetőség végett – üres sort kell kihagyni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diplomadolgozat terjedelme – szóközök nélkül – 70-140 ezer, a szakdolgozat terjedelme – szóközök nélkül – 50-100 ezer karakter lehet, amelybe a szövegközi táblázatok és ábrák is beletartoznak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diplomadolgozat végén mellékletben alaptáblázatok és egyéb, a dolgozat eredményeinek megértéséhez tartozó adatok, információk közölhetőek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diplomadolgozat kötelező függelékei az esetleges mellékletek után következnek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22:36:18Z</dcterms:created>
  <dc:creator>Bogyay Gábor</dc:creator>
  <dc:description/>
  <dc:language>en-US</dc:language>
  <cp:lastModifiedBy>LaCae</cp:lastModifiedBy>
  <dcterms:modified xsi:type="dcterms:W3CDTF">2008-05-04T21:24:59Z</dcterms:modified>
  <cp:revision>14</cp:revision>
  <dc:subject/>
  <dc:title>Kommunikációs szakértő, aki azért felel, hogy a potenciális érintettek képben legyenek a folyamat előtt, és folyamat alatt</dc:title>
</cp:coreProperties>
</file>