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6B5-A1A2-40D1-89EA-23CBBB4A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A6A-D577-4342-B926-B4750F61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EA0-311D-4782-A390-7D1BD77D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7B0-C190-41F9-9A23-97741064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8789-68BD-488B-AE9F-98407435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4C2-FFBA-421E-B6A5-8BBAEE1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19C3-3C6F-4BCB-A46D-DE93DBC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24FD-6EE7-4FB4-8352-71CD3D1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9615-28B9-45C4-A1CA-4666D055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52C3-D001-4B82-8157-53CA745E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146C-DC86-48FD-99A5-97D7E75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0FD-E093-4C9D-A71F-4AE00C5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CE25-6E1D-4942-BD0A-FA05E1BB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6CC5-E411-4094-BC9A-E26E363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3A7-9413-458B-AB45-5BB3C9D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2C85-A158-48D8-BEB0-4D7430C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751-B18A-47E9-A07E-5807932E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5E3-BE8F-427E-B305-C104FB92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C47-A276-452F-92F6-E750D87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4C5-775E-41E6-A133-5A106BC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170-196B-4D97-A59D-99F46E81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ED3-333D-46B5-AEA6-0C243F8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D58-C678-4584-A9D7-F70D8773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295-6C0C-4737-BA8F-7438CFD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562-0CAC-4C2C-907B-B160B50F7F3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493-92B2-4089-8C7E-91108638B66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ítható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eladatok outputjai közötti konfliktusok feloldása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unkaköri Leír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 tevékenységek koordinátora munkakör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őtevékenységek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 időben futó munkakörök számára szétosztani az őket megelőző tevékenység kimeneti anyagából a rájuk vonatkozó részlete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nputok határidős csúszásainak megelőzése, kezelé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árhuzamos feladatkörök egymásnak ellentmondó outputjainak harmonizálá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gymásnak mellérendelt feladatok kimeneteinek összekapcsolása, s továbbítása a következő állomás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végzett műveletek s az események naplózás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dolgozatok írását segítő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unkakörök között felmerült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-központilag nem szabályozott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érdés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problémá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konfliktuso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ezelése,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goldása a feladat(például: ha egy nem szabályozott kérdésben az egyik munkakör azt javasolja az ügyfélnek, hogy a máshonnan idézett szöveget feketével és állóbetűkkel jelenítse meg, de a másik munkakör azt mondja, hogy ezt pedig mindig is zöld betűszínnel dőlten szedve szokták, akkor saját belátása szerint dönt az ügyben , előtte esetleg vitafórumot tart az érintettekkel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eseményeket is mindig rögzítenie kell vitafórum formá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 munkakör az alábbi kompetenciákat igényli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mánerőforrás menedz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szség/képesség csapatmunka teré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z tűr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 problémamegoldó készsé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inden input beérkezésétől számított 3 munkanapon belül továbbítania kell a megfelelő anyagot az illetékes munkakörnek/munkaköröknek/ügyfél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egyes tevékenységet naplóznia kell!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beérkezett anyag továbbításakor igazolást állít ki, melyen szerepelnie kell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honnan jött az dokumentum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érkezett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mikor lett továbbít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13:11Z</dcterms:created>
  <dc:creator>LaCae</dc:creator>
  <dc:description/>
  <dc:language>en-US</dc:language>
  <cp:lastModifiedBy>LaCae</cp:lastModifiedBy>
  <dcterms:modified xsi:type="dcterms:W3CDTF">2008-06-02T13:13:46Z</dcterms:modified>
  <cp:revision>1</cp:revision>
  <dc:subject/>
  <dc:title>Párhuzamosítható feladatok outputjai közötti konfliktusok feloldása </dc:title>
</cp:coreProperties>
</file>