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48C-A741-4F28-89F7-69F50303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AE7-61A1-421E-9423-D6B6E3BE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F14-08CD-457C-992C-8619EE7D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0F3-5744-462B-A7A6-669A2C2F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11FD-6DB6-4B74-A71D-33D6EB3E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25E5-96DB-4B90-9C00-48F06A2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2EBF-5E66-48A7-B3AF-D1D7715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5EE1-9855-4FD5-8C3E-58BC58CC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B1A4-078A-4D40-814E-080C0A7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01DA-307A-4519-94F9-1825A579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471A-2F02-4994-92C3-6C8FDDB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508-EE5C-422F-BEDD-48FACB1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62D0-5F72-4F6D-AEC3-5568507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814-0F5C-456C-8E06-64E7F2F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213F-C14D-4DF7-AA83-157FAFFB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591-6283-40FA-AEEE-2382A0CF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F29A-2840-43FC-9DBB-B59F0377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D0C-D4EF-4F26-B197-81E2328A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38D-ED00-4F55-A332-D27D7BA1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1E1-22CF-4423-ABB7-AD6543FB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CB7-9B70-4473-90A3-E4D7542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6E8-593C-4BCD-AFF0-6A7CA6F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B1D-1548-41F9-BF00-B76D9DE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AD5-D82C-45B2-97E5-7507E48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9E6F-32B0-4741-BDA2-16124AE858D7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D7AF-EA9C-4D11-9637-F3A2FA37B8D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olgozat-közi kooperációk jogi kérdései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kooperáció olyan együttműködést jelent a hallgató számára, melyek segítik őt a dolgozat írása közbe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 a hallgató dolgozatot kíván készíteni, akkor lehetősége van kooperációk kötésé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ooperációk jöhetnek létre hallgató-konzulens, hallgató-külső konzulens, valamint hallgató és hallgató közöt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zzá kell minden félnek járulnia a kooperáció létrejöttéhez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abályozandó kérdés a kooperációk területén, hogy a dolgozatból esetlegesen befolyt pénzből milyen arányban részesedjenek a kooperációt kötött tago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írása előtt, fontos hogy kikötni a kooperáló felek között, hogy a dolgozatban említett részeket ki írja, és ki felel ér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bből az is következhet a részesedések területén, hogy a dolgozat egy bizony részét használná fel egy külső személy, és a dolgozat írója tudja bizonyítani, hogy azt a  fejezet az ő munkája akkor egyedüli részesed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írás alatt folyamatos a kapcsolattartás a két fél közöt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tációk alkalmával kerülnek megfogalmazásra és a későbbiekben megoldásra az adott problémák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tációkon való rendszeres részvételt a konzulens aláírásával igazolja, amit mellékletként csatolni kell a diplomadolgozathoz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mennyiben nincs belső konzulense a készítőnek, akkor külső konzulens választása és aláírása szükség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ooperáció jöhet létre két hallgató között, melyben együttesen készítik el dolgozatukat és mutatják be a TDK-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ülső konzulens lehet például egy vállalat dolgozója, ki az adott témában járt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készítése során kell készíteni egy nyilatkozatokat konzulens részérő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onzulensi jogi nyilatkozatban, az alulírott konzulens jelenti ki azt, hogy az alulírott hallgató az ő irányítása révén készítette el az adott című dolgozatot és ajánlja ezt a Tudományos Diákköri Konferencián történő bemutatás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dolgozat leadásának feltétele, hogy az előlapján fel kell tüntetni a konzulens adatait (név, beosztás, intézmény, intézet, osztály 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dolgozat létrejöttéhez szükséges kooperációk jogilag szabályosak 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kooperációkat jogilag megfelelően és korrekten kötötték 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tag említ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Részesedések arányos kezel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onzulensi konzultációk rendszeres részvételének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4:57:11Z</dcterms:created>
  <dc:creator>bag</dc:creator>
  <dc:description/>
  <dc:language>en-US</dc:language>
  <cp:lastModifiedBy>LaCae</cp:lastModifiedBy>
  <dcterms:modified xsi:type="dcterms:W3CDTF">2008-05-04T21:46:09Z</dcterms:modified>
  <cp:revision>15</cp:revision>
  <dc:subject/>
  <dc:title>Szerzői jogdíjak kezelése </dc:title>
</cp:coreProperties>
</file>