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04C-2E4C-4264-A4E0-E5AA3F78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915-2F51-4FFB-8830-E02A3FE6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BD1-36E8-4DA9-A7F3-FFBEECC5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71B-4B30-4828-B65C-07A43591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2BDE-301C-4329-9F18-03C41ED6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E960-57E0-43B8-8670-D5570777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DD0E-B325-409D-935E-74AC9781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B2DF-4BA2-4FD2-8986-0B4FA652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6390-03F9-4083-B663-826E6126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A064-209C-437B-97A4-20E5227D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63B5-E6F6-4D35-B853-A48EE2EB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777-CE01-47A2-B582-9BB0EDFB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FAC8-C7C0-4904-BEDA-38EBAC22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B31C-75F0-423C-A536-DAA92391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F608-3240-4C31-ACC4-47A83712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E145-E3C0-4839-A690-89DF6013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9743-659D-4F94-91A4-39A0DB12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3F6-2269-4D3C-B87D-A2031DC4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7B8-279F-4E35-AC53-22C17DC8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C70-C49F-4F5E-B233-5FF5F60E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498-FA4E-4FDD-80C3-3A8E456B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DAB-9425-4022-8435-BC6E3072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8AA-2034-47F8-8E6E-F233E08D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FD4-7E4D-4DAD-A6FB-9E379F15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C234-DACB-4B47-81A5-F660C3DFA4B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6117-7834-42EE-BAB1-52C6D7E18B8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aját következtetések helyessége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pályamunka bírálatát a következő szempontok szerint célszerű végezni: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ikai felépítés, irodalmi áttekintés: világos témafelvetés, a vizsgálatok indoklása, világos szerkesztés, irodalmi megalapozottság, a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következtetése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lyessé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következtetése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és az irodalmi adatok összevetésének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lyessé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pályamunka bírálatát a következő szempontok szerint célszerű végezn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Módszerek: módszerek nehézségi foka, sokoldalúsága, leírásának pontossága, adekvát volta, </a:t>
            </a:r>
            <a:r>
              <a:rPr b="1" lang="hu-HU" sz="3200" spc="-1" strike="noStrike">
                <a:solidFill>
                  <a:srgbClr val="ffffff"/>
                </a:solidFill>
                <a:latin typeface="Verdana"/>
              </a:rPr>
              <a:t>saját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 munka mérték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ai kivitelezés: az elkészítés gondossága, esztétikuma, irodalomjegyzék összeállítása, ábrák, táblázatok szerkesztése, íráshibák, gépelési hibák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redmények: az ismertetés mennyire pontos, alapos, részletes, világos, a dokumentáció mennyire adekvát, szemléltető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0:24:01Z</dcterms:created>
  <dc:creator>Ralf</dc:creator>
  <dc:description/>
  <dc:language>en-US</dc:language>
  <cp:lastModifiedBy>LaCae</cp:lastModifiedBy>
  <dcterms:modified xsi:type="dcterms:W3CDTF">2008-05-04T21:31:31Z</dcterms:modified>
  <cp:revision>5</cp:revision>
  <dc:subject/>
  <dc:title>Saját következtetések helyessége </dc:title>
</cp:coreProperties>
</file>