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184-2180-45E4-8C8E-B749ED83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C4B-B7C4-4208-B229-D4C03768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C64-A506-44A3-AE83-22621518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909-BC38-4CF3-A007-DDE1E1B3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C9F5-BBE4-469D-93DC-AA2C1101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932A-94D2-40EE-AF03-D6502A5E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2924-1891-451F-87AB-C2841AA4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2224-A705-4016-98BB-AC5677A7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0376-AEBC-4D0F-B7FE-4B830228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B646-B1DE-4B82-AECC-A6426E89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BEAF-2852-44F0-9BB3-28244A0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859-11A5-4851-A5EE-60758933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D899-A568-4145-8BF3-DD8CE335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A81A-0349-47F6-BFF9-8F22A783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5A89-A672-4503-B792-F1F81FEE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E206-7F44-405E-AC38-CE595E65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05DA-F892-4022-BD1F-EAA89C53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47F-75B0-412B-A41E-68FABED3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4C7-1150-4D1C-89C3-F2705F8F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CF3-709D-44AB-83E2-8B222102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EF6-19BC-4B48-9232-1B196572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E42-F8E4-4D32-9836-37340EC8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866-858F-4B5E-AB56-52CB1C7B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368-C822-46E1-B1F5-225CD843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7D6A-73F4-4738-A0FB-8C42052D3E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600F-1F65-461A-AD58-B1A0AB700A8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z%20irodalmi%20hivatkoz&#225;sok%20formai%20k&#246;vetelm&#233;nye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zakirodalmi bizonyíték-kontroll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zakirodalmi bizonyíték-kontroll a dolgozatb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ereplő állításokhoz felhasznált irodalm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ésére szolgá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fogad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eérkező anyag fogadása a párhuzamosan futó szekciókból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trukturális ellenőrzés, mellébeszélés-kontro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igazolás elkészítése, majd küld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anyag továbbküldése vizsgálat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z eredmény vizsgáló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edmények vizsgál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vizsgálandó anyag átvétele, majd vizsgál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beérkező dolgozat szakirodalmi hivatkozása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gfelelnek e a szabályzatna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Az irodalmi hivatkozások formai követelmény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gen, a dolgozat továbbküldésre kerü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m, a dolgozatban lévő hibák feltárásr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rül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hetséges hibák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lgozat szerzőjének megállapítása nem fedi a valóságot(igazságot) ,vagyis téves megállapításokat, állításokat tesz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lgozat szerzője által hivatkozott forrás álláspontját átformál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bizonyításának módjai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gjelölt forrás- és a dolgozat szerzőjének álláspontjainak az összehasonlítása.(eltérések esetén hib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zerző helytelen állítása(i) bizonyíthatóak a megfelelő szakember megkérdezésével, illetve szakkönyvek állításaiv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z Eredmény vizsgáló nem talált hibát akkor, igazolást állít 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zt követően továbbküldi az eredményeket a soron következő munkafolyamatna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datvagyon ellenőrzés munkakörne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00:25Z</dcterms:created>
  <dc:creator>LaCae</dc:creator>
  <dc:description/>
  <dc:language>en-US</dc:language>
  <cp:lastModifiedBy>Vrabély Balázs</cp:lastModifiedBy>
  <dcterms:modified xsi:type="dcterms:W3CDTF">2008-06-04T07:49:38Z</dcterms:modified>
  <cp:revision>8</cp:revision>
  <dc:subject/>
  <dc:title>Szakirodalmi bizonyíték-kontroll </dc:title>
</cp:coreProperties>
</file>