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5BF-89AD-45D6-BF7C-9A82B1FF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180-6715-4D49-8F19-4DD25D02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96A7-14FC-4328-8BD1-B40E855D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715-64CD-4395-A626-6C81F835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4B0F-ABA5-4EE1-A30B-5F1732CF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29DD-8932-4C8E-A290-6EEC7872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4A7F-ACE4-4EB8-A4C4-CFF1DA81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4616-107C-4903-A2A3-EA5859AB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D8C8-357E-4090-AF54-1EDFF3BC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BBBF-7F82-41EB-BE2F-765FE7B9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1CDE-088C-4D8E-A3BD-A8D29BC3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5FC-ADDB-4301-A470-F62FAA47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2E1A-9D64-4263-AB50-8706CCC1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D5A7-C814-49BA-BE4D-B5A4E48F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4CCA-22A5-4FE6-8C43-6715098B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392F-B47B-426E-BA60-452A0540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F4FE-7C58-429D-A80E-B44CAB81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C19-61ED-4088-9116-4D0AB366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2F6-5FEB-43D4-9B2D-86C40979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FCC-FCB9-43E8-8978-8EB2F178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991-B0E9-49B0-A30F-5C03FF1B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C1D-14FF-499D-ABA4-22A5A97A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274-52F4-43F1-BFC5-C38348DC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6E2-EF24-496B-B762-865124F5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E9EE-F0D3-4EF7-8E30-B8021E7BCA02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F3F0-C824-4C21-A1BE-9B3F838DD5D0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Önéletrajzi említések mikéntj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munkakö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unkakör célja, hogy az összes többi munkakör elkészültének folyamatáról adjon képet. Valamennyi, a munkakörök kialakításához fűződő információ dokumentálásra kerül it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munkakör célj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unkakör célja (vélhetőleg) az, hogy a szervezetről, ahol sok-sok munkakört látnak el, átfogó képet kapjon egy, a szervezethez újonnan csatlakozó munkavállal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munkakör fela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unkakör feladata, hogy az összes többi munkakörhöz kapcsolható információt, tapasztalatot egybegyűjtse, és ezáltal átfogó képet nyújtson a munka irányítóinak a munka menetérő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hierarchiáró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unkakörnek a hierarchia többi eleméhez egyenként kapcsolódnia kell, és naplóznia kell az egyes munkakörökhöz kapcsolódó történések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7:55:24Z</dcterms:created>
  <dc:creator>Viktor Varga</dc:creator>
  <dc:description/>
  <dc:language>en-US</dc:language>
  <cp:lastModifiedBy>LaCae</cp:lastModifiedBy>
  <dcterms:modified xsi:type="dcterms:W3CDTF">2008-06-02T12:25:45Z</dcterms:modified>
  <cp:revision>5</cp:revision>
  <dc:subject/>
  <dc:title>Önéletrajzi említések mikéntje</dc:title>
</cp:coreProperties>
</file>