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DDDF-EB26-4C1B-8B8E-B19F9C60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B60E-A40E-4A75-92CC-BDF98184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130-CC7B-44B1-B6FA-C42CB876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A92-45AC-4A66-A7D8-441C6BC9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D3F6-CB6D-4613-9944-82AA2B18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DB30-BC16-4245-95DD-EFED7A20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3916-32F6-4585-B4C4-0865440E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77EA-7B52-4256-B6E0-8CECC60E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618B-149C-47CE-8113-C750D20C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4BD5-EEF0-45F7-BDBD-BF3DB38B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1D38-8B42-4CBF-9792-572FB780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72CB-1680-40D2-A323-8ABED588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266F-1E6C-4D63-A526-FD9EC21C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D3E7-58A1-4292-B977-6B4404F5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D252-4D3F-4E36-9454-B42FD06A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9DAF-3637-467C-94EA-043DCAE3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B3CA-1EF1-4178-999D-EA215EC2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4D8B-632E-4F14-B01F-3211573D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6EF2-1542-4BCC-8DFD-1DB5687A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F16-85EA-449D-B78D-5943F7BA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860B-5868-48B5-B6E7-6513FEEB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FD9F-CDD9-49A7-B39D-BDD75D52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F9CF-F235-49C1-B2A3-CD13EF44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6FFC-8397-4653-BE9E-6108951F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CA3A-112F-40C2-A190-52A9C3818210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B6D7-EAEB-4833-B116-B31E81053C8D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ffffff"/>
                </a:solidFill>
                <a:uFillTx/>
                <a:latin typeface="Verdana"/>
              </a:rPr>
              <a:t>Mellékletekről általába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ben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táblázatok, ábrák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és olyan dokumentumok szerepeltethetők, amelyek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a dolgozat mondanivalójának részletes megértésére szolgálnak,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mindamellett a mellékletek a reprodukálhatóságot is támogatják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Ide kerülnek azok a nagyobb méretű táblázatok, ábrák, amelyek szövegközi elhelyezése gondot okozott volna. Ide helyezhető el továbbá a kérdőíves felmérés alapjául szolgáló dokumentumok, továbbá a statisztikai és matematikai számítások alaptáblái is. Egyes esetekben rövidebb szöveges dokumentumok (pl. szerződések, jogszabály részletek, stb.) is helyet kaphatnak itt. 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et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oldalszámozni nem kell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(ezt végül is nem is fontos ellenőrizni, mert ha van van, ha nincs nincs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eket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sorszámozva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illetve a dokumentum főszövegében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hivatkozva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kell feltüntetn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(ek)et az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Irodalomjegyzék után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római számokkal jelölt oldal-számozással ellátva kell elhelyezni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z utolsó 3 melléklet az alábbi: rezümé, hallgatói nyilatkozat, konzulensi nyilatkozat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- Köszönöm a figyelmet!" szöveg nagy betűkkel. (Ez csak PPT-bemutatónál kel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ffffff"/>
                </a:solidFill>
                <a:uFillTx/>
                <a:latin typeface="Verdana"/>
              </a:rPr>
              <a:t>Elsődleges ellenőrz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Melléklet-e egyáltalán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a beadott nyomtatvány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Igen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: további vizsgálódásra, elemzésre meh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Nem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: visszaküld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Milyen típusú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melléklet a beadott nyomtatvány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DO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- P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- X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- online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ülön elbírálás az egyes típusoknál (részletezés az előző, ill. a következő diákba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ffffff"/>
                </a:solidFill>
                <a:uFillTx/>
                <a:latin typeface="Arial"/>
              </a:rPr>
              <a:t>Formai értékelés on-line (internetes) melléklete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Online források esetén fontos a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teljes(!) elérési út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keletkezés, érvényesség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és a letöltés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dátum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ának megadása, hitelessé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Helyes-e a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hivatkozások kezelése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(online hivatkozások, frissesség, szerzők megadása, megjelentetés módja, …)? Részletes lista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hivatkozott oldal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, ha nem hibás az elérési út,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egyből elérhető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hivatkozásokat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dokumentum mélységig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kell megadni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internetes oldal használatának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dátumát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is közölni kel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az internetes hivatkozásokat a tartalomjegyzékben elkülönítetten kell kezelni, a rájuk történő hivatkozás az Internetre utaló „I” betűvel, sorszámozással történik (pl.: I1, I2, I3, ….. In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Pl: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Kiss Endre: A globalizáció és a belátható jövő. In: INCO [online].4.évf.2002.1.sz. [2003.01.31.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&lt;http://www.inco.hu/inco7/global/ovocikk0.htm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Munkakörkód 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11(onlin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Dolgozatkó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„Az XLS/online nyomtatványok formai követelményeinek megfelelt/nem felelt meg és további értékelésre alkalmas/jelen formájában nem értékelhető.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Meg nem felelés esetén részletes hibalista KELL, ami egy előre legyártott listából a megfelelő elemek kiválasztását jelenti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Dát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Munkakör vezető aláírá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5:21:19Z</dcterms:created>
  <dc:creator>norbii</dc:creator>
  <dc:description/>
  <dc:language>en-US</dc:language>
  <cp:lastModifiedBy>LaCae</cp:lastModifiedBy>
  <dcterms:modified xsi:type="dcterms:W3CDTF">2008-05-04T21:28:57Z</dcterms:modified>
  <cp:revision>52</cp:revision>
  <dc:subject/>
  <dc:title>1. dia</dc:title>
</cp:coreProperties>
</file>