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BF5F-6A1E-4FFF-A569-B9D6DBA5F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A495-D50D-4E74-89A6-50F53FC4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01C0-C4EC-4025-81EA-5E6E71A8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24D3-BC0B-4396-BE83-1A2CB086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7C36-1435-49DC-A517-4D457461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6821-83D6-4E89-89E9-A02025A8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0A7F-138A-4E58-86EE-BDE591FE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EADF-3112-4D62-991E-A25B1EF7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333D-B122-471B-8FAA-E6A35960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28A9-DC3F-4DCB-85B9-5D3352F6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CE45-DDE1-422A-9F47-4E890A81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5784-DF25-403D-827C-A2D8DB64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233A-D2D0-4DE4-BE53-0E11E6B2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6E9C-37A2-4ECC-A723-2BC071A0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A519-F5F0-407B-83B1-A1312036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E9BB-F742-4444-8872-CF293DD91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2463-2787-49F3-9A17-0D2AF6F3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74E7-F9EF-40D5-A5FA-44C511C7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F197-E65F-408D-9995-20B55458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FB9A-16C7-49CE-8334-88319CA6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9806-B6C7-4EF6-96AD-716F2350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DD9F-722F-4C73-AE7C-FF4C6014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A551-0EB6-43A9-9E73-15E3619E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13D8-5B33-48A9-8C3C-67A41F04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2351-1010-4C08-865C-E38E07D4B0C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3C75-9C4D-4B11-B03A-3F1A959936C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aser.sztaki.hu/ctptech.html" TargetMode="External"/><Relationship Id="rId2" Type="http://schemas.openxmlformats.org/officeDocument/2006/relationships/hyperlink" Target="http://www.laser.sztaki.hu/pages.html" TargetMode="External"/><Relationship Id="rId3" Type="http://schemas.openxmlformats.org/officeDocument/2006/relationships/hyperlink" Target="http://www.laser.sztaki.hu/pages.html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920" y="2030040"/>
            <a:ext cx="851040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Nyomdai előkészítő</a:t>
            </a:r>
            <a:br>
              <a:rPr sz="40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készítette: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Renczes Gergely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-228600"/>
            <a:ext cx="77724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Nyomdai előkésztő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50560" y="1269720"/>
            <a:ext cx="8569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88000" bIns="46800"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TDK munkák készítésénél fontos állomás a nyomdai előkésztés. A TDK beadásakor előírnak bizonyos formai követelményeket 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TDK dolgozatnak mint tartalmilag mint stilisztikailag megfelelőnek kell lennie. A/4-es papíron ,szövegszerkesztővel kell megirni,13 vagy 14-es betűmérettel, bal oldalon 3-cm-es  a többin 2,5-cm-es margóval. Egyes részek és fő fejezetek, beleértve a bevezetést és értékelést, új oldalon kell, hogy  kezdődjenek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07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ímek alcímek betűiről (kis betűk, betűméret), esetleges aláhúzásából vagy vastagításából, és a sorban való elhelyezéséből (középre, oldalt) tűnjön ki azok fontossága, és azok az egész dolgozatban következetesek, nagy és decimális számozásúak legyenek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zövegben lévő címek előtt és után -azok fontosságától függően, a jobb áttekinthetőség végett- üres sort kell kihagyni.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1280" y="-1000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agolódása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4360" y="836280"/>
            <a:ext cx="8208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evezet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rodalmi áttekinté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yag módsz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edmények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övetkeztetése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Összefoglalá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rodalom jegyzé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 ezeknek mind megfelel akkor elkezdhetjük megvizsgálni ,hogy a nyomdába adásnál mivel kell tisztába lenni, mert  a nyomda abból fog dolgozni amit megkapott. Az egyes nyomdaipari folyamatok során több különböző képen is elkészülhet a munkánk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nyomdák általában előírják, illetve meghatározzák azt, hogy milyen felbontásban illetve fájlformátumban adják le náluk az egyes anyagokat. Meghatározzák, hogy az  adat Pendrive-on,Cd,DVD,-n vagy FTP-ben legyen leadv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DK munka nyomdaipari előkészitésél a párhuzamos munkakörök katalógus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826560" y="2133360"/>
            <a:ext cx="7705800" cy="38876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                                                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formátum             átfutási idő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Témaválasztás konzultálása     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nyomtatvány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           3 óra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Szakirodalmi formai ellenőr      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nyomtatvány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            3 óra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Plágium-kontroll                      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nyomtatvány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           3 óra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Korrektura-ellenőr                   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nyomtatvány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           3 óra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Jogi kockázat-ellenőrzés          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nyomtatvány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3 óra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Strukturális ellenőrzés             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nyomtatvány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3 óra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(fejezetek, alfejezetek, helyes irodalmi tagolás megvan e ) 3 óra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6920" y="-387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Eredmények fogadás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187280" y="1628640"/>
            <a:ext cx="7128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nyomdába küldés előtt meghatározzák, hogy külalakilag milyen legyen a TDK-dolgozat (tipográfiailg egyénre szabva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nyomdába megérkeznek a dolgozatok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Visszaigazolás történik a nyomda részéről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nyomda elvégzi a szakmai munkállatoka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Áttérés a 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következő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feladatr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Katalogizá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leadott dolgozatok a nyomdai leadás előtt katalogizálják így meggyorsítva a nyomdaipari munkálatot. A TDK dolgozatokat egyszerre adják általában  le így megkönnyítik a nyomda dolgát.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Hibakezelé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84360" y="1483920"/>
            <a:ext cx="72007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őtte meg kell győződni, hogy megfelelően és az a nyomdai leadás kívánalmainak eleget tesz e terjedelmileg is a dolgozat.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hetséges hiba, ha például nem a megfelelő betűtípust, vagy nem a megadott elrendezésben készül a tdk dolgozat.  Hiba lehet a konzultáció során, ha a tartalom nem megfelelő. Ha nem a megfelelő információkat tartalmazza. Esetleg nem teljesen részletes. Ilyenkor nem halad tovább a nyomdai előkészítő munkakörbe az anyag, hanem visszakerül az előző munkakörhöz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5640" y="-316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Visszaigazolá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403280" y="9075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nyomdából megtörténik a visszaigazolás hogy a dolgozattal kapcsolatban végrehajtották a szükséges nyomdaipari munkálatoka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2421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Feladatteljesítési </a:t>
            </a:r>
            <a:r>
              <a:rPr b="0" lang="hu-HU" sz="5400" spc="-1" strike="noStrike">
                <a:solidFill>
                  <a:srgbClr val="ccecff"/>
                </a:solidFill>
                <a:latin typeface="Arial"/>
              </a:rPr>
              <a:t>igazolá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3784680"/>
            <a:ext cx="7232760" cy="30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artalm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unkakörkó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olgozatkó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egérkeztek az 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általad küldött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eredmény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át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lkalmazott n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Feladatteljesítési </a:t>
            </a: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igazo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artalm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unkakörkó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olgozatkó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egérkeztek az 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általad küldött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eredmények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átu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lkalmazott ne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Nyomdai előkészítés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yomdai előkésztés előtt a TDK tartalmilag már össze van állítva a nyomdai munkálatok ezeket követik majd előre meghatározott léptékekben. Az így elkészült TDK dolgozat majd ezek után kerül a következő munkafázisba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847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Könyvtár, katalógus adatai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plomadolgozatok elektronikus úton való tárolása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5415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könyvtári katalógus elektronikus felhasználása során lehetőség nyílik bárhonnan hogy a könyvtár anyagai szakirodalmai között kereshessen az érdeklődő. Speciális integrált rendszer, és kereső segítségével olyan dokumentumokra is rá lehet bukanni,ami eddig nem volt megtalálható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hazai könyvtárak közös elektronikus úton működő katalógusa lehetővé teszi, hogy bármely nyilvános és nem nyilvános könyvtár katalógusában is kereshessen a kívülálló.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Könyvtári munkát katalógusba foglalást megelőző folyamatok: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. kör (szakterület és problématípus, ill. konzulens és célcsoport lehatárolása) pl. agrármeteorológiai előrejelzések, OMSZ média-tortarészének csökkentése, (referenciákkal rendelkező) konzulens = X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émaválasztás konzultálása 2. kör (konkrét kérdés és szükséges erőforrások lehatárolása) pl. OMSZ-megállapodással és saját hatáskörben gyűjtött adatok COCO, CART módszerrel történő feldolgozás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DK megszerkesztése az adott formai követelmények figyelembevételé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lenőrizni a helyes formai tartalmi követelmények meg vannak –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yomdai előkészítő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217080" cy="71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yomdai munkálatok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DK leadása , TDK előadás , értékelés ebben benne van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mai értékelés (DOC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mai értékelés (PPT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mai értékelés XLS melléklete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mai értékelés on-line melléklete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llébeszélés-kontroll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sznosság-kontroll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edményhirdet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edményhirdető/archivá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intézkedik a díjak, felöl, eredményes diplomamunkánál ellenőrzi az előírt nyelvvizsga meglétét, egy példányt kiad, egyet elhelyez az iratmegőrzőb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helyezés a könyvtárban esetleg  egy elektronikus könyvtárba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884232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napság a TDK-kat dolgozatokat név szerint nyilvántartják elektronikus programsegítségével majd ezeket a  TDK-kat, dolgozatokat  könyvtárban tárolják. Azonban lehetőség nyílhat ezen programok fejlesztésére is ami megkönnyítheti azoknak a dolgát akik később szintén TDK-kat és dolgozatokat akarnak írni.TDK készítésénél gondot okozhat ha a dolgozathoz nem talál az ember elég anyagot. Ilyenkor jön jól a könyvtári katalógus amely segítségével több információt hamarabb össze tudunk gyűjteni.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Elektronikus úton sokkal könnyebbé válhat ezen dolgozatok,TDK-munkák áttekinthetősége, nyilvántartása. Lehetőséget adva arra, hogy ezek a  munkák gyorsan hozzáférhetővé váljana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Elektronikus könyvtár továbbfejlesztésénél lehetőség nyílhat például arra, hogy egy dolgozat megírásánál elkerülhetővé váljon az egyes témák hosszas utánjárása ezért  hasznos lehet egy egyszerű kereső alkalmazása egy erre alkalmas programba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Egy  ilyen elektronikus könyvtár továbbfejleszthető folyamatosan.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Például a keresők továbbfejlesztésével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Ötleteket lehetne felkínálni a program segítségével a felhasználónak milyen témákban érdemes az adott dolog után kutatni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ogram segítségével nyomon követhetővé válhat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691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lyen munkát érdemes megnézni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lyen munkának mekkora volt a látogatottság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etleges visszajelzések lehetőségének elhelyezés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lyen munkákat érdemes megnézni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156360" y="2205000"/>
            <a:ext cx="199404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51912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0202"/>
                </a:solidFill>
                <a:latin typeface="Arial"/>
              </a:rPr>
              <a:t>Javítás az előző hátterében</a:t>
            </a:r>
            <a:br>
              <a:rPr sz="2400"/>
            </a:br>
            <a:r>
              <a:rPr b="0" lang="en-US" sz="2400" spc="-1" strike="noStrike">
                <a:solidFill>
                  <a:srgbClr val="ea0202"/>
                </a:solidFill>
                <a:latin typeface="Arial"/>
              </a:rPr>
              <a:t>Reális kérdések: a nyomdai változat és a normál (kötött) változat közötti eltérések kezelése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7240" y="2441160"/>
            <a:ext cx="756144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nyomdai változat és a normál változat közti  eltérések problémájának kezeléséhez segítséget nyújthat egyrészt az egyetem honlapján a TDK bejegyzéseknél leírtak. A nyomdák általában, de az egyetem nyomdájában is hasznos tanácsokkal láthatják el a TDK késztőjét.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avít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z oldaltörések és a nyomtatási beálltások (színes, szürkeárnyalatos) nagyban befolyásolják az anyag érthetőségét és nyomon követhetőségét.  A nyomdai kialakítás befolyásolhatja a későbbi bírálatot is (színek használata stb.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Javítás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TDK formai követelményei a DTK kiírásban szerepelnek. a nyomdai változat és a normál kötött változat közötti eltérések kezelésében a hallgatókat  a konzulensek segitik. A DTk formai kialakításánál általában az a lényeg, hogy a tartalom és a forma összhangban legyen, ugyanakkor megfeleljenek a szükséges feltételeknek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-17136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76248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DK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137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 eldöntöttük, hogy elkészül a TDK akkor a nyomdába való leadás előtt nem árt ha a következőket előtte eldöntjük.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t kell megválasztani a készülőben lévő TDK formai jellemzői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Nyomtatás színesben, vagy feketében történjen, a kivitel szerint is lehet sztendert kivitel, (göbölytett gerinc,lekerekitett sarkok), egyszerű kivitel stb. Ezenkívül még meg kell határozni hogy spirálozva legyen e vagy sem és az aranyozás is ide tartozik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 az a nyomdai előkészítés 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676160"/>
            <a:ext cx="8663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nyomdai előkészítésnél digitális anyagot viszünk fel a nyomóformár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z négy folyamatból áll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zínre bontá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aszterizálá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evilágítá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ntírozá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Verdana"/>
              </a:rPr>
              <a:t>Színre bontás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 (színes anyagok esetén). A nyomtatandó anyagot RGB színekre bontják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Verdana"/>
              </a:rPr>
              <a:t>Raszterizálás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. A vektoros állományokból,állitják elő amiket áttalakitanak raszterressé.Ilyenkor figyelembe kell venni az adott levilágitó gép felbontását,teljesitményét,valamint az épen alkalmazott nyomdaipari eljárást, és még az adott nyomdatechnológiai körülményeket. Ezek alapján a nyomtatási rácsot.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Verdana"/>
              </a:rPr>
              <a:t>Levilágítás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. A színre bontott és raszterizált anyagot levilágítással a filmre viszik. </a:t>
            </a:r>
            <a:r>
              <a:rPr b="0" lang="hu-HU" sz="20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CTP technológia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 alkalmazása esetén a levilágítandó anyagot közvetlenül az ofszetnyomógépben használható nyomólemezre világítják l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Verdana"/>
              </a:rPr>
              <a:t>Montírozás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. Ilyenkor állítják össze  a „montirozóasztalon” a rendelkezésre álló képeket,   Ez a lépés napjainkban sokszor kimarad a folyamatból, mert a nyomdai előkészítést végző programcsomagok (pl. </a:t>
            </a:r>
            <a:r>
              <a:rPr b="0" lang="hu-HU" sz="20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Pages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) lehetővé teszik az adott anyagok igényszerinti elrendezését. Természetesen CTP technológiát használva a montírozás szoftver úton történik (pl. a </a:t>
            </a:r>
            <a:r>
              <a:rPr b="0" lang="hu-HU" sz="20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Pages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 programcsomag segítségével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Forrás: http://www.laser.sztaki.hu/ctptech.htm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898560" y="1052640"/>
            <a:ext cx="7634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emezkészíté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 A folyamat legutolsó lépésében a montírozott filmet átmásolják az ofszetlemezre (kontaktolás), majd a lemezt beégetik. Ezután a lemez készen áll a nyomtatásra. Raszterezésr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elyes nyomdai előkészítés alapja a  megfelelő grafikai előkészíté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z  előkészítési munkák  során általában már egy helyen el tudják intézni a tördelést szkennelést ,és a design kialakítását is. A garantált minőségi munkák kialakításánál (ide értve TDK, is) célszerű olyan nyomdát választani ahol mindezt egyszerre elvégzik 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5:17:55Z</dcterms:created>
  <dc:creator>xxx</dc:creator>
  <dc:description/>
  <dc:language>en-US</dc:language>
  <cp:lastModifiedBy>LaCae</cp:lastModifiedBy>
  <dcterms:modified xsi:type="dcterms:W3CDTF">2008-06-02T12:13:36Z</dcterms:modified>
  <cp:revision>11</cp:revision>
  <dc:subject/>
  <dc:title>Nyomdai előkészitő</dc:title>
</cp:coreProperties>
</file>