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0904-6291-416D-A769-CE77A1FE6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F88A-D146-46AE-BD97-A230CC307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7AA8-40BC-45DD-B19C-7129FC4D1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60DD-1C92-4348-A74D-1F1C87B84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D74DC-2E64-418F-946D-967F63BF9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A96E1-F9D7-4744-B248-9D085CF81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A0FE1-E4AD-4975-A0E6-6F0BEDBD0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61A5C-56DB-42D0-A66D-4D656CD42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F5CDB-6E86-4B44-95B4-573673CFE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E7147-40DA-4E3E-B7DC-4BA1D57EF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80C0C-E043-4437-996E-1C2ECAF5F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3D99-648F-4B6F-9F93-5097AA5F9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8BEBB-1DD6-482D-862F-FA6D8EC0B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2EE9B-4F46-413E-AE89-1EEE275E6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42554-CE63-4B8B-9939-F245717C2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20CC6-7DD2-4FE2-BEB4-E5A625ED1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4A63D-E37B-4602-8B87-0B8B475DC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6667-D8C3-43C5-9296-708950A68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4CFC-513E-4096-87EC-8F91D8A0F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E83F-D8F2-44A6-B785-B8EBEE5C3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D403-9655-4B08-B3FF-9028926E3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5072-4720-4622-A8DA-EF4F5DDB7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4F33-58E9-4F73-9879-DE5B3D8F7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E654-2CD2-482E-A736-577A98793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EE46D-2711-4472-BA40-856CDC97F3F8}" type="slidenum">
              <a:rPr b="0" lang="hu-H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D52D4-F0B8-40C2-B54C-8F43D614A83A}" type="slidenum">
              <a:rPr b="0" lang="hu-H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webforditas.hu/index.php" TargetMode="External"/><Relationship Id="rId2" Type="http://schemas.openxmlformats.org/officeDocument/2006/relationships/hyperlink" Target="http://www.webforditas.hu/index.php" TargetMode="External"/><Relationship Id="rId3" Type="http://schemas.openxmlformats.org/officeDocument/2006/relationships/hyperlink" Target="http://www.webforditas.hu/index.php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Idegen nyelvű változatok kezelés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 munkakö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tdk/diploma dolgozatok idegen nyelvű változatainak kezelésének legalább kétféle szempontja lehetséges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gy-egy dolgozat értékelése kapcsán nem várható el az értékelőktől, hogy azzal nyelvvel tisztában legyenek, amelyen a dolgozat íródott. Ez a munkakör ezt a problémát oldja meg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 munkakö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munkakörnek az előzőekből következően vagy a hierarchia legtetején lévő munkakörhöz kell kapcsolódnia, vagy pedig önmagának kell lennie a hierarchia legtetején lévő munkakörnek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roblémák a hierarchiáva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ekintettel arra, hogy a hierarchia teteje a témaválasztási konzulens munkaköre, ami még nem az elkészült dolgozatok értékelésével foglalkozik, ezért vissza kell vonnunk előző kijelentésünket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munkakörnek tehát a dolgozat értékelésével foglalkozó első munkakörhöz kell kapcsolódnia, vagy önmagának kell lennie az első ilyen munkakörnek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MIÉRT van szükség idegen nyelvű változatok kezelésére?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Azért, mert az EU-ba való belépés, valamint a felsőoktatás standardizálása miatt (bolognai folyamat) az intézmények egyre inkább ki vannak téve annak, hogy nem csak magyar nyelvű dolgozatokkal találkoznak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ilyen nyelven és mennyit?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indig a dolgozat értékelőinek anyanyelvére kell lefordítani az idegen nyelvű dolgozatokat, és a dolgozat egészét le kell fordítani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gyan?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Léteznek olyan weboldalak, amelyek segítségével le lehet fordítani szövegeket, vagy weboldalakat (</a:t>
            </a:r>
            <a:r>
              <a:rPr b="0" lang="hu-HU" sz="24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www.webforditas.hu</a:t>
            </a:r>
            <a:r>
              <a:rPr b="0" lang="hu-HU" sz="24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/</a:t>
            </a:r>
            <a:r>
              <a:rPr b="0" lang="hu-HU" sz="2400" spc="-1" strike="noStrike" u="sng">
                <a:solidFill>
                  <a:srgbClr val="ffffcc"/>
                </a:solidFill>
                <a:uFillTx/>
                <a:latin typeface="Verdana"/>
                <a:hlinkClick r:id="rId3"/>
              </a:rPr>
              <a:t>index.php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). Az ott alkalmazott módszerek alkalmasak lehetnek idegen nyelvű dolgozatok fordítására némi további fejlesztés után, ugyanis ezek a programok még csak tükörfordítást tudnak végezni.</a:t>
            </a:r>
            <a:br>
              <a:rPr sz="2400"/>
            </a:br>
            <a:br>
              <a:rPr sz="2400"/>
            </a:b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A program jelen formájában is megkönnyítheti a fordítók munkáját, de egyenlőre önmagában nem nyújt kielégítő megoldást. Mindenképpen alkalmazni kell valakit, aki az idegen nyelvű szövegeket lefordítj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degen nyelv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z idegen nyelvű változatok kezelésének feladata magában foglalhatja dolgozatok idegen nyelvű változatainak nyelvhelyességi szempontú vizsgálatát i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9T16:25:48Z</dcterms:created>
  <dc:creator>Viktor Varga</dc:creator>
  <dc:description/>
  <dc:language>en-US</dc:language>
  <cp:lastModifiedBy>LaCae</cp:lastModifiedBy>
  <dcterms:modified xsi:type="dcterms:W3CDTF">2008-06-02T12:34:50Z</dcterms:modified>
  <cp:revision>7</cp:revision>
  <dc:subject/>
  <dc:title>1. dia</dc:title>
</cp:coreProperties>
</file>