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A168-A430-4FC7-8B40-2F13472A0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ECA3-2396-4AA0-B182-10EB23D28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C308-A520-4A2D-9353-4E474A4C1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555C-E6E8-4650-A895-E1F2870E8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02115-40A0-4788-AB9D-018CA4A9B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8ABD6-2FC0-453A-933B-7C6206687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8024E-CCEF-45E0-9687-7771D2019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8F487-4DEB-4F02-AA88-82FBE9EDD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144AA-4E7C-4803-9AD5-26BF94DA7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978B5-2464-481A-9842-1D594827C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18218-BEFB-478A-B32D-2794707DF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A006-6A5B-43E9-9920-639B9CD2A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3D75F-D6DB-40EA-B5F2-D6E960197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CF088-F4AC-4AA3-B7AD-A69414458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7305C-33ED-4337-957A-1243647C3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688DE-A719-4A8A-9D5E-680A35E08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82233-DC1E-429B-BF8F-67A79F6BC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AF59-5582-4AD2-9BB1-7A957F146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B45C-90E7-4FEC-BF46-F8D98A2C1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0B20-D510-4882-A50B-4ABC18BDC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53EA-6305-4A52-9CAF-712066077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8990-AEDF-4E10-86EF-CE839160E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FABA-5734-4914-8BD5-2F8C46E28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AFC9-0AD4-4B35-BBF1-2F4B93426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57CD8-909E-444B-B71B-6C0DADB7AD28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5ED60-2C73-4613-9A63-8D5FF07EAD0E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ccff"/>
                </a:solidFill>
                <a:latin typeface="Verdana"/>
              </a:rPr>
              <a:t>Kommunikációs szakértő, aki azért felel, hogy a potenciális érintettek képben legyenek a folyamat után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43588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Végső fázisra tanács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20720" indent="-277200">
              <a:spcBef>
                <a:spcPts val="575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Verdana"/>
              </a:rPr>
              <a:t>A dolgozat teljes újbóli átolvasása, átnézése, hogy ne merüljenek fel esetleges helyesírási hibák, vagy értelmetlen mondatok.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lvl="1" marL="720720" indent="-277200">
              <a:spcBef>
                <a:spcPts val="575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Verdana"/>
              </a:rPr>
              <a:t>Meg kell nézni, hogy mindenhol megtalálható-e ahol kell az utalás, és annak helyes használta,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lvl="1" marL="720720" indent="-277200">
              <a:spcBef>
                <a:spcPts val="575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Verdana"/>
              </a:rPr>
              <a:t>a diploma dolgozat végén, a bekezdés  l) pontjában hivatkozott, a dolgozat rövid bemutatását kell besorolni.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lvl="1" marL="720720" indent="-277200">
              <a:spcBef>
                <a:spcPts val="575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300" spc="-1" strike="noStrike">
                <a:solidFill>
                  <a:srgbClr val="ffffff"/>
                </a:solidFill>
                <a:latin typeface="Verdana"/>
              </a:rPr>
              <a:t>Ezen az oldalon fel kell tüntetni a dolgozat szerzőjének a nevét, a dolgozat címét, a belső és a külső (ha van) konzulens nevét, a dolgozat témájára utaló 4-5 kulcskifejezést, valamint meg kell adni a dolgozat 8-10 soros leírását.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3628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Átnézni az irodalomjegyzéket, hogy minden helyesen, hibátlanul van leírva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 Melléklet rovatban ( ha esetleg van) megnézni, hogy minden kép, tábla mellé van-e rakva, írva sorszám melyet a dolgozatunk anyagában is megtalálunk és ez által tudunk rá hivatkozni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Verdana"/>
              </a:rPr>
              <a:t>Ha ezekre ügyelünk és odafigyelünk akkor sikeres szakmai illetve diploma dolgozatot tudunk írni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Értesíté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iba következése esetén a potenciális személy értesítése levélben, e-mail-ben, telefonon vagy esetleg szóban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Valamilyen adat hiány esetén való szólás az előzőekben írt módon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anácsadá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Különböző formátumú tanácsadások, felvilágosítások ( mint például papíron történő vagy interneten, e-mail-ben ( elektronikus levél útján), televízióban, szóban történő felvilágosítások, tudósítások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z érdeklődő személyek kérdéseire válaszadá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egítségadá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 szakértő segítséget nyújthat a potenciális személyek kérdéseire válaszadással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ha esetleg olyan témában van a probléma mi el lett rontva és visszafordíthatatlan akkor a szakértő segítséget nyújthat egy másik téma keresésében vagy felnyújtásában (pl.: ha valakit nem vettek fel az egyetemre akkor a szakértő segítséget nyújt, hogy hova menjen el, azzal a tudással mi az illetőnek van meg, ki az egyetemre jelentkezett, de nem vették fel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20:07:35Z</dcterms:created>
  <dc:creator>LaCae</dc:creator>
  <dc:description/>
  <dc:language>en-US</dc:language>
  <cp:lastModifiedBy>LaCae</cp:lastModifiedBy>
  <dcterms:modified xsi:type="dcterms:W3CDTF">2008-05-04T21:25:53Z</dcterms:modified>
  <cp:revision>2</cp:revision>
  <dc:subject/>
  <dc:title>1. dia</dc:title>
</cp:coreProperties>
</file>