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152-958C-4A1A-B3A2-63BCB3D3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0A2-9F84-4FF1-987F-E84E2A6D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D61-5791-4947-850A-738DE446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063-2C73-4EEB-A50A-A6DD07FF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175C-CA7E-4082-972E-CB11647F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3815-964C-449B-9C26-01D04205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11C3-CA70-40FC-9517-E225954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64E9-B53D-4B32-8F9D-21418454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6AAC-22C5-4BB5-B477-3729E334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0C40-8D17-4C5E-B2E0-5E477F9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0FD2-AD4E-4285-9CA3-ECFCC45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07D-7E8A-4AF2-8367-8513F555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FEE9-FCF0-4449-874B-9B336256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6469-2E5C-4604-AD23-73237E9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930A-B6EC-455F-AC42-9B99E66B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9D87-627E-4F2D-9885-B310B260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F35E-884F-4061-A691-EB752F87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119-530B-41EA-AA6D-F758E4E0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394-C0EB-4FED-95C6-DA7EC582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074-983B-457C-B779-A8D32F4E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ABB-9A14-46C9-AC7E-1C4EC882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FB5-F1BB-406C-8A55-AF6D309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9F8-E5C8-48D1-BD14-7EB1FE2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1BE-2A78-4F4C-8F8A-07EF1BA4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8D34-2EBF-46F3-BAC3-DC085817C7B4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B6D-AA5F-4173-9557-D6AA6A2BC0E4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rukturális ellenőrz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634032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Készítette: Kovács Balázs ISZ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adata, hibakeresé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eadvány helyes, előírások szerinti szerkezeti felépítéssel való egyezésének ellenőrzé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zsgálja a megfelelő formai követelmények betartását a fejezetekkel, alfejezetekkel kapcsolatban támasztott követelések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fejez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Cím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legyen rövid, érthető és tartalmat jól kifejez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evezetés (max. 2 oldal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éma elméleti és gyakorlati jelentőségével foglalkoz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Témafelvetés és célkitűzés (dolgozat 15-20%-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Szakirodalmi áttekintés (dolgozat 15-20%-a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ivatkozások, kri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nyag és módszer (max. 10-15%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ísérletezés, vizsgálat körülménye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redmények és azok értékelése (40-50%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Összefoglal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á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rodalomjegyzé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golás: könyvek,cikkek, tanulmányok, statisztikai adatforrások, jogszabályok, internetes adatgyűjt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lléklete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áblázatok, ábrák, matematikai számítások, rövidebb szöveges dokumentumok (pl. jogszabályo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 eseté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szaküldés előző állomáshoz, a kommunikációs szakértőhö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letve szerzőhöz a hibák javítása végett, a szövegforma megőrzésére töreked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 továbbküldése a következő állomáshoz a mellébeszélés-kontroll végett, amennyiben a feladat megfelel a követelményeknek, illetve ha a hibák már javításra került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3:28Z</dcterms:created>
  <dc:creator>Balázs</dc:creator>
  <dc:description/>
  <dc:language>en-US</dc:language>
  <cp:lastModifiedBy>LaCae</cp:lastModifiedBy>
  <dcterms:modified xsi:type="dcterms:W3CDTF">2008-06-02T11:27:03Z</dcterms:modified>
  <cp:revision>15</cp:revision>
  <dc:subject/>
  <dc:title>Strukturális ellenőrzés</dc:title>
</cp:coreProperties>
</file>