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7CA-3D8E-49B9-A36C-2BBA223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F1D-1FB6-44DC-93CC-46F41F6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DF5-D6B7-479F-A0EB-CFF3EB8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386-CBD0-4D3F-B1FF-43ACDF30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68B-136A-49AA-8FEA-A91E55A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2A82-5171-451D-B5D6-809CE8EB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F493-6DAE-41F5-9AAA-DE589B7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29C-6BA7-4949-A3E8-B5ED2F8F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B8E8-9A19-4247-9BF7-0B682F1C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247-2AC7-4651-A56A-210DDEE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F43-B879-445E-9520-4EE59F2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558-F430-4574-AAB9-14649961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AFC-A3C4-47ED-89AB-0F3A7C7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BB98-B348-45B8-965D-504C55B2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4A7A-4DD5-4A78-AB44-EA3D7FC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B34-B773-4173-9516-19E7D547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D78-7506-4CB0-BFBA-2054853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B07-0D26-4B60-9255-0CC6892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148-314F-441E-8F50-71666EF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D0C-B35C-4DA1-814E-8DC17832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00B-0CA6-4725-9249-E27F014F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15A-AF3B-4F30-ABE3-CBE651EF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489-F952-472F-8D86-B9B09DE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9C9-02AE-4A81-9FC1-18373F2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96F-0DA4-450C-953E-E270EF2E5D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37CB-EE1E-4050-BCA8-1916C0F712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llébeszélés-kontrol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, hogy a beadvány tartalma eleget tesz-e a vizsgálat tárgyának, illetve a címben foglaltakn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lenőrzi, hogy a szöveg tartalmazza-e a témához megfelelő alapvető információkat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ati lépéseket, vagyis megvan-e a bizonyítás helyes módszertana- alapadat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et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m közöl-e hamis, nem helytálló tény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ények közlésének –melyeknek nincs jelentőségük a problémafelvetéshez kapcsolódóan- mellő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a hiba javítása végett szintén a kommunikációs szakértőhöz, illetve a szerz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lesleges tartalom törlése (fontos, hogy megmaradjon a szöveg struktúrája, stíl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ányzó tartalom esetén kiegészí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ytálló feladat esetén továbbküldés a következő állomáshoz, a könyvtáros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34:12Z</dcterms:created>
  <dc:creator>Balázs</dc:creator>
  <dc:description/>
  <dc:language>en-US</dc:language>
  <cp:lastModifiedBy>LaCae</cp:lastModifiedBy>
  <dcterms:modified xsi:type="dcterms:W3CDTF">2008-06-02T11:39:48Z</dcterms:modified>
  <cp:revision>14</cp:revision>
  <dc:subject/>
  <dc:title>Mellébeszélés-kontroll</dc:title>
</cp:coreProperties>
</file>