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46B-0F07-43EF-934C-88D36C61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8E5-C38A-43A8-BDE7-7AA41636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DEB-69CC-4727-82D8-EDAEE315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9DA-F840-4144-A4C8-5F48706B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AA1C-0091-46DE-870A-8A61E46D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1E15-BFCA-4C86-9694-D0DDD198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1CE9-8846-4288-8034-6F4EB3A6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861D-2A82-463C-8440-B31F71B4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3C73-26FB-4D99-8474-8B77D57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5AF-6099-4ED8-A110-E4B44E4F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2FBF-C995-4F68-847A-873376F9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F27-063F-4814-96A6-F07C3BDC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9C89-FD4E-48A7-A8C2-6275F655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19C4-EFEE-4507-AF6F-BB4BDE3B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FB1C-2B79-4D8A-8D68-2DD4945F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5032-AB24-4281-9BB6-91D62074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6E78-BFBB-4F67-8533-AE932729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932-8DFC-45CE-B357-5A5B5326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037-8F2F-4C95-B9B0-01D46878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08B-D2D7-48F4-A43E-1762487E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16D-F221-41DE-8F4A-C2F9FAC9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524-3124-4582-8BC8-CF3FB38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7D8-FB6C-4924-8DDF-2924482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C93-57EC-4D3D-A9EC-F04DAAF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A948-FC0A-4E2F-959A-CA085F5234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A610-7BC5-4659-938C-730D7A87F0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i%20a%20szerz&#337;i%20jogd&#237;j.doc" TargetMode="External"/><Relationship Id="rId2" Type="http://schemas.openxmlformats.org/officeDocument/2006/relationships/hyperlink" Target="file:///Mit%20szab&#225;lyoz%20a%20szerz&#337;i%20jog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szerz&#337;i%20jogi%20v&#233;delem%20hat&#225;rai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Szerzői jogdíjak kezelése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re terjed ki a szerzői jog védelm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ban az esetben ha egy dolgozat írásánál nem használunk fel más műveket, akkor a munkakör outputja az hogy nincsen szerzői jogdíj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pedig az vitatott, hogy egy alkotás rendelkezik-e egyáltalán egyéni, eredeti jelleggel, akkor a bíróság döntése az irányadó. Az alkotás ebben az esetben kiterjed a dolgozatunkra valamint a külső forrásra i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ismeretlen író alkotásából merítünk a dolgozat írása közben, akkor nincs szükség jogdíj kezelésé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bekerült a dolgozatba egy más alkotásokból származó említés (ismert író esetén) melyből információt merített a dolgozat írója akkor szerzői jogi védelem illeti meg az alkotá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dig tart a szerzői jogi védele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zerzői művek védelmi ideje a szerző életében és a halálát követő év első napjától számított hetven évig tart,ha ezt nincs e intervallum közt a a jogdíjak kezelése munkakör kihagyható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 beadott dolgozatban tett említésekhez hozzájárul az író,akitől származnak akkor nyilvánosságra kerülhet a mű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nyilvánosságra kerülés és a hozzájárulás előtt még egy felhasználói szerződést kell kiállítani,melyben a szerző engedélyt ad művének a felhasználásár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gyan történik a jogdíjak megállapítása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 felhasználói szerződést megkötötték és az ellenértéket kifizették,akkor hozható nyilvánosságra a dolgoza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felhasználási szerződés megkötését követően jelentősen megnövekszik a dolgozat felhasználása iránti igény akkor a bíróság a szerző kérésére megfelelően módosíthatja (felemelheti) az eredeti díjazás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tételek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jogdíjak kezelés megtörtént, akkor a dolgozat a következő munkafolyamatra kerülh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minden folyamat jogilag akadály mentesen zajlott le és az elkészült dolgozatban található egyéni eredeti „ötletet” kívánja valaki felhasználni, akkor ugyanaz a folyamat fog végigmenni a dolgozat írója és felhasználó személy között, mint ami a dolgozat írása közben zajlot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Képződő dokumentumok a munkakör és a dolgozat írója felő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mentárok, egyezségkötési lehetőségek a dolgozat írója és a külső szerző közöt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gazolás, a továbblépés engedélyérő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használói nyilatkoz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ámlák a felhasználás térítési díjairó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intettek kö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ülső mű tulajdonos(o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használó(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Bíróság, mely akkor szerepel, ha vitatott az eredetiség és egyénisé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llgató feladat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hallgató köteles elindítani a szerzői jogdíja folyamatát amennyiben dolgozata megköveteli ez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indításához fel kell vennie a kapcsolatot azzal a külső szerzővel(vagy annak képviselőjével), akitől a dolgozatba szánt említések származna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engedélyezik a mű felhasználását a dolgozatban, és a felhasználási szerződést tartalmaz minden lényeges elemet, valamint a hallgató kifizette a szerzői jogdíjat, akkor szabadon használhatja azokat dolgozatáb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 feladat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 átvételét követően a benne említett források jogi kérdéseinek helyességének ellenőrzé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g kapta e az engedélyt a dolgozat készítője a forrás felhasználásá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lkészült felhasználói szerződés tartalmi helyessé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erzői jogdíjak térítése meg e törté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ellenőrzések lefutása után, igazolás kiállítása, hogy a szerzői jogdíjak kezelése terület a dolgozat készítője helyesen járt 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gdíj 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i a szerzői jogdíj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 szerzői jogdíj, a mű felhasználására adott engedély ellenében a szerzőt megillető díjazá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it szabályoz a szerzői jog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határ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zerzői jogi védelem határa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szerzőt bármilyen módon megsértik, akkor az Szjt.-ben biztosított jogérvényesítési lehetőségekkel élh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csak átdolgozásra, feldolgozásra vagy fordításra használnánk a művet már akkor is szerzői jogi védelem alatt áll, ha annak egyéni, eredeti jellege v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valamely ötlet, elv, elgondolás, eljárás, működési módszer vagy matematikai műveletről beszélünk, az nem lehet tárgya a szerzői jogi védelemne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határ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felhasználnak jogszabályokat, állami irányítás egyéb jogi eszközeit, a bírósági vagy hatósági határozatokat, hatósági vagy más hivatalos közleményeket és az ügyiratokat, valamint a jogszabállyal kötelezővé tett szabványokat és más hasonló rendelkezéseket akkor nem tartoznak a szerzői jogi védelem alá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lamint ha folklór kifejeződés elemeit tartalmazza a felhasználni kívánt mű, akkor az nem tartozik a szerzői jogi védelemb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alany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re terjed ki a szerzői jogi védele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több szerző közös művét kívánjuk felhasználni a dolgozatban (ha részei nem használhatók fel önállóan) akkor a szerzői jog a szerzőtársakat együttesen illeti meg egyenlő arányb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több szerző közös művét kívánjuk felhasználni a dolgozatban melyben a közös mű részei egymástól elválaszthatók akkor minden szerző önállóan gyakorolhatja szerzői jogai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erzői jog alany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egy gyűjtemény tartalmának összeválogatása, elrendezése vagy szerkesztése egyéni, eredeti jelleget ölt, akkor önálló szerzői műként részesül védelemben (gyűjteményes művek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haszn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unk írásánál egy mű felhasználásának minősül a többszörözés, a terjesztés, a nyilvános előadás joga, a nyilvánossághoz közvetítés sugárzással vagy másként, a sugárzott műnek az eredetihez képest más szervezet közbeiktatásával a nyilvánossághoz történő továbbközvetítése, az átdolgozás, valamint a kiállítás jo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jogok illetik meg a szerző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használ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erzői jogi értelemben felhasználó az, aki ha a művek, illetve szomszédos jogi teljesítmények felhasználására a szerzőtől vagy a szerzői jog más jogosultjától jogot szerez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t tekint a szerzői jog felhasználó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használási szerző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lyek a felhasználási szerződés tartalmi elemei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erződés megkötésekor ha az ellenérték megállapításakor nem arányos részesedést kötnek a felek a bevételekből vagy éppen nem a példányszám vagy a felhasználás egyéb terjedelmétől függően kapna juttatást a szerző akkor az a jogdíj megállapítása nem megfelelő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nem tartalmazza a szerződés a következőket: a felhasználni kívánt mű pontos megjelölését, a felhasználás módját, időbeli, területi és más terjedelmének pontos meghatározását, valamint a felhasználás ellenértékét akkor nem tölti be a felhasználói szerződés a rendeltetésé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3:07:54Z</dcterms:created>
  <dc:creator>bag</dc:creator>
  <dc:description/>
  <dc:language>en-US</dc:language>
  <cp:lastModifiedBy>LaCae</cp:lastModifiedBy>
  <dcterms:modified xsi:type="dcterms:W3CDTF">2008-05-04T21:45:09Z</dcterms:modified>
  <cp:revision>32</cp:revision>
  <dc:subject/>
  <dc:title>Szerzői jogdíjak kezelése</dc:title>
</cp:coreProperties>
</file>