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458-B7E5-4C54-952A-26B66DA7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BA2-8F56-4749-9D17-0369DD47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6EC-6EE8-495B-842C-43FAF100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45D-0757-4C24-976D-F63D73B4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75C6-5B22-4ED9-8DCD-20F53EFD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F999-662B-45C1-AAC4-3BD2B951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4641-F476-4588-A2E3-E458622D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486C-7A0C-4D3E-BBAA-736443D3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1063-D79E-4FA6-91C5-CE908F76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5F0B-CB33-4E4C-AFE6-69A5047D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8085-AC9C-4E5D-8015-526428EF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E4E-098A-4F49-8598-90D974BB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86EB-A45F-4CFC-BB29-BC4692D7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BADE-494D-4344-8352-CAE039B7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D3E2-1E6A-46CD-A397-C1E99624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7F93-4E17-4A52-9E41-66EC28ED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2001-20CD-46DC-ABCA-BCBE9F35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4A3-C5D4-4793-A922-BCCF32C8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722D-2E9D-4E8D-902E-D22E2DE4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BE4-4565-4572-B5BB-9C57D26E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11C-A12F-4B82-87A2-8B7CDE58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732-56BE-4C2C-8809-280C855D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A043-8A78-4200-A74E-4AD76C48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B25B-EF24-4C3D-A1DC-800CC531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C795-0F4E-4BC6-A2B3-3F08BA80351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8887-52C2-48EC-8696-3091FECA249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Ábrák és grafikonok indokoltsá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rmai követelmény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ábrákat és grafikonokat minden esetben folytatólagos számozással kell ellátni, amit a tartalomjegyzékben fel kell tűntet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tartalmát jól kifejező, rövid címet fel kell tűntet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ntos, hogy a mérete ne legyen se túl nagy, se túl kics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Ábrák és grafikonok indokoltsá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iért kellenek ábrák és grafikono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ábrák és grafikonok segítségével a dolgozatot szemléletesebbé tudjuk ten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ábrák és grafikonok segítenek a tények vizuális úton történő bemutatásához, alátámasztásáho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Ábrák és grafikonok indokoltsá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téma könnyebben felfogható, értelmezhető, feldolgozható lesz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különböző gazdasági folyamatok, trendek és statisztikai adatok bemutatását megkönnyíti, fogyaszthatóvá teszi a hallgatóság számá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Ábrák és grafikonok indokoltsá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zínesebbé teszi a dolgozat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téma sokkal magyarázhatóbbá válik, és ebből következően az előadás könnyebb les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ire kell odafigyelni az ábrák és grafikonok kapcsá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Fontos a szinek megfelelő használata, ez segiti az átláthatóságo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különböző jelöléseket külön fel kell tűntetni, ami magyarázatot ad arra, hogy a grafikon mit is ábráz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Fontos, hogy jól látható legyen az ábra vagy grafik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z ábrához tartozó szöveget, jól láthatóan és a megfelelő helyre kell helyez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8:22:58Z</dcterms:created>
  <dc:creator>Oldschool</dc:creator>
  <dc:description/>
  <dc:language>en-US</dc:language>
  <cp:lastModifiedBy>Vrabély Balázs</cp:lastModifiedBy>
  <dcterms:modified xsi:type="dcterms:W3CDTF">2008-06-02T19:24:49Z</dcterms:modified>
  <cp:revision>6</cp:revision>
  <dc:subject/>
  <dc:title>Ábrák és grafikonok indokoltsága</dc:title>
</cp:coreProperties>
</file>