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0CA4-3098-4708-BAB4-6D8B4A5D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0FBA-268D-4402-96DF-476043E8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AD9A-CE37-4D14-B8AA-734FBF26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C9AA-6BAC-4FC9-A59F-52EFC7F73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C513-A5B3-4C49-8FD5-A4B43CC6D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72C8-32F3-4FB5-82CE-0B0D62D0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CBC7-8327-4476-9026-907B1090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0A8C-ABBC-48E1-BA8C-7F5ED538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DA90-0ED7-41CC-A251-1D7D0DD1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41BD-96B2-43F1-9900-7BCB5FCD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5F7A-1EC7-4715-87FA-171CA52E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811E-8C8E-45A3-AF7C-E349E722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7213-21F0-48EC-9077-968E79AC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1E87-F094-4716-A180-0E5881A1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F46C-00DB-42E0-9A99-F1A4EC01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972F-2938-4D24-A1C7-2EAE3C8B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4955-1049-4C76-968C-D606F3642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1959-17F0-4499-B2D7-FC77737D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4C3D-5846-490B-861E-4B4595BD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46BA-19D2-40C3-A3A1-9942751D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F818-5CC0-4648-8C2F-E9167984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AB63-2D83-419C-86C0-AD9E9EB7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D13E-542A-46BC-9476-DA43F9A2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9672-9692-40ED-9B3F-1FA2000D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3EDA-2928-40E8-BA42-D7AEE8D6871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1FFB-6949-4ABA-9689-CCA082DAF18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émaválasztás konzultálása 1.kö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hallgató év közben összesen legalább három alkalommal köteles a konzulenssel konzultálni a szakdolgozatáról, a hallgató által választott időpontokban. Az első konzultációt a témaválasztáskor, a második konzultációt a szakirodalom áttanulmányozása után, a harmadik konzultációt pedig a dolgozat vázlatának elkészítését követően célszerű megtartani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konzulens a konzultációk során különösen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    segítséget nyújt a hallgatónak a témához kapcsolódó szakirodalom és jogszabályanyag (forrásmunkák) összegyűjtéséhez, megismeréséhez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gíti az összegyűjtött forrásmunkákból kiválasztani a témához kapcsolódó legjobb anyagokat, irányítja a szelekció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nácsot ad a bemutatott vázlat alapján a dolgozat szerkezetének kialakításához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      a kidolgozás során gyakorlati tapasztalatainak átadásával ösztönzi a hallgatót a problémafelvető és –megoldó, valamint az elemző munkára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hallgató által bemutatott nyers szakdolgozat alapján útbaigazítást ad az esetleges szükséges átdolgozáshoz, az elkövetett hibák kijavításához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mennyiben a hallgató nem veszi figyelembe a konzulens dolgozattal kapcsolatos formai észrevételeit, az oktató írásban rögzíti ennek tényét a szakdolgozati igazoló lap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szakdolgozatot készítő hallgató (a konzulens kérése esetén) köteles egy bespirálozott példányt a konzulensnek adni a dolgozatából. Kéréstől függetlenül köteles azonban elektronikus formában is a szakdolgozat védését megelőzően azt benyújtani, melynek hiányában a védést nem kezdheti meg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szakdolgozat bírálója körülbelül egy oldal terjedelemben, az alábbi szempontok alapján értékeli a szakdolgozatot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émaválasztás megfelelősége (mennyiben illeszkedik a téma az egyetemi tananyagba, illetőleg mennyiben nyúlik túl azon. A szakdolgozatnak az egyetemi kötelező tananyagot jelentősen meghaladó mélységűnek kell lennie.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 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dolgozat szerkezete, belső arányai, logikája, az egyes részek tartalmi súlyuknak megfelelő mértékben kaptak-e helyet benne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dolgozat stílusa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zakirodalom-feldolgozás mennyisége és minősége, az idegen nyelvű és internetes szakirodalom jelenléte és mélysé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hivatkozási rendszer megfelelősége, etikussága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egyértelműen elhatárolhatók-e a más szerzőktől származó megállapítások, kutatási eredmények és a dolgozat szerzőjének megállapításai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eredeti, alkotó jellegű megállapítások, megindokolt de lege ferenda javaslatok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 dolgozat külalakja, megfelel-e az előírt formának, mennyiségnek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egyéb formai és tartalmi észrevétele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3T13:48:09Z</dcterms:created>
  <dc:creator>LaCae</dc:creator>
  <dc:description/>
  <dc:language>en-US</dc:language>
  <cp:lastModifiedBy>LaCae</cp:lastModifiedBy>
  <dcterms:modified xsi:type="dcterms:W3CDTF">2008-05-04T21:26:19Z</dcterms:modified>
  <cp:revision>2</cp:revision>
  <dc:subject/>
  <dc:title>Témaválasztás konzultálása 1.kör</dc:title>
</cp:coreProperties>
</file>