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C3D-E636-4B66-A0CD-B4C3FE0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EA1-E932-4AB1-A92F-55E83ABB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37A-0D73-4734-A7F6-B6CE7A01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E1F-68EB-451C-BEFB-E4F7753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AE84-C4C9-4396-BE3E-B9A2FC07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F4E-A147-4951-B082-74EF92B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6C6-536D-44F4-8DC9-EA00B5D9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883-5C7A-4017-88B9-88D6A0F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B09-9865-4642-8F71-91914E2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0CF-CE4D-4736-B639-961E61F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F035-3FB4-4B18-B20C-CB75912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DEF-BD5F-4084-8A71-DCE43EE1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9C54-CDA0-4256-AC2E-BCED3C2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9009-6B80-4B89-9556-57361DB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329-E91E-495D-B873-69CD5878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D7F-80B7-479B-8C50-8972E799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8CF4-62BE-4811-86C0-70F3C9C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AC1-C4AE-489C-B027-E90D98AC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F37-3E16-45A0-B59E-A4C9DDB7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D81-D8E0-4B14-8881-BEEA89F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178-F376-4203-99B8-3DCEDDE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DC3-9374-495E-AF50-1D1D7152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58E-601C-47EB-AC33-A9A9B07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08D-3D0E-42B1-B34A-9E529DF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D37-4BD7-4FDC-9F57-F43EE4CB43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96BC-4F7F-466E-A947-C6EB1ECA2B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Kiindulási helyzetek feltártságának ellenőrzése definíció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ott témakörben publikált munkák lekövetése a hasznosság és a benne rejlő még feltáratlan, vagy nem teljes egészében feltárt lehetőségek tükré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z adott témában már korábban elvégzett kutatások eredményeit felhasználó cégek megkeresés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0600" y="1893240"/>
            <a:ext cx="7642800" cy="39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 cégekkel történő kapcsolatfelvétel legcélszerűbb módja a személyes megkeresés a bizalmasabb információk és a pontosabb tájékozódás miat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fontosabb kérdések a gazdasági hasznossággal kapcsolat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vállalat mely területén kerültek felhasználásra a tanulmány eredménye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 került a beszerzése (nagyságrendile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l érzik hiányosnak, vagy hibásnak (indokláss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gvásárolnának-e egy precízebb, hiányosságok nélküli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az adott témában még nem született munka, akkor arra a kérdésre, hogy mi lesz a diplomamunkában a hasznosság, a választ, a  szerzőnek a már említett módon tudni kell és ezzel olyan cégeket, vagy magánszemélyeket megkeresni, akik véleményünk szerint tudják hasznosítani változtatásokkal, vagy változatlan formában az elkészült munká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vázi piackutatást végzünk, hogy mekkora érdeklődés mutatkozik a leendő munkánk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ok és a folyamat irányításának átvé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tbázis létrehozása xls, vagy mdb formátumban, amely tartalmazza a diplomamunkát készítő adatait és a hozzá tartozó dolgozat adott munkakörben elkészült eredményeit, valamint a munkakörkódot és a dolgozatkód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eletkezett eredmények rögzítése a számítógépen + adathordozón, valamint on-line, vagy off-line formátumban a dolgozat készítőjének kerül elküldés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gazolás kiállítása az értékelés részé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olgozathoz, az adott munkakörben keletkezett eredmények on-line közzététele a többi munkakör szám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edmények formai (dátum, formátum) és technikai (pl.: valóban az e a hasznosság a dolgozatban, amire a dolgozatíró gondolt )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zsgálat lehetséges kimenetelei: Esetleges hibák észlelése, és lehetőleg a munkafolyamaton, vagy munkakörön belüli javítása, vagy az azonnali elfogad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 lehetséges kimenetele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Felmerült hibák észlelése és lehetőleg a munkafolyamaton, vagy munkakörön belüli javít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zonnali elfogad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típu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atáridő lejá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Bizonyos munkafázis(ok) kimaradt(ak), vagy hibásan lettek teljesít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z esetleges számítási eredmények visszaellenőrzésénél tapasztalt eltérése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Helytelen form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esetén külön keltezés szükséges, amelynek időpontja a hiba észlelésének ide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hibajavítás megtörtént, visszaküldés az értékelés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több hiba nem található, a munkakört lezáró igazolás kiállítása (nyomtatvá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továbbküldése a következő munkafolyamatnak (elektronikus, vagy nyomtatott formá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örténh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Elektronikus formában történő továbbítás (alapértelmezett) esetén a munka elküldésekor visszaigazolás kérése a címzettő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Nyomtatott formában, ha elektronikusan nem tudjuk technikai, vagy egyéb okból továbbítani. Ebben az esetben ajánlott küldeményként kezeljü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mmunikációs szakértő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emélyazonosság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  okirat           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Konzultációra való jogosult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gállapítása                                                             nyomtatvány                                       0,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1. kör                nyomtatvány                                        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émaválasztás konzultálása 2. kör                nyomtatvány                                        5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DOC)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(PPT)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XLS                                     nyomtatvány                                       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mai értékelés on-line                                 nyomtatvány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árhuzamosítható feladat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tputjai közötti konfliktusok feloldása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formai ellenőr                           nyomtatvány                                         2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ágium-kontroll                                             nyomtatvány                                         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ukturális ellenőrzés               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llébeszélés-kontroll                                   nyomtatvány                                        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zakirodalmi bizonyíték-kontroll                    nyomtatvány                                         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28640"/>
            <a:ext cx="856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     Formátum   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Megérkeztek az ön által küldött dokumentumok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kalmazott neve, beosztása, elérésének módja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tulajdonosának neve,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tal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ladatot teljesítő(k)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 cí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z általam ellenőrzött feladatkör feltételeinek megfelelt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teljesítés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degyik munkafolyamat külön-külön is dátumozandó, majd az utolsó munkafolyamat dátuma lesz látható a következő munkakör számára az igazolá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gazolás kiállításának előfeltétele, hogy minden munkafolyamaton keresztül menjen pozitív eredménny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 szövegrész: „A hasznosság kontroll rendben lezajlott, a dolgozat jelenlegi állapota további értékelésre alkalma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kör vezető aláírása, vagy on-line formátumban az azt helyettesítő hitelesí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unkakör elő követelménye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orrektura-ellenőr                             nyomtatvány   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atvagyon minőségének                   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llenőrzés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ódszertani ellenőrzés                         nyomtatvány                3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produkálhatósági kontroll                 nyomtatvány                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aját következtetése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yessége                                            nyomtatvány                     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élcsoport helyes kezelése                  nyomtatvány                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62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kakör megnevezése                         Formátum                  Átfutási idő(ó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492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ek fogadása 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elő követelményként megállapított munkakörök outputjainak fogad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jelzés a megérkezett eredményekről, amely egyben azt jelenti, hogy az adott munkakör átvette kompetenciája erejéig a dolgozat feletti felügyeletet A visszajelzés lehet pozitív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negatí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redmények fogadása nevű munkafolyamat fogja kvázi tudatni az adatokat küldő munkakörrel (szükség esetén többel is), hogy a munkakörünk meg tudta kezdeni a munkát a kapott adatokkal. Ebben az esetben pozitív visszajel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az adatok egyszerűen nem érkeznek meg időre, akkor a visszajelzésünk nega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 véleményünk szerint a kapott adatok hibásak, visszaküldjük az előző munkakörnek újbóli ellenőrzés célj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kapott eredmények megfelelnek a további feldolgozás részére, akkor áttérés a következő munkafolyamat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yakorlati lépéselem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iindulási helyzetek feltártságának ellenőrzése (vagyis lehet-e ennek alapján majd hasznosságról beszélni)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  kiválasztott témakörről olyan információk ellenőrzése és gyűjtése min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i-vagy kik végeztek kutatásokat, ill. hoztak létre szolgáltatásokat a leendő diplomamunkához kapcsolódó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kkora volumenű érdeklődés kísérte az eddigi kutatásokat (on-line folyóiratok, szakfolyóiratok, fórumo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yen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problémafelvetés mely területeire nem születtek válaszok, illetve az adott válaszok, vagy szolgáltatás esetén szerintünk a valóságot nem igazán fedő eredményekre jutotta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asznosság a tanulmányb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munka témájának kiválasztásakor a legfontosabb, hogy az íróban körvonalazódjon,  a  munkája milyen gazdasági hasznot hajthat, ill. mely társadalmi csoportot érinth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író által megfogalmazott hasznosság egyrészt gazdaságilag fontos, másrészt a saját kutató munkáját könnyíti meg, ha előre tudja, melyeknek kell lenni a fő csapásirányoknak, melyekre a munka épülni fo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6:45:16Z</dcterms:created>
  <dc:creator>Palatinus Miklós</dc:creator>
  <dc:description/>
  <dc:language>en-US</dc:language>
  <cp:lastModifiedBy>LaCae</cp:lastModifiedBy>
  <dcterms:modified xsi:type="dcterms:W3CDTF">2008-05-04T21:36:45Z</dcterms:modified>
  <cp:revision>69</cp:revision>
  <dc:subject/>
  <dc:title>TDK</dc:title>
</cp:coreProperties>
</file>