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741-5D7A-4BF6-AC93-6C59E650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229-F2F4-44E4-AB33-A243C825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72CF-130C-4994-BB55-3E71F4F2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B1C-5DB5-4FDF-BF18-CF7CFECB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7485-A7D5-4137-B2AD-9235C1B1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4A02-C20E-4E99-9ED1-73B8DE83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D5E0-0980-4E95-9584-1C0CFEC1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15ED-9558-46A2-97C0-051DB6A3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6261-C8C3-4699-A72D-08362B69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199F-9CF4-4832-9F0A-894FA8CF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1C04-4903-4778-AB87-5E26C2AF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CCB-9CAD-4BFB-8D3F-A9E3E4A6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C5AC-4712-4CD8-859C-A686D8A1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2299-CD53-4262-8C53-2100252E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5B12-F66B-431A-ADB4-04CA668C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F1B9-BC33-494B-B8EB-4CB42EB6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DD6D-34D7-4D85-9BE4-49A73252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377F-0864-4E50-88A7-A8AFD8A4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1DB-F03D-4F16-AFA5-35099CC9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9BD2-0ABC-45BB-B6F6-DCDEB741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96C-98D8-42B3-A83C-55ECE288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02B-DE92-4212-9D93-2A592EA2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45D-E98B-4603-A9A4-B13AFD1B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C65-5316-46CF-9E05-D6A45C25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C0D0-C450-47CD-96AE-27147597B19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6BC2-8784-4EF1-B932-2CB8833EB0F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u.wikipedia.org/wiki/Stilisztika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K&#252;ls&#337; bor&#237;t&#243;lap.doc" TargetMode="External"/><Relationship Id="rId2" Type="http://schemas.openxmlformats.org/officeDocument/2006/relationships/hyperlink" Target="form&#225;tum.doc" TargetMode="External"/><Relationship Id="rId3" Type="http://schemas.openxmlformats.org/officeDocument/2006/relationships/hyperlink" Target="C&#237;m.doc" TargetMode="External"/><Relationship Id="rId4" Type="http://schemas.openxmlformats.org/officeDocument/2006/relationships/hyperlink" Target="1.doc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&#225;bra.doc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ormai értékelés(doc)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8. Irodalom jegyzé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TDK dolgozat elején, a belső borítólap után következik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talomjegyzékben felsorolt fő- és alfejezetcímek szó szerint egyezzenek meg a szövegben találhatókkal, s a beosztásból tűnjön ki a címek alatti részek fontossága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címekhez be kell írni az oldalszámot. A tartalomjegyzés- az oldalszámok megadása mellett- az alábbiakat foglalja magába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evezeté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ő fejezete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fejezete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onto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ponto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Összefoglaló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odalomjegyzé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elléklete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8. Irodalom jegyzé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irodalomjegyzéket a szerzők nevének kezdőbetűi alapján alfabetikus sorrendben kell összeállítani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de csak olyan munka vehető fel, amelyre a szövegben hivatkozás történik és azok mindegyikének szerepelniük kell itt. (irodalmi hivatkozás formai követelménye a 4. sz. mellékletben megtalálható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9. A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hivatkozott irodalmak jegyzék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hivatkozott irodalmak jegyzékét a hivatalosan elfogadott módszer szerint kell összeállítani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szerző(k) neve (a keresztnév első betűjével)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kiadvány címe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kiadás helye és éve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kiadó vagy közreadó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több kötetes mű esetén a kötet száma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terjedelem (p.) (pagina) vagy (o.) (oldal)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hivatkozás esetén az oldalszám (konkrét oldal, vagy -tól-ig oldalak) ismegadhat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10. A hivatkozott irodalmak jegyzék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) könyvek esetében pl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Beluszky P.(1999): Magyarország telepulésföldrajza. Budapest-Pécs, Dialóg Campus Kiadó, 567 p., 148-216. 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b) könyvrészletek esetében pl.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Burján A. (1984): A mezőgazdasági vállalatok irányítása. In: Dobos K. Tóth M. (szerk.): A A mezőgazdasági vállalati gazdálkodás alapjai és szervezése. Budapest, Mezőgazdasági Kiadó, 370 p., 241-328. 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c) kiadványok (konferencia kiadvány, gyűjteményes kötet, tanulmánykötet, intézeti kiadvány, esetében, pl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Papp J. – Komáromi N. (1998): Hatásos promóciós eszközök fiatalok körében. In: Mezőgazdaság és Vidékfejlesztés. VI. Nemzetközi Agrárökonómiai Tudományos Napok. Gödöllői Agrártudományi Egyetem Mezőgazdasági Főiskolai Kar Gyöngyös, 3. kötet 223-228.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11. A hivatkozott irodalmak jegyzék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Verdana"/>
              </a:rPr>
              <a:t>d) folyóirat esetén pl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-ha az oldalszámozás évenkénti (ilyenkor a kettőspont előtti szám az évfolyamot, az utána lévő pedig az oldalszámot jelenti)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zabóné Medgyes É. (1988): A vállalati gazdálkodás néhány problémája a mezőgazdaságban. Statisztikai Szemle. 64:1065-1076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-ha az oldalszámozás számonkénti (ilyenkor a kettőspont előtti töt szám számlálója az évfolyamot, nevezője az évfolyamon belüli számot, az utána levő pedig az oldalszámot jelenti)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zűcs I. et al. (2001): A kedvezőtlen adottságú területek EU-konform behatárolása. Gazdálkodás. XLV. Évf. 3. sz. 67-76. p. (vagy  XLV/3:67-76.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e) A külföldi folyóiratokból, könyvekből az eredeti nyelven kell hivatkozni, a magyar nyelvű hivatkozással megegyező mód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12. Mellékl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Irodalomjegyzék után, római számokkal jelölt oldalszámozással ellátva kell elhelyezn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ellékletben táblázatok, ábrák, egyéb olyan dokumentumok szerepeltethetők, amelyek a dolgozat mondanivalójának illusztrálására szolgálnak, de nem képezik a dolgozat érdemi részé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13. Helyesír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helyesírást illetően az MTA által kiadott, legújabb „A magyar helyesírás szabályai” című kiadvány az irányad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dolgozat beérkezik               megkezdődik a vizsgálódá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4788000" y="306864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lenőrz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gfelel-e a dolgozat a szabályzatban előírtaknak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gen: Hibamentes                           megfelelt a szabályzatban leírtakna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ssza a feladóna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tomatikus javítás 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elyesírás ellenőrző lefuttatás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lentmondások kiküszöbölé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4500720" y="3357720"/>
            <a:ext cx="1728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7640" y="5516640"/>
            <a:ext cx="863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res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hetséges hibafajták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ossz formát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 megfelelő a dolgozat felépít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incs pontos forrás megjelölése az irodalomjegyzékb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yelvhelyességi hibá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vatkozási problémá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llemzé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28796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aki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lyesírás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ilisztikai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3708360" y="2276640"/>
            <a:ext cx="792360" cy="2016000"/>
          </a:xfrm>
          <a:custGeom>
            <a:avLst/>
            <a:gdLst>
              <a:gd name="textAreaLeft" fmla="*/ 0 w 792360"/>
              <a:gd name="textAreaRight" fmla="*/ 286200 w 79236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3280" y="306864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zempontból meg kell, hogy feleljen a szabályzatban előírtakn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 eseté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Hibás dokumentumok esetén visszaküldjük a hallgatóho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i javitja ki a hibákat? 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allgató által történik a javít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utomatizm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talált hibák kijavítása és hiányosságok pótl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hibázó kijavítja a hibát, visszaküldi és Értékelésre kerü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z értékelés nem talált hibát, akkor az eredményeket továbbküld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rodalmi Jegyzé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Benet Iván [1994]: A földkérdés és az agrárstruktúra átalakítása Magyarországon. In: A magy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mezőgazdaság helye Európában I., </a:t>
            </a:r>
            <a:r>
              <a:rPr b="0" i="1" lang="hu-HU" sz="1600" spc="-1" strike="noStrike">
                <a:solidFill>
                  <a:srgbClr val="ffffff"/>
                </a:solidFill>
                <a:latin typeface="Verdana"/>
              </a:rPr>
              <a:t>PATE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Keszthel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Howarth, W. R. [1990]: Farming for farmers? (2nd ed.), </a:t>
            </a:r>
            <a:r>
              <a:rPr b="0" i="1" lang="hu-HU" sz="1600" spc="-1" strike="noStrike">
                <a:solidFill>
                  <a:srgbClr val="ffffff"/>
                </a:solidFill>
                <a:latin typeface="Verdana"/>
              </a:rPr>
              <a:t>Institute of Economic Affairs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Lond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Hajdú Zoltán [2001]: Magyarország közigazgatási földrajza. </a:t>
            </a:r>
            <a:r>
              <a:rPr b="0" i="1" lang="hu-HU" sz="1600" spc="-1" strike="noStrike">
                <a:solidFill>
                  <a:srgbClr val="ffffff"/>
                </a:solidFill>
                <a:latin typeface="Verdana"/>
              </a:rPr>
              <a:t>Dialóg Campus Kiadó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Budapest-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Péc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Kovács Árpád [2002]: Az Állami Számvevőszék megújult stratégiájáról. </a:t>
            </a:r>
            <a:r>
              <a:rPr b="0" i="1" lang="hu-HU" sz="1600" spc="-1" strike="noStrike">
                <a:solidFill>
                  <a:srgbClr val="ffffff"/>
                </a:solidFill>
                <a:latin typeface="Verdana"/>
              </a:rPr>
              <a:t>Pénzügyi Szemle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Budapest, 2-5. ol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Kajtor Erzsébet [2001]: Európai színvonalú kórház magyar gondokkal. </a:t>
            </a:r>
            <a:r>
              <a:rPr b="0" i="1" lang="hu-HU" sz="1600" spc="-1" strike="noStrike">
                <a:solidFill>
                  <a:srgbClr val="ffffff"/>
                </a:solidFill>
                <a:latin typeface="Verdana"/>
              </a:rPr>
              <a:t>Egészségügyi Gazdaság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Verdana"/>
              </a:rPr>
              <a:t>Szemle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Budapest, 19-22. ol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weezy, P. M. – Magdoff, H. [1992]: Globalisation – To What End? I-II., </a:t>
            </a:r>
            <a:r>
              <a:rPr b="0" i="1" lang="hu-HU" sz="1600" spc="-1" strike="noStrike">
                <a:solidFill>
                  <a:srgbClr val="ffffff"/>
                </a:solidFill>
                <a:latin typeface="Verdana"/>
              </a:rPr>
              <a:t>Monthly Review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February, March, New York, 34-37. ol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tatisztikai Évkönyv [1999] </a:t>
            </a:r>
            <a:r>
              <a:rPr b="0" i="1" lang="hu-HU" sz="1600" spc="-1" strike="noStrike">
                <a:solidFill>
                  <a:srgbClr val="ffffff"/>
                </a:solidFill>
                <a:latin typeface="Verdana"/>
              </a:rPr>
              <a:t>Központi Statisztikai Hivatal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Budapest, 8-11. ol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1. A dolgozat szerkezeti felépíté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74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orítólapok kivitele és felirata </a:t>
            </a:r>
            <a:r>
              <a:rPr b="0" lang="en-US" sz="15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374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mátum </a:t>
            </a:r>
            <a:r>
              <a:rPr b="0" lang="en-US" sz="15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374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dolgozat ajánlott tagolása pl. agrár és természettudományi témák esetében </a:t>
            </a:r>
            <a:r>
              <a:rPr b="0" lang="en-US" sz="15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374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Szakirodalmi áttekintés </a:t>
            </a:r>
            <a:r>
              <a:rPr b="0" lang="en-US" sz="15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2. Formai felép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dolgozatot A/4-es méretű fehér lapra, 1,5 sortávolsággal, bal oldalán 3 cm-es, jobb oldalán 2 cm-es, fent és lent 3-3 cm-es margóval kell elkészíten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megadott betűtípus: Times New Roman 12-es betűmére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táblázatok és ábrák maximum A/4-es méretű, vagy annak egész számú többszörösét kitevő nagyságúak lehetnek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diplomamunka tartalmi és esztétikai értékeit növelik a jól áttekinthető táblázatok, ábrák, grafikonok, diagrammok és fényképe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dolgozat terjedelme lehetőség szerint 35-50 terjedelmű legy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3.Vizsgálati eredmény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zsgálatok, elemzések eredményeit tartalmazza ez a rés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ját eredmények ismerteté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eredményeket célszerű táblázatokban is összefoglalni, ábrákkal szemléltetni és megbízhatóságukat a tudományterület sajátosságait figyelembe véve statisztikai módszerekkel igazoln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4.Értékelések, következtetések, javaslato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bben a fejezetben kell ismertetni az eredményekből levont legfontosabb következtetéseket. Itt kell megtenni az összevetést más szerzők eredményeivel (itt ismét lehet hivatkozni). A téma jellegétől függően javaslatot kell tenni azok gyakorlati alkalmazására, illetve továbbfejlesztésére. (maximum 15 old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5. Jegyzet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erülhetnek folyamatos sorszámozással a lábjegyzetbe vagy a befejező rész után. A szövegben a jegyzetekre felső állásba tett számokkal kell hivatkozn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6. Táblázatok, ábrák, grafikono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áblázatok készítés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Ábrák készítése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 *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fikon készítése: ábrázolása koordináta-rendszerben, pontosan szükség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7. Hivatkozáso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dolgozatban háromfajta hivatkozást lehet alkalmazni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zószerinti hivatkozá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rtalmi hivatkozá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tisztikai adatok, táblázatok, diagrammok hivatkozás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4:43:42Z</dcterms:created>
  <dc:creator>LaCae</dc:creator>
  <dc:description/>
  <dc:language>en-US</dc:language>
  <cp:lastModifiedBy>LaCae</cp:lastModifiedBy>
  <dcterms:modified xsi:type="dcterms:W3CDTF">2008-06-02T11:04:35Z</dcterms:modified>
  <cp:revision>7</cp:revision>
  <dc:subject/>
  <dc:title>Formai értékelés(doc)</dc:title>
</cp:coreProperties>
</file>