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624D-9AAF-45A5-87E0-42743AE43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EA97-FA24-4C16-9514-4BB080C08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DDD8-D33C-40DB-A181-6D4B70CF6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0F60-5558-41F0-BA94-29E3AB439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028E2-9E42-4933-AF81-CF31DE850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BB7D2-1E96-4E97-978E-8ECFC760D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7D28F-2355-4333-BD3F-934FF43EA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35364-78A9-4432-8061-CBBC6803C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63A4B-C5F5-45CF-8AEA-390BC2F36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A14AE-99FB-4C85-9685-056DEEFA6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A1880-70E6-49C0-9463-258D0792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1099-180A-41F8-AE7B-9D6CD08CC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2689B-55A4-43E8-8F8E-02CB38E18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DC8B9-1D04-494D-A274-49CADB22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DDC6D-689F-4B5D-A3C0-57E1AA85F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C5499-E7B3-4E28-A383-F65BED4D1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E8A5F-7667-4505-9CF5-69FCE4BCF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1BF6-D47E-4F3F-A518-8EF88B8EB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BE6D-9624-435C-BDAF-C71C1B85E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F508-E427-40A8-B186-342AD2B6C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7940-243C-4989-B284-C46C07421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690A-9BBA-4890-9AF3-8E7FF006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8A20-5B8E-42C6-96AF-883D607A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1FC6-DE3E-4C22-8088-F16118D7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424FC-80E8-4F8A-A278-BB62B45964D6}" type="slidenum">
              <a:rPr b="0" lang="hu-H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CAE39-C1A2-4F07-AC60-E0484F3D591B}" type="slidenum">
              <a:rPr b="0" lang="hu-H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Pl&#225;gium.doc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Plágium-kontroll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finíció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20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ét vagy több dokumentum egymással való összehasonlítás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Szövegdoboz 3"/>
          <p:cNvSpPr/>
          <p:nvPr/>
        </p:nvSpPr>
        <p:spPr>
          <a:xfrm>
            <a:off x="1357200" y="4786200"/>
            <a:ext cx="400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Informáci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Párhuzamos munkakörök katalógusa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0">
              <a:spcBef>
                <a:spcPts val="499"/>
              </a:spcBef>
              <a:buNone/>
              <a:tabLst>
                <a:tab algn="l" pos="0"/>
                <a:tab algn="ctr" pos="1700280"/>
                <a:tab algn="ctr" pos="5111640"/>
                <a:tab algn="ctr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63600" indent="0">
              <a:spcBef>
                <a:spcPts val="601"/>
              </a:spcBef>
              <a:buNone/>
              <a:tabLst>
                <a:tab algn="l" pos="0"/>
                <a:tab algn="ctr" pos="1700280"/>
                <a:tab algn="ctr" pos="5111640"/>
                <a:tab algn="ctr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zakirodalmi formai ellenő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63600" indent="0">
              <a:spcBef>
                <a:spcPts val="601"/>
              </a:spcBef>
              <a:buNone/>
              <a:tabLst>
                <a:tab algn="l" pos="0"/>
                <a:tab algn="ctr" pos="1700280"/>
                <a:tab algn="ctr" pos="5111640"/>
                <a:tab algn="ctr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trukturális ellenőrzé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63600" indent="0">
              <a:spcBef>
                <a:spcPts val="601"/>
              </a:spcBef>
              <a:buNone/>
              <a:tabLst>
                <a:tab algn="l" pos="0"/>
                <a:tab algn="ctr" pos="1700280"/>
                <a:tab algn="ctr" pos="5111640"/>
                <a:tab algn="ctr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zakirodalmi bizonyíték kontroll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ibakezel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Lehetséges hibafajták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Talált teljes egyezé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Talált részleges egyezés (pl. csak a szórend megváltoztatása szinonimák alkalmazásával, e hiba gyakori előfordulása esetében szintén nem kerülhet a dolgozat elfogadásra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Dolgozat elvetése 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(a hallgató nem vizsgázhat/indulhat az adott záróvizsga időszakban/TDK-n + egyéb jogkövetkezmények (büntetőjogi felelősségre vonási igények érvényesítése)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incs hib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vábbítás a Strukturális ellenőrzés számár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4:56:09Z</dcterms:created>
  <dc:creator>LaCae</dc:creator>
  <dc:description/>
  <dc:language>en-US</dc:language>
  <cp:lastModifiedBy>LaCae</cp:lastModifiedBy>
  <dcterms:modified xsi:type="dcterms:W3CDTF">2008-05-04T21:29:49Z</dcterms:modified>
  <cp:revision>4</cp:revision>
  <dc:subject/>
  <dc:title>Plágium-kontroll</dc:title>
</cp:coreProperties>
</file>