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439-85CC-41BB-A3C4-8CAF6074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075-7C09-4948-812A-C1ED00B8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E1D-28B2-4542-BB54-58CFDE84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F5F-B241-46F0-BC5F-836B3970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C706-53B7-4C39-8234-57322120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4132-6C73-4F9C-93FC-49B55D6B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E8CA-3C53-478C-9A16-0BD783C1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DC69-7AB1-4D2D-A7E1-8420B7DB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69F8-5000-4D32-A0DE-107BB3BE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B175-4E3D-4D10-9607-6D8C64F2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C17D-BCD6-4355-AE81-A11A1F8C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62C-3A6B-4622-96D7-6A2F8B24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A931-FE93-4C0D-BD92-74D38C85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83DA-AE40-4D8C-92C8-E3B864A7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0BA8-A91C-4A0D-907F-028E3791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700C-1E80-41D3-94D9-53E0AD7A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BE33-B769-4630-B2F0-57A68146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2F2-0A89-4211-B874-BF0C83ED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30E-2258-4654-8D43-89385D24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625-A0CD-4CF3-AE2A-E48E1C46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97A-1447-4125-912F-85C88826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227-B550-4AA9-A39D-A4344EEF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244-08D3-4B87-B28B-FA4D0B2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778-2818-4B13-999E-068B708E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57C8-B431-4BC9-A161-9AE5AE852F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33DD-553F-4B5C-B28F-44538B6ACA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ffffff"/>
                </a:solidFill>
                <a:uFillTx/>
                <a:latin typeface="Verdana"/>
              </a:rPr>
              <a:t>Mellékletekről általáb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táblázatok, ábrák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és olyan dokumentumok szerepeltethetők, amelyek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a dolgozat mondanivalójának részletes megértésére szolgálnak,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indamellett a mellékletek a reprodukálhatóságot is támogatják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de kerülnek azok a nagyobb méretű táblázatok, ábrák, amelyek szövegközi elhelyezése gondot okozott volna. Ide helyezhető el továbbá a kérdőíves felmérés alapjául szolgáló dokumentumok, továbbá a statisztikai és matematikai számítások alaptáblái is. Egyes esetekben rövidebb szöveges dokumentumok (pl. szerződések, jogszabály részletek, stb.) is helyet kaphatnak itt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oldalszámozni nem kel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(ezt végül is nem is fontos ellenőrizni, mert ha van van, ha nincs nincs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eket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sorszám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illetve a dokumentum főszövegében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hivatkozva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kell feltüntetn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melléklet(ek)et az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Irodalomjegyzék után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, római számokkal jelölt oldal-számozással ellátva kell elhelyezni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z utolsó 3 melléklet az alábbi: rezümé, hallgatói nyilatkozat, konzulensi nyilatkoza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- Köszönöm a figyelmet!" szöveg nagy betűkkel. (Ez csak PPT-bemutatónál kel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Elsődleges ellenőrz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elléklet-e egyáltalá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Ige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további vizsgálódásra, elemzésre meh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Nem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: visszaküld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Milyen típusú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melléklet a beadott nyomtatvány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DO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P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X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- online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ülön elbírálás az egyes típusoknál (részletezés az előző, ill. a következő diákb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i értékelés XLS melléklet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általános formai követelmények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Times New Roman, 13 vagy 14-es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betűméret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(a nagyobb, 14-16 pontos betűk a címlap készítésekor és a fejezetcímek írásakor használhatók), (bal oldalon 3 cm-es, a többin 2,5 cm-es margó, ha szükséges), normál sortávolság, sorkizárá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A címek, alcímek betűiről (nagy és kis betűk,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betűméret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), esetleges aláhúzásából vagy vastagításából, és a sorban való elhelyezéséből (középre, oldalt) tűnjön ki azok fontossága, és azok az egész dolgozatban következetesek, decimális számozásúak legyenek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képletek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érvényesek-e, megfelelően használta-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olyan cellára mutasson (képleten belül), ahol van érté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hivatkozások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a hivatkozott oldal, ha nem hibás az elérési út, </a:t>
            </a: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egyből elérhető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!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XLS-en belüli hivatkozások: ha üres cellára hivatkozik</a:t>
            </a:r>
            <a:r>
              <a:rPr b="0" lang="hu-H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hibalehetősé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másik dokumentumra, mellékletre hivatkozás: ez is egyből elérhető legye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Verdana"/>
              </a:rPr>
              <a:t>valós értékek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 az adatoknál (mindenhol friss adatok, ha lehetséges),  azok esetleges kiszűré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egy XLS ne várja egy, a létrehozó lokális meghajtóján valaha létezett állomány lété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De például ide tartozik még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számok ezres csoportosítása mindenhol egyezzen (áttekinthetőség, mint fő szempont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- tizedesvessző vagy pont alkalmazása nem egész számoknál a melléklet során egyforma legyen, ne hol ez vagy hol az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köri igazo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Munkakörkód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10 (x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Dolgozatkó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„Az XLS/online nyomtatványok formai követelményeinek megfelelt/nem felelt meg és további értékelésre alkalmas/jelen formájában nem értékelhető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Meg nem felelés esetén részletes hibalista KELL, ami  egy előre legyártott listából a megfelelő elemek kiválasztását jelenti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 Dát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unkakör vezető aláír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45:58Z</dcterms:created>
  <dc:creator>LaCae</dc:creator>
  <dc:description/>
  <dc:language>en-US</dc:language>
  <cp:lastModifiedBy>LaCae</cp:lastModifiedBy>
  <dcterms:modified xsi:type="dcterms:W3CDTF">2008-05-04T21:28:28Z</dcterms:modified>
  <cp:revision>5</cp:revision>
  <dc:subject/>
  <dc:title>1. dia</dc:title>
</cp:coreProperties>
</file>