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ADA-7E6B-4837-8697-DB83502F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224-AE69-4291-9DFF-0F0890BC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9B5-5F90-4DE9-9C30-DA2A4216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991-A22A-44E8-98B0-584D2BDA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54FA-2CF0-4F5A-8E99-6743459B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F249-6494-4253-88B6-AA4D0CDE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98B4-C03A-4230-A6BE-54B273F1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22F1-2829-4BAF-A0DC-8D27BD85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E721-24F2-4EBA-9981-0C54A925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32C7-8F88-4969-9C7B-418D182B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953E-A6B0-4838-BFB3-EAAFBB43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1A4-3A01-441A-A111-271581AD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8BF3-27CE-42B9-842A-9D738E51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361D-8751-4768-B292-65BB3D6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AC23-701A-407F-8DED-2200D40F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DBFD-BD77-43EB-9434-A4ECB00E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DDB0-72EE-4741-96B3-ABC07EEC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C88-6EC5-4ECD-B9FE-ED3B525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C1B-B258-43FC-8069-C0C3DB93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674-CD14-4EFD-AAE5-679746C6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5BF-A2B1-41E7-A53E-7D450CD9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5A1-2916-4B23-8877-6D7433FB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127-D612-4605-91D5-C05EBD4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7B7-11BC-4A10-AB0A-0067812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CEEB-DA0B-4E01-B3C8-2076008A8C0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4280-0BBA-4B09-A82E-DABD8446EC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asznosság-kontro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dott munka valóban tartalmaz-e olyan gazdasági, vagy közszolgálati hasznosságot, amelyért adott esetben hajlandóak lennének akár fizetni is a témában gazdaságilag érintette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 jövedelem realizálása 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megszületett munka eredményeit gazdaságilag többféle módon használhatjuk f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zt a munkánkat támogató partnerekkel kötött megállapodások korlátozhatják. (pl.: a segítségért cserébe elsőként, vagy egyedüliként használhatják az elkészült szolgáltatás, ill. kutatás eredményeit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 jövedelem realizálása 2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a nem vagyunk korlátozva megállapodásokkal, az alábbi módokon válthatjuk munkánkat jövedelemr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legpraktikusabb módozat, ha munkánkat, a minket személyesen megkereső vállalatoknak, ill. magánszemélyeknek adjuk 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lhelyezhetjük, egy mi általunk készített honlapon, ahonnan bárki letöltheti a megfelelő ellenszolgáltatás mellet, vagy fizetett hirdetéseket helyezünk a weblapra, és ingyen hozzáférhet bárk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lképzelhető ezen módozatok kombinációja, illetve egyéb, az adott területre jellemző speciális „értékesítési” megoldások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ok és a folyamat irányításának átvé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tbázis létrehozása xls, vagy mdb formátumban, amely tartalmazza a diplomamunkát készítő adatait és a hozzá tartozó dolgozat adott munkakörben elkészült eredményeit, valamint a munkakörkódot és a dolgozatkód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eletkezett eredmények rögzítése a számítógépen + adathordozón, valamint on-line, vagy off-line formátumban a dolgozat készítőjének kerül elküldés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gazolás kiállítása az értékelés részé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hoz, az adott munkakörben keletkezett eredmények on-line közzététele a többi munkakör szám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edmények formai (dátum, formátum) és technikai (pl.: valóban az e a hasznosság a dolgozatban, amire a dolgozatíró gondolt )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zsgálat lehetséges kimenetelei: Esetleges hibák észlelése, és lehetőleg a munkafolyamaton, vagy munkakörön belüli javítása, vagy az azonnali elfogad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at lehetséges kimenetele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Felmerült hibák észlelése és lehetőleg a munkafolyamaton, vagy munkakörön belüli javít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zonnali elfoga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típuso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atáridő lejá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Bizonyos munkafázis(ok) kimaradt(ak), vagy hibásan lettek teljesít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Az esetleges számítási eredmények visszaellenőrzésénél tapasztalt eltérése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elytelen formát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esetén külön keltezés szükséges, amelynek időpontja a hiba észlelésének ide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hibajavítás megtörtént, visszaküldés az értékelés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több hiba nem található, a munkakört lezáró igazolás kiállítása (nyomtatvá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edmények továbbküldése a következő munkafolyamatnak (elektronikus, vagy nyomtatott formá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örténhet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Elektronikus formában történő továbbítás (alapértelmezett) esetén a munka elküldésekor visszaigazolás kérése a címzettő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Nyomtatott formában, ha elektronikusan nem tudjuk technikai, vagy egyéb okból továbbítani. Ebben az esetben ajánlott küldeményként kezeljü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unkakör elő követelmények katalógusa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ommunikációs szakértő                             nyomtatvány                        1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zemélyazonosság         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  okmány                               0,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onzultációra való jogosultsá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nyomtatvány                         0,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émaválasztás konzultálása 1. kör              nyomtatvány                        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émaválasztás konzultálása 2. kör              nyomtatvány                        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(DOC)                               nyomtatvány                        1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(PPT)                                nyomtatvány                       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XLS                                   nyomtatvány                       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mai értékelés on-line                              nyomtatvány                        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árhuzamosítható feladat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utputjai közötti konfliktusok feloldása               nyomtatvány                        3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zakirodalmi formai ellenőr                           nyomtatvány                       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lágium-kontroll                                           nyomtatvány                         3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rukturális ellenőrzés                                  nyomtatvány                         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llébeszélés-kontroll                                  nyomtatvány                        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zakirodalmi bizonyíték-kontroll                   nyomtatvány                         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341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unkakör megnevezése                           Formátum               Átfutási idő(ó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ssza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Megérkeztek az ön által küldött dokumentumok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kalmazott neve, beosztása, elérésének módja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tulajdonosának neve,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ot teljesítő(k) aláír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z általam ellenőrzött feladatkör feltételeinek megfelelt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degyik munkafolyamat külön-külön is dátumozandó, majd az utolsó munkafolyamat dátuma lesz látható a következő munkakör számára az igazolá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 kiállításának előfeltétele, hogy minden munkafolyamaton keresztül menjen pozitív eredménny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 hasznosság kontroll rendben lezajlott, a dolgozat jelenlegi állapota további értékelésre alkalmas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 vezető aláírása, vagy on-line formátumban az azt helyettesítő hitelesí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nkakör megnevezé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mát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Átfutási idő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rrektura-ellenőr                          nyomtatvány              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atvagyon minőségének             nyomtatvány               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lenőrzés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ódszertani ellenőrzés                  nyomtatvány                3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produkálhatósági kontroll          nyomtatvány               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aját következtetés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lyessége                                      nyomtatvány              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élcsoport helyes kezelése           nyomtatvány             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iindulási helyzetek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eltártságának ellenőrzése               nyomtatvány            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34936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redmények fogadása 1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elő követelményként megállapított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a megérkezett eredményekről, amely egyben azt jelenti, hogy az adott munkakör átvette kompetenciája erejéig a dolgozat feletti felügyeletet A visszajelzés lehet pozitív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letve negatí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eredmények fogadása nevű munkafolyamat fogja kvázi tudatni az adatokat küldő munkakörrel (szükség esetén többel is), hogy a munkakörünk meg tudta kezdeni a munkát a kapott adatokkal. Ebben az esetben pozitív visszajel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z adatok egyszerűen nem érkeznek meg időre, akkor a visszajelzésünk negatí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véleményünk szerint a kapott adatok hibásak, visszaküldjük az előző munkakörnek újbóli ellenőrzés célj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kapott eredmények megfelelnek a további feldolgozás részére, akkor áttérés a következő munkafolyam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yakorlati lépéselem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hasznosság „kihasználása” 1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nnyiben találtunk érdeklődőket leendő munkánkra, érdemes megpróbálni közülük legalább egy támogatóra szert tenn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sősorban nem anyagi támogatásra kell gondolni (pl.: a cég- vagy magánszemély kapcsolati tőkéjére, illetve az adott területen szerzett tapasztalatainak megosztásár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a leendőbeli üzletfelünk munkánkban felfedezi a számára elődleges „hasznosságot”, és a minél gyorsabb eredmény érdekében anyagilag is támogatja a munkát, ez nekünk sem tesz rosszat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ilyen jellegű segítségek megkönnyítik a dolgunkat, így az eredmények is hamarabb jelentkezhet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hasznosság „kihasználása” 2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az az eset fordul elő, hogy érdeklődő van, de semmilyen támogatásra nem hajlandó, érdemes megfontolni másik leendő partner felkutatásá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z nem olyan nehéz munka, hisz ha volt legalább egy érdeklődőnk, akkor biztosan akad másik is, aki tisztán látja benne a jövőbeli profitjá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06:26Z</dcterms:created>
  <dc:creator>LaCae</dc:creator>
  <dc:description/>
  <dc:language>en-US</dc:language>
  <cp:lastModifiedBy>LaCae</cp:lastModifiedBy>
  <dcterms:modified xsi:type="dcterms:W3CDTF">2008-05-04T21:39:47Z</dcterms:modified>
  <cp:revision>4</cp:revision>
  <dc:subject/>
  <dc:title>Diplomamunka és TDK készítése a hasznosság tükrében</dc:title>
</cp:coreProperties>
</file>