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584-57C7-4E1B-9431-962BE97C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D96-57A9-4D89-8A01-9A72EDD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CA4-1EE3-456C-9FF0-6CD504D1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406-C738-46A7-90EB-B6FC2E74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C75A-F1BA-4877-88A1-C0673601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035E-B83A-45CE-874B-32985DC6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15C-54B9-4F97-A986-046C3CA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46A-2A91-4D45-8FAF-F6FE5CA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946-5B46-4E2B-B45F-BFB61AE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AFA4-8A8E-4295-AFBF-33F4C7B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A2CE-69F6-4043-83B1-7263DC9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3D9-AB6F-406E-9079-62C1D818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BA6-0785-488D-A2E5-94B6854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C3E5-6202-413B-88D9-6E6540E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00CA-83B9-466B-9011-94571D5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E81F-9637-40FA-BD1F-9C39A130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730-EACC-4502-B1F0-3F3443D0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63E-745F-4CBA-A13A-579069D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392-95B9-44E2-98E7-691934A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1A5-8F88-4C5B-B817-CB1089E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C8D-EC06-4AC9-A25D-C6CDEBCE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93C-6F7A-436F-9B76-486775A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095-B0ED-4356-B9DF-DAA057D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F74-EE95-4E23-A7BB-3C59BF8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030-2A0B-49F7-AC82-0600A8673217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D3A6-5FF2-4F3B-8484-7337DC3C1BF2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gen-szavak.hu/" TargetMode="External"/><Relationship Id="rId2" Type="http://schemas.openxmlformats.org/officeDocument/2006/relationships/hyperlink" Target="http://tmt.omikk.bme.hu/show_news.html?id=4282&amp;issue_id=468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Citációk követése</a:t>
            </a:r>
            <a:br>
              <a:rPr sz="5400"/>
            </a:b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 Citációs kartellek figyelé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Fogalmak tiszt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idézés/idézettsé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: Több vállalat kísérlete arra, hogy együtt uralkodó pozícióba jussanak. Kartellnek nevezünk minden versenytársak közötti megállapodást, ha az a gazdasági versenyt korlátoz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Összefoglalva a </a:t>
            </a:r>
            <a:r>
              <a:rPr b="0" i="1" lang="hu-HU" sz="2800" spc="-1" strike="noStrike">
                <a:solidFill>
                  <a:srgbClr val="ffffff"/>
                </a:solidFill>
                <a:latin typeface="Comic Sans MS"/>
              </a:rPr>
              <a:t>citációs kartell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néhány szerző összefogását jelenti, akik rendszeresen egymást hivatkozzák meg műveikb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z idézettség követése rendkívül fontos a kutatók számára, a tudományos minősítési rendszer követelménye miatt. A kiemelt pályázatok és a tudományos minősítések elbírálásánál döntõ tudományos teljesítményt a kutatók idézettségével méri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120" y="61128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Egy publikáció jelentőségét azzal is becsülhetjük, ha megszámoljuk a forrásmunkaként rá hivatkozó más publikációkat. Hasonlóképpen, egy kutató munkájának jelentőségét kifejezheti az, hogy műveire összesen hány mások által írott hivatkozást (citációt) kap. Az önhivatkozásoknak (vagyis mikor a szerző egyik művében saját másik művére utal) e szempontból általában nem tulajdonítanak jelentőséget. Több helyen csak a független idézetek számát elemzik, ez esetben a citált mű szerzői és a citáló mű szerzői között egyetlen azonos személy sinc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hivatkozások száma természetesen csak a formálisan is publikált hivatkozó művek esetében értelmezhető. A nem publikált művekben, pl. kéziratokban, szakdolgozatokban fellelt hivatkozások száma e szempontból lényegtel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 világ rangosabb nemzetközi szakfolyóiratainak hivatkozási listáit feldolgozza pl. az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ISI Web of Scienc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, vagy a </a:t>
            </a:r>
            <a:r>
              <a:rPr b="0" i="1" lang="hu-HU" sz="2400" spc="-1" strike="noStrike">
                <a:solidFill>
                  <a:srgbClr val="ffffff"/>
                </a:solidFill>
                <a:latin typeface="Comic Sans MS"/>
              </a:rPr>
              <a:t>Scopus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adatbank. Ezeket használva a különböző kutatók idézettsége az adott indexelő szolgáltatás körén belül vizsgálhat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533160" y="46044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ccecff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Valószínűleg nem közismert, hogy éppen Magyarországon vezették be legelőször az idézettség figyelését és ezt a hatástényezőt a tudományos teljesítmények mérésére, olyannyira, hogy egyes tudományágakban és kutatóintézetekben meghatározóvá vált az idézettségi mutató és az impakt faktor növelése utáni hajs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685800"/>
            <a:ext cx="762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ffffff"/>
                </a:solidFill>
                <a:latin typeface="Comic Sans MS"/>
              </a:rPr>
              <a:t>Citációk követése</a:t>
            </a:r>
            <a:br>
              <a:rPr sz="3300"/>
            </a:b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</a:t>
            </a: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idegen-szavak.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tmt.omikk.bme.hu/show_news.html?id=4282&amp;issue_id=46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ttp://hu.wikipedia.or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rás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41:52Z</dcterms:created>
  <dc:creator>Windows XP Pro SP2a</dc:creator>
  <dc:description/>
  <dc:language>en-US</dc:language>
  <cp:lastModifiedBy>LaCae</cp:lastModifiedBy>
  <dcterms:modified xsi:type="dcterms:W3CDTF">2008-05-04T21:46:58Z</dcterms:modified>
  <cp:revision>11</cp:revision>
  <dc:subject/>
  <dc:title>Citációk követése</dc:title>
</cp:coreProperties>
</file>