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1AF-B96B-49C8-80B2-86673F88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DBF-7634-4089-978E-F367815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530-871D-4E98-B358-D8292C32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8D0-D34B-4DAC-8BE6-FCE8EC4B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FF20-9F51-46F1-9921-8F6A0A04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D942-FDD6-4E03-8821-3138DF4F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1B1-372E-4277-AD38-F1AFC11B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DF51-948B-406D-A0C5-8969FBA4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53A5-4F97-464C-9DEF-EE734956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EBE-1D73-4477-B53A-3037DF10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E79-C27E-4DF4-8CF1-037AE39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27C-49C9-447F-806E-67BFEC34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1A50-20D3-41A3-BDEB-7726B96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AF7-DFEA-4DFC-9C79-344A98E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A439-B4AB-466B-BB72-FFBA173C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8BE-8DA7-4AC1-AA6B-B9684001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BEDD-5433-490F-81FC-80BEF201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621-227A-4DD6-B553-BE466AD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152-32FA-4DAF-9B45-94F1B49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2C6-DB0A-4493-AD70-A0F8E9B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6C8-D8B8-41B7-831B-E4D6811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2FB-41D7-4DF9-AEFA-5A14660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30F-EC81-4415-8B58-BD6BCBD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2E4-8DFE-46E6-95CF-9C471BD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4A5-C2C4-45FF-B530-BD6B2DC2F04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8D4-F0D6-400A-9C70-F09307D6092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datvagyon minőségének ellenőrz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datvagyon minőségének ellenőrzéséhe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merni kell az adatok származásának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őkészítésének és esetleges feldolgozá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yamatainak és feldolgozottságának kérdései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yek az adatok értelmezéséhez ad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gítséget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redmény fogadása és ellenőrzés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átvétele az előző munkakörtő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 Szakirodalmi bizonyíték kontrol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dolgozat ellenőrz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ban hibát találnak, akkor kijavításra kerül ill. Visszaküldik a dolgozat készítőjének javítás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metaadatbázis hibátlan akkor továbbküldik a következő munkakörnek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Saját következtetések helyessége munkakörn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ecff"/>
                </a:solidFill>
                <a:latin typeface="Arial"/>
              </a:rPr>
              <a:t>A vizsgálat során fel kell tárni a lehetséges problémákat:</a:t>
            </a:r>
            <a:br>
              <a:rPr sz="3500"/>
            </a:b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konzisztencia vag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onosító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nem megfelelő használ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llentmondások) Hiba esetén az ellentmondás feltárására valamint javítására van szüksé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dokumentált mezők haszn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jlődő adatok, rendszere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gyelembe kell venni, hogy milyen szoftver képes az adott dokumentumot kezelni pl. úgy kell menteni a dokumentumot, hogy egy régebbi típusú szoftverrel is kompatibilis legye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004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iányos, inkorrekt, vagy duplikált érték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 az értékek hiányosan ,rosszul illetve duplán vannak feltüntet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Redundancia (ugyanaz az adat többször található meg kivéve, ha ugyanazt az adatot többször fel kell használn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Formátum eltérések (Nem a megadott formátumba készül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A forrás hibás megjelölése (Helyes megjelölés:készítő nevének, a felhasznált dok. címének valamint a megjelenés évének feltüntetése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Beviteli hibá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0936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hibátlan illetve a javított dolgoz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váhagyás után továbbküldésre kerü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2:26:26Z</dcterms:created>
  <dc:creator>Kurucz Eszter</dc:creator>
  <dc:description/>
  <dc:language>en-US</dc:language>
  <cp:lastModifiedBy>LaCae</cp:lastModifiedBy>
  <dcterms:modified xsi:type="dcterms:W3CDTF">2008-06-02T11:45:46Z</dcterms:modified>
  <cp:revision>30</cp:revision>
  <dc:subject/>
  <dc:title>Szakirodalmi bizonyíték-kontroll </dc:title>
</cp:coreProperties>
</file>