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FA7-B85B-4504-B894-23E1D2B4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DDF-F6C5-42DF-A7F6-B72564A1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8E8-C6F7-4EB8-A752-6E7BC9AE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489-464B-4386-B438-FB5A09E4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58D0-31F9-454B-95E6-D40FF803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D5D6-8E20-46B6-8F08-AF769CB4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CC65-ED73-4898-A47F-467B0590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611D-CFC3-4B74-93CF-9F04CEA6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8401-DB0C-4565-9A55-A414BA79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7002-2CB5-4C79-AE20-D5CE71FB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5727-9C77-4CE5-B239-61428C86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56D-29B3-4934-95B9-7EFE35DF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EE02-32A9-4675-985A-8C0BA4E3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7061-77B9-4522-94F1-5C21398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9F80-8DA9-4A87-BE1F-8ADBCEEE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BF00-5DAA-48D2-B00B-83A382DE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7FD3-0D0D-4641-BEB0-8269B40B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BFD-6DFE-4589-8932-5E1499E5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F3A-AD5A-4A3C-B8C2-B2806B92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C28-5F9F-4D7A-91A6-4EB0D94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A01-C6AD-42CA-8BDE-12E3072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3F2-2097-4388-AAE6-8FE8A070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ADC-8148-4C45-AE56-CAE4A9C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E58-8A30-4548-A6EA-9ED7F11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6E2D-12F6-46C4-95E8-A026CAF1FF0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0AB3-D590-4001-9E1C-E6FD5E2CFD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élcsoport helyes kezelé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élcsopor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célcsoport meghatározásánál azt a piaci szegmentumot kell meghatároznunk, akiket a termékkel megcélzunk. Ez lehet kor szerint foglalkozás szerint, lakóhely szerint, stb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z egyes célcsoportok véleményének megismerése megfelelő vizsgálati módszerek tervezését,kidolgozását alkalmazását igény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üzen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üzenetnek pontosnak és jól érthetőnek kell lennie a külvilág felé és az előre meghatározott célt kell, hogy szolgál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élcsoport megérté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lyen célcsoportok vanna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k a használói igénye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k az eredmények használói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ért használják az eredményeke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t várnak től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Hogyan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üzenet közlésének módja nagyban meghatározhatja a sikerét. Először a figyelmet kell felkelteni, aztán megteremtjük az érdeklődést, majd a termékünk/szolgáltatásunk iránti vágyat kell az érdeklődőben feléleszteni, s végül a vásárlásra késztet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9:59:22Z</dcterms:created>
  <dc:creator>Kiss Eszter</dc:creator>
  <dc:description/>
  <dc:language>en-US</dc:language>
  <cp:lastModifiedBy>LaCae</cp:lastModifiedBy>
  <dcterms:modified xsi:type="dcterms:W3CDTF">2008-05-04T21:32:00Z</dcterms:modified>
  <cp:revision>5</cp:revision>
  <dc:subject/>
  <dc:title>Célcsoportok helyes kezelése </dc:title>
</cp:coreProperties>
</file>