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B348-1073-472A-B5A5-A7669828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41C1-9978-4078-947A-5F565ADA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2CA9-A2F6-4475-BF1F-969A0CB0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6C6-0881-494A-A7C5-E22AE644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24C6-ECA4-49D7-A219-3BAD9688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5EE1-B639-497B-805E-121D5C4B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4237-8468-41D5-AE42-1DEB378D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7A78-9D6F-4A3D-BC00-3B3F6272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A7BA-C123-4BCD-A65C-4ECE5FF9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5F47-82A2-4A38-A330-DB84464A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E0F5-071B-411F-99A0-1EE256D6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D35F-9B58-4E9B-AB50-43685A5B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00A5-79E0-488E-932A-B0EF71FD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FDAD-C475-4358-A81D-8599091C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3587-D30B-435C-BA48-07FC9532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1BDC-D846-437A-9DB7-FED0F907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030D-09F2-4620-B9AB-4B21149E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F3AD-EE54-465C-B40C-DE48BBBF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714D-03AA-4E6F-B93A-EF5ABC6F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B6CA-EFE6-4E9A-8756-7514A76B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C4B4-8B85-436E-8377-0F351370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BBE8-B014-4A57-91C4-092325F1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5871-51C3-47DA-A38C-E3C6F06C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7D2F-4AF2-4707-AEF2-47715A8F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0C6F-A063-4E9C-B0AF-9D9EEA371ABC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9EA6-7610-42B7-9E3D-CB4CA30B7392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rodalomjegyzékbe kerülés stratégiája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efiníció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ibliográfia: Könyvtártudomány, könyvésze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gy adott témáról szóló vagy rá vonatkozó könyvek, cikkek címeinek és könyvészeti adatainak listáj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redmények fogadá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párhuzamosan futó munkakörök outputjainak fogad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sszajelzé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feladat elvégzését követően igazolás kiállítása a Eredményt ellenőrző számá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Áttérés a következő feladat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unkakör feladata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gadja az ellenőrizendő dokumentumo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előírt szempontokon pontról pontra végigmegy és ellenőrzi, hogy a dokumentum megfelel- e az előírt követelményekn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kumentum minősíté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redmény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z adott formai és technikai követelmények ellenőrzé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lsorolásszerű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dolgozatban a hallgató minden pontjára hivatkozi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zerzőkők neve szerint abc sorre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rszámmal kell ellátn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zakirodalmak, egyéb irodalmak csoportosítás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sak olyan munka kerülhet amibe a szövegbe hivatkozás v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ccecff"/>
                </a:solidFill>
                <a:latin typeface="Arial"/>
              </a:rPr>
              <a:t>K</a:t>
            </a:r>
            <a:r>
              <a:rPr b="0" lang="nb-NO" sz="4000" spc="-1" strike="noStrike">
                <a:solidFill>
                  <a:srgbClr val="ccecff"/>
                </a:solidFill>
                <a:latin typeface="Arial"/>
              </a:rPr>
              <a:t>onzulensek kapcsolódó dokumentumai</a:t>
            </a:r>
            <a:r>
              <a:rPr b="0" lang="hu-H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plomadolgozati téma választása (1sz függelék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onzultációkon való részvétel igazolása (2sz függelék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rodalmi hivatkozás (5sz függelék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rások lehetséges megadás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Könyvből való idézés eseté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Szerző ne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könyv cí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Kiadó ne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Kiadás hely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Kiadás é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könyv oldalszám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Cikk, tanulmány eseté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szerző ne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cikk, tanulmány cí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folyóirat ne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Megjelenés éve és hónapja (szám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Oldalszám (-tól-ig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dolgozat megfelel e a szabályzatban előírtaknak. H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gen: továbbküldésre kerü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m: megkeresik a hibákat és visszaküldik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avítás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5:20:04Z</dcterms:created>
  <dc:creator>LaCae</dc:creator>
  <dc:description/>
  <dc:language>en-US</dc:language>
  <cp:lastModifiedBy>LaCae</cp:lastModifiedBy>
  <dcterms:modified xsi:type="dcterms:W3CDTF">2008-06-02T12:49:57Z</dcterms:modified>
  <cp:revision>4</cp:revision>
  <dc:subject/>
  <dc:title>Irodalomjegyzékbe kerülés stratégiája </dc:title>
</cp:coreProperties>
</file>