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6B4-2793-4435-9BFA-6CD59E24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575-411C-4D88-9B16-676D31DA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8EC-B1F8-4FF7-9440-4ED6B4DB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2E2-78CC-467F-AD34-BBA6638E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6D8A-3ABE-4AE7-868F-BDC86859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FBE9-1D2A-45E9-A512-41915743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7F29-8753-4957-A749-A58BCA44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74FC-CEE3-417D-BE27-68BFA0EF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1BB2-BB08-4737-884A-95CA684A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1605-EE1F-44CC-8F09-591A6984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DF99-52E6-485C-999F-CAD04D63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C87-61EC-4817-88F3-8C6D8406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36BE-37D6-4132-9205-FA7F46DE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8997-AB3E-4D73-B4A1-FBBC8D6F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162D-2FD6-4459-974D-D219DC49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0654-A713-49D2-9E0E-E7966D17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E721-CF0D-4B40-9DAE-E4723921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366-464F-445A-82DB-10DDF094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FE1-D42D-4590-A0A2-E2B37509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432-1ED0-4FF9-9857-EA29D436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0DD-60FB-4C41-85E7-7274F3BF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C2C-3429-4901-8660-8F8FF82D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78D-53A8-4FB9-BD3D-D73EC8CE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E8E-439F-45DE-941B-44D7D8F3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0EF8-5AB8-4D8B-B30A-202EDCE859EB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ECBB-4BBD-4808-93ED-E4FE2D1542B0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Impakt Fakto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Ismerte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Impakt faktornak nevezzük azt a mértékegységet, ami arra szolgál hogy egy bizonyos kiadvány fontosságát mérni tudju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izárólag teljes kiadványokra alkalmazzák, külön cikkekre ne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értékegysége IF. 1 IF = legalább egyszer idéztek a kiadványbó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Lehetséges Automatizál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gy témakörön vagy társadalmi csoporton belüli kiadványok rendszerezése és kategorizálása, hogy a későbbiekben ha hivatkozás történik a kiadványra, akkor azt tárolni illetve nyomon követni tudju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Megjegyz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vel a szövegben található információ értéke évről évre csökkenhet illetve nőhet, érdemes lenne évente felülvizsgálni a kapott IF értéket, vagyis éves szinten lebontott kalkulációk tűnnek ésszerű megoldásna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Számítás x= a kiadványból való idézések száma a jelen évb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y= az idézhető elemek száma amiket az elmúlt két évben adtak k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Jelen évi impakt faktor érték = x/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Munkakör pontos feladata kétféle lehet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z egyik: Erről kizárólag szakdolgozat elkészülése után beszélhetünk.  Ebben az esetben azt vizsgáljuk hogy az adott szakterületen és témában a dolgozat mennyire lett sikeres, elismert, hogy szakmailag mennyire hiteles és megbízható, ezt a következetést abból vonjuk le hogy a dolgozatból hányszor idéztek tudományos folyóiratok illetve cikkek és dokumentációk. </a:t>
            </a: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TEHÁT, HOGY A DOLGOZATNAK MEKKORA AZ IMPAKT FAKTOR ÉRTÉK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másik: Ebben az azt vizsgáljuk, hogy a dolgozat készítője a készítéskor olyan forrásokat használt fel a munkája során amelynek (Ha egyáltalán volt) a többi forráshoz képest nagyobb volt az impakt faktor értéke. Hiszen (ha megbízható a az IF formula) akkor ebből az következik(-ne) hogy a dolgozat ’értéke’ is jobb-töb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21:10:11Z</dcterms:created>
  <dc:creator>Gyuri</dc:creator>
  <dc:description/>
  <dc:language>en-US</dc:language>
  <cp:lastModifiedBy>LaCae</cp:lastModifiedBy>
  <dcterms:modified xsi:type="dcterms:W3CDTF">2008-05-04T21:47:59Z</dcterms:modified>
  <cp:revision>5</cp:revision>
  <dc:subject/>
  <dc:title>Impakt Faktor Hatás</dc:title>
</cp:coreProperties>
</file>