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AD7-0CA1-48C3-804C-2921C72E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503-730B-4FFC-AC41-06BF9039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4F4-1077-46E4-9FB2-CD35FCA9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B266-C471-43C8-BBF0-B33284FA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9929-77BC-4778-A4B2-286447D2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436D-40E2-43B0-ACFB-B075096B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C4DE-6F7B-4797-AF41-F3BEF116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EACF-F4B3-4689-80ED-6C415C39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0DF5-A536-4749-B588-4645E146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6949-4741-4CA9-97B4-B8F312FC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421E-2D88-4D17-BE1B-A84A91CF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808-431B-4838-A1AF-05BE2E46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C8B6-B90C-469C-B088-62091DCD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75E3-C9A4-4B1E-A76F-A59F1723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6AD0-D892-4A34-97D1-1CB1815C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31BE-AE38-4B2C-9A11-6C34E1B9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3776-F1DC-42D2-B459-266A37A7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A75-557C-4DEA-B729-A567E544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38C-DE3B-4433-9965-C489D3F2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36E-D758-456E-86D9-BE0693E6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C11-8FBA-410D-A6C0-C2B27E0D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6E6-AD5B-4C34-B003-F26C2DA2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2E3-FB36-4ECD-B213-0D9F21FD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83E-EACE-4DE0-920C-72FF8719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9D07-5A54-4D88-B398-309E140168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15A0-4FFE-43F0-BEE6-681932BE185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Kommunikációs szakértő, aki azért felel, hogy a potenciális érintettek képben legyenek a folyamat alat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mmunikációs szakértő jelentés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z a személy vagy illető kinek az a foglalkozása, hogy a potenciális érintetteket felvilágosítsa egy adott téma körön belül. Szakértő a saját témáján belül mindent tud, és segítséggel illetve tanácsadással szolgálhat a leginkáb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ügyfelek tájékoztatása a következők alapján: az 1. munkakörben az ügyfelek tájékoztatása pont részletes kifejtés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át kell gondolni, hogy megkapják-e az ügyfelek a kész követelményrendsze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agy csak a linkeket, hogy mit hol találnak me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valamelyik értékelési szintről visszadobják a dolgozatot akko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ötelező legyen-e a 2.-munkakör igénybevéte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gy opcionál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ll. bizonyos esetekben kötelező(durva hibáknál), más esetekben pedig opcionál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es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iba bekövetkezése esetén a potenciális személy értesítése levélben, e-mail-ben, telefonon vagy esetleg szób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ibának minősíthetjük: ha a hallgató azonosító kódja vagy személyigazolvány száma, személyes adatai el vannak gépelve, vagy rossz időpont lett megadva nekik a megbeszélésé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amilyen adat hiány esetén való szólás az előzőekben írt mód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athiánynak minősül: ha a hallgató azonosító kódja vagy személyigazolvány száma, személyes adatai el vannak gépelv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nácsad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ülönböző formátumú tanácsadások, felvilágosítások ( mint például papíron történő vagy interneten, e-mail-ben ( elektronikus levél útján), televízióban, szóban történő felvilágosítások, tudósításo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érdeklődő személyek kérdéseire válaszadá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ghallga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kommunikáció szakértőnek az alábbi pont szerint értelmezhető a meghallgatás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ügyfelek panaszai és egyéb problémáinak a meghallgatása és minél előbb ezekre megoldás megtalálá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onzultá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zakértőknek néha( főleg egy dologban való változásoknál) konzultációkat más néven megbeszéléseket szoktak tartani egy bizonyos témában ( annak változásaiban, bővítéseiben, problémáiban és ilyen dolgaiba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20:11:21Z</dcterms:created>
  <dc:creator>LaCae</dc:creator>
  <dc:description/>
  <dc:language>en-US</dc:language>
  <cp:lastModifiedBy>LaCae</cp:lastModifiedBy>
  <dcterms:modified xsi:type="dcterms:W3CDTF">2008-05-04T21:25:25Z</dcterms:modified>
  <cp:revision>3</cp:revision>
  <dc:subject/>
  <dc:title>Kommunikációs szakértő, aki azért felel, hogy a potenciális érintettek képben legyenek a folyamat alatt</dc:title>
</cp:coreProperties>
</file>