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523-E5D4-43E4-9DA1-369AD5D4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D16-F31C-4E0D-8DD7-5F42BD5D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FB3-EA15-4C69-A699-3ADA1C12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3FF-96BF-4C93-BA22-6E8A83C4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D456-DDCE-4873-A745-5F3D440D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52D-39D6-4E2A-8709-9771F41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CA6-44CD-4AF3-901E-C63E1716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3F23-FABF-4DD8-B3EB-3CCC4907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215F-F7CD-4883-995F-AE9B4E9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ED8-82D9-4E96-AEC3-19F1C7EF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BAF1-6E87-4781-B1BF-64B800B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13C-0275-495F-BDF1-45734A4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6474-687F-4D64-B0C9-A254D1D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7B4-4DDD-4BBC-BAFC-340ED2AA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53A-C015-498C-995C-8B58563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4DC-321D-494A-A2EA-C7AC3154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68BF-B2AA-4F85-9BE2-89B72755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C18-0AD4-48B2-8453-7755DD7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E8C-D834-4A2E-B27E-FFE10804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A32-132C-446B-8D7D-6A8115C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A56-4ED8-404D-850D-3F8ACF15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FA3-FF8C-4C05-919E-64E9D33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34F-46E3-4C9F-86AA-9A2AE5B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562-AA2C-4DC3-AF16-6E515AC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9EF-47CB-4278-A833-89E8D7BE1F6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769-A22D-4A88-9E88-7F03A8052C0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88600" y="2876400"/>
            <a:ext cx="61722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MILYEN JOGOKKAL KINEK?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700" spc="-1" strike="noStrike">
                <a:solidFill>
                  <a:srgbClr val="33cccc"/>
                </a:solidFill>
                <a:latin typeface="Arial"/>
              </a:rPr>
              <a:t>27. Pdf-konverzió</a:t>
            </a:r>
            <a:endParaRPr b="0" lang="en-US" sz="6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az a PD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ortable Document Format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hu-HU" sz="2100" spc="-1" strike="noStrike">
                <a:solidFill>
                  <a:srgbClr val="ffffff"/>
                </a:solidFill>
                <a:latin typeface="Verdana"/>
              </a:rPr>
              <a:t>PDF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) az Adobe Systems által kifejlesztett bináris fájlformátum. Ebben a formátumban dokumentumok tárolhatók, amelyek különböző szoftverekkel, hardverekkel és operációs rendszerekkel olvashatók és létrehozhatók. A PDF alkalmas szöveget, ábrát és képeket tartalmazó dokumentum leírására eszközfüggetlen és felbontásfüggetlen formában. A dokumentum lehet egyoldalas, és többezer oldalas is, egyszerű vagy összetett: sokféle betűtípussal, ábrával, színnel és képpel, továbbá tartalmazhat interaktív beviteli mezőket, nyomógombokat stb., lehetőséget teremtve arra, hogy üres űrlapokat hozzunk létre, amit a felhasználók később elektronikus formában is ki tudnak tölteni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iért kell TDK-t PDF-b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DF formátummal a bevitt szakdolgozat vagy egyéb írásos anyag könyvszerű formában tárolható, olvasható, de nem módosítható és látványosabb formájú. Segítségével dokumentumunkat kulturáltabb formában tárhatjuk a világ elé, és egyben megakadályozzuk, hogy illetéktelenek módosíthassák azt. Jelszóval való védelmére is lehetőségünk van, így megtekintetni is csak az illetékesek tudj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i a jogokat illeti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Szakdolgozatba való betekintésbe legfőbb joga van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szerzőnek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és annak, akinek a szerző szánj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Ha érdekünkben áll, hogy más ne férjen hozzá a jelszóval való titkosítást célszerű használ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Mellékesen jegyezném meg, hogy a jelszóval való védelem egy módja a szellemi termék írásos részének bevédésére is. Ez áruba is bocsájtható. Ilyen esetben az állomány ingyenesen letölthető és csupán a kulcsért kell fizetni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A szerző felhatalmazhat külső embereket is a dokumentum megtekintésére, ilyen lehet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orrektor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a kritiku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segít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ffffff"/>
                </a:solidFill>
                <a:latin typeface="Verdana"/>
              </a:rPr>
              <a:t>- egy érdeklődő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jelenési for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rmészetesen lehetőségünk van a munka kinyomtatására is, így könyvként kezelhetjük azt. Ez az offline for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nline formában szükség van egy számítógépre és egy pdf-et kezelő alkalmazása, amilyen pl. az Acrobat Read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ptimális esetben a szerző online és offline formában is elérhetővé teszi anyagá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17:29Z</dcterms:created>
  <dc:creator>PGab</dc:creator>
  <dc:description/>
  <dc:language>en-US</dc:language>
  <cp:lastModifiedBy>LaCae</cp:lastModifiedBy>
  <dcterms:modified xsi:type="dcterms:W3CDTF">2008-05-04T21:41:59Z</dcterms:modified>
  <cp:revision>14</cp:revision>
  <dc:subject/>
  <dc:title>27. Pdf-konverzió</dc:title>
</cp:coreProperties>
</file>