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5CF5-B7E7-4CE3-B35F-8296D5A3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37CE-6AC2-4CEA-95BC-55E0DC0E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D6D9-A16A-47EC-AB63-242CE6BBF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99CE-D4ED-4AA3-96C6-BF22A76E4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5857-D041-4162-9B29-E5A30CA2B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2840-12BD-4E07-A44B-5CA567A0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E615-DAC1-446F-B6D6-93C4F443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933E-3910-4DC7-88D3-2185FA19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0735-AF94-40B3-8514-7343171C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0023-BBF6-4386-B439-4C66C284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0AAD-E46C-4DB7-91F9-183E1059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D9C2-E349-491A-A5EC-6B41611E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A9B3-5188-4F42-8256-3A0B05B7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7DD0-9168-4BDA-BDF1-28AF72B0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A6FC-591F-4F32-91F0-32CB0FF1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5C27-E034-4924-B71A-DA3D2303D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084A-0671-4517-92A7-C7DD8C375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CF07-2D37-49AC-A6CD-F4DC5FCA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8293-396B-416A-A400-D00C1008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8BBB-491E-4F96-B463-EF62600D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F6D5-B509-481A-879C-D7A82615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960F-7FFE-401A-A671-DA3242A7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1DBB-D0E3-4753-9D34-597E4A59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E600-385C-43B6-B7C6-413E3FF9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8A23-FFF8-45D3-A87D-6F9E2F1181C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3756-653F-41F6-9458-4EDC28D7B19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Szakirodalmi%20formai%20ellen&#337;r.doc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Szakirodalmi formai ellenőr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finíci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22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rtalmi jellegű utalás, hivatkozás, idézet esetében a felhasznált gondolat helyes megjelenítésének ellenőrzés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Szövegdoboz 4"/>
          <p:cNvSpPr/>
          <p:nvPr/>
        </p:nvSpPr>
        <p:spPr>
          <a:xfrm>
            <a:off x="1500120" y="4857840"/>
            <a:ext cx="59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Feltétel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Párhuzamos munkakörök katalógus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499"/>
              </a:spcBef>
              <a:buNone/>
              <a:tabLst>
                <a:tab algn="l" pos="0"/>
                <a:tab algn="ctr" pos="1700280"/>
                <a:tab algn="ctr" pos="5111640"/>
                <a:tab algn="ctr" pos="69991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ctr" pos="1700280"/>
                <a:tab algn="ctr" pos="5111640"/>
                <a:tab algn="ctr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ágium-kontroll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ctr" pos="1700280"/>
                <a:tab algn="ctr" pos="5111640"/>
                <a:tab algn="ctr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rukturális ellenőrzé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ctr" pos="1700280"/>
                <a:tab algn="ctr" pos="5111640"/>
                <a:tab algn="ctr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zakirodalmi bizonyíték kontrol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bakezel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640" y="128556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hetséges hibafajták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179280" indent="4431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ossz formátum (hivatkozás helytelen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gjelenítés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179280" indent="4431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ossz sorrend (pl. évszám hamarabb szerepel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nt a szerző nev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179280" indent="4431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m létező forrásra való hivatkozás (pl.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zerzők nevének összetévesztés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iba javítása: pl. hiányzó pont, zárójel, stb. pótlása, szerző nevének helyesbítése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vábbküld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redmények datálása: dolgozat szerzője, ellenőrző, dátum, eredmén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vábbküldés a Plágium-kontroll számá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2T13:14:05Z</dcterms:created>
  <dc:creator>LaCae</dc:creator>
  <dc:description/>
  <dc:language>en-US</dc:language>
  <cp:lastModifiedBy>LaCae</cp:lastModifiedBy>
  <dcterms:modified xsi:type="dcterms:W3CDTF">2008-05-04T21:29:32Z</dcterms:modified>
  <cp:revision>23</cp:revision>
  <dc:subject/>
  <dc:title>Párhuzamosítható feladatok outputjai közötti konfliktusok feloldása</dc:title>
</cp:coreProperties>
</file>