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BF2-8954-4F16-BED5-FF3F8C31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EC7-CD1B-4734-9736-BE0CE997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614-F6FD-4E5A-B347-80B1FCB8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1C8-D658-434A-B577-958B501B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0ECA-9495-4A0B-8A5E-EE115322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5F52-90F6-40DB-8E94-DF30D3E6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CD70-6022-4C99-A9ED-C666FFDA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C3AD-2D3F-4A26-8F73-D7502E0B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1EED-1A6A-4428-936A-03669930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872D-9F69-405D-9AE0-E0AC357D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0E74-1A2E-4BA2-A060-4C3FB910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A13-D844-47C4-BA5C-7B819FFA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630C-67CC-4728-BEC8-51AE0BB3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FB1E-DB67-49BA-A605-AA69CADD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9BE1-884B-4054-8F29-E7468AF9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3DBE-B9BE-4BAE-A183-DB8CA380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5773-73E4-4A5A-A70C-FE55D904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A0E-7BC9-4866-956C-A410827F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58B-283D-41E6-9ABC-569330F1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4E9-D534-4646-97AE-EDF2A257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BB6-6327-4399-9152-A533090B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462-8F2D-486B-AA4D-FED6E0D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AD4-D6F9-4178-8758-2A42B57C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C0B-DC87-4EC3-8205-FDD5E5BD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2708-0986-4E3A-920C-FEB4A81DEDA6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4C21-24B7-44E9-AD51-A561D66D1AC0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Formai értékelés(ppt)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lenőrz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gfelel-e az előírtakna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gen: Hibamentes                           megfelelt a szabályzatban leírtakn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sza a feladóna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tomatikus javítás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lentmondások kiküszöböl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3357720"/>
            <a:ext cx="1728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7640" y="551664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res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hetséges hibafajtá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 konziszt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 megfelelő a felépít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ilag nem lényegre tör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yelvhelyességi hibá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 eseté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ibás dokumentumok esetén visszaküldjük a hallgató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i javitja ki a hibákat? 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llgató által történik a javít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utomatizm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talált hibák kijavítása és hiányosságok pótl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hibázó kijavítja a hibát, visszaküldi és Értékelésre kerü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z értékelés nem talált hibát, akkor az eredményeket továbbküld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llemzés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 rövid, tömör, lényegre törő vázl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 előadásának megkönnyítésére szolgá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 Dolgozat szerkeze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ppt-nek konzisztensnek kell lenn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Betütípus, betümére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Bekezdések igazít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Tartalmi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ppt lényegre törő, tömör legy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Áttekinthet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Ne legyen sűrít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.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í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gyen rövid, érthető és a tartalmat jól kifejező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Bevezet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glalkozik a téma elméleti és gyakorlati jelentőségével (maximum 2 olda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émafelvetés és célkitűz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okolja a saját vizsgálatokat és célkitűzéseket (1-2 oldal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Verdana"/>
              </a:rPr>
              <a:t>Szakirodalmi áttekint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témával összefüggő irodalom feldolgozása szorosan kapcsolódjék a témához. Az irodalomban ismertetett eredményeket kritikailag elemezni, értékelni kell. Terjedelme a ppt 15-20%-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Anyag és módsz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vizsgálatokkal, monografikus elemzésekkel kapcsolatos anyagok és módszerek ismertetésénél a kísérletezés, vizsgálat körülményeit, elemzés módszereit kell leírni. A fejezet ne haladja meg az összes terjedelem 10-15%-á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Eredmények és azok értékel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 fejezet a vizsgálatok és az elemzések eredményeit tartalmazza. Az eredményeket célszerű táblázatokban összefoglalni, ábrákkal szemléltetni és megbízhatóságukat a tudományterület sajátosságait figyelembe véve matematikai – statisztikai módszerekkel igazolni. Fontos, hogy a hallgató az eredményeit pontosan és áttekinthetően rögzítse, magyarázza és más vizsgálati eredményekkel is hasonlítsa össze. Itt ne szerepeljen más szerzőkre való hivatkozás. E fejezet az összes terjedelemnek 40-50%-át képezz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6.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Következtetések és javaslato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Ismertetni kell az eredményekből levont legfontosabb következtetéseket, és javaslatot tenni azok gyakorlati alkalmazására, illetve továbbfejlesztésére. Ennek a fejezetnek a terjedelme max. 20%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Összefoglalá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z összefoglalás ne legyen hosszabb 2 oldalnál. Röviden ismertetni kell, hogy milyen körülmények között folytak a vizsgálatok és milyen kérdésekre terjedtek ki. Ismertetni kell a fontosabb eredményeket, megállapításokat és a levont következtetéseket. Törekedni kell a tömör és világos megfogalmazásra. Hivatkozások itt ne szerepeljene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 tömör változata beérkezik               megkezdődik a vizsgálód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306864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0:46:17Z</dcterms:created>
  <dc:creator>eXPerience</dc:creator>
  <dc:description/>
  <dc:language>en-US</dc:language>
  <cp:lastModifiedBy>LaCae</cp:lastModifiedBy>
  <dcterms:modified xsi:type="dcterms:W3CDTF">2008-05-04T21:27:43Z</dcterms:modified>
  <cp:revision>14</cp:revision>
  <dc:subject/>
  <dc:title>Formai értékelés(doc)</dc:title>
</cp:coreProperties>
</file>