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0F0-94F4-4184-B9CD-50685204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8A8-DAAD-408D-B338-C539FCC3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10D-DF47-4EAF-A3FD-D007A6C2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ACC-4059-4C45-8C2D-C14C74D0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1DC1-6F4E-4008-9C8C-13568499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D1B9-B1D6-4D14-968F-61FFA2FF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F9F9-C990-458D-A774-B8CB6C9E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9399-2B61-4727-8049-2F3BB1AF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62E9-A9F5-4F1F-9F4F-D131C149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4EC3-9CF0-4C57-B440-F6FD1941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10B8-CEC9-47F3-ADE1-0147F773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929-1975-4E6D-A2C6-3D4BE2AD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5976-B945-4939-A44D-D0CF6B74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604B-5BEB-452A-A555-B2889B18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4914-9BED-40E6-8964-226049A3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A822-D1BF-4399-9CA9-0034B497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5653-C8CA-49CF-9DAA-3C51350C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9A8-71DA-4EE8-AA3F-EA613F77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A20-0B48-4C69-8C29-A4BAAFC9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7A5-AF75-4ABF-8E82-C05A146C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5F2-B247-4D4E-A8BB-3E8208EA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8AB-6648-410E-9ACB-819C986A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686-3911-49EF-BA98-3A32C8FF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B85-A05E-4E97-BB3C-40FE090E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5104-9CF3-45AD-B1EF-93AAE9DD677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42EE-12BD-4FCC-A826-D596BE80D7E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esign a későbbi publikációkban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ccecff"/>
                </a:solidFill>
                <a:latin typeface="Arial"/>
              </a:rPr>
              <a:t>Azok számára akik a későbbiekben az adott dolgozatra kívánnak hivatkozni:</a:t>
            </a:r>
            <a:r>
              <a:rPr b="0" lang="hu-H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Verdana"/>
              </a:rPr>
              <a:t>rendelkezésükre kell bocsátan az alkalmazott logok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Verdana"/>
              </a:rPr>
              <a:t>meg kell adni a kapcsolattartókat és elérhetőségü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egadni a </a:t>
            </a:r>
            <a:r>
              <a:rPr b="0" lang="nb-NO" sz="2800" spc="-1" strike="noStrike">
                <a:solidFill>
                  <a:srgbClr val="ffffff"/>
                </a:solidFill>
                <a:latin typeface="Verdana"/>
              </a:rPr>
              <a:t>template-állományoka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Verdana"/>
              </a:rPr>
              <a:t>akár a ppt rendelkezésre bocsáta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z értékelés nem talált hibát, akkor az eredményeket továbbküldi a következő munkafolyamat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efiníció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design a későbbi publikációba létrehozott formatervezé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nb-NO" sz="4400" spc="-1" strike="noStrike">
                <a:solidFill>
                  <a:srgbClr val="ccecff"/>
                </a:solidFill>
                <a:latin typeface="Arial"/>
              </a:rPr>
              <a:t> munkakör pontos feladata</a:t>
            </a: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lenőrzi a beérkező feladatot, hogy megfelel e a következő előírásoknak és szempontokn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ák jelzése és dokumentá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kumentum minősít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árhuzamosan futó munkakörök outputjainak fogad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jelzé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eladat elvégzését követően igazolás kiállítása a Eredményt ellenőrző számá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Áttérés a következő feladat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 fela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lenőrzi a beérkező feladatot, hogy megfelel e a következő előírásoknak és szempontokn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ák jelzése és dokumentá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kumentum minősít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feladat megfelel e az adott formai és technikai követelmények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pt tükrözi-e az adott feladat lényegé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Lényegretör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Áttekinthető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Logikus, jól követhet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aját vélemén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hetséges hibá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megfelelő form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esetleg nem nyitható meg a dokument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yesír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épelési hib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 felel meg a formai követelményekn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áttér ne ütközzön a betűszínn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 álljon túl sok diából (kb10dia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ógok helyes használ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vatkozások megjelenít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pt-ben használt logok megfelelő és jogtiszta  használ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szerint, a logokat a tulajdonos tudtával használta fel az adott publikációba és ezzel nem sért meg semmilyen jogot, amiből később esetleg bármiféle hátránya származi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Kapcsolattartók és elérhetőségeik megad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 megfelel e a szabályzatban előírtaknak. H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gen: továbbküldésre kerü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m: javításra kerül sor, vagy visszaküldés a hibázón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8:56:05Z</dcterms:created>
  <dc:creator>VIOLA</dc:creator>
  <dc:description/>
  <dc:language>en-US</dc:language>
  <cp:lastModifiedBy>LaCae</cp:lastModifiedBy>
  <dcterms:modified xsi:type="dcterms:W3CDTF">2008-06-02T12:43:52Z</dcterms:modified>
  <cp:revision>13</cp:revision>
  <dc:subject/>
  <dc:title>Design a későbbi publikációkban </dc:title>
</cp:coreProperties>
</file>