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298-7B92-4345-A17A-48B814AD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3F5-847F-4A8F-8FA4-14BECFCD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CBC-CD0A-4155-B953-061BDF6C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978-0970-4A2A-83B2-072D061B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0BF-FC03-49C9-9D90-EECB800C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EEE8-B946-458D-88CA-8C070179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7279-C1AC-441A-B138-355F67BC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EDD5-E922-4168-9B85-F19D9099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4C71-55CB-4FB5-B74F-332B8B95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9FF2-379F-41F8-B895-AAF19DB8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6A34-B3F5-4DD6-B0A3-2F028226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3F5-6E97-4758-8370-E7C8B9D1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D37B-9A54-45F2-86E1-7A491F8E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6D1F-E5EE-4E5F-9B1A-56E20E07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AC74-3A8B-4855-BD79-AEBF6AA8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2EBF-7B28-4BF7-9FC4-261F4EB3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11BA-D6E1-4763-8898-6BA86B7A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6D8-E2A2-481F-8B04-980536AA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D05-C32A-4556-BF74-286AE172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411-C098-47CF-9D8C-012E781B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627-64F6-4CB9-88C4-9244DA5A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45B-FF8A-482B-A4C3-0D6356A8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72A-5326-44A4-B603-A71518BD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D3A-5347-42F0-AD5E-3A333FC4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6849-BEBA-4B71-AAF0-58FC73238E69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F498-898C-413C-A434-4572D4A9CEE9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gen-szavak.hu/" TargetMode="External"/><Relationship Id="rId2" Type="http://schemas.openxmlformats.org/officeDocument/2006/relationships/hyperlink" Target="http://tmt.omikk.bme.hu/show_news.html?id=4282&amp;issue_id=468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Citációk követése</a:t>
            </a:r>
            <a:br>
              <a:rPr sz="5400"/>
            </a:b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 Citációs kartellek figyelés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Fogalmak tisztáz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Comic Sans MS"/>
              </a:rPr>
              <a:t>Citáció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: idézés/idézettsé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Comic Sans MS"/>
              </a:rPr>
              <a:t>Kartell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: Több vállalat kísérlete arra, hogy együtt uralkodó pozícióba jussanak. Kartellnek nevezünk minden versenytársak közötti megállapodást, ha az a gazdasági versenyt korlátozz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Összefoglalva a </a:t>
            </a:r>
            <a:r>
              <a:rPr b="0" i="1" lang="hu-HU" sz="2800" spc="-1" strike="noStrike">
                <a:solidFill>
                  <a:srgbClr val="ffffff"/>
                </a:solidFill>
                <a:latin typeface="Comic Sans MS"/>
              </a:rPr>
              <a:t>citációs kartell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 néhány szerző összefogását jelenti, akik rendszeresen egymást hivatkozzák meg műveikb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Az idézettség követése rendkívül fontos a kutatók számára, a tudományos minősítési rendszer követelménye miatt. A kiemelt pályázatok és a tudományos minősítések elbírálásánál döntõ tudományos teljesítményt a kutatók idézettségével méri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09120" y="61128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ccecff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ccecff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Egy publikáció jelentőségét azzal is becsülhetjük, ha megszámoljuk a forrásmunkaként rá hivatkozó más publikációkat. Hasonlóképpen, egy kutató munkájának jelentőségét kifejezheti az, hogy műveire összesen hány mások által írott hivatkozást (citációt) kap. Az önhivatkozásoknak (vagyis mikor a szerző egyik művében saját másik művére utal) e szempontból általában nem tulajdonítanak jelentőséget. Több helyen csak a független idézetek számát elemzik, ez esetben a citált mű szerzői és a citáló mű szerzői között egyetlen azonos személy sinc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A hivatkozások száma természetesen csak a formálisan is publikált hivatkozó művek esetében értelmezhető. A nem publikált művekben, pl. kéziratokban, szakdolgozatokban fellelt hivatkozások száma e szempontból lényegtel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A világ rangosabb nemzetközi szakfolyóiratainak hivatkozási listáit feldolgozza pl. az </a:t>
            </a:r>
            <a:r>
              <a:rPr b="0" i="1" lang="hu-HU" sz="2400" spc="-1" strike="noStrike">
                <a:solidFill>
                  <a:srgbClr val="ffffff"/>
                </a:solidFill>
                <a:latin typeface="Comic Sans MS"/>
              </a:rPr>
              <a:t>ISI Web of Science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, vagy a </a:t>
            </a:r>
            <a:r>
              <a:rPr b="0" i="1" lang="hu-HU" sz="2400" spc="-1" strike="noStrike">
                <a:solidFill>
                  <a:srgbClr val="ffffff"/>
                </a:solidFill>
                <a:latin typeface="Comic Sans MS"/>
              </a:rPr>
              <a:t>Scopus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adatbank. Ezeket használva a különböző kutatók idézettsége az adott indexelő szolgáltatás körén belül vizsgálható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533160" y="46044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ccecff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Valószínűleg nem közismert, hogy éppen Magyarországon vezették be legelőször az idézettség figyelését és ezt a hatástényezőt a tudományos teljesítmények mérésére, olyannyira, hogy egyes tudományágakban és kutatóintézetekben meghatározóvá vált az idézettségi mutató és az impakt faktor növelése utáni hajsz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685800"/>
            <a:ext cx="76201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ffffff"/>
                </a:solidFill>
                <a:latin typeface="Comic Sans MS"/>
              </a:rPr>
              <a:t>Citációk követése</a:t>
            </a:r>
            <a:br>
              <a:rPr sz="3300"/>
            </a:b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Verdana"/>
              </a:rPr>
              <a:t>http://</a:t>
            </a:r>
            <a:r>
              <a:rPr b="0" lang="hu-H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idegen-szavak.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tmt.omikk.bme.hu/show_news.html?id=4282&amp;issue_id=46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Verdana"/>
              </a:rPr>
              <a:t>http://hu.wikipedia.or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rás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9:41:52Z</dcterms:created>
  <dc:creator>Windows XP Pro SP2a</dc:creator>
  <dc:description/>
  <dc:language>en-US</dc:language>
  <cp:lastModifiedBy>LaCae</cp:lastModifiedBy>
  <dcterms:modified xsi:type="dcterms:W3CDTF">2008-05-04T21:46:58Z</dcterms:modified>
  <cp:revision>11</cp:revision>
  <dc:subject/>
  <dc:title>Citációk követése</dc:title>
</cp:coreProperties>
</file>