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E86-0B39-48C6-892E-CB6C8462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ABC-CFB2-42C0-9075-07542A8F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099-C703-46B3-90C6-34F47B7F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9C6-1048-4195-8950-88196E48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6215-9F2B-43B7-852F-0687E54A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4F0E-AE35-40A9-994C-4EC6ED57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14FD-9CFF-4D0E-ADE3-2DB7D579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6408-6FD4-41BC-8F36-D11041A9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837C-AE2C-431F-90A4-A62D37E7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47FB-598E-4493-A99B-2A781EAB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1036-CB0F-446F-898F-D5309C03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0AC-DCA2-4DED-A288-885DD7E3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948C-6A54-4631-8A32-03B2583B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4ACE-AC9D-46A6-BBC1-B55B6F40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7D2C-6A71-4D04-8434-9319F3CA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949F-B03E-4720-B237-7608DEC8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0F3A-66FB-4A4A-AA82-CED55E6B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C44-68C7-45E8-8D29-CC10FE99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64B-70DF-4DD0-BDDF-28056211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1C6-D246-4B00-A991-08096C9A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EFB-A16E-4B64-B548-F662E6AA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BEC-4492-4214-977F-70434DD6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E87-8463-4E31-AB76-67621D01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7D6-F78A-4AEE-9BDA-30321ED4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0C1D-0A26-46EB-A598-489C6AFE9E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82CF-B1BA-41C2-BE73-E262AD485D2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u.wikipedia.org/wiki/Stilisztika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K&#252;ls&#337; bor&#237;t&#243;lap.doc" TargetMode="External"/><Relationship Id="rId2" Type="http://schemas.openxmlformats.org/officeDocument/2006/relationships/hyperlink" Target="form&#225;tum.doc" TargetMode="External"/><Relationship Id="rId3" Type="http://schemas.openxmlformats.org/officeDocument/2006/relationships/hyperlink" Target="C&#237;m.doc" TargetMode="External"/><Relationship Id="rId4" Type="http://schemas.openxmlformats.org/officeDocument/2006/relationships/hyperlink" Target="1.doc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&#225;bra.d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ormai értékelés(doc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8. Irodalom jegyzé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TDK dolgozat elején, a belső borítólap után következik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talomjegyzékben felsorolt fő- és alfejezetcímek szó szerint egyezzenek meg a szövegben találhatókkal, s a beosztásból tűnjön ki a címek alatti részek fontosság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címekhez be kell írni az oldalszámot. A tartalomjegyzés- az oldalszámok megadása mellett- az alábbiakat foglalja magáb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evezeté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ő fejezet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fejezet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nto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ponto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Összefoglaló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odalomjegyzé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lléklet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8. Irodalom jegyzé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irodalomjegyzéket a szerzők nevének kezdőbetűi alapján alfabetikus sorrendben kell összeállítani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 csak olyan munka vehető fel, amelyre a szövegben hivatkozás történik és azok mindegyikének szerepelniük kell itt. (irodalmi hivatkozás formai követelménye a 4. sz. mellékletben megtalálható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9. A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hivatkozott irodalmak jegyzék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hivatkozott irodalmak jegyzékét a hivatalosan elfogadott módszer szerint kell összeállítan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szerző(k) neve (a keresztnév első betűjével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iadvány címe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iadás helye és éve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iadó vagy közreadó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öbb kötetes mű esetén a kötet száma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terjedelem (p.) (pagina) vagy (o.) (oldal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hivatkozás esetén az oldalszám (konkrét oldal, vagy -tól-ig oldalak) ismegadhat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10. A hivatkozott irodalmak jegyzék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) könyvek esetében p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Beluszky P.(1999): Magyarország telepulésföldrajza. Budapest-Pécs, Dialóg Campus Kiadó, 567 p., 148-216. 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b) könyvrészletek esetében pl.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Burján A. (1984): A mezőgazdasági vállalatok irányítása. In: Dobos K. Tóth M. (szerk.): A A mezőgazdasági vállalati gazdálkodás alapjai és szervezése. Budapest, Mezőgazdasági Kiadó, 370 p., 241-328. 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c) kiadványok (konferencia kiadvány, gyűjteményes kötet, tanulmánykötet, intézeti kiadvány, esetében, pl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Papp J. – Komáromi N. (1998): Hatásos promóciós eszközök fiatalok körében. In: Mezőgazdaság és Vidékfejlesztés. VI. Nemzetközi Agrárökonómiai Tudományos Napok. Gödöllői Agrártudományi Egyetem Mezőgazdasági Főiskolai Kar Gyöngyös, 3. kötet 223-228.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11. A hivatkozott irodalmak jegyzék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Verdana"/>
              </a:rPr>
              <a:t>d) folyóirat esetén p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-ha az oldalszámozás évenkénti (ilyenkor a kettőspont előtti szám az évfolyamot, az utána lévő pedig az oldalszámot jelenti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zabóné Medgyes É. (1988): A vállalati gazdálkodás néhány problémája a mezőgazdaságban. Statisztikai Szemle. 64:1065-1076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-ha az oldalszámozás számonkénti (ilyenkor a kettőspont előtti töt szám számlálója az évfolyamot, nevezője az évfolyamon belüli számot, az utána levő pedig az oldalszámot jelenti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zűcs I. et al. (2001): A kedvezőtlen adottságú területek EU-konform behatárolása. Gazdálkodás. XLV. Évf. 3. sz. 67-76. p. (vagy  XLV/3:67-76.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e) A külföldi folyóiratokból, könyvekből az eredeti nyelven kell hivatkozni, a magyar nyelvű hivatkozással megegyező mód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12. Mellékl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rodalomjegyzék után, római számokkal jelölt oldalszámozással ellátva kell elhelyezn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ellékletben táblázatok, ábrák, egyéb olyan dokumentumok szerepeltethetők, amelyek a dolgozat mondanivalójának illusztrálására szolgálnak, de nem képezik a dolgozat érdemi részé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13. Helyesír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helyesírást illetően az MTA által kiadott, legújabb „A magyar helyesírás szabályai” című kiadvány az irányad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beérkezik               megkezdődik a vizsgálód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4788000" y="306864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lenőrz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gfelel-e a dolgozat a szabályzatban előírtakna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gen: Hibamentes                           megfelelt a szabályzatban leírtakn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sza a feladóna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tomatikus javítás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lyesírás ellenőrző lefuttatá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lentmondások kiküszöböl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357720"/>
            <a:ext cx="1728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551664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res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afajtá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ssz form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megfelelő a dolgozat felépít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ncs pontos forrás megjelölése az irodalomjegyzékb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yelvhelyességi hib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vatkozási problém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llemzé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2879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aki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lyesírás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ilisztikai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2276640"/>
            <a:ext cx="792360" cy="2016000"/>
          </a:xfrm>
          <a:custGeom>
            <a:avLst/>
            <a:gdLst>
              <a:gd name="textAreaLeft" fmla="*/ 0 w 792360"/>
              <a:gd name="textAreaRight" fmla="*/ 286200 w 7923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30686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empontból meg kell, hogy feleljen a szabályzatban előírtak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eseté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ibás dokumentumok esetén visszaküldjük a hallgató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i javitja ki a hibákat? 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llgató által történik a javít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utomatizm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talált hibák kijavítása és hiányosságok pót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hibázó kijavítja a hibát, visszaküldi és Értékelésre kerü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z értékelés nem talált hibát, akkor az eredményeket továbbkül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rodalmi Jegyzé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Benet Iván [1994]: A földkérdés és az agrárstruktúra átalakítása Magyarországon. In: A magy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mezőgazdaság helye Európában I.,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PATE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Keszthe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Howarth, W. R. [1990]: Farming for farmers? (2nd ed.),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Institute of Economic Affairs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Lond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Hajdú Zoltán [2001]: Magyarország közigazgatási földrajza.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Dialóg Campus Kiadó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Budapest-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Péc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Kovács Árpád [2002]: Az Állami Számvevőszék megújult stratégiájáról.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Pénzügyi Szemle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Budapest, 2-5. ol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Kajtor Erzsébet [2001]: Európai színvonalú kórház magyar gondokkal.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Egészségügyi Gazdaság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Szemle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Budapest, 19-22. ol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weezy, P. M. – Magdoff, H. [1992]: Globalisation – To What End? I-II.,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Monthly Review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ebruary, March, New York, 34-37. ol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tatisztikai Évkönyv [1999]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Központi Statisztikai Hivatal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Budapest, 8-11. ol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1. A dolgozat szerkezeti felépíté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74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rítólapok kivitele és felirata </a:t>
            </a:r>
            <a:r>
              <a:rPr b="0" lang="en-US" sz="15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74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átum </a:t>
            </a:r>
            <a:r>
              <a:rPr b="0" lang="en-US" sz="15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74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ajánlott tagolása pl. agrár és természettudományi témák esetében </a:t>
            </a:r>
            <a:r>
              <a:rPr b="0" lang="en-US" sz="15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74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Szakirodalmi áttekintés </a:t>
            </a:r>
            <a:r>
              <a:rPr b="0" lang="en-US" sz="15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. Formai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dolgozatot A/4-es méretű fehér lapra, 1,5 sortávolsággal, bal oldalán 3 cm-es, jobb oldalán 2 cm-es, fent és lent 3-3 cm-es margóval kell elkészíten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megadott betűtípus: Times New Roman 12-es betűmére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táblázatok és ábrák maximum A/4-es méretű, vagy annak egész számú többszörösét kitevő nagyságúak lehetnek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diplomamunka tartalmi és esztétikai értékeit növelik a jól áttekinthető táblázatok, ábrák, grafikonok, diagrammok és fényképe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dolgozat terjedelme lehetőség szerint 35-50 terjedelmű legy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3.Vizsgálati eredmény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zsgálatok, elemzések eredményeit tartalmazza ez a rés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ját eredmények ismertet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redményeket célszerű táblázatokban is összefoglalni, ábrákkal szemléltetni és megbízhatóságukat a tudományterület sajátosságait figyelembe véve statisztikai módszerekkel igazoln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4.Értékelések, következtetések, javaslato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bben a fejezetben kell ismertetni az eredményekből levont legfontosabb következtetéseket. Itt kell megtenni az összevetést más szerzők eredményeivel (itt ismét lehet hivatkozni). A téma jellegétől függően javaslatot kell tenni azok gyakorlati alkalmazására, illetve továbbfejlesztésére. (maximum 15 old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5. Jegyzet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rülhetnek folyamatos sorszámozással a lábjegyzetbe vagy a befejező rész után. A szövegben a jegyzetekre felső állásba tett számokkal kell hivatkozn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6. Táblázatok, ábrák, grafikono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áblázatok készítés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Ábrák készítése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 *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fikon készítése: ábrázolása koordináta-rendszerben, pontosan szüksé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7. Hivatkozáso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ban háromfajta hivatkozást lehet alkalmazn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ószerinti hivatkozá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i hivatkozá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tisztikai adatok, táblázatok, diagrammok hivatkozás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43:42Z</dcterms:created>
  <dc:creator>LaCae</dc:creator>
  <dc:description/>
  <dc:language>en-US</dc:language>
  <cp:lastModifiedBy>LaCae</cp:lastModifiedBy>
  <dcterms:modified xsi:type="dcterms:W3CDTF">2008-06-02T11:04:35Z</dcterms:modified>
  <cp:revision>7</cp:revision>
  <dc:subject/>
  <dc:title>Formai értékelés(doc)</dc:title>
</cp:coreProperties>
</file>