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C5D-B820-4A33-9E5C-65192A96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E7A-FBB0-4065-A77E-372AA759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E62-B9A3-40AE-B03C-4993BFA4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FE7-B6DD-448D-A5C1-F4940038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CD38-776E-4D39-A105-4E812EAD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F8B4-C131-49DB-8DDB-5CB82C9B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53DB-6848-4AFD-ACCB-7B0B652A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1AF5-1F7F-47AE-AF6A-32C1528B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EE35-04A5-4EEE-933D-4218AEFF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76D2-CD76-4DB1-AD74-EEAB2B11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D9E9-BBCF-4F13-BC78-4B6AF179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218-0048-48EE-8A79-C7EA7185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9912-3B71-4396-A8BE-88F6A372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7BC3-F5E7-4D7A-831A-C4286ABC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009E-C3BF-4BFB-BDE2-8B8C31E0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1070-C394-4C23-AB3B-40267D28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A38C-D298-4FFE-B07D-DBEE9B87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383-1E67-4F43-B060-E9BA65E0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899-C868-4B9D-8B7C-19DB5920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F00-627A-4418-ACD5-F8251B75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909-3A4F-4FAF-8BA1-B980C599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7CC-DD3C-4ACF-AE96-3449B62C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461-459A-426F-9426-A16655AC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A0F-6C08-40CC-87F2-06EA5CF5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A89E-6087-4FE8-9775-9385C1DB1AED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9889-586F-4A52-B41B-CC92AFAFD184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ffffff"/>
                </a:solidFill>
                <a:uFillTx/>
                <a:latin typeface="Verdana"/>
              </a:rPr>
              <a:t>Mellékletekről általáb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ben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táblázatok, ábrák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és olyan dokumentumok szerepeltethetők, amelyek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a dolgozat mondanivalójának részletes megértésére szolgálnak,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mindamellett a mellékletek a reprodukálhatóságot is támogatják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Ide kerülnek azok a nagyobb méretű táblázatok, ábrák, amelyek szövegközi elhelyezése gondot okozott volna. Ide helyezhető el továbbá a kérdőíves felmérés alapjául szolgáló dokumentumok, továbbá a statisztikai és matematikai számítások alaptáblái is. Egyes esetekben rövidebb szöveges dokumentumok (pl. szerződések, jogszabály részletek, stb.) is helyet kaphatnak itt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et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oldalszámozni nem kell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(ezt végül is nem is fontos ellenőrizni, mert ha van van, ha nincs nincs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eket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sorszámozva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illetve a dokumentum főszövegében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hivatkozva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kell feltüntetn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(ek)et az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Irodalomjegyzék után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római számokkal jelölt oldal-számozással ellátva kell elhelyezni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z utolsó 3 melléklet az alábbi: rezümé, hallgatói nyilatkozat, konzulensi nyilatkozat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- Köszönöm a figyelmet!" szöveg nagy betűkkel. (Ez csak PPT-bemutatónál kel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ffff"/>
                </a:solidFill>
                <a:uFillTx/>
                <a:latin typeface="Verdana"/>
              </a:rPr>
              <a:t>Elsődleges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elléklet-e egyáltalán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a beadott nyomtatvány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Igen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: további vizsgálódásra, elemzésre meh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Nem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: visszaküld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ilyen típusú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melléklet a beadott nyomtatvány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DO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P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X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online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ülön elbírálás az egyes típusoknál (részletezés az előző, ill. a következő diákba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ffff"/>
                </a:solidFill>
                <a:uFillTx/>
                <a:latin typeface="Arial"/>
              </a:rPr>
              <a:t>Formai értékelés on-line (internetes) melléklete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Online források esetén fontos a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teljes(!) elérési út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keletkezés, érvényesség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és a letöltés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dátum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ának megadása, hitelessé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Helyes-e a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hivatkozások kezelése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(online hivatkozások, frissesség, szerzők megadása, megjelentetés módja, …)? Részletes lista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hivatkozott oldal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, ha nem hibás az elérési út,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egyből elérhető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hivatkozásokat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dokumentum mélységig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kell megadn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internetes oldal használatának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dátumát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is közölni kel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z internetes hivatkozásokat a tartalomjegyzékben elkülönítetten kell kezelni, a rájuk történő hivatkozás az Internetre utaló „I” betűvel, sorszámozással történik (pl.: I1, I2, I3, ….. In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Pl: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Kiss Endre: A globalizáció és a belátható jövő. In: INCO [online].4.évf.2002.1.sz. [2003.01.31.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&lt;http://www.inco.hu/inco7/global/ovocikk0.htm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Munkakörkód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11(onlin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Dolgozatkó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„Az XLS/online nyomtatványok formai követelményeinek megfelelt/nem felelt meg és további értékelésre alkalmas/jelen formájában nem értékelhető.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Meg nem felelés esetén részletes hibalista KELL, ami egy előre legyártott listából a megfelelő elemek kiválasztását jelenti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Dát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Munkakör vezető aláír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5:21:19Z</dcterms:created>
  <dc:creator>norbii</dc:creator>
  <dc:description/>
  <dc:language>en-US</dc:language>
  <cp:lastModifiedBy>LaCae</cp:lastModifiedBy>
  <dcterms:modified xsi:type="dcterms:W3CDTF">2008-05-04T21:28:57Z</dcterms:modified>
  <cp:revision>52</cp:revision>
  <dc:subject/>
  <dc:title>1. dia</dc:title>
</cp:coreProperties>
</file>