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191-70A1-4109-894E-E5DA6E3A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714-BA0C-4438-A9FF-791A7A72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D98-23EE-493E-AC0B-F04038AA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BE1-95E8-48A8-AB1D-A9441AC8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F86C-D56A-4E00-A54D-76F0CA6E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A3E5-991A-47B6-AEE1-DAAD441E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B88-2BBA-440C-AB92-CA62140B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6C75-94FA-4224-B324-641983FB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F547-A3AA-439C-B659-5227F5A6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D2E1-3106-4701-B675-E3423191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DBF7-AB77-4B84-B7E1-16019E85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A34-160D-421F-9D57-AC3F1CC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103A-1D08-48D8-950D-2BB897A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76A7-8944-4D01-ABEA-9A77BDE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9E69-839A-470E-AADD-CE049CA7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D1B-F9FA-44FE-964B-C3848CBA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B254-9186-4C17-8E00-33E93896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DCC-813C-4DF1-9E4B-072B35A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7C4-6172-4269-B939-171961C7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880-CEF5-446C-A3F7-EADFB2BC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309-2E8F-408F-9B23-A81CD12D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D71-3DD1-4F61-B2D0-CC5881E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8B8-5CAE-4922-997E-F0633C9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E1D-B756-4D2F-954C-28A4235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15E2-DF60-4245-B226-B0D01F5329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0473-A8F3-4D92-A04B-FE3FB59FC6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émaválasztás konzultálása 1.kö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hallgató év közben összesen legalább három alkalommal köteles a konzulenssel konzultálni a szakdolgozatáról, a hallgató által választott időpontokban. Az első konzultációt a témaválasztáskor, a második konzultációt a szakirodalom áttanulmányozása után, a harmadik konzultációt pedig a dolgozat vázlatának elkészítését követően célszerű megtartani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konzulens a konzultációk során különös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    segítséget nyújt a hallgatónak a témához kapcsolódó szakirodalom és jogszabályanyag (forrásmunkák) összegyűjtéséhez, megismeréséhez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íti az összegyűjtött forrásmunkákból kiválasztani a témához kapcsolódó legjobb anyagokat, irányítja a szelekció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nácsot ad a bemutatott vázlat alapján a dolgozat szerkezetének kialakításáho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      a kidolgozás során gyakorlati tapasztalatainak átadásával ösztönzi a hallgatót a problémafelvető és –megoldó, valamint az elemző munkár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hallgató által bemutatott nyers szakdolgozat alapján útbaigazítást ad az esetleges szükséges átdolgozáshoz, az elkövetett hibák kijavításáho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nyiben a hallgató nem veszi figyelembe a konzulens dolgozattal kapcsolatos formai észrevételeit, az oktató írásban rögzíti ennek tényét a szakdolgozati igazoló lap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dolgozatot készítő hallgató (a konzulens kérése esetén) köteles egy bespirálozott példányt a konzulensnek adni a dolgozatából. Kéréstől függetlenül köteles azonban elektronikus formában is a szakdolgozat védését megelőzően azt benyújtani, melynek hiányában a védést nem kezdheti meg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dolgozat bírálója körülbelül egy oldal terjedelemben, az alábbi szempontok alapján értékeli a szakdolgozato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émaválasztás megfelelősége (mennyiben illeszkedik a téma az egyetemi tananyagba, illetőleg mennyiben nyúlik túl azon. A szakdolgozatnak az egyetemi kötelező tananyagot jelentősen meghaladó mélységűnek kell lennie.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 szerkezete, belső arányai, logikája, az egyes részek tartalmi súlyuknak megfelelő mértékben kaptak-e helyet benn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 stílus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om-feldolgozás mennyisége és minősége, az idegen nyelvű és internetes szakirodalom jelenléte és mélysé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ivatkozási rendszer megfelelősége, etikusság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gyértelműen elhatárolhatók-e a más szerzőktől származó megállapítások, kutatási eredmények és a dolgozat szerzőjének megállapítása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redeti, alkotó jellegű megállapítások, megindokolt de lege ferenda javaslatok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külalakja, megfelel-e az előírt formának, mennyiségnek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gyéb formai és tartalmi észrevétel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3:48:09Z</dcterms:created>
  <dc:creator>LaCae</dc:creator>
  <dc:description/>
  <dc:language>en-US</dc:language>
  <cp:lastModifiedBy>LaCae</cp:lastModifiedBy>
  <dcterms:modified xsi:type="dcterms:W3CDTF">2008-05-04T21:26:19Z</dcterms:modified>
  <cp:revision>2</cp:revision>
  <dc:subject/>
  <dc:title>Témaválasztás konzultálása 1.kör</dc:title>
</cp:coreProperties>
</file>