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AB5-B17B-4C94-B974-2E8A1296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74B-070E-44A2-9CFA-A3B42D96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592-9C0B-4839-8708-838E2A08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722-7F9C-49E0-A470-7289B0E5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D077-586F-41D0-9993-8C1196D9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EE0-C26A-44A6-91CA-F74CC5D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EA0E-8373-491C-BE19-B158804E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D739-6C00-4B96-BA81-C2595DB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D778-C0AF-4A19-9884-246F5CBC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F254-F856-4214-B96D-9560A14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47DA-F64F-4A87-8F93-D97E639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EEA-9614-49D2-8DA5-EE1B408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49F2-70D6-4B10-A677-4E60EEE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B0A-B60C-4730-ADF6-5D5B971C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0663-DA52-4C41-BACD-0C9F5F4E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F09E-3FA2-4124-92CA-6FC32CFE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1287-5B9A-4DE3-9203-62E3FE89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04B-3F86-41FE-9BC3-CB2F98CD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A40-3F16-4997-A3AC-A25079B8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357-F5C1-4AEB-860F-66D1A31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008-9C46-4E93-9BF3-2F242B8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CCC-A6E9-446A-AF0F-8F549306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3CF-16C7-465B-8283-D06B4EA3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DD7-7651-43F2-8CB2-ABB1849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5582-0979-40FE-88D7-039A0405C16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C3E8-F5D0-4B58-AC69-F3A77C1A867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datvagyon minőségének ellenőrz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atvagyon minőségének ellenőrzéséhe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merni kell az adatok származásának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őkészítésének és esetleges feldolgozá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yamatainak és feldolgozottságának kérdéseit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lyek az adatok értelmezéséhez ad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gítséget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 fogadása és ellenőrzés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átvétele az előző munkakörtő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 Szakirodalmi bizonyíték kontrol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metaadatbázisban hibát találnak, akkor kijavításra kerül ill. Visszaküldik a dolgozat készítőjének javítás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metaadatbázis hibátlan akkor továbbküldik a következő munkakörnek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Saját következtetések helyessége munkakörn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ecff"/>
                </a:solidFill>
                <a:latin typeface="Arial"/>
              </a:rPr>
              <a:t>A vizsgálat során fel kell tárni a lehetséges problémákat:</a:t>
            </a:r>
            <a:br>
              <a:rPr sz="3500"/>
            </a:b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konzisztencia vag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onosító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nem megfelelő használ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llentmondások) Hiba esetén az ellentmondás feltárására valamint javítására van szüksé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 dokumentált mezők haszn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jlődő adatok, rendszere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igyelembe kell venni, hogy milyen szoftver képes az adott dokumentumot kezelni pl. úgy kell menteni a dokumentumot, hogy egy régebbi típusú szoftverrel is kompatibilis legyen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004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iányos, inkorrekt, vagy duplikált érték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 az értékek hiányosan ,rosszul illetve duplán vannak feltüntet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Redundancia (ugyanaz az adat többször található meg kivéve, ha ugyanazt az adatot többször fel kell használn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Formátum eltérések (Nem a megadott formátumba készül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A forrás hibás megjelölése (Helyes megjelölés:készítő nevének, a felhasznált dok. címének valamint a megjelenés évének feltüntetése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Beviteli hibá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09360"/>
            <a:ext cx="82296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hibátlan illetve a javított dolgoz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óváhagyás után továbbküld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2:26:26Z</dcterms:created>
  <dc:creator>Kurucz Eszter</dc:creator>
  <dc:description/>
  <dc:language>en-US</dc:language>
  <cp:lastModifiedBy>LaCae</cp:lastModifiedBy>
  <dcterms:modified xsi:type="dcterms:W3CDTF">2008-06-02T11:45:46Z</dcterms:modified>
  <cp:revision>30</cp:revision>
  <dc:subject/>
  <dc:title>Szakirodalmi bizonyíték-kontroll </dc:title>
</cp:coreProperties>
</file>