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E43-A7E1-4932-9E61-C0633198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33D-BEF0-4F38-A858-8EF738AB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D20-C55C-49FD-B9D2-8EABA73F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B6B-A273-4465-AC97-D64B03EB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C644-3DCC-45DB-A2E2-4D66E289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29A3-3774-4922-8784-CD08F114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389B-B9B4-47CE-88B8-019F6089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90D7-88DE-4ABA-BCEB-9E42FCEB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7B98-7E18-46E0-9A7F-FF605513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2EF6-0FD9-45FB-B450-7658F290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1D4E-2BDC-40D7-9DB6-B5F8EDE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424-CF64-4B71-A51D-90E42232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5ECA-E78B-4127-8A0D-4D1D24C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5C8E-90BB-49CF-AC3B-156AD35B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24DB-3C19-45F0-B835-89B87666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72BF-DCBA-46A2-B894-168846BB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7CCD-BDE8-4202-B80B-AC53F868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C40-7913-4532-AF25-814F43A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FCB-D7FF-4C06-8A3F-08CDA32E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404-2787-4171-BB0E-F838145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1D1-FCEC-43B5-8BE7-F1D7891E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987-4B4C-4858-AC52-7DDAE62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EF1-FB50-4E03-9843-B10CCB6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2F2-2052-4EC0-BA89-B9BC6A3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E710-8185-4685-B573-19EA8253BA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29EA-CF41-45AA-B2EC-4489D9CDFE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ellébeszélés-kontrol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634032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Készítette: Kovács Balázs ISZ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a, hibakeresé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ja, hogy a beadvány tartalma eleget tesz-e a vizsgálat tárgyának, illetve a címben foglalta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, hogy a szöveg tartalmazza-e a témához megfelelő alapvető információkat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i lépéseket, vagyis megvan-e a bizonyítás helyes módszertana- alapadata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et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m közöl-e hamis, nem helytálló tények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esleges tények közlésének –melyeknek nincs jelentőségük a problémafelvetéshez kapcsolódóan- mellőz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küldés a hiba javítása végett szintén a kommunikációs szakértőhöz, illetve a szerző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esleges tartalom törlése (fontos, hogy megmaradjon a szöveg struktúrája, stílus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ányzó tartalom esetén kiegészí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ytálló feladat esetén továbbküldés a következő állomáshoz, a könyvtáros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34:12Z</dcterms:created>
  <dc:creator>Balázs</dc:creator>
  <dc:description/>
  <dc:language>en-US</dc:language>
  <cp:lastModifiedBy>LaCae</cp:lastModifiedBy>
  <dcterms:modified xsi:type="dcterms:W3CDTF">2008-06-02T11:39:48Z</dcterms:modified>
  <cp:revision>14</cp:revision>
  <dc:subject/>
  <dc:title>Mellébeszélés-kontroll</dc:title>
</cp:coreProperties>
</file>