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C1274-CD83-4D45-8192-4EF996A8D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DE3D0-1E28-4E24-91CA-742051A44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43CAD-B6E8-4037-86A8-BCA9C20CE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F3544-75E1-4350-AD4F-F23EB39FA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0A369-A9A1-4B61-BCF1-E46462167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EA18A-933A-4615-B665-D1E5945C7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3A1F9-3188-4AD5-80B3-C25FD1ADF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52F7B-1250-4D0C-B5AA-BF08EBB49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DB7BB-53D0-4E56-B872-98241BCB5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33210-0E23-408E-B765-6742F9C97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5E83C-074E-486D-8B3E-05F56D999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24F97-DEC4-47A9-8A41-05A6FF7E7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355CC-021C-4277-92E8-7BA02A807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EEA10-2703-41C1-82D0-12311CFFB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C4144-C5ED-4AE4-9A34-6FA0D2966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A6CBB-1AA8-4DDC-9A0B-19EB43337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E7FC5-9847-4FF5-892C-B79827DEB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6AD3C-4BA1-4337-AF60-3632A4DEC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1ACC-9E81-4B51-85C5-29728726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22636-E74F-483B-8864-D7236DDDC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16AE4-6A41-468E-B93D-ABF691A0D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37D0-4125-4519-BE33-BB288FA71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D6A6-0BCC-4352-A493-E4C9F69CD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2D6D-9EAA-414E-BE18-6EA53E0EB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144E-1B49-4233-8D45-7007CB59E872}"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CB2A-DA1C-4EE7-87F4-E2311D473D72}"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ccecff"/>
                </a:solidFill>
                <a:latin typeface="Arial"/>
              </a:rPr>
              <a:t>Statisztikára gyakorolt hatá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Kezelés lebonyolítása</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TDK dolgozatok egységes elektronikus tárolása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Informatikai infrastruktúra kialakítás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Közhozzáférés biztosítás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Megjegyzés</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Olyan rendszer kialakítása amely témakörök, vagy bármilyen tetszőleges szempont szerint tudná besorolni a leadott dolgozatok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52280"/>
            <a:ext cx="822960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mennyiben a mű egy elemzés, vagy a statisztikát nem csak személtetés céljából említi, úgy érdemes megemlíteni a forrást is, illetve azt elbírálni hogy szakmailag mennyire komolyan vehető továbbá az elemzés mellet azt is érdemes megemlíteni hogy milyen hibái lehetnek (pl egy felmérés esetén hogy reprezentatív vagy sem). Köztudott, hogy a statisztikát nagyon  könnyen fel lehet használni megtévesztésre, ezért a mű alkotójának kötelessége hogy alaposan átvizsgálja a forrásá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Egy példa a ,,megtévesztésre”: Volt középiskolámban a 90es évek elején büszkén hirdették hogy 80%-os az egyetemre felvettek aránya az adott szakról. Azt persze nem tették hozzá, hogy a több száz végzős közül 10-nek volt bátorsága egyetemre felvételizni és ebből 8-at vettek fel… ez persze lehet hogy legend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8:23Z</dcterms:created>
  <dc:creator>Gyuri</dc:creator>
  <dc:description/>
  <dc:language>en-US</dc:language>
  <cp:lastModifiedBy>LaCae</cp:lastModifiedBy>
  <dcterms:modified xsi:type="dcterms:W3CDTF">2008-05-04T21:46:29Z</dcterms:modified>
  <cp:revision>4</cp:revision>
  <dc:subject/>
  <dc:title>Statisztikára gyakorolt hatás</dc:title>
</cp:coreProperties>
</file>