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302-CF32-46C7-AA57-8F43BFE2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94B-5AD0-41BB-A439-9480657D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FDD-44FA-4028-8A3C-E2A1C011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853-0D7B-498A-A68C-A6903CB0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4E8D-933E-48FB-B6C1-C99656C7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2279-A6C8-4B82-AE3C-DC32E33B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A140-1F1F-4239-A9B1-D130B385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4F9C-D4A2-48F8-9920-14E2AA66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BE31-F374-49BC-98EB-12B78AA8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0983-3757-4071-B044-6D3F1A30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2EA-A75A-453D-B63E-584CC93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3B3-F318-4B16-B04A-71051DC8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25F7-BED1-406E-9CC0-EC5E6A0E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469F-7EF6-4FCE-A785-488EA1E4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7FCF-21A6-45EA-8342-EF05EA90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0364-A286-48F9-B0D5-A4EE2EC6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1E8E-5E02-4D40-B2D8-C7EC7980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5A1-608A-4B6B-B605-7504BFD2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8C5-6012-4202-8345-FE7F71E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0C9-D7E1-4E62-B5EF-5CDECE6F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72C-EE34-4919-B4F9-E3F0AEDD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7C2-9155-47FD-914B-FC7D810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52C-8D9C-4341-BCB2-D7B57D0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AE2-9DB8-4F1E-9C1D-48BD02CA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40B-3731-4BAA-B0A0-C695B524760E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B135-17EC-4429-8A7C-1EAA18BA96E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Kommunikációs szakértő, aki azért felel, hogy a potenciális érintettek képben legyenek a folyamat előt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 is legyen a cél valójában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lismerhető legy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dolgozat célcsoportj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várt hasznossá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ternatív azonosságok mikéntj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zakirodalom kritikai feldolgoz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elvállalt feladat miben lé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talmaznia kell a dolgozatnak önálló munk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olgozatnak rá kell vezetnie az alábbi értékelési pontkor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 vagy mik a dolgozat központi kérdése vagy kérdései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i vagy kik a dolgozat célcsoportjai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nnyiben tekinthető vagy tekinthetők a központi kérdés vagy kérdésekre adott hallgatói válasz vagy válaszok a hallgató saját alkotásának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lyen hasznosság várható el a kijelölt célcsoport esetében a dolgozat által preferált és egyéb, alternatív (szakirodalmi) megoldásai alapjá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arketing (a lehetőség közzététel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z ehhez szükséges anyagi háttér jogi szabályozásának kezelé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források  előteremté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forrásokkal való elszámolá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orráshiány esetén mi a teendő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ff"/>
                </a:solidFill>
                <a:uFillTx/>
                <a:latin typeface="Verdana"/>
              </a:rPr>
              <a:t>Az ügyfelek tájékoztatása az alábbiakró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milyen díjat, eredményt, esetleg büntetést(a jogi normák be nem tartása esetén) lehet elérni ve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Konkrét feladatai: a kérdező személyek kérdéseire választ adni, információt nyújtani, időpontot adni a kérdező személyek részére az ő kérdéseik feltevése érdekébe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Lényeg, hogy a kérdező személyek értelmes, konkrét, megfogalmazott kérdéseket tegyenek fel a kommunikációs szakértőknek. Kérdésekben bármennyi kérdést fel tehetnek csak egy határ van az az időhatár mit a kommunikációs szakértő ad meg, hogy hány perc jut egy személy kérdései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Létre hoztak a kommunikációs szakértők egy olyan oldalt, melyen gyakori kérdésekre ott találhatják a hallgatók a választ, illetve egyéb hasznos információval is értesülhetnek (pl.: mennyibe kerül egy vizsga vagy esetleg a kommunikációs szakértő elérési lehetősége, fogadási ideje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ányan dolgozhatnak egy munká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általában milyen követelményeknek kell a dolgozatot megfeleltetni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határidő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forma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stilisztika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irodalomjegyzé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melléklete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célcsoport helyes megválasztás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hasznossá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kommunikációs készsé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idegen nyelven i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nyomonkövethetősé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ilyen eséllyel indulhatnak a fogyatékosok, milyen lehetőségek léteznek számukra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i  jogosult alapesetben díjmentesen megírni a dolgozato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ki nem jogosult alapesetben díjmentességre annak mennyit kell fizetnie ér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fenti két csoport milyen különeljárási díjakra számítha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következése esetén a potenciális személy értesítése levélben, e-mail-ben, telefonon vagy esetleg szób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amilyen adat hiány esetén való szólás az előzőekben írt mód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érdeklődő személyek kérdéseire válaszadá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ponta 2 kommunikációs szakértő áll rendelkezésre. Az első kommunikációs szakértő reggel 8:00 – 12-ig dolgozik, míg a másik reggel 10:30 – 14:30-ig dolgozik. Ebben az időben lehet őket megkeresni és két heti rendszerességgel ( tehát ha valaki fel tesz egy kérdést,mire választ / segítséget vár akkor annak csak két hét múlva van lehetősége visszajönni,szóval jobb ha egy alkalommal több kérdést tesz fel a kérdező fél. 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öbb csatornán keresztül érkezhetnek a kérdések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Érkezhet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1. telefonon kersztü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2. elektronikus levél útjá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3. postai levél útjá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4. szóban is megtörténh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5. Interneten keresztüli beszélgetés útján (skyp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Olyan kérdésekre nem kell válaszolni, mik alapvető kérdések és ezekre a válasz vagy hirdető plakátra/táblára vagy interneten, vagy televíziós reklámban vagy újság reklámban, szórólapokon fel van tüntetv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Általában a kommunikációs szakértők azonnal képesek válaszolni a kérdésekre, de ha esetleg még sem lennének képesek azonnal válaszolni, akkor egy kis türelemmel, vagy 1-2 napos határidővel elküldik a feltett kérdésre a választ vagy eletronikus levélen keresztül vagy visszahívják az illetőt vagy behívják egy megbeszélésre, vagy interneten keresztül válaszolnak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Olyan kérdés és válasz publikus mely nem sérti a kérdező személyiségét, melyből nem lehet kikövetkeztetni a kérdező személyét, mely nem sérti a személyes dolgokat. Illetve azok a válaszok és kérdések publikusak melyek elég közérdekű kérdés lehet,és nagy valószínűséggel sokan megkérdeznék, vagy már többen meg is kérdezté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Privát levelezési tartalomnak azok a kérdések és válaszok számítanak melyeket a kérdező személy külön megkér,hogy ne hozzanak nyilvánosságra, illetve azok a kérdések melyekkel tudják a kommunikációs szakértők,hogy a kérdező személy  személyiségét lelepleznék illetve azzal vissza élhetnének máso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Úgy kell megoldani, hogy csak az az illető kapja meg a kérdésre a választ ki a kérdést feltette. Ez megoldható úgy is, hogy azt a személyt behívja a kommunikációs szakértő vagy, neki küldi el emailben a választ illetve telefonon válaszol nek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ele kerül a hallgató neve mellé a születési dátuma, azonósító kódja, személyigazolvány kódja, iskolájának neve és adatai, a hallgató elérhetősége (telefonszám, email cím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kommunikációs szakértőnek teljes joga van bele tekinteni a hallgatók  aktáiba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ghallga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ommunikáció szakértőnek az alábbi pont szerint értelmezhető a meghallgatás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ügyfelek panaszai és egyéb problémáinak a meghallgatása és minél előbb ezekre megoldás megtalál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ogadóórák vannak,nem csak on-line kommunikáció van. Fogadóórák 1 alkalommal ingyenesek viszont a második alkalommal már költséggel jár, így megéri kommunikációs szakértőt bevállalni egy rendszernek. Két kommunikációs szakértő általában elég egy rendszerne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zultá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zakértőknek néha( főleg egy dologban való változásoknál) konzultációkat más néven megbeszéléseket szoktak tartani egy bizonyos témában ( annak változásaiban, bővítéseiben, problémáiban és ilyen dolgai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munikációs szakértő jelenté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a személy vagy illető kinek az a foglalkozása, hogy a potenciális érintetteket felvilágosítsa egy adott téma körön belül. Szakértő a saját témáján belül mindent tud, és segítséggel illetve tanácsadással szolgálhat a leginkáb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000" y="162828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 dolgozatnak az alábbiakat kell tartalmazn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ímla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szerzőt + címet kell tartalmazni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artalomjegyzék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ejezetcímek az oldalszámokk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evezetés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felvázolni a téma jelentőségé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Kivona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evezetés összefoglalój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Irodalmi áttekintés, elméleti felvezetés, helyzetfelmérés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ismertetjük a témában korábban született megállapítások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nyag és módszer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kell bemutatni, hogy milyen anyagokból dolgoztunk a vizsgálat folyamá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Eredmények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leírni, hogy mire jutottun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Következtetések és javaslatok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e kell írni, hogy mit tanácsolsz, illetve az eredményről levonható következtetés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Összefoglalás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őző részek tartalmának összefoglal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Mellékletek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 sorolhatóak azok az anyagok miket meg szeretne a dolgozat felmondója bemutatni, de nem célszerű azokat dolgozat közben bemutatni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iplomadolgozatnak meg kell felelni a szak és a szakirány tudományterülete sajátosságainak, továbbá tartalmaznia kell a feldolgozott szakirodalom, valamint az alkalmazott vizsgálati módszer leírását, és a saját vizsgálatok eredményei alapján a téma érdemi feldolgozásá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iplomamunka tükrözze a hallgató önálló állásfoglalását a vizsgált témakörbe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ormai követelmények tekintetében az alábbiakra kell oda figyelni szakmai dolgozatná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szakmai dolgozat általános tipográfiai jellemzőit (lapméret, szedéstükör, betűtípus és –betűméret stb.) a legtöbb esetben a befogadó intézmény, szervezet, szerkesztőség adja me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ntos a megfelelő tagoltság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fejezetcímek kapcsán az elfogadott/elvárt gyakorlat a többszintű decimális számozás alkalmazása (1. Fejezet; 1.1 Alfejezet stb.), így a szövegen belül az egyes fejezetekre könnyedén tudunk ezekkel hivatkoz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szakmai dolgozat egyik kulcseleme a hivatkozás. Hivatkozások által érintett elemek a következők: felhasznált szakirodalom, ábrák, táblázatok és egyenlet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zerepelnie kell ábráknak és táblázatokna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zeknél a következőket kell tenni: fel kell tüntetni az ábra vagy táblázat sorszámát, címét és forrás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ntos dolo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nden felhasznált nem saját forrást irodalomként kell kezelni, és szerepeltetni kell az irodalomjegyzékben és erre a publikáció szövegében kell hivatkoz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folyószövegben történő hivatkozásnak az alapja, hogy szerző (általában a vezetéknév) és évszám szerint kell hivatkozni. Főbb esetei a következő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apeset, egy szerző által jegyzett mű: (Vezetéknév, Évszá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 egy szerzőnek több művére is hivatkozunk, melyek azonos évben születtek, az egyes műveket a, b, c… jelöléssel különítjük el: (Vezetéknév, Évszám/a), (Vezetéknév, Évszám/b) st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ét szerző esetén: (Vezetéknév_1 – Vezetéknév_2, Évszá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öbb szerző esetében: (Vezetéknév_1 et.al., Évszám) Az „et.al.” rövidítés az „és mások”, „és társai” kifejezésnek felel meg. Az irodalomjegyzékben ugyanakkor az összes szerzőt fel kell tüntet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zerkesztővel rendelkező mű esetén: (Vezetéknév szerk., Évszám), illetve ha idegen nyelvű a mű: (Vezetéknév ed., Évszám), ahol az „ed.” az „editor” rövidíté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irodalomjegyzék-elemek kapcsán a következő információk adhatók me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szerző(k) vagy szerkesztő neve, általában a vezetéknév és a keresztnév első betűj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rrás cí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kiadás helye (város) és é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kiadó vagy a közreadó szervez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öbb kötetes mű, illetve folyóirat esetén a kötet száma, illetve az évfolyam és a lapszá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rrás terjedelme (xxx p. – pagina – vagy xxx o. –oldal – formába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 a teljes mű egy részére hivatkozunk (pl. egy tanulmánykötet vagy folyóirat esetén), a teljes mű címét (In: a_mű_címe) és konkrét hivatkozott rész helyét (xxx-yyy. p.) is adjuk me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-line források esetén fontos a teljes(!) elérési út és a letöltés dátumának megad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orrások könnyebb beazonosíthatóságát szolgálhatja az, ha az irodalomjegyzékben sorszámozzuk a forrásokat és a folyó szövegben egy nem szó szerinti hosszabb gondolatsor végén az adott forrás sorszámát is leírjuk pl. szögletes zárójelbe zárva: [14]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ormai követelmények tekintetében az alábbiakra kell oda figyelni diploma dolgozatná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plomadolgozatnak mind tartalmi, mind helyesírási, alaki és stilisztikai szempontból kifogástalannak, betűelütés mentesnek kell lennie, amelyet A/4-es papíron, szövegszerkesztővel írva (13-14-es betűméret, baloldalon (kötésoldalon) 3 cm-es, a többi szélein 2,5 cm-es margó, normál sortávolság, sorkizárás) két példányban fekete műbőrben bekötve kell elkészíteni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fő fejezeteknek új oldalon kell kezdődniü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címek, alcímek betűiről (nagy és kis betűk, betűméret), esetleges aláhúzásából vagy vastagításából és a sorban való elhelyezéséből (középre, oldalt) tűnjön ki azok fontossága, és azok az egész dolgozatban következetesek, decimális számozásúak legyen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szövegben lévő címek előtt és után – azok fontosságától függően, a jobb áttekinthetőség végett – üres sort kell kihagyni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iplomadolgozat terjedelme – szóközök nélkül – 70-140 ezer, a szakdolgozat terjedelme – szóközök nélkül – 50-100 ezer karakter lehet, amelybe a szövegközi táblázatok és ábrák is beletartozna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iplomadolgozat végén mellékletben alaptáblázatok és egyéb, a dolgozat eredményeinek megértéséhez tartozó adatok, információk közölhetőe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iplomadolgozat kötelező függelékei az esetleges mellékletek után következnek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2:36:18Z</dcterms:created>
  <dc:creator>Bogyay Gábor</dc:creator>
  <dc:description/>
  <dc:language>en-US</dc:language>
  <cp:lastModifiedBy>LaCae</cp:lastModifiedBy>
  <dcterms:modified xsi:type="dcterms:W3CDTF">2008-05-04T21:24:59Z</dcterms:modified>
  <cp:revision>14</cp:revision>
  <dc:subject/>
  <dc:title>Kommunikációs szakértő, aki azért felel, hogy a potenciális érintettek képben legyenek a folyamat előtt, és folyamat alatt</dc:title>
</cp:coreProperties>
</file>