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23A-A12E-4001-A7F5-2EB77BD0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E1AA-D661-4CAC-8526-C803E887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DB5-2F7E-4E6C-AE4B-3FD17D0B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354-67F8-4853-99B6-DF2B5232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B285-8AE7-46CF-9507-3A052B36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35DE-955C-4F22-8F38-D4152215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8654-52D4-4A71-A71B-D79C1E9E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E631-EE7F-4B7E-BBD9-B49BA28B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CFB8-79A7-4F27-8288-12373A31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CA5C-326C-4D69-8272-E8A1DD50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9969-15CB-49FC-BBC7-FF8C79F7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37B-5CAF-4CA1-A248-029E751F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F09D-3B93-4BD2-B92A-1EE5D59C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F9D9-BD2D-4A5A-B72B-0551B3C6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EA60-E396-4E9D-B893-5832E6A5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BB73-1E9F-4AB6-B2F9-AE4E76AE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8C44-EC3F-4841-AC37-EC3DFF95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C05-25A5-44C2-9B2B-8001909F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E4E6-6A03-40AB-8D63-46A0CB58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35F-57F5-4EB8-8A6A-43360C57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F97-201F-4925-889F-99B68302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5B8-0B6F-4D6B-847B-4301B168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C869-363A-4548-BF09-538F6CA0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EEA-F665-4ED2-AF0D-FC0B4221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A535-6B79-49C2-8788-5E8F20610375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37B7-BF6D-4731-B2B7-7651F66C7833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rodalomjegyzékbe kerülés stratégiája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efiníció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ibliográfia: Könyvtártudomány, könyvész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gy adott témáról szóló vagy rá vonatkozó könyvek, cikkek címeinek és könyvészeti adatainak listáj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fogadá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párhuzamosan futó munkakörök outputjainak fogad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szajelzé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feladat elvégzését követően igazolás kiállítása a Eredményt ellenőrző számá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Áttérés a következő feladat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 feladat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gadja az ellenőrizendő dokumentumo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előírt szempontokon pontról pontra végigmegy és ellenőrzi, hogy a dokumentum megfelel- e az előírt követelményekn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kumentum minősíté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adott formai és technikai követelmények ellenőrz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lsorolásszerű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dolgozatban a hallgató minden pontjára hivatkozi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erzőkők neve szerint abc sorre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rszámmal kell ellátn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akirodalmak, egyéb irodalmak csoportosítá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sak olyan munka kerülhet amibe a szövegbe hivatkozás v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cecff"/>
                </a:solidFill>
                <a:latin typeface="Arial"/>
              </a:rPr>
              <a:t>K</a:t>
            </a:r>
            <a:r>
              <a:rPr b="0" lang="nb-NO" sz="4000" spc="-1" strike="noStrike">
                <a:solidFill>
                  <a:srgbClr val="ccecff"/>
                </a:solidFill>
                <a:latin typeface="Arial"/>
              </a:rPr>
              <a:t>onzulensek kapcsolódó dokumentumai</a:t>
            </a:r>
            <a:r>
              <a:rPr b="0" lang="hu-H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plomadolgozati téma választása (1sz függelé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onzultációkon való részvétel igazolása (2sz függelé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rodalmi hivatkozás (5sz függelék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rások lehetséges megad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önyvből való idézés eseté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zerző ne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könyv cí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Kiadó ne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Kiadás hely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Kiadás é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könyv oldalszá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Cikk, tanulmány eseté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szerző ne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cikk, tanulmány cí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folyóirat ne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Megjelenés éve és hónapja (szám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Oldalszám (-tól-i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olgozat megfelel e a szabályzatban előírtaknak. H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gen: továbbküldésre kerü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: megkeresik a hibákat és visszaküldik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vítás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5:20:04Z</dcterms:created>
  <dc:creator>LaCae</dc:creator>
  <dc:description/>
  <dc:language>en-US</dc:language>
  <cp:lastModifiedBy>LaCae</cp:lastModifiedBy>
  <dcterms:modified xsi:type="dcterms:W3CDTF">2008-06-02T12:49:57Z</dcterms:modified>
  <cp:revision>4</cp:revision>
  <dc:subject/>
  <dc:title>Irodalomjegyzékbe kerülés stratégiája </dc:title>
</cp:coreProperties>
</file>