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26177-0098-4588-841B-C14C6A0D6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41454-311B-4E4D-9D79-69C7CE61A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DFECD-9B43-489D-98F4-98AC5DABF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D114F-4A16-4BC9-88AC-0F0FBF56A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3DA7B-0ABC-4147-9C9F-D2801CA28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457E3-E5ED-4BD6-BC97-42D434614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EE529-7391-47A2-9959-41CDAB043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C3B4C-C1BE-4DD6-8A0C-E1A727319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FE069-E089-4F78-A021-7BB05673B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070C8-0519-4B63-AB51-5E82586F3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09042-2C12-4844-BE36-E5DAA30A6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B8460-499F-4913-8A2D-CD5182679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C967F-A745-44F1-9735-38D2C5BBD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5196C-D9A6-4DB6-A54F-E3BA384F9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7B1DE-C7C0-4A4C-9653-13F4E60C2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4A8E7-BF40-4A60-8ECA-C9F69CBED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9B2BD-74C4-42D2-AC47-449605E12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79C83-4D86-430B-90FC-2856E6BE9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7628B-1EC6-43CE-93B1-72B1259DF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C8C91-AFB5-4A0A-BDB7-92F0BEBBB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78973-02D6-4C84-A581-33381CC3C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85F95-6BD5-488C-BF2D-DE7EA60F2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6548D-8051-4DCA-A1A9-0B6E08848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8D412-83B6-4155-AEDD-9DEA68F8F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21F7E-FD81-4209-A252-CDA265E3D7A9}" type="slidenum">
              <a:rPr b="0" lang="hu-H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2B8E3-1983-4CDD-B9E6-50B8A476B636}" type="slidenum">
              <a:rPr b="0" lang="hu-H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webforditas.hu/index.php" TargetMode="External"/><Relationship Id="rId2" Type="http://schemas.openxmlformats.org/officeDocument/2006/relationships/hyperlink" Target="http://www.webforditas.hu/index.php" TargetMode="External"/><Relationship Id="rId3" Type="http://schemas.openxmlformats.org/officeDocument/2006/relationships/hyperlink" Target="http://www.webforditas.hu/index.php" TargetMode="External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Idegen nyelvű változatok kezelése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 munkakör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 tdk/diploma dolgozatok idegen nyelvű változatainak kezelésének legalább kétféle szempontja lehetséges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gy-egy dolgozat értékelése kapcsán nem várható el az értékelőktől, hogy azzal nyelvvel tisztában legyenek, amelyen a dolgozat íródott. Ez a munkakör ezt a problémát oldja meg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 munkakör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 munkakörnek az előzőekből következően vagy a hierarchia legtetején lévő munkakörhöz kell kapcsolódnia, vagy pedig önmagának kell lennie a hierarchia legtetején lévő munkakörnek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Problémák a hierarchiával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ekintettel arra, hogy a hierarchia teteje a témaválasztási konzulens munkaköre, ami még nem az elkészült dolgozatok értékelésével foglalkozik, ezért vissza kell vonnunk előző kijelentésünket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 munkakörnek tehát a dolgozat értékelésével foglalkozó első munkakörhöz kell kapcsolódnia, vagy önmagának kell lennie az első ilyen munkakörnek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MIÉRT van szükség idegen nyelvű változatok kezelésére?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8229600" cy="42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Verdana"/>
              </a:rPr>
              <a:t>Azért, mert az EU-ba való belépés, valamint a felsőoktatás standardizálása miatt (bolognai folyamat) az intézmények egyre inkább ki vannak téve annak, hogy nem csak magyar nyelvű dolgozatokkal találkoznak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Milyen nyelven és mennyit?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indig a dolgozat értékelőinek anyanyelvére kell lefordítani az idegen nyelvű dolgozatokat, és a dolgozat egészét le kell fordítani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Hogyan?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Verdana"/>
              </a:rPr>
              <a:t>Léteznek olyan weboldalak, amelyek segítségével le lehet fordítani szövegeket, vagy weboldalakat (</a:t>
            </a:r>
            <a:r>
              <a:rPr b="0" lang="hu-HU" sz="2400" spc="-1" strike="noStrike" u="sng">
                <a:solidFill>
                  <a:srgbClr val="ffffcc"/>
                </a:solidFill>
                <a:uFillTx/>
                <a:latin typeface="Verdana"/>
                <a:hlinkClick r:id="rId1"/>
              </a:rPr>
              <a:t>www.webforditas.hu</a:t>
            </a:r>
            <a:r>
              <a:rPr b="0" lang="hu-HU" sz="2400" spc="-1" strike="noStrike" u="sng">
                <a:solidFill>
                  <a:srgbClr val="ffffcc"/>
                </a:solidFill>
                <a:uFillTx/>
                <a:latin typeface="Verdana"/>
                <a:hlinkClick r:id="rId2"/>
              </a:rPr>
              <a:t>/</a:t>
            </a:r>
            <a:r>
              <a:rPr b="0" lang="hu-HU" sz="2400" spc="-1" strike="noStrike" u="sng">
                <a:solidFill>
                  <a:srgbClr val="ffffcc"/>
                </a:solidFill>
                <a:uFillTx/>
                <a:latin typeface="Verdana"/>
                <a:hlinkClick r:id="rId3"/>
              </a:rPr>
              <a:t>index.php</a:t>
            </a:r>
            <a:r>
              <a:rPr b="0" lang="hu-HU" sz="2400" spc="-1" strike="noStrike">
                <a:solidFill>
                  <a:srgbClr val="ffffff"/>
                </a:solidFill>
                <a:latin typeface="Verdana"/>
              </a:rPr>
              <a:t>). Az ott alkalmazott módszerek alkalmasak lehetnek idegen nyelvű dolgozatok fordítására némi további fejlesztés után, ugyanis ezek a programok még csak tükörfordítást tudnak végezni.</a:t>
            </a:r>
            <a:br>
              <a:rPr sz="2400"/>
            </a:br>
            <a:br>
              <a:rPr sz="2400"/>
            </a:br>
            <a:r>
              <a:rPr b="0" lang="hu-HU" sz="2400" spc="-1" strike="noStrike">
                <a:solidFill>
                  <a:srgbClr val="ffffff"/>
                </a:solidFill>
                <a:latin typeface="Verdana"/>
              </a:rPr>
              <a:t>A program jelen formájában is megkönnyítheti a fordítók munkáját, de egyenlőre önmagában nem nyújt kielégítő megoldást. Mindenképpen alkalmazni kell valakit, aki az idegen nyelvű szövegeket lefordítja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Idegen nyelv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z idegen nyelvű változatok kezelésének feladata magában foglalhatja dolgozatok idegen nyelvű változatainak nyelvhelyességi szempontú vizsgálatát is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9T16:25:48Z</dcterms:created>
  <dc:creator>Viktor Varga</dc:creator>
  <dc:description/>
  <dc:language>en-US</dc:language>
  <cp:lastModifiedBy>LaCae</cp:lastModifiedBy>
  <dcterms:modified xsi:type="dcterms:W3CDTF">2008-06-02T12:34:50Z</dcterms:modified>
  <cp:revision>7</cp:revision>
  <dc:subject/>
  <dc:title>1. dia</dc:title>
</cp:coreProperties>
</file>