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C377-FED6-4662-9291-2274B832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BDBF-7A3E-4610-8379-172D9C71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C59E-BEDF-4BDB-AF39-88A0B887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4874-3FCA-4837-8102-AA0F8DBA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865B-7B22-457F-8ADD-0E269622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3373-3C2E-4044-A784-787C113D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59B7-5C80-41BB-A8A4-35CC6727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9203-3FA3-4616-859F-B2FDE59B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679C-7465-48EA-8B86-F3683D7E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0BF0-26DB-4999-ABD2-226B4D7F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257E-9736-4669-A4A9-2999769B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1961-7F37-4B8E-8D2E-FE79BCD5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39D0-AB53-4AF3-876C-34690512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E33C-A8AA-4B1A-8744-259F22A9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9BB9-63F0-42BC-8B93-6BA90028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F488-7169-48F0-892F-4B228641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EDCF-D22E-4146-9E74-E288943E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8397-9DEC-43FD-802E-CFF70589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A89E-0C6E-4016-BB86-76EBDD74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DDBE-EB58-4121-B4AE-FF6BB4E2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B4CC-B320-4444-A642-5A7BE1F8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79F0-A520-4985-9C6E-BA8FC65A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4C16-4DA7-493C-A073-F81DF983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9DC4-33BB-45BE-A5BF-F68D10B2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183C-6312-4CE0-B2B6-16543A074EA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EE0E-5EEE-472E-B829-A466F70AFDD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esign a későbbi publikációkban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ccecff"/>
                </a:solidFill>
                <a:latin typeface="Arial"/>
              </a:rPr>
              <a:t>Azok számára akik a későbbiekben az adott dolgozatra kívánnak hivatkozni:</a:t>
            </a:r>
            <a:r>
              <a:rPr b="0" lang="hu-HU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Verdana"/>
              </a:rPr>
              <a:t>rendelkezésükre kell bocsátan az alkalmazott logok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Verdana"/>
              </a:rPr>
              <a:t>meg kell adni a kapcsolattartókat és elérhetőségük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megadni a </a:t>
            </a:r>
            <a:r>
              <a:rPr b="0" lang="nb-NO" sz="2800" spc="-1" strike="noStrike">
                <a:solidFill>
                  <a:srgbClr val="ffffff"/>
                </a:solidFill>
                <a:latin typeface="Verdana"/>
              </a:rPr>
              <a:t>template-állományoka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Verdana"/>
              </a:rPr>
              <a:t>akár a ppt rendelkezésre bocsátan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az értékelés nem talált hibát, akkor az eredményeket továbbküldi a következő munkafolyamatho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efiníció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design a későbbi publikációba létrehozott formatervezé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A</a:t>
            </a:r>
            <a:r>
              <a:rPr b="0" lang="nb-NO" sz="4400" spc="-1" strike="noStrike">
                <a:solidFill>
                  <a:srgbClr val="ccecff"/>
                </a:solidFill>
                <a:latin typeface="Arial"/>
              </a:rPr>
              <a:t> munkakör pontos feladata</a:t>
            </a: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lenőrzi a beérkező feladatot, hogy megfelel e a következő előírásoknak és szempontokna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hetséges hibák jelzése és dokumentál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kumentum minősíté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edmények fogadá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párhuzamosan futó munkakörök outputjainak fogad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sszajelzé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feladat elvégzését követően igazolás kiállítása a Eredményt ellenőrző számá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Áttérés a következő feladat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unkakör felad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lenőrzi a beérkező feladatot, hogy megfelel e a következő előírásoknak és szempontokna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hetséges hibák jelzése és dokumentál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kumentum minősíté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Érték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feladat megfelel e az adott formai és technikai követelményekn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ppt tükrözi-e az adott feladat lényegé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Lényegretör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Áttekinthető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Logikus, jól követhet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Saját vélemén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hetséges hibák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m megfelelő formát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esetleg nem nyitható meg a dokumentu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lyesírá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épelési hib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m felel meg a formai követelményekn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áttér ne ütközzön a betűszínn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 álljon túl sok diából (kb10dia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ógok helyes használ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ivatkozások megjeleníté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ppt-ben használt logok megfelelő és jogtiszta  használa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Miszerint, a logokat a tulajdonos tudtával használta fel az adott publikációba és ezzel nem sért meg semmilyen jogot, amiből később esetleg bármiféle hátránya származi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Kapcsolattartók és elérhetőségeik megadá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olgozat megfelel e a szabályzatban előírtaknak. H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gen: továbbküldésre kerü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m: javításra kerül sor, vagy visszaküldés a hibázóna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08:56:05Z</dcterms:created>
  <dc:creator>VIOLA</dc:creator>
  <dc:description/>
  <dc:language>en-US</dc:language>
  <cp:lastModifiedBy>LaCae</cp:lastModifiedBy>
  <dcterms:modified xsi:type="dcterms:W3CDTF">2008-06-02T12:43:52Z</dcterms:modified>
  <cp:revision>13</cp:revision>
  <dc:subject/>
  <dc:title>Design a későbbi publikációkban </dc:title>
</cp:coreProperties>
</file>