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062-1BBC-4517-B5FC-20CD4BD1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419-48F5-43A2-9C58-4E0328F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E10-F49D-4BC5-8963-8B5839A6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09C-AFEA-4BD1-BD79-A9D30D81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8D1E-7A94-443E-8A89-2FD7A09F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A632-A647-4FE1-B8F1-332C7C6B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A543-A432-4D7D-AAF3-0F8BA92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4DEE-4EEE-4FF0-ACB3-A728B31C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D4EE-C87D-4F59-90DB-593F7F2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46B6-1C43-4CA3-8CCE-E117F0D1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A543-4C04-4F70-BEC7-2674FCBA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FF4-E9B9-43F4-AD19-64D73170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C586-F5D4-44D9-BCFF-6088EC2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5D72-9F06-4314-9D93-161CA1AB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4DAC-39E1-4684-8FC6-F4737A70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2EF2-A05C-4FA6-B1E4-F03EFF23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FC6B-ED3F-41E9-9061-5DA2E3E1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0B0-655C-41D6-A616-D213B054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8A4-CB57-459F-8F4F-B4B6800B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132-3D89-4EE3-A4FC-54EF3161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C6E-47FA-4BAB-967D-942691EA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FFF-80AE-4E13-BE3D-C866F1B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3C6-E1E8-4466-866B-0EC8A88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F5A-A934-40D6-9D69-D84721C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12E3-8C62-4441-8F45-BFD09B93E46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0D07-B127-4574-9A05-21C032AD41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i%20a%20szerz&#337;i%20jogd&#237;j.doc" TargetMode="External"/><Relationship Id="rId2" Type="http://schemas.openxmlformats.org/officeDocument/2006/relationships/hyperlink" Target="file:///Mit%20szab&#225;lyoz%20a%20szerz&#337;i%20jog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zerz&#337;i%20jogi%20v&#233;delem%20hat&#225;rai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Szerzői jogdíjak kezelése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re terjed ki a szerzői jog védelm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ban az esetben ha egy dolgozat írásánál nem használunk fel más műveket, akkor a munkakör outputja az hogy nincsen szerzői jogdíj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pedig az vitatott, hogy egy alkotás rendelkezik-e egyáltalán egyéni, eredeti jelleggel, akkor a bíróság döntése az irányadó. Az alkotás ebben az esetben kiterjed a dolgozatunkra valamint a külső forrásra i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ismeretlen író alkotásából merítünk a dolgozat írása közben, akkor nincs szükség jogdíj kezelésé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bekerült a dolgozatba egy más alkotásokból származó említés (ismert író esetén) melyből információt merített a dolgozat írója akkor szerzői jogi védelem illeti meg az alkotá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dig tart a szerzői jogi védele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zerzői művek védelmi ideje a szerző életében és a halálát követő év első napjától számított hetven évig tart,ha ezt nincs e intervallum közt a a jogdíjak kezelése munkakör kihagyhat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 beadott dolgozatban tett említésekhez hozzájárul az író,akitől származnak akkor nyilvánosságra kerülhet a mű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nyilvánosságra kerülés és a hozzájárulás előtt még egy felhasználói szerződést kell kiállítani,melyben a szerző engedélyt ad művének a felhasználásár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gyan történik a jogdíjak megállapítása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 felhasználói szerződést megkötötték és az ellenértéket kifizették,akkor hozható nyilvánosságra a dolgoza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felhasználási szerződés megkötését követően jelentősen megnövekszik a dolgozat felhasználása iránti igény akkor a bíróság a szerző kérésére megfelelően módosíthatja (felemelheti) az eredeti díjazás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jogdíjak kezelés megtörtént, akkor a dolgozat a következő munkafolyamatra kerülh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minden folyamat jogilag akadály mentesen zajlott le és az elkészült dolgozatban található egyéni eredeti „ötletet” kívánja valaki felhasználni, akkor ugyanaz a folyamat fog végigmenni a dolgozat írója és felhasználó személy között, mint ami a dolgozat írása közben zajlot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Képződő dokumentumok a munkakör és a dolgozat írója felő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mentárok, egyezségkötési lehetőségek a dolgozat írója és a külső szerző közöt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gazolás, a továbblépés engedélyérő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használói nyilatkoz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ámlák a felhasználás térítési díjairó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intettek kö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ülső mű tulajdonos(o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használó(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Bíróság, mely akkor szerepel, ha vitatott az eredetiség és egyénisé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llgató feladat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hallgató köteles elindítani a szerzői jogdíja folyamatát amennyiben dolgozata megköveteli ez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indításához fel kell vennie a kapcsolatot azzal a külső szerzővel(vagy annak képviselőjével), akitől a dolgozatba szánt említések származna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engedélyezik a mű felhasználását a dolgozatban, és a felhasználási szerződést tartalmaz minden lényeges elemet, valamint a hallgató kifizette a szerzői jogdíjat, akkor szabadon használhatja azokat dolgozatáb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átvételét követően a benne említett források jogi kérdéseinek helyességének ellenőrzé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g kapta e az engedélyt a dolgozat készítője a forrás felhasználásá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lkészült felhasználói szerződés tartalmi helyessé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erzői jogdíjak térítése meg e törté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llenőrzések lefutása után, igazolás kiállítása, hogy a szerzői jogdíjak kezelése terület a dolgozat készítője helyesen járt 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gdíj 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i a szerzői jogdíj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 szerzői jogdíj, a mű felhasználására adott engedély ellenében a szerzőt megillető díjazá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it szabályoz a szerzői jog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határ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zerzői jogi védelem határa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szerzőt bármilyen módon megsértik, akkor az Szjt.-ben biztosított jogérvényesítési lehetőségekkel élh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csak átdolgozásra, feldolgozásra vagy fordításra használnánk a művet már akkor is szerzői jogi védelem alatt áll, ha annak egyéni, eredeti jellege v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valamely ötlet, elv, elgondolás, eljárás, működési módszer vagy matematikai műveletről beszélünk, az nem lehet tárgya a szerzői jogi védelemne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határ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felhasználnak jogszabályokat, állami irányítás egyéb jogi eszközeit, a bírósági vagy hatósági határozatokat, hatósági vagy más hivatalos közleményeket és az ügyiratokat, valamint a jogszabállyal kötelezővé tett szabványokat és más hasonló rendelkezéseket akkor nem tartoznak a szerzői jogi védelem alá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lamint ha folklór kifejeződés elemeit tartalmazza a felhasználni kívánt mű, akkor az nem tartozik a szerzői jogi védelemb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alany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re terjed ki a szerzői jogi védele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több szerző közös művét kívánjuk felhasználni a dolgozatban (ha részei nem használhatók fel önállóan) akkor a szerzői jog a szerzőtársakat együttesen illeti meg egyenlő arányb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több szerző közös művét kívánjuk felhasználni a dolgozatban melyben a közös mű részei egymástól elválaszthatók akkor minden szerző önállóan gyakorolhatja szerzői jogai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alany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egy gyűjtemény tartalmának összeválogatása, elrendezése vagy szerkesztése egyéni, eredeti jelleget ölt, akkor önálló szerzői műként részesül védelemben (gyűjteményes művek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unk írásánál egy mű felhasználásának minősül a többszörözés, a terjesztés, a nyilvános előadás joga, a nyilvánossághoz közvetítés sugárzással vagy másként, a sugárzott műnek az eredetihez képest más szervezet közbeiktatásával a nyilvánossághoz történő továbbközvetítése, az átdolgozás, valamint a kiállítás jo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jogok illetik meg a szerző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erzői jogi értelemben felhasználó az, aki ha a művek, illetve szomszédos jogi teljesítmények felhasználására a szerzőtől vagy a szerzői jog más jogosultjától jogot szerez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t tekint a szerzői jog felhasználó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ási szerző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lyek a felhasználási szerződés tartalmi elemei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erződés megkötésekor ha az ellenérték megállapításakor nem arányos részesedést kötnek a felek a bevételekből vagy éppen nem a példányszám vagy a felhasználás egyéb terjedelmétől függően kapna juttatást a szerző akkor az a jogdíj megállapítása nem megfelelő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nem tartalmazza a szerződés a következőket: a felhasználni kívánt mű pontos megjelölését, a felhasználás módját, időbeli, területi és más terjedelmének pontos meghatározását, valamint a felhasználás ellenértékét akkor nem tölti be a felhasználói szerződés a rendeltetésé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3:07:54Z</dcterms:created>
  <dc:creator>bag</dc:creator>
  <dc:description/>
  <dc:language>en-US</dc:language>
  <cp:lastModifiedBy>LaCae</cp:lastModifiedBy>
  <dcterms:modified xsi:type="dcterms:W3CDTF">2008-05-04T21:45:09Z</dcterms:modified>
  <cp:revision>32</cp:revision>
  <dc:subject/>
  <dc:title>Szerzői jogdíjak kezelése</dc:title>
</cp:coreProperties>
</file>