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683-1F20-4D9A-B9EF-ACE9DFBA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598-4A43-4FA9-AC08-B84F4CA5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761-B232-4A79-902D-6183080C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8D0-D594-4036-9516-D0585D6B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DFF-A101-4949-9C67-4AF86DF2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AC9-AFEA-487D-B80E-5914B2E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10E7-FF10-484C-845F-2170D78A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FED-EC79-4B90-B5F0-F7BD60E2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C0B6-0726-4D25-A4A2-425C9A9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1A03-CC55-4648-9386-092DCB6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BAF9-FD41-448E-ADD4-ED0B657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A45-B4F0-44BF-8B34-F4CC59C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8A9F-C72D-4350-BED4-51DB6EB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1A4C-44F5-445A-B414-4F3364E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6659-D672-43E2-A677-9761704C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02D-1AC9-4A31-A4AD-C0583086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693-BC06-4C94-89DE-BC69F7EB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BB5-8771-4B73-A9B1-9170FFA9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DFB-35AB-47B7-8A80-9D57AFAF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CE5-1177-4C3F-9F23-C44FA643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D1E-157B-44C6-9F2E-9AB9C105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3B7-8DC2-4A53-88DD-F3BC8BD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250-577D-4F87-86C9-D266AA8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4F1-0D17-4479-98C1-BB40AF3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672-B051-4CD4-82F5-5AA488358B0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8040-C767-4E83-9327-202347919A3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Formai értékelés(ppt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z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konziszt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lag nem lényegre 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rövid, tömör, lényegre törő váz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előadásának megkönnyítésére szolgá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Dolgozat szerkez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nek konzisztensnek kell len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tütípus, betümére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kezdések igaz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Tartalm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lényegre törő, tömör legy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Ne legyen sűr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yen rövid, érthető és a tartalmat jól kifejez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glalkozik a téma elméleti és gyakorlati jelentőségével (maximum 2 old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émafelvetés és célkitűz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kolja a saját vizsgálatokat és célkitűzéseket (1-2 olda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Szakirodalmi áttekin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témával összefüggő irodalom feldolgozása szorosan kapcsolódjék a témához. Az irodalomban ismertetett eredményeket kritikailag elemezni, értékelni kell. Terjedelme a ppt 15-20%-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yag és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izsgálatokkal, monografikus elemzésekkel kapcsolatos anyagok és módszerek ismertetésénél a kísérletezés, vizsgálat körülményeit, elemzés módszereit kell leírni. A fejezet ne haladja meg az összes terjedelem 10-15%-á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redmények és azok értéke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 fejezet a vizsgálatok és az elemzések eredményeit tartalmazza. Az eredményeket célszerű táblázatokban összefoglalni, ábrákkal szemléltetni és megbízhatóságukat a tudományterület sajátosságait figyelembe véve matematikai – statisztikai módszerekkel igazolni. Fontos, hogy a hallgató az eredményeit pontosan és áttekinthetően rögzítse, magyarázza és más vizsgálati eredményekkel is hasonlítsa össze. Itt ne szerepeljen más szerzőkre való hivatkozás. E fejezet az összes terjedelemnek 40-50%-át képezz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Következtetések és javaslat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Ismertetni kell az eredményekből levont legfontosabb következtetéseket, és javaslatot tenni azok gyakorlati alkalmazására, illetve továbbfejlesztésére. Ennek a fejezetnek a terjedelme max. 20%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összefoglalás ne legyen hosszabb 2 oldalnál. Röviden ismertetni kell, hogy milyen körülmények között folytak a vizsgálatok és milyen kérdésekre terjedtek ki. Ismertetni kell a fontosabb eredményeket, megállapításokat és a levont következtetéseket. Törekedni kell a tömör és világos megfogalmazásra. Hivatkozások itt ne szerepelj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tömör változata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0:46:17Z</dcterms:created>
  <dc:creator>eXPerience</dc:creator>
  <dc:description/>
  <dc:language>en-US</dc:language>
  <cp:lastModifiedBy>LaCae</cp:lastModifiedBy>
  <dcterms:modified xsi:type="dcterms:W3CDTF">2008-05-04T21:27:43Z</dcterms:modified>
  <cp:revision>14</cp:revision>
  <dc:subject/>
  <dc:title>Formai értékelés(doc)</dc:title>
</cp:coreProperties>
</file>