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063-7B7A-4127-89A8-131DE3DB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86C-4E9B-42BE-B838-4F3BCC42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EA6-A06A-40B6-93C9-149EE407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739-C5EC-48C1-87CA-0540A46A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288E-2EDD-456D-98C7-7D297F5D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A335-1867-4F75-8630-2156DBAE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68BA-2159-4E01-9414-570C7834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0616-FB03-4847-BB26-EA347C40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AA53-E54E-43D5-B595-D942E703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A21B-2A14-473F-BBD1-4D0A112F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3B66-204D-461E-84DD-1F3EBE2C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350-0105-40F1-A53D-2851CFD6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A817-1732-4ABC-B72E-E7EABB09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DF0D-C6EE-4581-B218-1DB072E9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D855-12BC-45CA-98D5-CC06FCE7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9BF9-FA24-4FA6-9652-9C515D9F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5818-82FF-4D7F-8233-6B865BD6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550-A51E-4971-A948-AC942BCB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156-1BA4-4783-840A-C5B14086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C1D-9F37-447A-95AD-28092056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A6E-F3DD-4C86-8735-94619550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0D6-B9BB-41F4-86C4-A68A9E3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F44-816D-4CAD-9F09-3A3C46A0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5BB-1407-49E7-A98D-6203CB3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22BA-ABAC-40D9-8763-5579DB9C7D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A1BA-5B75-4EA7-A66C-2D3C9974F1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ccecff"/>
                </a:solidFill>
                <a:latin typeface="Arial"/>
              </a:rPr>
              <a:t>Reprodukálhatósági kontroll (a mellékletekből a doc adatai levezethetők-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ecff"/>
                </a:solidFill>
                <a:latin typeface="Arial"/>
              </a:rPr>
              <a:t>Definició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reprodukálhatóság fogalma, amint azt a vonatkozó publikációk megadják, nem vihető át a gyakorlatban a szermaradvány szintet vizsgáló analitikai módszerekre. Ezért a reprodukálhatóság fogalma ezen irányelv összefüggésében a visszanyerés ismételhetőségének hitelesítését jelenti, mely a reprezentatív mátrixokra reprezentatív szinteken vonatkoz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Nemzetközi módszerekkel képzett és minősített bíráló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mzetközi módszerekkel végzet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írálat terve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írál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edményértékel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érzékszervi ISO szabvány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31-bôl 28 1985 ót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A reprodukálhatóság eléréséhez szükséges tényező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ámítástechnika és az informatika fejlőd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a korábban időigényes és bonyolult számítási és értékelési eljárások napi alkalmaz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korrekt bírálati tervek készítésének egyszerűsöd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érzékszervi minősítő szoftver –rendszerek megjelen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3:14:05Z</dcterms:created>
  <dc:creator>LaCae</dc:creator>
  <dc:description/>
  <dc:language>en-US</dc:language>
  <cp:lastModifiedBy>Vrabély Balázs</cp:lastModifiedBy>
  <dcterms:modified xsi:type="dcterms:W3CDTF">2008-06-08T08:46:14Z</dcterms:modified>
  <cp:revision>25</cp:revision>
  <dc:subject/>
  <dc:title>Párhuzamosítható feladatok outputjai közötti konfliktusok feloldása</dc:title>
</cp:coreProperties>
</file>