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543-3DCC-40EB-8CE0-F289FDE0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B41-FD57-48AA-B075-EAF4A561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025-C27A-45CF-AD8F-EEDF9714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F84-ECF7-4FC7-B4BF-21C6F06B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16DB-E1F4-4429-A73D-1976963B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65BA-063F-4C46-9E9F-417A308D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544-3170-478E-9030-81267F64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305B-C0B2-491D-A4BF-8B428DCD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6DBF-D0A8-4EDD-B95E-9BA5345E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E7C-C1CB-4174-8128-C1BBF15A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2D26-1253-474F-86DB-41C6DE1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7C7-130C-4BE7-8A6E-F0EC1A53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8CA-DF60-4BCE-84E1-29D2764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A1A-EF37-4607-A4F9-CAE9E89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E525-BD19-4519-A89B-EA98CFEE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60B5-2C88-49AE-8903-32B6DD71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B96-557E-45D0-8065-82F3329B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7B8-0EE9-4A3D-B9ED-EBBECCBE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B7B-1A97-468B-B922-9FCB00D7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502-DE73-4C45-9453-9772D59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817-CBF7-4133-AA4C-F8BAB29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824-6DA9-4902-B744-A9D0BFE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F63-7617-4F0A-877B-A1C04B1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042-E8F5-4234-B66F-3BAD82E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8AB-09A8-49CE-84D3-53436E4FF4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8CFC-B609-4C56-AF4F-626A0DB0CC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aser.sztaki.hu/ctptech.html" TargetMode="External"/><Relationship Id="rId2" Type="http://schemas.openxmlformats.org/officeDocument/2006/relationships/hyperlink" Target="http://www.laser.sztaki.hu/pages.html" TargetMode="External"/><Relationship Id="rId3" Type="http://schemas.openxmlformats.org/officeDocument/2006/relationships/hyperlink" Target="http://www.laser.sztaki.hu/pages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030040"/>
            <a:ext cx="85104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yomdai előkészítő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készítette: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enczes Gergel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22860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yomdai előkésztő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569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80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munkák készítésénél fontos állomás a nyomdai előkésztés. A TDK beadásakor előírnak bizonyos formai követelményeket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dolgozatnak mint tartalmilag mint stilisztikailag megfelelőnek kell lennie. A/4-es papíron ,szövegszerkesztővel kell megirni,13 vagy 14-es betűmérettel, bal oldalon 3-cm-es  a többin 2,5-cm-es margóval. Egyes részek és fő fejezetek, beleértve a bevezetést és értékelést, új oldalon kell, hogy  kezdődje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ímek alcímek betűiről (kis betűk, betűméret), esetleges aláhúzásából vagy vastagításából, és a sorban való elhelyezéséből (középre, oldalt) tűnjön ki azok fontossága, és azok az egész dolgozatban következetesek, nagy és decimális számozásúak legyenek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övegben lévő címek előtt és után -azok fontosságától függően, a jobb áttekinthetőség végett- üres sort kell kihagyni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agolódása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360" y="836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odalmi áttekinté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ag móds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e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odalom jegyzé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zeknek mind megfelel akkor elkezdhetjük megvizsgálni ,hogy a nyomdába adásnál mivel kell tisztába lenni, mert  a nyomda abból fog dolgozni amit megkapott. Az egyes nyomdaipari folyamatok során több különböző képen is elkészülhet a munkánk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nyomdák általában előírják, illetve meghatározzák azt, hogy milyen felbontásban illetve fájlformátumban adják le náluk az egyes anyagokat. Meghatározzák, hogy az  adat Pendrive-on,Cd,DVD,-n vagy FTP-ben legyen lead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DK munka nyomdaipari előkészitésél a párhuzamos munkakörök katalógus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7705800" cy="388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mátum             átfutási idő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Témaválasztás konzultálása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akirodalmi formai ellenőr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lágium-kontroll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orrektura-ellenőr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Jogi kockázat-ellenőrzés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rukturális ellenőrzés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fejezetek, alfejezetek, helyes irodalmi tagolás megvan e )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edmények fogadá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7128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ába küldés előtt meghatározzák, hogy külalakilag milyen legyen a TDK-dolgozat (tipográfiailg egyénre szabv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ába megérkeznek a dolgozato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Visszaigazolás történik a nyomda részérő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a elvégzi a szakmai munkállatoka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ttérés a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vetkező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felada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eadott dolgozatok a nyomdai leadás előtt katalogizálják így meggyorsítva a nyomdaipari munkálatot. A TDK dolgozatokat egyszerre adják általában  le így megkönnyítik a nyomda dolgát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2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őtte meg kell győződni, hogy megfelelően és az a nyomdai leadás kívánalmainak eleget tesz e terjedelmileg is a dolgozat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hetséges hiba, ha például nem a megfelelő betűtípust, vagy nem a megadott elrendezésben készül a tdk dolgozat.  Hiba lehet a konzultáció során, ha a tartalom nem megfelelő. Ha nem a megfelelő információkat tartalmazza. Esetleg nem teljesen részletes. Ilyenkor nem halad tovább a nyomdai előkészítő munkakörbe az anyag, hanem visszakerül az előző munkakörhöz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0328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ából megtörténik a visszaigazolás hogy a dolgozattal kapcsolatban végrehajtották a szükséges nyomdaipari munkálatok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21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Feladatteljesítési </a:t>
            </a: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igazolá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784680"/>
            <a:ext cx="723276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gérkeztek az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talad küldöt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redmény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kalmazott n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eladatteljesítési 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gérkeztek az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talad küldöt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redmény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kalmazott n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yomdai előkészíté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előkésztés előtt a TDK tartalmilag már össze van állítva a nyomdai munkálatok ezeket követik majd előre meghatározott léptékekben. Az így elkészült TDK dolgozat majd ezek után kerül a következő munkafázisb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84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önyvtár, katalógus adatai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plomadolgozatok elektronikus úton való tárolás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4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könyvtári katalógus elektronikus felhasználása során lehetőség nyílik bárhonnan hogy a könyvtár anyagai szakirodalmai között kereshessen az érdeklődő. Speciális integrált rendszer, és kereső segítségével olyan dokumentumokra is rá lehet bukanni,ami eddig nem volt megtalálhat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azai könyvtárak közös elektronikus úton működő katalógusa lehetővé teszi, hogy bármely nyilvános és nem nyilvános könyvtár katalógusában is kereshessen a kívülálló.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önyvtári munkát katalógusba foglalást megelőző folyamatok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kör (szakterület és problématípus, ill. konzulens és célcsoport lehatárolása) pl. agrármeteorológiai előrejelzések, OMSZ média-tortarészének csökkentése, (referenciákkal rendelkező) konzulens = X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émaválasztás konzultálása 2. kör (konkrét kérdés és szükséges erőforrások lehatárolása) pl. OMSZ-megállapodással és saját hatáskörben gyűjtött adatok COCO, CART módszerrel történő feldolgoz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DK megszerkesztése az adott formai követelmények figyelembevételé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őrizni a helyes formai tartalmi követelmények meg vannak –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előkészít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21708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munkálato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DK leadása , TDK előadás , értékelés ebben benne va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(DO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(PP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XLS mellék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on-line mellék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lébeszélés-kontrol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sznosság-kontrol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hirdet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hirdető/archivá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intézkedik a díjak, felöl, eredményes diplomamunkánál ellenőrzi az előírt nyelvvizsga meglétét, egy példányt kiad, egyet elhelyez az iratmegőrzőb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helyezés a könyvtárban esetleg  egy elektronikus könyvtárb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88423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pság a TDK-kat dolgozatokat név szerint nyilvántartják elektronikus programsegítségével majd ezeket a  TDK-kat, dolgozatokat  könyvtárban tárolják. Azonban lehetőség nyílhat ezen programok fejlesztésére is ami megkönnyítheti azoknak a dolgát akik később szintén TDK-kat és dolgozatokat akarnak írni.TDK készítésénél gondot okozhat ha a dolgozathoz nem talál az ember elég anyagot. Ilyenkor jön jól a könyvtári katalógus amely segítségével több információt hamarabb össze tudunk gyűjteni.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Elektronikus úton sokkal könnyebbé válhat ezen dolgozatok,TDK-munkák áttekinthetősége, nyilvántartása. Lehetőséget adva arra, hogy ezek a  munkák gyorsan hozzáférhetővé váljan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Elektronikus könyvtár továbbfejlesztésénél lehetőség nyílhat például arra, hogy egy dolgozat megírásánál elkerülhetővé váljon az egyes témák hosszas utánjárása ezért  hasznos lehet egy egyszerű kereső alkalmazása egy erre alkalmas programba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gy  ilyen elektronikus könyvtár továbbfejleszthető folyamatosan.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éldául a keresők továbbfejlesztésév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Ötleteket lehetne felkínálni a program segítségével a felhasználónak milyen témákban érdemes az adott dolog után kutatn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segítségével nyomon követhetővé válhat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t érdemes megnéz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nak mekkora volt a látogatottsá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etleges visszajelzések lehetőségének elhelyez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kat érdemes megnézn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9940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5191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0202"/>
                </a:solidFill>
                <a:latin typeface="Arial"/>
              </a:rPr>
              <a:t>Javítás az előző hátterében</a:t>
            </a:r>
            <a:br>
              <a:rPr sz="2400"/>
            </a:br>
            <a:r>
              <a:rPr b="0" lang="en-US" sz="2400" spc="-1" strike="noStrike">
                <a:solidFill>
                  <a:srgbClr val="ea0202"/>
                </a:solidFill>
                <a:latin typeface="Arial"/>
              </a:rPr>
              <a:t>Reális kérdések: a nyomdai változat és a normál (kötött) változat közötti eltérések kezelése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7240" y="2441160"/>
            <a:ext cx="75614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ai változat és a normál változat közti  eltérések problémájának kezeléséhez segítséget nyújthat egyrészt az egyetem honlapján a TDK bejegyzéseknél leírtak. A nyomdák általában, de az egyetem nyomdájában is hasznos tanácsokkal láthatják el a TDK késztőjét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oldaltörések és a nyomtatási beálltások (színes, szürkeárnyalatos) nagyban befolyásolják az anyag érthetőségét és nyomon követhetőségét.  A nyomdai kialakítás befolyásolhatja a későbbi bírálatot is (színek használata stb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avítá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formai követelményei a DTK kiírásban szerepelnek. a nyomdai változat és a normál kötött változat közötti eltérések kezelésében a hallgatókat  a konzulensek segitik. A DTk formai kialakításánál általában az a lényeg, hogy a tartalom és a forma összhangban legyen, ugyanakkor megfeleljenek a szükséges feltételek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DK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ldöntöttük, hogy elkészül a TDK akkor a nyomdába való leadás előtt nem árt ha a következőket előtte eldöntjük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t kell megválasztani a készülőben lévő TDK formai jellemző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tatás színesben, vagy feketében történjen, a kivitel szerint is lehet sztendert kivitel, (göbölytett gerinc,lekerekitett sarkok), egyszerű kivitel stb. Ezenkívül még meg kell határozni hogy spirálozva legyen e vagy sem és az aranyozás is ide tartoz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az a nyomdai előkészítés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676160"/>
            <a:ext cx="8663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ai előkészítésnél digitális anyagot viszünk fel a nyomóformá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 négy folyamatból ál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zínre bont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szterizá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világítá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tírozá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Színre bont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(színes anyagok esetén). A nyomtatandó anyagot RGB színekre bontjá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Raszterizál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A vektoros állományokból,állitják elő amiket áttalakitanak raszterressé.Ilyenkor figyelembe kell venni az adott levilágitó gép felbontását,teljesitményét,valamint az épen alkalmazott nyomdaipari eljárást, és még az adott nyomdatechnológiai körülményeket. Ezek alapján a nyomtatási rácsot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Levilágít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A színre bontott és raszterizált anyagot levilágítással a filmre viszik.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TP technológia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alkalmazása esetén a levilágítandó anyagot közvetlenül az ofszetnyomógépben használható nyomólemezre világítják l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Montíroz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Ilyenkor állítják össze  a „montirozóasztalon” a rendelkezésre álló képeket,   Ez a lépés napjainkban sokszor kimarad a folyamatból, mert a nyomdai előkészítést végző programcsomagok (pl.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age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) lehetővé teszik az adott anyagok igényszerinti elrendezését. Természetesen CTP technológiát használva a montírozás szoftver úton történik (pl. a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Page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programcsomag segítségéve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Forrás: http://www.laser.sztaki.hu/ctptec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98560" y="1052640"/>
            <a:ext cx="7634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mezkészíté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A folyamat legutolsó lépésében a montírozott filmet átmásolják az ofszetlemezre (kontaktolás), majd a lemezt beégetik. Ezután a lemez készen áll a nyomtatásra. Raszterezés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yes nyomdai előkészítés alapja a  megfelelő grafikai előkészíté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 előkészítési munkák  során általában már egy helyen el tudják intézni a tördelést szkennelést ,és a design kialakítását is. A garantált minőségi munkák kialakításánál (ide értve TDK, is) célszerű olyan nyomdát választani ahol mindezt egyszerre elvégzik 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5:17:55Z</dcterms:created>
  <dc:creator>xxx</dc:creator>
  <dc:description/>
  <dc:language>en-US</dc:language>
  <cp:lastModifiedBy>LaCae</cp:lastModifiedBy>
  <dcterms:modified xsi:type="dcterms:W3CDTF">2008-06-02T12:13:36Z</dcterms:modified>
  <cp:revision>11</cp:revision>
  <dc:subject/>
  <dc:title>Nyomdai előkészitő</dc:title>
</cp:coreProperties>
</file>