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A7AB-2FAD-4A75-8DF1-FF8914E6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D356-F69B-4E70-9D8C-BF032DB3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A201-4AEF-40C9-89B6-A3BF2BEC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6BCF-7D49-4501-B314-9F703B67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A08E-3B38-4792-8ED5-817F70C0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F5CC-F73A-4F8F-B416-9241C446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B93A-340F-4F6B-A874-5EBF9505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9DFB-5AE5-4F70-AEEE-1813DEDE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A333-3242-4CB9-9E88-21067789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EFF2-0C76-4CB0-AF0F-4E002AD2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B5D8-FABA-4762-B055-9E7B102F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B551-36B2-4D40-9F8F-641C6A85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6149-6F23-4CDB-BD69-EA9787E7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791A-EB77-4AF6-8F8E-074E2CC4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42C0-5BF5-4E2C-B98A-34A8C013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9551-FD12-4104-B6E4-60237DA2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CFD3-E2C9-4E40-A275-59D2E714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8DD5-E4A9-47D3-8F3A-E8E15C4B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A90F-3517-4CE8-BDB8-C8697CBB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B0EE-4C38-4327-94D4-2E243825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0116-028F-42CD-97F7-EBE490DA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3DE0-1CB7-4DC9-9CAF-8B2203A1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CCFB-EEA7-40CD-A507-3F6B2312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6E38-E915-492A-81E6-3F87A95E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AB1D-2F15-48BC-8B9D-8EA7C7175F7C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0F2F-EB4C-4DFE-B1CB-CA9990C440E2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ccecff"/>
                </a:solidFill>
                <a:latin typeface="Arial"/>
              </a:rPr>
              <a:t>Impakt Fakto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Ismerte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Impakt faktornak nevezzük azt a mértékegységet, ami arra szolgál hogy egy bizonyos kiadvány fontosságát mérni tudju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Kizárólag teljes kiadványokra alkalmazzák, külön cikkekre ne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Mértékegysége IF. 1 IF = legalább egyszer idéztek a kiadványbó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Lehetséges Automatizálás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Egy témakörön vagy társadalmi csoporton belüli kiadványok rendszerezése és kategorizálása, hogy a későbbiekben ha hivatkozás történik a kiadványra, akkor azt tárolni illetve nyomon követni tudju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Megjegyz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Mivel a szövegben található információ értéke évről évre csökkenhet illetve nőhet, érdemes lenne évente felülvizsgálni a kapott IF értéket, vagyis éves szinten lebontott kalkulációk tűnnek ésszerű megoldásna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Számítás x= a kiadványból való idézések száma a jelen évb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y= az idézhető elemek száma amiket az elmúlt két évben adtak k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Jelen évi impakt faktor érték = x/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Munkakör pontos feladata kétféle lehet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z egyik: Erről kizárólag szakdolgozat elkészülése után beszélhetünk.  Ebben az esetben azt vizsgáljuk hogy az adott szakterületen és témában a dolgozat mennyire lett sikeres, elismert, hogy szakmailag mennyire hiteles és megbízható, ezt a következetést abból vonjuk le hogy a dolgozatból hányszor idéztek tudományos folyóiratok illetve cikkek és dokumentációk. </a:t>
            </a: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TEHÁT, HOGY A DOLGOZATNAK MEKKORA AZ IMPAKT FAKTOR ÉRTÉK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másik: Ebben az azt vizsgáljuk, hogy a dolgozat készítője a készítéskor olyan forrásokat használt fel a munkája során amelynek (Ha egyáltalán volt) a többi forráshoz képest nagyobb volt az impakt faktor értéke. Hiszen (ha megbízható a az IF formula) akkor ebből az következik(-ne) hogy a dolgozat ’értéke’ is jobb-töb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21:10:11Z</dcterms:created>
  <dc:creator>Gyuri</dc:creator>
  <dc:description/>
  <dc:language>en-US</dc:language>
  <cp:lastModifiedBy>LaCae</cp:lastModifiedBy>
  <dcterms:modified xsi:type="dcterms:W3CDTF">2008-05-04T21:47:59Z</dcterms:modified>
  <cp:revision>5</cp:revision>
  <dc:subject/>
  <dc:title>Impakt Faktor Hatás</dc:title>
</cp:coreProperties>
</file>