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856-895D-436F-9362-731E6BEE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DD8-4A49-43E2-B1B4-870A71D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445-AA98-490B-807F-0CA4A5D7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693-DE3A-4E3F-862B-513AF1D1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AF9E-103A-4AE2-8D1B-D6F22413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2569-8405-4F9A-8540-71718053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D131-CBEC-47D6-BAB0-C17F3AC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40D-8E23-4EF4-8ABE-1E9D44CF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CBC2-99E2-41B7-9435-88B6508D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AA13-9AEB-4C97-8403-A401BEC0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F53F-1BA7-47A0-B712-AF05CB6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DDA-358C-4298-BE20-8B98C17B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64E4-3410-4E21-BA5D-E0514D1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7CD5-3182-42BE-A837-24B8828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D7AA-6CF8-4CF7-8DF5-9652888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AF37-2C3A-4B46-89A6-2E56C144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5A5-AC3D-4DE2-878F-453F83C3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637-903B-47E4-B913-E7B9032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AA1-5215-466B-8B38-55DD4FD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DEA-D7D5-42F0-9EB3-C80F83D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97B-4E56-4561-BAEB-127B6B4E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47E-471A-467A-AE8F-8E8C35A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EF6-F6C0-4263-84CD-C88D75D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9E9-563D-43C0-B44C-758D636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BC6F-0B03-4C4D-BAB7-A01646412F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33D7-447E-448E-8849-7BF7BC242E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asznosság-kontro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ott munka valóban tartalmaz-e olyan gazdasági, vagy közszolgálati hasznosságot, amelyért adott esetben hajlandóak lennének akár fizetni is a témában gazdaságilag érintett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 jövedelem realizálása 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megszületett munka eredményeit gazdaságilag többféle módon használhatjuk f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t a munkánkat támogató partnerekkel kötött megállapodások korlátozhatják. (pl.: a segítségért cserébe elsőként, vagy egyedüliként használhatják az elkészült szolgáltatás, ill. kutatás eredményeit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 jövedelem realizálása 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a nem vagyunk korlátozva megállapodásokkal, az alábbi módokon válthatjuk munkánkat jövedelemr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legpraktikusabb módozat, ha munkánkat, a minket személyesen megkereső vállalatoknak, ill. magánszemélyeknek adjuk 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helyezhetjük, egy mi általunk készített honlapon, ahonnan bárki letöltheti a megfelelő ellenszolgáltatás mellet, vagy fizetett hirdetéseket helyezünk a weblapra, és ingyen hozzáférhet bárk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képzelhető ezen módozatok kombinációja, illetve egyéb, az adott területre jellemző speciális „értékesítési” megoldások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ok és a folyamat irányításának átvé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 kiállítása az értékelés részé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 lehetséges kimenetele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zonnali elfoga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típu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atáridő lejá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elytelen form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örténh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ommunikációs szakértő                             nyomtatvány                        1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emélyazonosság  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okmány                               0,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onzultációra való jogosultsá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nyomtatvány                         0,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émaválasztás konzultálása 1. kör              nyomtatvány                        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émaválasztás konzultálása 2. kör              nyomtatvány                        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(DOC)                               nyomtatvány                        1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(PPT)                                nyomtatvány                       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XLS                                   nyomtatvány                       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on-line                              nyomtatvány 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árhuzamosítható felada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utputjai közötti konfliktusok feloldása               nyomtatvány                        3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akirodalmi formai ellenőr                           nyomtatvány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lágium-kontroll                                           nyomtatvány                         3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rukturális ellenőrzés                                  nyomtatvány                         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ébeszélés-kontroll                                  nyomtatvány 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akirodalmi bizonyíték-kontroll                   nyomtatvány                         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unkakör megnevezése                           Formátum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kalmazott neve, beosztása, elérésének módj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tulajdonosának neve,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ot teljesítő(k)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nkakör megnevezé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mát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Átfutási idő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rrektura-ellenőr                          nyomtatvány  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atvagyon minőségének             nyomtatvány               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lenőrzés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ódszertani ellenőrzés                  nyomtatvány               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produkálhatósági kontroll          nyomtatvány               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ját következtetés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yessége                                      nyomtatvány              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élcsoport helyes kezelése           nyomtatvány 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iindulási helyzetek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ltártságának ellenőrzése               nyomtatvány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3493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negatí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yakorlati lépéselem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hasznosság „kihasználása” 1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nyiben találtunk érdeklődőket leendő munkánkra, érdemes megpróbálni közülük legalább egy támogatóra szert ten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sősorban nem anyagi támogatásra kell gondolni (pl.: a cég- vagy magánszemély kapcsolati tőkéjére, illetve az adott területen szerzett tapasztalatainak megosztásá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 leendőbeli üzletfelünk munkánkban felfedezi a számára elődleges „hasznosságot”, és a minél gyorsabb eredmény érdekében anyagilag is támogatja a munkát, ez nekünk sem tesz rosszat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ilyen jellegű segítségek megkönnyítik a dolgunkat, így az eredmények is hamarabb jelentkezhet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hasznosság „kihasználása” 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z az eset fordul elő, hogy érdeklődő van, de semmilyen támogatásra nem hajlandó, érdemes megfontolni másik leendő partner felkutatás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 nem olyan nehéz munka, hisz ha volt legalább egy érdeklődőnk, akkor biztosan akad másik is, aki tisztán látja benne a jövőbeli profitj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6:26Z</dcterms:created>
  <dc:creator>LaCae</dc:creator>
  <dc:description/>
  <dc:language>en-US</dc:language>
  <cp:lastModifiedBy>LaCae</cp:lastModifiedBy>
  <dcterms:modified xsi:type="dcterms:W3CDTF">2008-05-04T21:39:47Z</dcterms:modified>
  <cp:revision>4</cp:revision>
  <dc:subject/>
  <dc:title>Diplomamunka és TDK készítése a hasznosság tükrében</dc:title>
</cp:coreProperties>
</file>