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9B56-FC83-4118-9C6A-19B18F61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665A-EC9F-4F09-A9B0-8357CED9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A54-86C3-4F1E-96B4-464AD7BE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4C7C-F8EF-4364-9597-B122D9C9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F85F-550F-4DFC-B4FC-8B39A3E4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FBB3-1F11-48D4-840E-3E0E0767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82B1-802D-44FA-AE12-782D5F55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A9D4-2810-448C-A358-2F8E1D8A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8C74-111E-4032-A8BE-0119E372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A621-B7EF-47C9-8CAB-22477164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5271-CB7A-4507-90D9-CCA484EB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32D-86C2-4BFC-9A6B-593F6219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B638-07B4-4070-9B8B-C5B4099B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34C7-0785-4018-BD2D-1547AACB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A007-9087-4E59-B7CE-251174CE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FEF8-2EBD-4EEB-9BB1-43E842E2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4320-892A-4F31-9AA7-B7E0158A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B6EC-69C1-4DCA-A7A2-D1474143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1AB6-76C7-4F36-B4DF-501D0370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307-94ED-4FC6-AEC9-7A466316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E97-F232-416B-994B-66B01DB1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D60-C576-434D-9DC8-03388083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161-EBE5-4899-8653-4DC15E68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CCB-F72E-4F01-A8B3-2BC4C45D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4F85-D522-4A73-B518-875CEFAA270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337B-15B1-4807-A0D1-72DA0E5573B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aját következtetések helyessége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pályamunka bírálatát a következő szempontok szerint célszerű végezni: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ikai felépítés, irodalmi áttekintés: világos témafelvetés, a vizsgálatok indoklása, világos szerkesztés, irodalmi megalapozottság, a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következtetése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lyessé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következtetése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és az irodalmi adatok összevetésének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lyessé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pályamunka bírálatát a következő szempontok szerint célszerű végezn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Módszerek: módszerek nehézségi foka, sokoldalúsága, leírásának pontossága, adekvát volta, </a:t>
            </a:r>
            <a:r>
              <a:rPr b="1" lang="hu-HU" sz="3200" spc="-1" strike="noStrike">
                <a:solidFill>
                  <a:srgbClr val="ffffff"/>
                </a:solidFill>
                <a:latin typeface="Verdana"/>
              </a:rPr>
              <a:t>saját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 munka mérték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mai kivitelezés: az elkészítés gondossága, esztétikuma, irodalomjegyzék összeállítása, ábrák, táblázatok szerkesztése, íráshibák, gépelési hibák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redmények: az ismertetés mennyire pontos, alapos, részletes, világos, a dokumentáció mennyire adekvát, szemléltető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0:24:01Z</dcterms:created>
  <dc:creator>Ralf</dc:creator>
  <dc:description/>
  <dc:language>en-US</dc:language>
  <cp:lastModifiedBy>LaCae</cp:lastModifiedBy>
  <dcterms:modified xsi:type="dcterms:W3CDTF">2008-05-04T21:31:31Z</dcterms:modified>
  <cp:revision>5</cp:revision>
  <dc:subject/>
  <dc:title>Saját következtetések helyessége </dc:title>
</cp:coreProperties>
</file>