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ACB-3345-4CFC-BB80-E40AD13E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3E4-BBFF-453C-8640-E72E9158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60B-63D9-4744-B997-2E20446E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641-484A-4929-8100-879C1278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6E24-3931-41BE-9A61-5A0A7DE7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5420-8A7D-4B43-B32E-0538CDC9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16F1-5453-4E10-A729-7CE1F49C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6F2-83F8-44CD-A668-C14389B2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8A6E-9B63-43A0-9A64-7DE1AB8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CED-8F32-4D8E-B110-504C0ACE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4698-60A1-401C-A62E-5C365A48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3BC-B5E8-4226-BC40-1E484DD5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7AED-C471-4EA9-BC3B-E53D4C2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A8F0-DCF8-4CCF-B0EA-FE96D29B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0CAC-8749-4ED4-ACEE-A3E21582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2A64-E13C-4361-B8F6-A6EDF883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5828-3D5C-40D9-875E-B0D03FFB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773-F8EB-43A9-B6DE-5D8918E8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DA8-CBCE-4A9B-9FE4-455AD908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298-C6FE-4107-837F-5B1826F0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B0F-3E44-47E2-8428-32030D4A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63A-F304-4DC7-9025-DC30E38D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F51-452A-4C94-891D-6572301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6A7-8001-49EB-AAAF-A0FB7705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6A6C-DA62-493B-9B24-ABB64105039E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F4B9-F5B9-422A-9B19-049D9CEDCF7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Dolgozat-közi kooperációk jogi kérdései 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 kooperáció olyan együttműködést jelent a hallgató számára, melyek segítik őt a dolgozat írása közbe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 a hallgató dolgozatot kíván készíteni, akkor lehetősége van kooperációk kötésé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ooperációk jöhetnek létre hallgató-konzulens, hallgató-külső konzulens, valamint hallgató és hallgató között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ozzá kell minden félnek járulnia a kooperáció létrejöttéhez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abályozandó kérdés a kooperációk területén, hogy a dolgozatból esetlegesen befolyt pénzből milyen arányban részesedjenek a kooperációt kötött tago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írása előtt, fontos hogy kikötni a kooperáló felek között, hogy a dolgozatban említett részeket ki írja, és ki felel ér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bből az is következhet a részesedések területén, hogy a dolgozat egy bizony részét használná fel egy külső személy, és a dolgozat írója tudja bizonyítani, hogy azt a  fejezet az ő munkája akkor egyedüli részesedő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dolgozat írás alatt folyamatos a kapcsolattartás a két fél közöt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onzultációk alkalmával kerülnek megfogalmazásra és a későbbiekben megoldásra az adott problémák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onzultációkon való rendszeres részvételt a konzulens aláírásával igazolja, amit mellékletként csatolni kell a diplomadolgozathoz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mennyiben nincs belső konzulense a készítőnek, akkor külső konzulens választása és aláírása szükség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ooperáció jöhet létre két hallgató között, melyben együttesen készítik el dolgozatukat és mutatják be a TDK-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ülső konzulens lehet például egy vállalat dolgozója, ki az adott témában járt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dolgozat készítése során kell készíteni egy nyilatkozatokat konzulens részérő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onzulensi jogi nyilatkozatban, az alulírott konzulens jelenti ki azt, hogy az alulírott hallgató az ő irányítása révén készítette el az adott című dolgozatot és ajánlja ezt a Tudományos Diákköri Konferencián történő bemutatásr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dolgozat leadásának feltétele, hogy az előlapján fel kell tüntetni a konzulens adatait (név, beosztás, intézmény, intézet, osztály 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dolgozat létrejöttéhez szükséges kooperációk jogilag szabályosak 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kooperációkat jogilag megfelelően és korrekten kötötték 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tag említ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Részesedések arányos kezel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Konzulensi konzultációk rendszeres részvételének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4:57:11Z</dcterms:created>
  <dc:creator>bag</dc:creator>
  <dc:description/>
  <dc:language>en-US</dc:language>
  <cp:lastModifiedBy>LaCae</cp:lastModifiedBy>
  <dcterms:modified xsi:type="dcterms:W3CDTF">2008-05-04T21:46:09Z</dcterms:modified>
  <cp:revision>15</cp:revision>
  <dc:subject/>
  <dc:title>Szerzői jogdíjak kezelése </dc:title>
</cp:coreProperties>
</file>