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28E-9C26-493D-95DF-E50A0700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137-C709-4A65-A821-C678EA48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20D-CDC1-4AEC-915A-7BA15D68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3D2-796D-476A-9985-DFEEAAB7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2E7C-EA1D-4143-8219-5062C833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9F9-0CA5-48DD-B0CE-FFF069B1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65E6-2047-4AA1-9029-7925ECA2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AC1C-986B-4F70-8861-A1090E95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BF31-E84F-4443-8C6C-8C55E63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BFEB-CBE8-4878-A723-1F5A3FF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8C30-719F-49F0-8619-945A3118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9E1-C4E4-4D94-8858-2AB02FE8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AB2E-7AFA-48A9-9A42-8015E08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887B-9802-457B-8CD5-EF4CD4C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875A-4E87-425C-BB16-0054E7AD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78A7-D632-4750-B6B0-8B33331D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6D97-44DA-4E3D-872F-4CC18D6D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6E6-6C79-4D76-B5FE-EFDCE422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16C-F548-4EB1-B6FF-895F3F4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29C-9731-4E3E-882E-E115ADC2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C69-AEDA-4E27-AF39-48BD2889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6FA-FE7D-4896-AD66-7B26E4E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08F-BCD2-4A8B-B3FB-8285B02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A99-0D30-4658-B7D8-F37D8B9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FA41-1E91-4D38-A152-B7BD6081FF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B756-06E7-40F5-8AE3-553D8D986D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ódszertani ellenőrzés (helyes eljárás a feltett kérdésre?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Az ellenőrzés célj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2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zervezet hatékony működésének elősegítése, a felmerülő problémák megoldása, hiányok, hibák kijavítása, az elért eredmények megőrzése, a jó módszerek terjeszté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Az ellenőrzés fajtá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gazgatói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nkafegyelmi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mai-pedagógiai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ódszertani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örvényességi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űzvédelmi-munkavédelmi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ülső célvizsgál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z ellenőrzés formái és módszere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folyamatba épített ellenőr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minisztratív ellenőr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úrópróba szerű ellenőr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gyelmi (bejelentés nélküli) ellenőr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ülső célzott tárgykörű ellenőr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óralátoga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kumentumok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nulók írásbeli munkájának vizsgál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akmai megbeszélés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érés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munkaközösség-vezetők az intézmény vezetőinek számolnak be szakmai-módszertani ellenőrző tevékenységükről, és a színvonal fenntartásáért, illetve javításáért szükséges teendőkre felhívják a figyelmet. A munkafegyelem betartásában segítséget adnak a vezetőknek, akik az ellenőrzést a munkafegyelem terén tapasztalt esetleges hiányosságok elkerülésének érdekében kötelesek megtenni a megfelelő intézkedéseket. Az azonos szakon tanító tanárok munkaközösséget alkothatnak azért, hogy egymás segítségére lehessenek szakmai kérdésekben. A módszertani ellenőrzés másik fontos eleme a külső szakértők és szaktanácsadók bevonásával végzett ellenőrzés. A külső szakértők meghívását a munkaközösségek vezetőivel való egyeztetés után kell intézni, ennek ugyanis évenkénti ütemezés szerint célszerű történni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3:14:05Z</dcterms:created>
  <dc:creator>LaCae</dc:creator>
  <dc:description/>
  <dc:language>en-US</dc:language>
  <cp:lastModifiedBy>Vrabély Balázs</cp:lastModifiedBy>
  <dcterms:modified xsi:type="dcterms:W3CDTF">2008-06-08T08:22:54Z</dcterms:modified>
  <cp:revision>24</cp:revision>
  <dc:subject/>
  <dc:title>Párhuzamosítható feladatok outputjai közötti konfliktusok feloldása</dc:title>
</cp:coreProperties>
</file>