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5EE13-F2FF-4DC3-B091-D46336F7C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24F4A-90E5-4DF9-9808-24ED2474F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E23C5-BDF8-42CF-962B-6F43F0445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188B4-2485-4852-A1F5-8CE44C28F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AD5574-07D0-4297-A63C-A7946C8F8A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4AC1E-0A25-4B97-A313-967598891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45CF2-D81D-4FEE-A86A-3C66A3179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7F9D7-AAEE-448E-A2F8-21C15C5EF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3711B-2F49-4254-A49D-FAC0DFA8E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F5490-2558-485B-BB5F-4DA5765EE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5D37E-9D56-4ABF-8E27-4C1EBCEC5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345F6-0F7E-425E-ADC4-738185B6B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7853F-0FBF-4EAF-AF52-9C779A619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28E14-D3C6-4F45-A37B-22A3EF9C5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DC15B-B7FA-45A5-8E4F-85B0F37CA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81AA3F-FA8B-4156-B55A-D3A24C350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5939DC-1353-4F7B-BE95-F9A6D0C2E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174BF-E67F-40AA-81CB-A81B10E8E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795E9-DBA8-4489-BC8E-4553059E0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09A89-FF40-4CD8-9E16-2047BDF27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B0B07-D026-4E12-8D37-A235F99CC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D4328-61C8-4070-B2B8-020E7EB8F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A0782-7D12-46AE-AD19-1ACEE85DA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69275-977F-4817-BECF-A289581DA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date/time&gt;</a:t>
            </a:r>
            <a:endParaRPr b="0" lang="en-US" sz="1000" spc="-1" strike="noStrike">
              <a:solidFill>
                <a:srgbClr val="000000"/>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footer&gt;</a:t>
            </a:r>
            <a:endParaRPr b="0" lang="en-US" sz="1000" spc="-1" strike="noStrike">
              <a:solidFill>
                <a:srgbClr val="000000"/>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74EF-DE37-40D6-9EE4-FB7C01B80C09}" type="slidenum">
              <a:rPr b="0" lang="hu-HU"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date/time&gt;</a:t>
            </a:r>
            <a:endParaRPr b="0" lang="en-US" sz="1000" spc="-1" strike="noStrike">
              <a:solidFill>
                <a:srgbClr val="000000"/>
              </a:solidFill>
              <a:latin typeface="Verdana"/>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footer&gt;</a:t>
            </a:r>
            <a:endParaRPr b="0" lang="en-US" sz="1000" spc="-1" strike="noStrike">
              <a:solidFill>
                <a:srgbClr val="000000"/>
              </a:solidFill>
              <a:latin typeface="Verdana"/>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7E30A-79C6-4419-8B2A-2874A7AFF20A}" type="slidenum">
              <a:rPr b="0" lang="hu-HU"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ccecff"/>
                </a:solidFill>
                <a:latin typeface="Arial"/>
              </a:rPr>
              <a:t>26. Korrektúra-ellenőr</a:t>
            </a:r>
            <a:endParaRPr b="0" lang="en-US" sz="6700" spc="-1" strike="noStrike">
              <a:solidFill>
                <a:srgbClr val="ccecff"/>
              </a:solidFill>
              <a:latin typeface="Arial"/>
            </a:endParaRPr>
          </a:p>
        </p:txBody>
      </p:sp>
      <p:sp>
        <p:nvSpPr>
          <p:cNvPr id="156" name="PlaceHolder 2"/>
          <p:cNvSpPr>
            <a:spLocks noGrp="1"/>
          </p:cNvSpPr>
          <p:nvPr>
            <p:ph type="subTitle"/>
          </p:nvPr>
        </p:nvSpPr>
        <p:spPr>
          <a:xfrm>
            <a:off x="722160" y="3685680"/>
            <a:ext cx="7772400" cy="2033640"/>
          </a:xfrm>
          <a:prstGeom prst="rect">
            <a:avLst/>
          </a:prstGeom>
          <a:noFill/>
          <a:ln w="0">
            <a:noFill/>
          </a:ln>
        </p:spPr>
        <p:txBody>
          <a:bodyPr lIns="182880" rIns="90000" tIns="0" bIns="46800" anchor="t">
            <a:noAutofit/>
          </a:bodyPr>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9766f"/>
                </a:solidFill>
                <a:latin typeface="Verdana"/>
              </a:rPr>
              <a:t>A korrektor munkája annyiban különbözik a szerkesztőétől, hogy ő a szövegen tartalmi javításokat már nem tehet, kizárólag a szerkesztő által észre nem vett nyelvhelyességi, helyesírási hibákat, a szedés vagy a számítógépes rögzítés során keletkezett elgépelési hibákat javíthatja, és a fent felsorolt egységesítési feladatokat hajthatja végre. Ha tartalmi hibát, tévedést, következetlenséget észlel, arra fel kell hívnia a szerző figyelmét.</a:t>
            </a:r>
            <a:endParaRPr b="0"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Követhető-e a dolgozat finomodásának folyamata kívülállók számára?</a:t>
            </a:r>
            <a:endParaRPr b="0" lang="en-US" sz="28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Verdana"/>
              </a:rPr>
              <a:t>Hogy követhető-e a folyamat egy kívülálló számára csakis a korrektoron múlik. </a:t>
            </a:r>
            <a:endParaRPr b="0" lang="en-US" sz="2600" spc="-1" strike="noStrike">
              <a:solidFill>
                <a:srgbClr val="ffffff"/>
              </a:solidFill>
              <a:latin typeface="Verdana"/>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Verdana"/>
              </a:rPr>
              <a:t>Két esetben lehet követhetővé tenni:</a:t>
            </a:r>
            <a:endParaRPr b="0" lang="en-US" sz="2600" spc="-1" strike="noStrike">
              <a:solidFill>
                <a:srgbClr val="ffffff"/>
              </a:solidFill>
              <a:latin typeface="Verdana"/>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Verdana"/>
              </a:rPr>
              <a:t>	</a:t>
            </a:r>
            <a:r>
              <a:rPr b="0" lang="hu-HU" sz="2600" spc="-1" strike="noStrike">
                <a:solidFill>
                  <a:srgbClr val="ffffff"/>
                </a:solidFill>
                <a:latin typeface="Verdana"/>
              </a:rPr>
              <a:t>- ha nem egy menetben történik a javítás és a korrektor minden szünetben feltölti pl. weboldalára a javított, de még el nem készült teljes szöveget</a:t>
            </a:r>
            <a:endParaRPr b="0" lang="en-US" sz="2600" spc="-1" strike="noStrike">
              <a:solidFill>
                <a:srgbClr val="ffffff"/>
              </a:solidFill>
              <a:latin typeface="Verdana"/>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Verdana"/>
              </a:rPr>
              <a:t>	</a:t>
            </a:r>
            <a:r>
              <a:rPr b="0" lang="hu-HU" sz="2600" spc="-1" strike="noStrike">
                <a:solidFill>
                  <a:srgbClr val="ffffff"/>
                </a:solidFill>
                <a:latin typeface="Verdana"/>
              </a:rPr>
              <a:t>- ha olyan programmal történik a szerkesztés, melybe bizonyos engedéllyel betekintést nyerhetünk. Hasonló program az MS Office Groove, mellyel interneten keresztül több felhasználó egy adott munkán egyidejűleg dolgozhat. Ennek egy korlátozott, szimplex verziója lehet, ha csak egy ember dolgozhat és ennek adott szemlélője lehet.</a:t>
            </a:r>
            <a:endParaRPr b="0" lang="en-US" sz="2600" spc="-1" strike="noStrike">
              <a:solidFill>
                <a:srgbClr val="ffffff"/>
              </a:solidFill>
              <a:latin typeface="Verdana"/>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mi fontos ilyenkor…</a:t>
            </a:r>
            <a:endParaRPr b="0" lang="en-US" sz="4400" spc="-1" strike="noStrike">
              <a:solidFill>
                <a:srgbClr val="ccecff"/>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Helyesírási hiba</a:t>
            </a:r>
            <a:endParaRPr b="0" lang="en-US" sz="2600" spc="-1" strike="noStrike">
              <a:solidFill>
                <a:srgbClr val="ffffff"/>
              </a:solidFill>
              <a:latin typeface="Verdana"/>
            </a:endParaRPr>
          </a:p>
          <a:p>
            <a:pPr marL="343080" indent="-343080">
              <a:lnSpc>
                <a:spcPct val="1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Vesszők</a:t>
            </a:r>
            <a:endParaRPr b="0" lang="en-US" sz="2600" spc="-1" strike="noStrike">
              <a:solidFill>
                <a:srgbClr val="ffffff"/>
              </a:solidFill>
              <a:latin typeface="Verdana"/>
            </a:endParaRPr>
          </a:p>
          <a:p>
            <a:pPr marL="343080" indent="-343080">
              <a:lnSpc>
                <a:spcPct val="1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Ékezetek</a:t>
            </a:r>
            <a:endParaRPr b="0" lang="en-US" sz="2600" spc="-1" strike="noStrike">
              <a:solidFill>
                <a:srgbClr val="ffffff"/>
              </a:solidFill>
              <a:latin typeface="Verdana"/>
            </a:endParaRPr>
          </a:p>
          <a:p>
            <a:pPr marL="343080" indent="-343080">
              <a:lnSpc>
                <a:spcPct val="1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zóközök</a:t>
            </a:r>
            <a:endParaRPr b="0" lang="en-US" sz="2600" spc="-1" strike="noStrike">
              <a:solidFill>
                <a:srgbClr val="ffffff"/>
              </a:solidFill>
              <a:latin typeface="Verdana"/>
            </a:endParaRPr>
          </a:p>
          <a:p>
            <a:pPr marL="343080" indent="-343080">
              <a:lnSpc>
                <a:spcPct val="1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Elírás</a:t>
            </a:r>
            <a:endParaRPr b="0" lang="en-US" sz="2600" spc="-1" strike="noStrike">
              <a:solidFill>
                <a:srgbClr val="ffffff"/>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lyesírási hiba</a:t>
            </a:r>
            <a:endParaRPr b="0" lang="en-US" sz="4400" spc="-1" strike="noStrike">
              <a:solidFill>
                <a:srgbClr val="ccecff"/>
              </a:solidFill>
              <a:latin typeface="Arial"/>
            </a:endParaRPr>
          </a:p>
        </p:txBody>
      </p:sp>
      <p:sp>
        <p:nvSpPr>
          <p:cNvPr id="160"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1000"/>
          </a:bodyPr>
          <a:p>
            <a:pPr marL="321840" indent="-31176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A korrektor egyik legfőbb feladata, hogy tüzetesen átolvassa az adott szöveget, ha kell többször is. Ugyan az MS Word-ben szerkesztett szövegekben a program aláhúzza a hibás szavakat, de ez nem megbízható teljes mértékben. </a:t>
            </a:r>
            <a:endParaRPr b="0" lang="en-US" sz="1800" spc="-1" strike="noStrike">
              <a:solidFill>
                <a:srgbClr val="ffffff"/>
              </a:solidFill>
              <a:latin typeface="Verdana"/>
            </a:endParaRPr>
          </a:p>
          <a:p>
            <a:pPr marL="321840" indent="-31176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A helyesírás sajnos nagyon érzékeny terület, gépesíthetősége nehezen megoldható. </a:t>
            </a:r>
            <a:endParaRPr b="0" lang="en-US" sz="1800" spc="-1" strike="noStrike">
              <a:solidFill>
                <a:srgbClr val="ffffff"/>
              </a:solidFill>
              <a:latin typeface="Verdana"/>
            </a:endParaRPr>
          </a:p>
          <a:p>
            <a:pPr marL="321840" indent="-31176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Mobiltelefonoknál már egy ideje bevett techológia a T9, ami anélkül, hogy leírnánk a szót már a kezdőbetűíből megpróbálja kitalálni a kívánt szót és ki is írja magától. Ezzel irónikusan szólva csak az a probléma, hogy az esetek 90%-ában pont nem azt a szót teszi be, amit én szeretnék és akkor jöhet a váltó gomb, amivel a további lehetőségeket kínálja fel, természetesen csak azokat, amik be vannak táplálva. Kérdés, hogy ezzel a nyomogatással időt spórolunk-e meg a rendes begépeléssel szemben?</a:t>
            </a:r>
            <a:endParaRPr b="0" lang="en-US" sz="1800" spc="-1" strike="noStrike">
              <a:solidFill>
                <a:srgbClr val="ffffff"/>
              </a:solidFill>
              <a:latin typeface="Verdana"/>
            </a:endParaRPr>
          </a:p>
          <a:p>
            <a:pPr marL="321840" indent="-31176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Ami bizonyos: HA nem lennének szókincsbeli hiányosságai – tehát minden magyar és külföldi (leginkább angol) szót ismerne és HA azok helyesírásilag megfelelnének, a korrektor munkája részben gépesíthető lehetne.</a:t>
            </a:r>
            <a:endParaRPr b="0" lang="en-US" sz="1800" spc="-1" strike="noStrike">
              <a:solidFill>
                <a:srgbClr val="ffffff"/>
              </a:solidFill>
              <a:latin typeface="Verdana"/>
            </a:endParaRPr>
          </a:p>
          <a:p>
            <a:pPr marL="321840" indent="-31176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Ennek a megvalósítása (+átültetése PC-re) mennyi energiát emésztene fel? Megérné-e a befektetés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További probléma a vesszők és mondatvégi írásjelek kezelése, amik nem gépesíthetők.</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Oka: többnyire, mert a gép nem tud érzelmi alapon gondolkozni.</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Ami már megvan: A word is nagybetűvel tudja kezdeni a pont után álló első karaktert; felismeri a helyesírási hibákat, de csak a programozó által betáplált szabályok alapján + gondok a magyarított, átvett idegen szavakkal</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LISTA:</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 írásjelek,</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 egyéb nem betű típusú karakterek</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A tökéletes javításhoz ezért legalább egyszer el kell olvasni az egész szöveget és kijavítani a helyesírási hibákat, ide értve a „j” és „ly”-t, a tulajdonneveket, a nagybetűs-kisbetűs hibákat és a többi nyelvtani szabályt megszegő szó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Megoldható lenne, hogy ne listából válasszuk a nyelvet, hanem kijelöljük, hogy milyen nyelvi készleteket vegyen elő a program.</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Az új/átvett szavak miatt időnkénti „patch”-ek a programhoz.</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A helyesírás bizonyos szempontból olyan, mint egy szabvány. Nincsenek köztes értékek, alternatív megoldások. Az idők során alakult olyanná a magyar, amilyen és jelenleg is „patch”-eljük, de hogy mi a helyes formája egy szónak az adott: lyuk v juk. Ebből a szempontból minden helyesírás-ellenörzőnek unyanazt kell tudnia, egy forrásból kell, hogy merítsen, ezért felesleges lenne több ellenőrt ráküldeni egy adott szövegre. Az emberi erőforrást nem lehet elhanyagolni, ezért:</a:t>
            </a:r>
            <a:br>
              <a:rPr sz="1800"/>
            </a:br>
            <a:r>
              <a:rPr b="0" lang="hu-HU" sz="1800" spc="-1" strike="noStrike">
                <a:solidFill>
                  <a:srgbClr val="ffffff"/>
                </a:solidFill>
                <a:latin typeface="Verdana"/>
              </a:rPr>
              <a:t>helyesírás-ellenőr + ember, vagy továbbfejlesztve: gépi korrektor + ember</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Kézírásos szöveg esetén ez nem megoldható, így nem lehet mindig a gépre hagyatkozni. A számológép esete: beírhatjuk, hogy 2*2, de jó, ha mi is tudjuk mit kapunk, mert nem mindig vagyunk körülvéve gépekkel.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Vagyis: a nyelvtant és íráskészséget meg kéne tanulni, mert kézíráskor kell, de egy géppel hatékonyabban (99%-osan) megtanítható az összes létező szabály a gépbe írás esetére. (1% emberi belejavítás többnyire a szöveg további érzelmekkel való megtöltésére; pl.: Tyűűű!!!)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Vesszők</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ffffff"/>
                </a:solidFill>
                <a:latin typeface="Verdana"/>
              </a:rPr>
              <a:t>A korrektorral szemben nem csak a nyelvtani tudás és annak tökéletes alkalmazása az elvárás, a vesszőket is tudnia kell megfelelően alkalmazni.</a:t>
            </a:r>
            <a:endParaRPr b="0" lang="en-US" sz="1700" spc="-1" strike="noStrike">
              <a:solidFill>
                <a:srgbClr val="ffffff"/>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ffffff"/>
                </a:solidFill>
                <a:latin typeface="Verdana"/>
              </a:rPr>
              <a:t> </a:t>
            </a:r>
            <a:endParaRPr b="0" lang="en-US" sz="1700" spc="-1" strike="noStrike">
              <a:solidFill>
                <a:srgbClr val="ffffff"/>
              </a:solidFill>
              <a:latin typeface="Verdana"/>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ffffff"/>
                </a:solidFill>
                <a:latin typeface="Verdana"/>
              </a:rPr>
              <a:t>Egy-egy rossz helyre illesztett vessző ugyanis megváltoztathatja a mondat teljes jelentését és ezzel nagyobb gondot tud okozni, mint azt elsőre gondolnánk.</a:t>
            </a:r>
            <a:endParaRPr b="0" lang="en-US" sz="1700" spc="-1" strike="noStrike">
              <a:solidFill>
                <a:srgbClr val="ffffff"/>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ffffff"/>
                </a:solidFill>
                <a:latin typeface="Verdana"/>
              </a:rPr>
              <a:t>Nem árt azonban, ha odafigyel a vesszők esetén, mert lehet, hogy a szerző direkt rakott az adott helyre vesszőt és, noha vessző nélkül is értelmes a mondat, mégis annak törlése (vagy épp odahelyezése) a szerző mondandóját módosítja. Ezt pedig kerülni kell.</a:t>
            </a:r>
            <a:endParaRPr b="0" lang="en-US" sz="1700" spc="-1" strike="noStrike">
              <a:solidFill>
                <a:srgbClr val="ffffff"/>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Bizonyos mértékig javíthatók csak automatikusan. Megtanítható lenne pl, hogy a „HOGY” és a „MERT” elé tegyen mindig vesszőt, de az író nem mindig akar vesszőt tenni elé.</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Felsorolásnál még nehezebb dolga lenne a gépnek, mert nem tud ilyen mértékben különbséget tenni szó és szó köz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Ékezetek</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z ékezeteket akár a helyesíráshoz is sorolhattam volna, ennek mégis külön jelentősége van. Az ékezeteket ritkán szokás lefelejteni, mégis előfordulhat és méretéből adódóan nehezebb észrevenni hiányát. Növeli a korrektor munkáját, ha a cikk vagy tanulmány angol billentyűzeten lett begépelve.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zóközök</a:t>
            </a: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zóközök esetén azon evidens tényezőn túl, miszerint minden szót szóköz követ, fontos figyelni arra, hogy a mondat vége – pont, kérdőjel, felkiáltójel – után mindenképpen szóköz kel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írások</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tt nem csak a félreütött billentyűkre kell gondolni, hanem a szerző által írt, de oda nem illő szavakra is. Ilyen esetben viszont a legtöbb esetben ki kell kérni a szerző véleményét a javítást illetően.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14:58:54Z</dcterms:created>
  <dc:creator>PGab</dc:creator>
  <dc:description/>
  <dc:language>en-US</dc:language>
  <cp:lastModifiedBy>LaCae</cp:lastModifiedBy>
  <dcterms:modified xsi:type="dcterms:W3CDTF">2008-05-04T21:41:35Z</dcterms:modified>
  <cp:revision>13</cp:revision>
  <dc:subject/>
  <dc:title>26. Korrektúra-ellenőr</dc:title>
</cp:coreProperties>
</file>