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385-B1C7-4265-9331-6E32F108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6B3-441F-4C9E-8ACE-82DD638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93D-0C77-48AA-976E-40DC2E06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62D-1D45-48A5-97AD-524984E6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270-C0BB-4CD7-9498-84BA87A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33E-EC5C-4769-BF29-A96959C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EFD-CC43-48AD-B01E-8DCC395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0319-23F3-45F4-A9F7-CDCAE516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D0F2-602D-4371-A739-ECF7F68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97C-4211-4B15-B278-00781AB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E76-980D-4458-AE2C-32D7242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231-CDB2-4AF0-8F59-881CD9B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6688-1136-4F52-9CD4-20EA4B6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AF48-AF37-43B1-88AF-C9F4ECC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D03-4C2C-43FA-A447-C97158D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D5B-EAF0-43DF-95B8-0237558E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5EA-91C3-420C-BEF4-FFD4D2AF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38E-495F-4198-9A4B-1BDC2B45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991-E5E5-455C-8029-5BE302E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D82-E117-4C24-8CF4-60A0003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EB4-FA5C-4B97-95E2-4C5993F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F13-0142-4B92-8D10-78B90F9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ADA-E593-413A-B87E-0DA4AA7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22B-80EB-4674-BFA2-C219E12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899-1ABA-47C7-945B-E13FF0C30FC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743-73AC-4A25-94B3-9373F502A988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88600" y="2876400"/>
            <a:ext cx="61722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MILYEN JOGOKKAL KINEK?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700" spc="-1" strike="noStrike">
                <a:solidFill>
                  <a:srgbClr val="33cccc"/>
                </a:solidFill>
                <a:latin typeface="Arial"/>
              </a:rPr>
              <a:t>27. Pdf-konverzió</a:t>
            </a:r>
            <a:endParaRPr b="0" lang="en-US" sz="6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PD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ortable Document Format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DF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) az Adobe Systems által kifejlesztett bináris fájlformátum. Ebben a formátumban dokumentumok tárolhatók, amelyek különböző szoftverekkel, hardverekkel és operációs rendszerekkel olvashatók és létrehozhatók. A PDF alkalmas szöveget, ábrát és képeket tartalmazó dokumentum leírására eszközfüggetlen és felbontásfüggetlen formában. A dokumentum lehet egyoldalas, és többezer oldalas is, egyszerű vagy összetett: sokféle betűtípussal, ábrával, színnel és képpel, továbbá tartalmazhat interaktív beviteli mezőket, nyomógombokat stb., lehetőséget teremtve arra, hogy üres űrlapokat hozzunk létre, amit a felhasználók később elektronikus formában is ki tudnak tölteni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iért kell TDK-t PDF-b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DF formátummal a bevitt szakdolgozat vagy egyéb írásos anyag könyvszerű formában tárolható, olvasható, de nem módosítható és látványosabb formájú. Segítségével dokumentumunkat kulturáltabb formában tárhatjuk a világ elé, és egyben megakadályozzuk, hogy illetéktelenek módosíthassák azt. Jelszóval való védelmére is lehetőségünk van, így megtekintetni is csak az illetékesek tudj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i a jogokat illeti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Szakdolgozatba való betekintésbe legfőbb joga van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szerzőnek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és annak, akinek a szerző szánj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Ha érdekünkben áll, hogy más ne férjen hozzá a jelszóval való titkosítást célszerű használ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Mellékesen jegyezném meg, hogy a jelszóval való védelem egy módja a szellemi termék írásos részének bevédésére is. Ez áruba is bocsájtható. Ilyen esetben az állomány ingyenesen letölthető és csupán a kulcsért kell fizet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A szerző felhatalmazhat külső embereket is a dokumentum megtekintésére, ilyen lehet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orrektor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ritiku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segít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érdeklőd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jelenési for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rmészetesen lehetőségünk van a munka kinyomtatására is, így könyvként kezelhetjük azt. Ez az offline for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nline formában szükség van egy számítógépre és egy pdf-et kezelő alkalmazása, amilyen pl. az Acrobat Read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ptimális esetben a szerző online és offline formában is elérhetővé teszi anyagá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17:29Z</dcterms:created>
  <dc:creator>PGab</dc:creator>
  <dc:description/>
  <dc:language>en-US</dc:language>
  <cp:lastModifiedBy>LaCae</cp:lastModifiedBy>
  <dcterms:modified xsi:type="dcterms:W3CDTF">2008-05-04T21:41:59Z</dcterms:modified>
  <cp:revision>14</cp:revision>
  <dc:subject/>
  <dc:title>27. Pdf-konverzió</dc:title>
</cp:coreProperties>
</file>