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72FA-590F-4A9D-B25F-A607A24DB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407E-C02A-4765-BD92-5C9C4A0F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8098-2CF4-465A-982B-80322B20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4263-51B1-4DB8-BD57-461A2833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7ACF-B1C8-4608-96C5-80FA1E3A3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9877-ACD6-4EBC-AA7C-A5A86D79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3C74-2C43-477B-83A9-0D1BF421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ECE9-22B1-4489-8F8F-59C1AD7A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915F-AA46-40E3-9079-7F3CA345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EA01-EB14-4E8A-9BDD-504745D0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A7C2-ECDE-471F-B2D5-D2445120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D26B-F85D-4DC7-B5E3-C412BEC3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CE7F-1E52-4C78-AFCA-FC4F79BA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A28F-B773-41A6-A1B4-A7A1DAEE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A6AD-9E63-4714-A785-4C2FB9D3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6021-E5F8-4D43-96B4-2342C3D34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5D0B-259C-4986-96AD-D37A64E49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BC1E-FD80-42F4-99F2-35BC9383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2C1F-4291-42BA-A1AB-ECD44681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4B1C-4B95-4708-BB66-2CB90BB6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2357-40F6-4759-B4D6-C2EDC577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9219-91E4-43B6-9039-DDB5E8C2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F7AB-0627-48FB-A9E9-39BF1C97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C807-A242-41E1-A8B1-33FBC889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8B93-C6DE-4882-887F-C8EAFBE387A6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69CB-998D-418F-8CF9-D4CAF0739169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árhuzamosítható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eladatok outputjai közötti konfliktusok feloldása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Munkaköri Leír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párhuzamos tevékenységek koordinátora munkakörhö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Főtevékenységek: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z egy időben futó munkakörök számára szétosztani az őket megelőző tevékenység kimeneti anyagából a rájuk vonatkozó részleteke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z inputok határidős csúszásainak megelőzése, kezelés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párhuzamos feladatkörök egymásnak ellentmondó outputjainak harmonizálás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z egymásnak mellérendelt feladatok kimeneteinek összekapcsolása, s továbbítása a következő állomásr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végzett műveletek s az események naplózása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dolgozatok írását segítő </a:t>
            </a:r>
            <a:r>
              <a:rPr b="1" lang="hu-HU" sz="2400" spc="-1" strike="noStrike">
                <a:solidFill>
                  <a:srgbClr val="ffffff"/>
                </a:solidFill>
                <a:latin typeface="Verdana"/>
              </a:rPr>
              <a:t>munkakörök között felmerült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-központilag nem szabályozott-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Verdana"/>
              </a:rPr>
              <a:t>kérdése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Verdana"/>
              </a:rPr>
              <a:t>problémá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Verdana"/>
              </a:rPr>
              <a:t>konfliktuso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kezelése, </a:t>
            </a:r>
            <a:r>
              <a:rPr b="1" lang="hu-HU" sz="2400" spc="-1" strike="noStrike">
                <a:solidFill>
                  <a:srgbClr val="ffffff"/>
                </a:solidFill>
                <a:latin typeface="Verdana"/>
              </a:rPr>
              <a:t>megoldása a feladat(például: ha egy nem szabályozott kérdésben az egyik munkakör azt javasolja az ügyfélnek, hogy a máshonnan idézett szöveget feketével és állóbetűkkel jelenítse meg, de a másik munkakör azt mondja, hogy ezt pedig mindig is zöld betűszínnel dőlten szedve szokták, akkor saját belátása szerint dönt az ügyben , előtte esetleg vitafórumot tart az érintettekkel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z eseményeket is mindig rögzítenie kell vitafórum formáb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A munkakör az alábbi kompetenciákat igényli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umánerőforrás menedzs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észség/képesség csapatmunka teré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essz tűré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ó problémamegoldó készség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Verdana"/>
              </a:rPr>
              <a:t>Minden input beérkezésétől számított 3 munkanapon belül továbbítania kell a megfelelő anyagot az illetékes munkakörnek/munkaköröknek/ügyfélne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Minden egyes tevékenységet naplóznia kell!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Minden beérkezett anyag továbbításakor igazolást állít ki, melyen szerepelnie kell: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-honnan jött az dokumentum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-mikor érkezett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-mikor lett továbbítv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13:11Z</dcterms:created>
  <dc:creator>LaCae</dc:creator>
  <dc:description/>
  <dc:language>en-US</dc:language>
  <cp:lastModifiedBy>LaCae</cp:lastModifiedBy>
  <dcterms:modified xsi:type="dcterms:W3CDTF">2008-06-02T13:13:46Z</dcterms:modified>
  <cp:revision>1</cp:revision>
  <dc:subject/>
  <dc:title>Párhuzamosítható feladatok outputjai közötti konfliktusok feloldása </dc:title>
</cp:coreProperties>
</file>