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646-0D6C-40B6-9E0E-207296A2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045-907D-48BE-8A1B-3EAAC30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25A-6F16-4909-B1E9-92CF25BB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F9B-3B00-4B6A-BE01-4CA620E9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FE51-FC18-4B1F-AE94-AA3A9D44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D39B-9076-4659-B26F-D0721A8E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1BBC-8BAB-44C9-9B95-026EEB5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6FA2-0A39-4619-B8C9-C847865F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4163-92B0-463C-9FD4-333B7518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B2E0-29C1-48B8-AFC0-F867FB25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A7DA-D5EE-4EBF-9511-7E24B3C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617-8894-45D5-BEE6-6E56E7E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7C54-2766-45B3-B7B0-4DE967D1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2340-5CDA-4CDB-BADC-EEC034F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324D-4798-4911-9E50-41582328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B02B-DC99-4024-A81F-E7FC4297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1705-1E81-4D71-9990-16170972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9E5-06C8-4555-A814-08196EC1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AED-8CB7-4813-A488-C2C91966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726-407A-44C3-B752-7897DB3B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C3A-136C-4938-B60E-B9DBCEE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AB1-48CA-4C4E-8A26-BFF463D2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FE1-5217-48BC-82D9-E5756C9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F4F-EE5B-45CE-8593-2977D7D3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8E9-0143-470E-925C-68EDBD5DDA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2C5-5FC3-406D-8993-F160B186E6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mai követelmény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at és grafikonokat minden esetben folytatólagos számozással kell ellátni, amit a tartalomjegyzékben fel kell tűntet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artalmát jól kifejező, rövid címet fel kell tűntet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ntos, hogy a mérete ne legyen se túl nagy, se túl kic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iért kellenek ábrák és grafikono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 és grafikonok segítségével a dolgozatot szemléletesebbé tudjuk te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 és grafikonok segítenek a tények vizuális úton történő bemutatásához, alátámasztásá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éma könnyebben felfogható, értelmezhető, feldolgozható les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ülönböző gazdasági folyamatok, trendek és statisztikai adatok bemutatását megkönnyíti, fogyaszthatóvá teszi a hallgatóság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ínesebbé teszi a dolgozat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éma sokkal magyarázhatóbbá válik, és ebből következően az előadás könnyebb les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ire kell odafigyelni az ábrák és grafikonok kapcsá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ontos a szinek megfelelő használata, ez segiti az átláthatóság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különböző jelöléseket külön fel kell tűntetni, ami magyarázatot ad arra, hogy a grafikon mit is ábráz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ontos, hogy jól látható legyen az ábra vagy grafik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ábrához tartozó szöveget, jól láthatóan és a megfelelő helyre kell helyez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22:58Z</dcterms:created>
  <dc:creator>Oldschool</dc:creator>
  <dc:description/>
  <dc:language>en-US</dc:language>
  <cp:lastModifiedBy>Vrabély Balázs</cp:lastModifiedBy>
  <dcterms:modified xsi:type="dcterms:W3CDTF">2008-06-02T19:24:49Z</dcterms:modified>
  <cp:revision>6</cp:revision>
  <dc:subject/>
  <dc:title>Ábrák és grafikonok indokoltsága</dc:title>
</cp:coreProperties>
</file>