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873-6A1C-47C1-8F01-C4A61E8C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D37-B40E-4EF6-AD84-50F1232A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015D-294E-48AB-8519-4D470886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2A7-B220-44BB-9070-6D26877E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12BA-0982-4753-A6C8-6EC32638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2C2A-F476-4582-AD0F-4B4AF2D0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2615-7410-4E3C-AF01-14B07956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F31B-9713-4EEC-ABC6-0A5DEC70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72CA-3D01-4773-B227-9043CACC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1B87-6A71-4A78-97AF-87EEC9F9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6AAF-D7BD-45E7-A83A-BF200A2E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7CD-BFE2-4B42-A42E-2EE96185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E940-DAE2-4A53-913E-92819853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0D08-E4EA-4981-8B9F-72ECA6F8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D69D-ABDE-443D-8248-4C1B89C9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76ED-4665-471B-8680-B3F023F0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577B-A0AC-4363-842F-8271C75D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8ED5-AE0D-4ABE-AEA7-F43D36FA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08E-A714-46A3-B861-7D698502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567-00AB-4C51-A295-A401A66C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6CD-A49C-4D2B-A56E-898FF906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F08C-0C51-459D-92A8-4DB3784A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D55-4925-43D2-A485-6FE8B563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E5D-47BB-418D-BE42-52C6A096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368C-BC9C-4ACB-87ED-A9A0AEC770FE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CAA0-030D-4A52-83C8-8BC85D4B11FD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l&#225;gium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Plágium-kontrol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finíci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20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ét vagy több dokumentum egymással való összehasonlítás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Szövegdoboz 3"/>
          <p:cNvSpPr/>
          <p:nvPr/>
        </p:nvSpPr>
        <p:spPr>
          <a:xfrm>
            <a:off x="1357200" y="478620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Informáci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árhuzamos munkakörök katalógus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99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akirodalmi formai ellenő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ukturális ellenőr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akirodalmi bizonyíték kontrol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Lehetséges hibafajtá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Talált teljes egye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Talált részleges egyezés (pl. csak a szórend megváltoztatása szinonimák alkalmazásával, e hiba gyakori előfordulása esetében szintén nem kerülhet a dolgozat elfogadásr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Dolgozat elvetése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(a hallgató nem vizsgázhat/indulhat az adott záróvizsga időszakban/TDK-n + egyéb jogkövetkezmények (büntetőjogi felelősségre vonási igények érvényesítése)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incs hib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vábbítás a Strukturális ellenőrzés számár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56:09Z</dcterms:created>
  <dc:creator>LaCae</dc:creator>
  <dc:description/>
  <dc:language>en-US</dc:language>
  <cp:lastModifiedBy>LaCae</cp:lastModifiedBy>
  <dcterms:modified xsi:type="dcterms:W3CDTF">2008-05-04T21:29:49Z</dcterms:modified>
  <cp:revision>4</cp:revision>
  <dc:subject/>
  <dc:title>Plágium-kontroll</dc:title>
</cp:coreProperties>
</file>