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B7EF-AD55-4E94-8167-B2607C35B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2E6F-F18C-41B2-A218-DD32FB60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2C04-DFDB-4EE1-9749-B3A626E7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36B0-AB79-436B-9AC4-80DB9579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53C7-5C3E-4FC9-B15B-AE4507F8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C119-F162-4EB8-BA29-D279FFC4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8824-89CA-4566-A9EA-D28D8885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A4C0-ED58-459D-AC52-BD22E3D5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53ED-AA69-4EA4-9AF4-2DDBDE0D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AD5E-D714-40B9-9F9A-33C62A46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F8F4-637E-4B23-B261-D0A10F75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B355-1C18-4B71-B751-EA2A0D74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8C14-4F2A-436C-985B-C10D7531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DF09-E111-4A34-BF85-D147E0FB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B132-E6B5-4AA6-BB3C-38E3DA93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FC8A-8815-433F-AC97-127C9C81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C002-581C-46BD-BD7B-D5E65135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6F1F-A210-4A60-83CE-FF764C86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F3DB-E153-49A4-86FD-BDA58F48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7F93-7BBB-4582-9114-5013DC30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651E-EC27-4AD9-ACAB-467B9A15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11CE-EF6B-45B7-9BA9-782BCA35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803E-757E-40C0-94D0-913340B7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E645-A274-42A1-BFE7-3D4C6E0E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4494-24EC-479D-9908-645ADCDE9A1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71EC-BE3B-42DD-A8D1-38C3F86F2A4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Kommunikációs szakértő, aki azért felel, hogy a potenciális érintettek képben legyenek a folyamat alat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250920" y="184464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ommunikációs szakértő jelentés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z a személy vagy illető kinek az a foglalkozása, hogy a potenciális érintetteket felvilágosítsa egy adott téma körön belül. Szakértő a saját témáján belül mindent tud, és segítséggel illetve tanácsadással szolgálhat a leginkáb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z ügyfelek tájékoztatása a következők alapján: az 1. munkakörben az ügyfelek tájékoztatása pont részletes kifejtés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át kell gondolni, hogy megkapják-e az ügyfelek a kész követelményrendsze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agy csak a linkeket, hogy mit hol találnak me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valamelyik értékelési szintről visszadobják a dolgozatot akkor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ötelező legyen-e a 2.-munkakör igénybevéte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agy opcionál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ll. bizonyos esetekben kötelező(durva hibáknál), más esetekben pedig opcionál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Értesí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iba bekövetkezése esetén a potenciális személy értesítése levélben, e-mail-ben, telefonon vagy esetleg szób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ibának minősíthetjük: ha a hallgató azonosító kódja vagy személyigazolvány száma, személyes adatai el vannak gépelve, vagy rossz időpont lett megadva nekik a megbeszélésér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alamilyen adat hiány esetén való szólás az előzőekben írt mód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athiánynak minősül: ha a hallgató azonosító kódja vagy személyigazolvány száma, személyes adatai el vannak gépelv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nácsad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ülönböző formátumú tanácsadások, felvilágosítások ( mint például papíron történő vagy interneten, e-mail-ben ( elektronikus levél útján), televízióban, szóban történő felvilágosítások, tudósítások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z érdeklődő személyek kérdéseire válaszadá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ghallgat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kommunikáció szakértőnek az alábbi pont szerint értelmezhető a meghallgatás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ügyfelek panaszai és egyéb problémáinak a meghallgatása és minél előbb ezekre megoldás megtalál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onzultáci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zakértőknek néha( főleg egy dologban való változásoknál) konzultációkat más néven megbeszéléseket szoktak tartani egy bizonyos témában ( annak változásaiban, bővítéseiben, problémáiban és ilyen dolgaiba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20:11:21Z</dcterms:created>
  <dc:creator>LaCae</dc:creator>
  <dc:description/>
  <dc:language>en-US</dc:language>
  <cp:lastModifiedBy>LaCae</cp:lastModifiedBy>
  <dcterms:modified xsi:type="dcterms:W3CDTF">2008-05-04T21:25:25Z</dcterms:modified>
  <cp:revision>3</cp:revision>
  <dc:subject/>
  <dc:title>Kommunikációs szakértő, aki azért felel, hogy a potenciális érintettek képben legyenek a folyamat alatt</dc:title>
</cp:coreProperties>
</file>