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E34A-426C-4C93-BD48-71A621365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27D9-10A5-4BC5-9D6E-226E4D49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93C5-E601-4E22-BA96-CA0AAC5AD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5413-5DFC-476A-8524-7E25A5E4A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DF39-6CF0-481B-985F-191D103A5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4E0E-B32F-4F77-A564-311040A6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828F-F367-4618-9BC9-2B00CDE4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5211-5817-4D38-8E02-1DD8A3BA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F17B-46E7-4967-891B-6395E11D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698A-CC39-4BAD-8BFB-F0C903ED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4C12-C1D6-40C9-AC13-136468E9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3277-AF77-490F-A7AB-24ED7E21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793F-DF17-4FA8-8631-B53E6CC2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2F46F-02BA-40A3-B1A7-159BC126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2156-9039-44B7-B43B-80708271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F976-BB96-40AB-80D8-FB4998A24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7CD0-E8D7-4B5B-AE45-15023F07E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8979-DE3D-487A-9342-F3AAE08E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DE22-2631-43E2-BBEF-7201F01D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DD71-B6FA-4EE5-A38E-6B62A0E5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5928-BBEE-432A-BD14-635EC019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0643-6541-4478-84EE-C3266CDD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3938-D99A-40AB-BC5C-3D29EFEC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23DD-2F72-4A66-B0D7-46243870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C085-C150-4932-BC18-652727B1E485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34DB-951D-4D69-A539-6BB9B765408C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Önéletrajzi említések mikéntj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munkakö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munkakör célja, hogy az összes többi munkakör elkészültének folyamatáról adjon képet. Valamennyi, a munkakörök kialakításához fűződő információ dokumentálásra kerül itt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munkakör célj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munkakör célja (vélhetőleg) az, hogy a szervezetről, ahol sok-sok munkakört látnak el, átfogó képet kapjon egy, a szervezethez újonnan csatlakozó munkavállaló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munkakör felada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munkakör feladata, hogy az összes többi munkakörhöz kapcsolható információt, tapasztalatot egybegyűjtse, és ezáltal átfogó képet nyújtson a munka irányítóinak a munka menetérő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hierarchiáró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munkakörnek a hierarchia többi eleméhez egyenként kapcsolódnia kell, és naplóznia kell az egyes munkakörökhöz kapcsolódó történéseke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7:55:24Z</dcterms:created>
  <dc:creator>Viktor Varga</dc:creator>
  <dc:description/>
  <dc:language>en-US</dc:language>
  <cp:lastModifiedBy>LaCae</cp:lastModifiedBy>
  <dcterms:modified xsi:type="dcterms:W3CDTF">2008-06-02T12:25:45Z</dcterms:modified>
  <cp:revision>5</cp:revision>
  <dc:subject/>
  <dc:title>Önéletrajzi említések mikéntje</dc:title>
</cp:coreProperties>
</file>