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A77-E7C2-42CD-894E-5FC012E8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B8D1-EE1B-471C-AD5F-B5B6F4CE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0F7-F58C-4D6C-9D07-CD6C1894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C3FA-9E3E-41E9-BA41-2A895747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7B0A-8C07-476A-AB6D-50F04AA1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F878-954A-4004-BFAB-38963150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34AF-5664-485B-BFA2-2DEFFD65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657C-B3F5-45E2-A919-844D264F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774C-93D8-401F-A057-0F3FB12B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4D8D-CBFE-4AD2-A39C-6342AF53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3445-3B62-4C7F-A0FB-DB3CB124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B664-A7DB-4271-AC88-041F1684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5AC9-D715-4FD6-B80E-51380E7F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4EC2-97DD-4264-B668-87FABDC0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1306-EB54-4987-B0D2-03A6D5E9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5376-2492-487E-BB8E-F803C241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DB5A-78CF-4ABD-A0AA-532850C7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A37-B800-4217-BC00-BEBC2ABE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AF2-547A-4363-A9C4-481B18FE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B12B-CC65-4833-9F78-05AD23EF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080-FEAB-4256-A448-7CC531B8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72C-5AEF-4E7F-841B-EE54A29C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4E4-13BD-42C0-A377-1A4E99C0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9C1-3B23-46B4-BDD5-CC1B06F6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DB38-4E23-49F2-A895-A546A225BB6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4A90-7901-48AA-927D-CCE6BFACE76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Az%20irodalmi%20hivatkoz&#225;sok%20formai%20k&#246;vetelm&#233;nye.doc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zakirodalmi bizonyíték-kontroll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finíci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zakirodalmi bizonyíték-kontroll a dolgozatb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zereplő állításokhoz felhasznált irodalma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lenőrzésére szolgá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 fogadá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beérkező anyag fogadása a párhuzamosan futó szekciókból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trukturális ellenőrzés, mellébeszélés-kontrol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sszaigazolás elkészítése, majd küldé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anyag továbbküldése vizsgálat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z eredmény vizsgálób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 vizsgál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vizsgálandó anyag átvétele, majd vizsgál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beérkező dolgozat szakirodalmi hivatkozása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gfelelnek e a szabályzatnak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Az irodalmi hivatkozások formai követelmény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gen, a dolgozat továbbküldésre kerü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m, a dolgozatban lévő hibák feltárásra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rülne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hetséges hibák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olgozat szerzőjének megállapítása nem fedi a valóságot(igazságot) ,vagyis téves megállapításokat, állításokat tesz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olgozat szerzője által hivatkozott forrás álláspontját átformál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 bizonyításának módjai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gjelölt forrás- és a dolgozat szerzőjének álláspontjainak az összehasonlítása.(eltérések esetén hib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zerző helytelen állítása(i) bizonyíthatóak a megfelelő szakember megkérdezésével, illetve szakkönyvek állításaiva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z Eredmény vizsgáló nem talált hibát akkor, igazolást állít k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zt követően továbbküldi az eredményeket a soron következő munkafolyamatna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datvagyon ellenőrzés munkakörnek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5:00:25Z</dcterms:created>
  <dc:creator>LaCae</dc:creator>
  <dc:description/>
  <dc:language>en-US</dc:language>
  <cp:lastModifiedBy>Vrabély Balázs</cp:lastModifiedBy>
  <dcterms:modified xsi:type="dcterms:W3CDTF">2008-06-04T07:49:38Z</dcterms:modified>
  <cp:revision>8</cp:revision>
  <dc:subject/>
  <dc:title>Szakirodalmi bizonyíték-kontroll </dc:title>
</cp:coreProperties>
</file>