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763-F46B-4060-8D0D-0092DD19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148-0530-4D80-826C-E7C1D838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943-63EE-48D2-95C0-1E8F4EC2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5BB-3BE9-4CB6-A261-A59F84DE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A64E-AA1C-4574-B28A-F07E86D8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45B6-757E-4145-A9F7-8AA6DF3D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8492-6EA3-4696-880B-7010900B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A40A-452E-456D-8437-E5F907CB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BF40-1C11-4E2B-BAC3-24A1C68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27A3-6099-42E7-9A6D-F0A8F5C7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9CF5-B7D3-4C53-88DE-857CC8B8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815-352A-43CE-8908-F047BF0B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6E38-C76B-44D7-AABA-7B9BC8E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2733-AE53-40EA-85D1-5135C35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F90F-3F78-4B35-B639-659BED7F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E307-BA38-42D2-AA1D-0D06A831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8F5E-03BE-4A12-B7D6-3C3E222D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3C4-4DD6-4B9C-A482-CE25A592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6C5-CFD2-4BF7-842A-23E6DC15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BB0-BA5C-457F-9A8F-92A17B5F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1E9-3DB5-43D2-B1AC-811E3BC5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A3E-0FFE-41D3-BDC8-FB1845D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66D-AF81-4C03-A1BF-F558C70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F84-2B36-436C-A610-454C192B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7C42-9BAE-4000-BDE5-11F33D90E0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797-B568-4A7E-955C-663BF75511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Kiindulási helyzetek feltártságának ellenőrzése definíció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ott témakörben publikált munkák lekövetése a hasznosság és a benne rejlő még feltáratlan, vagy nem teljes egészében feltárt lehetőségek tükréb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z adott témában már korábban elvégzett kutatások eredményeit felhasználó cégek megkeresés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0600" y="1893240"/>
            <a:ext cx="7642800" cy="39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 cégekkel történő kapcsolatfelvétel legcélszerűbb módja a személyes megkeresés a bizalmasabb információk és a pontosabb tájékozódás miat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gfontosabb kérdések a gazdasági hasznossággal kapcsolat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vállalat mely területén kerültek felhasználásra a tanulmány eredménye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nnyibe került a beszerzése (nagyságrendile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l érzik hiányosnak, vagy hibásnak (indokláss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gvásárolnának-e egy precízebb, hiányosságok nélküli munk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z adott témában még nem született munka, akkor arra a kérdésre, hogy mi lesz a diplomamunkában a hasznosság, a választ, a  szerzőnek a már említett módon tudni kell és ezzel olyan cégeket, vagy magánszemélyeket megkeresni, akik véleményünk szerint tudják hasznosítani változtatásokkal, vagy változatlan formában az elkészült munk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vázi piackutatást végzünk, hogy mekkora érdeklődés mutatkozik a leendő munkánk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ok és a folyamat irányításának átvé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tbázis létrehozása xls, vagy mdb formátumban, amely tartalmazza a diplomamunkát készítő adatait és a hozzá tartozó dolgozat adott munkakörben elkészült eredményeit, valamint a munkakörkódot és a dolgozatkód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eletkezett eredmények rögzítése a számítógépen + adathordozón, valamint on-line, vagy off-line formátumban a dolgozat készítőjének kerül elküldés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 kiállítása az értékelés részé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hoz, az adott munkakörben keletkezett eredmények on-line közzététele a többi munkakör szám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edmények formai (dátum, formátum) és technikai (pl.: valóban az e a hasznosság a dolgozatban, amire a dolgozatíró gondolt )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zsgálat lehetséges kimenetelei: Esetleges hibák észlelése, és lehetőleg a munkafolyamaton, vagy munkakörön belüli javítása, vagy az azonnali elfogad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 lehetséges kimenetele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Felmerült hibák észlelése és lehetőleg a munkafolyamaton, vagy munkakörön belüli javít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zonnali elfoga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típuso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atáridő lejá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Bizonyos munkafázis(ok) kimaradt(ak), vagy hibásan lettek teljes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z esetleges számítási eredmények visszaellenőrzésénél tapasztalt eltérése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elytelen formát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esetén külön keltezés szükséges, amelynek időpontja a hiba észlelésének ide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hibajavítás megtörtént, visszaküldés az értékelés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több hiba nem található, a munkakört lezáró igazolás kiállítása (nyomtatvá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továbbküldése a következő munkafolyamatnak (elektronikus, vagy nyomtatott formá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örténhet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Elektronikus formában történő továbbítás (alapértelmezett) esetén a munka elküldésekor visszaigazolás kérése a címzettő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Nyomtatott formában, ha elektronikusan nem tudjuk technikai, vagy egyéb okból továbbítani. Ebben az esetben ajánlott küldeményként kezeljü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Kommunikációs szakértő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emélyazonosság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          okirat                                                  0,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Konzultációra való jogosultsá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        nyomtatvány                                       0,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émaválasztás konzultálása 1. kör                nyomtatvány                                        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émaválasztás konzultálása 2. kör                nyomtatvány                                        5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(DOC)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(PPT) 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XLS    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on-line                                 nyomtatvány                                        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árhuzamosítható feladatok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tputjai közötti konfliktusok feloldása                      nyomtatvány                                         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akirodalmi formai ellenőr                           nyomtatvány                                         2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ágium-kontroll                                             nyomtatvány                                         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trukturális ellenőrzés                                   nyomtatvány                                         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llébeszélés-kontroll                                   nyomtatvány                                         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akirodalmi bizonyíték-kontroll                    nyomtatvány                                         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628640"/>
            <a:ext cx="856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kakör megnevezése                              Formátum      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Megérkeztek az ön által küldött dokumentumok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kalmazott neve, beosztása, elérésének módj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tulajdonosának neve,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ot teljesítő(k)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z általam ellenőrzött feladatkör feltételeinek megfelelt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egyik munkafolyamat külön-külön is dátumozandó, majd az utolsó munkafolyamat dátuma lesz látható a következő munkakör számára az igazolá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 kiállításának előfeltétele, hogy minden munkafolyamaton keresztül menjen pozitív eredménny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 hasznosság kontroll rendben lezajlott, a dolgozat jelenlegi állapota további értékelésre alkalmas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 vezető aláírása, vagy on-line formátumban az azt helyettesítő hitelesí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orrektura-ellenőr                             nyomtatvány                   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atvagyon minőségének                   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llenőrzése                                            nyomtatvány                     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ódszertani ellenőrzés                         nyomtatvány                3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produkálhatósági kontroll                 nyomtatvány                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aját következtetése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lyessége                                            nyomtatvány                     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élcsoport helyes kezelése                  nyomtatvány                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628640"/>
            <a:ext cx="81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kakör megnevezése                         Formátum   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492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ek fogadása 1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 követelményként megállapított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a megérkezett eredményekről, amely egyben azt jelenti, hogy az adott munkakör átvette kompetenciája erejéig a dolgozat feletti felügyeletet A visszajelzés lehet pozitív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negatí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eredmények fogadása nevű munkafolyamat fogja kvázi tudatni az adatokat küldő munkakörrel (szükség esetén többel is), hogy a munkakörünk meg tudta kezdeni a munkát a kapott adatokkal. Ebben az esetben pozitív visszajel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z adatok egyszerűen nem érkeznek meg időre, akkor a visszajelzésünk negatí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véleményünk szerint a kapott adatok hibásak, visszaküldjük az előző munkakörnek újbóli ellenőrzés célj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kapott eredmények megfelelnek a további feldolgozás részére, akkor áttérés a következő munkafolyam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yakorlati lépéselemek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iindulási helyzetek feltártságának ellenőrzése (vagyis lehet-e ennek alapján majd hasznosságról beszélni)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  kiválasztott témakörről olyan információk ellenőrzése és gyűjtése mint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i-vagy kik végeztek kutatásokat, ill. hoztak létre szolgáltatásokat a leendő diplomamunkához kapcsolódó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kkora volumenű érdeklődés kísérte az eddigi kutatásokat (on-line folyóiratok, szakfolyóiratok, fórumo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lyen eredményekre jutotta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problémafelvetés mely területeire nem születtek válaszok, illetve az adott válaszok, vagy szolgáltatás esetén szerintünk a valóságot nem igazán fedő eredményekre jutotta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asznosság a tanulmányb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plomamunka témájának kiválasztásakor a legfontosabb, hogy az íróban körvonalazódjon,  a  munkája milyen gazdasági hasznot hajthat, ill. mely társadalmi csoportot érinth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író által megfogalmazott hasznosság egyrészt gazdaságilag fontos, másrészt a saját kutató munkáját könnyíti meg, ha előre tudja, melyeknek kell lenni a fő csapásirányoknak, melyekre a munka épülni fo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6:45:16Z</dcterms:created>
  <dc:creator>Palatinus Miklós</dc:creator>
  <dc:description/>
  <dc:language>en-US</dc:language>
  <cp:lastModifiedBy>LaCae</cp:lastModifiedBy>
  <dcterms:modified xsi:type="dcterms:W3CDTF">2008-05-04T21:36:45Z</dcterms:modified>
  <cp:revision>69</cp:revision>
  <dc:subject/>
  <dc:title>TDK</dc:title>
</cp:coreProperties>
</file>