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2E1-62FA-45A0-8EF9-EEF4A21C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934-A0E4-4EE2-8D8B-64BEE98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30F-721B-43EB-816B-88E28870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AA7-D9A8-411F-A2B8-5FC5A1B5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8DC2-CA76-4C4A-955A-3AEAE026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693-4447-4FC3-ADDC-D98CDE9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911-9E0F-4D03-BECD-9A1A7274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A077-EE50-4DD4-8FB3-C14B9C16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5A4E-E80C-4208-A67E-66B3F79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A35-0296-4D1F-836B-5574802F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2855-F190-484A-838F-B986CE5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900-C573-4DD6-9BD7-ABA2311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7F88-1E88-42FA-8996-C1AE3B4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6925-DA45-46A4-B969-8A37213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212-7ECD-43A5-A316-2DCA22B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70A-73F9-4D60-B10A-259F064B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C76-D09A-4DA2-9BD0-32D40C1C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935-FC45-4879-94D1-42629476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6D7-B2A7-4B47-AD9B-65AC7E4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7F3-4776-4B93-9469-3A0F3429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9BA-582C-49EA-B61F-4A1F2855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78B-2ADE-4A93-B7ED-C32A2B3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05E-C2DB-45D3-8733-97F15CC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92-E544-435F-96B3-65690F5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8F36-7DF9-4531-A9C1-2AB8496C13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BC8-4C92-4DD1-AFA7-0DB4601063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élcsoport helyes kezelé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élcsopor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élcsoport meghatározásánál azt a piaci szegmentumot kell meghatároznunk, akiket a termékkel megcélzunk. Ez lehet kor szerint foglalkozás szerint, lakóhely szerint, stb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z egyes célcsoportok véleményének megismerése megfelelő vizsgálati módszerek tervezését,kidolgozását alkalmazását igény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üze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zenetnek pontosnak és jól érthetőnek kell lennie a külvilág felé és az előre meghatározott célt kell, hogy szolgá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élcsoport megér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yen célcsoportok van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 a használói igénye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k az eredmények használói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ért használják az eredményeke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t várnak tő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ogyan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zenet közlésének módja nagyban meghatározhatja a sikerét. Először a figyelmet kell felkelteni, aztán megteremtjük az érdeklődést, majd a termékünk/szolgáltatásunk iránti vágyat kell az érdeklődőben feléleszteni, s végül a vásárlásra késztet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59:22Z</dcterms:created>
  <dc:creator>Kiss Eszter</dc:creator>
  <dc:description/>
  <dc:language>en-US</dc:language>
  <cp:lastModifiedBy>LaCae</cp:lastModifiedBy>
  <dcterms:modified xsi:type="dcterms:W3CDTF">2008-05-04T21:32:00Z</dcterms:modified>
  <cp:revision>5</cp:revision>
  <dc:subject/>
  <dc:title>Célcsoportok helyes kezelése </dc:title>
</cp:coreProperties>
</file>