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81B-8C55-4327-9C70-4C0FCFF2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A70-2692-4CB6-87C6-4227CF29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AE8-EFE9-4810-B5CE-86572D55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E3D-F715-42A8-B43C-AE7D9381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F8FF-1678-4D2E-B631-B1B20F1D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BA87-0758-4A2D-8568-2449FBD3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5A27-41EA-45F2-B586-8927954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B560-4799-4ECF-A478-ADA73F3D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EC3E-257A-489C-9D33-244D7DEC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3591-F67D-4355-A4C4-BCA520D4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2B3F-4D5B-4723-9C9C-0834CB12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34E-A793-4D2C-A502-F7F5F1E4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0F8D-C112-4324-9A09-5FDB428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CE00-B085-47B9-88CB-1F7B715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EA60-C91E-4AE2-944D-7BFEF721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5756-63C9-423F-B7CB-69E12072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49C9-2259-406C-86AC-B960A3E6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28D-4A6D-4FED-9A9B-3A17E723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5D8-0F30-4583-AA72-89785332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533-9BF6-47B2-ABEC-7800F42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5AC-7566-4F6E-93F8-542C0720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1E2-F06B-4038-9B12-4D448A6D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437-5C0C-4501-AEBB-493F88FE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E96-9455-4CBE-9377-7FFD0CC4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162-B8D2-4204-B346-5559C80C64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181D-9473-4CA2-B26D-AB053DC354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ffffff"/>
                </a:solidFill>
                <a:uFillTx/>
                <a:latin typeface="Verdana"/>
              </a:rPr>
              <a:t>Mellékletekről általá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táblázatok, ábrák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és olyan dokumentumok szerepeltethetők, amelyek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a dolgozat mondanivalójának részletes megértésére szolgálnak,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indamellett a mellékletek a reprodukálhatóságot is támogatják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de kerülnek azok a nagyobb méretű táblázatok, ábrák, amelyek szövegközi elhelyezése gondot okozott volna. Ide helyezhető el továbbá a kérdőíves felmérés alapjául szolgáló dokumentumok, továbbá a statisztikai és matematikai számítások alaptáblái is. Egyes esetekben rövidebb szöveges dokumentumok (pl. szerződések, jogszabály részletek, stb.) is helyet kaphatnak itt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oldalszámozni nem kel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(ezt végül is nem is fontos ellenőrizni, mert ha van van, ha nincs nincs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k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sorszám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illetve a dokumentum főszövegé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hivatk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kell feltüntetn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(ek)et az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Irodalomjegyzék után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római számokkal jelölt oldal-számozással ellátva kell elhelyezni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z utolsó 3 melléklet az alábbi: rezümé, hallgatói nyilatkozat, konzulensi nyilatkoza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- Köszönöm a figyelmet!" szöveg nagy betűkkel. (Ez csak PPT-bemutatónál kel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Elsődlege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elléklet-e egyáltalá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Ige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további vizsgálódásra, elemzésre meh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Nem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visszaküld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ilyen típusú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melléklet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DO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P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X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onlin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ülön elbírálás az egyes típusoknál (részletezés az előző, ill. a következő diákb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i értékelés XLS melléklet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általános formai követelmények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Times New Roman, 13 vagy 14-es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betűméret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(a nagyobb, 14-16 pontos betűk a címlap készítésekor és a fejezetcímek írásakor használhatók), (bal oldalon 3 cm-es, a többin 2,5 cm-es margó, ha szükséges), normál sortávolság, sorkizárá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A címek, alcímek betűiről (nagy és kis betűk,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betűméret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), esetleges aláhúzásából vagy vastagításából, és a sorban való elhelyezéséből (középre, oldalt) tűnjön ki azok fontossága, és azok az egész dolgozatban következetesek, decimális számozásúak legyenek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képletek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érvényesek-e, megfelelően használta-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olyan cellára mutasson (képleten belül), ahol van érté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hivatkozások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a hivatkozott oldal, ha nem hibás az elérési út,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egyből elérhető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!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XLS-en belüli hivatkozások: ha üres cellára hivatkozik</a:t>
            </a:r>
            <a:r>
              <a:rPr b="0" lang="hu-H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hibalehetősé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másik dokumentumra, mellékletre hivatkozás: ez is egyből elérhető legye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valós értékek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az adatoknál (mindenhol friss adatok, ha lehetséges),  azok esetleges kiszűré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egy XLS ne várja egy, a létrehozó lokális meghajtóján valaha létezett állomány lété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De például ide tartozik még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számok ezres csoportosítása mindenhol egyezzen (áttekinthetőség, mint fő szempont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tizedesvessző vagy pont alkalmazása nem egész számoknál a melléklet során egyforma legyen, ne hol ez vagy hol az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Munkakörkód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10 (x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„Az XLS/online nyomtatványok formai követelményeinek megfelelt/nem felelt meg és további értékelésre alkalmas/jelen formájában nem értékelhető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Meg nem felelés esetén részletes hibalista KELL, ami  egy előre legyártott listából a megfelelő elemek kiválasztását jelenti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unkakör vezető aláír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45:58Z</dcterms:created>
  <dc:creator>LaCae</dc:creator>
  <dc:description/>
  <dc:language>en-US</dc:language>
  <cp:lastModifiedBy>LaCae</cp:lastModifiedBy>
  <dcterms:modified xsi:type="dcterms:W3CDTF">2008-05-04T21:28:28Z</dcterms:modified>
  <cp:revision>5</cp:revision>
  <dc:subject/>
  <dc:title>1. dia</dc:title>
</cp:coreProperties>
</file>