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2C71-5E28-4880-953D-F16D59DD0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7E37-FABF-46FB-84B0-57634EB17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C492-41D2-43F9-B9F6-04394B2BC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585B-E1FE-4CC5-9125-B379BA3C0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8EDDE-A5FB-43BC-A887-71EC16627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69EA6-4342-4880-9781-44559317A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C17F9-0DAD-4E6B-A408-7514E5C1F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FCC68-C396-4445-8FAC-FC4F83730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207D1-FEC2-4F00-8736-B2FC15EBA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3DCA4-108E-41A8-9A9E-428337A6A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381A9-2DAE-4395-AD18-A315C7F9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1E60-A964-4E11-8E0B-C0D0ED1A8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CDD69-F42A-4D91-9FB1-6687A609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FA80C-0C50-460E-97F5-493BCBFC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EB765-54C4-4A44-8336-6D6FF8D6B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7B8F9-85E6-4FD1-A620-72A29BE00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59874-5CCB-460C-BCC6-4F4A3CE2F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A470-9E99-41AF-A63D-D126FF8BC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2E75-17B5-4F9F-9510-6893FAE5E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D010-C80C-4EC7-BC2D-953B1289C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EB0A-8F31-4A02-95FE-2A443F481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2E35-00BA-46E8-99A8-25DE183E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1EB4-547A-4EAE-B8E1-B4F3799B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C3F1-BA13-44F3-A763-78B79F20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475C2-2B63-4D37-9043-DF7BE7E9AA5E}" type="slidenum">
              <a:rPr b="0" lang="hu-H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0DC67-E551-424E-BBCA-E9A49E59484C}" type="slidenum">
              <a:rPr b="0" lang="hu-H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trukturális ellenőrzé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093080" y="6340320"/>
            <a:ext cx="205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Készítette: Kovács Balázs ISZA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eladata, hibakeresés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beadvány helyes, előírások szerinti szerkezeti felépítéssel való egyezésének ellenőrzé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izsgálja a megfelelő formai követelmények betartását a fejezetekkel, alfejezetekkel kapcsolatban támasztott követeléseke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 fejezete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Cím</a:t>
            </a:r>
            <a:br>
              <a:rPr sz="3200"/>
            </a:b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legyen rövid, érthető és tartalmat jól kifejez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Bevezetés (max. 2 oldal)</a:t>
            </a:r>
            <a:br>
              <a:rPr sz="3200"/>
            </a:b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a téma elméleti és gyakorlati jelentőségével foglalkozi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Témafelvetés és célkitűzés (dolgozat 15-20%-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Szakirodalmi áttekintés (dolgozat 15-20%-a)</a:t>
            </a:r>
            <a:br>
              <a:rPr sz="3200"/>
            </a:b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hivatkozások, kritik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Anyag és módszer (max. 10-15%)</a:t>
            </a:r>
            <a:br>
              <a:rPr sz="3200"/>
            </a:b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kísérletezés, vizsgálat körülménye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Eredmények és azok értékelése (40-50%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Összefoglalá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vábbá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rodalomjegyzék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agolás: könyvek,cikkek, tanulmányok, statisztikai adatforrások, jogszabályok, internetes adatgyűjté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ellékletek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áblázatok, ábrák, matematikai számítások, rövidebb szöveges dokumentumok (pl. jogszabályok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iba eseté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isszaküldés előző állomáshoz, a kommunikációs szakértőhöz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lletve szerzőhöz a hibák javítása végett, a szövegforma megőrzésére törekedv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vábbküld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feladat továbbküldése a következő állomáshoz a mellébeszélés-kontroll végett, amennyiben a feladat megfelel a követelményeknek, illetve ha a hibák már javításra kerülte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22:23:28Z</dcterms:created>
  <dc:creator>Balázs</dc:creator>
  <dc:description/>
  <dc:language>en-US</dc:language>
  <cp:lastModifiedBy>LaCae</cp:lastModifiedBy>
  <dcterms:modified xsi:type="dcterms:W3CDTF">2008-06-02T11:27:03Z</dcterms:modified>
  <cp:revision>15</cp:revision>
  <dc:subject/>
  <dc:title>Strukturális ellenőrzés</dc:title>
</cp:coreProperties>
</file>