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0E4-3319-4304-93B7-7CDCA26F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2F7-BC6E-47CA-A32D-365DD34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C43-FC14-40A0-BF16-82F54DDC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8BF-D1EC-4B94-BD69-F381B567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609C-21D3-4413-A75D-A7B1C9A1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E3B7-6E98-43F8-97B2-68DAA93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E336-ABF1-460C-81B0-D4C0F86B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C167-3AC2-4084-9E07-1EE0CD94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64AD-5186-46B5-A516-50618A3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FC7-E2D0-41B9-AC05-9F2C7DC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15B0-7CA9-4FDE-8695-13BF7C2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C69-0C02-4B1A-A77B-93A8529C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E38F-BEEF-412C-B7D5-A4EE37F0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F3BD-B997-45C6-826C-21DCD4DC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61FA-B22E-49E3-B4CC-AB54E5B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BF4E-A0CA-4FBD-AEC3-BAB47DFE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2299-E024-4723-9ACD-4F475207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873-AAD7-4A41-AB4C-C5C50F57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47D-8ED7-456F-98CD-92E85D4C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A29-58B6-401A-BDDB-CC86C5B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6DE-73FF-47A0-883A-371D4021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B7E-388E-4CA7-8CE1-0D21D77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095-7E0D-456D-BC3C-89F0D40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410-17F8-4C2A-B96D-30B3EA8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B1F8-F1B9-4609-9C2D-B837C456AF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B1FC-4C62-4F31-9B4C-10CA73ECE1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Verdana"/>
              </a:rPr>
              <a:t>Kommunikációs szakértő, aki azért felel, hogy a potenciális érintettek képben legyenek a folyamat utá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Végső fázisra tanác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 dolgozat teljes újbóli átolvasása, átnézése, hogy ne merüljenek fel esetleges helyesírási hibák, vagy értelmetlen mondatok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eg kell nézni, hogy mindenhol megtalálható-e ahol kell az utalás, és annak helyes használta,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 diploma dolgozat végén, a bekezdés  l) pontjában hivatkozott, a dolgozat rövid bemutatását kell besorolni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Ezen az oldalon fel kell tüntetni a dolgozat szerzőjének a nevét, a dolgozat címét, a belső és a külső (ha van) konzulens nevét, a dolgozat témájára utaló 4-5 kulcskifejezést, valamint meg kell adni a dolgozat 8-10 soros leírását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tnézni az irodalomjegyzéket, hogy minden helyesen, hibátlanul van leír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elléklet rovatban ( ha esetleg van) megnézni, hogy minden kép, tábla mellé van-e rakva, írva sorszám melyet a dolgozatunk anyagában is megtalálunk és ez által tudunk rá hivatkozn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Ha ezekre ügyelünk és odafigyelünk akkor sikeres szakmai illetve diploma dolgozatot tudunk írn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ítség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értő segítséget nyújthat a potenciális személyek kérdéseire válaszadáss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setleg olyan témában van a probléma mi el lett rontva és visszafordíthatatlan akkor a szakértő segítséget nyújthat egy másik téma keresésében vagy felnyújtásában (pl.: ha valakit nem vettek fel az egyetemre akkor a szakértő segítséget nyújt, hogy hova menjen el, azzal a tudással mi az illetőnek van meg, ki az egyetemre jelentkezett, de nem vették f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07:35Z</dcterms:created>
  <dc:creator>LaCae</dc:creator>
  <dc:description/>
  <dc:language>en-US</dc:language>
  <cp:lastModifiedBy>LaCae</cp:lastModifiedBy>
  <dcterms:modified xsi:type="dcterms:W3CDTF">2008-05-04T21:25:53Z</dcterms:modified>
  <cp:revision>2</cp:revision>
  <dc:subject/>
  <dc:title>1. dia</dc:title>
</cp:coreProperties>
</file>