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65C-134C-4831-8BFE-765E051D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C6B-8E13-4C42-934A-F73FF328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CAAF-8C33-4D42-8052-17E5FA75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9231-2FB6-4772-AC1A-C345F36F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D588-BB29-4BF8-83A7-40189186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FF22-2E11-4B8E-B1B2-B7AE3E4F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2FBC-F4B9-40E3-9489-F35486D1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62C1-6D50-47AC-97A8-5553BBE7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80F9-9BE5-445F-B864-D5727D7D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06E1-22B4-4839-967A-629A38F2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E14C-529F-4F4B-B135-FE7AA463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31F4-7D18-4650-A689-91E7501C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371D-69BF-4D33-84B1-75AE46AD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3067-C691-4292-9E29-BD75AE36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2CE5-2905-486E-A1A1-C5477047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6A0F-4D1A-4FDF-95F2-2A9A9AEC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1E61-A3EE-42E0-8535-B34F413C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F86-626B-45C8-BE44-20DEB4AC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5CC-CFAD-4A25-9380-EFECEBD9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A6F-327F-4F05-ABE2-C6C22943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B366-C8DC-45C7-9465-913DAE69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F0F-EC6A-46DA-AE5A-50C2B26B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23D-01AB-4144-8200-70E3E0F0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E85-BB3F-453C-AA2B-C16DD384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A2B1-7428-4814-BF20-5F73C45E560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279A-DAFF-4D93-829F-D589A550E08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Szakirodalmi%20formai%20ellen&#337;r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Szakirodalmi formai ellenő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finíci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22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rtalmi jellegű utalás, hivatkozás, idézet esetében a felhasznált gondolat helyes megjelenítésének ellenőrzé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Szövegdoboz 4"/>
          <p:cNvSpPr/>
          <p:nvPr/>
        </p:nvSpPr>
        <p:spPr>
          <a:xfrm>
            <a:off x="1500120" y="48578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Feltétel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árhuzamos munkakörök katalógus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99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ágium-kontrol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ukturális ellenőr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akirodalmi bizonyíték kontro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28556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hetséges hibafajták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79280" indent="4431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ossz formátum (hivatkozás helytelen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gjelenítés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79280" indent="4431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ossz sorrend (pl. évszám hamarabb szerepel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nt a szerző nev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79280" indent="4431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m létező forrásra való hivatkozás (pl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erzők nevének összetévesztés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ba javítása: pl. hiányzó pont, zárójel, stb. pótlása, szerző nevének helyesbítése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redmények datálása: dolgozat szerzője, ellenőrző, dátum, eredmén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vábbküldés a Plágium-kontroll számá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3:14:05Z</dcterms:created>
  <dc:creator>LaCae</dc:creator>
  <dc:description/>
  <dc:language>en-US</dc:language>
  <cp:lastModifiedBy>LaCae</cp:lastModifiedBy>
  <dcterms:modified xsi:type="dcterms:W3CDTF">2008-05-04T21:29:32Z</dcterms:modified>
  <cp:revision>23</cp:revision>
  <dc:subject/>
  <dc:title>Párhuzamosítható feladatok outputjai közötti konfliktusok feloldása</dc:title>
</cp:coreProperties>
</file>