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F8F-DAA6-4EFD-97F5-18F10E0A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5A5-B853-4773-9ACD-2328680B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A09-4753-428F-B13D-EB12214A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8E2-B9CB-45CF-A8F3-68E8DB61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381-EFEC-4D89-BA43-3C3B2339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2B1-91BF-49EB-8E00-9830E2A7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090-22D6-48F0-8FC5-940275B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FB4-08C0-4B88-AAD9-F32FE596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EC9-D66E-4426-8D60-2B354DF8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997-5321-4BE3-A827-AB7CAB1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23F-F521-4D99-98F4-1426E8C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BD2-A797-4D06-BDCD-E0E20D6F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5599-5B6A-466A-918A-6CB313519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ömeggyarapodás hasonlóságelemzé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lyik tápanyag összeállítás lenne a legmegfelelőbb sertések számára, minél nagyobb tömeggyarapodás elérése céljábó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r megírása majdan futta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47640" y="2722680"/>
            <a:ext cx="6048720" cy="3028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47640" y="6021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rás: mellékelt excel fáj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 függv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olver által kiszámított értékekből HA függvény segítségével kiértékeljük az eredmén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7777080" cy="189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5877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rás: mellékelt excel fáj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dmény kategóriák ismerte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romféle eredmény kaptunk a HA függvény alkalmazásá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magaslóan megfel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á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megfel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dmények megosz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413000"/>
          <a:ext cx="6408720" cy="387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13000"/>
                    <a:ext cx="64087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156360" y="2781360"/>
          <a:ext cx="2592360" cy="37735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40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gfelelő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timá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em megfelel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Kimagaslóan megfelel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Kimagaslóan megfelel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timá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timá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Kimagaslóan megfelel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Nem megfelel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timá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Optimá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71640" y="5445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rás: mellékelt excel fáj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vetkezt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izsgálataim során a legjobb helyezés a 7.számú tápanyag összetétel kapta, amely nem a legnagyobb tömeggyarapodást okozta, de az állat a lehető legjobban használta fel a tápanyagban fellelhető anyagok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egrosszabb helyezést a 8.számú tápanyag összetétel kapta. Mivel többihez hasonlítva itt volt a legrosszabb a tápanyag kihasználtsá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egtöbb tápanyag az optimális szinthez közelit, ami ugyan csak nem elmulaszthatatlan té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edményt befolyásoló tényező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tásmó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nd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gy jó gén állományú cso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zeket a tényezőket közvetve nem tudtam bele venni a tanulmány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lőtörté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éma választ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náraink kitűztek elénk egy feladatot. Készítsünk egy hasonlóságelemzé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ögtön jött erre a válasz. És az mi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hasonlóságelemzés: az eg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ire mi csak bólogattunk és helyeseltü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 már tudjuk mi ez és, hogy néz ki, akkor keressünk egy témá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álasz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ét lehetséges témát találtam 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763280" y="472428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472428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5300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rakto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5300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ömeggyarapo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dönté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sok adatgyűjtés során rájöttem nem könnyi adatott szerezni a tömeggyarapodással kapcsolatosan,de megoldható. Ez okból a döntésem a tömeggyarapodás le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 meg van a téma, akkor essünk neki a dologna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80000" y="436572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ladat megalko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élkitűzésem, célcsopor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élkitűzésem egy olyan optimális takarmány összeállítás megtalálása, amellyel egy sertés állománynál a lehető legnagyobb tömeggyarapodás lehet elér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élcsoportjaim, azok a gazdaságok, amelyek a lehető legnagyobb termelékenységre összpontosultak a sertéshústermelés területé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atok összegyűjtése és táblázatba foglal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0 különböző összetételű tápanyagot gyűjtöttem öss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0 különböző attribútum figyelembe vételé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s, MEs, Nyersrost, Nyersfehérje, Nyerszsír, Lizin; Metionin, Metionin + Cisztin, Kálium, Fosz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vot munkalap kész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mutatás varázslóval készítünk egy Pivoto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730600"/>
            <a:ext cx="8229600" cy="3157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2360" y="59500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orrás: mellékelt excel fájl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CO munkalap kész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padat tá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sor tá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épcső tá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 tá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0:05:25Z</dcterms:created>
  <dc:creator>Áldorfai György</dc:creator>
  <dc:description/>
  <dc:language>en-US</dc:language>
  <cp:lastModifiedBy>Áldorfai György</cp:lastModifiedBy>
  <dcterms:modified xsi:type="dcterms:W3CDTF">2008-04-28T08:38:49Z</dcterms:modified>
  <cp:revision>6</cp:revision>
  <dc:subject/>
  <dc:title>1. dia</dc:title>
</cp:coreProperties>
</file>