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D54-4618-4041-8F6A-4E05E6C3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708-17BE-4150-98CE-801F8F8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928-8EF1-4EA3-8B9F-F167DBBC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F9F-82C0-45B2-9F8A-60155F0E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2856-4733-4588-999A-822DEBF4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0AA-EDB7-4928-A612-8B4775A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559-6FEA-4114-8F53-BE970118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4A36-98C5-412C-9D77-E66CC35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1FD-2462-4393-910D-10BFFAF7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09B-7EDF-4CAE-83FA-A90C558C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4A5D-7032-4A91-96A7-50CED0D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32F-560A-4AAD-8076-5899AC7C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89B2-4493-4205-ACD4-DA912CB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B779-3B30-44BE-A519-8141B73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713-9D27-4559-888B-05F83AA1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B281-D716-4C68-8AB3-19B1648E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2AF-AD02-43DD-B20B-1581DBAC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148-2B75-47BA-8610-A55AEC8E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97A-085C-48BF-9AC5-94FF942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CF3-AC7D-4458-B8A9-AE5BEB7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744-2F38-422A-8C4B-00AC901A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94-65B3-4C8D-A0F5-23D39B4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A46-290F-485B-9702-7835E6E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4DE-E1A9-4CB1-889F-39DED91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61E3-9BBB-4983-AD9B-85861FB712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4914-EB4F-4434-9933-4340BC53FF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eladat 2008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zdasági informatika 2 tantárgyból azt az utasítást kaptuk, hogy készítsünk hasonlóság elemzé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épcső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284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0440" y="1844640"/>
            <a:ext cx="822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 függvény eredmény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üggvény megoldásánál 3 eredmény jött k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egyenlítet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úl érték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ul érték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ábla a következő di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4321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vasl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kiegyenlített kategóriás gépeket ajánlanám mindenkinek. Hiszen szinte az összes gépjármű azonosakat tud csak az áruk különbözik. Itt jön be az ember szubjektív választási jog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Készítette: Bögre Lajos Ád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Verdana"/>
              </a:rPr>
              <a:t>GTK Iszam I.év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 válasz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vel, nem volt ötletem, ezért mindenkitől feladatötletet kértem. Persze egyik sem volt olyan amit szívesen megoldottam volna. Ekkor, mint a villám jött az ötl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észítsünk a kisteherautókról egy klasszikus feladato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vez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egcélzott társadalmi csoportom a mezőgazdasági termelők, szállítással, fuvarozással foglalkozó cégek és magán személye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sznossá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eladatom haszonságát egy részről az ismerősöm által tudom leellenőrizni hogy neki mennyire segített a hasonlóság elemzés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ás részről meg úgy érzem, hogy a katalógusok nem nyújtanak teljes összképet az ár és tudás kapcsolatáró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co módsz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166760"/>
            <a:ext cx="8229600" cy="4524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8435880" cy="338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4360" y="134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vot tábla készí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co munka lap készít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apadat tábl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ngsor tábl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épcső tábl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CO tábl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apad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675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ngs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28800" y="1773360"/>
            <a:ext cx="7284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1:32:50Z</dcterms:created>
  <dc:creator>etii</dc:creator>
  <dc:description/>
  <dc:language>en-US</dc:language>
  <cp:lastModifiedBy>etii</cp:lastModifiedBy>
  <dcterms:modified xsi:type="dcterms:W3CDTF">2008-04-28T21:56:12Z</dcterms:modified>
  <cp:revision>2</cp:revision>
  <dc:subject/>
  <dc:title>Feladat 2008</dc:title>
</cp:coreProperties>
</file>