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375-1AFD-4F00-8DB4-F7C7A49D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D25-0A83-4EE6-9BA4-0A3D11F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23A-9FF4-4D97-8FD0-CA12C012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716-0CAF-47DB-9C98-995C7E51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8ED-8C1D-4E92-A150-0559640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47D-7FE0-425F-ADDA-77DB6310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262-54D6-41D8-89F5-3819DE81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1A2-834D-42C2-8138-B24EB2E1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076-24C8-42DF-9D81-B5E8B534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C7F-A73A-40CC-A875-9BD4016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984-24CD-49FE-BE9C-EDAE5B4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801-3F18-454E-A2DD-4D14EFF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545-935B-429C-830E-5E7FD193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zdasági informatika II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onlóságelem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övényvédő szerek összehasonl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észítette: Csizmazia Gyö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64520"/>
            <a:ext cx="7129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élcsoport, hasznossá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feladatom célcsoportjába mindenki beletartozik, aki akármilyen szinten is foglalkozik valamilyen növény termesztésével, ezeknek az embereknek abban lehet hasznos, hogy ki tudják választani a növényvédő szerek közül a nekik legmegfelelőbbet, összevetve a szerek árát és a tulajdonságai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 megoldásának me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datgyűj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ámos probléma merült fel már rögtön a feladat elején, amiket meg kellett oldani, hiszen ez a feladat legfontosabb része, például az olyan információkkal való munka, amik nem számokban vannak megad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Adatbázis létrehozása excel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bázis létrehozásánál kiválasztottam az általam nézett szerek közül 19 db-ot, amelyeket 7 szempont szerint vizsgáltam m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Kimutatás elk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Rangsor kialak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angsor kialakításánál az alapadatok szerint megnéztem, hogy az adott tulajdonságnál mi az előnyös, ha az érték minél több, vagy kevesebb. Miután ezt eldöntöttem, egy sorszám függvény segítségével jött létre a rang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adatmegoldásának me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olver beállítása, majd lefutt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tt is adódtak problémáim, mert összesen 19 szert vizsgáltam meg 7 szempont szerint, és a solver csak 100 változó cellát tud kezelni, ezért ezt az interneten kellett megcsináln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olver lefuttatása után megkaptuk azt, hogy az egyes szereknél mennyi a becsült ár, és az általunk már ismert valódi ár alapján kiszámoltuk az eltérést, majd megkaptuk, hogy az egyes szereket drágán vagy olcsón tudjuk-e megvásárolni, a tulajdonságaikhoz kép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4:44:25Z</dcterms:created>
  <dc:creator>Gyuri</dc:creator>
  <dc:description/>
  <dc:language>en-US</dc:language>
  <cp:lastModifiedBy>Gyuri</cp:lastModifiedBy>
  <dcterms:modified xsi:type="dcterms:W3CDTF">2008-04-28T12:37:51Z</dcterms:modified>
  <cp:revision>5</cp:revision>
  <dc:subject/>
  <dc:title>Gazdasági informatika II. hasonlóságelemzés</dc:title>
</cp:coreProperties>
</file>