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038-61DD-42A2-BBFB-F78ADE15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148-8928-4557-8DFD-08F9082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3FC-AF05-4824-B4F0-E0615A82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03C-C240-435E-9C1D-9A0F2F5D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9F26C-24DE-4CF6-B110-732F5DFA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C7E3-FBBA-4D17-A29E-6EA92B31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5BA7A-4D55-4875-BB93-F0F565E5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861D8-BB13-4686-99A0-AAC186D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76ECA-338B-4C8F-A4E8-681D4CB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8D3AB-4B4C-4CA9-A22E-E7FA509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ED31B-687A-4BE3-ABF4-739C2FC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5B0-D31C-4A56-A3C8-615B414F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9BA23-834D-4550-B3B8-C7DAD9B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DFD40-E3F8-4469-A0C1-88C3244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08F5D-EB90-4867-9B07-9EB0121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C1128-F528-4042-B754-78196DD4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2A6A5-B4BE-491E-AF71-D1F40741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144-944F-462E-8408-4207CEA4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392-5C91-49F8-B2E8-2EEC708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873-E32F-42DD-9E8E-F913C279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7C4-C25D-4498-AA23-E40A57C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51D-ADC4-437A-A771-B717D5C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488-DBF5-475D-BB9F-85BE02D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16D-29D9-4A96-8257-E16ABBB0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10B3-8F3C-4EDB-8A56-38F60027A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08C-878B-4E2C-AEC7-9645C75C2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ogatógépek összehasonlítás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300640"/>
            <a:ext cx="36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észítet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öldvári Hajna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A COCO elkészítése I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762200"/>
            <a:ext cx="8562960" cy="509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3640" y="1700280"/>
            <a:ext cx="3672000" cy="3024000"/>
          </a:xfrm>
          <a:prstGeom prst="wedgeEllipseCallout">
            <a:avLst>
              <a:gd name="adj1" fmla="val 36166"/>
              <a:gd name="adj2" fmla="val 6385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80808"/>
                </a:solidFill>
                <a:latin typeface="Tahoma"/>
              </a:rPr>
              <a:t>A solvert annyiszor kell lefuttatni, amíg az eltérések különbségei csökkenek egymáshoz képest. Ebből láthatjuk, hogy a a piacon a termékek árai és összetételei egyensúlyban vanna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781360"/>
            <a:ext cx="2843280" cy="3095640"/>
          </a:xfrm>
          <a:prstGeom prst="wedgeEllipseCallout">
            <a:avLst>
              <a:gd name="adj1" fmla="val -25712"/>
              <a:gd name="adj2" fmla="val 5558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Az értékelés oszlopban megtudhatjuk, hogy mely termék számít olcsónak, kiegyenlítettnek vagy éppen drágána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pott eredmények I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ladatom által megállapítottam, hogy a hat mosogatógép közül kettő ára lett alulértékelt, vagyis kisebb összegért árulják a piacon, mint amennyit valójában é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legolcsóbb áron az </a:t>
            </a:r>
            <a:r>
              <a:rPr b="1" lang="de-DE" sz="2800" spc="-1" strike="noStrike">
                <a:solidFill>
                  <a:srgbClr val="ffffff"/>
                </a:solidFill>
                <a:latin typeface="Tahoma"/>
              </a:rPr>
              <a:t>Indesit IDL 40 EU.C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osogatógépet árulják a piacon, éppen ezért esett erre a termékre a választás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apott eredmények II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adatom végeredményéül azt lehet mondani, hogy valójában nem mindegyik mosogatógép éri meg az árát, hiszen vagy túl olcsón vagy túl drágán árulják a piacon. A vizsgált 6 termékből kettő ára lett csak kiegyenlítet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19605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adatom célja, hogy segítsem mindazon háztartásokat, akik mosogatógépet szeretnének vásárolni, de nincs idejük arra hogy a kínálatot végignézzék és összehasonlítsák egymáss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den háztartás számára segítséget nyújthat a feladatom, hiszen az embereknek az a célja, hogy a lehető legolcsóbb áron jussanak hozzá a legjobb tulajdonsággal rendelkező gépekh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feladat célja és az érintett célcsoporto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feladat elkészítésének a menete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6804000" cy="5732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12000" y="3213000"/>
            <a:ext cx="2232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80808"/>
                </a:solidFill>
                <a:latin typeface="Times New Roman"/>
              </a:rPr>
              <a:t>Készítettem egy meta adatbázist, amiben különböző attribútumok szerint hasonlítottam össze a kiválasztott mosogatógépeket</a:t>
            </a:r>
            <a:r>
              <a:rPr b="1" lang="hu-HU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052640"/>
            <a:ext cx="4535640" cy="2376360"/>
          </a:xfrm>
          <a:prstGeom prst="wedgeEllipseCallout">
            <a:avLst>
              <a:gd name="adj1" fmla="val -44328"/>
              <a:gd name="adj2" fmla="val 5908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Az objektumoknál felsoroltam a kiválasztott mosogatógépeket. Az attribútum oszlopba a szempontokat, ami alapján vizsgáltam őket, az érték oszlopba az értékeket, a dimenzióhoz a mértékegységeket, míg a forrásokhoz a honlap címet írta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80808"/>
                </a:solidFill>
                <a:latin typeface="Times New Roman"/>
              </a:rPr>
              <a:t>Meta</a:t>
            </a:r>
            <a:r>
              <a:rPr b="1" lang="hu-HU" sz="3600" spc="-1" strike="noStrike">
                <a:solidFill>
                  <a:srgbClr val="080808"/>
                </a:solidFill>
                <a:latin typeface="Times New Roman"/>
              </a:rPr>
              <a:t> adatbázis elkészíté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80808"/>
                </a:solidFill>
                <a:latin typeface="Times New Roman"/>
              </a:rPr>
              <a:t>A pivot tábla elkészítése 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57840" y="3860640"/>
            <a:ext cx="248616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80808"/>
                </a:solidFill>
                <a:latin typeface="Times New Roman"/>
              </a:rPr>
              <a:t>A meta adatbázis után a pivot tábla elkészítése következett, kimutatás varázsló segítségév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6697800" cy="5661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 flipV="1">
            <a:off x="467280" y="3644280"/>
            <a:ext cx="4032360" cy="2592360"/>
          </a:xfrm>
          <a:prstGeom prst="wedgeEllipseCallout">
            <a:avLst>
              <a:gd name="adj1" fmla="val 38263"/>
              <a:gd name="adj2" fmla="val 6910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80808"/>
                </a:solidFill>
                <a:latin typeface="Times New Roman"/>
              </a:rPr>
              <a:t>Az adatok kimutatására kattintva kiválasztottam az alapbeállítást, vagyis a kimutatást. A kimutatáshoz szükséges adatokat a meta adatbázis lapról kijelöltem, majd megadtam azt a munkalapot, ahova a kimutatást elszerettem volna helyez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80808"/>
                </a:solidFill>
                <a:latin typeface="Times New Roman"/>
              </a:rPr>
              <a:t>A pivot tábla elkészítése I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6659640" cy="566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467280" y="3644280"/>
            <a:ext cx="4032360" cy="2592360"/>
          </a:xfrm>
          <a:prstGeom prst="wedgeEllipseCallout">
            <a:avLst>
              <a:gd name="adj1" fmla="val 38263"/>
              <a:gd name="adj2" fmla="val 6910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Ezt követően elhelyeztem a szükséges információkat az oldalterületre, majd ugyanezt megtettem a sorok területére is az oda illő szükséges adatokkal. Elhelyeztem az oszlopok területét, majd az adatterületet kitöltöttem az információkk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A COCO elkészítése 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0" y="2349360"/>
            <a:ext cx="2232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Az adatokat táblázatba foglaltam, az attribútumok neveit pedig az alapadatok munkalapról hivatkoztam be. Ezután sorba raktam az adatokat sorszámfüggvény segítségé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680400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A COCO elkészítése I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912000" y="3213000"/>
            <a:ext cx="2232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80808"/>
                </a:solidFill>
                <a:latin typeface="Tahoma"/>
              </a:rPr>
              <a:t>A solver sikeres lefuttatása érdekében, a lépcső táblát feltöltöttem 1-esekkel, majd a solvert lefuttatt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680400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A COCO elkészítése II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751960" cy="5516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64000" y="404640"/>
            <a:ext cx="3456000" cy="2737080"/>
          </a:xfrm>
          <a:prstGeom prst="wedgeEllipseCallout">
            <a:avLst>
              <a:gd name="adj1" fmla="val -52800"/>
              <a:gd name="adj2" fmla="val 10046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80808"/>
                </a:solidFill>
                <a:latin typeface="Tahoma"/>
              </a:rPr>
              <a:t>A coco tábla celláiba (melyek 1-est tartalmaztak)Fkeres függvényt használta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1:41:35Z</dcterms:created>
  <dc:creator>Hajni</dc:creator>
  <dc:description/>
  <dc:language>en-US</dc:language>
  <cp:lastModifiedBy>Hajni</cp:lastModifiedBy>
  <dcterms:modified xsi:type="dcterms:W3CDTF">2008-04-27T12:41:57Z</dcterms:modified>
  <cp:revision>49</cp:revision>
  <dc:subject/>
  <dc:title>Mosogatógépek összehasonlítása </dc:title>
</cp:coreProperties>
</file>