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394-656E-44D7-B4EB-A5FC0409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8F35-8299-4801-A315-D552A8E9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B9F4-B2BD-4C82-BE72-6F22949D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5E2-54EF-4A1C-B5DA-E1761520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EAF5-4AA2-456C-9466-C28200EB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1171-B84E-42B6-BCAD-D2D8568E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7237-CB55-4694-BDED-41B4F3C4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660F-014E-4E39-8124-EAD568D9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291C-9C2A-44FC-987D-F3A8B93C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C056-9585-4AE9-B3E0-FDF2508B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599C-E5E5-4094-AD7B-71B73750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50A-E10E-4DE5-94B1-65807146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6BDC-9C67-4D9A-B101-C6AC55AC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E951-74C5-4436-9FAD-FD0631B1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600E-8D05-4CB9-AB9E-60BFFE6E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D072-94E2-4B00-BAA4-6CB06F58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D98C-090E-44E1-892B-37A7F635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266-6CDB-4DFE-BEED-4547562F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C6C-D403-4621-BE3C-4E262589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C11-9D07-43AC-8EDD-CE18D8D2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91F-39EA-4066-91FE-B27B6ABE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4F5-1E6B-483B-AB23-D9BEC349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6AD-2C8B-4DA3-94BC-90BF7002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0ED-CA27-46D7-96EF-C4BC037F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D654-2793-4B65-B8F6-4C86D1377672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A4BF-0946-45EC-83F0-EBA3BDBFD841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Black"/>
              </a:rPr>
              <a:t>Használt traktorok összehasonlítása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16000" y="4581360"/>
            <a:ext cx="2235240" cy="162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867280" y="458136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71640" y="3213000"/>
            <a:ext cx="1523880" cy="1148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759280" y="184464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564000" y="4581360"/>
            <a:ext cx="1942920" cy="1425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2556000" y="2133720"/>
            <a:ext cx="3168360" cy="224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A COCO elkészítése IV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1201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63640" y="1322280"/>
            <a:ext cx="7380360" cy="5535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380360" y="2060640"/>
            <a:ext cx="1763640" cy="2305080"/>
          </a:xfrm>
          <a:prstGeom prst="wedgeRoundRectCallout">
            <a:avLst>
              <a:gd name="adj1" fmla="val -18949"/>
              <a:gd name="adj2" fmla="val 76861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Az ítélet oszlopban megtudhatjuk, hogy mely erőgép számít alulértékeltnek, kiegyenlítettnek vagy túlértékeltne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redmén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egállapíthatjuk mekkora különbség van a számított ár és a már meglévő használt ár közöt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áthatjuk hogy van olyan gép mely alulértékelt, ilyen az MTZ 82, azaz olcsóbb az eladási ára, mint amennyit valójában é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árom kiegyenlített értékelésű gépünk van ezek a Case IH CX 80, a Same Silver 90 valamint a Zetor 954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ét gépünk a John Deere 6110 és a Valmet 900 láthatóan túlértékelt azaz többér kínálják, mint amennyit valójában ér. Választás szempontjából az MTZ 82 optimális, mivel alulértékelt tehát ez az ár szempontjából optimális választá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vizsgálat célj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oknak a vásárlóknak, gazdálkodóknak, akik használt mezőgazdasági vontatót, traktort szeretnének vásárolni, feladatom segítséget nyújthat számukra. Feladatom által pénzt és időt lehet megtakarítani, mivel a működtetéséből származó kiadások minimalizálódni fogna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feladat elkészítésének a mene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lapadatok összegyűjtése, meta-adatbáz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ivot tá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lapadatok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angsor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épcső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O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b7"/>
                </a:solidFill>
                <a:latin typeface="Arial Black"/>
              </a:rPr>
              <a:t>Metadatabázi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-360" y="1557000"/>
            <a:ext cx="2376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80808"/>
                </a:solidFill>
                <a:latin typeface="Times New Roman"/>
              </a:rPr>
              <a:t>Készítettem egy meta adatbázist, amiben különböző attribútumok szerint hasonlítottam össze a kiválasztott erőgépeket</a:t>
            </a:r>
            <a:r>
              <a:rPr b="1" lang="hu-HU" sz="14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95440" y="1197000"/>
            <a:ext cx="6748560" cy="5060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3141720"/>
            <a:ext cx="3166920" cy="3311640"/>
          </a:xfrm>
          <a:prstGeom prst="wedgeRoundRectCallout">
            <a:avLst>
              <a:gd name="adj1" fmla="val 44638"/>
              <a:gd name="adj2" fmla="val -73393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Az objektumoknál felsoroltam a kiválasztott erőgépeket. Az attribútum oszlopba a szempontokat, ami alapján vizsgáltam őket, az érték oszlopba az értékeket, a dimenzióhoz a mértékegységeket, míg a forrásokhoz a honlap címet írt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66"/>
                </a:solidFill>
                <a:latin typeface="Arial Black"/>
              </a:rPr>
              <a:t>A pivot tábla elkészítése I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781360"/>
            <a:ext cx="23032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meta adatbázis után a pivot táblát készítettem el kimutatás varázsló segítségé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16360" y="2133720"/>
            <a:ext cx="53625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66"/>
                </a:solidFill>
                <a:latin typeface="Times New Roman"/>
              </a:rPr>
              <a:t>A pivot tábla elkészítése II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46360" y="1309680"/>
            <a:ext cx="7397640" cy="5548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781360"/>
            <a:ext cx="2016000" cy="3529080"/>
          </a:xfrm>
          <a:prstGeom prst="wedgeRoundRectCallout">
            <a:avLst>
              <a:gd name="adj1" fmla="val 76458"/>
              <a:gd name="adj2" fmla="val -40462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80808"/>
                </a:solidFill>
                <a:latin typeface="Arial"/>
              </a:rPr>
              <a:t>Az adatok kimutatására kattintva kiválasztottam az alapbeállítást, vagyis a kimutatást. A kimutatáshoz szükséges adatokat a meta adatbázis lapról kijelöltem, majd megadtam azt a munkalapot, ahova a kimutatást elszerettem volna helyez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48360" y="3645000"/>
            <a:ext cx="2808360" cy="2232000"/>
          </a:xfrm>
          <a:prstGeom prst="wedgeRoundRectCallout">
            <a:avLst>
              <a:gd name="adj1" fmla="val -105569"/>
              <a:gd name="adj2" fmla="val -62444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Ezt követően elhelyeztem a szükséges információkat az oldalterületre, majd ugyanezt megtettem a sorok területére is az oda illő szükséges adatokkal. Elhelyeztem az oszlopok területét, majd az adatterületet kitöltöttem az információkk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66"/>
                </a:solidFill>
                <a:latin typeface="Matura MT Script Capitals"/>
              </a:rPr>
              <a:t>A coco elkészítés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303516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imes New Roman"/>
              </a:rPr>
              <a:t>Az adatokat táblázatba foglaltam, az attribútumok neveit pedig az alapadatok munkalapról hivatkoztam be. Ezután sorba raktam az adatokat sorszámfüggvény segítségével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59280" y="907920"/>
            <a:ext cx="60847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A COCO elkészítése II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1882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80808"/>
                </a:solidFill>
                <a:latin typeface="Arial"/>
              </a:rPr>
              <a:t>A solver sikeres lefuttatása érdekében, a lépcső és a COCO táblát feltöltöttem 1-esekkel, majd a solvert lefuttatt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1376280"/>
            <a:ext cx="73087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A COCO elkészítése III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796000" y="3068640"/>
            <a:ext cx="2736720" cy="1440000"/>
          </a:xfrm>
          <a:prstGeom prst="wedgeRoundRectCallout">
            <a:avLst>
              <a:gd name="adj1" fmla="val 30046"/>
              <a:gd name="adj2" fmla="val 75578"/>
              <a:gd name="adj3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fferencia megmutatja, hogy mekkora az eltérés a valódi és a számított ár közö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9:28:53Z</dcterms:created>
  <dc:creator>Andrew</dc:creator>
  <dc:description/>
  <dc:language>en-US</dc:language>
  <cp:lastModifiedBy>Andrew</cp:lastModifiedBy>
  <dcterms:modified xsi:type="dcterms:W3CDTF">2008-04-28T17:25:48Z</dcterms:modified>
  <cp:revision>14</cp:revision>
  <dc:subject/>
  <dc:title>1. dia</dc:title>
</cp:coreProperties>
</file>