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6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0B56C-B6EF-4F93-9219-341870A2B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7EBCA-1C59-4142-B6E5-132B95C8F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785EF-4493-4AFA-9B00-5DA003519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A0E56-F5DC-446F-929E-8CDD2D1BB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8C67D-DF71-4C2A-BD58-BDB2A4939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93413-6B9A-4C37-9146-782FCC920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49BE7-F34C-45D5-982F-227F7B27C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76579-556A-40C9-BA81-EF5663A39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C2A25-D104-4E8A-B2E7-D1D9C2DAE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A58B6-1763-4DD8-A868-FD8F674C1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3C3E0-E078-4F3D-A4DA-3C245304C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72086-9C01-4292-B42A-5DBC9C80D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94607-251E-4794-AC73-150F42D69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85325-2035-4059-99A5-F0BE4FAB4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6FC04-3737-4146-9C46-336C1A18F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C6C0B-8EE0-430B-A675-137058967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9BF89-51C1-419C-A2F1-9A644C619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A24BC-5972-41A4-AB17-9FC8ED68A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FD934-4BC4-4FBD-8FB4-E3C945B21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55EA2-C029-4288-85FD-461CD79E7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FDC03-39AC-49F6-AC89-AF4AE2378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8CF61-529A-4B0A-9999-E9809826D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FE789-A31F-40EE-AA2A-A714A6858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DE8D8-EDDA-4EBD-9CB5-32A066C7D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090E3-0D1E-4FCB-B6A3-B91C9C26A83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DFB1E-F005-4C91-A202-C6D988D1037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87280" y="836640"/>
            <a:ext cx="6253200" cy="15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eec94"/>
                </a:solidFill>
                <a:latin typeface="Times New Roman"/>
              </a:rPr>
              <a:t>Vontatott szántóföldi permezőgépek összehasonlítása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900000" y="3573360"/>
            <a:ext cx="691200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Melyik fajta permetezőgép lenne a legjobb a szántóföldi permetezésben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Alapad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1484280"/>
            <a:ext cx="9144000" cy="496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Rangsor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0" y="1413000"/>
            <a:ext cx="9144000" cy="475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oco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1341360"/>
            <a:ext cx="8864640" cy="468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Ha függvény értelmezése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függvény megoldásánál 3 eredmény jött ki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iegyenlítet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úl értékel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ul értékel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tábla a következő diá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90792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ec94"/>
                </a:solidFill>
                <a:latin typeface="Times New Roman"/>
              </a:rPr>
              <a:t>Forrás Exel fájl</a:t>
            </a:r>
            <a:endParaRPr b="1" lang="en-US" sz="18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116000" y="1628640"/>
            <a:ext cx="6769080" cy="468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Javasl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A hasonlóság elemzésből kiderült, hogy a drágább gépek többet tudnak, mint az olcsóbb gépek. Javaslatom az lenne, hogy ha tehetik akkor a kiegyenlített kategóriában levő gépeket válaszzák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Készítette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app Endre Iszam I.évf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 diákon található táblák forrása a Exel fájlom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71640" y="189000"/>
            <a:ext cx="720072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Előtörténe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611280" y="1341360"/>
            <a:ext cx="7704000" cy="551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Téma választás???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feladatunk: Készíts hasonlóság elemzést amit a társadalom hasznosnak talál!!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ondolkodás után körül-belül 2 hónap után tettem le a voksomat a vontatott szántóföldi permetezőgépek mellet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minek ötlete az otthoni gazdaságunkban történt permetező vásárlás után jöt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5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Bevezetés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élkitűzéseim, célcsopor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élkitűzésem az volt, hogy a közepes gazdaságok megtalálják a legmegfelelőbb permetező gépet az igényeik és a pénztárcájuk alapjá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célcsoport ebből adódóan a közepes gazdaságok, ami földmennyiségben kifejezve kb.: 5-45 h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Hasznosság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közepes gazdaságok gyorsan megtalálhatják a legoptimálisabb permetező gépet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alamint könnyebben juthatnak az információkhoz nem kell mindegyik forgalmazónak e-mail vagy levelet küldeni ha az árat megszeretnék tudn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5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oco módszer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Pivot munkalap készítése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979640" y="1196640"/>
            <a:ext cx="4680000" cy="31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8000"/>
          </a:bodyPr>
          <a:p>
            <a:pPr marL="9576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z Exel program kimutatás varázslójával készítjük el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 pivot táblát!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9576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9576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Forrás: Exel mellékle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468360" y="2565360"/>
            <a:ext cx="8229600" cy="4032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5" name=""/>
          <p:cNvGraphicFramePr/>
          <p:nvPr/>
        </p:nvGraphicFramePr>
        <p:xfrm>
          <a:off x="250920" y="2276640"/>
          <a:ext cx="8893080" cy="4630320"/>
        </p:xfrm>
        <a:graphic>
          <a:graphicData uri="http://schemas.openxmlformats.org/drawingml/2006/table">
            <a:tbl>
              <a:tblPr/>
              <a:tblGrid>
                <a:gridCol w="1673280"/>
                <a:gridCol w="1253880"/>
                <a:gridCol w="1365480"/>
                <a:gridCol w="1255680"/>
                <a:gridCol w="1265040"/>
                <a:gridCol w="1108080"/>
                <a:gridCol w="971640"/>
              </a:tblGrid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Összeg / érték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ttribútum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5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objektum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á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zivattyú teljesítmény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zórófej típu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zórókeret nagyság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artály térfogat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Végösszeg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09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Forrás 1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60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6122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Forrás 2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850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7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85229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09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Forrás 3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240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7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24329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Gambetti 2000 H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599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5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60147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09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Gambetti 3000 H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699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5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2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70247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5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Gambetti Elisos New E 2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499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5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50127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Kertitox Fullspray 1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731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73211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5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Kertitox Fullspray 2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616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61822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5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Kertitox Fullspray 3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994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3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99725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09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Végösszeg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9488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4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6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94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950961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oco munkalap készítése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lapadat tábla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Rangsor tábla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Lépcső tábla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CO tábla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8T09:23:23Z</dcterms:created>
  <dc:creator>User</dc:creator>
  <dc:description/>
  <dc:language>en-US</dc:language>
  <cp:lastModifiedBy>etii</cp:lastModifiedBy>
  <dcterms:modified xsi:type="dcterms:W3CDTF">2008-04-28T09:26:44Z</dcterms:modified>
  <cp:revision>8</cp:revision>
  <dc:subject/>
  <dc:title>Vontatott szántóföldi permezőgépek összehasonlítása</dc:title>
</cp:coreProperties>
</file>